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D83D-E3E3-424B-8ED4-D53487BC1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051A-DAD8-4BB4-B240-AEF0F240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9AB8-D703-405B-93D7-09FAD3C5B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17C6-C712-4647-971C-A9CCB240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DBDD-55A0-4C1E-BA1C-CBACF295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33B7-19B6-4298-B069-615653DB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8668-17AD-45B6-8B81-E448F018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456D-D092-4DC7-AE1C-AF57D489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0315-D432-4F35-811F-0E4092AF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309B-59D5-4951-860D-8C667671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4597-ABCB-4DA8-AB60-1DEFF869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CD8B-824C-4862-8D8B-C87E7A30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FA04-D826-4215-B8D0-4C5E04D72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fornian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9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685800" y="2133720"/>
            <a:ext cx="769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RESULTS OF RADIOTHERAPY AND ANALYSIS </a:t>
            </a:r>
            <a:endParaRPr b="0" lang="en-US" sz="2400" spc="-1" strike="noStrike">
              <a:solidFill>
                <a:srgbClr val="000000"/>
              </a:solidFill>
              <a:latin typeface="Californian FB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OF PROGNOSTIC FACTORS </a:t>
            </a:r>
            <a:endParaRPr b="0" lang="en-US" sz="2400" spc="-1" strike="noStrike">
              <a:solidFill>
                <a:srgbClr val="000000"/>
              </a:solidFill>
              <a:latin typeface="Californian FB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IN THYMIC EPITELIAL TUMORS: </a:t>
            </a:r>
            <a:endParaRPr b="0" lang="en-US" sz="2400" spc="-1" strike="noStrike">
              <a:solidFill>
                <a:srgbClr val="000000"/>
              </a:solidFill>
              <a:latin typeface="Californian FB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A RETROSPECTIVE STUDY OF 73 PATIENTS.</a:t>
            </a:r>
            <a:endParaRPr b="0" lang="en-US" sz="24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420920" y="4116240"/>
            <a:ext cx="6313320" cy="15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it-IT" sz="1400" spc="-1" strike="noStrike">
                <a:solidFill>
                  <a:srgbClr val="0000ff"/>
                </a:solidFill>
                <a:latin typeface="Symbol"/>
                <a:ea typeface="Symbol"/>
              </a:rPr>
              <a:t></a:t>
            </a:r>
            <a:r>
              <a:rPr b="0" i="1" lang="it-IT" sz="1400" spc="-1" strike="noStrike" u="sng">
                <a:solidFill>
                  <a:srgbClr val="0000ff"/>
                </a:solidFill>
                <a:uFillTx/>
                <a:latin typeface="Comic Sans MS"/>
              </a:rPr>
              <a:t>S Allis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M Busi, </a:t>
            </a:r>
            <a:r>
              <a:rPr b="0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AR Musu, </a:t>
            </a:r>
            <a:r>
              <a:rPr b="0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C Mantovani, </a:t>
            </a:r>
            <a:r>
              <a:rPr b="0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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MG Ruo Redda and </a:t>
            </a:r>
            <a:r>
              <a:rPr b="0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U Ricardi.</a:t>
            </a:r>
            <a:endParaRPr b="0" lang="en-US" sz="1400" spc="-1" strike="noStrike">
              <a:solidFill>
                <a:srgbClr val="000000"/>
              </a:solidFill>
              <a:latin typeface="Californian FB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fornian FB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SCDU di Radioterapia A.S.O. San Giovanni Battista, Università degli Studi di Torino.</a:t>
            </a:r>
            <a:endParaRPr b="0" lang="en-US" sz="1200" spc="-1" strike="noStrike">
              <a:solidFill>
                <a:srgbClr val="000000"/>
              </a:solidFill>
              <a:latin typeface="Californian FB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Symbol"/>
                <a:ea typeface="Symbol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SSD di Radioterapia A.S.O. San Luigi di Orbassano, Università degli Studi di Torino.</a:t>
            </a:r>
            <a:endParaRPr b="0" lang="en-US" sz="1200" spc="-1" strike="noStrike">
              <a:solidFill>
                <a:srgbClr val="000000"/>
              </a:solidFill>
              <a:latin typeface="Californian FB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fornian FB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fornian FB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fornian FB"/>
            </a:endParaRPr>
          </a:p>
        </p:txBody>
      </p:sp>
      <p:pic>
        <p:nvPicPr>
          <p:cNvPr id="43" name="Picture 4" descr="LogoSanLuigi"/>
          <p:cNvPicPr/>
          <p:nvPr/>
        </p:nvPicPr>
        <p:blipFill>
          <a:blip r:embed="rId1"/>
          <a:stretch/>
        </p:blipFill>
        <p:spPr>
          <a:xfrm>
            <a:off x="7391520" y="587520"/>
            <a:ext cx="863640" cy="93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6400800" y="838080"/>
            <a:ext cx="939960" cy="908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LogoUniversita'"/>
          <p:cNvPicPr/>
          <p:nvPr/>
        </p:nvPicPr>
        <p:blipFill>
          <a:blip r:embed="rId3"/>
          <a:stretch/>
        </p:blipFill>
        <p:spPr>
          <a:xfrm>
            <a:off x="685800" y="53352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5029200" y="5638680"/>
            <a:ext cx="533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</p:txBody>
      </p:sp>
      <p:pic>
        <p:nvPicPr>
          <p:cNvPr id="47" name="Picture 11" descr=""/>
          <p:cNvPicPr/>
          <p:nvPr/>
        </p:nvPicPr>
        <p:blipFill>
          <a:blip r:embed="rId4"/>
          <a:stretch/>
        </p:blipFill>
        <p:spPr>
          <a:xfrm>
            <a:off x="5638680" y="6593040"/>
            <a:ext cx="3505320" cy="264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0" y="5638680"/>
            <a:ext cx="835200" cy="1219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838080" y="6172200"/>
            <a:ext cx="487692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2"/>
          <p:cNvGraphicFramePr/>
          <p:nvPr/>
        </p:nvGraphicFramePr>
        <p:xfrm>
          <a:off x="1676520" y="1828800"/>
          <a:ext cx="5715000" cy="39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828800"/>
                    <a:ext cx="5715000" cy="3952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Text Box 4"/>
          <p:cNvSpPr/>
          <p:nvPr/>
        </p:nvSpPr>
        <p:spPr>
          <a:xfrm>
            <a:off x="6804000" y="3200400"/>
            <a:ext cx="73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61</a:t>
            </a:r>
            <a:endParaRPr b="0" lang="en-US" sz="12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910240" y="457200"/>
            <a:ext cx="33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cc0000"/>
                </a:solidFill>
                <a:latin typeface="Comic Sans MS"/>
              </a:rPr>
              <a:t>Overall survival </a:t>
            </a:r>
            <a:endParaRPr b="0" lang="en-US" sz="3200" spc="-1" strike="noStrike">
              <a:solidFill>
                <a:srgbClr val="000000"/>
              </a:solidFill>
              <a:latin typeface="Californian FB"/>
            </a:endParaRPr>
          </a:p>
        </p:txBody>
      </p:sp>
      <p:pic>
        <p:nvPicPr>
          <p:cNvPr id="131" name="Picture 10" descr=""/>
          <p:cNvPicPr/>
          <p:nvPr/>
        </p:nvPicPr>
        <p:blipFill>
          <a:blip r:embed="rId3"/>
          <a:stretch/>
        </p:blipFill>
        <p:spPr>
          <a:xfrm>
            <a:off x="0" y="6629400"/>
            <a:ext cx="1828800" cy="277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153680" y="6019920"/>
            <a:ext cx="29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Median follow-up 55 months</a:t>
            </a:r>
            <a:endParaRPr b="0" lang="en-US" sz="16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133" name=""/>
          <p:cNvSpPr/>
          <p:nvPr/>
        </p:nvSpPr>
        <p:spPr>
          <a:xfrm>
            <a:off x="3577320" y="1066680"/>
            <a:ext cx="199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ll Masaoka stages</a:t>
            </a:r>
            <a:endParaRPr b="0" lang="en-US" sz="16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1905120"/>
            <a:ext cx="2362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Object 2"/>
          <p:cNvGraphicFramePr/>
          <p:nvPr/>
        </p:nvGraphicFramePr>
        <p:xfrm>
          <a:off x="1752480" y="1798560"/>
          <a:ext cx="5715000" cy="39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798560"/>
                    <a:ext cx="5715000" cy="3992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7" name="Text Box 4"/>
          <p:cNvSpPr/>
          <p:nvPr/>
        </p:nvSpPr>
        <p:spPr>
          <a:xfrm>
            <a:off x="6705720" y="2666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81</a:t>
            </a:r>
            <a:endParaRPr b="0" lang="en-US" sz="12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952880" y="32004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4</a:t>
            </a:r>
            <a:endParaRPr b="0" lang="en-US" sz="12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6858000" y="42973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0</a:t>
            </a:r>
            <a:endParaRPr b="0" lang="en-US" sz="12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5029200" y="4648320"/>
            <a:ext cx="1447920" cy="3808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2721240" y="1066680"/>
            <a:ext cx="39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ccording to Masaoka stage of disease </a:t>
            </a:r>
            <a:endParaRPr b="0" lang="en-US" sz="1600" spc="-1" strike="noStrike">
              <a:solidFill>
                <a:srgbClr val="000000"/>
              </a:solidFill>
              <a:latin typeface="Californian FB"/>
            </a:endParaRPr>
          </a:p>
        </p:txBody>
      </p:sp>
      <p:pic>
        <p:nvPicPr>
          <p:cNvPr id="142" name="Picture 10" descr=""/>
          <p:cNvPicPr/>
          <p:nvPr/>
        </p:nvPicPr>
        <p:blipFill>
          <a:blip r:embed="rId3"/>
          <a:stretch/>
        </p:blipFill>
        <p:spPr>
          <a:xfrm>
            <a:off x="0" y="6629400"/>
            <a:ext cx="1828800" cy="277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153680" y="6019920"/>
            <a:ext cx="29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Median follow-up 55 months</a:t>
            </a:r>
            <a:endParaRPr b="0" lang="en-US" sz="16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2910240" y="457200"/>
            <a:ext cx="33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cc0000"/>
                </a:solidFill>
                <a:latin typeface="Comic Sans MS"/>
              </a:rPr>
              <a:t>Overall survival </a:t>
            </a:r>
            <a:endParaRPr b="0" lang="en-US" sz="32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145" name=""/>
          <p:cNvSpPr/>
          <p:nvPr/>
        </p:nvSpPr>
        <p:spPr>
          <a:xfrm>
            <a:off x="3962520" y="1905120"/>
            <a:ext cx="18288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1219320" y="457200"/>
            <a:ext cx="655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Schoolbook"/>
              </a:rPr>
              <a:t>Histological Typing of tumours of the thymus. </a:t>
            </a:r>
            <a:endParaRPr b="0" lang="en-US" sz="2000" spc="-1" strike="noStrike">
              <a:solidFill>
                <a:srgbClr val="000000"/>
              </a:solidFill>
              <a:latin typeface="Californian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Schoolbook"/>
              </a:rPr>
              <a:t>International Histological classification of tumours. </a:t>
            </a:r>
            <a:endParaRPr b="0" lang="en-US" sz="2000" spc="-1" strike="noStrike">
              <a:solidFill>
                <a:srgbClr val="000000"/>
              </a:solidFill>
              <a:latin typeface="Californian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it-IT" sz="1200" spc="-1" strike="noStrike">
                <a:solidFill>
                  <a:srgbClr val="000000"/>
                </a:solidFill>
                <a:latin typeface="Century Schoolbook"/>
              </a:rPr>
              <a:t>Rosai J                                                                                        Springer, 1999</a:t>
            </a:r>
            <a:endParaRPr b="0" lang="en-US" sz="12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838080" y="304920"/>
            <a:ext cx="6934320" cy="1218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7238880" y="1295280"/>
            <a:ext cx="1341720" cy="1676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1019160" y="1905120"/>
            <a:ext cx="271476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0" name="Picture 10" descr=""/>
          <p:cNvPicPr/>
          <p:nvPr/>
        </p:nvPicPr>
        <p:blipFill>
          <a:blip r:embed="rId3"/>
          <a:stretch/>
        </p:blipFill>
        <p:spPr>
          <a:xfrm>
            <a:off x="0" y="6629400"/>
            <a:ext cx="1828800" cy="277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057400" y="1828800"/>
            <a:ext cx="1600200" cy="3049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038480" y="5022720"/>
          <a:ext cx="4572000" cy="1454040"/>
        </p:xfrm>
        <a:graphic>
          <a:graphicData uri="http://schemas.openxmlformats.org/drawingml/2006/table">
            <a:tbl>
              <a:tblPr/>
              <a:tblGrid>
                <a:gridCol w="1145880"/>
                <a:gridCol w="454320"/>
                <a:gridCol w="457200"/>
                <a:gridCol w="457200"/>
                <a:gridCol w="457200"/>
                <a:gridCol w="457200"/>
                <a:gridCol w="457200"/>
                <a:gridCol w="685800"/>
              </a:tblGrid>
              <a:tr h="4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Masaoka st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WHO histologic class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     AB     B1      B2     B3      C     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8077320" y="6248520"/>
            <a:ext cx="380880" cy="2286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154" name="Text Box 52"/>
          <p:cNvSpPr/>
          <p:nvPr/>
        </p:nvSpPr>
        <p:spPr>
          <a:xfrm>
            <a:off x="3733920" y="3809880"/>
            <a:ext cx="5105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n order to evaluate the predictors of outcome, </a:t>
            </a:r>
            <a:endParaRPr b="0" lang="en-US" sz="1400" spc="-1" strike="noStrike">
              <a:solidFill>
                <a:srgbClr val="000000"/>
              </a:solidFill>
              <a:latin typeface="Californian FB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histopatology was reviewed according to </a:t>
            </a:r>
            <a:endParaRPr b="0" lang="en-US" sz="1400" spc="-1" strike="noStrike">
              <a:solidFill>
                <a:srgbClr val="000000"/>
              </a:solidFill>
              <a:latin typeface="Californian FB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orld Health Organization </a:t>
            </a:r>
            <a:endParaRPr b="0" lang="en-US" sz="1400" spc="-1" strike="noStrike">
              <a:solidFill>
                <a:srgbClr val="000000"/>
              </a:solidFill>
              <a:latin typeface="Californian FB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(WHO) classification.</a:t>
            </a:r>
            <a:endParaRPr b="0" lang="en-US" sz="14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5105520"/>
            <a:ext cx="914400" cy="1143000"/>
          </a:xfrm>
          <a:custGeom>
            <a:avLst/>
            <a:gdLst>
              <a:gd name="textAreaLeft" fmla="*/ 122400 w 914400"/>
              <a:gd name="textAreaRight" fmla="*/ 792000 w 914400"/>
              <a:gd name="textAreaTop" fmla="*/ 223560 h 1143000"/>
              <a:gd name="textAreaBottom" fmla="*/ 80496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60" stAng="-5400000" swAng="-5400000"/>
                <a:lnTo>
                  <a:pt x="0" y="10980"/>
                </a:lnTo>
                <a:arcTo wR="21600" hR="8460" stAng="10800000" swAng="-1639209"/>
                <a:lnTo>
                  <a:pt x="8550" y="19881"/>
                </a:lnTo>
                <a:lnTo>
                  <a:pt x="21600" y="18180"/>
                </a:lnTo>
                <a:lnTo>
                  <a:pt x="8550" y="13041"/>
                </a:lnTo>
                <a:lnTo>
                  <a:pt x="8550" y="15201"/>
                </a:lnTo>
                <a:arcTo wR="21600" hR="8460" stAng="9160791" swAng="1436646"/>
                <a:lnTo>
                  <a:pt x="241" y="9720"/>
                </a:lnTo>
                <a:arcTo wR="21600" hR="8460" stAng="-10597438" swAng="5197438"/>
                <a:close/>
              </a:path>
              <a:path fill="darkenLess" w="21600" h="21600">
                <a:moveTo>
                  <a:pt x="21600" y="0"/>
                </a:moveTo>
                <a:arcTo wR="21600" hR="8460" stAng="-5400000" swAng="-5400000"/>
                <a:lnTo>
                  <a:pt x="0" y="8460"/>
                </a:lnTo>
                <a:arcTo wR="21600" hR="8460" stAng="10800000" swAng="-202562"/>
                <a:lnTo>
                  <a:pt x="241" y="9720"/>
                </a:lnTo>
                <a:arcTo wR="21600" hR="8460" stAng="-10597438" swAng="5197438"/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981080" y="380880"/>
            <a:ext cx="5915160" cy="949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"/>
          <p:cNvPicPr/>
          <p:nvPr/>
        </p:nvPicPr>
        <p:blipFill>
          <a:blip r:embed="rId2"/>
          <a:stretch/>
        </p:blipFill>
        <p:spPr>
          <a:xfrm>
            <a:off x="1295280" y="1981080"/>
            <a:ext cx="5276880" cy="609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"/>
          <p:cNvPicPr/>
          <p:nvPr/>
        </p:nvPicPr>
        <p:blipFill>
          <a:blip r:embed="rId3"/>
          <a:stretch/>
        </p:blipFill>
        <p:spPr>
          <a:xfrm>
            <a:off x="1905120" y="3276720"/>
            <a:ext cx="5715000" cy="6080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9"/>
          <p:cNvSpPr/>
          <p:nvPr/>
        </p:nvSpPr>
        <p:spPr>
          <a:xfrm>
            <a:off x="4952880" y="6019920"/>
            <a:ext cx="1676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160" name="Rectangle 20"/>
          <p:cNvSpPr/>
          <p:nvPr/>
        </p:nvSpPr>
        <p:spPr>
          <a:xfrm>
            <a:off x="1752480" y="380880"/>
            <a:ext cx="6248520" cy="990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161" name="Rectangle 23"/>
          <p:cNvSpPr/>
          <p:nvPr/>
        </p:nvSpPr>
        <p:spPr>
          <a:xfrm>
            <a:off x="1143000" y="1828800"/>
            <a:ext cx="5486400" cy="8380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162" name="Rectangle 25"/>
          <p:cNvSpPr/>
          <p:nvPr/>
        </p:nvSpPr>
        <p:spPr>
          <a:xfrm>
            <a:off x="1752480" y="3124080"/>
            <a:ext cx="6019920" cy="838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163" name="Text Box 31"/>
          <p:cNvSpPr/>
          <p:nvPr/>
        </p:nvSpPr>
        <p:spPr>
          <a:xfrm>
            <a:off x="5711040" y="1447920"/>
            <a:ext cx="2154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900" spc="-1" strike="noStrike">
                <a:solidFill>
                  <a:srgbClr val="000000"/>
                </a:solidFill>
                <a:latin typeface="Arial"/>
              </a:rPr>
              <a:t>Park MS et  al., Ann Thorac Surg 2004</a:t>
            </a:r>
            <a:endParaRPr b="0" lang="en-US" sz="9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164" name="Text Box 32"/>
          <p:cNvSpPr/>
          <p:nvPr/>
        </p:nvSpPr>
        <p:spPr>
          <a:xfrm>
            <a:off x="4338720" y="2743200"/>
            <a:ext cx="215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900" spc="-1" strike="noStrike">
                <a:solidFill>
                  <a:srgbClr val="000000"/>
                </a:solidFill>
                <a:latin typeface="Arial"/>
              </a:rPr>
              <a:t>Kondo K et  al., Ann Thorac Surg 2004</a:t>
            </a:r>
            <a:endParaRPr b="0" lang="en-US" sz="9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165" name="Text Box 33"/>
          <p:cNvSpPr/>
          <p:nvPr/>
        </p:nvSpPr>
        <p:spPr>
          <a:xfrm>
            <a:off x="5482440" y="4038480"/>
            <a:ext cx="214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900" spc="-1" strike="noStrike">
                <a:solidFill>
                  <a:srgbClr val="000000"/>
                </a:solidFill>
                <a:latin typeface="Arial"/>
              </a:rPr>
              <a:t>Detterbeck FC, Ann Thorac Surg 2006</a:t>
            </a:r>
            <a:endParaRPr b="0" lang="en-US" sz="900" spc="-1" strike="noStrike">
              <a:solidFill>
                <a:srgbClr val="000000"/>
              </a:solidFill>
              <a:latin typeface="Californian FB"/>
            </a:endParaRPr>
          </a:p>
        </p:txBody>
      </p:sp>
      <p:pic>
        <p:nvPicPr>
          <p:cNvPr id="166" name="Picture 10" descr=""/>
          <p:cNvPicPr/>
          <p:nvPr/>
        </p:nvPicPr>
        <p:blipFill>
          <a:blip r:embed="rId4"/>
          <a:stretch/>
        </p:blipFill>
        <p:spPr>
          <a:xfrm>
            <a:off x="0" y="6629400"/>
            <a:ext cx="1828800" cy="277920"/>
          </a:xfrm>
          <a:prstGeom prst="rect">
            <a:avLst/>
          </a:prstGeom>
          <a:ln w="0">
            <a:noFill/>
          </a:ln>
        </p:spPr>
      </p:pic>
      <p:sp>
        <p:nvSpPr>
          <p:cNvPr id="167" name="CasellaDiTesto 2"/>
          <p:cNvSpPr/>
          <p:nvPr/>
        </p:nvSpPr>
        <p:spPr>
          <a:xfrm>
            <a:off x="909000" y="5257800"/>
            <a:ext cx="74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The most important indipendent prognostic factors are </a:t>
            </a:r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Masaoka stage, complete surgical resection and </a:t>
            </a:r>
            <a:r>
              <a:rPr b="0" lang="it-IT" sz="1800" spc="-1" strike="noStrike">
                <a:solidFill>
                  <a:srgbClr val="cc0000"/>
                </a:solidFill>
                <a:latin typeface="Comic Sans MS"/>
              </a:rPr>
              <a:t>WHO classification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4267080"/>
            <a:ext cx="685800" cy="762120"/>
          </a:xfrm>
          <a:custGeom>
            <a:avLst/>
            <a:gdLst>
              <a:gd name="textAreaLeft" fmla="*/ 116280 w 685800"/>
              <a:gd name="textAreaRight" fmla="*/ 500040 w 6858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29" hR="21600" stAng="10800000" swAng="5400000"/>
                <a:lnTo>
                  <a:pt x="12086" y="0"/>
                </a:lnTo>
                <a:arcTo wR="7329" hR="21600" stAng="-5400000" swAng="1590321"/>
                <a:lnTo>
                  <a:pt x="20331" y="9450"/>
                </a:lnTo>
                <a:lnTo>
                  <a:pt x="17036" y="21600"/>
                </a:lnTo>
                <a:lnTo>
                  <a:pt x="11202" y="9450"/>
                </a:lnTo>
                <a:lnTo>
                  <a:pt x="13388" y="9450"/>
                </a:lnTo>
                <a:arcTo wR="7329" hR="21600" stAng="-3809679" swAng="-1191900"/>
                <a:lnTo>
                  <a:pt x="9707" y="1169"/>
                </a:lnTo>
                <a:arcTo wR="7329" hR="21600" stAng="-5798421" swAng="-5001579"/>
                <a:close/>
              </a:path>
              <a:path fill="darkenLess" w="21600" h="21600">
                <a:moveTo>
                  <a:pt x="0" y="21600"/>
                </a:moveTo>
                <a:arcTo wR="7329" hR="21600" stAng="10800000" swAng="5400000"/>
                <a:lnTo>
                  <a:pt x="7329" y="0"/>
                </a:lnTo>
                <a:arcTo wR="7329" hR="21600" stAng="-5400000" swAng="398421"/>
                <a:lnTo>
                  <a:pt x="9707" y="1169"/>
                </a:lnTo>
                <a:arcTo wR="7329" hR="21600" stAng="-5798421" swAng="-5001579"/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4495680" y="914400"/>
            <a:ext cx="4038840" cy="6253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6179760" y="1523880"/>
            <a:ext cx="217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900" spc="-1" strike="noStrike">
                <a:solidFill>
                  <a:srgbClr val="000000"/>
                </a:solidFill>
                <a:latin typeface="Arial"/>
              </a:rPr>
              <a:t>Singhal S et al., Ann Thorac Surg 2003</a:t>
            </a:r>
            <a:endParaRPr b="0" lang="en-US" sz="9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4419720" y="838080"/>
            <a:ext cx="4038480" cy="6858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</p:txBody>
      </p:sp>
      <p:pic>
        <p:nvPicPr>
          <p:cNvPr id="172" name="Picture 8" descr=""/>
          <p:cNvPicPr/>
          <p:nvPr/>
        </p:nvPicPr>
        <p:blipFill>
          <a:blip r:embed="rId2"/>
          <a:stretch/>
        </p:blipFill>
        <p:spPr>
          <a:xfrm>
            <a:off x="2438280" y="1905120"/>
            <a:ext cx="3962520" cy="4618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1"/>
          <p:cNvSpPr/>
          <p:nvPr/>
        </p:nvSpPr>
        <p:spPr>
          <a:xfrm>
            <a:off x="2286000" y="1828800"/>
            <a:ext cx="3886200" cy="6094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</p:txBody>
      </p:sp>
      <p:pic>
        <p:nvPicPr>
          <p:cNvPr id="174" name="Picture 14" descr=""/>
          <p:cNvPicPr/>
          <p:nvPr/>
        </p:nvPicPr>
        <p:blipFill>
          <a:blip r:embed="rId3"/>
          <a:stretch/>
        </p:blipFill>
        <p:spPr>
          <a:xfrm>
            <a:off x="3733920" y="2895480"/>
            <a:ext cx="4343400" cy="53352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19"/>
          <p:cNvSpPr/>
          <p:nvPr/>
        </p:nvSpPr>
        <p:spPr>
          <a:xfrm>
            <a:off x="3733920" y="2819520"/>
            <a:ext cx="4419360" cy="685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176" name="Rectangle 20"/>
          <p:cNvSpPr/>
          <p:nvPr/>
        </p:nvSpPr>
        <p:spPr>
          <a:xfrm>
            <a:off x="1676520" y="3733920"/>
            <a:ext cx="4038480" cy="761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177" name="Text Box 27"/>
          <p:cNvSpPr/>
          <p:nvPr/>
        </p:nvSpPr>
        <p:spPr>
          <a:xfrm>
            <a:off x="5945760" y="3505320"/>
            <a:ext cx="210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900" spc="-1" strike="noStrike">
                <a:solidFill>
                  <a:srgbClr val="000000"/>
                </a:solidFill>
                <a:latin typeface="Arial"/>
              </a:rPr>
              <a:t>Kundel Y et al., Am J Clin Oncol 2007</a:t>
            </a:r>
            <a:endParaRPr b="0" lang="en-US" sz="900" spc="-1" strike="noStrike">
              <a:solidFill>
                <a:srgbClr val="000000"/>
              </a:solidFill>
              <a:latin typeface="Californian FB"/>
            </a:endParaRPr>
          </a:p>
        </p:txBody>
      </p:sp>
      <p:pic>
        <p:nvPicPr>
          <p:cNvPr id="178" name="Picture 29" descr=""/>
          <p:cNvPicPr/>
          <p:nvPr/>
        </p:nvPicPr>
        <p:blipFill>
          <a:blip r:embed="rId4"/>
          <a:stretch/>
        </p:blipFill>
        <p:spPr>
          <a:xfrm>
            <a:off x="1828800" y="3809880"/>
            <a:ext cx="3809880" cy="478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1" descr=""/>
          <p:cNvPicPr/>
          <p:nvPr/>
        </p:nvPicPr>
        <p:blipFill>
          <a:blip r:embed="rId5"/>
          <a:stretch/>
        </p:blipFill>
        <p:spPr>
          <a:xfrm>
            <a:off x="1905120" y="4267080"/>
            <a:ext cx="2819160" cy="1666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3"/>
          <p:cNvSpPr/>
          <p:nvPr/>
        </p:nvSpPr>
        <p:spPr>
          <a:xfrm>
            <a:off x="3960000" y="449568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900" spc="-1" strike="noStrike">
                <a:solidFill>
                  <a:srgbClr val="000000"/>
                </a:solidFill>
                <a:latin typeface="Arial"/>
              </a:rPr>
              <a:t>Ogawa K et al., Cancer 2002</a:t>
            </a:r>
            <a:endParaRPr b="0" lang="en-US" sz="9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181" name="Text Box 36"/>
          <p:cNvSpPr/>
          <p:nvPr/>
        </p:nvSpPr>
        <p:spPr>
          <a:xfrm>
            <a:off x="3888360" y="2438280"/>
            <a:ext cx="2180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900" spc="-1" strike="noStrike">
                <a:solidFill>
                  <a:srgbClr val="000000"/>
                </a:solidFill>
                <a:latin typeface="Arial"/>
              </a:rPr>
              <a:t>Mangi AA et al., Ann Thorac Surg 2005</a:t>
            </a:r>
            <a:endParaRPr b="0" lang="en-US" sz="900" spc="-1" strike="noStrike">
              <a:solidFill>
                <a:srgbClr val="000000"/>
              </a:solidFill>
              <a:latin typeface="Californian FB"/>
            </a:endParaRPr>
          </a:p>
        </p:txBody>
      </p:sp>
      <p:pic>
        <p:nvPicPr>
          <p:cNvPr id="182" name="Picture 10" descr=""/>
          <p:cNvPicPr/>
          <p:nvPr/>
        </p:nvPicPr>
        <p:blipFill>
          <a:blip r:embed="rId6"/>
          <a:stretch/>
        </p:blipFill>
        <p:spPr>
          <a:xfrm>
            <a:off x="0" y="6629400"/>
            <a:ext cx="1828800" cy="2779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11480" y="5089680"/>
            <a:ext cx="66942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The WHO classification is useful for predicting the prognosis and </a:t>
            </a:r>
            <a:endParaRPr b="0" lang="en-US" sz="1500" spc="-1" strike="noStrike">
              <a:solidFill>
                <a:srgbClr val="000000"/>
              </a:solidFill>
              <a:latin typeface="Californian FB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selecting suitable treatment for patients with thymoma. </a:t>
            </a:r>
            <a:endParaRPr b="0" lang="en-US" sz="1500" spc="-1" strike="noStrike">
              <a:solidFill>
                <a:srgbClr val="000000"/>
              </a:solidFill>
              <a:latin typeface="Californian FB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In the future, by considering WHO classification </a:t>
            </a:r>
            <a:endParaRPr b="0" lang="en-US" sz="1500" spc="-1" strike="noStrike">
              <a:solidFill>
                <a:srgbClr val="000000"/>
              </a:solidFill>
              <a:latin typeface="Californian FB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and Masaoka stage we can divide thymoma into </a:t>
            </a:r>
            <a:r>
              <a:rPr b="0" i="1" lang="it-IT" sz="1500" spc="-1" strike="noStrike">
                <a:solidFill>
                  <a:srgbClr val="cc0000"/>
                </a:solidFill>
                <a:latin typeface="Comic Sans MS"/>
              </a:rPr>
              <a:t>some subpopulation and </a:t>
            </a:r>
            <a:endParaRPr b="0" lang="en-US" sz="1500" spc="-1" strike="noStrike">
              <a:solidFill>
                <a:srgbClr val="000000"/>
              </a:solidFill>
              <a:latin typeface="Californian FB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500" spc="-1" strike="noStrike">
                <a:solidFill>
                  <a:srgbClr val="cc0000"/>
                </a:solidFill>
                <a:latin typeface="Comic Sans MS"/>
              </a:rPr>
              <a:t>select the best treatment for each subpopulation</a:t>
            </a:r>
            <a:r>
              <a:rPr b="0" lang="it-IT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184" name="Text Box 32"/>
          <p:cNvSpPr/>
          <p:nvPr/>
        </p:nvSpPr>
        <p:spPr>
          <a:xfrm>
            <a:off x="4495680" y="6384960"/>
            <a:ext cx="231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Kondo K et al., Ann Thorac Surg 2004</a:t>
            </a:r>
            <a:endParaRPr b="0" lang="en-US" sz="10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4114800"/>
            <a:ext cx="685800" cy="685800"/>
          </a:xfrm>
          <a:custGeom>
            <a:avLst/>
            <a:gdLst>
              <a:gd name="textAreaLeft" fmla="*/ 123480 w 685800"/>
              <a:gd name="textAreaRight" fmla="*/ 479880 w 68580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77" hR="21600" stAng="10800000" swAng="5400000"/>
                <a:lnTo>
                  <a:pt x="11229" y="0"/>
                </a:lnTo>
                <a:arcTo wR="7777" hR="21600" stAng="-5400000" swAng="1432713"/>
                <a:lnTo>
                  <a:pt x="19856" y="7971"/>
                </a:lnTo>
                <a:lnTo>
                  <a:pt x="17280" y="21600"/>
                </a:lnTo>
                <a:lnTo>
                  <a:pt x="11216" y="7971"/>
                </a:lnTo>
                <a:lnTo>
                  <a:pt x="13810" y="7971"/>
                </a:lnTo>
                <a:arcTo wR="7777" hR="21600" stAng="-3967287" swAng="-1151614"/>
                <a:lnTo>
                  <a:pt x="9503" y="539"/>
                </a:lnTo>
                <a:arcTo wR="7777" hR="21600" stAng="-5681099" swAng="-5118901"/>
                <a:close/>
              </a:path>
              <a:path fill="darkenLess" w="21600" h="21600">
                <a:moveTo>
                  <a:pt x="0" y="21600"/>
                </a:moveTo>
                <a:arcTo wR="7777" hR="21600" stAng="10800000" swAng="5400000"/>
                <a:lnTo>
                  <a:pt x="7777" y="0"/>
                </a:lnTo>
                <a:arcTo wR="7777" hR="21600" stAng="-5400000" swAng="281099"/>
                <a:lnTo>
                  <a:pt x="9503" y="539"/>
                </a:lnTo>
                <a:arcTo wR="7777" hR="21600" stAng="-5681099" swAng="-5118901"/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186" name=""/>
          <p:cNvSpPr/>
          <p:nvPr/>
        </p:nvSpPr>
        <p:spPr>
          <a:xfrm>
            <a:off x="765720" y="533520"/>
            <a:ext cx="2867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Comic Sans MS"/>
              </a:rPr>
              <a:t>OPEN ISSUES</a:t>
            </a:r>
            <a:endParaRPr b="0" lang="en-US" sz="34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1600200"/>
            <a:ext cx="457200" cy="1066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96200 h 1066680"/>
              <a:gd name="textAreaBottom" fmla="*/ 7444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50" stAng="-5400000" swAng="-5400000"/>
                <a:lnTo>
                  <a:pt x="0" y="11100"/>
                </a:lnTo>
                <a:arcTo wR="21600" hR="7950" stAng="10800000" swAng="-1078989"/>
                <a:lnTo>
                  <a:pt x="5400" y="18908"/>
                </a:lnTo>
                <a:lnTo>
                  <a:pt x="21600" y="17475"/>
                </a:lnTo>
                <a:lnTo>
                  <a:pt x="5400" y="10658"/>
                </a:lnTo>
                <a:lnTo>
                  <a:pt x="5400" y="13208"/>
                </a:lnTo>
                <a:arcTo wR="21600" hR="7950" stAng="9721011" swAng="823721"/>
                <a:lnTo>
                  <a:pt x="428" y="9525"/>
                </a:lnTo>
                <a:arcTo wR="21600" hR="7950" stAng="-10544732" swAng="5144732"/>
                <a:close/>
              </a:path>
              <a:path fill="darkenLess" w="21600" h="21600">
                <a:moveTo>
                  <a:pt x="21600" y="0"/>
                </a:moveTo>
                <a:arcTo wR="21600" hR="7950" stAng="-5400000" swAng="-5400000"/>
                <a:lnTo>
                  <a:pt x="0" y="7950"/>
                </a:lnTo>
                <a:arcTo wR="21600" hR="7950" stAng="10800000" swAng="-255268"/>
                <a:lnTo>
                  <a:pt x="428" y="9525"/>
                </a:lnTo>
                <a:arcTo wR="21600" hR="7950" stAng="-10544732" swAng="5144732"/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7391520" y="4781520"/>
          <a:ext cx="1042920" cy="1771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91520" y="4781520"/>
                    <a:ext cx="104292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5029200" y="5638680"/>
            <a:ext cx="533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</p:txBody>
      </p:sp>
      <p:pic>
        <p:nvPicPr>
          <p:cNvPr id="191" name="Picture 11" descr=""/>
          <p:cNvPicPr/>
          <p:nvPr/>
        </p:nvPicPr>
        <p:blipFill>
          <a:blip r:embed="rId1"/>
          <a:stretch/>
        </p:blipFill>
        <p:spPr>
          <a:xfrm>
            <a:off x="5638680" y="6593040"/>
            <a:ext cx="3505320" cy="2649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5638680"/>
            <a:ext cx="835200" cy="12193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838080" y="6172200"/>
            <a:ext cx="4876920" cy="685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"/>
          <p:cNvPicPr/>
          <p:nvPr/>
        </p:nvPicPr>
        <p:blipFill>
          <a:blip r:embed="rId4"/>
          <a:stretch/>
        </p:blipFill>
        <p:spPr>
          <a:xfrm>
            <a:off x="1852560" y="1141560"/>
            <a:ext cx="3024360" cy="2896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"/>
          <p:cNvPicPr/>
          <p:nvPr/>
        </p:nvPicPr>
        <p:blipFill>
          <a:blip r:embed="rId5"/>
          <a:stretch/>
        </p:blipFill>
        <p:spPr>
          <a:xfrm>
            <a:off x="4829040" y="2179800"/>
            <a:ext cx="1952640" cy="20872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95800" y="4754520"/>
            <a:ext cx="446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razie per l’attenzione</a:t>
            </a:r>
            <a:endParaRPr b="0" lang="en-US" sz="3200" spc="-1" strike="noStrike">
              <a:solidFill>
                <a:srgbClr val="000000"/>
              </a:solidFill>
              <a:latin typeface="Californian FB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826360" y="457200"/>
            <a:ext cx="333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85800" y="1457280"/>
            <a:ext cx="792468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Thymoma represent the most common tumor of the anterior mediastinum in adults</a:t>
            </a:r>
            <a:endParaRPr b="0" lang="en-US" sz="1400" spc="-1" strike="noStrike">
              <a:solidFill>
                <a:srgbClr val="000000"/>
              </a:solidFill>
              <a:latin typeface="Californian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fornian FB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Surgery is the mainstay of therapy irrespective of whether the tumor is encapsulated </a:t>
            </a:r>
            <a:endParaRPr b="0" lang="en-US" sz="1400" spc="-1" strike="noStrike">
              <a:solidFill>
                <a:srgbClr val="000000"/>
              </a:solidFill>
              <a:latin typeface="Californian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or infiltrating</a:t>
            </a:r>
            <a:endParaRPr b="0" lang="en-US" sz="1400" spc="-1" strike="noStrike">
              <a:solidFill>
                <a:srgbClr val="000000"/>
              </a:solidFill>
              <a:latin typeface="Californian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fornian FB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ostoperative radiotherapy (RT) as adjuvant treatment is believed to play an important</a:t>
            </a:r>
            <a:endParaRPr b="0" lang="en-US" sz="1400" spc="-1" strike="noStrike">
              <a:solidFill>
                <a:srgbClr val="000000"/>
              </a:solidFill>
              <a:latin typeface="Californian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role in terms of survival and in preventing local recurrence</a:t>
            </a:r>
            <a:endParaRPr b="0" lang="en-US" sz="1400" spc="-1" strike="noStrike">
              <a:solidFill>
                <a:srgbClr val="000000"/>
              </a:solidFill>
              <a:latin typeface="Californian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fornian FB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n unresectable tumors, RT remains the only available treatment with curative intent</a:t>
            </a:r>
            <a:endParaRPr b="0" lang="en-US" sz="1400" spc="-1" strike="noStrike">
              <a:solidFill>
                <a:srgbClr val="000000"/>
              </a:solidFill>
              <a:latin typeface="Californian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fornian FB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 combined-modality approach with chemotherapy (CT) is associated with prolonged </a:t>
            </a:r>
            <a:endParaRPr b="0" lang="en-US" sz="1400" spc="-1" strike="noStrike">
              <a:solidFill>
                <a:srgbClr val="000000"/>
              </a:solidFill>
              <a:latin typeface="Californian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rogression-free survival, while CT alone is not satisfactory and not sufficient as a </a:t>
            </a:r>
            <a:endParaRPr b="0" lang="en-US" sz="1400" spc="-1" strike="noStrike">
              <a:solidFill>
                <a:srgbClr val="000000"/>
              </a:solidFill>
              <a:latin typeface="Californian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curative treatment</a:t>
            </a:r>
            <a:endParaRPr b="0" lang="en-US" sz="1400" spc="-1" strike="noStrike">
              <a:solidFill>
                <a:srgbClr val="000000"/>
              </a:solidFill>
              <a:latin typeface="Californian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fornian FB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The most important indipendent prognostic factors are Masaoka stage and complete </a:t>
            </a:r>
            <a:endParaRPr b="0" lang="en-US" sz="1400" spc="-1" strike="noStrike">
              <a:solidFill>
                <a:srgbClr val="000000"/>
              </a:solidFill>
              <a:latin typeface="Californian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surgical resection </a:t>
            </a:r>
            <a:endParaRPr b="0" lang="en-US" sz="1400" spc="-1" strike="noStrike">
              <a:solidFill>
                <a:srgbClr val="000000"/>
              </a:solidFill>
              <a:latin typeface="Californian FB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fornian FB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3886200" y="5181480"/>
            <a:ext cx="1828800" cy="1295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2"/>
          <a:stretch/>
        </p:blipFill>
        <p:spPr>
          <a:xfrm>
            <a:off x="6095880" y="5181480"/>
            <a:ext cx="1981440" cy="1341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3"/>
          <a:stretch/>
        </p:blipFill>
        <p:spPr>
          <a:xfrm>
            <a:off x="0" y="6629400"/>
            <a:ext cx="1828800" cy="27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066680" y="272412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aim of this analysis was to review our experience </a:t>
            </a:r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 73 patients affected with invasive thymoma </a:t>
            </a:r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nd treated with multimodality approaches </a:t>
            </a:r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surgery, radiotherapy and chemotherapy), </a:t>
            </a:r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 order </a:t>
            </a:r>
            <a:r>
              <a:rPr b="0" i="1" lang="en-GB" sz="1800" spc="-1" strike="noStrike">
                <a:solidFill>
                  <a:srgbClr val="cc0000"/>
                </a:solidFill>
                <a:latin typeface="Comic Sans MS"/>
              </a:rPr>
              <a:t>to evaluate the</a:t>
            </a:r>
            <a:r>
              <a:rPr b="0" lang="en-GB" sz="1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i="1" lang="en-GB" sz="1800" spc="-1" strike="noStrike">
                <a:solidFill>
                  <a:srgbClr val="cc0000"/>
                </a:solidFill>
                <a:latin typeface="Comic Sans MS"/>
              </a:rPr>
              <a:t>role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f mediastinal irradiation, </a:t>
            </a:r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cc0000"/>
                </a:solidFill>
                <a:latin typeface="Comic Sans MS"/>
              </a:rPr>
              <a:t>to assess the factors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at predict local control and survival and </a:t>
            </a:r>
            <a:r>
              <a:rPr b="0" i="1" lang="en-GB" sz="1800" spc="-1" strike="noStrike">
                <a:solidFill>
                  <a:srgbClr val="cc0000"/>
                </a:solidFill>
                <a:latin typeface="Comic Sans MS"/>
              </a:rPr>
              <a:t>to suggest strategies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r optimizing adjuvant RT.</a:t>
            </a:r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065760" y="1295280"/>
            <a:ext cx="22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PURPOSE</a:t>
            </a:r>
            <a:endParaRPr b="0" lang="en-US" sz="3600" spc="-1" strike="noStrike">
              <a:solidFill>
                <a:srgbClr val="000000"/>
              </a:solidFill>
              <a:latin typeface="Californian FB"/>
            </a:endParaRPr>
          </a:p>
        </p:txBody>
      </p:sp>
      <p:pic>
        <p:nvPicPr>
          <p:cNvPr id="57" name="Picture 7" descr="LogoSanLuigi"/>
          <p:cNvPicPr/>
          <p:nvPr/>
        </p:nvPicPr>
        <p:blipFill>
          <a:blip r:embed="rId1"/>
          <a:stretch/>
        </p:blipFill>
        <p:spPr>
          <a:xfrm>
            <a:off x="7315200" y="838080"/>
            <a:ext cx="779400" cy="865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6400800" y="1295280"/>
            <a:ext cx="863640" cy="836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LogoUniversita'"/>
          <p:cNvPicPr/>
          <p:nvPr/>
        </p:nvPicPr>
        <p:blipFill>
          <a:blip r:embed="rId3"/>
          <a:stretch/>
        </p:blipFill>
        <p:spPr>
          <a:xfrm>
            <a:off x="838080" y="8380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"/>
          <p:cNvPicPr/>
          <p:nvPr/>
        </p:nvPicPr>
        <p:blipFill>
          <a:blip r:embed="rId4"/>
          <a:stretch/>
        </p:blipFill>
        <p:spPr>
          <a:xfrm>
            <a:off x="0" y="6629400"/>
            <a:ext cx="1828800" cy="27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231280" y="272880"/>
            <a:ext cx="476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00"/>
                </a:solidFill>
                <a:latin typeface="Comic Sans MS"/>
              </a:rPr>
              <a:t>Patients’ characteristics </a:t>
            </a:r>
            <a:endParaRPr b="0" lang="en-US" sz="32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143000" y="1004760"/>
            <a:ext cx="3429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mic Sans MS"/>
              </a:rPr>
              <a:t>From January 1986 to June 2006</a:t>
            </a:r>
            <a:endParaRPr b="0" lang="en-US" sz="1300" spc="-1" strike="noStrike">
              <a:solidFill>
                <a:srgbClr val="000000"/>
              </a:solidFill>
              <a:latin typeface="Californian FB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066680" y="1376280"/>
          <a:ext cx="4191120" cy="525168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143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° 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/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/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6/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e (year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dian 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nge 27-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astenia Grav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s/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/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/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saoka st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rge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tal exci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btotal exci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iopsy on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diotherap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stoper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.60-61.20 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clusive 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± 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4-64.80 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emotherap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s/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/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/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fornian FB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Object 3"/>
          <p:cNvGraphicFramePr/>
          <p:nvPr/>
        </p:nvGraphicFramePr>
        <p:xfrm>
          <a:off x="6553080" y="3279600"/>
          <a:ext cx="1828800" cy="18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3279600"/>
                    <a:ext cx="1828800" cy="18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2"/>
          <p:cNvGraphicFramePr/>
          <p:nvPr/>
        </p:nvGraphicFramePr>
        <p:xfrm>
          <a:off x="5943600" y="1752480"/>
          <a:ext cx="1900080" cy="19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1752480"/>
                    <a:ext cx="190008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5"/>
          <p:cNvGraphicFramePr/>
          <p:nvPr/>
        </p:nvGraphicFramePr>
        <p:xfrm>
          <a:off x="6095880" y="4879800"/>
          <a:ext cx="1447920" cy="129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4879800"/>
                    <a:ext cx="1447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Oval 97"/>
          <p:cNvSpPr/>
          <p:nvPr/>
        </p:nvSpPr>
        <p:spPr>
          <a:xfrm>
            <a:off x="990720" y="4191120"/>
            <a:ext cx="1066680" cy="2286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71" name="Oval 98"/>
          <p:cNvSpPr/>
          <p:nvPr/>
        </p:nvSpPr>
        <p:spPr>
          <a:xfrm>
            <a:off x="914400" y="5257800"/>
            <a:ext cx="152388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72" name="Oval 99"/>
          <p:cNvSpPr/>
          <p:nvPr/>
        </p:nvSpPr>
        <p:spPr>
          <a:xfrm>
            <a:off x="990720" y="3048120"/>
            <a:ext cx="1523880" cy="3045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73" name="Oval 101"/>
          <p:cNvSpPr/>
          <p:nvPr/>
        </p:nvSpPr>
        <p:spPr>
          <a:xfrm>
            <a:off x="2743200" y="1371600"/>
            <a:ext cx="7621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</p:txBody>
      </p:sp>
      <p:pic>
        <p:nvPicPr>
          <p:cNvPr id="74" name="Picture 10" descr=""/>
          <p:cNvPicPr/>
          <p:nvPr/>
        </p:nvPicPr>
        <p:blipFill>
          <a:blip r:embed="rId7"/>
          <a:stretch/>
        </p:blipFill>
        <p:spPr>
          <a:xfrm>
            <a:off x="7315200" y="6629400"/>
            <a:ext cx="1828800" cy="27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5"/>
          <p:cNvGraphicFramePr/>
          <p:nvPr/>
        </p:nvGraphicFramePr>
        <p:xfrm>
          <a:off x="1828800" y="1847880"/>
          <a:ext cx="5497560" cy="38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847880"/>
                    <a:ext cx="5497560" cy="3867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7" name="Rectangle 8"/>
          <p:cNvSpPr/>
          <p:nvPr/>
        </p:nvSpPr>
        <p:spPr>
          <a:xfrm>
            <a:off x="6705720" y="25146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6781680" y="25146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85</a:t>
            </a:r>
            <a:endParaRPr b="0" lang="en-US" sz="12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795960" y="457200"/>
            <a:ext cx="775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cc0000"/>
                </a:solidFill>
                <a:latin typeface="Comic Sans MS"/>
              </a:rPr>
              <a:t>Loco-regional recurrence free survival  </a:t>
            </a:r>
            <a:endParaRPr b="0" lang="en-US" sz="3200" spc="-1" strike="noStrike">
              <a:solidFill>
                <a:srgbClr val="000000"/>
              </a:solidFill>
              <a:latin typeface="Californian FB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3"/>
          <a:stretch/>
        </p:blipFill>
        <p:spPr>
          <a:xfrm>
            <a:off x="0" y="6629400"/>
            <a:ext cx="1828800" cy="277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382280" y="5987880"/>
            <a:ext cx="29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Median follow-up 55 months</a:t>
            </a:r>
            <a:endParaRPr b="0" lang="en-US" sz="16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1981080"/>
            <a:ext cx="34290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83" name=""/>
          <p:cNvSpPr/>
          <p:nvPr/>
        </p:nvSpPr>
        <p:spPr>
          <a:xfrm>
            <a:off x="3577320" y="1066680"/>
            <a:ext cx="199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ll Masaoka stages</a:t>
            </a:r>
            <a:endParaRPr b="0" lang="en-US" sz="1600" spc="-1" strike="noStrike">
              <a:solidFill>
                <a:srgbClr val="000000"/>
              </a:solidFill>
              <a:latin typeface="Californian FB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5"/>
          <p:cNvGraphicFramePr/>
          <p:nvPr/>
        </p:nvGraphicFramePr>
        <p:xfrm>
          <a:off x="1828800" y="1905120"/>
          <a:ext cx="5486400" cy="386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905120"/>
                    <a:ext cx="5486400" cy="3863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Text Box 7"/>
          <p:cNvSpPr/>
          <p:nvPr/>
        </p:nvSpPr>
        <p:spPr>
          <a:xfrm>
            <a:off x="6553440" y="22399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334120" y="289548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68</a:t>
            </a:r>
            <a:endParaRPr b="0" lang="en-US" sz="12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6705720" y="29718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6705720" y="29718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70</a:t>
            </a:r>
            <a:endParaRPr b="0" lang="en-US" sz="12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2800440" y="1066680"/>
            <a:ext cx="38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ccording to Masaoka stage of disease</a:t>
            </a:r>
            <a:endParaRPr b="0" lang="en-US" sz="1600" spc="-1" strike="noStrike">
              <a:solidFill>
                <a:srgbClr val="000000"/>
              </a:solidFill>
              <a:latin typeface="Californian FB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3"/>
          <a:stretch/>
        </p:blipFill>
        <p:spPr>
          <a:xfrm>
            <a:off x="0" y="6629400"/>
            <a:ext cx="1828800" cy="277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124080" y="1981080"/>
            <a:ext cx="34290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795960" y="457200"/>
            <a:ext cx="775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cc0000"/>
                </a:solidFill>
                <a:latin typeface="Comic Sans MS"/>
              </a:rPr>
              <a:t>Loco-regional recurrence free survival  </a:t>
            </a:r>
            <a:endParaRPr b="0" lang="en-US" sz="32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94" name=""/>
          <p:cNvSpPr/>
          <p:nvPr/>
        </p:nvSpPr>
        <p:spPr>
          <a:xfrm>
            <a:off x="4382280" y="5987880"/>
            <a:ext cx="29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Median follow-up 55 months</a:t>
            </a:r>
            <a:endParaRPr b="0" lang="en-US" sz="16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95" name=""/>
          <p:cNvSpPr/>
          <p:nvPr/>
        </p:nvSpPr>
        <p:spPr>
          <a:xfrm>
            <a:off x="4876920" y="4495680"/>
            <a:ext cx="137160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3"/>
          <p:cNvGraphicFramePr/>
          <p:nvPr/>
        </p:nvGraphicFramePr>
        <p:xfrm>
          <a:off x="1752480" y="1809720"/>
          <a:ext cx="5486400" cy="38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809720"/>
                    <a:ext cx="5486400" cy="3828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8" name="Oval 4"/>
          <p:cNvSpPr/>
          <p:nvPr/>
        </p:nvSpPr>
        <p:spPr>
          <a:xfrm>
            <a:off x="4572000" y="4343400"/>
            <a:ext cx="129528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706080" y="198108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607080" y="2666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2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6629400" y="236232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733560" y="345924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rurgia</a:t>
            </a:r>
            <a:endParaRPr b="0" lang="en-US" sz="12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905120" y="1066680"/>
            <a:ext cx="541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ccording to type of surgery in Masaoka stage II-III </a:t>
            </a:r>
            <a:endParaRPr b="0" lang="en-US" sz="1600" spc="-1" strike="noStrike">
              <a:solidFill>
                <a:srgbClr val="000000"/>
              </a:solidFill>
              <a:latin typeface="Californian FB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3"/>
          <a:stretch/>
        </p:blipFill>
        <p:spPr>
          <a:xfrm>
            <a:off x="0" y="6629400"/>
            <a:ext cx="1828800" cy="277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48120" y="1905120"/>
            <a:ext cx="3429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106" name=""/>
          <p:cNvSpPr/>
          <p:nvPr/>
        </p:nvSpPr>
        <p:spPr>
          <a:xfrm>
            <a:off x="4230000" y="5943600"/>
            <a:ext cx="29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Median follow-up 55 months</a:t>
            </a:r>
            <a:endParaRPr b="0" lang="en-US" sz="16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719640" y="457200"/>
            <a:ext cx="775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cc0000"/>
                </a:solidFill>
                <a:latin typeface="Comic Sans MS"/>
              </a:rPr>
              <a:t>Loco-regional recurrence free survival  </a:t>
            </a:r>
            <a:endParaRPr b="0" lang="en-US" sz="3200" spc="-1" strike="noStrike">
              <a:solidFill>
                <a:srgbClr val="000000"/>
              </a:solidFill>
              <a:latin typeface="Californian FB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Object 3"/>
          <p:cNvGraphicFramePr/>
          <p:nvPr/>
        </p:nvGraphicFramePr>
        <p:xfrm>
          <a:off x="1752480" y="1752480"/>
          <a:ext cx="5791320" cy="40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752480"/>
                    <a:ext cx="5791320" cy="4024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0" name="Text Box 4"/>
          <p:cNvSpPr/>
          <p:nvPr/>
        </p:nvSpPr>
        <p:spPr>
          <a:xfrm>
            <a:off x="6934320" y="33526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3</a:t>
            </a:r>
            <a:endParaRPr b="0" lang="en-US" sz="12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552760" y="411120"/>
            <a:ext cx="42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00"/>
                </a:solidFill>
                <a:latin typeface="Comic Sans MS"/>
              </a:rPr>
              <a:t>Disease free survival </a:t>
            </a:r>
            <a:endParaRPr b="0" lang="en-US" sz="3200" spc="-1" strike="noStrike">
              <a:solidFill>
                <a:srgbClr val="000000"/>
              </a:solidFill>
              <a:latin typeface="Californian FB"/>
            </a:endParaRPr>
          </a:p>
        </p:txBody>
      </p:sp>
      <p:pic>
        <p:nvPicPr>
          <p:cNvPr id="112" name="Picture 10" descr=""/>
          <p:cNvPicPr/>
          <p:nvPr/>
        </p:nvPicPr>
        <p:blipFill>
          <a:blip r:embed="rId3"/>
          <a:stretch/>
        </p:blipFill>
        <p:spPr>
          <a:xfrm>
            <a:off x="0" y="6629400"/>
            <a:ext cx="1828800" cy="277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230000" y="5943600"/>
            <a:ext cx="29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Median follow-up 55 months</a:t>
            </a:r>
            <a:endParaRPr b="0" lang="en-US" sz="16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114" name=""/>
          <p:cNvSpPr/>
          <p:nvPr/>
        </p:nvSpPr>
        <p:spPr>
          <a:xfrm>
            <a:off x="3577320" y="1035000"/>
            <a:ext cx="199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ll Masaoka stages</a:t>
            </a:r>
            <a:endParaRPr b="0" lang="en-US" sz="16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1828800"/>
            <a:ext cx="2514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3"/>
          <p:cNvGraphicFramePr/>
          <p:nvPr/>
        </p:nvGraphicFramePr>
        <p:xfrm>
          <a:off x="1828800" y="1762200"/>
          <a:ext cx="571500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762200"/>
                    <a:ext cx="5715000" cy="4029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8" name="Text Box 4"/>
          <p:cNvSpPr/>
          <p:nvPr/>
        </p:nvSpPr>
        <p:spPr>
          <a:xfrm>
            <a:off x="6759720" y="26208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82</a:t>
            </a:r>
            <a:endParaRPr b="0" lang="en-US" sz="12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172200" y="3962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7</a:t>
            </a:r>
            <a:endParaRPr b="0" lang="en-US" sz="12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912000" y="44956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5</a:t>
            </a:r>
            <a:endParaRPr b="0" lang="en-US" sz="12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121" name="Oval 7"/>
          <p:cNvSpPr/>
          <p:nvPr/>
        </p:nvSpPr>
        <p:spPr>
          <a:xfrm>
            <a:off x="4724280" y="4724280"/>
            <a:ext cx="1447920" cy="38124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2647800" y="1035000"/>
            <a:ext cx="38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ccording to Masaoka stage of disease</a:t>
            </a:r>
            <a:endParaRPr b="0" lang="en-US" sz="1600" spc="-1" strike="noStrike">
              <a:solidFill>
                <a:srgbClr val="000000"/>
              </a:solidFill>
              <a:latin typeface="Californian FB"/>
            </a:endParaRPr>
          </a:p>
        </p:txBody>
      </p:sp>
      <p:pic>
        <p:nvPicPr>
          <p:cNvPr id="123" name="Picture 10" descr=""/>
          <p:cNvPicPr/>
          <p:nvPr/>
        </p:nvPicPr>
        <p:blipFill>
          <a:blip r:embed="rId3"/>
          <a:stretch/>
        </p:blipFill>
        <p:spPr>
          <a:xfrm>
            <a:off x="0" y="6629400"/>
            <a:ext cx="1828800" cy="277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230000" y="6019920"/>
            <a:ext cx="29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Median follow-up 55 months</a:t>
            </a:r>
            <a:endParaRPr b="0" lang="en-US" sz="16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552760" y="411120"/>
            <a:ext cx="42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00"/>
                </a:solidFill>
                <a:latin typeface="Comic Sans MS"/>
              </a:rPr>
              <a:t>Disease free survival </a:t>
            </a:r>
            <a:endParaRPr b="0" lang="en-US" sz="3200" spc="-1" strike="noStrike">
              <a:solidFill>
                <a:srgbClr val="000000"/>
              </a:solidFill>
              <a:latin typeface="Californian FB"/>
            </a:endParaRPr>
          </a:p>
        </p:txBody>
      </p:sp>
      <p:sp>
        <p:nvSpPr>
          <p:cNvPr id="126" name=""/>
          <p:cNvSpPr/>
          <p:nvPr/>
        </p:nvSpPr>
        <p:spPr>
          <a:xfrm>
            <a:off x="3657600" y="1828800"/>
            <a:ext cx="2666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fornian FB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C</cp:lastModifiedBy>
  <dcterms:modified xsi:type="dcterms:W3CDTF">2007-11-11T08:11:33Z</dcterms:modified>
  <cp:revision>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