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45E-B252-4384-9640-7B9C0667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245-6AAD-4F41-ADD0-C7F2FCE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B4E-7C4E-4882-B31B-0CE8BFCD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0DF-F9B8-43A7-920A-D2B17A42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4E5-2E70-4486-A8CD-251D1A86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D1D-488F-409A-BB03-A8DA5D53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BD3-40DE-4C7F-A56A-469D701A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5BE-58B2-4C17-BACF-11B9B060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0D0-32C7-4E9F-983B-582F445F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F00-42FD-42D8-ADE0-9C73D001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561-C426-4255-900A-AA537E7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057-A719-4982-A766-2275287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47F-7584-48D6-A50E-F58D352CB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010640" cy="144756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oterapia basata sulle evidenze: Testicolo (seminoma) Stadi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57320" y="4038120"/>
            <a:ext cx="7029360" cy="26672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idenze I ,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T su lomboaortici = RT su LA + iliaci 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(MRC trial JCO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20 Gy/10 fr.  =  30 Gy/15 f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(MRC/EORTC trial JCO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28880" y="2590920"/>
            <a:ext cx="7086600" cy="20822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adioterapia adiuvante nel seminoma stadio I. L’esperienza dell’Ospedale “Casa Sollievo della Sofferenza” di S.Giovanni Rotondo(FG)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.Parisi, A.Raguso, M.Troiano, T.Munafò, P.Corsa, S.Cossa, E.E.Piazzolla, A.Perrone, G.Sanpaolo, A.Canistro, A.Natuno, B.Rossini, F.Savino- (S.G.Rotondo/B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33440" y="4724280"/>
            <a:ext cx="6477120" cy="276444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Dog l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Sede recid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Grado tox. acuta e tardiva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6680" y="2454120"/>
            <a:ext cx="7010640" cy="18374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fficacia e tossicità della radioterapia adiuvante in una serie di 62 pazienti con seminoma allo stadio inizial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.Vischioni, B.A. Jereczek-Fossa, M.Trovò, D.Zerini, G.Ivaldi, A.Vavassori, O.De Cobelli, R.Orecchia ( IEO Milan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8880" y="4267080"/>
            <a:ext cx="7086600" cy="245448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62 / 46  pz.  trattati / valut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T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Times New Roman"/>
              </a:rPr>
              <a:t>dog leg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, 25-30 Gy(mean 25.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00ff00"/>
                </a:solidFill>
                <a:latin typeface="Times New Roman"/>
              </a:rPr>
              <a:t>EORTC QLQ-C30; MFI-20; IEEF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F.up mediano </a:t>
            </a: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18 mesi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( 3-72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DFS   100 %, 1 recidiva mediastino, 1 secondo tumore (HD cervic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27 % tox. 2 G.I., </a:t>
            </a: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no late (f.u bre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2743200"/>
            <a:ext cx="7010640" cy="18000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fficacia e tossicità della radioterapia adiuvante in una serie di 62 pazienti con seminoma allo stadio inizial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B.Vischioni, B.A. Jereczek-Fossa, M.Trovò, D.Zerini, G.Ivaldi, A.Vavassori, O.De Cobelli, R.Orecchia ( IEO Milan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7010640" cy="304056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F. up bre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&gt; Tox. ac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QLQ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6680" y="2133720"/>
            <a:ext cx="7010640" cy="18990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ffetti locali nella Radioterapia del Seminoma Testicolare               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.Ferrara, A.Maddeddu, S.Bresciani, F.Pistis, C.Airaldi, L.Mazzù, E.Garibaldi, R.Panaia, E.Orefici, P.Gabriele( Candiolo/Mauriziano Torino, Trento, Cagli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4005360"/>
            <a:ext cx="6934320" cy="287172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140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z.  trattati / valuta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32 % RT dog leg,  56 % RT lomboaor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21-43 Gy (mean 28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F.up mediano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79 mesi ( 1-336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2.8 % relapse e mts. rate , OS / DFS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98-95 % a 15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17 % tox. 2 G.I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., </a:t>
            </a:r>
            <a:r>
              <a:rPr b="1" lang="it-IT" sz="1800" spc="-1" strike="noStrike">
                <a:solidFill>
                  <a:srgbClr val="00cc00"/>
                </a:solidFill>
                <a:latin typeface="Times New Roman"/>
              </a:rPr>
              <a:t>2 % late G.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2.8 %  2° tumore a 14 anni (out of field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2743200"/>
            <a:ext cx="7010640" cy="194292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ffetti locali nella Radioterapia del Seminoma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Testicolar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.Ferrara, A.Maddeddu, S.Bresciani, F.Pistis, C.Airaldi, L.Mazzù, E.Garibaldi, R.Panaia, E.Orefici, P.Gabriele( Candiolo/Mauriziano Torino, Trento, Cagli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4952880"/>
            <a:ext cx="3810240" cy="129420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sede ricad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dog leg Vs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21932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2286000"/>
            <a:ext cx="7010280" cy="226476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adioterapia adiuvante nel seminoma stadio I : analisi retrospettiva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G.R. D’Agostino, M.Balducci, F.Marazzi, G.Mantini, S.Manfrida, G.Apicella, M.Massaccesi, N.Dinapoli, E.Mazzeo, M.A.Gambacorta, N.Cellini ( Univ.Cattolica Rom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165560"/>
            <a:ext cx="6934320" cy="271728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61  pz.  trattati / valut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88.5 % RT dog leg , 21-30 Gy / 150 cGy die (median 25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F.up median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81 mesi ( 3-155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OS / DF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100-94.6 % a 5 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9.8 % tox. 2 G.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3 %  relapse (out of field:N inguini, sovradiafram.,polmon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21932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2743200"/>
            <a:ext cx="7010280" cy="226476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adioterapia adiuvante nel seminoma stadio I : analisi retrospettiva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G.R. D’Agostino, M.Balducci, F.Marazzi, G.Mantini, S.Manfrida, G.Apicella, M.Massaccesi, N.Dinapoli, E.Mazzeo, M.A.Gambacorta, N.Cellini ( Univ.Cattolica Rom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14880" y="5105520"/>
            <a:ext cx="2514600" cy="157212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ertil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- Tox. Tard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2971800"/>
            <a:ext cx="712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Short- and Long-term Mortality With Localized Prostate Cancer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Arnaud Merglen, MD; Franz Schmidlin, MD; Gerald Fioretta, BSc; Helena M. Verkooijen, MD, PhD; Elisabetta Rapiti, MD, MPH; Roberto Zanetti, MD; Raymond Miralbell, MD; Christine Bouchardy, MD, MPH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</a:rPr>
              <a:t>Arch Intern Med.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 2007;167:1944-195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09800" y="2590920"/>
            <a:ext cx="712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Short- and Long-term Mortality With Localized Prostate Cancer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657600"/>
            <a:ext cx="7010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Ten-year specific survival was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83% (95% confidence interval [CI], 73%-93%), 75% (95% CI, 67%-83%),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d 72% (95% CI, 66%-80%) for patients who underwent surgery,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radiotherapy, and watchful waiting, respectively (</a:t>
            </a:r>
            <a:r>
              <a:rPr b="1" i="1" lang="it-IT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 &lt; .00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28880" y="52578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The increased mortality associated with radiotherapy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and watchful waiting was primarily observed in patients younger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than 70 years and in patients with poorly differentiated tumors</a:t>
            </a:r>
            <a:r>
              <a:rPr b="1" lang="it-IT" sz="1800" spc="-1" strike="noStrike" baseline="30000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(Gleason score &gt; 7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685800" y="2052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0"/>
            <a:ext cx="7010280" cy="3057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654"/>
                </a:solidFill>
                <a:latin typeface="Times New Roman"/>
              </a:rPr>
              <a:t>Carcinoma prostatico localizzato trattato con 3DCRT sola o con prostatectomia radicale + RT postop. o con BT sola. Risultati e tossicità in pz.&lt; 65 anni. Un’esperienza di 10 anni presso il Dip.Oncol.di Pistoia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5654"/>
                </a:solidFill>
                <a:latin typeface="Times New Roman"/>
              </a:rPr>
              <a:t>A.Chiavacci, M.Stefanacci, E.Vezzani, L.Orlandini, G.Canovaro (Pisto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819520"/>
          <a:ext cx="7010280" cy="3911400"/>
        </p:xfrm>
        <a:graphic>
          <a:graphicData uri="http://schemas.openxmlformats.org/drawingml/2006/table">
            <a:tbl>
              <a:tblPr/>
              <a:tblGrid>
                <a:gridCol w="1519200"/>
                <a:gridCol w="1986120"/>
                <a:gridCol w="1869840"/>
                <a:gridCol w="1635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DCRT(64-76 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P + PEB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50-70 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T (145 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 U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anni 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an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 anni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0 m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6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X. G2/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.I.-G.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- 5 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-  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it-IT" sz="1800" spc="-1" strike="noStrike">
                          <a:solidFill>
                            <a:srgbClr val="99ffcc"/>
                          </a:solidFill>
                          <a:latin typeface="Times New Roman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68580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2438280"/>
            <a:ext cx="7010280" cy="30632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rcinoma prostatico localizzato trattato con 3DCRT sola o con prostatectomia radicale + RT postop. o con BT sola. Risultati e tossicità in pz.&lt; 65 anni. Un’esperienza di 10 anni presso il Dip.Oncol.di Pistoia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.Chiavacci, M.Stefanacci, E.Vezzani, L.Orlandini, G.Canov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( Pisto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105520"/>
            <a:ext cx="3581280" cy="398988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Basso numero  paz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ox. tardiva ?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028880" y="1981080"/>
            <a:ext cx="7086600" cy="186192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T interstiziale e RT conformazionale nel trattamento del carcinoma prostatico localizzato con età &lt; 65 anni               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.Ciammella, P.Franco, A.Guarneri, G.Beltramo, F.Munoz, G.Casetta, A.Tizzani, U.Ricardi ( Univ. Torin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66680" y="3809880"/>
          <a:ext cx="7010280" cy="2895480"/>
        </p:xfrm>
        <a:graphic>
          <a:graphicData uri="http://schemas.openxmlformats.org/drawingml/2006/table">
            <a:tbl>
              <a:tblPr/>
              <a:tblGrid>
                <a:gridCol w="2070000"/>
                <a:gridCol w="2710080"/>
                <a:gridCol w="223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DCRT ( 70-78 Gy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T ( 145 Gy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 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dio (mes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6 (12-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1.3 (14-8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95 % (1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X.                acuta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.I./G.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1-3 %  G2</a:t>
                      </a:r>
                      <a:r>
                        <a:rPr b="1" lang="it-IT" sz="16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1 %   G2</a:t>
                      </a: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it-IT" sz="20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3 %  G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28880" y="2590920"/>
            <a:ext cx="7086600" cy="23256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T interstiziale e RT conformazionale nel trattamento del carcinoma prostatico localizzato con età &lt; 65 anni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.Ciammella, P.Franco, A.Guarneri, G.Beltramo, F.Munoz, G.Casetta, A.Tizzani, U.Ricardi ( Univ. Torino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724280"/>
            <a:ext cx="3962520" cy="308376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sso numero paz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. up brev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potenza ?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28880" y="685800"/>
            <a:ext cx="7086600" cy="232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654"/>
                </a:solidFill>
                <a:latin typeface="Times New Roman"/>
              </a:rPr>
              <a:t>Carcinoma prostatico intracapsulare in pazienti di età &lt;/= 70 anni: studio retrospettivo di RT conformazional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5654"/>
                </a:solidFill>
                <a:latin typeface="Times New Roman"/>
              </a:rPr>
              <a:t>R.Bellavita, M.Massetti, G.Capezzali, L.Draghini, F.Stracci, F.Fusconi, M.Lupattelli, A.Frattegiani, C.Aristei (  Perug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28880" y="2743200"/>
          <a:ext cx="7086600" cy="3917880"/>
        </p:xfrm>
        <a:graphic>
          <a:graphicData uri="http://schemas.openxmlformats.org/drawingml/2006/table">
            <a:tbl>
              <a:tblPr/>
              <a:tblGrid>
                <a:gridCol w="1522440"/>
                <a:gridCol w="556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DCRT (66-76 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178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T1-2) età media 69 a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 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5.7 anni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 9 mesi-18.5 aa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 % ( 5 anni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X. tardiva               G.U./G.I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28880" y="2743200"/>
            <a:ext cx="7086600" cy="23256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rcinoma prostatico intracapsulare in pazienti di età &lt;/= 70 anni: studio retrospettivo di RT conformazional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.Bellavita, M.Massetti, G.Capezzali, L.Draghini, F.Stracci, F.Fusconi, M.Lupattelli, A.Frattegiani, C.Aristei ( Perug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952880"/>
            <a:ext cx="4267440" cy="327636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83 % dose &lt;/= 70 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66 % 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mancano dati su potenza sessuale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28880" y="685800"/>
            <a:ext cx="7086600" cy="232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654"/>
                </a:solidFill>
                <a:latin typeface="Times New Roman"/>
              </a:rPr>
              <a:t>Strategia di trattamento del tumore prostatico intracapsulare nei pazienti di età inferiore e superiore ai 65 anni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5654"/>
                </a:solidFill>
                <a:latin typeface="Times New Roman"/>
              </a:rPr>
              <a:t>M.Gaetano, A.Ferro, D.Borrelli, V.Ravo, G.Panelli, P.Muto (Napo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28880" y="2728800"/>
          <a:ext cx="7086240" cy="4129200"/>
        </p:xfrm>
        <a:graphic>
          <a:graphicData uri="http://schemas.openxmlformats.org/drawingml/2006/table">
            <a:tbl>
              <a:tblPr/>
              <a:tblGrid>
                <a:gridCol w="1706400"/>
                <a:gridCol w="5379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DCRT (61-79 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/ - OT ( 76.5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65 aa.                                          &gt; 65 a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                                                  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 UP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 mesi (18-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%                                           97.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.9 %                                         91.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.4 %                                         97.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5  %                                        4.3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5334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480060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028880" y="2666880"/>
            <a:ext cx="7086600" cy="23256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rategia di trattamento del tumore prostatico intracapsulare nei pazienti di età inferiore e superiore ai 65 anni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.Gaetano, A.Ferro, D.Borrelli, V.Ravo, G.Panelli, P.Muto (Napo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4572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47840" y="5105520"/>
            <a:ext cx="4648320" cy="326196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76 % OT  lo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Tossicità ?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49400" y="12600"/>
            <a:ext cx="7180200" cy="6845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90720" y="914400"/>
            <a:ext cx="7238880" cy="232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5654"/>
                </a:solidFill>
                <a:latin typeface="Times New Roman"/>
              </a:rPr>
              <a:t>Brachiterapia prostatica interstiziale: perché è una buona alternativa nel trattare pazienti &lt; 65 affetti da ca prostatico intracapsulare ? Una risposta dosimetrica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5654"/>
                </a:solidFill>
                <a:latin typeface="Times New Roman"/>
              </a:rPr>
              <a:t>M.Mignogna, E.Lorenzini, M.Paoluzzi, M.Quattrocchi, N.Pinzi, F.Ducci (Luc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28880" y="3200400"/>
          <a:ext cx="7124400" cy="3433680"/>
        </p:xfrm>
        <a:graphic>
          <a:graphicData uri="http://schemas.openxmlformats.org/drawingml/2006/table">
            <a:tbl>
              <a:tblPr/>
              <a:tblGrid>
                <a:gridCol w="1714320"/>
                <a:gridCol w="541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-125 ( 145 Gy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 (40 &lt; 65 aa.) basso rischio, &lt; 40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ed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uida</a:t>
                      </a:r>
                      <a:r>
                        <a:rPr b="1" lang="it-IT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uoroscopica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uida 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 /CT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3 Gy( 84 %)                     137 Gy( 94.5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 %                                        8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50 bul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0 %( media 23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25 bul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       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60 % (media 32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257800" y="41148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15920" y="0"/>
            <a:ext cx="7077240" cy="6837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28880" y="2590920"/>
            <a:ext cx="7086600" cy="23256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rachiterapia prostatica interstiziale: perché è una buona alternativa nel trattare pazienti &lt; 65 affetti da ca prostatico intracapsulare ? Una risposta dosimetrica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.Mignogna, E.Lorenzini, M.Paoluzzi, M.Quattrocchi, N.Pinzi, F.Ducci (Luc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5105520"/>
            <a:ext cx="3276720" cy="413244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correlazione clinic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90560"/>
            <a:ext cx="7010640" cy="144756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oterapia basata sulle evidenze: Testicolo (seminoma) Stadi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7320" y="4038120"/>
            <a:ext cx="7029360" cy="26672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idenze I ,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T su lomboaortici = RT su LA + iliaci 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(MRC trial JCO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20 Gy/10 fr.  =  30 Gy/15 f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(MRC/EORTC trial JCO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28880" y="2743200"/>
            <a:ext cx="7084800" cy="155628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dioterapia basata sulle evidenze: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sticolo (seminoma) Stadi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4267080"/>
            <a:ext cx="7010640" cy="22860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chio cardiovascolare ( vincoli dose-volume per cuore e rene ! ) a 10-15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chio II°tumore(rene, colon-retto,LN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5 anni (1.8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752480"/>
            <a:ext cx="40384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T lomboaor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20 Gy/15 fr. ( I ,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2743200"/>
            <a:ext cx="7010640" cy="155628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RT lomboaor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20 Gy/15 fr. ( I ,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3600" y="434340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3600" y="609588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886200"/>
            <a:ext cx="4191120" cy="131040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1 ciclo Carboplati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(= recidiva locale a 4 anni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( I , B )           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Oliver, Lancet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66880" y="5334120"/>
            <a:ext cx="4191120" cy="137160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Sorveglianza ( 5 aa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se T&lt; 4 cm senza invasione rete testi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( III , B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1028880" y="3200400"/>
          <a:ext cx="7086600" cy="3490920"/>
        </p:xfrm>
        <a:graphic>
          <a:graphicData uri="http://schemas.openxmlformats.org/drawingml/2006/table">
            <a:tbl>
              <a:tblPr/>
              <a:tblGrid>
                <a:gridCol w="1877760"/>
                <a:gridCol w="2692440"/>
                <a:gridCol w="251640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erienze a lu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low-up sempl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° tu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83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ssicità li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llow-up sempl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perienze lim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rvegli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ttamento adegu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ll’8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ngo follow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iance, 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066680" y="2743200"/>
            <a:ext cx="7010640" cy="52056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sticolo (seminoma) Stadi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2438280"/>
            <a:ext cx="7162560" cy="113040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voluzione del trattamento del seminoma testicolare              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.Bianchi; A.Fontana; M.Leggio; F.Serraino; M.D’Urso; G.Arcangeli (Lat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28880" y="3429000"/>
          <a:ext cx="7086600" cy="3306600"/>
        </p:xfrm>
        <a:graphic>
          <a:graphicData uri="http://schemas.openxmlformats.org/drawingml/2006/table">
            <a:tbl>
              <a:tblPr/>
              <a:tblGrid>
                <a:gridCol w="1535040"/>
                <a:gridCol w="2008080"/>
                <a:gridCol w="1889280"/>
                <a:gridCol w="165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T  Dog l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T  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/ -  2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/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 UP (mes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it-IT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0 /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/ 8( N iliac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 = 0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X. G.I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% 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2 % 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 % G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0 % 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2052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2782800"/>
            <a:ext cx="7162560" cy="17402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voluzione del trattamento del seminoma testicolare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.Bianchi; A.Fontana; M.Leggio; F.Serraino; M.D’Urso; G.Arcangeli (Lati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438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04840" y="4114800"/>
            <a:ext cx="6934320" cy="268920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F. up breve nei  LA e &lt; 25 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F.up breve per tox. tardiva i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&gt; Tox. in dog l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6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0" b="8892"/>
          <a:stretch/>
        </p:blipFill>
        <p:spPr>
          <a:xfrm>
            <a:off x="1033560" y="0"/>
            <a:ext cx="7076880" cy="6837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28880" y="2590920"/>
            <a:ext cx="7086600" cy="1990440"/>
          </a:xfrm>
          <a:prstGeom prst="rect">
            <a:avLst/>
          </a:prstGeom>
          <a:solidFill>
            <a:srgbClr val="0064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adioterapia adiuvante nel seminoma stadio I. L’esperienza dell’Ospedale “Casa Sollievo della Sofferenza” di S.Giovanni Rotondo (FG)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.Parisi, A.Raguso, M.Troiano, T.Munafò, P.Corsa, S.Cossa, E.E.Piazzolla, A.Perrone, G.Sanpaolo, A.Canistro, A.Natuno, B.Rossini, F.Savino- (S.G.Rotondo/Ba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04840" y="4495680"/>
            <a:ext cx="6934320" cy="2253600"/>
          </a:xfrm>
          <a:prstGeom prst="rect">
            <a:avLst/>
          </a:prstGeom>
          <a:solidFill>
            <a:srgbClr val="006462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113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105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pz.  trattati / valutabili ,   94 pz. RT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Times New Roman"/>
              </a:rPr>
              <a:t>dog l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25-36 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F.up medio/median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112/101 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SS / OS      98-96 %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cc00"/>
                </a:solidFill>
                <a:latin typeface="Times New Roman"/>
              </a:rPr>
              <a:t>10 a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3 pz. (3 %) recidive , 2-3 % late to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37:46Z</dcterms:created>
  <dc:creator>Radioterapia</dc:creator>
  <dc:description/>
  <dc:language>en-US</dc:language>
  <cp:lastModifiedBy>TC</cp:lastModifiedBy>
  <dcterms:modified xsi:type="dcterms:W3CDTF">2007-11-11T11:27:32Z</dcterms:modified>
  <cp:revision>112</cp:revision>
  <dc:subject/>
  <dc:title>Presentazione di PowerPoint</dc:title>
</cp:coreProperties>
</file>