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83F-9B80-4E80-8272-BF38CB01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6A9-7FCE-4819-8912-7642719C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C30-FA3F-4DAD-A24B-0B2A69B7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310-F44B-4B4D-9F88-4729EE41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F0F-CBAA-4B1D-AE31-7B7F5315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7E9-1C82-47F5-A5B5-BA46FA7F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6B1-A02D-4CDB-8597-79873DB3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B3C-DC97-4EA5-8AF4-46892963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E2B-3EB6-4E5E-BE0F-6CAD008F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302-6AC6-484A-8715-D876117D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479-236F-424A-B337-B31DE800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F85-4F37-4E21-A5CB-DA61E4EC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0E6B-9AF2-4CCE-8DB4-584A69AF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06480"/>
            <a:ext cx="54007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QUESTIONARIO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IEF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1125360"/>
            <a:ext cx="2644920" cy="446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920" y="1841400"/>
            <a:ext cx="3887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RIMA DEL TRATT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7080" y="191628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mic Sans MS"/>
              </a:rPr>
              <a:t>Punteggio medio (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5800" y="2708280"/>
            <a:ext cx="2158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,4 (5-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2635200"/>
            <a:ext cx="352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1% dei pazienti si dichiarava sessualmente at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4002120"/>
            <a:ext cx="3095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DOPO 24 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407664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mic Sans MS"/>
              </a:rPr>
              <a:t>Punteggio medio (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4795920"/>
            <a:ext cx="2086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2,2 (5-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4724280"/>
            <a:ext cx="352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3% dei pazienti si dichiarava sessualmente at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2360" y="1557360"/>
            <a:ext cx="58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umero di paz sessualmente attivi a distanza di 2 anni si mantiene elevato (pur in presenza di una riduzione complessiva della funzione erettiv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2997360"/>
            <a:ext cx="612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Frequente il ricorso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(60%)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alla terapia farmacologica orale con inibitori della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5-P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4653000"/>
            <a:ext cx="59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Variabili come età e funzione sessuale pretrattamento rendono non omogeneo il campione statistico e solo un aumento del numero di casi rende maggiormente attendibili queste considerazioni prelimin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401760"/>
            <a:ext cx="2519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side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24480" y="1125360"/>
            <a:ext cx="26449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7:49:36Z</dcterms:created>
  <dc:creator>a.chiavacci</dc:creator>
  <dc:description/>
  <dc:language>en-US</dc:language>
  <cp:lastModifiedBy>TC</cp:lastModifiedBy>
  <dcterms:modified xsi:type="dcterms:W3CDTF">2007-11-11T12:44:42Z</dcterms:modified>
  <cp:revision>10</cp:revision>
  <dc:subject/>
  <dc:title>Diapositiva 1</dc:title>
</cp:coreProperties>
</file>