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C3D0-F14A-4ABB-80A9-9C7E642E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8DF5-E7F9-43C0-A1C3-8FABA2FD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1FCB-EE0E-4D59-B06D-13AAAFD6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DF5B-0BA7-49B5-AB83-FFC3A3E4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7A20-4E3C-4FBA-878E-701B7B1D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71B-BF40-4A67-B18B-32F11F0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B470-66D1-480C-8459-E1F1AEC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BF85-2D85-41D8-9C79-2BFF072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B681-9FA1-422D-AA8E-58295064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BBB5-1F30-4CB0-8D14-38FD1E68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E636-F9C5-4D55-8938-FC26AF6C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0C03-9F0F-44BD-9F00-58FF5FA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280-D0A4-457D-9DC6-B0B4F5F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4E90-B43B-4A7A-AF70-0A1470B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DCF-39AF-49D4-9446-9B03345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985-BB17-4312-B9D1-06392562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3E8-C411-4EEF-8561-E586D81A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B4F0-6595-4558-B8D1-ACE7ABD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1CEE-4FD6-411B-A23C-E159EFD3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7EB3-EEBB-4391-85D1-D6956566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B486-A4AD-4FB7-95C3-39FD5F5A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42FC-7BFD-4C21-A6D4-E9B65E0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23AC-D015-43A9-AAB3-06F8415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E290-4710-4C39-BD0A-BDF5856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963-EE3A-4659-92A6-608980F5F35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420F-ED14-4482-9F7F-84F297F15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5807-1648-4203-9626-60F7C144F27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F361-4479-4E31-B53C-519C988A3E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TREATMENT OF INTERMEDIATE RISK PROSTATE CANCER: </a:t>
            </a:r>
            <a:br>
              <a:rPr sz="3600"/>
            </a:b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TOXICITY EVALUATION OF AN HYPOFRACTIONATED RADIOTHERAPY SCHEDUL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2491920"/>
            <a:ext cx="8352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i="1" lang="it-IT" sz="2000" spc="-1" strike="noStrike">
                <a:solidFill>
                  <a:srgbClr val="ffffff"/>
                </a:solidFill>
                <a:latin typeface="Garamond"/>
              </a:rPr>
              <a:t>M. Di Genesio Pagliuca, A. Piscopo, P. Bonfili, M. Di Staso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i="1" lang="it-IT" sz="2000" spc="-1" strike="noStrike">
                <a:solidFill>
                  <a:srgbClr val="ffffff"/>
                </a:solidFill>
                <a:latin typeface="Garamond"/>
              </a:rPr>
              <a:t>P. Franzese,  F. Soldà,  V. Tombolini</a:t>
            </a: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UNIVERSITA’ DEGLI STUDI DI L’AQUI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FACOLTA’ DI MEDICINA E CHIRURG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CATTEDRA DI RADIOTERAP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U.O.C. RADIOTERAP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Garamond"/>
              </a:rPr>
              <a:t>OSPEDALE SAN SALVATO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Garamond"/>
              </a:rPr>
              <a:t>L’AQUILA, 4 LUGLIO 200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200" y="4292640"/>
            <a:ext cx="1647720" cy="217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59520" y="4653000"/>
            <a:ext cx="200520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84CB-E4F6-4BFC-A91E-6122258BA1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3479-346A-46B7-9B19-23056944D2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" y="2743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DEFINIZIONE DEI VOLUMI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TV 2: prostata e vescicole sem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TV 1: prost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TV = CTV + 6 mm di margine posteriore e 8 mm di margine nelle altre direzion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NO IRRADIAZION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ELV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74" t="1563" r="3516" b="1610"/>
          <a:stretch/>
        </p:blipFill>
        <p:spPr>
          <a:xfrm>
            <a:off x="4356000" y="1557360"/>
            <a:ext cx="46054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CAC9-F31C-4D3A-887F-F1CDA60721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4FD45-DC90-4CF1-B7D7-C153053D78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640" y="-10044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TECNICA DI IRRADIAZION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Tecnica a 5-6 campi coplanari: (AP), OBL ANT DX, OBL ANT SIN, LAT DX, LAT SIN, (OBL POST DX E SIN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Energia impiegata: Fotoni 6 MV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Prescrizione della dose: 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ICRU-50 reference poi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PTV compreso nell’isodose del 95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1175" b="3318"/>
          <a:stretch/>
        </p:blipFill>
        <p:spPr>
          <a:xfrm>
            <a:off x="4643280" y="1125360"/>
            <a:ext cx="4318200" cy="2622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2967" r="1775" b="771"/>
          <a:stretch/>
        </p:blipFill>
        <p:spPr>
          <a:xfrm>
            <a:off x="4643280" y="3860640"/>
            <a:ext cx="4318200" cy="26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650E-084C-4CB2-88D0-8A35CAAD32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831F0-BAAF-458E-BF92-45FB57D1E9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CELTA DEL FRAZION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ff"/>
                </a:solidFill>
                <a:latin typeface="Garamond"/>
              </a:rPr>
              <a:t>CTV 2: dose totale di 4344 cGy in 12 frazioni da 362 cGy</a:t>
            </a:r>
            <a:r>
              <a:rPr b="0" lang="it-IT" sz="3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it-IT" sz="3800" spc="-1" strike="noStrike" u="sng">
                <a:solidFill>
                  <a:srgbClr val="ffcc00"/>
                </a:solidFill>
                <a:uFillTx/>
                <a:latin typeface="Garamond"/>
              </a:rPr>
              <a:t>3/week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ff"/>
                </a:solidFill>
                <a:latin typeface="Garamond"/>
              </a:rPr>
              <a:t>CTV 1: dose totale di 5430 cGy in 15 frazioni da 362 cGy,</a:t>
            </a:r>
            <a:r>
              <a:rPr b="0" lang="it-IT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it-IT" sz="3800" spc="-1" strike="noStrike" u="sng">
                <a:solidFill>
                  <a:srgbClr val="ffcc00"/>
                </a:solidFill>
                <a:uFillTx/>
                <a:latin typeface="Garamond"/>
              </a:rPr>
              <a:t>3/week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2BD5-0B53-450A-AC82-49F368B42C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32FF2-21B8-4E20-806F-C429E3EDBD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00" y="826920"/>
            <a:ext cx="8745480" cy="490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3681360"/>
            <a:ext cx="8569080" cy="17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520" y="5803920"/>
            <a:ext cx="831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aramond"/>
              </a:rPr>
              <a:t>Fowler JF et al. Int J Radiat Oncol Biol Phys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836640"/>
            <a:ext cx="3313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195680" y="374760"/>
            <a:ext cx="513720" cy="420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97440" y="138240"/>
            <a:ext cx="2258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NTD = 71.8 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A01F-9635-4278-ACE3-F7791F97352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18584-B77C-422A-97EE-A77106B40F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5480" y="133200"/>
            <a:ext cx="9413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ECCESSIVA RIDUZIONE DEL TEMPO DI TRATTAMENTO</a:t>
            </a: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981000"/>
            <a:ext cx="252360" cy="719280"/>
          </a:xfrm>
          <a:prstGeom prst="downArrow">
            <a:avLst>
              <a:gd name="adj1" fmla="val 50000"/>
              <a:gd name="adj2" fmla="val 71255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12000" y="909720"/>
            <a:ext cx="252360" cy="718920"/>
          </a:xfrm>
          <a:prstGeom prst="downArrow">
            <a:avLst>
              <a:gd name="adj1" fmla="val 50000"/>
              <a:gd name="adj2" fmla="val 7122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360" y="1808280"/>
            <a:ext cx="425484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MITAZIONE DEL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IOSSIGEN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SSU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53440" y="1620720"/>
            <a:ext cx="47394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MITAZIONE D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IDISTRIBU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ELLE FASI SENSIBIL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L CICLO CELLU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5760" y="5183280"/>
            <a:ext cx="888156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MAGGIORE PROBABILITA’ DI SEQUELE TARD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(COMPONENTE SEQUENZI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it-IT" sz="1800" spc="-1" strike="noStrike">
                <a:solidFill>
                  <a:srgbClr val="ffffff"/>
                </a:solidFill>
                <a:latin typeface="Garamond"/>
              </a:rPr>
              <a:t>Heemsbergen WD et al. Int J Radiat Oncol Biol Phys</a:t>
            </a:r>
            <a:r>
              <a:rPr b="0" i="1" lang="it-IT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Garamond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4510080"/>
            <a:ext cx="252360" cy="719280"/>
          </a:xfrm>
          <a:prstGeom prst="downArrow">
            <a:avLst>
              <a:gd name="adj1" fmla="val 50000"/>
              <a:gd name="adj2" fmla="val 71255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3357720"/>
            <a:ext cx="252360" cy="718920"/>
          </a:xfrm>
          <a:prstGeom prst="downArrow">
            <a:avLst>
              <a:gd name="adj1" fmla="val 50000"/>
              <a:gd name="adj2" fmla="val 7122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6720" y="4124160"/>
            <a:ext cx="633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GNIFICATIVA TOSSICITA’ AC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7400" y="490680"/>
            <a:ext cx="27777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&lt; 4-5 SETTIMANE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4214-4723-444E-A5D2-6B5BE8EA254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53063-85BA-4E68-986C-58C7B7D18A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TERAPIA ORMONAL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Garamond"/>
              </a:rPr>
              <a:t>DURATA COMPLESSIVA 6 MESI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Garamond"/>
              </a:rPr>
              <a:t>3 SOMMINISTRAZIONI TRIMESTALI DI LH-RH ANALOGO (contrasto del flare up con antiandrogeno periferico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Garamond"/>
              </a:rPr>
              <a:t>RAZIONALE: MAGGIORE CONTROLLO LOCALE E BIOCHIMICO A 5 ANNI, CON MIGLIORAMENTO DELLA SOPRAVVIVENZA GLOBALE </a:t>
            </a:r>
            <a:r>
              <a:rPr b="1" i="1" lang="it-IT" sz="3000" spc="-1" strike="noStrike">
                <a:solidFill>
                  <a:srgbClr val="ffffff"/>
                </a:solidFill>
                <a:latin typeface="Garamond"/>
              </a:rPr>
              <a:t>(D’Amico et al. JAMA 200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42C2-0D58-403E-AED4-8C206506A3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3386A-F2DA-4223-B5C9-A919830AA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TOSSICITA’ GASTROINTESTINA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1969920"/>
          <a:ext cx="3600360" cy="3403800"/>
        </p:xfrm>
        <a:graphic>
          <a:graphicData uri="http://schemas.openxmlformats.org/drawingml/2006/table">
            <a:tbl>
              <a:tblPr/>
              <a:tblGrid>
                <a:gridCol w="1871640"/>
                <a:gridCol w="1728720"/>
              </a:tblGrid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81.4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18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88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1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96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3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3595680" cy="4507200"/>
        </p:xfrm>
        <a:graphic>
          <a:graphicData uri="http://schemas.openxmlformats.org/drawingml/2006/table">
            <a:tbl>
              <a:tblPr/>
              <a:tblGrid>
                <a:gridCol w="1798920"/>
                <a:gridCol w="1796760"/>
              </a:tblGrid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FFCF-5B60-448C-AEA7-028B22292C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2A53-663F-4B51-82D3-D4D315EC1B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71280" y="189000"/>
          <a:ext cx="954108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89000"/>
                    <a:ext cx="954108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B401-D171-4CF8-AADF-F1DF0BF8140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AF89C-73F2-4548-BF15-3D9CD8D372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TOSSICITA’ UROGENITALE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117880"/>
          <a:ext cx="3827520" cy="3398760"/>
        </p:xfrm>
        <a:graphic>
          <a:graphicData uri="http://schemas.openxmlformats.org/drawingml/2006/table">
            <a:tbl>
              <a:tblPr/>
              <a:tblGrid>
                <a:gridCol w="1882800"/>
                <a:gridCol w="1944720"/>
              </a:tblGrid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4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5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25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40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22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70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25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3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500720" y="1494000"/>
          <a:ext cx="4186080" cy="4527360"/>
        </p:xfrm>
        <a:graphic>
          <a:graphicData uri="http://schemas.openxmlformats.org/drawingml/2006/table">
            <a:tbl>
              <a:tblPr/>
              <a:tblGrid>
                <a:gridCol w="1787400"/>
                <a:gridCol w="2398680"/>
              </a:tblGrid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81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14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3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SE 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0=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1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2=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BA3E-8456-4CC1-A7FC-5E8580A100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AE3E6-682D-4A7F-8974-51D8AD573A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-298440" y="404640"/>
          <a:ext cx="9550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8440" y="404640"/>
                    <a:ext cx="9550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982E-5369-41C4-9B53-05DEFDFEE80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05A9E-633F-4189-838B-7EBC822D10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1557360"/>
          <a:ext cx="8497800" cy="4278240"/>
        </p:xfrm>
        <a:graphic>
          <a:graphicData uri="http://schemas.openxmlformats.org/drawingml/2006/table">
            <a:tbl>
              <a:tblPr/>
              <a:tblGrid>
                <a:gridCol w="2740680"/>
                <a:gridCol w="216000"/>
                <a:gridCol w="2921040"/>
                <a:gridCol w="26200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DIA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RI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NG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VO OR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OFAG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T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MME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 gior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19 gior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5-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-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95280" y="189000"/>
            <a:ext cx="82566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ffcc00"/>
                </a:solidFill>
                <a:latin typeface="Garamond"/>
              </a:rPr>
              <a:t>POTENTIAL DOUBLING TIME (Tpo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Garamond"/>
              </a:rPr>
              <a:t>PRETRATTAMENTO MISURATE IN BIOPSIE DI  TUMORE UMANO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Fowler JF, Brit J Radiol, 1989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373720"/>
            <a:ext cx="799308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AF3-0D78-4E2E-8F78-20F8F092FA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CF4E1-A8BF-4A2A-A7D3-211B43B44E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395280"/>
          <a:ext cx="8686800" cy="5842080"/>
        </p:xfrm>
        <a:graphic>
          <a:graphicData uri="http://schemas.openxmlformats.org/drawingml/2006/table">
            <a:tbl>
              <a:tblPr/>
              <a:tblGrid>
                <a:gridCol w="1738440"/>
                <a:gridCol w="755640"/>
                <a:gridCol w="858600"/>
                <a:gridCol w="1206720"/>
                <a:gridCol w="1224000"/>
                <a:gridCol w="1455480"/>
                <a:gridCol w="1447920"/>
              </a:tblGrid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t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BED Gy</a:t>
                      </a:r>
                      <a:r>
                        <a:rPr b="1" lang="en-US" sz="1600" spc="-1" strike="noStrike" baseline="-25000">
                          <a:solidFill>
                            <a:srgbClr val="ffcc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TD</a:t>
                      </a:r>
                      <a:r>
                        <a:rPr b="1" lang="it-IT" sz="1600" spc="-1" strike="noStrike" baseline="-25000">
                          <a:solidFill>
                            <a:srgbClr val="ffcc00"/>
                          </a:solidFill>
                          <a:latin typeface="Times New Roman"/>
                        </a:rPr>
                        <a:t>2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α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/</a:t>
                      </a: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β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= 3 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TD</a:t>
                      </a:r>
                      <a:r>
                        <a:rPr b="1" lang="it-IT" sz="1600" spc="-1" strike="noStrike" baseline="-25000">
                          <a:solidFill>
                            <a:srgbClr val="ffcc00"/>
                          </a:solidFill>
                          <a:latin typeface="Times New Roman"/>
                        </a:rPr>
                        <a:t>2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α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/</a:t>
                      </a: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β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= 1.5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ssicità GI Acu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ssicità GU Acu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ukka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2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-4 4.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-4  8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iggins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2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ivsey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25 Gy x 16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pelian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Gy x 28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6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1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  7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Yeoh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oete et 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 Gy x 16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-2 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-2  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4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Ritter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4 Gy x 22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7/4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    -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E4EF-AE7F-498A-995E-0AEE81682F5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46FCA-90D8-4868-A080-6011F20DD0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73120" y="395280"/>
          <a:ext cx="8246880" cy="577044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219320"/>
                <a:gridCol w="1388880"/>
                <a:gridCol w="1371600"/>
                <a:gridCol w="1371600"/>
              </a:tblGrid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ut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Follow-up Media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Rang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TD</a:t>
                      </a:r>
                      <a:r>
                        <a:rPr b="1" lang="it-IT" sz="1800" spc="-1" strike="noStrike" baseline="-25000">
                          <a:solidFill>
                            <a:srgbClr val="ffcc00"/>
                          </a:solidFill>
                          <a:latin typeface="Times New Roman"/>
                        </a:rPr>
                        <a:t>2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α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/</a:t>
                      </a: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β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= 3 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TD</a:t>
                      </a:r>
                      <a:r>
                        <a:rPr b="1" lang="it-IT" sz="1800" spc="-1" strike="noStrike" baseline="-25000">
                          <a:solidFill>
                            <a:srgbClr val="ffcc00"/>
                          </a:solidFill>
                          <a:latin typeface="Times New Roman"/>
                        </a:rPr>
                        <a:t>2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α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/</a:t>
                      </a:r>
                      <a:r>
                        <a:rPr b="1" lang="el-GR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β</a:t>
                      </a:r>
                      <a:r>
                        <a:rPr b="1" lang="it-IT" sz="1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= 1.5 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ssicità GI Tard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ssicità GU Tard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ukka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2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.4 me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-4  1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C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-4  1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C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iggins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2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Livsey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25 Gy x 16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 me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-8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0     6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-2  3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0-1 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pelian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Gy x 28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 me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-7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  1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  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1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1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Yeoh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5 Gy x 20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5 me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3-6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Ritter et 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94 Gy x 22/5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e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    -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9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1        -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2      1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o 3        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427B-5860-4BB9-B649-0D4F679B60C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A0E19-58B2-436C-8863-8F8F2E8892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CONCLUSIONI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END FAVOREVOLE IN TERMINI DI TOSSICITA’ TARD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MOLOGIA DI RISULTATI RISPETTO ALLA LETTERATU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Esistono pochi studi di confronto nei quali la  selezione dei pazienti e la  valutazione della tossicità  non è omogene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Il campione è troppo esiguo per ottenere risultati statisticamente significativi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Garamond"/>
              </a:rPr>
              <a:t>Il follow up è ancora troppo breve per valutare l’efficacia terapeutica del nostro trattament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84C4-EF04-4045-A611-91E8A81E184A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66BA-7C02-440E-9E12-2DC88908FC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CONCLUSIONI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 RISULTATI  RENDONO INTERESSANTE L’IMPIEGO DELL’ IPOFRAZION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’IPOFRAZIONAMENTO DELLA DOSE, CON LA RIDUZIONE DEL NUMERO DELLE SEDUTE E DEL TEMPO DI TRATTAMENTO, MIGLIORA LA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Garamond"/>
              </a:rPr>
              <a:t>COMPLIANCE</a:t>
            </a: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I PAZIENTI E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Garamond"/>
              </a:rPr>
              <a:t>L’ECONOMIA SANITA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824C-1CA4-4C45-BC89-CFA34F1171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C1C02-65CE-4E6C-A0B0-019227D52D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4920" y="5516640"/>
            <a:ext cx="3097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                                         </a:t>
            </a:r>
            <a:r>
              <a:rPr b="1" i="1" lang="en-US" sz="2800" spc="-1" strike="noStrike">
                <a:solidFill>
                  <a:srgbClr val="e5e5ff"/>
                </a:solidFill>
                <a:latin typeface="Garamond"/>
              </a:rPr>
              <a:t>Steel GG, 20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43200" y="188640"/>
            <a:ext cx="91868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cc00"/>
                </a:solidFill>
                <a:latin typeface="Garamond"/>
              </a:rPr>
              <a:t>        </a:t>
            </a:r>
            <a:r>
              <a:rPr b="1" lang="it-IT" sz="3600" spc="-1" strike="noStrike">
                <a:solidFill>
                  <a:srgbClr val="ffcc00"/>
                </a:solidFill>
                <a:latin typeface="Garamond"/>
              </a:rPr>
              <a:t>IL RAPPORTO α/β E’ UNA STI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Garamond"/>
              </a:rPr>
              <a:t>            </a:t>
            </a:r>
            <a:r>
              <a:rPr b="1" lang="it-IT" sz="3600" spc="-1" strike="noStrike">
                <a:solidFill>
                  <a:srgbClr val="ffcc00"/>
                </a:solidFill>
                <a:latin typeface="Garamond"/>
              </a:rPr>
              <a:t>DELLA RADIOSENSIBILITA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1700280"/>
          <a:ext cx="7417080" cy="3970440"/>
        </p:xfrm>
        <a:graphic>
          <a:graphicData uri="http://schemas.openxmlformats.org/drawingml/2006/table">
            <a:tbl>
              <a:tblPr/>
              <a:tblGrid>
                <a:gridCol w="2082960"/>
                <a:gridCol w="1584360"/>
                <a:gridCol w="2309760"/>
                <a:gridCol w="1440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arly reaction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α/β (Gy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reaction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α/β (Gy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ki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-1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idney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junum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-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ctum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5-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l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-1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u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-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sti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-1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adde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-7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ucosa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-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N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8-2.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72000" y="3357720"/>
            <a:ext cx="33847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581360"/>
            <a:ext cx="3384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77AD-8009-4BD7-BC86-F4DD8E8B1A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7BB41-E396-44E5-ADB0-C122017A57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708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Garamond"/>
              </a:rPr>
              <a:t>SOLO ALCUNI TIPI DI TUMORE HANNO UN BASSO VALORE DI 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  <a:ea typeface="Arial"/>
              </a:rPr>
              <a:t>α</a:t>
            </a:r>
            <a:r>
              <a:rPr b="1" lang="it-IT" sz="3600" spc="-1" strike="noStrike">
                <a:solidFill>
                  <a:srgbClr val="ffcc00"/>
                </a:solidFill>
                <a:latin typeface="Garamond"/>
                <a:ea typeface="Arial"/>
              </a:rPr>
              <a:t>/</a:t>
            </a:r>
            <a:r>
              <a:rPr b="1" lang="el-GR" sz="3600" spc="-1" strike="noStrike">
                <a:solidFill>
                  <a:srgbClr val="ffcc00"/>
                </a:solidFill>
                <a:latin typeface="Garamond"/>
                <a:ea typeface="Arial"/>
              </a:rPr>
              <a:t>β</a:t>
            </a:r>
            <a:br>
              <a:rPr sz="3200"/>
            </a:br>
            <a:r>
              <a:rPr b="1" i="1" lang="it-IT" sz="2200" spc="-1" strike="noStrike">
                <a:solidFill>
                  <a:srgbClr val="e5e5ff"/>
                </a:solidFill>
                <a:latin typeface="Garamond"/>
                <a:ea typeface="Arial"/>
              </a:rPr>
              <a:t>Fowler JF, Acta Oncol 2007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9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La neoplasi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statica è sensibil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lle alte dosi per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frazione. Per il su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rattamento pu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ssere impiegato u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cc00"/>
                </a:solidFill>
                <a:uFillTx/>
                <a:latin typeface="Garamond"/>
              </a:rPr>
              <a:t>IPOFRAZIONAMENT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della dose di radiazion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95640" y="1773360"/>
          <a:ext cx="4897440" cy="4814640"/>
        </p:xfrm>
        <a:graphic>
          <a:graphicData uri="http://schemas.openxmlformats.org/drawingml/2006/table">
            <a:tbl>
              <a:tblPr/>
              <a:tblGrid>
                <a:gridCol w="1810080"/>
                <a:gridCol w="216000"/>
                <a:gridCol w="1076760"/>
                <a:gridCol w="179460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om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6 G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ntzen et al. 198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ROSTATE C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enner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amp; Hall 19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ROSTATE C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.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wler et al. 20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ROSTATE C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.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renner 200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habdomyo-sarcom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mmerman 200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BC6B-AA90-48E7-B3BF-03DA33F788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4CA10-B690-4F35-A7E0-8FB3AA664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757080"/>
            <a:ext cx="889308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Garamond"/>
              </a:rPr>
              <a:t>FINALITA’ DELL’IPOFRAZIONAMENTO 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Garamond"/>
              </a:rPr>
              <a:t>NEL TUMORE DELLA PROSTATA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2636640"/>
            <a:ext cx="64072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ALOGO O MAGGI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TROLLO DEL TUM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246320" y="2502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4680" y="4230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419720"/>
            <a:ext cx="68389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TOSSICITA’ RETTAL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VESCICALE UGU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O INFER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DA01-D0C7-47E9-95C7-438793ED91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8DD0F-2F1D-4DA0-8412-9B4157DE21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LA NOSTRA ESPERIENZA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TAZIONE DELL’EFFICACIA TERAPEUTICA DI UN TRATTAMENTO RADIOTERAPICO IPOFRAZIONA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ontrollo locale e recidiva biochimic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Garamond"/>
              </a:rPr>
              <a:t>STIMA DELLA TOLLERANZA DEGLI ORGANI A RISCHIO (valutazione della tossicità GI e GU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5D1E-97E7-4267-B88A-74042F672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4C66D-1F42-4350-B622-4C03A5C71A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MATERIALI E METODI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Garamond"/>
              </a:rPr>
              <a:t>Inizio trattamenti: Febbraio 2005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Garamond"/>
              </a:rPr>
              <a:t>Numero di pazienti: 35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Garamond"/>
              </a:rPr>
              <a:t>Età mediana: 73 anni (range 59-80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Garamond"/>
              </a:rPr>
              <a:t>Follow up mediano: 19.5 mesi (range 3-31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N.B</a:t>
            </a:r>
            <a:r>
              <a:rPr b="0" i="1" lang="it-IT" sz="30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it-IT" sz="2000" spc="-1" strike="noStrike">
                <a:solidFill>
                  <a:srgbClr val="ffffff"/>
                </a:solidFill>
                <a:latin typeface="Garamond"/>
              </a:rPr>
              <a:t>26% con follow up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&lt; 12 mesi; 74% follow up &gt; 12 mesi</a:t>
            </a:r>
            <a:r>
              <a:rPr b="0" lang="it-IT" sz="3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iagnosi istologica: ADENOCARCINOMA DELLA PROSTATA IN CLASSE INTERMEDIA DI RISCH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9189-6147-4A2A-B6A0-DA7B735FD7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49F54-2C74-4EFB-B5D6-70FB90E98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CLASSI DI RISCHIO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4920" y="1424160"/>
          <a:ext cx="9001080" cy="4165560"/>
        </p:xfrm>
        <a:graphic>
          <a:graphicData uri="http://schemas.openxmlformats.org/drawingml/2006/table">
            <a:tbl>
              <a:tblPr/>
              <a:tblGrid>
                <a:gridCol w="2376360"/>
                <a:gridCol w="4032360"/>
                <a:gridCol w="259236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S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ISCH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1-T2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i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s 2-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i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SA&lt; 10 ng/m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ISCHI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MED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2b-T2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</a:t>
                      </a:r>
                      <a:r>
                        <a:rPr b="0" i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s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</a:t>
                      </a:r>
                      <a:r>
                        <a:rPr b="0" i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SA&gt; 10 but &lt; 2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TO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ISCH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≥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3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</a:t>
                      </a:r>
                      <a:r>
                        <a:rPr b="0" i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s 8-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</a:t>
                      </a:r>
                      <a:r>
                        <a:rPr b="0" i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it-IT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SA&gt; 20 ng/m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520800" y="5734080"/>
            <a:ext cx="20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aramond"/>
              </a:rPr>
              <a:t>NCCN, 20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8028-7325-4516-BA22-AE4819C451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BCB2F-D764-454E-BF44-488A6652F1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MATERIALI E METODI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Garamond"/>
              </a:rPr>
              <a:t>Controllo ambulatoriale  durante il trattamento, dopo 1 mese e, in seguito,  a cadenza trimestrale dalla conclusione di esso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Garamond"/>
              </a:rPr>
              <a:t>Valutazione tossicità secondo RTOG toxicity sca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Garamond"/>
              </a:rPr>
              <a:t>Valutazione biochimica con dosaggio ematico del PSA tota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LENA DI GENESIO PAGLIU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F9AA-75C7-487B-95B6-B6DCCCA873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4A9F5-521F-4874-BFCC-A7C268C41B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7:46:50Z</dcterms:created>
  <dc:creator> </dc:creator>
  <dc:description/>
  <dc:language>en-US</dc:language>
  <cp:lastModifiedBy>Azienda Sanitaria </cp:lastModifiedBy>
  <dcterms:modified xsi:type="dcterms:W3CDTF">2008-07-04T08:54:04Z</dcterms:modified>
  <cp:revision>229</cp:revision>
  <dc:subject/>
  <dc:title>Diapositiva 1</dc:title>
</cp:coreProperties>
</file>