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12C-5153-4858-A77B-B5E272DE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12F-91C7-4166-AA99-AFD5E20F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309-1A6E-41B1-8E42-92087B39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70A-1676-40B9-AD6D-CBAF4EF2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D53-EE04-425C-8DC5-EE28BE61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47F-94A7-4583-965C-20294F72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641-E38D-4D49-A853-6F9FDE9C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CFD-BA43-4092-B44D-9202FEB4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D5E-C33E-4B99-9406-DD6AAD77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2CB-6E1D-4FEB-8BE6-7664D4D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B8A-C2D8-4F22-BE30-81102BF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2A9-D916-429F-B126-6601DA14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780E-2586-4B98-99AA-39BFF4C7D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e modificazioni polmonari TC-rilevabili indotte dal trattamento stereotassico: differenze tra pazienti enfisematosi e non enfisematosi</a:t>
            </a:r>
            <a:br>
              <a:rPr sz="3000"/>
            </a:br>
            <a:br>
              <a:rPr sz="2400"/>
            </a:br>
            <a:r>
              <a:rPr b="0" i="1" lang="it-IT" sz="1600" spc="-1" strike="noStrike">
                <a:solidFill>
                  <a:srgbClr val="ffffff"/>
                </a:solidFill>
                <a:latin typeface="Arial"/>
              </a:rPr>
              <a:t>E. D’Imporzano*, C. Menichelli**, I. Bonucci**, C. Polli**, L. Masi**, F. Casamassima*</a:t>
            </a:r>
            <a:br>
              <a:rPr sz="1600"/>
            </a:br>
            <a:r>
              <a:rPr b="0" i="1" lang="it-IT" sz="1600" spc="-1" strike="noStrike">
                <a:solidFill>
                  <a:srgbClr val="ffffff"/>
                </a:solidFill>
                <a:latin typeface="Arial"/>
              </a:rPr>
              <a:t>*UO Radiobiologia Clinica, Univ. Firenze. </a:t>
            </a:r>
            <a:br>
              <a:rPr sz="1600"/>
            </a:br>
            <a:r>
              <a:rPr b="0" i="1" lang="it-IT" sz="1600" spc="-1" strike="noStrike">
                <a:solidFill>
                  <a:srgbClr val="ffffff"/>
                </a:solidFill>
                <a:latin typeface="Arial"/>
              </a:rPr>
              <a:t>**Serv. Radioterapia, Casa di Cura S. Chiara, Firenze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948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435640" y="400536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0384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9"/>
          <p:cNvSpPr/>
          <p:nvPr/>
        </p:nvSpPr>
        <p:spPr>
          <a:xfrm>
            <a:off x="2357280" y="60008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RB, L’Aquila, 5-6 luglio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IFICAZIONI AC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0" b="9020"/>
          <a:stretch/>
        </p:blipFill>
        <p:spPr>
          <a:xfrm>
            <a:off x="1692360" y="1773360"/>
            <a:ext cx="5833800" cy="3537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1547640" y="5445000"/>
            <a:ext cx="20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MORE PRIM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427640" y="544500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FFUSE CONSOL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ICAZIONI CRON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3357360"/>
          </a:xfrm>
          <a:prstGeom prst="rect">
            <a:avLst/>
          </a:prstGeom>
          <a:ln w="0">
            <a:noFill/>
          </a:ln>
        </p:spPr>
      </p:pic>
      <p:sp>
        <p:nvSpPr>
          <p:cNvPr id="84" name="CasellaDiTesto 7"/>
          <p:cNvSpPr/>
          <p:nvPr/>
        </p:nvSpPr>
        <p:spPr>
          <a:xfrm>
            <a:off x="714240" y="50720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                             (b)                               (c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9"/>
          <p:cNvSpPr/>
          <p:nvPr/>
        </p:nvSpPr>
        <p:spPr>
          <a:xfrm>
            <a:off x="0" y="6215040"/>
            <a:ext cx="9171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(a) Prima di SBRT; (b) 2 mesi dopo SBRT; (c) 30 mesi dopo: modified conventional patter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IFICAZIONI CRON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immagini"/>
          <p:cNvPicPr/>
          <p:nvPr/>
        </p:nvPicPr>
        <p:blipFill>
          <a:blip r:embed="rId1"/>
          <a:stretch/>
        </p:blipFill>
        <p:spPr>
          <a:xfrm>
            <a:off x="457200" y="2492280"/>
            <a:ext cx="3827520" cy="2737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rt stereo dmmlc"/>
          <p:cNvPicPr/>
          <p:nvPr/>
        </p:nvPicPr>
        <p:blipFill>
          <a:blip r:embed="rId2"/>
          <a:srcRect l="4870" t="0" r="10413" b="0"/>
          <a:stretch/>
        </p:blipFill>
        <p:spPr>
          <a:xfrm>
            <a:off x="4648320" y="2522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468000" y="535140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MORE PRIM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718520" y="5351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AR-LIKE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979640" y="1700280"/>
          <a:ext cx="5429160" cy="3998880"/>
        </p:xfrm>
        <a:graphic>
          <a:graphicData uri="http://schemas.openxmlformats.org/drawingml/2006/table">
            <a:tbl>
              <a:tblPr/>
              <a:tblGrid>
                <a:gridCol w="3857760"/>
                <a:gridCol w="784080"/>
                <a:gridCol w="787320"/>
              </a:tblGrid>
              <a:tr h="107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CAZIONI A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VIDENCE OF INCREASING DENS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USE GGO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6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Y GGO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Y CONSOLIDATION AND GGO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USE CONSOL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93" name="CasellaDiTesto 4"/>
          <p:cNvSpPr/>
          <p:nvPr/>
        </p:nvSpPr>
        <p:spPr>
          <a:xfrm>
            <a:off x="219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* GGO: Ground Glass O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0" y="1571760"/>
          <a:ext cx="5143680" cy="3981240"/>
        </p:xfrm>
        <a:graphic>
          <a:graphicData uri="http://schemas.openxmlformats.org/drawingml/2006/table">
            <a:tbl>
              <a:tblPr/>
              <a:tblGrid>
                <a:gridCol w="3351240"/>
                <a:gridCol w="857160"/>
                <a:gridCol w="935280"/>
              </a:tblGrid>
              <a:tr h="108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CAZIONI CRONI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CONVENTIONAL 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R-LIKE 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-LIKE 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AZIENTI ENFISEMAT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850080" cy="3562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79280" y="5608800"/>
            <a:ext cx="856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)TUMORE PRIMITIVO; (b,c)NO EVIDENCE OF INCREASING DENSITY; (d)SCAR-LIKE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031760" y="64166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χ</a:t>
            </a:r>
            <a:r>
              <a:rPr b="0" lang="it-IT" sz="1800" spc="-1" strike="noStrike" baseline="30000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p=0,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IFICAZIONI CRONICH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BO SUPERI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95640" y="1844640"/>
          <a:ext cx="5410080" cy="2693880"/>
        </p:xfrm>
        <a:graphic>
          <a:graphicData uri="http://schemas.openxmlformats.org/drawingml/2006/table">
            <a:tbl>
              <a:tblPr/>
              <a:tblGrid>
                <a:gridCol w="3754440"/>
                <a:gridCol w="1655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 CONVENTIONAL PAT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-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S-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IFICAZIONI CRONICH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BO INFERI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95640" y="1844640"/>
          <a:ext cx="5410080" cy="2693880"/>
        </p:xfrm>
        <a:graphic>
          <a:graphicData uri="http://schemas.openxmlformats.org/drawingml/2006/table">
            <a:tbl>
              <a:tblPr/>
              <a:tblGrid>
                <a:gridCol w="3754440"/>
                <a:gridCol w="1655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 CONVENTIONAL PAT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R-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S-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l sottogruppo dei pazienti affetti da </a:t>
            </a:r>
            <a:r>
              <a:rPr b="1" i="1" lang="it-IT" sz="2400" spc="-1" strike="noStrike" u="sng">
                <a:solidFill>
                  <a:srgbClr val="ffff66"/>
                </a:solidFill>
                <a:uFillTx/>
                <a:latin typeface="Arial"/>
              </a:rPr>
              <a:t>enfisema polmonar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le modificazioni TC rilevabili mostrano una più bassa incidenza e sono di minore entità rispetto ai pazienti con parenchima polmonare normale perchè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00"/>
                </a:solidFill>
                <a:latin typeface="Arial"/>
              </a:rPr>
              <a:t>Il tessuto interstiziale è minore, per cui </a:t>
            </a:r>
            <a:r>
              <a:rPr b="1" i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a parità di volume</a:t>
            </a:r>
            <a:r>
              <a:rPr b="1" i="1" lang="it-IT" sz="2200" spc="-1" strike="noStrike">
                <a:solidFill>
                  <a:srgbClr val="ffff00"/>
                </a:solidFill>
                <a:latin typeface="Arial"/>
              </a:rPr>
              <a:t> viene irradiato meno parenchima e più aria, riducendo la NTCP (Normal Tissue Complication Probabil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A parità di </a:t>
            </a:r>
            <a:r>
              <a:rPr b="1" i="1" lang="it-IT" sz="2200" spc="-1" strike="noStrike" u="sng">
                <a:solidFill>
                  <a:srgbClr val="ffffff"/>
                </a:solidFill>
                <a:uFillTx/>
                <a:latin typeface="Arial"/>
              </a:rPr>
              <a:t>V</a:t>
            </a:r>
            <a:r>
              <a:rPr b="1" i="1" lang="it-IT" sz="2200" spc="-1" strike="noStrike" u="sng" baseline="-25000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1" i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it-IT" sz="2200" spc="-1" strike="noStrike">
                <a:solidFill>
                  <a:srgbClr val="ffff00"/>
                </a:solidFill>
                <a:latin typeface="Arial"/>
              </a:rPr>
              <a:t>, nell’enfisematoso viene irradiato </a:t>
            </a:r>
            <a:r>
              <a:rPr b="1" i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meno</a:t>
            </a:r>
            <a:r>
              <a:rPr b="1" i="1" lang="it-IT" sz="2200" spc="-1" strike="noStrike">
                <a:solidFill>
                  <a:srgbClr val="ffff00"/>
                </a:solidFill>
                <a:latin typeface="Arial"/>
              </a:rPr>
              <a:t> tessuto polmonare rispetto al soggetto </a:t>
            </a:r>
            <a:r>
              <a:rPr b="1" i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s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ccia in giù 3"/>
          <p:cNvSpPr/>
          <p:nvPr/>
        </p:nvSpPr>
        <p:spPr>
          <a:xfrm>
            <a:off x="4000680" y="4500720"/>
            <a:ext cx="928440" cy="1000080"/>
          </a:xfrm>
          <a:prstGeom prst="down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643040" y="285840"/>
            <a:ext cx="5838840" cy="2071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57120" y="2428920"/>
            <a:ext cx="3429000" cy="265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285920" y="5072040"/>
            <a:ext cx="581976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4286160" y="2857680"/>
            <a:ext cx="37656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DIOB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essuti sani sono molto più sensibili alla dose/frazione che alla dose to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polmone è un organo “in parallelo” in cui il valore soglia per un danno che diventi clinico è rappresentato dal volume compreso nelle isodosi oltre il limite di toller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Nella nostra esperienza la SBRT mostra risultati sia in termini di controllo locale che di sopravvivenza che la propongono come trattamento elettivo per pazienti non operabili o che rifiutino l’intervento chirur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Il controllo locale e la sopravvivenza sono significativamente aumentate nelle lesioni periferiche, con PTV inferiore a 30 cc, trattabili in seduta unica con un valore di BED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superiore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90 G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La SBRT si ò mostrata con bassa tossicità ( acuta e cronica non superiore a G1 WHO) in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tutti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i pazienti tratt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ALUTARE LE MODIFICAZIONI TC-RILEVABILI IN RELAZION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ENFISEMA POLMON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EDE (lobo superiore vs inferi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VOLUME LE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OSE TOTALE e FRAZ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357200"/>
          <a:ext cx="4038480" cy="43322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 PAZIENTI (95 uomini; 36 don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 lesioni (47 primitive, 155 m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’ media 69 aa; KPS medio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*</a:t>
                      </a:r>
                      <a:r>
                        <a:rPr b="1" lang="it-IT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FISEMA: 48% pazi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V medio 44,5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: 2000-3600 cGy in 1-4 fr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 media: 77,6 (range 38,4-1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648320" y="1428840"/>
          <a:ext cx="4038480" cy="2628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AR parallelo (Polmone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)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: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</a:t>
                      </a:r>
                      <a:r>
                        <a:rPr b="1" lang="it-IT" sz="18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0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ourier New"/>
                          <a:ea typeface="宋体"/>
                        </a:rPr>
                        <a:t>≤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nformità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: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rapporto Volume isododose 90%/volume PTV)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ourier New"/>
                          <a:ea typeface="宋体"/>
                        </a:rPr>
                        <a:t>≤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50%: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rapporto volume isodose 50%/volume PTV)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ourier New"/>
                          <a:ea typeface="宋体"/>
                        </a:rPr>
                        <a:t>≤ 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.9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mogeneità: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Non “hot-spot” fuori del PTV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15"/>
          <p:cNvSpPr/>
          <p:nvPr/>
        </p:nvSpPr>
        <p:spPr>
          <a:xfrm>
            <a:off x="4572000" y="587700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*Abbiamo considerato enfisemato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pazienti con rappor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V Residuo/Capacità totale&lt;20% del pred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786200" y="1428840"/>
          <a:ext cx="4038840" cy="4525920"/>
        </p:xfrm>
        <a:graphic>
          <a:graphicData uri="http://schemas.openxmlformats.org/drawingml/2006/table">
            <a:tbl>
              <a:tblPr/>
              <a:tblGrid>
                <a:gridCol w="1982880"/>
                <a:gridCol w="2055960"/>
              </a:tblGrid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idollo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 18 Gy in 3 F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or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 30 Gy in 3 F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of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 27 Gy in 3 F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hea e grossi bron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 30 Gy in 3 F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ndi v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 30 Gy in 3 F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58"/>
          <p:cNvSpPr/>
          <p:nvPr/>
        </p:nvSpPr>
        <p:spPr>
          <a:xfrm>
            <a:off x="5286240" y="6000840"/>
            <a:ext cx="335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AINTS DI D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4200" y="428760"/>
          <a:ext cx="4071960" cy="498132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76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AC 6 MeV (Elekta Synergy) CONE BEAM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ARCO ISOCENTRICA dm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8 ARCHI COPLANARI E NON COPLANARI (media 4 arch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TIMIZZAZIONE I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E PRESCRITTA ALL’ISODOSE DEL 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O 95% DEL PTV COPERTO DALLA ISODOSE DI PRESCRI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ZIONE DEL SET-UP PER L’ORGAN MOTION: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E-BEAM TC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IMA DI OGNI SED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106"/>
          <p:cNvSpPr/>
          <p:nvPr/>
        </p:nvSpPr>
        <p:spPr>
          <a:xfrm>
            <a:off x="808200" y="5786280"/>
            <a:ext cx="27190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POSTA AL TRATTAMENTO (criteri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I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odifica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71680" y="2571840"/>
          <a:ext cx="8215200" cy="1706400"/>
        </p:xfrm>
        <a:graphic>
          <a:graphicData uri="http://schemas.openxmlformats.org/drawingml/2006/table">
            <a:tbl>
              <a:tblPr/>
              <a:tblGrid>
                <a:gridCol w="3333600"/>
                <a:gridCol w="3738600"/>
                <a:gridCol w="1143000"/>
              </a:tblGrid>
              <a:tr h="4291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DERS: 8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RESPO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RESPO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LE DISE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RESPONDERS: 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IVE DISE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1" name="CasellaDiTesto 3"/>
          <p:cNvSpPr/>
          <p:nvPr/>
        </p:nvSpPr>
        <p:spPr>
          <a:xfrm>
            <a:off x="3429000" y="478620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ità delle lesioni (2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IFICAZIONE DELLE MODIFICAZIONI ACUTE E CRONICHE TC-RILEV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47640" y="1557360"/>
          <a:ext cx="5977080" cy="4807080"/>
        </p:xfrm>
        <a:graphic>
          <a:graphicData uri="http://schemas.openxmlformats.org/drawingml/2006/table">
            <a:tbl>
              <a:tblPr/>
              <a:tblGrid>
                <a:gridCol w="2989440"/>
                <a:gridCol w="2987640"/>
              </a:tblGrid>
              <a:tr h="86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UTE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&lt;6mes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RONICHE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&gt;6mes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o evidence of increasing den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 conventional pat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100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iffuse GG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car-like pat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chy consolidation and GG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s-like pat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46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atchy GG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</a:tr>
              <a:tr h="82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use consoli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000000"/>
                        </a:gs>
                        <a:gs pos="100000">
                          <a:srgbClr val="333399"/>
                        </a:gs>
                      </a:gsLst>
                      <a:lin ang="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Text Box 106"/>
          <p:cNvSpPr/>
          <p:nvPr/>
        </p:nvSpPr>
        <p:spPr>
          <a:xfrm>
            <a:off x="1619280" y="652464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* GGO: Ground Glass O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7"/>
          <p:cNvSpPr/>
          <p:nvPr/>
        </p:nvSpPr>
        <p:spPr>
          <a:xfrm>
            <a:off x="7578720" y="6351480"/>
            <a:ext cx="13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T. Kim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IFICAZIONI AC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DSC02426"/>
          <p:cNvPicPr/>
          <p:nvPr/>
        </p:nvPicPr>
        <p:blipFill>
          <a:blip r:embed="rId1"/>
          <a:srcRect l="19931" t="29528" r="42076" b="29528"/>
          <a:stretch/>
        </p:blipFill>
        <p:spPr>
          <a:xfrm>
            <a:off x="395280" y="2492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recist2"/>
          <p:cNvPicPr/>
          <p:nvPr/>
        </p:nvPicPr>
        <p:blipFill>
          <a:blip r:embed="rId2"/>
          <a:stretch/>
        </p:blipFill>
        <p:spPr>
          <a:xfrm>
            <a:off x="4788000" y="2513160"/>
            <a:ext cx="3744720" cy="3009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7524720" y="242892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▄▄▄▄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▄▄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395280" y="566100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MORE PRIM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788000" y="5661000"/>
            <a:ext cx="24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ND GLASS O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IFICAZIONI AC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DSC02435"/>
          <p:cNvPicPr/>
          <p:nvPr/>
        </p:nvPicPr>
        <p:blipFill>
          <a:blip r:embed="rId1"/>
          <a:srcRect l="13509" t="32480" r="17716" b="2953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DSC02436"/>
          <p:cNvPicPr/>
          <p:nvPr/>
        </p:nvPicPr>
        <p:blipFill>
          <a:blip r:embed="rId2">
            <a:alphaModFix amt="90000"/>
          </a:blip>
          <a:srcRect l="6756" t="18014" r="6756" b="0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7740720" y="22050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▄▄▄▄▄▄▄▄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24000" y="551664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MORE PRIM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500720" y="5516640"/>
            <a:ext cx="36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TCHY PATTERN CONSOL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2:18:53Z</dcterms:created>
  <dc:creator>Elena</dc:creator>
  <dc:description/>
  <dc:language>en-US</dc:language>
  <cp:lastModifiedBy>Elena</cp:lastModifiedBy>
  <dcterms:modified xsi:type="dcterms:W3CDTF">2008-07-03T20:25:34Z</dcterms:modified>
  <cp:revision>179</cp:revision>
  <dc:subject/>
  <dc:title>La IGRT nel trattamento stereotassico delle lesioni nodulari polmonari primitive e metastatiche</dc:title>
</cp:coreProperties>
</file>