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5.png" ContentType="image/png"/>
  <Override PartName="/ppt/media/image10.jpeg" ContentType="image/jpeg"/>
  <Override PartName="/ppt/media/image8.jpeg" ContentType="image/jpeg"/>
  <Override PartName="/ppt/media/image33.wmf" ContentType="image/x-wmf"/>
  <Override PartName="/ppt/media/image34.wmf" ContentType="image/x-wmf"/>
  <Override PartName="/ppt/media/image35.wmf" ContentType="image/x-wmf"/>
  <Override PartName="/ppt/media/image37.wmf" ContentType="image/x-wmf"/>
  <Override PartName="/ppt/media/image38.wmf" ContentType="image/x-wmf"/>
  <Override PartName="/ppt/media/image7.png" ContentType="image/png"/>
  <Override PartName="/ppt/media/image6.wmf" ContentType="image/x-wmf"/>
  <Override PartName="/ppt/media/image36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688C-791A-4BDB-B137-FFA2A408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96D7-40EB-4FED-94D7-5C3E99F2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95F-6568-4C88-8E9A-92E4BED8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825-F1B6-4AD0-AAB3-2082581B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38E1-9B50-4384-A5BB-B2A34AC6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904F-355C-41FC-A801-55DA9395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EA40-88AB-41E0-B8F6-160115CB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CDA2-8AA5-4F2D-BBD9-FFD83252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917C-653F-4727-A2AD-36A1A674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9F20-BDF3-46C4-A0FD-F5BFAA88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9153-48A4-4B11-B927-E4FEE4CC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D17C-2A8D-4C24-BCA4-87FD0386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4B21-8AA9-4A6E-AB9B-BE6A5DDB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A667-48E7-4FFE-BDE0-8B49B059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AEC5-A6A3-40D2-8E26-7F4BE085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4627-E168-4D8C-A0A6-E58F1999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F0E5-47AC-4D81-BA40-9A707DA3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153-0B00-4662-935C-20CBCC68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3E0-304D-4FCD-B429-7100416E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A978-8C8C-4239-9A6C-DDF89F76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C22-FBA8-4860-86EB-AA3CC19C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451-36E2-48CD-A701-8E395515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8B0-E811-4941-B5B0-E351052A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0BE-D177-4B70-A773-2515784A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Group 9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Freeform 2"/>
              <p:cNvSpPr/>
              <p:nvPr/>
            </p:nvSpPr>
            <p:spPr>
              <a:xfrm>
                <a:off x="312840" y="431640"/>
                <a:ext cx="950760" cy="12938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Freeform 3"/>
                <p:cNvSpPr/>
                <p:nvPr/>
              </p:nvSpPr>
              <p:spPr>
                <a:xfrm>
                  <a:off x="787320" y="276120"/>
                  <a:ext cx="585720" cy="801720"/>
                </a:xfrm>
                <a:prstGeom prst="pie">
                  <a:avLst/>
                </a:pr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4"/>
                <p:cNvSpPr/>
                <p:nvPr/>
              </p:nvSpPr>
              <p:spPr>
                <a:xfrm>
                  <a:off x="203040" y="276120"/>
                  <a:ext cx="586080" cy="801720"/>
                </a:xfrm>
                <a:prstGeom prst="pie">
                  <a:avLst/>
                </a:pr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8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Freeform 6"/>
                <p:cNvSpPr/>
                <p:nvPr/>
              </p:nvSpPr>
              <p:spPr>
                <a:xfrm>
                  <a:off x="787320" y="1076400"/>
                  <a:ext cx="585720" cy="801720"/>
                </a:xfrm>
                <a:prstGeom prst="pie">
                  <a:avLst/>
                </a:pr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Freeform 7"/>
                <p:cNvSpPr/>
                <p:nvPr/>
              </p:nvSpPr>
              <p:spPr>
                <a:xfrm>
                  <a:off x="203040" y="1076400"/>
                  <a:ext cx="586080" cy="801720"/>
                </a:xfrm>
                <a:prstGeom prst="pie">
                  <a:avLst/>
                </a:pr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Group 14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Freeform 10"/>
              <p:cNvSpPr/>
              <p:nvPr/>
            </p:nvSpPr>
            <p:spPr>
              <a:xfrm>
                <a:off x="630360" y="334800"/>
                <a:ext cx="833400" cy="76212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744480" y="438120"/>
                <a:ext cx="606600" cy="55548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833400" y="452520"/>
                <a:ext cx="428760" cy="52704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993600" y="647640"/>
                <a:ext cx="108000" cy="135000"/>
              </a:xfrm>
              <a:prstGeom prst="pi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223B-41DC-4911-9DCF-C24777A4CFA7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Group 9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Freeform 2"/>
              <p:cNvSpPr/>
              <p:nvPr/>
            </p:nvSpPr>
            <p:spPr>
              <a:xfrm>
                <a:off x="287280" y="2498760"/>
                <a:ext cx="1177920" cy="176220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58" name="Group 5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Freeform 3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prstGeom prst="pie">
                  <a:avLst/>
                </a:pr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Freeform 4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prstGeom prst="pie">
                  <a:avLst/>
                </a:pr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Group 8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Freeform 6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prstGeom prst="pie">
                  <a:avLst/>
                </a:pr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7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prstGeom prst="pie">
                  <a:avLst/>
                </a:pr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Group 14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Freeform 10"/>
              <p:cNvSpPr/>
              <p:nvPr/>
            </p:nvSpPr>
            <p:spPr>
              <a:xfrm>
                <a:off x="782640" y="2468520"/>
                <a:ext cx="833400" cy="76212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" name="Freeform 11"/>
              <p:cNvSpPr/>
              <p:nvPr/>
            </p:nvSpPr>
            <p:spPr>
              <a:xfrm>
                <a:off x="896760" y="2571840"/>
                <a:ext cx="606600" cy="55548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7" name="Freeform 12"/>
              <p:cNvSpPr/>
              <p:nvPr/>
            </p:nvSpPr>
            <p:spPr>
              <a:xfrm>
                <a:off x="985680" y="2585880"/>
                <a:ext cx="428760" cy="52704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8" name="Freeform 13"/>
              <p:cNvSpPr/>
              <p:nvPr/>
            </p:nvSpPr>
            <p:spPr>
              <a:xfrm>
                <a:off x="1146240" y="2781360"/>
                <a:ext cx="108000" cy="135000"/>
              </a:xfrm>
              <a:prstGeom prst="pi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070A-D6CD-45B6-987A-A5593648EDE1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0093"/>
            </a:gs>
            <a:gs pos="50000">
              <a:srgbClr val="0d0018"/>
            </a:gs>
            <a:gs pos="100000">
              <a:srgbClr val="50009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0360" y="1267920"/>
            <a:ext cx="640872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adiobiologic issues in the radiotherapy of non-Hodgkin’s lymphoma: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mparison between conventional radiotherapy and radioimmunotherapy in terms of  BED to OARs</a:t>
            </a:r>
            <a:r>
              <a:rPr b="0" i="1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71680" y="4572000"/>
            <a:ext cx="8137440" cy="19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ffff"/>
                </a:solidFill>
                <a:uFillTx/>
                <a:latin typeface="Times New Roman"/>
              </a:rPr>
              <a:t>Pacilio M</a:t>
            </a:r>
            <a:r>
              <a:rPr b="1" lang="it-IT" sz="1800" spc="-1" strike="noStrike" baseline="30000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, Barone R</a:t>
            </a:r>
            <a:r>
              <a:rPr b="1" lang="it-IT" sz="1800" spc="-1" strike="noStrike" baseline="30000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, Betti M</a:t>
            </a:r>
            <a:r>
              <a:rPr b="1" lang="it-IT" sz="1800" spc="-1" strike="noStrike" baseline="30000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, Del Mastro C</a:t>
            </a:r>
            <a:r>
              <a:rPr b="1" lang="it-IT" sz="1800" spc="-1" strike="noStrike" baseline="30000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, Cicone F</a:t>
            </a:r>
            <a:r>
              <a:rPr b="1" lang="it-IT" sz="1800" spc="-1" strike="noStrike" baseline="30000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, Rauco R</a:t>
            </a:r>
            <a:r>
              <a:rPr b="1" lang="it-IT" sz="1800" spc="-1" strike="noStrike" baseline="30000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, Montani L</a:t>
            </a:r>
            <a:r>
              <a:rPr b="1" lang="it-IT" sz="1800" spc="-1" strike="noStrike" baseline="30000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, Monaco A</a:t>
            </a:r>
            <a:r>
              <a:rPr b="1" lang="it-IT" sz="1800" spc="-1" strike="noStrike" baseline="30000">
                <a:solidFill>
                  <a:srgbClr val="ffffff"/>
                </a:solidFill>
                <a:latin typeface="Times New Roman"/>
              </a:rPr>
              <a:t>(4)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, Chiacchiararelli L</a:t>
            </a:r>
            <a:r>
              <a:rPr b="1" lang="it-IT" sz="1800" spc="-1" strike="noStrike" baseline="30000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, Signore A</a:t>
            </a:r>
            <a:r>
              <a:rPr b="1" lang="it-IT" sz="1800" spc="-1" strike="noStrike" baseline="30000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, Mango L</a:t>
            </a:r>
            <a:r>
              <a:rPr b="1" lang="it-IT" sz="1800" spc="-1" strike="noStrike" baseline="30000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, Santini E</a:t>
            </a:r>
            <a:r>
              <a:rPr b="1" lang="it-IT" sz="1800" spc="-1" strike="noStrike" baseline="30000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, Scopinaro F</a:t>
            </a:r>
            <a:r>
              <a:rPr b="1" lang="it-IT" sz="1800" spc="-1" strike="noStrike" baseline="30000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Medical Physics Department – S Camillo Forlanini Hospital – Ro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2) Medical Physics Department – Sant’Andrea Hospital – Ro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3) 2nd Faculty of Medicine – Sant’Andrea Hospital – “Sapienza“ University of Ro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4) Radiotherapy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Department – S Camillo Forlanini Hospital – Rome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179280" y="1036800"/>
            <a:ext cx="2505240" cy="31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1114560" y="115920"/>
            <a:ext cx="7705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BRT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or fractionated RT, G = 1/n with n = number of fractions, so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39640" y="2781360"/>
            <a:ext cx="8425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IT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IT delivers exponentially decaying continuous-low-dose-rate RT (CLDR RT). With monoexponential clearance and 1 source orga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7"/>
              <p:cNvSpPr txBox="1"/>
              <p:nvPr/>
            </p:nvSpPr>
            <p:spPr>
              <a:xfrm>
                <a:off x="2556000" y="1268280"/>
                <a:ext cx="396072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d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α</m:t>
                            </m:r>
                            <m:r>
                              <m:t xml:space="preserve">/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α</m:t>
                            </m:r>
                            <m:r>
                              <m:t xml:space="preserve">/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684360" y="4292640"/>
                <a:ext cx="1584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9"/>
          <p:cNvSpPr/>
          <p:nvPr/>
        </p:nvSpPr>
        <p:spPr>
          <a:xfrm>
            <a:off x="898560" y="2205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complete tissue repair between fractions and negligible tumor repopulation)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971640" y="6237360"/>
            <a:ext cx="741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negligible tumor repopulation and incomplete tissue repair conditions)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5"/>
              <p:cNvSpPr txBox="1"/>
              <p:nvPr/>
            </p:nvSpPr>
            <p:spPr>
              <a:xfrm>
                <a:off x="2800440" y="5300640"/>
                <a:ext cx="30668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D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α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den>
                        </m:f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Rectangle 19"/>
          <p:cNvSpPr/>
          <p:nvPr/>
        </p:nvSpPr>
        <p:spPr>
          <a:xfrm>
            <a:off x="2411280" y="4361040"/>
            <a:ext cx="6588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here </a:t>
            </a:r>
            <a:r>
              <a:rPr b="1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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ln(2)/T</a:t>
            </a:r>
            <a:r>
              <a:rPr b="1" lang="en-US" sz="1600" spc="-1" strike="noStrike" baseline="-25000">
                <a:solidFill>
                  <a:srgbClr val="ffff00"/>
                </a:solidFill>
                <a:latin typeface="Times New Roman"/>
              </a:rPr>
              <a:t>1/2</a:t>
            </a:r>
            <a:r>
              <a:rPr b="1" lang="en-US" sz="1600" spc="-1" strike="noStrike" baseline="30000">
                <a:solidFill>
                  <a:srgbClr val="ffff00"/>
                </a:solidFill>
                <a:latin typeface="Times New Roman"/>
              </a:rPr>
              <a:t>eff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1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= ln(2)/T</a:t>
            </a:r>
            <a:r>
              <a:rPr b="1" lang="en-US" sz="1600" spc="-1" strike="noStrike" baseline="-25000">
                <a:solidFill>
                  <a:srgbClr val="ffff00"/>
                </a:solidFill>
                <a:latin typeface="Times New Roman"/>
              </a:rPr>
              <a:t>1/2</a:t>
            </a:r>
            <a:r>
              <a:rPr b="1" lang="en-US" sz="1600" spc="-1" strike="noStrike" baseline="30000">
                <a:solidFill>
                  <a:srgbClr val="ffff00"/>
                </a:solidFill>
                <a:latin typeface="Times New Roman"/>
              </a:rPr>
              <a:t>REP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re time-constants for radiopharmaceutical clearance and sublethal damage repair, respectively</a:t>
            </a:r>
            <a:r>
              <a:rPr b="1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332000" y="333360"/>
            <a:ext cx="720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enerally, in radiopharmaceutical clearance, multi-exponential biokinetic + multiple source organ (for each target organ) are involved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4500720" y="1197000"/>
            <a:ext cx="576000" cy="719280"/>
          </a:xfrm>
          <a:prstGeom prst="downArrow">
            <a:avLst>
              <a:gd name="adj1" fmla="val 50000"/>
              <a:gd name="adj2" fmla="val 31219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258920" y="1989000"/>
            <a:ext cx="6985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ore complicated expression for G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826920" y="2854440"/>
            <a:ext cx="792180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 RIT with 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</a:rPr>
              <a:t>9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Y-Zevalin, for liver, kidneys, lungs and spleen absorbed dose is due to single source (self-irradiation). In this work, biokinetic with uptake phase has been considered in radiobiological evaluations. Further calculation refinements for red marrow  (2 source organ) are on going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76360" y="4724280"/>
          <a:ext cx="6407280" cy="1481400"/>
        </p:xfrm>
        <a:graphic>
          <a:graphicData uri="http://schemas.openxmlformats.org/drawingml/2006/table">
            <a:tbl>
              <a:tblPr/>
              <a:tblGrid>
                <a:gridCol w="1295280"/>
                <a:gridCol w="2016360"/>
                <a:gridCol w="1655640"/>
                <a:gridCol w="1440000"/>
              </a:tblGrid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ver, spleen, lungs, kidneys, heart-wall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d marrow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umor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1" lang="it-IT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1/2</a:t>
                      </a:r>
                      <a:r>
                        <a:rPr b="1" lang="it-IT" sz="1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REP</a:t>
                      </a: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(h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5 </a:t>
                      </a:r>
                      <a:r>
                        <a:rPr b="0" lang="it-IT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≤  </a:t>
                      </a:r>
                      <a:r>
                        <a:rPr b="0" lang="it-IT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it-IT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1/2</a:t>
                      </a:r>
                      <a:r>
                        <a:rPr b="0" lang="it-IT" sz="1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REP</a:t>
                      </a:r>
                      <a:r>
                        <a:rPr b="0" lang="it-IT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≤ 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</a:t>
                      </a: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Gy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1155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60" name="Object 205"/>
          <p:cNvGraphicFramePr/>
          <p:nvPr/>
        </p:nvGraphicFramePr>
        <p:xfrm>
          <a:off x="395280" y="1197000"/>
          <a:ext cx="4608360" cy="265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Object 20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460836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207"/>
          <p:cNvGraphicFramePr/>
          <p:nvPr/>
        </p:nvGraphicFramePr>
        <p:xfrm>
          <a:off x="1258920" y="1916280"/>
          <a:ext cx="4608360" cy="2663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3" name="Object 20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916280"/>
                    <a:ext cx="460836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209"/>
          <p:cNvGraphicFramePr/>
          <p:nvPr/>
        </p:nvGraphicFramePr>
        <p:xfrm>
          <a:off x="2124000" y="2637000"/>
          <a:ext cx="4464000" cy="266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5" name="Object 20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2637000"/>
                    <a:ext cx="446400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211"/>
          <p:cNvGraphicFramePr/>
          <p:nvPr/>
        </p:nvGraphicFramePr>
        <p:xfrm>
          <a:off x="3203640" y="3348000"/>
          <a:ext cx="4753080" cy="2745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67" name="Object 2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3640" y="3348000"/>
                    <a:ext cx="4753080" cy="27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213"/>
          <p:cNvGraphicFramePr/>
          <p:nvPr/>
        </p:nvGraphicFramePr>
        <p:xfrm>
          <a:off x="4213080" y="4076640"/>
          <a:ext cx="4680000" cy="271152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69" name="Object 2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13080" y="4076640"/>
                    <a:ext cx="4680000" cy="27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560" y="4428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00000" y="1413000"/>
          <a:ext cx="7561440" cy="3095640"/>
        </p:xfrm>
        <a:graphic>
          <a:graphicData uri="http://schemas.openxmlformats.org/drawingml/2006/table">
            <a:tbl>
              <a:tblPr/>
              <a:tblGrid>
                <a:gridCol w="2159280"/>
                <a:gridCol w="1152360"/>
                <a:gridCol w="1152360"/>
                <a:gridCol w="1008360"/>
                <a:gridCol w="1008000"/>
                <a:gridCol w="1081080"/>
              </a:tblGrid>
              <a:tr h="64908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ED (Gy</a:t>
                      </a:r>
                      <a:r>
                        <a:rPr b="1" lang="it-IT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ver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Kidneys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ungs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eart wall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pleen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0184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ED</a:t>
                      </a:r>
                      <a:r>
                        <a:rPr b="1" lang="en-US" sz="15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for  T</a:t>
                      </a:r>
                      <a:r>
                        <a:rPr b="1" lang="en-US" sz="15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1/2</a:t>
                      </a:r>
                      <a:r>
                        <a:rPr b="1" lang="en-US" sz="15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REP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0.5 h</a:t>
                      </a:r>
                      <a:r>
                        <a:rPr b="1" lang="it-IT" sz="15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6.2-9.0]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3.8-6.1]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1.5-5.3]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3.6-13.3]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2.9-6.9]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0472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ED</a:t>
                      </a:r>
                      <a:r>
                        <a:rPr b="1" lang="en-US" sz="15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for  T</a:t>
                      </a:r>
                      <a:r>
                        <a:rPr b="1" lang="en-US" sz="15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1/2</a:t>
                      </a:r>
                      <a:r>
                        <a:rPr b="1" lang="en-US" sz="15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REP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3 h</a:t>
                      </a:r>
                      <a:endParaRPr b="0" lang="en-US" sz="15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6.6-10.0]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4.1-6.6]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1.6-5.8]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3.6-13.5]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3.0-7.5]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0472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ED</a:t>
                      </a:r>
                      <a:r>
                        <a:rPr b="1" lang="en-US" sz="15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for  T</a:t>
                      </a:r>
                      <a:r>
                        <a:rPr b="1" lang="en-US" sz="15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1/2</a:t>
                      </a:r>
                      <a:r>
                        <a:rPr b="1" lang="en-US" sz="15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REP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5 h</a:t>
                      </a:r>
                      <a:endParaRPr b="0" lang="en-US" sz="15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6.9-10.7]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4.3-7.0]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1.6-6.2]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3.6-13.6]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[3.1-8.0]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3200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ED</a:t>
                      </a:r>
                      <a:r>
                        <a:rPr b="1" lang="en-US" sz="15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D</a:t>
                      </a:r>
                      <a:r>
                        <a:rPr b="1" lang="en-US" sz="15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5,5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.3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.2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.7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-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0328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BED</a:t>
                      </a:r>
                      <a:r>
                        <a:rPr b="1" lang="en-US" sz="2000" spc="-1" strike="noStrike" baseline="-25000">
                          <a:solidFill>
                            <a:srgbClr val="00cc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(D</a:t>
                      </a:r>
                      <a:r>
                        <a:rPr b="1" lang="en-US" sz="2000" spc="-1" strike="noStrike" baseline="-25000">
                          <a:solidFill>
                            <a:srgbClr val="00cc00"/>
                          </a:solidFill>
                          <a:latin typeface="Times New Roman"/>
                        </a:rPr>
                        <a:t>5,5</a:t>
                      </a: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)/BED</a:t>
                      </a:r>
                      <a:r>
                        <a:rPr b="1" lang="en-US" sz="2000" spc="-1" strike="noStrike" baseline="-25000">
                          <a:solidFill>
                            <a:srgbClr val="00cc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000" spc="-1" strike="noStrike" baseline="30000">
                          <a:solidFill>
                            <a:srgbClr val="00cc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4.7</a:t>
                      </a:r>
                      <a:r>
                        <a:rPr b="0" lang="it-IT" sz="20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5.5</a:t>
                      </a:r>
                      <a:r>
                        <a:rPr b="0" lang="it-IT" sz="20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4.7</a:t>
                      </a:r>
                      <a:r>
                        <a:rPr b="0" lang="it-IT" sz="20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4.9</a:t>
                      </a:r>
                      <a:r>
                        <a:rPr b="0" lang="it-IT" sz="20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---</a:t>
                      </a:r>
                      <a:r>
                        <a:rPr b="0" lang="it-IT" sz="20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</a:tbl>
          </a:graphicData>
        </a:graphic>
      </p:graphicFrame>
      <p:sp>
        <p:nvSpPr>
          <p:cNvPr id="172" name="Rectangle 54"/>
          <p:cNvSpPr/>
          <p:nvPr/>
        </p:nvSpPr>
        <p:spPr>
          <a:xfrm>
            <a:off x="900000" y="4869000"/>
            <a:ext cx="7704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d marrow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0.7 Gy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≤ BED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≤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1.3 Gy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umor: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2.3 Gy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(our result)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~ 17 Gy (literature)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Rectangle 55"/>
          <p:cNvSpPr/>
          <p:nvPr/>
        </p:nvSpPr>
        <p:spPr>
          <a:xfrm>
            <a:off x="757440" y="4508640"/>
            <a:ext cx="3833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300"/>
              </a:spcBef>
              <a:buClr>
                <a:srgbClr val="50009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* The ratio was calculated for the maximum BED valu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Rectangle 56"/>
          <p:cNvSpPr/>
          <p:nvPr/>
        </p:nvSpPr>
        <p:spPr>
          <a:xfrm>
            <a:off x="34920" y="6216480"/>
            <a:ext cx="91090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umor BED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was quite similar to the physically absorbed dose, due to low RE value (1.01)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Rectangle 54"/>
          <p:cNvSpPr/>
          <p:nvPr/>
        </p:nvSpPr>
        <p:spPr>
          <a:xfrm>
            <a:off x="826920" y="1268280"/>
            <a:ext cx="792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y considering EBRT dose prescription of about 36 Gy, 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corresponding t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ED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</a:t>
            </a: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 43.2 Gy</a:t>
            </a:r>
            <a:r>
              <a:rPr b="1" lang="it-IT" sz="20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Zevalin administration should be about 3.5-fold higher.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Rectangle 57"/>
          <p:cNvSpPr/>
          <p:nvPr/>
        </p:nvSpPr>
        <p:spPr>
          <a:xfrm>
            <a:off x="826920" y="3860640"/>
            <a:ext cx="7991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AR BED have been re-calculated by varying the factor of dose increment (“dose factor”) in the range 2-3.5, to evaluate the tolerability of the treatment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Rectangle 58"/>
          <p:cNvSpPr/>
          <p:nvPr/>
        </p:nvSpPr>
        <p:spPr>
          <a:xfrm>
            <a:off x="826920" y="5227560"/>
            <a:ext cx="7991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 RIT, toxicity threshold of 2 Gy (in terms of mean physical dose) is assumed for red marrow. By considering G = 1, maximum tolerable BED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for red marrow is 2.4 Gy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Rectangle 59"/>
          <p:cNvSpPr/>
          <p:nvPr/>
        </p:nvSpPr>
        <p:spPr>
          <a:xfrm>
            <a:off x="755640" y="2708280"/>
            <a:ext cx="784872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buClr>
                <a:srgbClr val="50009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 RIT dose increment involve dose-rate increment with consequ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50009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 increase due to reduced repair capacity of sublethal damages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5400" y="0"/>
            <a:ext cx="70866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539640" y="1413000"/>
          <a:ext cx="3888000" cy="223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13000"/>
                    <a:ext cx="3888000" cy="22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8"/>
          <p:cNvGraphicFramePr/>
          <p:nvPr/>
        </p:nvGraphicFramePr>
        <p:xfrm>
          <a:off x="4572000" y="1413000"/>
          <a:ext cx="3887640" cy="2233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413000"/>
                    <a:ext cx="388764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0"/>
          <p:cNvGraphicFramePr/>
          <p:nvPr/>
        </p:nvGraphicFramePr>
        <p:xfrm>
          <a:off x="539640" y="3645000"/>
          <a:ext cx="3888000" cy="2236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645000"/>
                    <a:ext cx="388800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5"/>
          <p:cNvSpPr/>
          <p:nvPr/>
        </p:nvSpPr>
        <p:spPr>
          <a:xfrm>
            <a:off x="2340000" y="765000"/>
            <a:ext cx="4680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ose factor = 1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8" name="Object 15"/>
          <p:cNvGraphicFramePr/>
          <p:nvPr/>
        </p:nvGraphicFramePr>
        <p:xfrm>
          <a:off x="4579920" y="3645000"/>
          <a:ext cx="3879720" cy="2228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89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9920" y="3645000"/>
                    <a:ext cx="387972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Rectangle 17"/>
          <p:cNvSpPr/>
          <p:nvPr/>
        </p:nvSpPr>
        <p:spPr>
          <a:xfrm>
            <a:off x="684360" y="5950080"/>
            <a:ext cx="763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001 ≤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R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≤ 1.003 for red marrow, 1.06 ≤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R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≤ 1.16 for other OA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85400" y="0"/>
            <a:ext cx="70866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340000" y="765000"/>
            <a:ext cx="4680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ose factor = 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684360" y="5950080"/>
            <a:ext cx="770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002 ≤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R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≤ 1.007 for red marrow, 1.11 ≤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R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≤ 1.32 for other OA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4" name="Object 9"/>
          <p:cNvGraphicFramePr/>
          <p:nvPr/>
        </p:nvGraphicFramePr>
        <p:xfrm>
          <a:off x="539640" y="1413000"/>
          <a:ext cx="3888000" cy="223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13000"/>
                    <a:ext cx="388800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10"/>
          <p:cNvGraphicFramePr/>
          <p:nvPr/>
        </p:nvGraphicFramePr>
        <p:xfrm>
          <a:off x="4572000" y="1413000"/>
          <a:ext cx="3887640" cy="223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413000"/>
                    <a:ext cx="388764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11"/>
          <p:cNvGraphicFramePr/>
          <p:nvPr/>
        </p:nvGraphicFramePr>
        <p:xfrm>
          <a:off x="539640" y="3645000"/>
          <a:ext cx="3888000" cy="223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9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645000"/>
                    <a:ext cx="388800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12"/>
          <p:cNvGraphicFramePr/>
          <p:nvPr/>
        </p:nvGraphicFramePr>
        <p:xfrm>
          <a:off x="4584600" y="3645000"/>
          <a:ext cx="3875040" cy="22302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0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84600" y="3645000"/>
                    <a:ext cx="3875040" cy="22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 Box 13"/>
          <p:cNvSpPr/>
          <p:nvPr/>
        </p:nvSpPr>
        <p:spPr>
          <a:xfrm rot="19776000">
            <a:off x="4785840" y="4292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a004e"/>
                </a:solidFill>
                <a:latin typeface="Times New Roman"/>
              </a:rPr>
              <a:t>Toxic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85400" y="0"/>
            <a:ext cx="70866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2340000" y="765000"/>
            <a:ext cx="4680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ose factor = 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84360" y="5950080"/>
            <a:ext cx="763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003 ≤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R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≤ 1.01 for red marrow, 1.17 ≤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R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≤ 1.47 for other OA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06" name="Object 11"/>
          <p:cNvGraphicFramePr/>
          <p:nvPr/>
        </p:nvGraphicFramePr>
        <p:xfrm>
          <a:off x="4572000" y="1413000"/>
          <a:ext cx="3887640" cy="223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413000"/>
                    <a:ext cx="388764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2"/>
          <p:cNvGraphicFramePr/>
          <p:nvPr/>
        </p:nvGraphicFramePr>
        <p:xfrm>
          <a:off x="539640" y="3632040"/>
          <a:ext cx="3889440" cy="2244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632040"/>
                    <a:ext cx="3889440" cy="22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13"/>
          <p:cNvGraphicFramePr/>
          <p:nvPr/>
        </p:nvGraphicFramePr>
        <p:xfrm>
          <a:off x="4572000" y="3645000"/>
          <a:ext cx="3887640" cy="223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11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3645000"/>
                    <a:ext cx="388764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15"/>
          <p:cNvSpPr/>
          <p:nvPr/>
        </p:nvSpPr>
        <p:spPr>
          <a:xfrm rot="19776000">
            <a:off x="4785840" y="4292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a004e"/>
                </a:solidFill>
                <a:latin typeface="Times New Roman"/>
              </a:rPr>
              <a:t>Toxic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Text Box 16"/>
          <p:cNvSpPr/>
          <p:nvPr/>
        </p:nvSpPr>
        <p:spPr>
          <a:xfrm rot="19776000">
            <a:off x="5649480" y="436536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a004e"/>
                </a:solidFill>
                <a:latin typeface="Times New Roman"/>
              </a:rPr>
              <a:t>Toxic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Text Box 17"/>
          <p:cNvSpPr/>
          <p:nvPr/>
        </p:nvSpPr>
        <p:spPr>
          <a:xfrm rot="19776000">
            <a:off x="6514560" y="443664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a004e"/>
                </a:solidFill>
                <a:latin typeface="Times New Roman"/>
              </a:rPr>
              <a:t>Toxic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15" name="Object 19"/>
          <p:cNvGraphicFramePr/>
          <p:nvPr/>
        </p:nvGraphicFramePr>
        <p:xfrm>
          <a:off x="539640" y="1413000"/>
          <a:ext cx="3888000" cy="2236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6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1413000"/>
                    <a:ext cx="388800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85400" y="0"/>
            <a:ext cx="70866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340000" y="765000"/>
            <a:ext cx="4680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ose factor = 3.5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84360" y="5950080"/>
            <a:ext cx="755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007 ≤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R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≤ 1.01 for red marrow, 1.19 ≤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R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≤ 1.55 for other OA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0" name="Object 14"/>
          <p:cNvGraphicFramePr/>
          <p:nvPr/>
        </p:nvGraphicFramePr>
        <p:xfrm>
          <a:off x="539640" y="1413000"/>
          <a:ext cx="3888000" cy="223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13000"/>
                    <a:ext cx="388800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15"/>
          <p:cNvGraphicFramePr/>
          <p:nvPr/>
        </p:nvGraphicFramePr>
        <p:xfrm>
          <a:off x="4572000" y="1413000"/>
          <a:ext cx="3863880" cy="2230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413000"/>
                    <a:ext cx="3863880" cy="22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16"/>
          <p:cNvGraphicFramePr/>
          <p:nvPr/>
        </p:nvGraphicFramePr>
        <p:xfrm>
          <a:off x="539640" y="3645000"/>
          <a:ext cx="3888000" cy="22478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5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645000"/>
                    <a:ext cx="388800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17"/>
          <p:cNvGraphicFramePr/>
          <p:nvPr/>
        </p:nvGraphicFramePr>
        <p:xfrm>
          <a:off x="4572000" y="3645000"/>
          <a:ext cx="3887640" cy="22446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27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645000"/>
                    <a:ext cx="3887640" cy="22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Text Box 18"/>
          <p:cNvSpPr/>
          <p:nvPr/>
        </p:nvSpPr>
        <p:spPr>
          <a:xfrm rot="19776000">
            <a:off x="4760640" y="4292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a004e"/>
                </a:solidFill>
                <a:latin typeface="Times New Roman"/>
              </a:rPr>
              <a:t>Toxic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Text Box 19"/>
          <p:cNvSpPr/>
          <p:nvPr/>
        </p:nvSpPr>
        <p:spPr>
          <a:xfrm rot="19776000">
            <a:off x="5506560" y="443664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a004e"/>
                </a:solidFill>
                <a:latin typeface="Times New Roman"/>
              </a:rPr>
              <a:t>Toxic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Text Box 20"/>
          <p:cNvSpPr/>
          <p:nvPr/>
        </p:nvSpPr>
        <p:spPr>
          <a:xfrm rot="19776000">
            <a:off x="6441840" y="4508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a004e"/>
                </a:solidFill>
                <a:latin typeface="Times New Roman"/>
              </a:rPr>
              <a:t>Toxic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Text Box 21"/>
          <p:cNvSpPr/>
          <p:nvPr/>
        </p:nvSpPr>
        <p:spPr>
          <a:xfrm rot="19776000">
            <a:off x="7306920" y="45810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a004e"/>
                </a:solidFill>
                <a:latin typeface="Times New Roman"/>
              </a:rPr>
              <a:t>Toxic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85400" y="0"/>
            <a:ext cx="70866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2340000" y="765000"/>
            <a:ext cx="4680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ose factor = 3.5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539640" y="5950080"/>
            <a:ext cx="79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30 ≤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R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≤ 1.91 for OARs, mean value quite similar to EBRT one (1.67 for 2 Gy/fr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35" name="Object 8"/>
          <p:cNvGraphicFramePr/>
          <p:nvPr/>
        </p:nvGraphicFramePr>
        <p:xfrm>
          <a:off x="4572000" y="3645000"/>
          <a:ext cx="3887640" cy="224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645000"/>
                    <a:ext cx="3887640" cy="22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9"/>
          <p:cNvSpPr/>
          <p:nvPr/>
        </p:nvSpPr>
        <p:spPr>
          <a:xfrm rot="19776000">
            <a:off x="4760640" y="4292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a004e"/>
                </a:solidFill>
                <a:latin typeface="Times New Roman"/>
              </a:rPr>
              <a:t>Toxic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 rot="19776000">
            <a:off x="5506560" y="443664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a004e"/>
                </a:solidFill>
                <a:latin typeface="Times New Roman"/>
              </a:rPr>
              <a:t>Toxic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Text Box 11"/>
          <p:cNvSpPr/>
          <p:nvPr/>
        </p:nvSpPr>
        <p:spPr>
          <a:xfrm rot="19776000">
            <a:off x="6441840" y="4508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a004e"/>
                </a:solidFill>
                <a:latin typeface="Times New Roman"/>
              </a:rPr>
              <a:t>Toxic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Text Box 12"/>
          <p:cNvSpPr/>
          <p:nvPr/>
        </p:nvSpPr>
        <p:spPr>
          <a:xfrm rot="19776000">
            <a:off x="7306920" y="45810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a004e"/>
                </a:solidFill>
                <a:latin typeface="Times New Roman"/>
              </a:rPr>
              <a:t>Toxic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41" name="Object 14"/>
          <p:cNvGraphicFramePr/>
          <p:nvPr/>
        </p:nvGraphicFramePr>
        <p:xfrm>
          <a:off x="539640" y="1413000"/>
          <a:ext cx="3888000" cy="2244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2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13000"/>
                    <a:ext cx="3888000" cy="22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15"/>
          <p:cNvSpPr/>
          <p:nvPr/>
        </p:nvSpPr>
        <p:spPr>
          <a:xfrm rot="19776000">
            <a:off x="537840" y="191592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a004e"/>
                </a:solidFill>
                <a:latin typeface="Times New Roman"/>
              </a:rPr>
              <a:t>Toxic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44" name="Object 16"/>
          <p:cNvGraphicFramePr/>
          <p:nvPr/>
        </p:nvGraphicFramePr>
        <p:xfrm>
          <a:off x="4572000" y="1413000"/>
          <a:ext cx="3887640" cy="22478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5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1413000"/>
                    <a:ext cx="38876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Text Box 17"/>
          <p:cNvSpPr/>
          <p:nvPr/>
        </p:nvSpPr>
        <p:spPr>
          <a:xfrm rot="19776000">
            <a:off x="5433480" y="191592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a004e"/>
                </a:solidFill>
                <a:latin typeface="Times New Roman"/>
              </a:rPr>
              <a:t>Toxic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47" name="Object 18"/>
          <p:cNvGraphicFramePr/>
          <p:nvPr/>
        </p:nvGraphicFramePr>
        <p:xfrm>
          <a:off x="611280" y="3716280"/>
          <a:ext cx="3816360" cy="2209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48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3716280"/>
                    <a:ext cx="38163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233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0093"/>
            </a:gs>
            <a:gs pos="50000">
              <a:srgbClr val="000000"/>
            </a:gs>
            <a:gs pos="100000">
              <a:srgbClr val="50009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8436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539640" y="1413000"/>
            <a:ext cx="853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Traditional therapeutic approach for non-Hodgkin lymphoma (NHL):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xternal beam radiotherapy (EBRT), alone or combined with chemotherapy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611280" y="2419200"/>
            <a:ext cx="8281800" cy="1081080"/>
          </a:xfrm>
          <a:prstGeom prst="rect">
            <a:avLst/>
          </a:prstGeom>
          <a:gradFill rotWithShape="0">
            <a:gsLst>
              <a:gs pos="0">
                <a:srgbClr val="630044"/>
              </a:gs>
              <a:gs pos="50000">
                <a:srgbClr val="d60093"/>
              </a:gs>
              <a:gs pos="100000">
                <a:srgbClr val="6300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or recurrent and refractory B-cell NHLs, Radioimmunotherapy (RIT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s promising </a:t>
            </a: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therapeutic approach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o simultaneously treat multiple tumor sites throughout the body (including diffuse disease).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611280" y="3860640"/>
            <a:ext cx="8281800" cy="1008360"/>
          </a:xfrm>
          <a:prstGeom prst="rect">
            <a:avLst/>
          </a:prstGeom>
          <a:gradFill rotWithShape="0">
            <a:gsLst>
              <a:gs pos="0">
                <a:srgbClr val="000808"/>
              </a:gs>
              <a:gs pos="50000">
                <a:srgbClr val="008080"/>
              </a:gs>
              <a:gs pos="100000">
                <a:srgbClr val="00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IT delivers exponentially decaying continuous low dose rate RT (CLDR RT). LDR irradiation has great effectiveness on NHLs, whilst normal tissue should be better able to tolerate irradiation.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611280" y="5229360"/>
            <a:ext cx="8136000" cy="10080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0000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RIT with Yttrium-90 (</a:t>
            </a:r>
            <a:r>
              <a:rPr b="1" lang="it-IT" sz="2000" spc="-1" strike="noStrike" baseline="30000">
                <a:solidFill>
                  <a:srgbClr val="ffff00"/>
                </a:solidFill>
                <a:latin typeface="Times New Roman"/>
              </a:rPr>
              <a:t>90</a:t>
            </a: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Y) ibritumomab tiuxetan (Zevalin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®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combines the tumor targeting attributes of a monoclonal antibody against the CD20 antigen and the pure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radiation of </a:t>
            </a:r>
            <a:r>
              <a:rPr b="1" lang="it-IT" sz="2000" spc="-1" strike="noStrike" baseline="30000">
                <a:solidFill>
                  <a:srgbClr val="ffff00"/>
                </a:solidFill>
                <a:latin typeface="Times New Roman"/>
              </a:rPr>
              <a:t>90</a:t>
            </a: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Y (up to 2.2 MeV)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684360" y="1268280"/>
            <a:ext cx="83516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osimetry and radiobiological evaluation are unavoidable in RIT with Zevalin at no standard dosag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factor of dose increment must be personalised on the basis of pre-treatment dosimetr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BED calculations are affected by large uncertainties associated with radiobiological paramete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owever, BED calculations are useful guidance in treatment planning, considering also that combined treatment strategy (RIT + EBRT boost) may be necessary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0093"/>
            </a:gs>
            <a:gs pos="50000">
              <a:srgbClr val="0d0018"/>
            </a:gs>
            <a:gs pos="100000">
              <a:srgbClr val="50009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8436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Aims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539640" y="1413000"/>
            <a:ext cx="8425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To perform dosimetric studies in terms of BED to OARs and tumor, comparing relative effectiveness (RE) in RIT with RE in external beam radiotherapy (EBRT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177840" indent="-177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177840" indent="-17784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To compare BED to OARs with </a:t>
            </a: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dose threshold for toxicity D</a:t>
            </a:r>
            <a:r>
              <a:rPr b="1" i="1" lang="en-GB" sz="2400" spc="-1" strike="noStrike" baseline="-25000">
                <a:solidFill>
                  <a:srgbClr val="ffff00"/>
                </a:solidFill>
                <a:latin typeface="Times New Roman"/>
              </a:rPr>
              <a:t>5,5</a:t>
            </a: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 of Emami, translated to BED</a:t>
            </a:r>
            <a:r>
              <a:rPr b="1" i="1" lang="en-GB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(D</a:t>
            </a:r>
            <a:r>
              <a:rPr b="1" i="1" lang="en-GB" sz="2400" spc="-1" strike="noStrike" baseline="-25000">
                <a:solidFill>
                  <a:srgbClr val="ffff00"/>
                </a:solidFill>
                <a:latin typeface="Times New Roman"/>
              </a:rPr>
              <a:t>5,5</a:t>
            </a: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) with  conventional 2 Gy/fr regime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177840" indent="-177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177840" indent="-17784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To investigate on the possibility to increase administration and to reach dose prescriptions to tumor similar to EBRT one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0093"/>
            </a:gs>
            <a:gs pos="50000">
              <a:srgbClr val="0d0018"/>
            </a:gs>
            <a:gs pos="100000">
              <a:srgbClr val="50009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Materials and Methods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187280" y="1341360"/>
            <a:ext cx="748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7 patients treated for NHL diffuse disease by 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</a:rPr>
              <a:t>9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Y-ibritumomab tiuxetan (Zevalin) at standard dosage (15 MBq/Kg)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187280" y="2276640"/>
            <a:ext cx="74170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ARs: 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iver, spleen, lungs, kidneys, heart walls, red marrow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1"/>
          <a:stretch/>
        </p:blipFill>
        <p:spPr>
          <a:xfrm>
            <a:off x="1403280" y="2863800"/>
            <a:ext cx="61930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0093"/>
            </a:gs>
            <a:gs pos="50000">
              <a:srgbClr val="0d0018"/>
            </a:gs>
            <a:gs pos="100000">
              <a:srgbClr val="50009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6300720" y="1197000"/>
            <a:ext cx="2592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Biokinetic was assessed by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85 MBq of 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</a:rPr>
              <a:t>111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-labeled antibody, administered before treatment as a “tracer”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by scintigraphic imaging performed from 10 min to 136 h after the administr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mission images were also acquired by 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</a:rPr>
              <a:t>111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-flood source to perform attenuation correc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5" name="Picture 10" descr="plan+trasm"/>
          <p:cNvPicPr/>
          <p:nvPr/>
        </p:nvPicPr>
        <p:blipFill>
          <a:blip r:embed="rId1"/>
          <a:stretch/>
        </p:blipFill>
        <p:spPr>
          <a:xfrm>
            <a:off x="611280" y="1139760"/>
            <a:ext cx="5545080" cy="52736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1"/>
          <p:cNvSpPr/>
          <p:nvPr/>
        </p:nvSpPr>
        <p:spPr>
          <a:xfrm>
            <a:off x="1403280" y="333360"/>
            <a:ext cx="67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Biokinetic studies for liver, spleen, lungs, kidneys, heart wall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042920" y="1486080"/>
            <a:ext cx="7416720" cy="30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Biokinetic was assessed on the base of blood withdrawals, b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gouros/AAPM model: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GB" sz="2000" spc="-1" strike="noStrike" baseline="-25000">
                <a:solidFill>
                  <a:srgbClr val="ffff00"/>
                </a:solidFill>
                <a:latin typeface="Times New Roman"/>
              </a:rPr>
              <a:t>RM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/A</a:t>
            </a:r>
            <a:r>
              <a:rPr b="1" lang="en-GB" sz="2000" spc="-1" strike="noStrike" baseline="-25000">
                <a:solidFill>
                  <a:srgbClr val="ffff00"/>
                </a:solidFill>
                <a:latin typeface="Times New Roman"/>
              </a:rPr>
              <a:t>Bl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= RMBLR m</a:t>
            </a:r>
            <a:r>
              <a:rPr b="1" lang="en-GB" sz="2000" spc="-1" strike="noStrike" baseline="-25000">
                <a:solidFill>
                  <a:srgbClr val="ffff00"/>
                </a:solidFill>
                <a:latin typeface="Times New Roman"/>
              </a:rPr>
              <a:t>RM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/m</a:t>
            </a:r>
            <a:r>
              <a:rPr b="1" lang="en-GB" sz="2000" spc="-1" strike="noStrike" baseline="-25000">
                <a:solidFill>
                  <a:srgbClr val="ffff00"/>
                </a:solidFill>
                <a:latin typeface="Times New Roman"/>
              </a:rPr>
              <a:t>B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GB" sz="2000" spc="-1" strike="noStrike" baseline="-25000">
                <a:solidFill>
                  <a:srgbClr val="ffff00"/>
                </a:solidFill>
                <a:latin typeface="Times New Roman"/>
              </a:rPr>
              <a:t>RM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= RMBLR [A]</a:t>
            </a:r>
            <a:r>
              <a:rPr b="1" lang="en-GB" sz="2000" spc="-1" strike="noStrike" baseline="-25000">
                <a:solidFill>
                  <a:srgbClr val="ffff00"/>
                </a:solidFill>
                <a:latin typeface="Times New Roman"/>
              </a:rPr>
              <a:t>Bl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m</a:t>
            </a:r>
            <a:r>
              <a:rPr b="1" lang="en-GB" sz="2000" spc="-1" strike="noStrike" baseline="-25000">
                <a:solidFill>
                  <a:srgbClr val="ffff00"/>
                </a:solidFill>
                <a:latin typeface="Times New Roman"/>
              </a:rPr>
              <a:t>R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where the term RMBLR (red-marrow-blood-ratio) depends on red marrow extra cellular fluid fraction and the hematocrit value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826920" y="547560"/>
            <a:ext cx="7777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Biokinetic studies for red marrow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042920" y="494028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Times New Roman"/>
              </a:rPr>
              <a:t>This model is valid under the assumptions of no binding to bone nor to marrow  for whole antibodies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042920" y="1773360"/>
            <a:ext cx="74898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y CT acquisition and slice contouring on ADAC Pinnacle TPS, corrections for individual organ volume were applied to biokinetic data, moreover individual organ masses were calculated for dose assessment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rnal dosimetry calculations are performed on the basis of the following input: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iokinetic dat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rgan volumes and mass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hole body mass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826920" y="547560"/>
            <a:ext cx="7777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Internal dosimetry calcula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826920" y="333360"/>
            <a:ext cx="7777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Internal dosimetry calcula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971640" y="1052640"/>
            <a:ext cx="784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ose calculations were performed by OLINDA/EXM software (FDA approved for internal dosimetry). The output is the mean physical dose absorbed by the organ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4" name="Picture 12" descr="Olinda1"/>
          <p:cNvPicPr/>
          <p:nvPr/>
        </p:nvPicPr>
        <p:blipFill>
          <a:blip r:embed="rId1"/>
          <a:stretch/>
        </p:blipFill>
        <p:spPr>
          <a:xfrm>
            <a:off x="395280" y="2060640"/>
            <a:ext cx="3692520" cy="2708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Olinda2"/>
          <p:cNvPicPr/>
          <p:nvPr/>
        </p:nvPicPr>
        <p:blipFill>
          <a:blip r:embed="rId2"/>
          <a:stretch/>
        </p:blipFill>
        <p:spPr>
          <a:xfrm>
            <a:off x="1187280" y="2349360"/>
            <a:ext cx="3691080" cy="2706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Olinda3"/>
          <p:cNvPicPr/>
          <p:nvPr/>
        </p:nvPicPr>
        <p:blipFill>
          <a:blip r:embed="rId3"/>
          <a:stretch/>
        </p:blipFill>
        <p:spPr>
          <a:xfrm>
            <a:off x="2124000" y="2708280"/>
            <a:ext cx="3672000" cy="2690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0" descr="Olinda4"/>
          <p:cNvPicPr/>
          <p:nvPr/>
        </p:nvPicPr>
        <p:blipFill>
          <a:blip r:embed="rId4"/>
          <a:stretch/>
        </p:blipFill>
        <p:spPr>
          <a:xfrm>
            <a:off x="3203640" y="3068640"/>
            <a:ext cx="3456000" cy="2687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3" descr="Olinda5"/>
          <p:cNvPicPr/>
          <p:nvPr/>
        </p:nvPicPr>
        <p:blipFill>
          <a:blip r:embed="rId5"/>
          <a:stretch/>
        </p:blipFill>
        <p:spPr>
          <a:xfrm>
            <a:off x="4356000" y="3500280"/>
            <a:ext cx="3635640" cy="2667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4" descr="Olinda6"/>
          <p:cNvPicPr/>
          <p:nvPr/>
        </p:nvPicPr>
        <p:blipFill>
          <a:blip r:embed="rId6"/>
          <a:stretch/>
        </p:blipFill>
        <p:spPr>
          <a:xfrm>
            <a:off x="5292720" y="3933720"/>
            <a:ext cx="3635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549360"/>
            <a:ext cx="70866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Times New Roman"/>
              </a:rPr>
              <a:t>Radiobiology</a:t>
            </a:r>
            <a:endParaRPr b="0" i="1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3"/>
              <p:cNvSpPr txBox="1"/>
              <p:nvPr/>
            </p:nvSpPr>
            <p:spPr>
              <a:xfrm>
                <a:off x="2700360" y="2276640"/>
                <a:ext cx="33116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αD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Gβ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Rectangle 4"/>
          <p:cNvSpPr/>
          <p:nvPr/>
        </p:nvSpPr>
        <p:spPr>
          <a:xfrm>
            <a:off x="826920" y="1628640"/>
            <a:ext cx="49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Q model and Lea-Catcheside facto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755640" y="4149720"/>
            <a:ext cx="7561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generalized Lea-Catcheside factor G for a time-dependent dose-rate is given as follows: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826920" y="2997360"/>
            <a:ext cx="7775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 expresses the reduction in cell kill due to sublethal damage repair during continuous irradiation and/or between fraction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0"/>
              <p:cNvSpPr txBox="1"/>
              <p:nvPr/>
            </p:nvSpPr>
            <p:spPr>
              <a:xfrm>
                <a:off x="2050920" y="5157720"/>
                <a:ext cx="48960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limUpp>
                          <m:e>
                            <m:r>
                              <m:t xml:space="preserve">D</m:t>
                            </m:r>
                          </m:e>
                          <m:lim/>
                        </m:limUpp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limUpp>
                          <m:e>
                            <m:r>
                              <m:t xml:space="preserve">D</m:t>
                            </m:r>
                          </m:e>
                          <m:lim/>
                        </m:limUpp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w</m:t>
                            </m:r>
                          </m:e>
                        </m:d>
                      </m:sup>
                    </m:sSup>
                    <m:r>
                      <m:rPr>
                        <m:lit/>
                        <m:nor/>
                      </m:rPr>
                      <m:t xml:space="preserve">d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3T23:40:54Z</dcterms:created>
  <dc:creator>Juan F. Batista Cuellar</dc:creator>
  <dc:description/>
  <dc:language>en-US</dc:language>
  <cp:lastModifiedBy>OEM</cp:lastModifiedBy>
  <cp:lastPrinted>2002-04-04T00:24:28Z</cp:lastPrinted>
  <dcterms:modified xsi:type="dcterms:W3CDTF">2008-07-04T16:37:14Z</dcterms:modified>
  <cp:revision>247</cp:revision>
  <dc:subject/>
  <dc:title>Internal Radiation Dosimetry of Cuban Radiopharmaceuticasl</dc:title>
</cp:coreProperties>
</file>