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5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4D8A-A751-4D12-B20B-71665CC6CB5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emessa: I due lavori affrontano tematiche affini ma complementari e si collocano nella fase di ricerca che mira alla trasposizione dei risultati della ricerca stessa sul terreno della sperimentazione clin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ché nel trattamento radioterapico, solitamente, gli OARs sono coinvolti da una distribuzione di dose non omogenea è possibile definire un indic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generalizzato come funzione del valore di dos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he equivale ad una frazione variabile della dose di prescrizione 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=f·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. Nella fattispecie si verifica che esiste un valore di dose critico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α/βo/α/β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per cui risulta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=1 e quindi invariante rispetto alla modifica del frazionamento: in seguito all’incremento della dose/frazione con pari effetto sul T, valori di dose maggiori di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isultano in una crescita della tossicità sulla componente seriale e, al tempo stesso, nella riduzione della tossicità per la componente paralle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1B5-78F6-4B8A-B3A5-FB89A796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844-C9EC-4600-9C4C-5BA3AAFA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CDD-CA90-47C0-8AF7-D882E9B1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2F2-790A-4E2D-B18A-D84001C3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4D0A-9289-4C7A-B8B8-5098D12F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B854-A7A8-43E4-B25C-62FF185C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1533-11BB-4D24-83E0-5FD4CDCF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B6AF-3178-4815-B019-89F49073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3F8C-BCD7-4FBA-B243-BBC64CA5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BF7B-DEEA-4B79-BAED-68B94BCF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286B-251B-4F8D-8010-5B079A5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FAF0-AEAD-4FE8-9D9B-3779612A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5D85-4E01-4900-BCB5-D3370021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6E95-620E-49D7-A264-DCE1139C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1AF8-1EDD-4CC9-A58E-9D1029AA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6ED7-2ECB-4E0D-AE79-8158C071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BB94-FF8B-45AE-9CB3-D88A57C3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423-F387-4485-8C70-1FA49633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1BF-41BA-40E4-B352-FFF0B2C9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F27-7A0E-411C-A709-76C925DF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35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522-10B8-4C97-B3E9-9A83EECA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098-EE13-4932-9383-3C3CBF6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41F-B4CA-46BB-A32E-D139D0F8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E12A-1D31-4491-A058-E832E78A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543E-51C3-4675-BAFC-DDA80B896322}" type="slidenum">
              <a:rPr b="0" lang="it-IT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178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7557-D552-4853-81E1-CFD459201FA3}" type="slidenum">
              <a:rPr b="0" lang="it-IT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aslna1.napoli.it/index.htm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aslna1.napoli.it/index.htm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1280" y="6093000"/>
            <a:ext cx="8172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Ospedale Oncologico Regionale C.R.O.B. Rionero in Vulture (Pz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OC Radioterapia P.O. Cardinale Ascalesi (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36000" y="5805360"/>
            <a:ext cx="655560" cy="7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3" name="" descr="Torna alla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62840" y="5805360"/>
            <a:ext cx="988920" cy="7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7170840" y="6597720"/>
            <a:ext cx="8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Times New Roman"/>
              </a:rPr>
              <a:t>IRCCS CR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35920" y="6597720"/>
            <a:ext cx="934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Times New Roman"/>
              </a:rPr>
              <a:t>PO ASCALE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220280"/>
            <a:ext cx="65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dicini. P.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azziotta M; 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lemente S.; 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ammarota F; 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astaldo G.; 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usco V.;  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anzo R.; 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avo V.; 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ut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CONGRESSO NAZIONALE A.I.R.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Società Italiana di Radiobi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6080" y="126756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c0000"/>
                </a:solidFill>
                <a:latin typeface="Times New Roman"/>
              </a:rPr>
              <a:t>L’Aquila 4-5 Luglio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47600" y="260280"/>
            <a:ext cx="3200400" cy="134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71640" y="2857680"/>
            <a:ext cx="741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ub-Unità funzionali in serie e in parallel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effetto della modifica del frazionamento di d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Obiettiv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859280" y="2708280"/>
            <a:ext cx="3805200" cy="685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53880" y="2565360"/>
            <a:ext cx="3641760" cy="2879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11280" y="1916280"/>
            <a:ext cx="3313080" cy="459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>
                  <a:alpha val="90196"/>
                </a:srgbClr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stogrammi dose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31400">
            <a:off x="3995640" y="4869000"/>
            <a:ext cx="1295640" cy="431640"/>
          </a:xfrm>
          <a:prstGeom prst="rightArrow">
            <a:avLst>
              <a:gd name="adj1" fmla="val 50000"/>
              <a:gd name="adj2" fmla="val 75042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400000">
            <a:off x="6227640" y="4005000"/>
            <a:ext cx="1152360" cy="432000"/>
          </a:xfrm>
          <a:prstGeom prst="rightArrow">
            <a:avLst>
              <a:gd name="adj1" fmla="val 50000"/>
              <a:gd name="adj2" fmla="val 6668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19640" y="1954080"/>
            <a:ext cx="3313080" cy="459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>
                  <a:alpha val="90196"/>
                </a:srgbClr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delli radiobi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5189400"/>
            <a:ext cx="3313080" cy="8254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>
                  <a:alpha val="90196"/>
                </a:srgbClr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razionamenti non conven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790960" cy="4606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26920" y="2327400"/>
            <a:ext cx="7417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Meto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2124000" y="3500280"/>
            <a:ext cx="1368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92360" y="3500280"/>
            <a:ext cx="0" cy="230508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93760" y="4605480"/>
            <a:ext cx="216072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53040" y="4581360"/>
            <a:ext cx="0" cy="12240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2205000"/>
            <a:ext cx="0" cy="360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34920" y="3164040"/>
            <a:ext cx="1081440" cy="370800"/>
            <a:chOff x="3634920" y="3164040"/>
            <a:chExt cx="1081440" cy="370800"/>
          </a:xfrm>
        </p:grpSpPr>
        <p:grpSp>
          <p:nvGrpSpPr>
            <p:cNvPr id="255" name=""/>
            <p:cNvGrpSpPr/>
            <p:nvPr/>
          </p:nvGrpSpPr>
          <p:grpSpPr>
            <a:xfrm>
              <a:off x="3995640" y="3164040"/>
              <a:ext cx="720720" cy="370800"/>
              <a:chOff x="3995640" y="3164040"/>
              <a:chExt cx="720720" cy="370800"/>
            </a:xfrm>
          </p:grpSpPr>
          <p:sp>
            <p:nvSpPr>
              <p:cNvPr id="256" name=""/>
              <p:cNvSpPr/>
              <p:nvPr/>
            </p:nvSpPr>
            <p:spPr>
              <a:xfrm>
                <a:off x="3997080" y="3164040"/>
                <a:ext cx="7192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r>
                  <a:rPr b="0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995640" y="3213000"/>
                <a:ext cx="0" cy="28728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995640" y="3500280"/>
                <a:ext cx="289080" cy="0"/>
              </a:xfrm>
              <a:prstGeom prst="line">
                <a:avLst/>
              </a:prstGeom>
              <a:ln w="2844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H="1">
              <a:off x="3634920" y="350028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354560" y="4221000"/>
            <a:ext cx="1152360" cy="370800"/>
            <a:chOff x="4354560" y="4221000"/>
            <a:chExt cx="1152360" cy="370800"/>
          </a:xfrm>
        </p:grpSpPr>
        <p:grpSp>
          <p:nvGrpSpPr>
            <p:cNvPr id="261" name=""/>
            <p:cNvGrpSpPr/>
            <p:nvPr/>
          </p:nvGrpSpPr>
          <p:grpSpPr>
            <a:xfrm>
              <a:off x="4788000" y="4221000"/>
              <a:ext cx="718920" cy="370800"/>
              <a:chOff x="4788000" y="4221000"/>
              <a:chExt cx="718920" cy="370800"/>
            </a:xfrm>
          </p:grpSpPr>
          <p:sp>
            <p:nvSpPr>
              <p:cNvPr id="262" name=""/>
              <p:cNvSpPr/>
              <p:nvPr/>
            </p:nvSpPr>
            <p:spPr>
              <a:xfrm>
                <a:off x="4788000" y="4221000"/>
                <a:ext cx="7189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DT</a:t>
                </a:r>
                <a:r>
                  <a:rPr b="0" lang="it-IT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1/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788000" y="4292640"/>
                <a:ext cx="0" cy="28728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788000" y="4579920"/>
                <a:ext cx="288720" cy="144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 flipH="1">
              <a:off x="4354560" y="45813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Cinetica cellulare 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6856560" cy="43196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979640" y="1989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5640" y="2997360"/>
            <a:ext cx="14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+T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27640" y="400536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p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547640" y="4149720"/>
            <a:ext cx="2087640" cy="358920"/>
            <a:chOff x="1547640" y="4149720"/>
            <a:chExt cx="2087640" cy="358920"/>
          </a:xfrm>
        </p:grpSpPr>
        <p:sp>
          <p:nvSpPr>
            <p:cNvPr id="272" name=""/>
            <p:cNvSpPr/>
            <p:nvPr/>
          </p:nvSpPr>
          <p:spPr>
            <a:xfrm>
              <a:off x="1547640" y="429408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35280" y="41497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547640" y="5300640"/>
            <a:ext cx="4176720" cy="504720"/>
            <a:chOff x="1547640" y="5300640"/>
            <a:chExt cx="4176720" cy="504720"/>
          </a:xfrm>
        </p:grpSpPr>
        <p:sp>
          <p:nvSpPr>
            <p:cNvPr id="275" name=""/>
            <p:cNvSpPr/>
            <p:nvPr/>
          </p:nvSpPr>
          <p:spPr>
            <a:xfrm>
              <a:off x="1547640" y="551628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24360" y="530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195640" y="4292640"/>
            <a:ext cx="1512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onset (Ripa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7280" y="5553000"/>
            <a:ext cx="27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onset (Ripopolazione Acceler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907640" y="2421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140000" y="3429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43640" y="4508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43280" y="2421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,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arg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627280" y="285264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Cinetica cellulare OA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042920" y="2208240"/>
            <a:ext cx="6834240" cy="4319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4354560" y="306864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15280" y="3789360"/>
            <a:ext cx="79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530360" y="4294080"/>
            <a:ext cx="2304720" cy="358920"/>
            <a:chOff x="1530360" y="4294080"/>
            <a:chExt cx="2304720" cy="358920"/>
          </a:xfrm>
        </p:grpSpPr>
        <p:sp>
          <p:nvSpPr>
            <p:cNvPr id="289" name=""/>
            <p:cNvSpPr/>
            <p:nvPr/>
          </p:nvSpPr>
          <p:spPr>
            <a:xfrm>
              <a:off x="1530360" y="4438440"/>
              <a:ext cx="23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35080" y="42940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509840" y="5300640"/>
            <a:ext cx="4968360" cy="504720"/>
            <a:chOff x="1509840" y="5300640"/>
            <a:chExt cx="4968360" cy="504720"/>
          </a:xfrm>
        </p:grpSpPr>
        <p:sp>
          <p:nvSpPr>
            <p:cNvPr id="292" name=""/>
            <p:cNvSpPr/>
            <p:nvPr/>
          </p:nvSpPr>
          <p:spPr>
            <a:xfrm>
              <a:off x="1509840" y="5516280"/>
              <a:ext cx="49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78200" y="530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122560" y="4508640"/>
            <a:ext cx="14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onset (Ripa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82920" y="5516640"/>
            <a:ext cx="324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onset (Proliferazione Compens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354560" y="3500280"/>
            <a:ext cx="216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75640" y="429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349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 , 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338560" y="278136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619280" y="5445000"/>
            <a:ext cx="6056280" cy="11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 Black"/>
              </a:rPr>
              <a:t>Funzione di costo radiobiologic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33520" y="1685880"/>
            <a:ext cx="80787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Valori FC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50920" y="2997360"/>
            <a:ext cx="4392360" cy="3440520"/>
            <a:chOff x="250920" y="2997360"/>
            <a:chExt cx="4392360" cy="3440520"/>
          </a:xfrm>
        </p:grpSpPr>
        <p:sp>
          <p:nvSpPr>
            <p:cNvPr id="305" name=""/>
            <p:cNvSpPr/>
            <p:nvPr/>
          </p:nvSpPr>
          <p:spPr>
            <a:xfrm>
              <a:off x="1692360" y="2997360"/>
              <a:ext cx="1655640" cy="579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it-IT" sz="2800" spc="-1" strike="noStrike" baseline="-25000">
                  <a:solidFill>
                    <a:srgbClr val="000000"/>
                  </a:solidFill>
                  <a:latin typeface="Times New Roman"/>
                </a:rPr>
                <a:t>interfraz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23920" y="3672000"/>
              <a:ext cx="63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3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4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6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8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2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49800" y="3672000"/>
              <a:ext cx="637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36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48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60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72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84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0920" y="5734080"/>
              <a:ext cx="2087640" cy="7038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>
                    <a:alpha val="70196"/>
                  </a:srgbClr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Frazionamento accele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56000" y="5734080"/>
              <a:ext cx="2087280" cy="7038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>
                    <a:alpha val="70196"/>
                  </a:srgbClr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Frazionamento ritard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789440" y="2971800"/>
            <a:ext cx="4390920" cy="3304080"/>
            <a:chOff x="4789440" y="2971800"/>
            <a:chExt cx="4390920" cy="3304080"/>
          </a:xfrm>
        </p:grpSpPr>
        <p:sp>
          <p:nvSpPr>
            <p:cNvPr id="311" name=""/>
            <p:cNvSpPr/>
            <p:nvPr/>
          </p:nvSpPr>
          <p:spPr>
            <a:xfrm>
              <a:off x="5362560" y="2971800"/>
              <a:ext cx="2233800" cy="520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imes New Roman"/>
                </a:rPr>
                <a:t>dose/fraz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1440" y="2971800"/>
              <a:ext cx="16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(BED su 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61000" y="3645000"/>
              <a:ext cx="587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n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53080" y="3579840"/>
              <a:ext cx="65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n+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724360" y="4437000"/>
              <a:ext cx="50328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24720" y="4437000"/>
              <a:ext cx="503280" cy="8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21560" y="513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53440" y="51325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89440" y="5877000"/>
              <a:ext cx="2087640" cy="39888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>
                    <a:alpha val="66274"/>
                  </a:srgbClr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Ipofrazion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48360" y="5877000"/>
              <a:ext cx="2124360" cy="39888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>
                    <a:alpha val="68235"/>
                  </a:srgbClr>
                </a:gs>
                <a:gs pos="100000">
                  <a:srgbClr val="65656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Iperfrazion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71360" y="1989000"/>
            <a:ext cx="8793360" cy="53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22" name=""/>
          <p:cNvGrpSpPr/>
          <p:nvPr/>
        </p:nvGrpSpPr>
        <p:grpSpPr>
          <a:xfrm>
            <a:off x="3780000" y="1917720"/>
            <a:ext cx="4248000" cy="1295280"/>
            <a:chOff x="3780000" y="1917720"/>
            <a:chExt cx="4248000" cy="1295280"/>
          </a:xfrm>
        </p:grpSpPr>
        <p:sp>
          <p:nvSpPr>
            <p:cNvPr id="323" name=""/>
            <p:cNvSpPr/>
            <p:nvPr/>
          </p:nvSpPr>
          <p:spPr>
            <a:xfrm>
              <a:off x="6516720" y="1917720"/>
              <a:ext cx="1511280" cy="647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3780000" y="2349360"/>
              <a:ext cx="2808000" cy="863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812000" y="1916280"/>
            <a:ext cx="1225800" cy="1081080"/>
            <a:chOff x="7812000" y="1916280"/>
            <a:chExt cx="1225800" cy="1081080"/>
          </a:xfrm>
        </p:grpSpPr>
        <p:sp>
          <p:nvSpPr>
            <p:cNvPr id="326" name=""/>
            <p:cNvSpPr/>
            <p:nvPr/>
          </p:nvSpPr>
          <p:spPr>
            <a:xfrm>
              <a:off x="8101080" y="1916280"/>
              <a:ext cx="936720" cy="647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812000" y="2492280"/>
              <a:ext cx="432000" cy="505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Minimo FC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311560" y="4005000"/>
            <a:ext cx="2016000" cy="1716480"/>
            <a:chOff x="2311560" y="4005000"/>
            <a:chExt cx="2016000" cy="1716480"/>
          </a:xfrm>
        </p:grpSpPr>
        <p:sp>
          <p:nvSpPr>
            <p:cNvPr id="330" name=""/>
            <p:cNvSpPr/>
            <p:nvPr/>
          </p:nvSpPr>
          <p:spPr>
            <a:xfrm>
              <a:off x="2311560" y="5141880"/>
              <a:ext cx="2016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Minimo A</a:t>
              </a:r>
              <a:r>
                <a:rPr b="1" lang="it-IT" sz="28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2706840" y="4401720"/>
              <a:ext cx="1152360" cy="358920"/>
            </a:xfrm>
            <a:prstGeom prst="rightArrow">
              <a:avLst>
                <a:gd name="adj1" fmla="val 50000"/>
                <a:gd name="adj2" fmla="val 8026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407200" y="4005000"/>
            <a:ext cx="2304720" cy="1716480"/>
            <a:chOff x="5407200" y="4005000"/>
            <a:chExt cx="2304720" cy="1716480"/>
          </a:xfrm>
        </p:grpSpPr>
        <p:sp>
          <p:nvSpPr>
            <p:cNvPr id="333" name=""/>
            <p:cNvSpPr/>
            <p:nvPr/>
          </p:nvSpPr>
          <p:spPr>
            <a:xfrm>
              <a:off x="5407200" y="5141880"/>
              <a:ext cx="2304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Massimo </a:t>
              </a:r>
              <a:r>
                <a:rPr b="1" lang="it-IT" sz="28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it-IT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it-IT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5947920" y="4401720"/>
              <a:ext cx="1152360" cy="358560"/>
            </a:xfrm>
            <a:prstGeom prst="rightArrow">
              <a:avLst>
                <a:gd name="adj1" fmla="val 50000"/>
                <a:gd name="adj2" fmla="val 8034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5803920" cy="115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Programma di calcol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2276640"/>
            <a:ext cx="2736720" cy="136836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dddddd">
                  <a:alpha val="68235"/>
                </a:srgbClr>
              </a:gs>
              <a:gs pos="100000">
                <a:srgbClr val="7b7b7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76360" y="2637000"/>
            <a:ext cx="1511280" cy="576000"/>
          </a:xfrm>
          <a:prstGeom prst="rightArrow">
            <a:avLst>
              <a:gd name="adj1" fmla="val 50000"/>
              <a:gd name="adj2" fmla="val 6559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3800" y="2637000"/>
            <a:ext cx="1511280" cy="576000"/>
          </a:xfrm>
          <a:prstGeom prst="rightArrow">
            <a:avLst>
              <a:gd name="adj1" fmla="val 50000"/>
              <a:gd name="adj2" fmla="val 6559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35280" y="2637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58920" y="1989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156360" y="1989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16000" y="3952800"/>
            <a:ext cx="1944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VH, 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po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onset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onset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71640" y="3355920"/>
            <a:ext cx="2089080" cy="28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83280" y="3355920"/>
            <a:ext cx="2089080" cy="288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27640" y="414972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s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se/f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mpo interf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560" y="620640"/>
            <a:ext cx="33735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 Black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"/>
          <p:cNvSpPr/>
          <p:nvPr/>
        </p:nvSpPr>
        <p:spPr>
          <a:xfrm>
            <a:off x="2087640" y="1700280"/>
            <a:ext cx="5040360" cy="4597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>
                  <a:alpha val="62352"/>
                </a:srgbClr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terruzione forzata del trat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19280" y="2421000"/>
            <a:ext cx="4176720" cy="4597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>
                  <a:alpha val="62352"/>
                </a:srgbClr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udio delle re-irradi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34920" y="3178080"/>
            <a:ext cx="7382160" cy="4597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>
                  <a:alpha val="60392"/>
                </a:srgbClr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ariazioni del frazionamento in corso di trat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66920" y="3932280"/>
            <a:ext cx="6518160" cy="4597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>
                  <a:alpha val="62352"/>
                </a:srgbClr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alisi a priori di programmi di dose esca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446200" y="5338800"/>
            <a:ext cx="4286160" cy="1323000"/>
            <a:chOff x="2446200" y="5338800"/>
            <a:chExt cx="4286160" cy="1323000"/>
          </a:xfrm>
        </p:grpSpPr>
        <p:sp>
          <p:nvSpPr>
            <p:cNvPr id="353" name=""/>
            <p:cNvSpPr/>
            <p:nvPr/>
          </p:nvSpPr>
          <p:spPr>
            <a:xfrm>
              <a:off x="2446200" y="6202080"/>
              <a:ext cx="42861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razionamento personalizz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17840" y="5338800"/>
              <a:ext cx="576360" cy="718920"/>
            </a:xfrm>
            <a:prstGeom prst="downArrow">
              <a:avLst>
                <a:gd name="adj1" fmla="val 50000"/>
                <a:gd name="adj2" fmla="val 31184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979640" y="4691160"/>
            <a:ext cx="5184720" cy="45972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>
                  <a:alpha val="62352"/>
                </a:srgbClr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tegrazione farmaci bi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Frazionamenti modifica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1989000"/>
            <a:ext cx="259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raf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1989000"/>
            <a:ext cx="25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erf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4720" y="30430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rradiazione non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30384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ttore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797360"/>
            <a:ext cx="3672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razionamento modifi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6130800"/>
            <a:ext cx="3313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perimentazione Cli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3461400">
            <a:off x="2959200" y="4033800"/>
            <a:ext cx="976320" cy="341280"/>
          </a:xfrm>
          <a:prstGeom prst="rightArrow">
            <a:avLst>
              <a:gd name="adj1" fmla="val 50000"/>
              <a:gd name="adj2" fmla="val 715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7199400">
            <a:off x="5190840" y="4033440"/>
            <a:ext cx="976320" cy="341280"/>
          </a:xfrm>
          <a:prstGeom prst="rightArrow">
            <a:avLst>
              <a:gd name="adj1" fmla="val 50000"/>
              <a:gd name="adj2" fmla="val 715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7164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12000" y="2565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5516640"/>
            <a:ext cx="431640" cy="433440"/>
          </a:xfrm>
          <a:prstGeom prst="downArrow">
            <a:avLst>
              <a:gd name="adj1" fmla="val 50000"/>
              <a:gd name="adj2" fmla="val 2510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Analisi sul DV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5614920" cy="3433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9280" y="180972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i quantitativa sul DVH: valutazione di alti valori di dose di su piccoli volumi per gli organi seriali; valutazione di bassi valori di dose su volumi estesi per gli organi paralle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500720" y="4653000"/>
            <a:ext cx="3166920" cy="1440000"/>
            <a:chOff x="4500720" y="4653000"/>
            <a:chExt cx="3166920" cy="1440000"/>
          </a:xfrm>
        </p:grpSpPr>
        <p:sp>
          <p:nvSpPr>
            <p:cNvPr id="117" name=""/>
            <p:cNvSpPr/>
            <p:nvPr/>
          </p:nvSpPr>
          <p:spPr>
            <a:xfrm flipH="1">
              <a:off x="4500720" y="5084640"/>
              <a:ext cx="792000" cy="10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19640" y="4653000"/>
              <a:ext cx="24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Dose di tolleranza su componenti seria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907640" y="4005360"/>
            <a:ext cx="2808720" cy="703800"/>
            <a:chOff x="1907640" y="4005360"/>
            <a:chExt cx="2808720" cy="703800"/>
          </a:xfrm>
        </p:grpSpPr>
        <p:sp>
          <p:nvSpPr>
            <p:cNvPr id="120" name=""/>
            <p:cNvSpPr/>
            <p:nvPr/>
          </p:nvSpPr>
          <p:spPr>
            <a:xfrm flipH="1">
              <a:off x="1907640" y="4365720"/>
              <a:ext cx="360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68360" y="4005360"/>
              <a:ext cx="24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Dose di tolleranza su componenti paralle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Indice di tossicità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844640"/>
            <a:ext cx="820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odifica di frazionamento di dose ha un effetto sulle componenti seriali e parallele, di un organo o di organi differenti, che può essere descritta con una nuova grandezza radiobiologica denominata “Indice di tossicità relativa”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ata dal rapporto, valutato con il modello lineare-quadratico, dell’effetto del frazionamento modificato rispetto a quello standard a parità di effetto sul volume bersaglio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36840" y="6058080"/>
            <a:ext cx="5936760" cy="459720"/>
          </a:xfrm>
          <a:prstGeom prst="rect">
            <a:avLst/>
          </a:prstGeom>
          <a:solidFill>
            <a:srgbClr val="ff9933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: aumento della tossicità del fraz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340000" y="4983120"/>
                <a:ext cx="407016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α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α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4211640" y="4508640"/>
            <a:ext cx="4392720" cy="1296720"/>
            <a:chOff x="4211640" y="4508640"/>
            <a:chExt cx="4392720" cy="1296720"/>
          </a:xfrm>
        </p:grpSpPr>
        <p:sp>
          <p:nvSpPr>
            <p:cNvPr id="127" name=""/>
            <p:cNvSpPr/>
            <p:nvPr/>
          </p:nvSpPr>
          <p:spPr>
            <a:xfrm>
              <a:off x="4211640" y="5373720"/>
              <a:ext cx="431640" cy="431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643280" y="4797360"/>
              <a:ext cx="2233800" cy="719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4508640"/>
              <a:ext cx="1584360" cy="459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BED sul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Irradiazione non unifor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473120" y="3857760"/>
                <a:ext cx="1981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66560" y="1989000"/>
                <a:ext cx="3168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3705120"/>
            <a:ext cx="4897440" cy="29955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068720" y="2205000"/>
            <a:ext cx="863640" cy="287280"/>
          </a:xfrm>
          <a:prstGeom prst="rightArrow">
            <a:avLst>
              <a:gd name="adj1" fmla="val 50000"/>
              <a:gd name="adj2" fmla="val 7515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5084640"/>
            <a:ext cx="115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508464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908000" y="4797360"/>
            <a:ext cx="793800" cy="1440000"/>
            <a:chOff x="1908000" y="4797360"/>
            <a:chExt cx="793800" cy="1440000"/>
          </a:xfrm>
        </p:grpSpPr>
        <p:sp>
          <p:nvSpPr>
            <p:cNvPr id="138" name=""/>
            <p:cNvSpPr/>
            <p:nvPr/>
          </p:nvSpPr>
          <p:spPr>
            <a:xfrm>
              <a:off x="2340000" y="479736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908000" y="5229360"/>
              <a:ext cx="50328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211280" y="5013360"/>
            <a:ext cx="648000" cy="1295280"/>
            <a:chOff x="4211280" y="5013360"/>
            <a:chExt cx="648000" cy="1295280"/>
          </a:xfrm>
        </p:grpSpPr>
        <p:sp>
          <p:nvSpPr>
            <p:cNvPr id="141" name=""/>
            <p:cNvSpPr/>
            <p:nvPr/>
          </p:nvSpPr>
          <p:spPr>
            <a:xfrm>
              <a:off x="4425840" y="5013360"/>
              <a:ext cx="43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it-IT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211280" y="5445000"/>
              <a:ext cx="36036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55640" y="4221000"/>
            <a:ext cx="1728720" cy="792360"/>
            <a:chOff x="755640" y="4221000"/>
            <a:chExt cx="1728720" cy="792360"/>
          </a:xfrm>
        </p:grpSpPr>
        <p:sp>
          <p:nvSpPr>
            <p:cNvPr id="144" name=""/>
            <p:cNvSpPr/>
            <p:nvPr/>
          </p:nvSpPr>
          <p:spPr>
            <a:xfrm>
              <a:off x="1547640" y="4221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V(</a:t>
              </a:r>
              <a:r>
                <a:rPr b="0" i="1" lang="it-IT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55640" y="458136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50920" y="2997360"/>
            <a:ext cx="1368360" cy="510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 = d / 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8360" y="285264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70520" y="5013360"/>
            <a:ext cx="27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α/β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α/β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17080" y="350028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48360" y="4292640"/>
            <a:ext cx="360360" cy="504720"/>
          </a:xfrm>
          <a:prstGeom prst="downArrow">
            <a:avLst>
              <a:gd name="adj1" fmla="val 50000"/>
              <a:gd name="adj2" fmla="val 350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076720" y="2133720"/>
                <a:ext cx="35784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α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003640" y="2058840"/>
            <a:ext cx="576360" cy="578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08000" y="1773360"/>
          <a:ext cx="3670200" cy="251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773360"/>
                    <a:ext cx="36702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572000" y="1773360"/>
          <a:ext cx="3670200" cy="251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773360"/>
                    <a:ext cx="36702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11240" y="4292640"/>
          <a:ext cx="3670200" cy="2519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240" y="4292640"/>
                    <a:ext cx="367020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572000" y="4294080"/>
          <a:ext cx="3670200" cy="2519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294080"/>
                    <a:ext cx="367020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 flipV="1">
            <a:off x="3492360" y="2349360"/>
            <a:ext cx="0" cy="172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03640" y="2420640"/>
            <a:ext cx="0" cy="165564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1989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276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220500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40000" y="249228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184464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2133720"/>
            <a:ext cx="934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08360" y="2433600"/>
            <a:ext cx="86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08360" y="272268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,5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44000" y="1785960"/>
            <a:ext cx="86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44000" y="207504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4305240"/>
            <a:ext cx="86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459432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4233960"/>
            <a:ext cx="86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44000" y="452268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5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 Black"/>
              </a:rPr>
              <a:t>Retto nel trattamento della prostata (d* </a:t>
            </a:r>
            <a:r>
              <a:rPr b="0" lang="it-IT" sz="3200" spc="-1" strike="noStrike">
                <a:solidFill>
                  <a:srgbClr val="000000"/>
                </a:solidFill>
                <a:latin typeface="Arial Black"/>
              </a:rPr>
              <a:t>&gt; d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Ipofrazionamento (d*&lt; d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8000" y="1882800"/>
          <a:ext cx="3598920" cy="23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82800"/>
                    <a:ext cx="359892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572000" y="1886040"/>
          <a:ext cx="3598920" cy="2340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86040"/>
                    <a:ext cx="359892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08000" y="4402080"/>
          <a:ext cx="3598920" cy="2158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4402080"/>
                    <a:ext cx="359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572000" y="4402080"/>
          <a:ext cx="3598920" cy="21589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402080"/>
                    <a:ext cx="359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 flipV="1">
            <a:off x="2411280" y="2276640"/>
            <a:ext cx="1800" cy="158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2565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00360" y="2421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2852640"/>
            <a:ext cx="50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87640" y="2781360"/>
            <a:ext cx="289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877080" y="2276640"/>
            <a:ext cx="0" cy="158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340000" y="4797360"/>
            <a:ext cx="0" cy="1440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877080" y="4795920"/>
            <a:ext cx="0" cy="14414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184464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213372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2433600"/>
            <a:ext cx="86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35280" y="272268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,5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72360" y="2492280"/>
            <a:ext cx="86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72360" y="278136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35280" y="5013360"/>
            <a:ext cx="86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35280" y="530208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,5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72360" y="4952880"/>
            <a:ext cx="86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72360" y="524196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4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 Black"/>
              </a:rPr>
              <a:t>Iperfrazionamento (d*&lt; d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9280" y="1844640"/>
          <a:ext cx="3598920" cy="215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359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643280" y="1844640"/>
          <a:ext cx="3598920" cy="215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844640"/>
                    <a:ext cx="359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79280" y="4365720"/>
          <a:ext cx="3598920" cy="2158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4365720"/>
                    <a:ext cx="359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643280" y="4365720"/>
          <a:ext cx="3598920" cy="21589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4365720"/>
                    <a:ext cx="359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 flipV="1">
            <a:off x="2484360" y="2205000"/>
            <a:ext cx="0" cy="1511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484360" y="4726080"/>
            <a:ext cx="0" cy="1511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948360" y="2205000"/>
            <a:ext cx="0" cy="1511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948360" y="4726080"/>
            <a:ext cx="0" cy="1511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6920" y="184464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6920" y="213372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6920" y="2433600"/>
            <a:ext cx="86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6920" y="272268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8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44000" y="2492280"/>
            <a:ext cx="86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4000" y="278136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6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06920" y="5013360"/>
            <a:ext cx="86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6920" y="5302080"/>
            <a:ext cx="100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4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44000" y="4952880"/>
            <a:ext cx="863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4000" y="5241960"/>
            <a:ext cx="900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it-IT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2 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1280" y="6093000"/>
            <a:ext cx="817272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Ospedale Oncologico Regionale C.R.O.B. Rionero in Vulture (Pz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UOC Radioterapia P.O. Cardinale Ascalesi (N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36000" y="5805360"/>
            <a:ext cx="655560" cy="7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0" name="" descr="Torna alla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962840" y="5805360"/>
            <a:ext cx="988920" cy="71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1" name=""/>
          <p:cNvSpPr/>
          <p:nvPr/>
        </p:nvSpPr>
        <p:spPr>
          <a:xfrm>
            <a:off x="7170840" y="6597720"/>
            <a:ext cx="8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Times New Roman"/>
              </a:rPr>
              <a:t>IRCCS CRO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35920" y="6597720"/>
            <a:ext cx="934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0000"/>
                </a:solidFill>
                <a:latin typeface="Times New Roman"/>
              </a:rPr>
              <a:t>PO ASCALE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5000" y="4651920"/>
            <a:ext cx="88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Times New Roman"/>
              </a:rPr>
              <a:t>Pedicini. P.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azziotta M; 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astaldo G.; 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usco V.;  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anzo R.; 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avo V.; </a:t>
            </a:r>
            <a:r>
              <a:rPr b="0" i="1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Mut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42920" y="2852640"/>
            <a:ext cx="741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fattore tempo in radiobiologia: un modello innovativo per la ricerca di frazionamenti non convenzionali in radio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33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CONGRESSO NAZIONALE A.I.R.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Times New Roman"/>
              </a:rPr>
              <a:t>Società Italiana di Radiobi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36080" y="126756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c0000"/>
                </a:solidFill>
                <a:latin typeface="Times New Roman"/>
              </a:rPr>
              <a:t>L’Aquila 4-5 Luglio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47600" y="260280"/>
            <a:ext cx="32004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8T17:25:17Z</dcterms:created>
  <dc:creator>francesco</dc:creator>
  <dc:description/>
  <dc:language>en-US</dc:language>
  <cp:lastModifiedBy>Piernicola</cp:lastModifiedBy>
  <dcterms:modified xsi:type="dcterms:W3CDTF">2008-07-04T09:52:04Z</dcterms:modified>
  <cp:revision>55</cp:revision>
  <dc:subject/>
  <dc:title>Esame di Biofisica Prof. Grossi</dc:title>
</cp:coreProperties>
</file>