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DD7-6675-4DA4-9C03-B7BCDF94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088-B9E3-4CF9-B237-867E5785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0AF-7594-4FF1-A4C3-6635A32A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F31-B06A-43FD-A989-8DD89796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964-866F-4224-8C86-2303385B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041-2B36-40BE-916B-97DB4498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C38-3FA6-4FFD-86ED-A00234BD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F3B-369D-4CAF-BA40-BEE208C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773-3653-4B7C-88CF-7BDCC5A8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9C5-36B9-4E96-B03E-FE81633F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5A5-A183-49C6-AF4D-A1695318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AAE-E41E-4DF7-8709-0E489355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EAC4-9F65-4A63-B6E8-FD7F439DB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078440" cy="648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27640" y="4900680"/>
            <a:ext cx="4465440" cy="15670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00"/>
                </a:solidFill>
                <a:latin typeface="Verdana"/>
              </a:rPr>
              <a:t>Giovanni Silvano, Grazia Lazzari, Boris Giuseppe Augel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00"/>
                </a:solidFill>
                <a:latin typeface="Verdana"/>
              </a:rPr>
              <a:t>S.C. Radioterapia Oncolo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00"/>
                </a:solidFill>
                <a:latin typeface="Verdana"/>
              </a:rPr>
              <a:t>Dipartimento di Scienze Oncologiche ASL TA/1 - Tara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7640" y="189000"/>
            <a:ext cx="4464000" cy="4535280"/>
          </a:xfrm>
          <a:prstGeom prst="rect">
            <a:avLst/>
          </a:prstGeom>
          <a:solidFill>
            <a:srgbClr val="336699"/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c00"/>
                </a:solidFill>
                <a:latin typeface="Arial"/>
              </a:rPr>
              <a:t>POSTOPERATIVE HYPOFRACTIONATED WHOLE BREAST RT  (WBhRT) </a:t>
            </a:r>
            <a:br>
              <a:rPr sz="2800"/>
            </a:br>
            <a:r>
              <a:rPr b="1" i="1" lang="it-IT" sz="2800" spc="-1" strike="noStrike">
                <a:solidFill>
                  <a:srgbClr val="ffcc00"/>
                </a:solidFill>
                <a:latin typeface="Arial"/>
              </a:rPr>
              <a:t>IN EARLY STAGE BREAST CANCER</a:t>
            </a:r>
            <a:br>
              <a:rPr sz="2800"/>
            </a:br>
            <a:br>
              <a:rPr sz="2800"/>
            </a:br>
            <a:r>
              <a:rPr b="1" i="1" lang="it-IT" sz="1400" spc="-1" strike="noStrike">
                <a:solidFill>
                  <a:srgbClr val="ffcc00"/>
                </a:solidFill>
                <a:latin typeface="Arial"/>
              </a:rPr>
              <a:t>INTERIM COSMETIC AND TOXICITY EVALUATION ACCORDING RADIOBIOLOGICAL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3141720"/>
          <a:ext cx="506412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141720"/>
                    <a:ext cx="50641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3286440" cy="3354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35640" y="1052640"/>
            <a:ext cx="3529080" cy="1874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266 cGy x 16  = 47.1 Gy BED</a:t>
            </a:r>
            <a:r>
              <a:rPr b="1" lang="it-IT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290 cGy x 16 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57 Gy (+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320 cGy x 16 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65 Gy (+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260280"/>
            <a:ext cx="5041800" cy="2997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Dose to volumes receiving &gt; 120% of the PD is equivalent to  BED</a:t>
            </a:r>
            <a:r>
              <a:rPr b="1" lang="en-US" sz="3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 70 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260280"/>
            <a:ext cx="3457440" cy="52056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3 Gy&lt; </a:t>
            </a:r>
            <a:r>
              <a:rPr b="0" lang="el-GR" sz="2800" spc="-1" strike="noStrike">
                <a:solidFill>
                  <a:srgbClr val="336699"/>
                </a:solidFill>
                <a:latin typeface="Arial"/>
              </a:rPr>
              <a:t>α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/</a:t>
            </a:r>
            <a:r>
              <a:rPr b="0" lang="el-GR" sz="2800" spc="-1" strike="noStrike">
                <a:solidFill>
                  <a:srgbClr val="336699"/>
                </a:solidFill>
                <a:latin typeface="Arial"/>
              </a:rPr>
              <a:t>β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 &lt; 4 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</a:rPr>
              <a:t>CONCLU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Breast Carcinoma may be as sensitive to fraction size as dose-limiting normal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Fewer large fractions would be as safe and effective as regimens based on 2.0 Gy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Hot-spots can increase the dose of 10-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Selection of pts must take account of dosimetric parameters to avoid hot-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Verdana"/>
              </a:rPr>
              <a:t>Advantges of WBhRT are its easy of use and wide applic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Verdana"/>
              </a:rPr>
              <a:t>Many randomized controlled trials have been proposed providing a level I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Verdana"/>
              </a:rPr>
              <a:t>Dose per fraction 2.5-3 Gy can be used without compromising cosmesis</a:t>
            </a:r>
            <a:r>
              <a:rPr b="0" lang="it-IT" sz="3200" spc="-1" strike="noStrike">
                <a:solidFill>
                  <a:srgbClr val="1e21a2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</a:rPr>
              <a:t>OLD TRI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6713" r="0" b="9596"/>
          <a:stretch/>
        </p:blipFill>
        <p:spPr>
          <a:xfrm>
            <a:off x="468360" y="1557360"/>
            <a:ext cx="8207280" cy="4748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360" y="1484280"/>
            <a:ext cx="2016000" cy="4824360"/>
          </a:xfrm>
          <a:prstGeom prst="rect">
            <a:avLst/>
          </a:prstGeom>
          <a:noFill/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941720"/>
            <a:ext cx="8064720" cy="1295640"/>
          </a:xfrm>
          <a:prstGeom prst="rect">
            <a:avLst/>
          </a:prstGeom>
          <a:gradFill rotWithShape="0">
            <a:gsLst>
              <a:gs pos="0">
                <a:srgbClr val="272cf5">
                  <a:alpha val="10196"/>
                </a:srgbClr>
              </a:gs>
              <a:gs pos="50000">
                <a:srgbClr val="9092f8">
                  <a:alpha val="66274"/>
                </a:srgbClr>
              </a:gs>
              <a:gs pos="100000">
                <a:srgbClr val="272cf5">
                  <a:alpha val="1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40920"/>
            <a:ext cx="835344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cc00"/>
                </a:solidFill>
                <a:latin typeface="Verdana"/>
              </a:rPr>
              <a:t>NEW TRIALS </a:t>
            </a:r>
            <a:r>
              <a:rPr b="0" i="1" lang="it-IT" sz="1600" spc="-1" strike="noStrike">
                <a:solidFill>
                  <a:srgbClr val="ffcc00"/>
                </a:solidFill>
                <a:latin typeface="Verdana"/>
              </a:rPr>
              <a:t>Lancet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5280" y="1628640"/>
            <a:ext cx="8229600" cy="1440000"/>
            <a:chOff x="395280" y="1628640"/>
            <a:chExt cx="8229600" cy="14400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95280" y="1628640"/>
              <a:ext cx="82296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395280" y="1628640"/>
              <a:ext cx="822960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8172360" y="1628640"/>
            <a:ext cx="21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3139920"/>
          <a:ext cx="8353440" cy="3451320"/>
        </p:xfrm>
        <a:graphic>
          <a:graphicData uri="http://schemas.openxmlformats.org/drawingml/2006/table">
            <a:tbl>
              <a:tblPr/>
              <a:tblGrid>
                <a:gridCol w="1114560"/>
                <a:gridCol w="1303200"/>
                <a:gridCol w="1974960"/>
                <a:gridCol w="1939680"/>
                <a:gridCol w="202104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° 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yr 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pse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 adve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538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1e21a2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Gy/50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67Gy/40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1e21a2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Gy/50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2Gy/41.6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Gy/39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148360" y="270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2708280"/>
            <a:ext cx="388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6699"/>
                </a:solidFill>
                <a:latin typeface="Arial"/>
              </a:rPr>
              <a:t>Median follow-up of 5.1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941720"/>
            <a:ext cx="83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cc00"/>
                </a:solidFill>
                <a:latin typeface="Verdana"/>
              </a:rPr>
              <a:t>WHY ? </a:t>
            </a:r>
            <a:r>
              <a:rPr b="0" i="1" lang="it-IT" sz="2000" spc="-1" strike="noStrike">
                <a:solidFill>
                  <a:srgbClr val="ffcc00"/>
                </a:solidFill>
                <a:latin typeface="Verdana"/>
              </a:rPr>
              <a:t>Yarnold J et, al R&amp;O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28480" y="1484280"/>
            <a:ext cx="4691160" cy="1569960"/>
            <a:chOff x="528480" y="1484280"/>
            <a:chExt cx="4691160" cy="15699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0" t="48444" r="0" b="0"/>
            <a:stretch/>
          </p:blipFill>
          <p:spPr>
            <a:xfrm>
              <a:off x="528480" y="1484280"/>
              <a:ext cx="469116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528480" y="1484280"/>
              <a:ext cx="4691160" cy="156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156360" y="1700280"/>
            <a:ext cx="2519280" cy="20678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= 3.6 Gy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breast appearan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= 3.1 Gy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breast fibrosi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3448080"/>
            <a:ext cx="4895640" cy="306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56360" y="4227480"/>
            <a:ext cx="2448000" cy="222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isk of developing any radiation effect is much lower for patients allocated to receive 39 Gy in 13 fraction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p&lt; 0.01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5084640"/>
            <a:ext cx="8280360" cy="1224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915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Verdana"/>
              </a:rPr>
              <a:t>OUR EXPER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80 pts pT1-2 pN0-1 M0 from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Invasive breast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Age &gt; 6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266 cGy /16 fr/ 42.56 Gy (5 fr/w) - BED</a:t>
            </a:r>
            <a:r>
              <a:rPr b="1" lang="it-IT" sz="28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it-IT" sz="2800" spc="-1" strike="noStrike" baseline="-25000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47,1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olume of residual mammary t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receiving &gt; 110% of P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cribed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o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o PTV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10 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00720" y="476280"/>
            <a:ext cx="2602080" cy="17143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cc00"/>
                </a:solidFill>
                <a:latin typeface="Verdana"/>
              </a:rPr>
              <a:t>Hot Spots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0920" y="476280"/>
            <a:ext cx="5905440" cy="5794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708360" y="2924280"/>
            <a:ext cx="5184720" cy="308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80000" y="3068640"/>
            <a:ext cx="576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859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300720" y="3860640"/>
            <a:ext cx="1079640" cy="576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99280" y="4653000"/>
            <a:ext cx="1081080" cy="1800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2492280"/>
            <a:ext cx="1079640" cy="72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198000"/>
            <a:ext cx="835344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ffcc00"/>
                </a:solidFill>
                <a:latin typeface="Verdana"/>
              </a:rPr>
              <a:t>RESULTS </a:t>
            </a:r>
            <a:r>
              <a:rPr b="0" i="1" lang="it-IT" sz="3200" spc="-1" strike="noStrike">
                <a:solidFill>
                  <a:srgbClr val="ffcc00"/>
                </a:solidFill>
                <a:latin typeface="Verdana"/>
              </a:rPr>
              <a:t>(follow-up </a:t>
            </a:r>
            <a:r>
              <a:rPr b="1" i="1" lang="it-IT" sz="32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i="1" lang="it-IT" sz="3200" spc="-1" strike="noStrike">
                <a:solidFill>
                  <a:srgbClr val="ffcc00"/>
                </a:solidFill>
                <a:latin typeface="Verdana"/>
              </a:rPr>
              <a:t>15 mon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1989000"/>
            <a:ext cx="4752720" cy="1727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a2"/>
              </a:buClr>
              <a:buFont typeface="Arial"/>
              <a:buChar char="•"/>
              <a:tabLst>
                <a:tab algn="l" pos="520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21a2"/>
                </a:solidFill>
                <a:latin typeface="Arial"/>
              </a:rPr>
              <a:t>EORTC cosmetics 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0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a2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1e21a2"/>
                </a:solidFill>
                <a:latin typeface="Arial"/>
              </a:rPr>
              <a:t>excellent  </a:t>
            </a:r>
            <a:r>
              <a:rPr b="0" lang="en-US" sz="3200" spc="-1" strike="noStrike">
                <a:solidFill>
                  <a:srgbClr val="1e21a2"/>
                </a:solidFill>
                <a:latin typeface="Arial"/>
              </a:rPr>
              <a:t>              74%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0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a2"/>
                </a:solidFill>
                <a:latin typeface="Arial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9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0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a2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1e21a2"/>
                </a:solidFill>
                <a:latin typeface="Arial"/>
              </a:rPr>
              <a:t>good  </a:t>
            </a:r>
            <a:r>
              <a:rPr b="0" lang="en-US" sz="3200" spc="-1" strike="noStrike">
                <a:solidFill>
                  <a:srgbClr val="1e21a2"/>
                </a:solidFill>
                <a:latin typeface="Arial"/>
              </a:rPr>
              <a:t>                    18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520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21a2"/>
              </a:buClr>
              <a:buFont typeface="Arial"/>
              <a:buChar char="•"/>
              <a:tabLst>
                <a:tab algn="l" pos="520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21a2"/>
                </a:solidFill>
                <a:latin typeface="Arial"/>
              </a:rPr>
              <a:t>erythema G2</a:t>
            </a:r>
            <a:r>
              <a:rPr b="0" lang="en-US" sz="3200" spc="-1" strike="noStrike">
                <a:solidFill>
                  <a:srgbClr val="1e21a2"/>
                </a:solidFill>
                <a:latin typeface="Arial"/>
              </a:rPr>
              <a:t>                          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2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520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21a2"/>
              </a:buClr>
              <a:buFont typeface="Arial"/>
              <a:buChar char="•"/>
              <a:tabLst>
                <a:tab algn="l" pos="520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21a2"/>
                </a:solidFill>
                <a:latin typeface="Arial"/>
              </a:rPr>
              <a:t>LENT-SOMA late toxicity  G2      </a:t>
            </a:r>
            <a:r>
              <a:rPr b="0" i="1" lang="en-US" sz="800" spc="-1" strike="noStrike">
                <a:solidFill>
                  <a:srgbClr val="1e21a2"/>
                </a:solidFill>
                <a:latin typeface="Arial"/>
              </a:rPr>
              <a:t>  </a:t>
            </a:r>
            <a:r>
              <a:rPr b="0" i="1" lang="en-US" sz="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0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e21a2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1e21a2"/>
                </a:solidFill>
                <a:latin typeface="Arial"/>
              </a:rPr>
              <a:t>hyperpigmentation</a:t>
            </a:r>
            <a:r>
              <a:rPr b="0" lang="en-US" sz="3200" spc="-1" strike="noStrike">
                <a:solidFill>
                  <a:srgbClr val="1e21a2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1e21a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20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a2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1e21a2"/>
                </a:solidFill>
                <a:latin typeface="Arial"/>
              </a:rPr>
              <a:t>fibrosis</a:t>
            </a:r>
            <a:r>
              <a:rPr b="0" i="1" lang="it-IT" sz="3200" spc="-1" strike="noStrike">
                <a:solidFill>
                  <a:srgbClr val="1e21a2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1e21a2"/>
                </a:solidFill>
                <a:latin typeface="Arial"/>
              </a:rPr>
              <a:t>                                       </a:t>
            </a:r>
            <a:r>
              <a:rPr b="0" lang="it-IT" sz="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1:23:29Z</dcterms:created>
  <dc:creator>utente</dc:creator>
  <dc:description/>
  <dc:language>en-US</dc:language>
  <cp:lastModifiedBy>silvano</cp:lastModifiedBy>
  <dcterms:modified xsi:type="dcterms:W3CDTF">2008-07-04T08:38:22Z</dcterms:modified>
  <cp:revision>64</cp:revision>
  <dc:subject/>
  <dc:title>Dott. L.Busutti</dc:title>
</cp:coreProperties>
</file>