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5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5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F55-FC33-44CD-A796-4695E74B9C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197-5DD0-4830-BF0C-9E3E864CB8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380-E6E8-4D67-8713-7EACFB7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48D-C1C5-4EAF-A29F-590FE9C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4BBBC-6200-4258-A28B-A8C7C61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1713A-574F-4172-A244-3289230B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7E12-0559-46CE-80F1-74291FC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27E7C-A087-4837-9182-B52D242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58BDD-2116-48C5-91CC-1C9AF39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0D582-C3DE-4F03-94B9-DC7797A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12FB3-8399-4049-8829-47E14FD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6BB8F-DFA1-44BD-BCC6-C708C9FC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A10A4-2BC0-4F7B-8D27-F83842C6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8395D-C431-481D-B3D3-AF1F3009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F30-1D2A-4CD4-B8C6-5B979A7A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1480A-CD16-42EE-BEC3-B5E060D0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BABA5-4625-48CC-963C-F4743E92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1A77C-BC63-4384-A4D2-EB5F0A7E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72D80-D32E-4629-97CB-063A1A7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B6876-79D4-4A11-9C8C-94DBAEC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3AF68-FA72-4C7B-BAAB-7B40D79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9FB9A-779D-419F-9C38-98E6E42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C72DC-D4C1-4267-ACE3-5E2DF13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CF4E-0863-4972-BBFE-0F6A412F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A51CE-78FB-4809-AA62-09091E6F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1C9-7D65-4924-BCF5-4A328A2B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87AE6-8AA1-4EEA-A71A-7ABE937C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3B405-98F1-4348-9E86-D29E7F8A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8C0DF-7441-44FD-80E3-2620008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6F463-52A4-4FA1-B879-73EEBACA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2EEA5-9D8F-4E98-8127-0F715CA3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BBEC-55FC-4D73-853D-A14BEAA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8747-97A3-4084-9834-19262772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26D93-62E5-43F3-AE18-90CDAF8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847BC-2DFD-4E08-8EF3-385B3A1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420F8-3AA0-4F81-BADB-FBAD3D43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D6B81-DB94-4517-B380-1C2B0B03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3EBF-EB92-4E6E-BE85-CE283364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AD011-8CFC-449A-8711-952F5DC9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E237E-772C-4F11-AE12-0A5A0A7F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C632E-F340-4F97-861C-E93DE67C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AE38B-9CF3-4090-8D89-DA057B7D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B186B-8D40-4840-81FF-B0A1B54B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BA281-B095-45DC-9179-373EDA5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4EEBA-FB09-4CF7-95DD-5D392315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8231B-069C-4605-9E3D-26B2EF3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188D4-A400-4AA3-AC4A-9BD7489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A5697-C137-428D-A26D-2BF13E6F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50E63-7439-4BDD-802A-319FE85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B1EA9-216A-4495-AAA7-E97DE5F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9F3DF-76F5-4E25-9E04-6D25382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F8A3-6B85-413D-AE29-B63BFFA5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062F0-EB74-42FA-BA90-42094908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A979A-D7A9-4990-9CF0-0CE499D1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6ECC4-0153-40B3-8102-C42B0295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73DFB-3D13-4728-A6CF-4AE426F8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980CA-73D4-4A6F-BE4A-5A52B619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112A9-5502-45A4-9897-2587F936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ECFC5-8D20-482B-A2AC-D06F897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00809-9C61-40EA-AFD1-92AC1B32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8C9D7-021E-4035-B339-79EE528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A40CF-5F6E-45AD-AA68-F9AB111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97977-5F28-404F-BB15-D579844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65848-1F7E-4F3B-9451-9D0A7F0C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2BB84-19A6-48AB-974D-6DDB40EF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17A84-4707-40D8-9624-126A621C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68624-A6C3-4B26-8986-FBFC952D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0B10A-FACA-486B-8F43-7B5F80C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87A22-04AF-41C6-85C0-B47D7777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E2C48-9FD0-4625-AB4A-063865A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26EFC-079D-4004-8509-AF79A3F6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67B71-8BBD-427B-AACB-5C457ABB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ABCAD-6499-4B9A-8C8A-02B3146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6CCC4-093E-4D7E-9CF4-F9750A81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45E46-7515-494B-A6BF-07E2AF9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9FBDC-2EAA-4591-869F-A509108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9D271-852D-4B7A-BD7A-03F1AC6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1AD55-69F9-4074-9673-5A6521DE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19FF8-7A9F-4487-8504-33CAD916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912CE-C635-49FF-9A68-364F287E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680B1-E199-4D74-B23C-26AA2FC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146D0-4501-4380-BF53-D22A8D08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32561-5555-4AEB-8FF6-A23F294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06592-2619-4201-872D-9C4D1DE6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D2310-9C52-48AE-A77A-91D79CB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743EB-8B5F-43B9-A2FB-9DF4AE65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4C938-3AB0-4D4B-94FA-53FB53A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97405-43E2-4919-A9D8-6588D6C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7F5A2-B236-43CD-9D65-31ED24C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79569-EFCF-485B-89AD-DF083FE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35C4B-9979-4638-AD3B-2E63F704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F9428-6E47-4804-8DEE-4EAE2194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10E5E-F027-458E-974C-6A1751F5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A1CC0-7C74-4E89-9BE2-01FC28BB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F1514-DF5A-4C4A-8A2C-5D2E4E70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B4C0D-BCBE-4911-B9E7-2EF0E6D8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73921-FE39-4DF2-94E9-3A000BA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500C3-6C00-4B92-93FF-7D1D12DF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9E25B-5A2C-4A2B-A478-178D859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E00BA-3B4A-4D62-86E4-D970E77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EB2A8-937C-40A1-8390-4FCF843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AC292-5359-489F-8909-91466C9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05102-688A-4D60-ABF8-EA0B097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425BC-F2F0-47CF-9B80-686D28C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B3B66-9B8E-478C-9DC8-1CA5EACB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46F95-5168-455E-BC45-661D569C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29EAE-742A-434A-A3F4-05D1B023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953D2-5612-4DF3-A355-F80B5DAB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9B926-7B9E-43F2-B8A2-B5F6641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76FAC-ACF2-41C6-8DE5-CF6FA26E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C15EA-9CFB-4C91-A1B7-6BFCF2F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2D353-3931-4D88-84F7-53F0DBD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75153-7F5E-411F-8B2E-62AAEEBA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5DB-A036-4D16-AD0F-26B8CCB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3A98D-1CA9-4C1A-8385-5799AB5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249CC-5818-43A2-8180-E5BFFF4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53563-99E5-413C-9840-9F06F96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8AAE9-4658-4D92-AE25-43D40AC9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7EF38-A356-4087-89BA-12101486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D84A5-FEB5-48E8-8F3C-B76E4F2A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F5819-C453-4554-A3A8-95033B81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EF832-2A70-440B-A413-00224C1E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0F03D-0702-4385-8AC3-ECB25634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CCEE5-A62F-4843-8798-C9AAD317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35C46-9702-4C34-BF04-4C0A30EF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6A25-6797-478E-BCFA-68100F6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686EA-71B3-4DCE-B980-28A98B9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24CC1-ECA5-47B1-A9C1-9025640F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FE242-91FC-4D0C-9425-8AA7B8E1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8B1EA-E916-4BD4-B0E7-1AE3756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311EF-44F8-4615-ADD5-E4A8CF9B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39B06-1775-420D-A3A4-6B754375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6D95A-8A29-4FEB-8FB7-ABC60806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4D146-D400-4C5A-81A3-99501E95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2972A-D483-418D-AD86-0D33AB6B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16323-ABDE-492C-8609-9803C04F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0EC0-5094-4F82-9668-D3075B38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1300-23AA-4631-AB94-C2012E4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8925-97FA-4EB6-8046-4517F7F8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0787-CA23-4377-B3A9-8D3CDF4F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2F73-2EE2-468D-B4B8-380AAF92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23B-1306-4092-AF4E-755815FD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2976-2761-4B2B-B664-5882581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CB4C-BB74-4F59-98A0-7F097B4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1F40-4E66-4CF1-92A3-D3FDC24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1F9A-107E-4DE0-853A-90C4D8A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6F28-EA63-4B24-ACE5-E6ABB5E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B1B2-7028-4FE3-8FA6-1E18F51C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70EF-F124-4C93-9AEA-C6A3442E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8167-7E29-4A1E-9607-EDBC721F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65A7-85B0-4285-9DCC-71E06DE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2274-00B1-4158-9635-A717B33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789-5C8B-4C84-B35D-67D953D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41C1-638F-485C-A9A3-1486FB9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2F1B-7E23-45FF-9D98-8F7EA418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EECD-D7BA-4E46-A13B-E82F366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6C09-68FE-4FFC-994D-EA92E6E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388F5-4AAF-408F-9F1C-3D3420B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1C75-CA06-4E5D-8890-7E2C672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7E01-3183-476A-9AF4-C9FE424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0D86-F2D4-4F5E-A6E1-EB374D3C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AE47-940B-414C-84CE-A7048F7B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084B-287C-4B58-8079-D33E719E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0EE-CA0C-4C15-91E9-3E61FEC0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789F-7A87-4E4F-831D-FA3BC606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AC44-F54B-40AE-8B36-38B99B66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3A52-AD70-498A-BC4B-3FC969A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86DA-0F22-4D9B-AD6D-BA2EDBB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E598-4F9F-4900-8AD2-807228A2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9D7C-6514-4D01-B7F3-E4327392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3A81-6444-40FD-9872-54645F5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1C28B-DC56-4404-8F73-B0B474B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7A96C-BBD9-404B-8B91-9BCC9AF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8317-868D-42DE-ABDD-3941093A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075-6BD2-43C9-A0AC-4126B678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872B1-E39B-4D76-AA6B-5D8342CA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3F5CA-7E7F-49DA-985E-6043E7BD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2B09-111E-40E7-A693-FE136EEB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72DB-D8B0-49F5-9412-4F714196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6A2A-2C15-4499-ACE3-A7617EF5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5E73-9521-46AD-B61D-AF5E1C7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7ECE-BADF-4E90-AE6D-6B4627E4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F265-0552-4A39-A5EC-296E9C0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F2E7-2CB6-4FB0-87B6-F68141C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F8DE-8697-43DB-A400-6CDAF65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959-ED79-4C55-8319-CC29976B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19DF-0606-4BB5-B007-AA6332E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9E9AD-260D-4C83-B2F0-6EB7492D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DB33-29BF-4E81-9A73-72FEE4E0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65FAE-0618-4814-AD90-DB4571AB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04F5-155D-46B2-8AE3-5FAA028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1AB2-8487-4367-A05E-24C2E5B3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42FDC-B4BB-4BCF-90E2-391A09EF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BEF4-806B-424B-ACA6-B0D4111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5CD0-86FB-4B8A-BC4E-6D459172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FC17-6157-4F42-8AFA-B20C6508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54F-D701-4A15-80E5-67D1FB1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215F-A4ED-423D-8DB6-439D9E6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CB11E-20AC-4F52-9FE0-B84A7945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9683-731E-45AE-9CC1-EFD07B15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1695-E1CA-40C5-9841-4E398215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4600-DED0-41D1-8802-CE19A913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A9A0-15FC-491C-9A9E-FF17C6E3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A723F-3B23-4295-A44F-C6702E69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A2FA5-9B8F-4129-A270-BD79B2C1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1683-A377-472F-9735-3B1D3C20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FFB0B-7394-446F-BC78-D5D4F57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AF4-42DF-45FC-B7E6-E097301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6931C-A2AC-4DB5-A0BB-743471B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23F02-4BF1-43E6-AC5E-DCE06E9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441DF-CACD-451A-8A8A-A37D287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BF50-2AB0-4A5A-B580-208CF6F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2D6A-83F4-46F9-8CB4-55A1A63B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0E2CD-A915-4DBD-A3AD-CE96A193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5E9B-C626-4B57-AE4E-5D2EC57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F2AB6-E2A9-4606-B581-43E590BF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71135-43E0-4503-80BC-E0613AB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62EC6-1682-4EC0-8D1E-D728903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894C-F5DF-4C13-87C0-579EF8FC0E98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91" name="Picture 5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1FE-E63B-4BB9-9470-4A6E9D0B4187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34" name="Picture 4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170-AAC4-4298-816A-4F3AC6C03A8D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A203-14D3-4C77-BBB0-BC807369DD72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115-DCA1-4856-B9F9-52396FF0D6A1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563" name="Picture 9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BBD6-3052-444D-B778-FC0CBBC30774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606" name="Picture 9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C21-78D1-464C-BBA1-110F4F4BCFF6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649" name="Picture 7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C69A-A128-4C0D-A50B-89C0B076153C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692" name="Picture 7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F994-8208-4E8E-BDD7-6B35D0479F19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1650-F44E-4895-BCD5-8D65DADB7498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3" name="Picture 7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8F1E-0D02-40C0-8080-06EA9BA962C5}" type="slidenum">
              <a:rPr b="0" lang="de-DE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86" name="Picture 7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D988-20AD-4806-B773-0C3D131F647F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9" name="Picture 7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DD2-58A9-4C41-AD65-CD51167CA1F0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4DC-7170-49BE-A5F5-6F901AE3F8DC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5" name="Picture 13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7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8" name="Straight Connector 14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9" name="Straight Connector 15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ED4-D348-4B8B-97BF-9ED82C367885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6105-F4E1-4F9E-BEF4-CF27BF051F59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E1F3-46D5-4E23-A138-1BB692A84A86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8983-70A7-4808-8F21-A09B272884F8}" type="slidenum">
              <a:rPr b="0" lang="it-IT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458200" cy="23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Palatino Linotype"/>
              </a:rPr>
              <a:t>TRATTAMENTO ADIUVANTE IPOFRAZIONATO NEL CANCRO DELLA MAMMELLA: VALUTAZIONE AGGIORNATA DEI RISULTATI CLINICI ED ESTETIC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761760" y="49528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99ff"/>
                </a:solidFill>
                <a:latin typeface="Palatino Linotype"/>
              </a:rPr>
              <a:t>Emilia Varrassi, Caterina Fardella, Pierluigi Bonfili, </a:t>
            </a:r>
            <a:r>
              <a:rPr b="0" i="1" lang="it-IT" sz="2200" spc="-1" strike="noStrike">
                <a:solidFill>
                  <a:srgbClr val="ff99ff"/>
                </a:solidFill>
                <a:latin typeface="Palatino Linotype"/>
              </a:rPr>
              <a:t>	</a:t>
            </a:r>
            <a:r>
              <a:rPr b="0" i="1" lang="it-IT" sz="2200" spc="-1" strike="noStrike">
                <a:solidFill>
                  <a:srgbClr val="ff99ff"/>
                </a:solidFill>
                <a:latin typeface="Palatino Linotype"/>
              </a:rPr>
              <a:t>	</a:t>
            </a:r>
            <a:r>
              <a:rPr b="0" i="1" lang="it-IT" sz="2200" spc="-1" strike="noStrike">
                <a:solidFill>
                  <a:srgbClr val="ff99ff"/>
                </a:solidFill>
                <a:latin typeface="Palatino Linotype"/>
              </a:rPr>
              <a:t>Mario Di Staso, Pietro Franzese, Francesca Soldà, </a:t>
            </a:r>
            <a:r>
              <a:rPr b="0" i="1" lang="it-IT" sz="2200" spc="-1" strike="noStrike">
                <a:solidFill>
                  <a:srgbClr val="ff99ff"/>
                </a:solidFill>
                <a:latin typeface="Palatino Linotype"/>
              </a:rPr>
              <a:t>	</a:t>
            </a:r>
            <a:r>
              <a:rPr b="0" i="1" lang="it-IT" sz="2200" spc="-1" strike="noStrike">
                <a:solidFill>
                  <a:srgbClr val="ff99ff"/>
                </a:solidFill>
                <a:latin typeface="Palatino Linotype"/>
              </a:rPr>
              <a:t>Vincenzo Tombolini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14800" y="252360"/>
            <a:ext cx="31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3048120" y="6172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fddf8"/>
                </a:solidFill>
                <a:latin typeface="Palatino Linotype"/>
              </a:rPr>
              <a:t>L’AQUILA, 4 LUGLIO 2008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1660680" y="4287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457200" y="152280"/>
            <a:ext cx="8229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75"/>
                </a:solidFill>
                <a:latin typeface="Palatino Linotype"/>
              </a:rPr>
              <a:t>UNIVERSITA’ DEGLI STUDI DI L’AQUILA 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75"/>
                </a:solidFill>
                <a:latin typeface="Palatino Linotype"/>
              </a:rPr>
              <a:t>FACOLTA’ DI MEDICINA E CHIRURGIA 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75"/>
                </a:solidFill>
                <a:latin typeface="Palatino Linotype"/>
              </a:rPr>
              <a:t>CATTEDRA DI RADIOTERAPIA 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75"/>
                </a:solidFill>
                <a:latin typeface="Palatino Linotype"/>
              </a:rPr>
              <a:t>U.O.C. RADIOTERAPIA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0075"/>
                </a:solidFill>
                <a:latin typeface="Palatino Linotype"/>
              </a:rPr>
              <a:t> </a:t>
            </a:r>
            <a:r>
              <a:rPr b="1" lang="it-IT" sz="1600" spc="-1" strike="noStrike">
                <a:solidFill>
                  <a:srgbClr val="660075"/>
                </a:solidFill>
                <a:latin typeface="Palatino Linotype"/>
              </a:rPr>
              <a:t>OSPEDALE S. SALVATORE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789" name="Picture 11" descr="NuovoLogoUfficiale"/>
          <p:cNvPicPr/>
          <p:nvPr/>
        </p:nvPicPr>
        <p:blipFill>
          <a:blip r:embed="rId1"/>
          <a:stretch/>
        </p:blipFill>
        <p:spPr>
          <a:xfrm>
            <a:off x="7086600" y="228600"/>
            <a:ext cx="1417680" cy="17654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2463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5834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99ff"/>
                </a:solidFill>
                <a:latin typeface="Palatino"/>
              </a:rPr>
              <a:t>GRAZIE PER L’ATTENZION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16" name="Segnaposto contenuto 3" descr="fotoaq2.jpg"/>
          <p:cNvPicPr/>
          <p:nvPr/>
        </p:nvPicPr>
        <p:blipFill>
          <a:blip r:embed="rId1"/>
          <a:srcRect l="-10057" t="0" r="-10057" b="0"/>
          <a:stretch/>
        </p:blipFill>
        <p:spPr>
          <a:xfrm>
            <a:off x="0" y="1295280"/>
            <a:ext cx="5029200" cy="2743200"/>
          </a:xfrm>
          <a:prstGeom prst="rect">
            <a:avLst/>
          </a:prstGeom>
          <a:ln w="0">
            <a:noFill/>
          </a:ln>
        </p:spPr>
      </p:pic>
      <p:pic>
        <p:nvPicPr>
          <p:cNvPr id="817" name="Immagine 4" descr="Abruzzo.Aquila-Basilica S Maria di Collemaggio.jpg"/>
          <p:cNvPicPr/>
          <p:nvPr/>
        </p:nvPicPr>
        <p:blipFill>
          <a:blip r:embed="rId2"/>
          <a:stretch/>
        </p:blipFill>
        <p:spPr>
          <a:xfrm>
            <a:off x="4800600" y="129528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818" name="Immagine 5" descr="l_aquila.jpg"/>
          <p:cNvPicPr/>
          <p:nvPr/>
        </p:nvPicPr>
        <p:blipFill>
          <a:blip r:embed="rId3"/>
          <a:stretch/>
        </p:blipFill>
        <p:spPr>
          <a:xfrm>
            <a:off x="1447920" y="4033800"/>
            <a:ext cx="65530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99ff"/>
                </a:solidFill>
                <a:latin typeface="Palatino Linotype"/>
              </a:rPr>
              <a:t>OBIETTIVI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c5986"/>
            </a:outerShdw>
          </a:effectLst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Valutazione della tossicità </a:t>
            </a:r>
            <a:r>
              <a:rPr b="0" lang="it-IT" sz="3300" spc="-1" strike="noStrike">
                <a:solidFill>
                  <a:srgbClr val="000090"/>
                </a:solidFill>
                <a:latin typeface="Palatino Linotype"/>
              </a:rPr>
              <a:t>ACUTA</a:t>
            </a:r>
            <a:r>
              <a:rPr b="0" lang="it-IT" sz="3300" spc="-1" strike="noStrike">
                <a:solidFill>
                  <a:srgbClr val="ccffcc"/>
                </a:solidFill>
                <a:latin typeface="Palatino Linotype"/>
              </a:rPr>
              <a:t> </a:t>
            </a: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e </a:t>
            </a:r>
            <a:r>
              <a:rPr b="0" lang="it-IT" sz="3300" spc="-1" strike="noStrike">
                <a:solidFill>
                  <a:srgbClr val="000090"/>
                </a:solidFill>
                <a:latin typeface="Palatino Linotype"/>
              </a:rPr>
              <a:t>TA</a:t>
            </a:r>
            <a:r>
              <a:rPr b="0" lang="it-IT" sz="3300" spc="-1" strike="noStrike">
                <a:solidFill>
                  <a:srgbClr val="000090"/>
                </a:solidFill>
                <a:latin typeface="Palatino Linotype"/>
              </a:rPr>
              <a:t>RDIVA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Valutazione dei </a:t>
            </a:r>
            <a:r>
              <a:rPr b="0" lang="it-IT" sz="3300" spc="-1" strike="noStrike">
                <a:solidFill>
                  <a:srgbClr val="88cdf4"/>
                </a:solidFill>
                <a:latin typeface="Palatino Linotype"/>
              </a:rPr>
              <a:t>risultati clinici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9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Valutazione del </a:t>
            </a:r>
            <a:r>
              <a:rPr b="0" lang="it-IT" sz="3300" spc="-1" strike="noStrike">
                <a:solidFill>
                  <a:srgbClr val="88cdf4"/>
                </a:solidFill>
                <a:latin typeface="Palatino Linotype"/>
              </a:rPr>
              <a:t>grado di soddisfazione </a:t>
            </a: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delle donne trattate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 algn="ctr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99ff"/>
                </a:solidFill>
                <a:latin typeface="Palatino Linotype"/>
              </a:rPr>
              <a:t>MATERIALI E METODI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Periodo: aprile 2004 – aprile 2008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Donne trattate: 162 </a:t>
            </a:r>
            <a:r>
              <a:rPr b="0" lang="it-IT" sz="3300" spc="-1" strike="noStrike">
                <a:solidFill>
                  <a:srgbClr val="ccffcc"/>
                </a:solidFill>
                <a:latin typeface="Palatino Linotype"/>
              </a:rPr>
              <a:t>(median age 63, range 39-84) </a:t>
            </a: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sottoposte a chirurgia conservativa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Stadio di malattia: I-II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Follow-up mediano: 19 mesi </a:t>
            </a: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it-IT" sz="33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it-IT" sz="3300" spc="-1" strike="noStrike">
                <a:solidFill>
                  <a:srgbClr val="ccffcc"/>
                </a:solidFill>
                <a:latin typeface="Palatino Linotype"/>
              </a:rPr>
              <a:t>(range 1-46)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-27000"/>
            <a:ext cx="83520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ff"/>
                </a:solidFill>
                <a:latin typeface="Palatino Linotype"/>
              </a:rPr>
              <a:t>FRAZIONAMENTO</a:t>
            </a:r>
            <a:r>
              <a:rPr b="0" lang="it-IT" sz="4000" spc="-1" strike="noStrike">
                <a:solidFill>
                  <a:srgbClr val="ff99ff"/>
                </a:solidFill>
                <a:latin typeface="Trebuchet MS"/>
              </a:rPr>
              <a:t> </a:t>
            </a:r>
            <a:r>
              <a:rPr b="0" lang="it-IT" sz="4000" spc="-1" strike="noStrike">
                <a:solidFill>
                  <a:srgbClr val="ff99ff"/>
                </a:solidFill>
                <a:latin typeface="Palatino Linotype"/>
              </a:rPr>
              <a:t>UTILIZZATO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4360" y="1412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Palatino Linotype"/>
              </a:rPr>
              <a:t>Dose totale: 52.4 G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Palatino Linotype"/>
              </a:rPr>
              <a:t>PTV (whole breast): 42.4 Gy in 16 frazioni (dpf= 2.65 Gy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Palatino Linotype"/>
              </a:rPr>
              <a:t>Boost (tumor bed): 10 Gy in 4 frazioni (dpf= 2.5 Gy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Palatino Linotype"/>
              </a:rPr>
              <a:t>PTV medio: 622 cc (range 219.6 – 1545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ff"/>
                </a:solidFill>
                <a:latin typeface="Palatino Linotype"/>
              </a:rPr>
              <a:t>CHEMIOTERAPI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798" name="Object 6"/>
          <p:cNvGraphicFramePr/>
          <p:nvPr/>
        </p:nvGraphicFramePr>
        <p:xfrm>
          <a:off x="611280" y="1488960"/>
          <a:ext cx="815328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8960"/>
                    <a:ext cx="815328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AutoShape 7"/>
          <p:cNvSpPr/>
          <p:nvPr/>
        </p:nvSpPr>
        <p:spPr>
          <a:xfrm rot="3138000">
            <a:off x="5724000" y="3500640"/>
            <a:ext cx="1511280" cy="505080"/>
          </a:xfrm>
          <a:custGeom>
            <a:avLst/>
            <a:gdLst>
              <a:gd name="textAreaLeft" fmla="*/ 188640 w 1511280"/>
              <a:gd name="textAreaRight" fmla="*/ 1322640 w 1511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1" name="Rectangle 8"/>
          <p:cNvSpPr/>
          <p:nvPr/>
        </p:nvSpPr>
        <p:spPr>
          <a:xfrm>
            <a:off x="5105520" y="4800600"/>
            <a:ext cx="378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b62ff"/>
                </a:solidFill>
                <a:latin typeface="Palatino Linotype"/>
              </a:rPr>
              <a:t>Ultima CHT almeno 4 settimane prima della R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Palatino Linotype"/>
              </a:rPr>
              <a:t>TOSSICITA’ CUTANEA ACUTA</a:t>
            </a:r>
            <a:br>
              <a:rPr sz="3600"/>
            </a:br>
            <a:r>
              <a:rPr b="0" lang="en-US" sz="3600" spc="-1" strike="noStrike">
                <a:solidFill>
                  <a:srgbClr val="ff99ff"/>
                </a:solidFill>
                <a:latin typeface="Palatino Linotype"/>
              </a:rPr>
              <a:t>(scala RTOG, dermatite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4862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alatino Linotype"/>
              </a:rPr>
              <a:t>Grado I: 111 donne (69%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alatino Linotype"/>
              </a:rPr>
              <a:t>Grado II: 51 donne (31%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04" name="Object 12"/>
          <p:cNvGraphicFramePr/>
          <p:nvPr/>
        </p:nvGraphicFramePr>
        <p:xfrm>
          <a:off x="4572000" y="1176480"/>
          <a:ext cx="4826160" cy="483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76480"/>
                    <a:ext cx="4826160" cy="48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AutoShape 13"/>
          <p:cNvSpPr/>
          <p:nvPr/>
        </p:nvSpPr>
        <p:spPr>
          <a:xfrm>
            <a:off x="1835280" y="3860640"/>
            <a:ext cx="649080" cy="936720"/>
          </a:xfrm>
          <a:prstGeom prst="downArrow">
            <a:avLst>
              <a:gd name="adj1" fmla="val 50000"/>
              <a:gd name="adj2" fmla="val 3607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7" name="Rectangle 14"/>
          <p:cNvSpPr/>
          <p:nvPr/>
        </p:nvSpPr>
        <p:spPr>
          <a:xfrm>
            <a:off x="611280" y="4724280"/>
            <a:ext cx="349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ff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ff99ff"/>
                </a:solidFill>
                <a:latin typeface="Palatino Linotype"/>
              </a:rPr>
              <a:t>19 donne (70%) sottoposte a CHT con antracicline hanno sviluppato grado I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8" name="AutoShape 17"/>
          <p:cNvSpPr/>
          <p:nvPr/>
        </p:nvSpPr>
        <p:spPr>
          <a:xfrm>
            <a:off x="4952880" y="4191120"/>
            <a:ext cx="3980160" cy="2438280"/>
          </a:xfrm>
          <a:prstGeom prst="irregularSeal2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e113ff"/>
                </a:solidFill>
                <a:latin typeface="Palatino"/>
              </a:rPr>
              <a:t>Nessuna donna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113ff"/>
                </a:solidFill>
                <a:latin typeface="Palatino"/>
              </a:rPr>
              <a:t>ha interrotto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113ff"/>
                </a:solidFill>
                <a:latin typeface="Palatino"/>
              </a:rPr>
              <a:t>la R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ff"/>
                </a:solidFill>
                <a:latin typeface="Palatino Linotype"/>
              </a:rPr>
              <a:t>TOSSICITA’ TARDIVA</a:t>
            </a:r>
            <a:br>
              <a:rPr sz="4000"/>
            </a:br>
            <a:r>
              <a:rPr b="0" lang="it-IT" sz="4000" spc="-1" strike="noStrike">
                <a:solidFill>
                  <a:srgbClr val="ff99ff"/>
                </a:solidFill>
                <a:latin typeface="Palatino Linotype"/>
              </a:rPr>
              <a:t>(scala RTOG)</a:t>
            </a:r>
            <a:br>
              <a:rPr sz="4000"/>
            </a:br>
            <a:r>
              <a:rPr b="0" lang="it-IT" sz="2600" spc="-1" strike="noStrike">
                <a:solidFill>
                  <a:srgbClr val="4d0058"/>
                </a:solidFill>
                <a:latin typeface="Palatino Linotype"/>
              </a:rPr>
              <a:t>113 donne con follow-up &gt; 1 anno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9640" y="227664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99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ff"/>
                </a:solidFill>
                <a:latin typeface="Palatino Linotype"/>
              </a:rPr>
              <a:t>FIBROSI</a:t>
            </a:r>
            <a:r>
              <a:rPr b="0" lang="it-IT" sz="3200" spc="-1" strike="noStrike">
                <a:solidFill>
                  <a:srgbClr val="ffffff"/>
                </a:solidFill>
                <a:latin typeface="Palatino Linotype"/>
              </a:rPr>
              <a:t> mammaria di grado I in 15/113 donne (13.2%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99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ff"/>
                </a:solidFill>
                <a:latin typeface="Palatino Linotype"/>
              </a:rPr>
              <a:t>IPERPIGMENTAZIONE cutanea</a:t>
            </a:r>
            <a:r>
              <a:rPr b="0" lang="it-IT" sz="3200" spc="-1" strike="noStrike">
                <a:solidFill>
                  <a:srgbClr val="ffffff"/>
                </a:solidFill>
                <a:latin typeface="Palatino Linotype"/>
              </a:rPr>
              <a:t> di grado I in 5/113 casi (4.4%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ccff"/>
                </a:solidFill>
                <a:latin typeface="Palatino Linotype"/>
              </a:rPr>
              <a:t>NESSUNA DONNA E’ ANDATA INCONTRO A RECIDIVA LOCALE DI MALATTI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ff"/>
                </a:solidFill>
                <a:latin typeface="Palatino Linotype"/>
              </a:rPr>
              <a:t>RISULTATO ESTETICO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53964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Palatino Linotype"/>
              </a:rPr>
              <a:t>147 donne su 162 (90.7%) hanno dichiarato di essere molto soddisfatte del risultato ottenuto. </a:t>
            </a:r>
            <a:r>
              <a:rPr b="0" lang="it-IT" sz="2400" spc="-1" strike="noStrike">
                <a:solidFill>
                  <a:srgbClr val="4d0058"/>
                </a:solidFill>
                <a:latin typeface="Palatino Linotype"/>
              </a:rPr>
              <a:t>(Olivotto et al. 96%; Dewar et al. 92%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Palatino Linotype"/>
              </a:rPr>
              <a:t>5 donne (3%) sono andate incontro a </a:t>
            </a:r>
            <a:r>
              <a:rPr b="0" lang="it-IT" sz="2400" spc="-1" strike="noStrike">
                <a:solidFill>
                  <a:srgbClr val="e113ff"/>
                </a:solidFill>
                <a:latin typeface="Palatino Linotype"/>
              </a:rPr>
              <a:t>iperpigmentazione</a:t>
            </a:r>
            <a:r>
              <a:rPr b="0" lang="it-IT" sz="2400" spc="-1" strike="noStrike">
                <a:solidFill>
                  <a:srgbClr val="ffffff"/>
                </a:solidFill>
                <a:latin typeface="Palatino Linotype"/>
              </a:rPr>
              <a:t> permanente come effetto tardivo che ha contribuito a ridurre il loro grado di soddisfazion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Palatino Linotype"/>
              </a:rPr>
              <a:t>10 donne (6.3%) hanno mostrato scarso interesse per l’estetic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ff"/>
                </a:solidFill>
                <a:latin typeface="Palatino Linotype"/>
              </a:rPr>
              <a:t>CONCLUSIONI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539280" y="1341000"/>
            <a:ext cx="77742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-25992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Il regime ipofrazionato da noi impiegato è stato ben tollerato dalle pazienti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259920" indent="-25992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La tossicità acuta riportata (31-69%) è sovrapponibile a quella del regime convenzionale e della letteratura </a:t>
            </a:r>
            <a:r>
              <a:rPr b="0" lang="it-IT" sz="2400" spc="-1" strike="noStrike">
                <a:solidFill>
                  <a:srgbClr val="4d0058"/>
                </a:solidFill>
                <a:latin typeface="Palatino Linotype"/>
              </a:rPr>
              <a:t>(Back et al.; Fisher et al. 30-50%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920" indent="-25992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La tossicità tardiva è stata accettabil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259920" indent="-25992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it-IT" sz="3400" spc="-1" strike="noStrike">
                <a:solidFill>
                  <a:srgbClr val="ffffff"/>
                </a:solidFill>
                <a:latin typeface="Palatino Linotype"/>
              </a:rPr>
              <a:t>Nessuna donna ha avuto una recidiva di malattia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259920" indent="-25992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7:50:28Z</dcterms:created>
  <dc:creator>Emilia Varrassi</dc:creator>
  <dc:description/>
  <dc:language>en-US</dc:language>
  <cp:lastModifiedBy>Azienda Sanitaria </cp:lastModifiedBy>
  <cp:lastPrinted>1904-01-01T00:00:00Z</cp:lastPrinted>
  <dcterms:modified xsi:type="dcterms:W3CDTF">2008-07-04T08:59:17Z</dcterms:modified>
  <cp:revision>47</cp:revision>
  <dc:subject/>
  <dc:title>TRATTAMENTO ADIUVANTE IPOFRAZIONATO NEL CANCRO DELLA MAMMELLA: VALUTAZIONE AGGIORNATA DEI RISULTATI CLINICI ED ESTETICI</dc:title>
</cp:coreProperties>
</file>