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5.png" ContentType="image/png"/>
  <Override PartName="/ppt/media/image9.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4.wmf" ContentType="image/x-wmf"/>
  <Override PartName="/ppt/media/image23.wmf" ContentType="image/x-wmf"/>
  <Override PartName="/ppt/media/image22.png" ContentType="image/png"/>
  <Override PartName="/ppt/media/image3.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wmf" ContentType="image/x-wmf"/>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99DF5C-54FE-4511-B11E-8C074619C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C635AB-F94F-4D01-B0F8-BE118D83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F824DB-1AA7-4B9C-9D9D-E4AC127DF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B721026-CA41-42F8-8F4F-80C29971C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9853F-8DEB-453E-B1F7-DD8FDC7B0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7B3F5-EFC3-4F74-AE38-4D9710E9E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309ED-7028-4699-8434-6D389DDCF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39582-CEF2-41C2-9056-DEE408D15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6B62-87E0-473D-ADB7-3192149CF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18814-4D00-4718-946A-B7F71BD99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081D5-D734-4A15-BC01-5868915A5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DAF3FB-E3D1-49F6-B190-0C3D56F5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744F4-C74F-4D61-8C58-9B3018801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790B7-045B-4D46-BDDE-2CED1734C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0C487-F16D-4438-8BB3-4D449B416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44E50-BA25-4EDA-8062-5DC7685D0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2E16E-99A2-4035-B907-E9E5DFF26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C24C91-B139-49BF-975E-0CDFC5AF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0E2CAE-0E92-463C-BEA8-2FDFCF1A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EB1C24-B3ED-4185-907C-B0E0DCDA3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628D4F-BC8F-463D-AB24-ABBF5D2DE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81905E-27FB-4DE5-A18F-B9D6A114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284A9E-9060-4063-B26D-24511AED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6DBDC6-BE24-4D82-A693-D83822910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B13A-E1F4-4D63-AB18-59468666B2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48D8-EE26-4402-A186-CD245F75A3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cbi.nlm.nih.gov/sites/entrez?Db=pubmed&amp;Cmd=Search&amp;Term=%22Fowler%20FJ%20Jr%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Fowler%20FJ%20Jr%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Barry%20MJ%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Barry%20MJ%22%5BAuthor%5D&amp;itool=EntrezSystem2.PEntrez.Pubmed.Pubmed_ResultsPanel.Pubmed_DiscoveryPanel.Pubmed_RVAbstractPlus"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Quality of life after surgery and external beam irradiation for early-stage prostate cancer</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456840" y="4723920"/>
            <a:ext cx="5334120" cy="175284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f.Giuseppe Vespasiani</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attedra di Urologia</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iversità degli Studi di Roma “Tor Vergata”</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oliclinico Tor Vergata</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2" name="" descr=""/>
          <p:cNvPicPr/>
          <p:nvPr/>
        </p:nvPicPr>
        <p:blipFill>
          <a:blip r:embed="rId1"/>
          <a:stretch/>
        </p:blipFill>
        <p:spPr>
          <a:xfrm>
            <a:off x="76320" y="76320"/>
            <a:ext cx="1285920" cy="1295280"/>
          </a:xfrm>
          <a:prstGeom prst="rect">
            <a:avLst/>
          </a:prstGeom>
          <a:ln w="0">
            <a:noFill/>
          </a:ln>
        </p:spPr>
      </p:pic>
      <p:pic>
        <p:nvPicPr>
          <p:cNvPr id="103" name="" descr=""/>
          <p:cNvPicPr/>
          <p:nvPr/>
        </p:nvPicPr>
        <p:blipFill>
          <a:blip r:embed="rId2"/>
          <a:stretch/>
        </p:blipFill>
        <p:spPr>
          <a:xfrm>
            <a:off x="6553080" y="361800"/>
            <a:ext cx="213372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 </a:t>
            </a:r>
            <a:r>
              <a:rPr b="0" lang="it-IT" sz="2400" spc="-1" strike="noStrike">
                <a:solidFill>
                  <a:srgbClr val="ffffff"/>
                </a:solidFill>
                <a:latin typeface="Verdana"/>
              </a:rPr>
              <a:t>M. S. Litwin; R. D. Hays; A. Fink; P. A. Ganz; B. Leake; G. E. Leach; R. H. Brook</a:t>
            </a:r>
            <a:br>
              <a:rPr sz="2400"/>
            </a:br>
            <a:r>
              <a:rPr b="1" lang="it-IT" sz="2400" spc="-1" strike="noStrike">
                <a:solidFill>
                  <a:srgbClr val="ffcc00"/>
                </a:solidFill>
                <a:latin typeface="Verdana"/>
              </a:rPr>
              <a:t>Quality-of-life outcomes in men treated for localized prostate cancer</a:t>
            </a:r>
            <a:br>
              <a:rPr sz="2400"/>
            </a:br>
            <a:r>
              <a:rPr b="0" lang="it-IT" sz="2400" spc="-1" strike="noStrike">
                <a:solidFill>
                  <a:srgbClr val="ffcc00"/>
                </a:solidFill>
                <a:latin typeface="Verdana"/>
              </a:rPr>
              <a:t>JAMA, Jan 1995; 273: 129 - 135. </a:t>
            </a:r>
            <a:br>
              <a:rPr sz="2400"/>
            </a:br>
            <a:endParaRPr b="0" lang="en-US" sz="2400" spc="-1" strike="noStrike">
              <a:solidFill>
                <a:srgbClr val="ffffff"/>
              </a:solidFill>
              <a:latin typeface="Garamond"/>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   </a:t>
            </a:r>
            <a:r>
              <a:rPr b="0" lang="it-IT" sz="2400" spc="-1" strike="noStrike">
                <a:solidFill>
                  <a:srgbClr val="ffffff"/>
                </a:solidFill>
                <a:latin typeface="Verdana"/>
              </a:rPr>
              <a:t>Conclusions: no differences in general QOL between groups of men who had previously been treated by RP or E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Garamond"/>
              </a:rPr>
              <a:t>Outcomes of external-beam radiation therapy for prostate cancer: a study of Medicare beneficiaries in three surveillance, epidemiology, and end results areas.</a:t>
            </a:r>
            <a:endParaRPr b="0" lang="en-US" sz="2400" spc="-1" strike="noStrike">
              <a:solidFill>
                <a:srgbClr val="ffffff"/>
              </a:solidFill>
              <a:latin typeface="Garamond"/>
            </a:endParaRPr>
          </a:p>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cc00"/>
                </a:solidFill>
                <a:uFillTx/>
                <a:latin typeface="Garamond"/>
                <a:hlinkClick r:id="rId1"/>
              </a:rPr>
              <a:t>Fowler</a:t>
            </a:r>
            <a:r>
              <a:rPr b="0" lang="it-IT" sz="2400" spc="-1" strike="noStrike" u="sng">
                <a:solidFill>
                  <a:srgbClr val="ffcc00"/>
                </a:solidFill>
                <a:uFillTx/>
                <a:latin typeface="Garamond"/>
                <a:hlinkClick r:id="rId2"/>
              </a:rPr>
              <a:t> FJ Jr</a:t>
            </a:r>
            <a:r>
              <a:rPr b="1" lang="it-IT" sz="2400" spc="-1" strike="noStrike">
                <a:solidFill>
                  <a:srgbClr val="ffffff"/>
                </a:solidFill>
                <a:latin typeface="Garamond"/>
              </a:rPr>
              <a:t>, </a:t>
            </a:r>
            <a:r>
              <a:rPr b="0" lang="it-IT" sz="2400" spc="-1" strike="noStrike" u="sng">
                <a:solidFill>
                  <a:srgbClr val="ffcc00"/>
                </a:solidFill>
                <a:uFillTx/>
                <a:latin typeface="Garamond"/>
                <a:hlinkClick r:id="rId3"/>
              </a:rPr>
              <a:t>Barry</a:t>
            </a:r>
            <a:r>
              <a:rPr b="0" lang="it-IT" sz="2400" spc="-1" strike="noStrike" u="sng">
                <a:solidFill>
                  <a:srgbClr val="ffcc00"/>
                </a:solidFill>
                <a:uFillTx/>
                <a:latin typeface="Garamond"/>
                <a:hlinkClick r:id="rId4"/>
              </a:rPr>
              <a:t> MJ</a:t>
            </a:r>
            <a:r>
              <a:rPr b="1" lang="it-IT" sz="2400" spc="-1" strike="noStrike">
                <a:solidFill>
                  <a:srgbClr val="ffffff"/>
                </a:solidFill>
                <a:latin typeface="Garamond"/>
              </a:rPr>
              <a:t>, Lu-Yao G, Wasson JH, Bin L.</a:t>
            </a:r>
            <a:r>
              <a:rPr b="0" lang="it-IT" sz="2400" spc="-1" strike="noStrike">
                <a:solidFill>
                  <a:srgbClr val="ffffff"/>
                </a:solidFill>
                <a:latin typeface="Garamond"/>
              </a:rPr>
              <a:t> J Clin Oncol. 1996 Aug;14(8):2258-65.  </a:t>
            </a:r>
            <a:endParaRPr b="0" lang="en-US" sz="2400" spc="-1" strike="noStrike">
              <a:solidFill>
                <a:srgbClr val="ffffff"/>
              </a:solidFill>
              <a:latin typeface="Garamond"/>
            </a:endParaRPr>
          </a:p>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Garamond"/>
              </a:rPr>
              <a:t>Conclusions: The health-related quality of life of radiation and surgical patients, on average, is similar, but the pattern of experience with adverse consequences of treatment differs by treatment (radiation patients were less likely than surgical patients to wear pads for wetness (7% v 32%) and had a lower rate of impotence (23% v 56% for men &lt; 70 years), while they were more likely to report problems with bowel dysfunction (10% v 4%)). </a:t>
            </a:r>
            <a:endParaRPr b="0" lang="en-US" sz="2400" spc="-1" strike="noStrike">
              <a:solidFill>
                <a:srgbClr val="ffffff"/>
              </a:solidFill>
              <a:latin typeface="Garamond"/>
            </a:endParaRPr>
          </a:p>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Garamond"/>
              </a:rPr>
              <a:t>.</a:t>
            </a:r>
            <a:endParaRPr b="0" lang="en-US" sz="2400" spc="-1" strike="noStrike">
              <a:solidFill>
                <a:srgbClr val="ffffff"/>
              </a:solidFill>
              <a:latin typeface="Garamond"/>
            </a:endParaRPr>
          </a:p>
          <a:p>
            <a:pPr lvl="1" marL="616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16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56" name=""/>
          <p:cNvGraphicFramePr/>
          <p:nvPr/>
        </p:nvGraphicFramePr>
        <p:xfrm>
          <a:off x="230040" y="228600"/>
          <a:ext cx="8685360" cy="5019840"/>
        </p:xfrm>
        <a:graphic>
          <a:graphicData uri="http://schemas.openxmlformats.org/presentationml/2006/ole">
            <p:oleObj r:id="rId1" spid="">
              <p:embed/>
              <p:pic>
                <p:nvPicPr>
                  <p:cNvPr id="157" name="" descr=""/>
                  <p:cNvPicPr/>
                  <p:nvPr/>
                </p:nvPicPr>
                <p:blipFill>
                  <a:blip r:embed="rId2"/>
                  <a:stretch/>
                </p:blipFill>
                <p:spPr>
                  <a:xfrm>
                    <a:off x="230040" y="228600"/>
                    <a:ext cx="8685360" cy="5019840"/>
                  </a:xfrm>
                  <a:prstGeom prst="rect">
                    <a:avLst/>
                  </a:prstGeom>
                  <a:ln w="0">
                    <a:noFill/>
                  </a:ln>
                </p:spPr>
              </p:pic>
            </p:oleObj>
          </a:graphicData>
        </a:graphic>
      </p:graphicFrame>
      <p:sp>
        <p:nvSpPr>
          <p:cNvPr id="158" name=""/>
          <p:cNvSpPr/>
          <p:nvPr/>
        </p:nvSpPr>
        <p:spPr>
          <a:xfrm>
            <a:off x="-491400" y="5403960"/>
            <a:ext cx="1011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In all studies ER patinets were older than RP patients</a:t>
            </a:r>
            <a:r>
              <a:rPr b="0" lang="it-IT" sz="1600" spc="-1" strike="noStrike">
                <a:solidFill>
                  <a:srgbClr val="ffffff"/>
                </a:solidFill>
                <a:latin typeface="Wingdings"/>
                <a:ea typeface="Wingdings"/>
              </a:rPr>
              <a:t></a:t>
            </a:r>
            <a:r>
              <a:rPr b="0" lang="it-IT" sz="1600" spc="-1" strike="noStrike">
                <a:solidFill>
                  <a:srgbClr val="ffffff"/>
                </a:solidFill>
                <a:latin typeface="Garamond"/>
              </a:rPr>
              <a:t> better preoperative parameters of the last o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0" name="" descr=""/>
          <p:cNvPicPr/>
          <p:nvPr/>
        </p:nvPicPr>
        <p:blipFill>
          <a:blip r:embed="rId1"/>
          <a:stretch/>
        </p:blipFill>
        <p:spPr>
          <a:xfrm>
            <a:off x="457200" y="884160"/>
            <a:ext cx="8229600" cy="521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At 12 months, the total side effects of EBRT seem to be less frequent an less bothersome than those of RP.</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However, there is evidence that the situation at 12 months can be subject to change, as side effects of RP may still improve and side effects of ER can become incident or get worse after 12 months.</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5e5ff"/>
                </a:solidFill>
                <a:latin typeface="Garamond"/>
              </a:rPr>
              <a:t>Discrepancy between prostate cancer specific QoL and generic QoL</a:t>
            </a: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Patients may reevaluate the value of life itself when (after intentionally curative treatment for cancer) they are still alive and in a reasonably good functional state: they may perceive urinary, bowel and sexual dysfunction as an inevitable consequence of treatment.</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They may have adapted to their situation.</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We may use the wrong measure for measuring generic QoL. If urinary, bowel or sexual dysfunction has an effect on generic QoL, the question is whether the SF-36 is able to pick it up.</a:t>
            </a:r>
            <a:endParaRPr b="0" lang="en-US" sz="2800" spc="-1" strike="noStrike">
              <a:solidFill>
                <a:srgbClr val="ffffff"/>
              </a:solidFill>
              <a:latin typeface="Garamond"/>
            </a:endParaRPr>
          </a:p>
          <a:p>
            <a:pPr marL="315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Mental health???</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There was an improvement of mental health between the pretreatment assessment and 12 months later, with stable general physical functioning</a:t>
            </a:r>
            <a:r>
              <a:rPr b="0" lang="it-IT" sz="3200" spc="-1" strike="noStrike">
                <a:solidFill>
                  <a:srgbClr val="ffffff"/>
                </a:solidFill>
                <a:latin typeface="Wingdings"/>
                <a:ea typeface="Wingdings"/>
              </a:rPr>
              <a:t></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The pretreatment assessment is not a real baseline assessment: maybe the real stressor is the diagnosis, not the treatment, and this last one reduced the distre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8" name="" descr=""/>
          <p:cNvPicPr/>
          <p:nvPr/>
        </p:nvPicPr>
        <p:blipFill>
          <a:blip r:embed="rId1"/>
          <a:stretch/>
        </p:blipFill>
        <p:spPr>
          <a:xfrm>
            <a:off x="457200" y="304920"/>
            <a:ext cx="8131320" cy="1603080"/>
          </a:xfrm>
          <a:prstGeom prst="rect">
            <a:avLst/>
          </a:prstGeom>
          <a:ln w="0">
            <a:noFill/>
          </a:ln>
        </p:spPr>
      </p:pic>
      <p:pic>
        <p:nvPicPr>
          <p:cNvPr id="169" name="" descr=""/>
          <p:cNvPicPr/>
          <p:nvPr/>
        </p:nvPicPr>
        <p:blipFill>
          <a:blip r:embed="rId2"/>
          <a:stretch/>
        </p:blipFill>
        <p:spPr>
          <a:xfrm>
            <a:off x="2971800" y="2438280"/>
            <a:ext cx="2436840" cy="1739880"/>
          </a:xfrm>
          <a:prstGeom prst="rect">
            <a:avLst/>
          </a:prstGeom>
          <a:ln w="0">
            <a:noFill/>
          </a:ln>
        </p:spPr>
      </p:pic>
      <p:pic>
        <p:nvPicPr>
          <p:cNvPr id="170" name="" descr=""/>
          <p:cNvPicPr/>
          <p:nvPr/>
        </p:nvPicPr>
        <p:blipFill>
          <a:blip r:embed="rId3"/>
          <a:stretch/>
        </p:blipFill>
        <p:spPr>
          <a:xfrm>
            <a:off x="2209680" y="5105520"/>
            <a:ext cx="3997440" cy="72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Eligibility criteria</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nically localized biopsy proven prostate cancer (T1, T2, limited T3)</a:t>
            </a:r>
            <a:endParaRPr b="0" lang="en-US" sz="2800" spc="-1" strike="noStrike">
              <a:solidFill>
                <a:srgbClr val="ffffff"/>
              </a:solidFill>
              <a:latin typeface="Garamond"/>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Exclusion criteria</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or treatment for prostate canc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astatic dise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oadjuvant androgen ablation before regist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come measures</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Outcomes Study Short Form 36(SF-36)</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tate cancer index (PCI): higher score </a:t>
            </a:r>
            <a:r>
              <a:rPr b="0" lang="en-US" sz="3200" spc="-1" strike="noStrike">
                <a:solidFill>
                  <a:srgbClr val="ffffff"/>
                </a:solidFill>
                <a:latin typeface="Wingdings"/>
                <a:ea typeface="Wingdings"/>
              </a:rPr>
              <a:t></a:t>
            </a:r>
            <a:r>
              <a:rPr b="0" lang="en-US" sz="3200" spc="-1" strike="noStrike">
                <a:solidFill>
                  <a:srgbClr val="ffffff"/>
                </a:solidFill>
                <a:latin typeface="Garamond"/>
              </a:rPr>
              <a:t> better HRQO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 Urological Association Symptom Index (AUASI): higher score</a:t>
            </a:r>
            <a:r>
              <a:rPr b="0" lang="en-US" sz="3200" spc="-1" strike="noStrike">
                <a:solidFill>
                  <a:srgbClr val="ffffff"/>
                </a:solidFill>
                <a:latin typeface="Wingdings"/>
                <a:ea typeface="Wingdings"/>
              </a:rPr>
              <a:t></a:t>
            </a:r>
            <a:r>
              <a:rPr b="0" lang="en-US" sz="3200" spc="-1" strike="noStrike">
                <a:solidFill>
                  <a:srgbClr val="ffffff"/>
                </a:solidFill>
                <a:latin typeface="Garamond"/>
              </a:rPr>
              <a:t>worse sympto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Prostate cancer: Epidemiology</a:t>
            </a:r>
            <a:endParaRPr b="1" lang="en-US" sz="4400" spc="-1" strike="noStrike">
              <a:solidFill>
                <a:srgbClr val="e5e5ff"/>
              </a:solidFill>
              <a:latin typeface="Garamond"/>
            </a:endParaRPr>
          </a:p>
        </p:txBody>
      </p:sp>
      <p:graphicFrame>
        <p:nvGraphicFramePr>
          <p:cNvPr id="105" name=""/>
          <p:cNvGraphicFramePr/>
          <p:nvPr/>
        </p:nvGraphicFramePr>
        <p:xfrm>
          <a:off x="152280" y="1600200"/>
          <a:ext cx="4038840" cy="2971800"/>
        </p:xfrm>
        <a:graphic>
          <a:graphicData uri="http://schemas.openxmlformats.org/presentationml/2006/ole">
            <p:oleObj r:id="rId1" spid="">
              <p:embed/>
              <p:pic>
                <p:nvPicPr>
                  <p:cNvPr id="106" name="" descr=""/>
                  <p:cNvPicPr/>
                  <p:nvPr/>
                </p:nvPicPr>
                <p:blipFill>
                  <a:blip r:embed="rId2"/>
                  <a:stretch/>
                </p:blipFill>
                <p:spPr>
                  <a:xfrm>
                    <a:off x="152280" y="1600200"/>
                    <a:ext cx="4038840" cy="2971800"/>
                  </a:xfrm>
                  <a:prstGeom prst="rect">
                    <a:avLst/>
                  </a:prstGeom>
                  <a:ln w="0">
                    <a:noFill/>
                  </a:ln>
                </p:spPr>
              </p:pic>
            </p:oleObj>
          </a:graphicData>
        </a:graphic>
      </p:graphicFrame>
      <p:sp>
        <p:nvSpPr>
          <p:cNvPr id="107" name=""/>
          <p:cNvSpPr/>
          <p:nvPr/>
        </p:nvSpPr>
        <p:spPr>
          <a:xfrm>
            <a:off x="1048680" y="4419720"/>
            <a:ext cx="23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Garamond"/>
              </a:rPr>
              <a:t>Number of Men per 1,000</a:t>
            </a:r>
            <a:endParaRPr b="0" lang="en-US" sz="1400" spc="-1" strike="noStrike">
              <a:solidFill>
                <a:srgbClr val="ffffff"/>
              </a:solidFill>
              <a:latin typeface="Arial"/>
            </a:endParaRPr>
          </a:p>
        </p:txBody>
      </p:sp>
      <p:sp>
        <p:nvSpPr>
          <p:cNvPr id="108" name=""/>
          <p:cNvSpPr/>
          <p:nvPr/>
        </p:nvSpPr>
        <p:spPr>
          <a:xfrm>
            <a:off x="4108320" y="2286000"/>
            <a:ext cx="4394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Risk of Death for 40 year old U.S. Men, </a:t>
            </a:r>
            <a:br>
              <a:rPr sz="1800"/>
            </a:br>
            <a:r>
              <a:rPr b="0" lang="en-US" sz="1800" spc="-1" strike="noStrike">
                <a:solidFill>
                  <a:srgbClr val="e5e5ff"/>
                </a:solidFill>
                <a:latin typeface="Garamond"/>
              </a:rPr>
              <a:t>to End of Life, by Leading Causes. </a:t>
            </a:r>
            <a:br>
              <a:rPr sz="1800"/>
            </a:br>
            <a:endParaRPr b="0" lang="en-US" sz="1800" spc="-1" strike="noStrike">
              <a:solidFill>
                <a:srgbClr val="ffffff"/>
              </a:solidFill>
              <a:latin typeface="Arial"/>
            </a:endParaRPr>
          </a:p>
        </p:txBody>
      </p:sp>
      <p:sp>
        <p:nvSpPr>
          <p:cNvPr id="109" name=""/>
          <p:cNvSpPr/>
          <p:nvPr/>
        </p:nvSpPr>
        <p:spPr>
          <a:xfrm>
            <a:off x="8153280" y="3505320"/>
            <a:ext cx="457200" cy="3352680"/>
          </a:xfrm>
          <a:custGeom>
            <a:avLst/>
            <a:gdLst/>
            <a:ahLst/>
            <a:rect l="l" t="t" r="r" b="b"/>
            <a:pathLst>
              <a:path w="1514" h="10708">
                <a:moveTo>
                  <a:pt x="591" y="22"/>
                </a:moveTo>
                <a:lnTo>
                  <a:pt x="632" y="17"/>
                </a:lnTo>
                <a:lnTo>
                  <a:pt x="676" y="6"/>
                </a:lnTo>
                <a:lnTo>
                  <a:pt x="716" y="0"/>
                </a:lnTo>
                <a:lnTo>
                  <a:pt x="716" y="0"/>
                </a:lnTo>
                <a:lnTo>
                  <a:pt x="769" y="0"/>
                </a:lnTo>
                <a:lnTo>
                  <a:pt x="824" y="0"/>
                </a:lnTo>
                <a:lnTo>
                  <a:pt x="878" y="1"/>
                </a:lnTo>
                <a:lnTo>
                  <a:pt x="928" y="4"/>
                </a:lnTo>
                <a:lnTo>
                  <a:pt x="928" y="4"/>
                </a:lnTo>
                <a:lnTo>
                  <a:pt x="975" y="11"/>
                </a:lnTo>
                <a:lnTo>
                  <a:pt x="1019" y="23"/>
                </a:lnTo>
                <a:lnTo>
                  <a:pt x="1064" y="39"/>
                </a:lnTo>
                <a:lnTo>
                  <a:pt x="1107" y="57"/>
                </a:lnTo>
                <a:lnTo>
                  <a:pt x="1151" y="75"/>
                </a:lnTo>
                <a:lnTo>
                  <a:pt x="1194" y="94"/>
                </a:lnTo>
                <a:lnTo>
                  <a:pt x="1194" y="94"/>
                </a:lnTo>
                <a:lnTo>
                  <a:pt x="1232" y="117"/>
                </a:lnTo>
                <a:lnTo>
                  <a:pt x="1266" y="144"/>
                </a:lnTo>
                <a:lnTo>
                  <a:pt x="1296" y="173"/>
                </a:lnTo>
                <a:lnTo>
                  <a:pt x="1321" y="204"/>
                </a:lnTo>
                <a:lnTo>
                  <a:pt x="1342" y="236"/>
                </a:lnTo>
                <a:lnTo>
                  <a:pt x="1361" y="272"/>
                </a:lnTo>
                <a:lnTo>
                  <a:pt x="1376" y="308"/>
                </a:lnTo>
                <a:lnTo>
                  <a:pt x="1388" y="345"/>
                </a:lnTo>
                <a:lnTo>
                  <a:pt x="1397" y="384"/>
                </a:lnTo>
                <a:lnTo>
                  <a:pt x="1403" y="423"/>
                </a:lnTo>
                <a:lnTo>
                  <a:pt x="1407" y="464"/>
                </a:lnTo>
                <a:lnTo>
                  <a:pt x="1408" y="504"/>
                </a:lnTo>
                <a:lnTo>
                  <a:pt x="1408" y="504"/>
                </a:lnTo>
                <a:lnTo>
                  <a:pt x="1409" y="544"/>
                </a:lnTo>
                <a:lnTo>
                  <a:pt x="1408" y="584"/>
                </a:lnTo>
                <a:lnTo>
                  <a:pt x="1405" y="623"/>
                </a:lnTo>
                <a:lnTo>
                  <a:pt x="1400" y="663"/>
                </a:lnTo>
                <a:lnTo>
                  <a:pt x="1394" y="701"/>
                </a:lnTo>
                <a:lnTo>
                  <a:pt x="1385" y="740"/>
                </a:lnTo>
                <a:lnTo>
                  <a:pt x="1376" y="778"/>
                </a:lnTo>
                <a:lnTo>
                  <a:pt x="1365" y="817"/>
                </a:lnTo>
                <a:lnTo>
                  <a:pt x="1352" y="855"/>
                </a:lnTo>
                <a:lnTo>
                  <a:pt x="1339" y="891"/>
                </a:lnTo>
                <a:lnTo>
                  <a:pt x="1325" y="929"/>
                </a:lnTo>
                <a:lnTo>
                  <a:pt x="1310" y="967"/>
                </a:lnTo>
                <a:lnTo>
                  <a:pt x="1296" y="1004"/>
                </a:lnTo>
                <a:lnTo>
                  <a:pt x="1280" y="1042"/>
                </a:lnTo>
                <a:lnTo>
                  <a:pt x="1264" y="1079"/>
                </a:lnTo>
                <a:lnTo>
                  <a:pt x="1249" y="1117"/>
                </a:lnTo>
                <a:lnTo>
                  <a:pt x="1233" y="1153"/>
                </a:lnTo>
                <a:lnTo>
                  <a:pt x="1219" y="1191"/>
                </a:lnTo>
                <a:lnTo>
                  <a:pt x="1204" y="1229"/>
                </a:lnTo>
                <a:lnTo>
                  <a:pt x="1190" y="1267"/>
                </a:lnTo>
                <a:lnTo>
                  <a:pt x="1176" y="1305"/>
                </a:lnTo>
                <a:lnTo>
                  <a:pt x="1176" y="1305"/>
                </a:lnTo>
                <a:lnTo>
                  <a:pt x="1163" y="1344"/>
                </a:lnTo>
                <a:lnTo>
                  <a:pt x="1152" y="1383"/>
                </a:lnTo>
                <a:lnTo>
                  <a:pt x="1142" y="1422"/>
                </a:lnTo>
                <a:lnTo>
                  <a:pt x="1135" y="1460"/>
                </a:lnTo>
                <a:lnTo>
                  <a:pt x="1131" y="1499"/>
                </a:lnTo>
                <a:lnTo>
                  <a:pt x="1130" y="1538"/>
                </a:lnTo>
                <a:lnTo>
                  <a:pt x="1132" y="1577"/>
                </a:lnTo>
                <a:lnTo>
                  <a:pt x="1137" y="1616"/>
                </a:lnTo>
                <a:lnTo>
                  <a:pt x="1146" y="1655"/>
                </a:lnTo>
                <a:lnTo>
                  <a:pt x="1160" y="1694"/>
                </a:lnTo>
                <a:lnTo>
                  <a:pt x="1176" y="1733"/>
                </a:lnTo>
                <a:lnTo>
                  <a:pt x="1176" y="1733"/>
                </a:lnTo>
                <a:lnTo>
                  <a:pt x="1198" y="1772"/>
                </a:lnTo>
                <a:lnTo>
                  <a:pt x="1220" y="1810"/>
                </a:lnTo>
                <a:lnTo>
                  <a:pt x="1242" y="1847"/>
                </a:lnTo>
                <a:lnTo>
                  <a:pt x="1266" y="1885"/>
                </a:lnTo>
                <a:lnTo>
                  <a:pt x="1289" y="1924"/>
                </a:lnTo>
                <a:lnTo>
                  <a:pt x="1311" y="1966"/>
                </a:lnTo>
                <a:lnTo>
                  <a:pt x="1333" y="2008"/>
                </a:lnTo>
                <a:lnTo>
                  <a:pt x="1355" y="2052"/>
                </a:lnTo>
                <a:lnTo>
                  <a:pt x="1355" y="2052"/>
                </a:lnTo>
                <a:lnTo>
                  <a:pt x="1360" y="2076"/>
                </a:lnTo>
                <a:lnTo>
                  <a:pt x="1371" y="2102"/>
                </a:lnTo>
                <a:lnTo>
                  <a:pt x="1381" y="2124"/>
                </a:lnTo>
                <a:lnTo>
                  <a:pt x="1381" y="2124"/>
                </a:lnTo>
                <a:lnTo>
                  <a:pt x="1397" y="2167"/>
                </a:lnTo>
                <a:lnTo>
                  <a:pt x="1410" y="2200"/>
                </a:lnTo>
                <a:lnTo>
                  <a:pt x="1426" y="2231"/>
                </a:lnTo>
                <a:lnTo>
                  <a:pt x="1426" y="2231"/>
                </a:lnTo>
                <a:lnTo>
                  <a:pt x="1437" y="2270"/>
                </a:lnTo>
                <a:lnTo>
                  <a:pt x="1447" y="2308"/>
                </a:lnTo>
                <a:lnTo>
                  <a:pt x="1457" y="2347"/>
                </a:lnTo>
                <a:lnTo>
                  <a:pt x="1465" y="2386"/>
                </a:lnTo>
                <a:lnTo>
                  <a:pt x="1473" y="2425"/>
                </a:lnTo>
                <a:lnTo>
                  <a:pt x="1481" y="2464"/>
                </a:lnTo>
                <a:lnTo>
                  <a:pt x="1486" y="2503"/>
                </a:lnTo>
                <a:lnTo>
                  <a:pt x="1492" y="2542"/>
                </a:lnTo>
                <a:lnTo>
                  <a:pt x="1496" y="2581"/>
                </a:lnTo>
                <a:lnTo>
                  <a:pt x="1501" y="2620"/>
                </a:lnTo>
                <a:lnTo>
                  <a:pt x="1504" y="2660"/>
                </a:lnTo>
                <a:lnTo>
                  <a:pt x="1507" y="2699"/>
                </a:lnTo>
                <a:lnTo>
                  <a:pt x="1510" y="2739"/>
                </a:lnTo>
                <a:lnTo>
                  <a:pt x="1512" y="2780"/>
                </a:lnTo>
                <a:lnTo>
                  <a:pt x="1513" y="2820"/>
                </a:lnTo>
                <a:lnTo>
                  <a:pt x="1514" y="2861"/>
                </a:lnTo>
                <a:lnTo>
                  <a:pt x="1514" y="2902"/>
                </a:lnTo>
                <a:lnTo>
                  <a:pt x="1514" y="2944"/>
                </a:lnTo>
                <a:lnTo>
                  <a:pt x="1514" y="2944"/>
                </a:lnTo>
                <a:lnTo>
                  <a:pt x="1513" y="2982"/>
                </a:lnTo>
                <a:lnTo>
                  <a:pt x="1511" y="3020"/>
                </a:lnTo>
                <a:lnTo>
                  <a:pt x="1508" y="3059"/>
                </a:lnTo>
                <a:lnTo>
                  <a:pt x="1505" y="3097"/>
                </a:lnTo>
                <a:lnTo>
                  <a:pt x="1502" y="3134"/>
                </a:lnTo>
                <a:lnTo>
                  <a:pt x="1497" y="3172"/>
                </a:lnTo>
                <a:lnTo>
                  <a:pt x="1493" y="3210"/>
                </a:lnTo>
                <a:lnTo>
                  <a:pt x="1488" y="3249"/>
                </a:lnTo>
                <a:lnTo>
                  <a:pt x="1483" y="3287"/>
                </a:lnTo>
                <a:lnTo>
                  <a:pt x="1477" y="3325"/>
                </a:lnTo>
                <a:lnTo>
                  <a:pt x="1472" y="3363"/>
                </a:lnTo>
                <a:lnTo>
                  <a:pt x="1466" y="3401"/>
                </a:lnTo>
                <a:lnTo>
                  <a:pt x="1459" y="3439"/>
                </a:lnTo>
                <a:lnTo>
                  <a:pt x="1453" y="3476"/>
                </a:lnTo>
                <a:lnTo>
                  <a:pt x="1446" y="3514"/>
                </a:lnTo>
                <a:lnTo>
                  <a:pt x="1439" y="3552"/>
                </a:lnTo>
                <a:lnTo>
                  <a:pt x="1433" y="3589"/>
                </a:lnTo>
                <a:lnTo>
                  <a:pt x="1425" y="3627"/>
                </a:lnTo>
                <a:lnTo>
                  <a:pt x="1418" y="3665"/>
                </a:lnTo>
                <a:lnTo>
                  <a:pt x="1411" y="3703"/>
                </a:lnTo>
                <a:lnTo>
                  <a:pt x="1404" y="3741"/>
                </a:lnTo>
                <a:lnTo>
                  <a:pt x="1397" y="3778"/>
                </a:lnTo>
                <a:lnTo>
                  <a:pt x="1390" y="3816"/>
                </a:lnTo>
                <a:lnTo>
                  <a:pt x="1383" y="3854"/>
                </a:lnTo>
                <a:lnTo>
                  <a:pt x="1376" y="3892"/>
                </a:lnTo>
                <a:lnTo>
                  <a:pt x="1369" y="3929"/>
                </a:lnTo>
                <a:lnTo>
                  <a:pt x="1364" y="3967"/>
                </a:lnTo>
                <a:lnTo>
                  <a:pt x="1357" y="4005"/>
                </a:lnTo>
                <a:lnTo>
                  <a:pt x="1351" y="4043"/>
                </a:lnTo>
                <a:lnTo>
                  <a:pt x="1346" y="4080"/>
                </a:lnTo>
                <a:lnTo>
                  <a:pt x="1340" y="4118"/>
                </a:lnTo>
                <a:lnTo>
                  <a:pt x="1336" y="4156"/>
                </a:lnTo>
                <a:lnTo>
                  <a:pt x="1330" y="4194"/>
                </a:lnTo>
                <a:lnTo>
                  <a:pt x="1327" y="4232"/>
                </a:lnTo>
                <a:lnTo>
                  <a:pt x="1322" y="4270"/>
                </a:lnTo>
                <a:lnTo>
                  <a:pt x="1319" y="4308"/>
                </a:lnTo>
                <a:lnTo>
                  <a:pt x="1317" y="4346"/>
                </a:lnTo>
                <a:lnTo>
                  <a:pt x="1315" y="4383"/>
                </a:lnTo>
                <a:lnTo>
                  <a:pt x="1312" y="4421"/>
                </a:lnTo>
                <a:lnTo>
                  <a:pt x="1311" y="4459"/>
                </a:lnTo>
                <a:lnTo>
                  <a:pt x="1311" y="4498"/>
                </a:lnTo>
                <a:lnTo>
                  <a:pt x="1311" y="4536"/>
                </a:lnTo>
                <a:lnTo>
                  <a:pt x="1312" y="4574"/>
                </a:lnTo>
                <a:lnTo>
                  <a:pt x="1313" y="4612"/>
                </a:lnTo>
                <a:lnTo>
                  <a:pt x="1316" y="4651"/>
                </a:lnTo>
                <a:lnTo>
                  <a:pt x="1319" y="4689"/>
                </a:lnTo>
                <a:lnTo>
                  <a:pt x="1319" y="4689"/>
                </a:lnTo>
                <a:lnTo>
                  <a:pt x="1322" y="4721"/>
                </a:lnTo>
                <a:lnTo>
                  <a:pt x="1327" y="4753"/>
                </a:lnTo>
                <a:lnTo>
                  <a:pt x="1332" y="4786"/>
                </a:lnTo>
                <a:lnTo>
                  <a:pt x="1339" y="4819"/>
                </a:lnTo>
                <a:lnTo>
                  <a:pt x="1347" y="4853"/>
                </a:lnTo>
                <a:lnTo>
                  <a:pt x="1355" y="4887"/>
                </a:lnTo>
                <a:lnTo>
                  <a:pt x="1362" y="4922"/>
                </a:lnTo>
                <a:lnTo>
                  <a:pt x="1372" y="4955"/>
                </a:lnTo>
                <a:lnTo>
                  <a:pt x="1381" y="4991"/>
                </a:lnTo>
                <a:lnTo>
                  <a:pt x="1391" y="5025"/>
                </a:lnTo>
                <a:lnTo>
                  <a:pt x="1401" y="5060"/>
                </a:lnTo>
                <a:lnTo>
                  <a:pt x="1411" y="5095"/>
                </a:lnTo>
                <a:lnTo>
                  <a:pt x="1421" y="5131"/>
                </a:lnTo>
                <a:lnTo>
                  <a:pt x="1432" y="5166"/>
                </a:lnTo>
                <a:lnTo>
                  <a:pt x="1440" y="5201"/>
                </a:lnTo>
                <a:lnTo>
                  <a:pt x="1450" y="5237"/>
                </a:lnTo>
                <a:lnTo>
                  <a:pt x="1459" y="5273"/>
                </a:lnTo>
                <a:lnTo>
                  <a:pt x="1467" y="5308"/>
                </a:lnTo>
                <a:lnTo>
                  <a:pt x="1475" y="5343"/>
                </a:lnTo>
                <a:lnTo>
                  <a:pt x="1482" y="5377"/>
                </a:lnTo>
                <a:lnTo>
                  <a:pt x="1488" y="5413"/>
                </a:lnTo>
                <a:lnTo>
                  <a:pt x="1493" y="5448"/>
                </a:lnTo>
                <a:lnTo>
                  <a:pt x="1497" y="5482"/>
                </a:lnTo>
                <a:lnTo>
                  <a:pt x="1501" y="5517"/>
                </a:lnTo>
                <a:lnTo>
                  <a:pt x="1502" y="5551"/>
                </a:lnTo>
                <a:lnTo>
                  <a:pt x="1502" y="5586"/>
                </a:lnTo>
                <a:lnTo>
                  <a:pt x="1501" y="5619"/>
                </a:lnTo>
                <a:lnTo>
                  <a:pt x="1497" y="5653"/>
                </a:lnTo>
                <a:lnTo>
                  <a:pt x="1493" y="5686"/>
                </a:lnTo>
                <a:lnTo>
                  <a:pt x="1487" y="5718"/>
                </a:lnTo>
                <a:lnTo>
                  <a:pt x="1478" y="5751"/>
                </a:lnTo>
                <a:lnTo>
                  <a:pt x="1468" y="5783"/>
                </a:lnTo>
                <a:lnTo>
                  <a:pt x="1456" y="5814"/>
                </a:lnTo>
                <a:lnTo>
                  <a:pt x="1442" y="5845"/>
                </a:lnTo>
                <a:lnTo>
                  <a:pt x="1425" y="5875"/>
                </a:lnTo>
                <a:lnTo>
                  <a:pt x="1406" y="5906"/>
                </a:lnTo>
                <a:lnTo>
                  <a:pt x="1384" y="5935"/>
                </a:lnTo>
                <a:lnTo>
                  <a:pt x="1384" y="5935"/>
                </a:lnTo>
                <a:lnTo>
                  <a:pt x="1384" y="5981"/>
                </a:lnTo>
                <a:lnTo>
                  <a:pt x="1384" y="6026"/>
                </a:lnTo>
                <a:lnTo>
                  <a:pt x="1381" y="6069"/>
                </a:lnTo>
                <a:lnTo>
                  <a:pt x="1379" y="6112"/>
                </a:lnTo>
                <a:lnTo>
                  <a:pt x="1376" y="6153"/>
                </a:lnTo>
                <a:lnTo>
                  <a:pt x="1372" y="6195"/>
                </a:lnTo>
                <a:lnTo>
                  <a:pt x="1368" y="6238"/>
                </a:lnTo>
                <a:lnTo>
                  <a:pt x="1368" y="6238"/>
                </a:lnTo>
                <a:lnTo>
                  <a:pt x="1364" y="6279"/>
                </a:lnTo>
                <a:lnTo>
                  <a:pt x="1361" y="6321"/>
                </a:lnTo>
                <a:lnTo>
                  <a:pt x="1359" y="6365"/>
                </a:lnTo>
                <a:lnTo>
                  <a:pt x="1357" y="6409"/>
                </a:lnTo>
                <a:lnTo>
                  <a:pt x="1356" y="6455"/>
                </a:lnTo>
                <a:lnTo>
                  <a:pt x="1355" y="6501"/>
                </a:lnTo>
                <a:lnTo>
                  <a:pt x="1355" y="6547"/>
                </a:lnTo>
                <a:lnTo>
                  <a:pt x="1355" y="6594"/>
                </a:lnTo>
                <a:lnTo>
                  <a:pt x="1355" y="6594"/>
                </a:lnTo>
                <a:lnTo>
                  <a:pt x="1355" y="6633"/>
                </a:lnTo>
                <a:lnTo>
                  <a:pt x="1355" y="6673"/>
                </a:lnTo>
                <a:lnTo>
                  <a:pt x="1355" y="6713"/>
                </a:lnTo>
                <a:lnTo>
                  <a:pt x="1354" y="6753"/>
                </a:lnTo>
                <a:lnTo>
                  <a:pt x="1354" y="6795"/>
                </a:lnTo>
                <a:lnTo>
                  <a:pt x="1354" y="6835"/>
                </a:lnTo>
                <a:lnTo>
                  <a:pt x="1352" y="6876"/>
                </a:lnTo>
                <a:lnTo>
                  <a:pt x="1351" y="6917"/>
                </a:lnTo>
                <a:lnTo>
                  <a:pt x="1350" y="6957"/>
                </a:lnTo>
                <a:lnTo>
                  <a:pt x="1349" y="6999"/>
                </a:lnTo>
                <a:lnTo>
                  <a:pt x="1347" y="7040"/>
                </a:lnTo>
                <a:lnTo>
                  <a:pt x="1346" y="7080"/>
                </a:lnTo>
                <a:lnTo>
                  <a:pt x="1342" y="7120"/>
                </a:lnTo>
                <a:lnTo>
                  <a:pt x="1340" y="7160"/>
                </a:lnTo>
                <a:lnTo>
                  <a:pt x="1337" y="7199"/>
                </a:lnTo>
                <a:lnTo>
                  <a:pt x="1337" y="7199"/>
                </a:lnTo>
                <a:lnTo>
                  <a:pt x="1336" y="7239"/>
                </a:lnTo>
                <a:lnTo>
                  <a:pt x="1333" y="7284"/>
                </a:lnTo>
                <a:lnTo>
                  <a:pt x="1332" y="7324"/>
                </a:lnTo>
                <a:lnTo>
                  <a:pt x="1332" y="7324"/>
                </a:lnTo>
                <a:lnTo>
                  <a:pt x="1327" y="7370"/>
                </a:lnTo>
                <a:lnTo>
                  <a:pt x="1322" y="7414"/>
                </a:lnTo>
                <a:lnTo>
                  <a:pt x="1321" y="7459"/>
                </a:lnTo>
                <a:lnTo>
                  <a:pt x="1321" y="7502"/>
                </a:lnTo>
                <a:lnTo>
                  <a:pt x="1322" y="7546"/>
                </a:lnTo>
                <a:lnTo>
                  <a:pt x="1326" y="7589"/>
                </a:lnTo>
                <a:lnTo>
                  <a:pt x="1330" y="7634"/>
                </a:lnTo>
                <a:lnTo>
                  <a:pt x="1337" y="7681"/>
                </a:lnTo>
                <a:lnTo>
                  <a:pt x="1337" y="7681"/>
                </a:lnTo>
                <a:lnTo>
                  <a:pt x="1337" y="7718"/>
                </a:lnTo>
                <a:lnTo>
                  <a:pt x="1337" y="7757"/>
                </a:lnTo>
                <a:lnTo>
                  <a:pt x="1338" y="7796"/>
                </a:lnTo>
                <a:lnTo>
                  <a:pt x="1339" y="7838"/>
                </a:lnTo>
                <a:lnTo>
                  <a:pt x="1341" y="7878"/>
                </a:lnTo>
                <a:lnTo>
                  <a:pt x="1345" y="7920"/>
                </a:lnTo>
                <a:lnTo>
                  <a:pt x="1349" y="7962"/>
                </a:lnTo>
                <a:lnTo>
                  <a:pt x="1355" y="8005"/>
                </a:lnTo>
                <a:lnTo>
                  <a:pt x="1362" y="8047"/>
                </a:lnTo>
                <a:lnTo>
                  <a:pt x="1372" y="8089"/>
                </a:lnTo>
                <a:lnTo>
                  <a:pt x="1372" y="8089"/>
                </a:lnTo>
                <a:lnTo>
                  <a:pt x="1379" y="8124"/>
                </a:lnTo>
                <a:lnTo>
                  <a:pt x="1394" y="8159"/>
                </a:lnTo>
                <a:lnTo>
                  <a:pt x="1408" y="8196"/>
                </a:lnTo>
                <a:lnTo>
                  <a:pt x="1408" y="8196"/>
                </a:lnTo>
                <a:lnTo>
                  <a:pt x="1419" y="8239"/>
                </a:lnTo>
                <a:lnTo>
                  <a:pt x="1428" y="8280"/>
                </a:lnTo>
                <a:lnTo>
                  <a:pt x="1436" y="8320"/>
                </a:lnTo>
                <a:lnTo>
                  <a:pt x="1443" y="8361"/>
                </a:lnTo>
                <a:lnTo>
                  <a:pt x="1447" y="8401"/>
                </a:lnTo>
                <a:lnTo>
                  <a:pt x="1450" y="8442"/>
                </a:lnTo>
                <a:lnTo>
                  <a:pt x="1450" y="8482"/>
                </a:lnTo>
                <a:lnTo>
                  <a:pt x="1450" y="8523"/>
                </a:lnTo>
                <a:lnTo>
                  <a:pt x="1447" y="8564"/>
                </a:lnTo>
                <a:lnTo>
                  <a:pt x="1443" y="8606"/>
                </a:lnTo>
                <a:lnTo>
                  <a:pt x="1443" y="8606"/>
                </a:lnTo>
                <a:lnTo>
                  <a:pt x="1438" y="8648"/>
                </a:lnTo>
                <a:lnTo>
                  <a:pt x="1434" y="8689"/>
                </a:lnTo>
                <a:lnTo>
                  <a:pt x="1428" y="8729"/>
                </a:lnTo>
                <a:lnTo>
                  <a:pt x="1424" y="8770"/>
                </a:lnTo>
                <a:lnTo>
                  <a:pt x="1419" y="8810"/>
                </a:lnTo>
                <a:lnTo>
                  <a:pt x="1415" y="8851"/>
                </a:lnTo>
                <a:lnTo>
                  <a:pt x="1410" y="8891"/>
                </a:lnTo>
                <a:lnTo>
                  <a:pt x="1405" y="8931"/>
                </a:lnTo>
                <a:lnTo>
                  <a:pt x="1400" y="8970"/>
                </a:lnTo>
                <a:lnTo>
                  <a:pt x="1396" y="9010"/>
                </a:lnTo>
                <a:lnTo>
                  <a:pt x="1393" y="9050"/>
                </a:lnTo>
                <a:lnTo>
                  <a:pt x="1388" y="9089"/>
                </a:lnTo>
                <a:lnTo>
                  <a:pt x="1384" y="9128"/>
                </a:lnTo>
                <a:lnTo>
                  <a:pt x="1380" y="9167"/>
                </a:lnTo>
                <a:lnTo>
                  <a:pt x="1376" y="9207"/>
                </a:lnTo>
                <a:lnTo>
                  <a:pt x="1372" y="9246"/>
                </a:lnTo>
                <a:lnTo>
                  <a:pt x="1369" y="9285"/>
                </a:lnTo>
                <a:lnTo>
                  <a:pt x="1366" y="9324"/>
                </a:lnTo>
                <a:lnTo>
                  <a:pt x="1362" y="9363"/>
                </a:lnTo>
                <a:lnTo>
                  <a:pt x="1359" y="9401"/>
                </a:lnTo>
                <a:lnTo>
                  <a:pt x="1357" y="9440"/>
                </a:lnTo>
                <a:lnTo>
                  <a:pt x="1355" y="9479"/>
                </a:lnTo>
                <a:lnTo>
                  <a:pt x="1355" y="9479"/>
                </a:lnTo>
                <a:lnTo>
                  <a:pt x="1355" y="9521"/>
                </a:lnTo>
                <a:lnTo>
                  <a:pt x="1354" y="9564"/>
                </a:lnTo>
                <a:lnTo>
                  <a:pt x="1352" y="9605"/>
                </a:lnTo>
                <a:lnTo>
                  <a:pt x="1351" y="9647"/>
                </a:lnTo>
                <a:lnTo>
                  <a:pt x="1351" y="9690"/>
                </a:lnTo>
                <a:lnTo>
                  <a:pt x="1350" y="9731"/>
                </a:lnTo>
                <a:lnTo>
                  <a:pt x="1350" y="9773"/>
                </a:lnTo>
                <a:lnTo>
                  <a:pt x="1350" y="9815"/>
                </a:lnTo>
                <a:lnTo>
                  <a:pt x="1351" y="9857"/>
                </a:lnTo>
                <a:lnTo>
                  <a:pt x="1354" y="9899"/>
                </a:lnTo>
                <a:lnTo>
                  <a:pt x="1356" y="9941"/>
                </a:lnTo>
                <a:lnTo>
                  <a:pt x="1360" y="9983"/>
                </a:lnTo>
                <a:lnTo>
                  <a:pt x="1366" y="10025"/>
                </a:lnTo>
                <a:lnTo>
                  <a:pt x="1372" y="10067"/>
                </a:lnTo>
                <a:lnTo>
                  <a:pt x="1372" y="10067"/>
                </a:lnTo>
                <a:lnTo>
                  <a:pt x="1372" y="10112"/>
                </a:lnTo>
                <a:lnTo>
                  <a:pt x="1374" y="10159"/>
                </a:lnTo>
                <a:lnTo>
                  <a:pt x="1376" y="10207"/>
                </a:lnTo>
                <a:lnTo>
                  <a:pt x="1381" y="10253"/>
                </a:lnTo>
                <a:lnTo>
                  <a:pt x="1390" y="10299"/>
                </a:lnTo>
                <a:lnTo>
                  <a:pt x="1390" y="10299"/>
                </a:lnTo>
                <a:lnTo>
                  <a:pt x="1395" y="10326"/>
                </a:lnTo>
                <a:lnTo>
                  <a:pt x="1403" y="10378"/>
                </a:lnTo>
                <a:lnTo>
                  <a:pt x="1408" y="10405"/>
                </a:lnTo>
                <a:lnTo>
                  <a:pt x="1408" y="10405"/>
                </a:lnTo>
                <a:lnTo>
                  <a:pt x="1425" y="10445"/>
                </a:lnTo>
                <a:lnTo>
                  <a:pt x="1443" y="10487"/>
                </a:lnTo>
                <a:lnTo>
                  <a:pt x="1458" y="10530"/>
                </a:lnTo>
                <a:lnTo>
                  <a:pt x="1469" y="10569"/>
                </a:lnTo>
                <a:lnTo>
                  <a:pt x="1473" y="10604"/>
                </a:lnTo>
                <a:lnTo>
                  <a:pt x="1465" y="10633"/>
                </a:lnTo>
                <a:lnTo>
                  <a:pt x="1443" y="10654"/>
                </a:lnTo>
                <a:lnTo>
                  <a:pt x="1443" y="10654"/>
                </a:lnTo>
                <a:lnTo>
                  <a:pt x="1400" y="10673"/>
                </a:lnTo>
                <a:lnTo>
                  <a:pt x="1358" y="10687"/>
                </a:lnTo>
                <a:lnTo>
                  <a:pt x="1315" y="10693"/>
                </a:lnTo>
                <a:lnTo>
                  <a:pt x="1270" y="10697"/>
                </a:lnTo>
                <a:lnTo>
                  <a:pt x="1223" y="10698"/>
                </a:lnTo>
                <a:lnTo>
                  <a:pt x="1175" y="10699"/>
                </a:lnTo>
                <a:lnTo>
                  <a:pt x="1124" y="10699"/>
                </a:lnTo>
                <a:lnTo>
                  <a:pt x="1124" y="10699"/>
                </a:lnTo>
                <a:lnTo>
                  <a:pt x="1078" y="10700"/>
                </a:lnTo>
                <a:lnTo>
                  <a:pt x="1036" y="10702"/>
                </a:lnTo>
                <a:lnTo>
                  <a:pt x="994" y="10704"/>
                </a:lnTo>
                <a:lnTo>
                  <a:pt x="951" y="10706"/>
                </a:lnTo>
                <a:lnTo>
                  <a:pt x="909" y="10707"/>
                </a:lnTo>
                <a:lnTo>
                  <a:pt x="867" y="10708"/>
                </a:lnTo>
                <a:lnTo>
                  <a:pt x="822" y="10708"/>
                </a:lnTo>
                <a:lnTo>
                  <a:pt x="822" y="10708"/>
                </a:lnTo>
                <a:lnTo>
                  <a:pt x="779" y="10708"/>
                </a:lnTo>
                <a:lnTo>
                  <a:pt x="738" y="10708"/>
                </a:lnTo>
                <a:lnTo>
                  <a:pt x="696" y="10708"/>
                </a:lnTo>
                <a:lnTo>
                  <a:pt x="655" y="10708"/>
                </a:lnTo>
                <a:lnTo>
                  <a:pt x="614" y="10707"/>
                </a:lnTo>
                <a:lnTo>
                  <a:pt x="572" y="10707"/>
                </a:lnTo>
                <a:lnTo>
                  <a:pt x="531" y="10706"/>
                </a:lnTo>
                <a:lnTo>
                  <a:pt x="490" y="10706"/>
                </a:lnTo>
                <a:lnTo>
                  <a:pt x="450" y="10705"/>
                </a:lnTo>
                <a:lnTo>
                  <a:pt x="409" y="10705"/>
                </a:lnTo>
                <a:lnTo>
                  <a:pt x="369" y="10704"/>
                </a:lnTo>
                <a:lnTo>
                  <a:pt x="327" y="10704"/>
                </a:lnTo>
                <a:lnTo>
                  <a:pt x="287" y="10702"/>
                </a:lnTo>
                <a:lnTo>
                  <a:pt x="246" y="10701"/>
                </a:lnTo>
                <a:lnTo>
                  <a:pt x="206" y="10700"/>
                </a:lnTo>
                <a:lnTo>
                  <a:pt x="165" y="10700"/>
                </a:lnTo>
                <a:lnTo>
                  <a:pt x="123" y="10699"/>
                </a:lnTo>
                <a:lnTo>
                  <a:pt x="82" y="10698"/>
                </a:lnTo>
                <a:lnTo>
                  <a:pt x="41" y="10697"/>
                </a:lnTo>
                <a:lnTo>
                  <a:pt x="0" y="10697"/>
                </a:lnTo>
                <a:lnTo>
                  <a:pt x="0" y="10697"/>
                </a:lnTo>
                <a:lnTo>
                  <a:pt x="19" y="10665"/>
                </a:lnTo>
                <a:lnTo>
                  <a:pt x="40" y="10636"/>
                </a:lnTo>
                <a:lnTo>
                  <a:pt x="63" y="10611"/>
                </a:lnTo>
                <a:lnTo>
                  <a:pt x="89" y="10589"/>
                </a:lnTo>
                <a:lnTo>
                  <a:pt x="116" y="10569"/>
                </a:lnTo>
                <a:lnTo>
                  <a:pt x="145" y="10552"/>
                </a:lnTo>
                <a:lnTo>
                  <a:pt x="175" y="10536"/>
                </a:lnTo>
                <a:lnTo>
                  <a:pt x="206" y="10523"/>
                </a:lnTo>
                <a:lnTo>
                  <a:pt x="239" y="10510"/>
                </a:lnTo>
                <a:lnTo>
                  <a:pt x="272" y="10498"/>
                </a:lnTo>
                <a:lnTo>
                  <a:pt x="306" y="10487"/>
                </a:lnTo>
                <a:lnTo>
                  <a:pt x="341" y="10476"/>
                </a:lnTo>
                <a:lnTo>
                  <a:pt x="375" y="10466"/>
                </a:lnTo>
                <a:lnTo>
                  <a:pt x="411" y="10454"/>
                </a:lnTo>
                <a:lnTo>
                  <a:pt x="445" y="10443"/>
                </a:lnTo>
                <a:lnTo>
                  <a:pt x="480" y="10429"/>
                </a:lnTo>
                <a:lnTo>
                  <a:pt x="515" y="10414"/>
                </a:lnTo>
                <a:lnTo>
                  <a:pt x="549" y="10398"/>
                </a:lnTo>
                <a:lnTo>
                  <a:pt x="581" y="10379"/>
                </a:lnTo>
                <a:lnTo>
                  <a:pt x="614" y="10358"/>
                </a:lnTo>
                <a:lnTo>
                  <a:pt x="645" y="10334"/>
                </a:lnTo>
                <a:lnTo>
                  <a:pt x="645" y="10334"/>
                </a:lnTo>
                <a:lnTo>
                  <a:pt x="678" y="10312"/>
                </a:lnTo>
                <a:lnTo>
                  <a:pt x="714" y="10291"/>
                </a:lnTo>
                <a:lnTo>
                  <a:pt x="750" y="10270"/>
                </a:lnTo>
                <a:lnTo>
                  <a:pt x="784" y="10247"/>
                </a:lnTo>
                <a:lnTo>
                  <a:pt x="814" y="10221"/>
                </a:lnTo>
                <a:lnTo>
                  <a:pt x="838" y="10191"/>
                </a:lnTo>
                <a:lnTo>
                  <a:pt x="851" y="10156"/>
                </a:lnTo>
                <a:lnTo>
                  <a:pt x="851" y="10156"/>
                </a:lnTo>
                <a:lnTo>
                  <a:pt x="870" y="10098"/>
                </a:lnTo>
                <a:lnTo>
                  <a:pt x="886" y="10042"/>
                </a:lnTo>
                <a:lnTo>
                  <a:pt x="892" y="9996"/>
                </a:lnTo>
                <a:lnTo>
                  <a:pt x="892" y="9996"/>
                </a:lnTo>
                <a:lnTo>
                  <a:pt x="894" y="9956"/>
                </a:lnTo>
                <a:lnTo>
                  <a:pt x="896" y="9916"/>
                </a:lnTo>
                <a:lnTo>
                  <a:pt x="896" y="9876"/>
                </a:lnTo>
                <a:lnTo>
                  <a:pt x="896" y="9836"/>
                </a:lnTo>
                <a:lnTo>
                  <a:pt x="894" y="9795"/>
                </a:lnTo>
                <a:lnTo>
                  <a:pt x="892" y="9755"/>
                </a:lnTo>
                <a:lnTo>
                  <a:pt x="889" y="9715"/>
                </a:lnTo>
                <a:lnTo>
                  <a:pt x="886" y="9675"/>
                </a:lnTo>
                <a:lnTo>
                  <a:pt x="881" y="9635"/>
                </a:lnTo>
                <a:lnTo>
                  <a:pt x="877" y="9595"/>
                </a:lnTo>
                <a:lnTo>
                  <a:pt x="872" y="9555"/>
                </a:lnTo>
                <a:lnTo>
                  <a:pt x="867" y="9515"/>
                </a:lnTo>
                <a:lnTo>
                  <a:pt x="861" y="9475"/>
                </a:lnTo>
                <a:lnTo>
                  <a:pt x="855" y="9434"/>
                </a:lnTo>
                <a:lnTo>
                  <a:pt x="850" y="9394"/>
                </a:lnTo>
                <a:lnTo>
                  <a:pt x="844" y="9354"/>
                </a:lnTo>
                <a:lnTo>
                  <a:pt x="839" y="9314"/>
                </a:lnTo>
                <a:lnTo>
                  <a:pt x="833" y="9274"/>
                </a:lnTo>
                <a:lnTo>
                  <a:pt x="826" y="9234"/>
                </a:lnTo>
                <a:lnTo>
                  <a:pt x="822" y="9194"/>
                </a:lnTo>
                <a:lnTo>
                  <a:pt x="822" y="9194"/>
                </a:lnTo>
                <a:lnTo>
                  <a:pt x="819" y="9154"/>
                </a:lnTo>
                <a:lnTo>
                  <a:pt x="816" y="9113"/>
                </a:lnTo>
                <a:lnTo>
                  <a:pt x="814" y="9074"/>
                </a:lnTo>
                <a:lnTo>
                  <a:pt x="811" y="9034"/>
                </a:lnTo>
                <a:lnTo>
                  <a:pt x="809" y="8995"/>
                </a:lnTo>
                <a:lnTo>
                  <a:pt x="805" y="8957"/>
                </a:lnTo>
                <a:lnTo>
                  <a:pt x="802" y="8918"/>
                </a:lnTo>
                <a:lnTo>
                  <a:pt x="799" y="8879"/>
                </a:lnTo>
                <a:lnTo>
                  <a:pt x="794" y="8842"/>
                </a:lnTo>
                <a:lnTo>
                  <a:pt x="791" y="8804"/>
                </a:lnTo>
                <a:lnTo>
                  <a:pt x="786" y="8766"/>
                </a:lnTo>
                <a:lnTo>
                  <a:pt x="781" y="8727"/>
                </a:lnTo>
                <a:lnTo>
                  <a:pt x="776" y="8689"/>
                </a:lnTo>
                <a:lnTo>
                  <a:pt x="771" y="8651"/>
                </a:lnTo>
                <a:lnTo>
                  <a:pt x="764" y="8612"/>
                </a:lnTo>
                <a:lnTo>
                  <a:pt x="757" y="8573"/>
                </a:lnTo>
                <a:lnTo>
                  <a:pt x="750" y="8534"/>
                </a:lnTo>
                <a:lnTo>
                  <a:pt x="743" y="8495"/>
                </a:lnTo>
                <a:lnTo>
                  <a:pt x="735" y="8455"/>
                </a:lnTo>
                <a:lnTo>
                  <a:pt x="726" y="8415"/>
                </a:lnTo>
                <a:lnTo>
                  <a:pt x="716" y="8375"/>
                </a:lnTo>
                <a:lnTo>
                  <a:pt x="716" y="8375"/>
                </a:lnTo>
                <a:lnTo>
                  <a:pt x="708" y="8332"/>
                </a:lnTo>
                <a:lnTo>
                  <a:pt x="698" y="8291"/>
                </a:lnTo>
                <a:lnTo>
                  <a:pt x="687" y="8250"/>
                </a:lnTo>
                <a:lnTo>
                  <a:pt x="676" y="8211"/>
                </a:lnTo>
                <a:lnTo>
                  <a:pt x="664" y="8171"/>
                </a:lnTo>
                <a:lnTo>
                  <a:pt x="650" y="8132"/>
                </a:lnTo>
                <a:lnTo>
                  <a:pt x="638" y="8094"/>
                </a:lnTo>
                <a:lnTo>
                  <a:pt x="626" y="8055"/>
                </a:lnTo>
                <a:lnTo>
                  <a:pt x="614" y="8017"/>
                </a:lnTo>
                <a:lnTo>
                  <a:pt x="603" y="7979"/>
                </a:lnTo>
                <a:lnTo>
                  <a:pt x="594" y="7941"/>
                </a:lnTo>
                <a:lnTo>
                  <a:pt x="586" y="7903"/>
                </a:lnTo>
                <a:lnTo>
                  <a:pt x="579" y="7864"/>
                </a:lnTo>
                <a:lnTo>
                  <a:pt x="576" y="7827"/>
                </a:lnTo>
                <a:lnTo>
                  <a:pt x="574" y="7788"/>
                </a:lnTo>
                <a:lnTo>
                  <a:pt x="574" y="7788"/>
                </a:lnTo>
                <a:lnTo>
                  <a:pt x="575" y="7741"/>
                </a:lnTo>
                <a:lnTo>
                  <a:pt x="575" y="7689"/>
                </a:lnTo>
                <a:lnTo>
                  <a:pt x="572" y="7636"/>
                </a:lnTo>
                <a:lnTo>
                  <a:pt x="564" y="7584"/>
                </a:lnTo>
                <a:lnTo>
                  <a:pt x="547" y="7538"/>
                </a:lnTo>
                <a:lnTo>
                  <a:pt x="547" y="7538"/>
                </a:lnTo>
                <a:lnTo>
                  <a:pt x="532" y="7502"/>
                </a:lnTo>
                <a:lnTo>
                  <a:pt x="518" y="7467"/>
                </a:lnTo>
                <a:lnTo>
                  <a:pt x="503" y="7431"/>
                </a:lnTo>
                <a:lnTo>
                  <a:pt x="490" y="7395"/>
                </a:lnTo>
                <a:lnTo>
                  <a:pt x="477" y="7360"/>
                </a:lnTo>
                <a:lnTo>
                  <a:pt x="464" y="7323"/>
                </a:lnTo>
                <a:lnTo>
                  <a:pt x="452" y="7287"/>
                </a:lnTo>
                <a:lnTo>
                  <a:pt x="440" y="7250"/>
                </a:lnTo>
                <a:lnTo>
                  <a:pt x="429" y="7215"/>
                </a:lnTo>
                <a:lnTo>
                  <a:pt x="418" y="7178"/>
                </a:lnTo>
                <a:lnTo>
                  <a:pt x="408" y="7141"/>
                </a:lnTo>
                <a:lnTo>
                  <a:pt x="398" y="7104"/>
                </a:lnTo>
                <a:lnTo>
                  <a:pt x="389" y="7068"/>
                </a:lnTo>
                <a:lnTo>
                  <a:pt x="379" y="7031"/>
                </a:lnTo>
                <a:lnTo>
                  <a:pt x="371" y="6994"/>
                </a:lnTo>
                <a:lnTo>
                  <a:pt x="362" y="6956"/>
                </a:lnTo>
                <a:lnTo>
                  <a:pt x="354" y="6920"/>
                </a:lnTo>
                <a:lnTo>
                  <a:pt x="346" y="6882"/>
                </a:lnTo>
                <a:lnTo>
                  <a:pt x="340" y="6845"/>
                </a:lnTo>
                <a:lnTo>
                  <a:pt x="333" y="6807"/>
                </a:lnTo>
                <a:lnTo>
                  <a:pt x="326" y="6770"/>
                </a:lnTo>
                <a:lnTo>
                  <a:pt x="320" y="6732"/>
                </a:lnTo>
                <a:lnTo>
                  <a:pt x="314" y="6694"/>
                </a:lnTo>
                <a:lnTo>
                  <a:pt x="308" y="6657"/>
                </a:lnTo>
                <a:lnTo>
                  <a:pt x="303" y="6619"/>
                </a:lnTo>
                <a:lnTo>
                  <a:pt x="297" y="6581"/>
                </a:lnTo>
                <a:lnTo>
                  <a:pt x="293" y="6543"/>
                </a:lnTo>
                <a:lnTo>
                  <a:pt x="288" y="6505"/>
                </a:lnTo>
                <a:lnTo>
                  <a:pt x="284" y="6467"/>
                </a:lnTo>
                <a:lnTo>
                  <a:pt x="281" y="6429"/>
                </a:lnTo>
                <a:lnTo>
                  <a:pt x="276" y="6391"/>
                </a:lnTo>
                <a:lnTo>
                  <a:pt x="273" y="6352"/>
                </a:lnTo>
                <a:lnTo>
                  <a:pt x="269" y="6314"/>
                </a:lnTo>
                <a:lnTo>
                  <a:pt x="266" y="6277"/>
                </a:lnTo>
                <a:lnTo>
                  <a:pt x="264" y="6239"/>
                </a:lnTo>
                <a:lnTo>
                  <a:pt x="260" y="6200"/>
                </a:lnTo>
                <a:lnTo>
                  <a:pt x="258" y="6162"/>
                </a:lnTo>
                <a:lnTo>
                  <a:pt x="256" y="6123"/>
                </a:lnTo>
                <a:lnTo>
                  <a:pt x="254" y="6085"/>
                </a:lnTo>
                <a:lnTo>
                  <a:pt x="252" y="6047"/>
                </a:lnTo>
                <a:lnTo>
                  <a:pt x="249" y="6008"/>
                </a:lnTo>
                <a:lnTo>
                  <a:pt x="247" y="5970"/>
                </a:lnTo>
                <a:lnTo>
                  <a:pt x="246" y="5931"/>
                </a:lnTo>
                <a:lnTo>
                  <a:pt x="244" y="5893"/>
                </a:lnTo>
                <a:lnTo>
                  <a:pt x="243" y="5854"/>
                </a:lnTo>
                <a:lnTo>
                  <a:pt x="240" y="5816"/>
                </a:lnTo>
                <a:lnTo>
                  <a:pt x="239" y="5777"/>
                </a:lnTo>
                <a:lnTo>
                  <a:pt x="238" y="5740"/>
                </a:lnTo>
                <a:lnTo>
                  <a:pt x="237" y="5701"/>
                </a:lnTo>
                <a:lnTo>
                  <a:pt x="235" y="5663"/>
                </a:lnTo>
                <a:lnTo>
                  <a:pt x="234" y="5624"/>
                </a:lnTo>
                <a:lnTo>
                  <a:pt x="233" y="5586"/>
                </a:lnTo>
                <a:lnTo>
                  <a:pt x="231" y="5548"/>
                </a:lnTo>
                <a:lnTo>
                  <a:pt x="230" y="5509"/>
                </a:lnTo>
                <a:lnTo>
                  <a:pt x="229" y="5471"/>
                </a:lnTo>
                <a:lnTo>
                  <a:pt x="228" y="5433"/>
                </a:lnTo>
                <a:lnTo>
                  <a:pt x="226" y="5394"/>
                </a:lnTo>
                <a:lnTo>
                  <a:pt x="225" y="5356"/>
                </a:lnTo>
                <a:lnTo>
                  <a:pt x="224" y="5319"/>
                </a:lnTo>
                <a:lnTo>
                  <a:pt x="223" y="5282"/>
                </a:lnTo>
                <a:lnTo>
                  <a:pt x="220" y="5244"/>
                </a:lnTo>
                <a:lnTo>
                  <a:pt x="219" y="5206"/>
                </a:lnTo>
                <a:lnTo>
                  <a:pt x="219" y="5206"/>
                </a:lnTo>
                <a:lnTo>
                  <a:pt x="217" y="5195"/>
                </a:lnTo>
                <a:lnTo>
                  <a:pt x="214" y="5165"/>
                </a:lnTo>
                <a:lnTo>
                  <a:pt x="207" y="5121"/>
                </a:lnTo>
                <a:lnTo>
                  <a:pt x="200" y="5067"/>
                </a:lnTo>
                <a:lnTo>
                  <a:pt x="191" y="5005"/>
                </a:lnTo>
                <a:lnTo>
                  <a:pt x="184" y="4943"/>
                </a:lnTo>
                <a:lnTo>
                  <a:pt x="176" y="4882"/>
                </a:lnTo>
                <a:lnTo>
                  <a:pt x="168" y="4827"/>
                </a:lnTo>
                <a:lnTo>
                  <a:pt x="162" y="4782"/>
                </a:lnTo>
                <a:lnTo>
                  <a:pt x="158" y="4753"/>
                </a:lnTo>
                <a:lnTo>
                  <a:pt x="157" y="4742"/>
                </a:lnTo>
                <a:lnTo>
                  <a:pt x="157" y="4742"/>
                </a:lnTo>
                <a:lnTo>
                  <a:pt x="153" y="4702"/>
                </a:lnTo>
                <a:lnTo>
                  <a:pt x="151" y="4661"/>
                </a:lnTo>
                <a:lnTo>
                  <a:pt x="149" y="4619"/>
                </a:lnTo>
                <a:lnTo>
                  <a:pt x="147" y="4576"/>
                </a:lnTo>
                <a:lnTo>
                  <a:pt x="146" y="4534"/>
                </a:lnTo>
                <a:lnTo>
                  <a:pt x="145" y="4490"/>
                </a:lnTo>
                <a:lnTo>
                  <a:pt x="143" y="4447"/>
                </a:lnTo>
                <a:lnTo>
                  <a:pt x="141" y="4404"/>
                </a:lnTo>
                <a:lnTo>
                  <a:pt x="139" y="4359"/>
                </a:lnTo>
                <a:lnTo>
                  <a:pt x="137" y="4314"/>
                </a:lnTo>
                <a:lnTo>
                  <a:pt x="133" y="4270"/>
                </a:lnTo>
                <a:lnTo>
                  <a:pt x="130" y="4226"/>
                </a:lnTo>
                <a:lnTo>
                  <a:pt x="130" y="4226"/>
                </a:lnTo>
                <a:lnTo>
                  <a:pt x="130" y="4185"/>
                </a:lnTo>
                <a:lnTo>
                  <a:pt x="129" y="4144"/>
                </a:lnTo>
                <a:lnTo>
                  <a:pt x="128" y="4103"/>
                </a:lnTo>
                <a:lnTo>
                  <a:pt x="126" y="4061"/>
                </a:lnTo>
                <a:lnTo>
                  <a:pt x="123" y="4020"/>
                </a:lnTo>
                <a:lnTo>
                  <a:pt x="120" y="3979"/>
                </a:lnTo>
                <a:lnTo>
                  <a:pt x="118" y="3938"/>
                </a:lnTo>
                <a:lnTo>
                  <a:pt x="113" y="3897"/>
                </a:lnTo>
                <a:lnTo>
                  <a:pt x="110" y="3855"/>
                </a:lnTo>
                <a:lnTo>
                  <a:pt x="107" y="3815"/>
                </a:lnTo>
                <a:lnTo>
                  <a:pt x="102" y="3774"/>
                </a:lnTo>
                <a:lnTo>
                  <a:pt x="99" y="3733"/>
                </a:lnTo>
                <a:lnTo>
                  <a:pt x="94" y="3692"/>
                </a:lnTo>
                <a:lnTo>
                  <a:pt x="94" y="3692"/>
                </a:lnTo>
                <a:lnTo>
                  <a:pt x="94" y="3651"/>
                </a:lnTo>
                <a:lnTo>
                  <a:pt x="93" y="3610"/>
                </a:lnTo>
                <a:lnTo>
                  <a:pt x="92" y="3570"/>
                </a:lnTo>
                <a:lnTo>
                  <a:pt x="91" y="3530"/>
                </a:lnTo>
                <a:lnTo>
                  <a:pt x="90" y="3490"/>
                </a:lnTo>
                <a:lnTo>
                  <a:pt x="88" y="3451"/>
                </a:lnTo>
                <a:lnTo>
                  <a:pt x="86" y="3411"/>
                </a:lnTo>
                <a:lnTo>
                  <a:pt x="84" y="3371"/>
                </a:lnTo>
                <a:lnTo>
                  <a:pt x="82" y="3332"/>
                </a:lnTo>
                <a:lnTo>
                  <a:pt x="80" y="3292"/>
                </a:lnTo>
                <a:lnTo>
                  <a:pt x="79" y="3253"/>
                </a:lnTo>
                <a:lnTo>
                  <a:pt x="78" y="3212"/>
                </a:lnTo>
                <a:lnTo>
                  <a:pt x="77" y="3173"/>
                </a:lnTo>
                <a:lnTo>
                  <a:pt x="76" y="3133"/>
                </a:lnTo>
                <a:lnTo>
                  <a:pt x="76" y="3094"/>
                </a:lnTo>
                <a:lnTo>
                  <a:pt x="76" y="3054"/>
                </a:lnTo>
                <a:lnTo>
                  <a:pt x="77" y="3014"/>
                </a:lnTo>
                <a:lnTo>
                  <a:pt x="78" y="2975"/>
                </a:lnTo>
                <a:lnTo>
                  <a:pt x="80" y="2935"/>
                </a:lnTo>
                <a:lnTo>
                  <a:pt x="83" y="2895"/>
                </a:lnTo>
                <a:lnTo>
                  <a:pt x="87" y="2855"/>
                </a:lnTo>
                <a:lnTo>
                  <a:pt x="92" y="2815"/>
                </a:lnTo>
                <a:lnTo>
                  <a:pt x="98" y="2775"/>
                </a:lnTo>
                <a:lnTo>
                  <a:pt x="104" y="2734"/>
                </a:lnTo>
                <a:lnTo>
                  <a:pt x="112" y="2694"/>
                </a:lnTo>
                <a:lnTo>
                  <a:pt x="112" y="2694"/>
                </a:lnTo>
                <a:lnTo>
                  <a:pt x="120" y="2656"/>
                </a:lnTo>
                <a:lnTo>
                  <a:pt x="132" y="2620"/>
                </a:lnTo>
                <a:lnTo>
                  <a:pt x="149" y="2582"/>
                </a:lnTo>
                <a:lnTo>
                  <a:pt x="169" y="2544"/>
                </a:lnTo>
                <a:lnTo>
                  <a:pt x="192" y="2507"/>
                </a:lnTo>
                <a:lnTo>
                  <a:pt x="217" y="2469"/>
                </a:lnTo>
                <a:lnTo>
                  <a:pt x="244" y="2432"/>
                </a:lnTo>
                <a:lnTo>
                  <a:pt x="270" y="2395"/>
                </a:lnTo>
                <a:lnTo>
                  <a:pt x="298" y="2358"/>
                </a:lnTo>
                <a:lnTo>
                  <a:pt x="325" y="2320"/>
                </a:lnTo>
                <a:lnTo>
                  <a:pt x="325" y="2320"/>
                </a:lnTo>
                <a:lnTo>
                  <a:pt x="350" y="2284"/>
                </a:lnTo>
                <a:lnTo>
                  <a:pt x="372" y="2249"/>
                </a:lnTo>
                <a:lnTo>
                  <a:pt x="394" y="2213"/>
                </a:lnTo>
                <a:lnTo>
                  <a:pt x="418" y="2176"/>
                </a:lnTo>
                <a:lnTo>
                  <a:pt x="445" y="2139"/>
                </a:lnTo>
                <a:lnTo>
                  <a:pt x="481" y="2102"/>
                </a:lnTo>
                <a:lnTo>
                  <a:pt x="481" y="2102"/>
                </a:lnTo>
                <a:lnTo>
                  <a:pt x="490" y="2085"/>
                </a:lnTo>
                <a:lnTo>
                  <a:pt x="507" y="2052"/>
                </a:lnTo>
                <a:lnTo>
                  <a:pt x="517" y="2035"/>
                </a:lnTo>
                <a:lnTo>
                  <a:pt x="517" y="2035"/>
                </a:lnTo>
                <a:lnTo>
                  <a:pt x="527" y="1988"/>
                </a:lnTo>
                <a:lnTo>
                  <a:pt x="538" y="1943"/>
                </a:lnTo>
                <a:lnTo>
                  <a:pt x="548" y="1901"/>
                </a:lnTo>
                <a:lnTo>
                  <a:pt x="558" y="1859"/>
                </a:lnTo>
                <a:lnTo>
                  <a:pt x="567" y="1818"/>
                </a:lnTo>
                <a:lnTo>
                  <a:pt x="576" y="1777"/>
                </a:lnTo>
                <a:lnTo>
                  <a:pt x="582" y="1737"/>
                </a:lnTo>
                <a:lnTo>
                  <a:pt x="587" y="1695"/>
                </a:lnTo>
                <a:lnTo>
                  <a:pt x="590" y="1652"/>
                </a:lnTo>
                <a:lnTo>
                  <a:pt x="591" y="1608"/>
                </a:lnTo>
                <a:lnTo>
                  <a:pt x="591" y="1608"/>
                </a:lnTo>
                <a:lnTo>
                  <a:pt x="595" y="1571"/>
                </a:lnTo>
                <a:lnTo>
                  <a:pt x="589" y="1535"/>
                </a:lnTo>
                <a:lnTo>
                  <a:pt x="556" y="1519"/>
                </a:lnTo>
                <a:lnTo>
                  <a:pt x="556" y="1519"/>
                </a:lnTo>
                <a:lnTo>
                  <a:pt x="510" y="1524"/>
                </a:lnTo>
                <a:lnTo>
                  <a:pt x="463" y="1524"/>
                </a:lnTo>
                <a:lnTo>
                  <a:pt x="416" y="1519"/>
                </a:lnTo>
                <a:lnTo>
                  <a:pt x="371" y="1506"/>
                </a:lnTo>
                <a:lnTo>
                  <a:pt x="328" y="1489"/>
                </a:lnTo>
                <a:lnTo>
                  <a:pt x="289" y="1465"/>
                </a:lnTo>
                <a:lnTo>
                  <a:pt x="289" y="1465"/>
                </a:lnTo>
                <a:lnTo>
                  <a:pt x="257" y="1432"/>
                </a:lnTo>
                <a:lnTo>
                  <a:pt x="234" y="1395"/>
                </a:lnTo>
                <a:lnTo>
                  <a:pt x="218" y="1355"/>
                </a:lnTo>
                <a:lnTo>
                  <a:pt x="208" y="1313"/>
                </a:lnTo>
                <a:lnTo>
                  <a:pt x="204" y="1270"/>
                </a:lnTo>
                <a:lnTo>
                  <a:pt x="201" y="1229"/>
                </a:lnTo>
                <a:lnTo>
                  <a:pt x="201" y="1189"/>
                </a:lnTo>
                <a:lnTo>
                  <a:pt x="201" y="1189"/>
                </a:lnTo>
                <a:lnTo>
                  <a:pt x="200" y="1167"/>
                </a:lnTo>
                <a:lnTo>
                  <a:pt x="198" y="1140"/>
                </a:lnTo>
                <a:lnTo>
                  <a:pt x="197" y="1118"/>
                </a:lnTo>
                <a:lnTo>
                  <a:pt x="197" y="1118"/>
                </a:lnTo>
                <a:lnTo>
                  <a:pt x="188" y="1066"/>
                </a:lnTo>
                <a:lnTo>
                  <a:pt x="166" y="1036"/>
                </a:lnTo>
                <a:lnTo>
                  <a:pt x="127" y="1018"/>
                </a:lnTo>
                <a:lnTo>
                  <a:pt x="68" y="1006"/>
                </a:lnTo>
                <a:lnTo>
                  <a:pt x="68" y="1006"/>
                </a:lnTo>
                <a:lnTo>
                  <a:pt x="48" y="979"/>
                </a:lnTo>
                <a:lnTo>
                  <a:pt x="50" y="952"/>
                </a:lnTo>
                <a:lnTo>
                  <a:pt x="69" y="924"/>
                </a:lnTo>
                <a:lnTo>
                  <a:pt x="96" y="896"/>
                </a:lnTo>
                <a:lnTo>
                  <a:pt x="125" y="869"/>
                </a:lnTo>
                <a:lnTo>
                  <a:pt x="148" y="841"/>
                </a:lnTo>
                <a:lnTo>
                  <a:pt x="148" y="841"/>
                </a:lnTo>
                <a:lnTo>
                  <a:pt x="171" y="801"/>
                </a:lnTo>
                <a:lnTo>
                  <a:pt x="189" y="759"/>
                </a:lnTo>
                <a:lnTo>
                  <a:pt x="201" y="715"/>
                </a:lnTo>
                <a:lnTo>
                  <a:pt x="210" y="672"/>
                </a:lnTo>
                <a:lnTo>
                  <a:pt x="215" y="630"/>
                </a:lnTo>
                <a:lnTo>
                  <a:pt x="218" y="586"/>
                </a:lnTo>
                <a:lnTo>
                  <a:pt x="218" y="544"/>
                </a:lnTo>
                <a:lnTo>
                  <a:pt x="219" y="504"/>
                </a:lnTo>
                <a:lnTo>
                  <a:pt x="219" y="504"/>
                </a:lnTo>
                <a:lnTo>
                  <a:pt x="220" y="456"/>
                </a:lnTo>
                <a:lnTo>
                  <a:pt x="225" y="411"/>
                </a:lnTo>
                <a:lnTo>
                  <a:pt x="231" y="370"/>
                </a:lnTo>
                <a:lnTo>
                  <a:pt x="242" y="330"/>
                </a:lnTo>
                <a:lnTo>
                  <a:pt x="255" y="292"/>
                </a:lnTo>
                <a:lnTo>
                  <a:pt x="272" y="256"/>
                </a:lnTo>
                <a:lnTo>
                  <a:pt x="293" y="223"/>
                </a:lnTo>
                <a:lnTo>
                  <a:pt x="317" y="189"/>
                </a:lnTo>
                <a:lnTo>
                  <a:pt x="345" y="158"/>
                </a:lnTo>
                <a:lnTo>
                  <a:pt x="377" y="128"/>
                </a:lnTo>
                <a:lnTo>
                  <a:pt x="414" y="98"/>
                </a:lnTo>
                <a:lnTo>
                  <a:pt x="414" y="98"/>
                </a:lnTo>
                <a:lnTo>
                  <a:pt x="442" y="86"/>
                </a:lnTo>
                <a:lnTo>
                  <a:pt x="503" y="60"/>
                </a:lnTo>
                <a:lnTo>
                  <a:pt x="564" y="35"/>
                </a:lnTo>
                <a:lnTo>
                  <a:pt x="591" y="22"/>
                </a:lnTo>
                <a:lnTo>
                  <a:pt x="591" y="22"/>
                </a:lnTo>
                <a:lnTo>
                  <a:pt x="591" y="22"/>
                </a:lnTo>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715000" y="3581280"/>
            <a:ext cx="2438280" cy="380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ung &amp; bronchus</a:t>
            </a:r>
            <a:r>
              <a:rPr b="1" lang="en-US" sz="1400" spc="-1" strike="noStrike">
                <a:solidFill>
                  <a:srgbClr val="ffffff"/>
                </a:solidFill>
                <a:latin typeface="Garamond"/>
              </a:rPr>
              <a:t>	</a:t>
            </a:r>
            <a:r>
              <a:rPr b="1" lang="en-US" sz="1400" spc="-1" strike="noStrike">
                <a:solidFill>
                  <a:srgbClr val="ffffff"/>
                </a:solidFill>
                <a:latin typeface="Garamond"/>
              </a:rPr>
              <a:t>3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lon &amp; rectum</a:t>
            </a:r>
            <a:r>
              <a:rPr b="1" lang="en-US" sz="1400" spc="-1" strike="noStrike">
                <a:solidFill>
                  <a:srgbClr val="ffffff"/>
                </a:solidFill>
                <a:latin typeface="Garamond"/>
              </a:rPr>
              <a:t>	</a:t>
            </a:r>
            <a:r>
              <a:rPr b="1" lang="en-US" sz="1400" spc="-1" strike="noStrike">
                <a:solidFill>
                  <a:srgbClr val="ffffff"/>
                </a:solidFill>
                <a:latin typeface="Garamond"/>
              </a:rPr>
              <a:t>1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ostate</a:t>
            </a:r>
            <a:r>
              <a:rPr b="1" lang="en-US" sz="1400" spc="-1" strike="noStrike">
                <a:solidFill>
                  <a:srgbClr val="ffff00"/>
                </a:solidFill>
                <a:latin typeface="Garamond"/>
              </a:rPr>
              <a:t>	</a:t>
            </a:r>
            <a:r>
              <a:rPr b="1" lang="en-US" sz="1400" spc="-1" strike="noStrike">
                <a:solidFill>
                  <a:srgbClr val="ffff00"/>
                </a:solidFill>
                <a:latin typeface="Garamond"/>
              </a:rPr>
              <a:t>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ancreas</a:t>
            </a:r>
            <a:r>
              <a:rPr b="1" lang="en-US" sz="1400" spc="-1" strike="noStrike">
                <a:solidFill>
                  <a:srgbClr val="ffffff"/>
                </a:solidFill>
                <a:latin typeface="Garamond"/>
              </a:rPr>
              <a:t>	</a:t>
            </a:r>
            <a:r>
              <a:rPr b="1" lang="en-US" sz="1400" spc="-1" strike="noStrike">
                <a:solidFill>
                  <a:srgbClr val="ffffff"/>
                </a:solidFill>
                <a:latin typeface="Garamond"/>
              </a:rPr>
              <a:t>6%</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eukemia</a:t>
            </a:r>
            <a:r>
              <a:rPr b="1" lang="en-US" sz="1400" spc="-1" strike="noStrike">
                <a:solidFill>
                  <a:srgbClr val="ffffff"/>
                </a:solidFill>
                <a:latin typeface="Garamond"/>
              </a:rPr>
              <a:t>	</a:t>
            </a:r>
            <a:r>
              <a:rPr b="1" lang="en-US" sz="1400" spc="-1" strike="noStrike">
                <a:solidFill>
                  <a:srgbClr val="ffffff"/>
                </a:solidFill>
                <a:latin typeface="Garamond"/>
              </a:rPr>
              <a:t>4%</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iver &amp; intrahepatic</a:t>
            </a:r>
            <a:r>
              <a:rPr b="1" lang="en-US" sz="1400" spc="-1" strike="noStrike">
                <a:solidFill>
                  <a:srgbClr val="ffffff"/>
                </a:solidFill>
                <a:latin typeface="Garamond"/>
              </a:rPr>
              <a:t>	</a:t>
            </a:r>
            <a:r>
              <a:rPr b="1" lang="en-US" sz="1400" spc="-1" strike="noStrike">
                <a:solidFill>
                  <a:srgbClr val="ffffff"/>
                </a:solidFill>
                <a:latin typeface="Garamond"/>
              </a:rPr>
              <a:t>4%</a:t>
            </a:r>
            <a:br>
              <a:rPr sz="1400"/>
            </a:br>
            <a:r>
              <a:rPr b="1" lang="en-US" sz="1400" spc="-1" strike="noStrike">
                <a:solidFill>
                  <a:srgbClr val="ffffff"/>
                </a:solidFill>
                <a:latin typeface="Garamond"/>
              </a:rPr>
              <a:t>bile duc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sophagus</a:t>
            </a:r>
            <a:r>
              <a:rPr b="1" lang="en-US" sz="1400" spc="-1" strike="noStrike">
                <a:solidFill>
                  <a:srgbClr val="ffffff"/>
                </a:solidFill>
                <a:latin typeface="Garamond"/>
              </a:rPr>
              <a:t>	</a:t>
            </a:r>
            <a:r>
              <a:rPr b="1" lang="en-US" sz="1400" spc="-1" strike="noStrike">
                <a:solidFill>
                  <a:srgbClr val="ffffff"/>
                </a:solidFill>
                <a:latin typeface="Garamond"/>
              </a:rPr>
              <a:t>4%</a:t>
            </a:r>
            <a:r>
              <a:rPr b="1" lang="en-US" sz="1400" spc="-1" strike="noStrike">
                <a:solidFill>
                  <a:srgbClr val="ffffff"/>
                </a:solidFill>
                <a:latin typeface="Garamond"/>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Non-Hodgkin                 3%    lymphom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Urinary bladder</a:t>
            </a:r>
            <a:r>
              <a:rPr b="1" lang="en-US" sz="1400" spc="-1" strike="noStrike">
                <a:solidFill>
                  <a:srgbClr val="ffffff"/>
                </a:solidFill>
                <a:latin typeface="Garamond"/>
              </a:rPr>
              <a:t>	</a:t>
            </a:r>
            <a:r>
              <a:rPr b="1" lang="en-US" sz="1400" spc="-1" strike="noStrike">
                <a:solidFill>
                  <a:srgbClr val="ffffff"/>
                </a:solidFill>
                <a:latin typeface="Garamond"/>
              </a:rPr>
              <a:t>3%</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Kidney</a:t>
            </a:r>
            <a:r>
              <a:rPr b="1" lang="en-US" sz="1400" spc="-1" strike="noStrike">
                <a:solidFill>
                  <a:srgbClr val="ffffff"/>
                </a:solidFill>
                <a:latin typeface="Garamond"/>
              </a:rPr>
              <a:t>	</a:t>
            </a:r>
            <a:r>
              <a:rPr b="1" lang="en-US" sz="1400" spc="-1" strike="noStrike">
                <a:solidFill>
                  <a:srgbClr val="ffffff"/>
                </a:solidFill>
                <a:latin typeface="Garamond"/>
              </a:rPr>
              <a:t>3%</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ll other sites               23%</a:t>
            </a:r>
            <a:endParaRPr b="0" lang="en-US" sz="1400" spc="-1" strike="noStrike">
              <a:solidFill>
                <a:srgbClr val="ffffff"/>
              </a:solidFill>
              <a:latin typeface="Arial"/>
            </a:endParaRPr>
          </a:p>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 name=""/>
          <p:cNvSpPr/>
          <p:nvPr/>
        </p:nvSpPr>
        <p:spPr>
          <a:xfrm>
            <a:off x="2083320" y="5029200"/>
            <a:ext cx="392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2006 Estimated US Cancer Deaths*</a:t>
            </a:r>
            <a:endParaRPr b="0" lang="en-US" sz="1800" spc="-1" strike="noStrike">
              <a:solidFill>
                <a:srgbClr val="ffffff"/>
              </a:solidFill>
              <a:latin typeface="Arial"/>
            </a:endParaRPr>
          </a:p>
        </p:txBody>
      </p:sp>
      <p:sp>
        <p:nvSpPr>
          <p:cNvPr id="112" name=""/>
          <p:cNvSpPr/>
          <p:nvPr/>
        </p:nvSpPr>
        <p:spPr>
          <a:xfrm>
            <a:off x="2575080" y="2944800"/>
            <a:ext cx="4130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2666880" y="2743200"/>
            <a:ext cx="4114800" cy="15238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3300"/>
                </a:solidFill>
                <a:uFillTx/>
                <a:latin typeface="Garamond"/>
              </a:rPr>
              <a:t>Prostate cancer 2006 data 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3300"/>
                </a:solidFill>
                <a:uFillTx/>
                <a:latin typeface="Garamond"/>
              </a:rPr>
              <a:t>234,460 new ca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3300"/>
                </a:solidFill>
                <a:uFillTx/>
                <a:latin typeface="Garamond"/>
              </a:rPr>
              <a:t>27,350 deaths  in U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1000" fill="hold"/>
                                        <p:tgtEl>
                                          <p:spTgt spid="113"/>
                                        </p:tgtEl>
                                        <p:attrNameLst>
                                          <p:attrName>ppt_x</p:attrName>
                                        </p:attrNameLst>
                                      </p:cBhvr>
                                      <p:tavLst>
                                        <p:tav tm="0">
                                          <p:val>
                                            <p:strVal val="#ppt_x"/>
                                          </p:val>
                                        </p:tav>
                                        <p:tav tm="100000">
                                          <p:val>
                                            <p:strVal val="#ppt_x"/>
                                          </p:val>
                                        </p:tav>
                                      </p:tavLst>
                                    </p:anim>
                                    <p:anim calcmode="lin" valueType="num">
                                      <p:cBhvr additive="base">
                                        <p:cTn id="8"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eatment protocols</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RP: 307 p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 nerve sparing: 9.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S: 10.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NS: 80.8%</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T: 78 patien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d conformal therapy or IMR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dose 68-77 G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9% short term androgen deprivation therap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F-36</a:t>
            </a:r>
            <a:endParaRPr b="1" lang="en-US" sz="4400" spc="-1" strike="noStrike">
              <a:solidFill>
                <a:srgbClr val="e5e5ff"/>
              </a:solidFill>
              <a:latin typeface="Garamond"/>
            </a:endParaRPr>
          </a:p>
        </p:txBody>
      </p:sp>
      <p:pic>
        <p:nvPicPr>
          <p:cNvPr id="180" name="" descr=""/>
          <p:cNvPicPr/>
          <p:nvPr/>
        </p:nvPicPr>
        <p:blipFill>
          <a:blip r:embed="rId1"/>
          <a:stretch/>
        </p:blipFill>
        <p:spPr>
          <a:xfrm>
            <a:off x="457200" y="1371600"/>
            <a:ext cx="3911760" cy="2330280"/>
          </a:xfrm>
          <a:prstGeom prst="rect">
            <a:avLst/>
          </a:prstGeom>
          <a:ln w="0">
            <a:noFill/>
          </a:ln>
        </p:spPr>
      </p:pic>
      <p:pic>
        <p:nvPicPr>
          <p:cNvPr id="181" name="" descr=""/>
          <p:cNvPicPr/>
          <p:nvPr/>
        </p:nvPicPr>
        <p:blipFill>
          <a:blip r:embed="rId2"/>
          <a:stretch/>
        </p:blipFill>
        <p:spPr>
          <a:xfrm>
            <a:off x="4495680" y="4114800"/>
            <a:ext cx="4040280" cy="216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UASI/PCI</a:t>
            </a: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4" name="" descr=""/>
          <p:cNvPicPr/>
          <p:nvPr/>
        </p:nvPicPr>
        <p:blipFill>
          <a:blip r:embed="rId1"/>
          <a:stretch/>
        </p:blipFill>
        <p:spPr>
          <a:xfrm>
            <a:off x="569880" y="1600200"/>
            <a:ext cx="800424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86" name="" descr=""/>
          <p:cNvPicPr/>
          <p:nvPr/>
        </p:nvPicPr>
        <p:blipFill>
          <a:blip r:embed="rId1"/>
          <a:stretch/>
        </p:blipFill>
        <p:spPr>
          <a:xfrm>
            <a:off x="533520" y="1447920"/>
            <a:ext cx="7962840" cy="2320920"/>
          </a:xfrm>
          <a:prstGeom prst="rect">
            <a:avLst/>
          </a:prstGeom>
          <a:ln w="0">
            <a:noFill/>
          </a:ln>
        </p:spPr>
      </p:pic>
      <p:pic>
        <p:nvPicPr>
          <p:cNvPr id="187" name="" descr=""/>
          <p:cNvPicPr/>
          <p:nvPr/>
        </p:nvPicPr>
        <p:blipFill>
          <a:blip r:embed="rId2"/>
          <a:stretch/>
        </p:blipFill>
        <p:spPr>
          <a:xfrm>
            <a:off x="152280" y="5257800"/>
            <a:ext cx="8839440" cy="69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0" name="" descr=""/>
          <p:cNvPicPr/>
          <p:nvPr/>
        </p:nvPicPr>
        <p:blipFill>
          <a:blip r:embed="rId1"/>
          <a:stretch/>
        </p:blipFill>
        <p:spPr>
          <a:xfrm>
            <a:off x="762120" y="304920"/>
            <a:ext cx="7835760" cy="5273640"/>
          </a:xfrm>
          <a:prstGeom prst="rect">
            <a:avLst/>
          </a:prstGeom>
          <a:ln w="0">
            <a:noFill/>
          </a:ln>
        </p:spPr>
      </p:pic>
      <p:pic>
        <p:nvPicPr>
          <p:cNvPr id="191" name="" descr=""/>
          <p:cNvPicPr/>
          <p:nvPr/>
        </p:nvPicPr>
        <p:blipFill>
          <a:blip r:embed="rId2"/>
          <a:stretch/>
        </p:blipFill>
        <p:spPr>
          <a:xfrm>
            <a:off x="152280" y="6019920"/>
            <a:ext cx="8839440" cy="69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93" name="" descr=""/>
          <p:cNvPicPr/>
          <p:nvPr/>
        </p:nvPicPr>
        <p:blipFill>
          <a:blip r:embed="rId1"/>
          <a:stretch/>
        </p:blipFill>
        <p:spPr>
          <a:xfrm>
            <a:off x="2452680" y="228600"/>
            <a:ext cx="4253040" cy="4525920"/>
          </a:xfrm>
          <a:prstGeom prst="rect">
            <a:avLst/>
          </a:prstGeom>
          <a:ln w="0">
            <a:noFill/>
          </a:ln>
        </p:spPr>
      </p:pic>
      <p:sp>
        <p:nvSpPr>
          <p:cNvPr id="194" name=""/>
          <p:cNvSpPr/>
          <p:nvPr/>
        </p:nvSpPr>
        <p:spPr>
          <a:xfrm>
            <a:off x="-754920" y="5105520"/>
            <a:ext cx="1056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mong men who were potent prior to treatment those who underwent BNS surgery had 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reater initial loss of sexual function than those undergoing EBRT but greater long ter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mprove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96" name="" descr=""/>
          <p:cNvPicPr/>
          <p:nvPr/>
        </p:nvPicPr>
        <p:blipFill>
          <a:blip r:embed="rId1"/>
          <a:stretch/>
        </p:blipFill>
        <p:spPr>
          <a:xfrm>
            <a:off x="900000" y="2602080"/>
            <a:ext cx="3152880" cy="2520720"/>
          </a:xfrm>
          <a:prstGeom prst="rect">
            <a:avLst/>
          </a:prstGeom>
          <a:ln w="0">
            <a:noFill/>
          </a:ln>
        </p:spPr>
      </p:pic>
      <p:sp>
        <p:nvSpPr>
          <p:cNvPr id="19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P subjects had significantly greater bother than EBRT ones immediately after therapy</a:t>
            </a:r>
            <a:endParaRPr b="0" lang="en-US" sz="2800" spc="-1" strike="noStrike">
              <a:solidFill>
                <a:srgbClr val="ffffff"/>
              </a:solidFill>
              <a:latin typeface="Garamond"/>
            </a:endParaRPr>
          </a:p>
          <a:p>
            <a:pPr marL="298440" indent="-2984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yond 4 months posttreatment, the proportions of men reporting severe urinary bother did not differ significantly among treatment groups</a:t>
            </a:r>
            <a:endParaRPr b="0" lang="en-US" sz="2800" spc="-1" strike="noStrike">
              <a:solidFill>
                <a:srgbClr val="ffffff"/>
              </a:solidFill>
              <a:latin typeface="Garamond"/>
            </a:endParaRPr>
          </a:p>
          <a:p>
            <a:pPr marL="2984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pite a delayed return to baseline sexual function, beyond 8 months posttreatment the proportions of men reporting severe sexual bother did not differ significantly among treatment group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xual bother was much more common than urinary or bowel bother at all time points, regardless of primary therapy.</a:t>
            </a:r>
            <a:endParaRPr b="0" lang="en-US" sz="2400" spc="-1" strike="noStrike">
              <a:solidFill>
                <a:srgbClr val="ffffff"/>
              </a:solidFill>
              <a:latin typeface="Garamond"/>
            </a:endParaRPr>
          </a:p>
        </p:txBody>
      </p:sp>
      <p:pic>
        <p:nvPicPr>
          <p:cNvPr id="200" name="" descr=""/>
          <p:cNvPicPr/>
          <p:nvPr/>
        </p:nvPicPr>
        <p:blipFill>
          <a:blip r:embed="rId1"/>
          <a:stretch/>
        </p:blipFill>
        <p:spPr>
          <a:xfrm>
            <a:off x="914400" y="2508120"/>
            <a:ext cx="3111480" cy="252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02" name="" descr=""/>
          <p:cNvPicPr/>
          <p:nvPr/>
        </p:nvPicPr>
        <p:blipFill>
          <a:blip r:embed="rId1"/>
          <a:stretch/>
        </p:blipFill>
        <p:spPr>
          <a:xfrm>
            <a:off x="878040" y="2602080"/>
            <a:ext cx="3195360" cy="2520720"/>
          </a:xfrm>
          <a:prstGeom prst="rect">
            <a:avLst/>
          </a:prstGeom>
          <a:ln w="0">
            <a:noFill/>
          </a:ln>
        </p:spPr>
      </p:pic>
      <p:sp>
        <p:nvSpPr>
          <p:cNvPr id="20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wel bother was most pronounced in EBRT pati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mitations of the study</a:t>
            </a: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528120" indent="-528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 undergoing EBRT commonly receive neoadjuvant androgen ablation, especially in the presence of adverse clinical risk factors, and this can differentially impair sexual outcomes in men undergoing radiation.</a:t>
            </a:r>
            <a:endParaRPr b="0" lang="en-US" sz="2400" spc="-1" strike="noStrike">
              <a:solidFill>
                <a:srgbClr val="ffffff"/>
              </a:solidFill>
              <a:latin typeface="Garamond"/>
            </a:endParaRPr>
          </a:p>
          <a:p>
            <a:pPr marL="528120" indent="-528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tudy did not account for the impact of disease progression on the HRQOL of the subjects.</a:t>
            </a:r>
            <a:endParaRPr b="0" lang="en-US" sz="2400" spc="-1" strike="noStrike">
              <a:solidFill>
                <a:srgbClr val="ffffff"/>
              </a:solidFill>
              <a:latin typeface="Garamond"/>
            </a:endParaRPr>
          </a:p>
          <a:p>
            <a:pPr marL="528120" indent="-528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undergoing radiation were older and age is associated with worse sexual and bowel outcomes after surgery and radiation. Furthermore, older men</a:t>
            </a:r>
            <a:r>
              <a:rPr b="0" lang="en-US" sz="2400" spc="-1" strike="noStrike">
                <a:solidFill>
                  <a:srgbClr val="ffffff"/>
                </a:solidFill>
                <a:latin typeface="Wingdings"/>
                <a:ea typeface="Wingdings"/>
              </a:rPr>
              <a:t></a:t>
            </a:r>
            <a:r>
              <a:rPr b="0" lang="en-US" sz="2400" spc="-1" strike="noStrike">
                <a:solidFill>
                  <a:srgbClr val="ffffff"/>
                </a:solidFill>
                <a:latin typeface="Garamond"/>
              </a:rPr>
              <a:t>more likely to report a history of cardiovascular or peripheral vascular disease, both of which are associated with erectile dysfunc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oL definition</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ysical, psycological and social functioning and well being</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5e5ff"/>
                </a:solidFill>
                <a:latin typeface="Garamond"/>
              </a:rPr>
              <a:t>What about long-term follow up of the health related QoL after primary treatment of localized PCa?</a:t>
            </a:r>
            <a:endParaRPr b="1" lang="en-US" sz="2800" spc="-1" strike="noStrike">
              <a:solidFill>
                <a:srgbClr val="e5e5ff"/>
              </a:solidFill>
              <a:latin typeface="Garamond"/>
            </a:endParaRPr>
          </a:p>
        </p:txBody>
      </p:sp>
      <p:pic>
        <p:nvPicPr>
          <p:cNvPr id="207" name="" descr=""/>
          <p:cNvPicPr/>
          <p:nvPr/>
        </p:nvPicPr>
        <p:blipFill>
          <a:blip r:embed="rId1"/>
          <a:stretch/>
        </p:blipFill>
        <p:spPr>
          <a:xfrm>
            <a:off x="914400" y="1409760"/>
            <a:ext cx="7232760" cy="2933640"/>
          </a:xfrm>
          <a:prstGeom prst="rect">
            <a:avLst/>
          </a:prstGeom>
          <a:ln w="0">
            <a:noFill/>
          </a:ln>
        </p:spPr>
      </p:pic>
      <p:pic>
        <p:nvPicPr>
          <p:cNvPr id="208" name="" descr=""/>
          <p:cNvPicPr/>
          <p:nvPr/>
        </p:nvPicPr>
        <p:blipFill>
          <a:blip r:embed="rId2"/>
          <a:stretch/>
        </p:blipFill>
        <p:spPr>
          <a:xfrm rot="5400000">
            <a:off x="3808440" y="1887120"/>
            <a:ext cx="1355760" cy="8400960"/>
          </a:xfrm>
          <a:prstGeom prst="rect">
            <a:avLst/>
          </a:prstGeom>
          <a:ln w="0">
            <a:noFill/>
          </a:ln>
        </p:spPr>
      </p:pic>
      <p:pic>
        <p:nvPicPr>
          <p:cNvPr id="209" name="" descr=""/>
          <p:cNvPicPr/>
          <p:nvPr/>
        </p:nvPicPr>
        <p:blipFill>
          <a:blip r:embed="rId3"/>
          <a:stretch/>
        </p:blipFill>
        <p:spPr>
          <a:xfrm>
            <a:off x="304920" y="4584600"/>
            <a:ext cx="8381880" cy="82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2" name="" descr=""/>
          <p:cNvPicPr/>
          <p:nvPr/>
        </p:nvPicPr>
        <p:blipFill>
          <a:blip r:embed="rId1"/>
          <a:stretch/>
        </p:blipFill>
        <p:spPr>
          <a:xfrm>
            <a:off x="990720" y="1752480"/>
            <a:ext cx="7194600" cy="2943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5" name="" descr=""/>
          <p:cNvPicPr/>
          <p:nvPr/>
        </p:nvPicPr>
        <p:blipFill>
          <a:blip r:embed="rId1"/>
          <a:stretch/>
        </p:blipFill>
        <p:spPr>
          <a:xfrm>
            <a:off x="838080" y="228600"/>
            <a:ext cx="7315200" cy="2867040"/>
          </a:xfrm>
          <a:prstGeom prst="rect">
            <a:avLst/>
          </a:prstGeom>
          <a:ln w="0">
            <a:noFill/>
          </a:ln>
        </p:spPr>
      </p:pic>
      <p:pic>
        <p:nvPicPr>
          <p:cNvPr id="216" name="" descr=""/>
          <p:cNvPicPr/>
          <p:nvPr/>
        </p:nvPicPr>
        <p:blipFill>
          <a:blip r:embed="rId2"/>
          <a:stretch/>
        </p:blipFill>
        <p:spPr>
          <a:xfrm>
            <a:off x="838080" y="3124080"/>
            <a:ext cx="7315200" cy="290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 </a:t>
            </a: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eatment for localized prostate cancer was found to differentially affect HRQOL outcomes.</a:t>
            </a:r>
            <a:endParaRPr b="0"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rinary control and sexual function were better after EBRT although BNS surgery diminished these differences among potent men undergoing RP.</a:t>
            </a:r>
            <a:endParaRPr b="0"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BRT caused more bowel dysfunction.</a:t>
            </a:r>
            <a:endParaRPr b="0"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results may inform medical decision-making in men with localised prostate cancer.</a:t>
            </a:r>
            <a:endParaRPr b="0"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le of the PSA mass screening????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QoL is related to symptoms that are directly caused by the treatment side-effec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symptoms may determine a low, medium or high impact on the Qo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ain side-effects of radical prostatectomy</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ontinenc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ectile dysfunction</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mptoms that derive by the stenosis of the urethrovesical anastomosis.</a:t>
            </a:r>
            <a:endParaRPr b="0" lang="en-US" sz="3200" spc="-1" strike="noStrike">
              <a:solidFill>
                <a:srgbClr val="ffffff"/>
              </a:solidFill>
              <a:latin typeface="Garamond"/>
            </a:endParaRPr>
          </a:p>
        </p:txBody>
      </p:sp>
      <p:sp>
        <p:nvSpPr>
          <p:cNvPr id="120" name=""/>
          <p:cNvSpPr/>
          <p:nvPr/>
        </p:nvSpPr>
        <p:spPr>
          <a:xfrm>
            <a:off x="3733920" y="2362320"/>
            <a:ext cx="1295280" cy="3352680"/>
          </a:xfrm>
          <a:custGeom>
            <a:avLst/>
            <a:gdLst>
              <a:gd name="textAreaLeft" fmla="*/ 0 w 1295280"/>
              <a:gd name="textAreaRight" fmla="*/ 467640 w 12952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105520" y="3200400"/>
            <a:ext cx="388620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98840" y="3610080"/>
            <a:ext cx="37479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Garamond"/>
              </a:rPr>
              <a:t>EARLY ONSET</a:t>
            </a:r>
            <a:endParaRPr b="0" lang="en-US" sz="2200" spc="-1" strike="noStrike">
              <a:solidFill>
                <a:srgbClr val="ffffff"/>
              </a:solidFill>
              <a:latin typeface="Arial"/>
            </a:endParaRPr>
          </a:p>
          <a:p>
            <a:pPr algn="ct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Garamond"/>
              </a:rPr>
              <a:t>TENDENCY TO IMPROV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Garamond"/>
              </a:rPr>
              <a:t> </a:t>
            </a:r>
            <a:r>
              <a:rPr b="1" i="1" lang="en-US" sz="2200" spc="-1" strike="noStrike">
                <a:solidFill>
                  <a:srgbClr val="ffffff"/>
                </a:solidFill>
                <a:latin typeface="Garamond"/>
              </a:rPr>
              <a:t>WITH TI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in side-effects of EBRT</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wel symptoms (diarrhea, mucorrhea, rectal tenesmu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rinary symptoms (dysuria, frequency, poor stre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ectile deficit</a:t>
            </a:r>
            <a:endParaRPr b="0" lang="en-US" sz="2800" spc="-1" strike="noStrike">
              <a:solidFill>
                <a:srgbClr val="ffffff"/>
              </a:solidFill>
              <a:latin typeface="Garamond"/>
            </a:endParaRPr>
          </a:p>
        </p:txBody>
      </p:sp>
      <p:sp>
        <p:nvSpPr>
          <p:cNvPr id="125" name=""/>
          <p:cNvSpPr/>
          <p:nvPr/>
        </p:nvSpPr>
        <p:spPr>
          <a:xfrm flipV="1">
            <a:off x="4114800" y="1828440"/>
            <a:ext cx="23623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114800" y="2971800"/>
            <a:ext cx="243828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629400" y="1371600"/>
            <a:ext cx="22860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ARLY ONSET</a:t>
            </a:r>
            <a:endParaRPr b="0" lang="en-US" sz="1800" spc="-1" strike="noStrike">
              <a:solidFill>
                <a:srgbClr val="ffffff"/>
              </a:solidFill>
              <a:latin typeface="Arial"/>
            </a:endParaRPr>
          </a:p>
        </p:txBody>
      </p:sp>
      <p:sp>
        <p:nvSpPr>
          <p:cNvPr id="128" name=""/>
          <p:cNvSpPr/>
          <p:nvPr/>
        </p:nvSpPr>
        <p:spPr>
          <a:xfrm>
            <a:off x="6705720" y="3733920"/>
            <a:ext cx="22860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TE ONS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induced side effects depend on a wide spectrum of variables:</a:t>
            </a:r>
            <a:br>
              <a:rPr sz="4000"/>
            </a:br>
            <a:br>
              <a:rPr sz="4000"/>
            </a:b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591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gery </a:t>
            </a: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RP</a:t>
            </a: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RP</a:t>
            </a: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botic prostatectomy</a:t>
            </a:r>
            <a:endParaRPr b="0" lang="en-US" sz="2800" spc="-1" strike="noStrike">
              <a:solidFill>
                <a:srgbClr val="ffffff"/>
              </a:solidFill>
              <a:latin typeface="Garamond"/>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BR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Old”</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Modern”</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or without hormonotherapy</a:t>
            </a:r>
            <a:endParaRPr b="0" lang="en-US" sz="2800" spc="-1" strike="noStrike">
              <a:solidFill>
                <a:srgbClr val="ffffff"/>
              </a:solidFill>
              <a:latin typeface="Garamond"/>
            </a:endParaRPr>
          </a:p>
        </p:txBody>
      </p:sp>
      <p:sp>
        <p:nvSpPr>
          <p:cNvPr id="132" name=""/>
          <p:cNvSpPr/>
          <p:nvPr/>
        </p:nvSpPr>
        <p:spPr>
          <a:xfrm flipV="1">
            <a:off x="1828800" y="2361960"/>
            <a:ext cx="533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V="1">
            <a:off x="1828800" y="2742840"/>
            <a:ext cx="6094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828800" y="2895480"/>
            <a:ext cx="6094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828800" y="2895480"/>
            <a:ext cx="6094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1828800" y="4266720"/>
            <a:ext cx="6094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4495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04920" y="1295280"/>
            <a:ext cx="4267080" cy="4724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648320" y="1295280"/>
            <a:ext cx="4267080" cy="4724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221560" y="210672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raditional”</a:t>
            </a:r>
            <a:endParaRPr b="0" lang="en-US" sz="1800" spc="-1" strike="noStrike">
              <a:solidFill>
                <a:srgbClr val="ffffff"/>
              </a:solidFill>
              <a:latin typeface="Arial"/>
            </a:endParaRPr>
          </a:p>
        </p:txBody>
      </p:sp>
      <p:sp>
        <p:nvSpPr>
          <p:cNvPr id="141" name=""/>
          <p:cNvSpPr/>
          <p:nvPr/>
        </p:nvSpPr>
        <p:spPr>
          <a:xfrm>
            <a:off x="2288520" y="256392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rafascial</a:t>
            </a:r>
            <a:endParaRPr b="0" lang="en-US" sz="1800" spc="-1" strike="noStrike">
              <a:solidFill>
                <a:srgbClr val="ffffff"/>
              </a:solidFill>
              <a:latin typeface="Arial"/>
            </a:endParaRPr>
          </a:p>
        </p:txBody>
      </p:sp>
      <p:sp>
        <p:nvSpPr>
          <p:cNvPr id="142" name=""/>
          <p:cNvSpPr/>
          <p:nvPr/>
        </p:nvSpPr>
        <p:spPr>
          <a:xfrm>
            <a:off x="2372760" y="294480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trafascial</a:t>
            </a:r>
            <a:endParaRPr b="0" lang="en-US" sz="1800" spc="-1" strike="noStrike">
              <a:solidFill>
                <a:srgbClr val="ffffff"/>
              </a:solidFill>
              <a:latin typeface="Arial"/>
            </a:endParaRPr>
          </a:p>
        </p:txBody>
      </p:sp>
      <p:sp>
        <p:nvSpPr>
          <p:cNvPr id="143" name=""/>
          <p:cNvSpPr/>
          <p:nvPr/>
        </p:nvSpPr>
        <p:spPr>
          <a:xfrm>
            <a:off x="2171160" y="327672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Lymphadenectomy</a:t>
            </a:r>
            <a:endParaRPr b="0" lang="en-US" sz="1800" spc="-1" strike="noStrike">
              <a:solidFill>
                <a:srgbClr val="ffffff"/>
              </a:solidFill>
              <a:latin typeface="Arial"/>
            </a:endParaRPr>
          </a:p>
        </p:txBody>
      </p:sp>
      <p:sp>
        <p:nvSpPr>
          <p:cNvPr id="144" name=""/>
          <p:cNvSpPr/>
          <p:nvPr/>
        </p:nvSpPr>
        <p:spPr>
          <a:xfrm>
            <a:off x="2274840" y="4011480"/>
            <a:ext cx="18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ert surgeon</a:t>
            </a:r>
            <a:endParaRPr b="0" lang="en-US" sz="1800" spc="-1" strike="noStrike">
              <a:solidFill>
                <a:srgbClr val="ffffff"/>
              </a:solidFill>
              <a:latin typeface="Arial"/>
            </a:endParaRPr>
          </a:p>
        </p:txBody>
      </p:sp>
      <p:sp>
        <p:nvSpPr>
          <p:cNvPr id="145" name=""/>
          <p:cNvSpPr/>
          <p:nvPr/>
        </p:nvSpPr>
        <p:spPr>
          <a:xfrm>
            <a:off x="2215800" y="4697280"/>
            <a:ext cx="232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urgeon during h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rning cur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advantages in the primary treatments for localized prostate cancer, no RCT to date has proven the superiority of 1 modality in terms of cancer control</a:t>
            </a:r>
            <a:r>
              <a:rPr b="0" lang="en-US" sz="3200" spc="-1" strike="noStrike">
                <a:solidFill>
                  <a:srgbClr val="ffffff"/>
                </a:solidFill>
                <a:latin typeface="Wingdings"/>
                <a:ea typeface="Wingdings"/>
              </a:rPr>
              <a:t></a:t>
            </a:r>
            <a:r>
              <a:rPr b="0" lang="en-US" sz="3200" spc="-1" strike="noStrike">
                <a:solidFill>
                  <a:srgbClr val="ffffff"/>
                </a:solidFill>
                <a:latin typeface="Garamond"/>
              </a:rPr>
              <a:t>no convincing evidence that either treatment is more effective in saving QUANTITY of life.</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nce, attention has been directed toward the side effects of treatment=QUALITY of life.</a:t>
            </a:r>
            <a:endParaRPr b="0" lang="en-US" sz="3200" spc="-1" strike="noStrike">
              <a:solidFill>
                <a:srgbClr val="ffffff"/>
              </a:solidFill>
              <a:latin typeface="Garamond"/>
            </a:endParaRPr>
          </a:p>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airments in HRQOL after treatment for clinically localized prostate cancer can be substantial.</a:t>
            </a: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udies have shown that men devalue time gained from curative treatment if it is associated with diminished QoL.</a:t>
            </a: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such an arresting impact on patient perception the effects of treatment on HRQOL need to be characterized more accurately.</a:t>
            </a:r>
            <a:endParaRPr b="0" lang="en-US" sz="2800" spc="-1" strike="noStrike">
              <a:solidFill>
                <a:srgbClr val="ffffff"/>
              </a:solidFill>
              <a:latin typeface="Garamond"/>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 Clin Oncol 1991;9:328-334</a:t>
            </a:r>
            <a:endParaRPr b="0" lang="en-US" sz="2000" spc="-1" strike="noStrike">
              <a:solidFill>
                <a:srgbClr val="ffffff"/>
              </a:solidFill>
              <a:latin typeface="Garamond"/>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 Urol 2001;166:942-946</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9:10:23Z</dcterms:created>
  <dc:creator>Tasos</dc:creator>
  <dc:description/>
  <dc:language>en-US</dc:language>
  <cp:lastModifiedBy>Vespasianig</cp:lastModifiedBy>
  <dcterms:modified xsi:type="dcterms:W3CDTF">2002-10-31T11:00:50Z</dcterms:modified>
  <cp:revision>26</cp:revision>
  <dc:subject/>
  <dc:title>Quality of life after surgery and external beam irradiation for early-stage prostate cancer</dc:title>
</cp:coreProperties>
</file>