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15.wmf" ContentType="image/x-wmf"/>
  <Override PartName="/ppt/media/image14.png" ContentType="image/png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wmf" ContentType="image/x-wmf"/>
  <Override PartName="/ppt/media/image8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7.jpeg" ContentType="image/jpe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ffff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00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ffff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ffff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514C5-3831-4CA5-BAE8-A07EA44497DF}" type="slidenum">
              <a:rPr b="0" lang="it-IT" sz="1200" spc="-1" strike="noStrike">
                <a:solidFill>
                  <a:srgbClr val="ffff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04692-D104-48F4-A71D-CC7F61388015}" type="slidenum">
              <a:rPr b="0" lang="it-IT" sz="1200" spc="-1" strike="noStrike">
                <a:solidFill>
                  <a:srgbClr val="ffff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00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5344D-48CC-40B7-81C4-4443DD26A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32D23-39E4-426E-8ED1-F1F9FD435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01888-04FC-428D-B94C-65B2A008E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F9DFF-A555-4886-B85A-8D989069F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0DB63-C8EE-4622-A7D8-7F39278F7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DE154-7BFD-4B6C-A115-6EF56F877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60A63-D19F-4BC7-9C25-7E616359C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7C621-1C4E-4743-A05C-035F25F55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D7525-D217-41C4-B8BD-3515CC22D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C009A-CBA3-4A0C-A477-D2ABBE609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DBC5F-8380-431A-985B-B5F92DEBA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55E89-8061-446F-9AC6-AD63332A5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8A610-ACAA-4B53-89E5-584EE1327D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108000" y="71280"/>
            <a:ext cx="1079280" cy="1024200"/>
          </a:xfrm>
          <a:prstGeom prst="rect">
            <a:avLst/>
          </a:prstGeom>
          <a:ln w="28440">
            <a:solidFill>
              <a:srgbClr val="66ccff"/>
            </a:solidFill>
            <a:miter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oleObject" Target="../embeddings/oleObject3.bin"/><Relationship Id="rId8" Type="http://schemas.openxmlformats.org/officeDocument/2006/relationships/image" Target="../media/image12.png"/><Relationship Id="rId9" Type="http://schemas.openxmlformats.org/officeDocument/2006/relationships/image" Target="../media/image13.wmf"/><Relationship Id="rId10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06600" y="1370160"/>
            <a:ext cx="7924680" cy="204372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Comic Sans MS"/>
              </a:rPr>
              <a:t>Genomic instability in the development of non-Hodgkin lymphomas secondary to Hodgkin Lympho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98600" y="3403440"/>
            <a:ext cx="815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9900"/>
                </a:solidFill>
                <a:latin typeface="Comic Sans MS"/>
              </a:rPr>
              <a:t>Instabilità genomica nello sviluppo dei linfomi non-Hodgkin secondari ai linfomi di Hodgk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106360" y="5099040"/>
            <a:ext cx="49309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ffff00"/>
                </a:solidFill>
                <a:latin typeface="Comic Sans MS"/>
              </a:rPr>
              <a:t>Enza Barbie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ffff00"/>
                </a:solidFill>
                <a:latin typeface="Comic Sans MS"/>
              </a:rPr>
              <a:t>Istituto di Radioterapia “Luigi Galvani”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ffff00"/>
                </a:solidFill>
                <a:latin typeface="Comic Sans MS"/>
              </a:rPr>
              <a:t>Università di Bolog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639520" y="228600"/>
            <a:ext cx="385812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ffffff"/>
                </a:solidFill>
                <a:latin typeface="Comic Sans MS"/>
              </a:rPr>
              <a:t>CGH DNA-microarra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332360" y="960480"/>
            <a:ext cx="648720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cc"/>
                </a:solidFill>
                <a:latin typeface="Comic Sans MS"/>
              </a:rPr>
              <a:t>test DNA marcato con cianina ver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cc"/>
                </a:solidFill>
                <a:latin typeface="Comic Sans MS"/>
              </a:rPr>
              <a:t>reference DNA marcato con cianina ros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cc"/>
                </a:solidFill>
                <a:latin typeface="Comic Sans MS"/>
              </a:rPr>
              <a:t>+ Cot-1 DNA non marca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375080" y="2311560"/>
            <a:ext cx="381240" cy="457200"/>
          </a:xfrm>
          <a:prstGeom prst="downArrow">
            <a:avLst>
              <a:gd name="adj1" fmla="val 50000"/>
              <a:gd name="adj2" fmla="val 29981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434760" y="2889360"/>
            <a:ext cx="23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00"/>
                </a:solidFill>
                <a:latin typeface="Comic Sans MS"/>
              </a:rPr>
              <a:t>Ibridizzaz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375080" y="3486240"/>
            <a:ext cx="381240" cy="457200"/>
          </a:xfrm>
          <a:prstGeom prst="downArrow">
            <a:avLst>
              <a:gd name="adj1" fmla="val 50000"/>
              <a:gd name="adj2" fmla="val 29981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7600" y="4035600"/>
            <a:ext cx="318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00"/>
                </a:solidFill>
                <a:latin typeface="Comic Sans MS"/>
              </a:rPr>
              <a:t>CGH su microarra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791360" y="4800600"/>
            <a:ext cx="5580360" cy="1769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 u="sng">
                <a:solidFill>
                  <a:srgbClr val="0000cc"/>
                </a:solidFill>
                <a:uFillTx/>
                <a:latin typeface="Comic Sans MS"/>
              </a:rPr>
              <a:t>Rapporto di fluorescenza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cc"/>
                </a:solidFill>
                <a:latin typeface="Comic Sans MS"/>
              </a:rPr>
              <a:t>test DNA verde/reference DNA ross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cc"/>
                </a:solidFill>
                <a:latin typeface="Comic Sans MS"/>
              </a:rPr>
              <a:t>indica la variazione di “COPY NUMBER”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867600" y="1204920"/>
            <a:ext cx="77688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ffffff"/>
                </a:solidFill>
                <a:latin typeface="Comic Sans MS"/>
              </a:rPr>
              <a:t>Esperimenti svolti con CGH microarray a D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83240" y="2859120"/>
            <a:ext cx="8478720" cy="2514600"/>
            <a:chOff x="183240" y="2859120"/>
            <a:chExt cx="8478720" cy="2514600"/>
          </a:xfrm>
        </p:grpSpPr>
        <p:sp>
          <p:nvSpPr>
            <p:cNvPr id="91" name=""/>
            <p:cNvSpPr/>
            <p:nvPr/>
          </p:nvSpPr>
          <p:spPr>
            <a:xfrm>
              <a:off x="183240" y="3887640"/>
              <a:ext cx="2305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ffff00"/>
                  </a:solidFill>
                  <a:latin typeface="Comic Sans MS"/>
                </a:rPr>
                <a:t>Ibridizzazioni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226680" y="2948040"/>
              <a:ext cx="543528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fff00"/>
                  </a:solidFill>
                  <a:latin typeface="Comic Sans MS"/>
                </a:rPr>
                <a:t>1) Linfoma di Hodgkin (</a:t>
              </a:r>
              <a:r>
                <a:rPr b="1" lang="it-IT" sz="2400" spc="-1" strike="noStrike">
                  <a:solidFill>
                    <a:srgbClr val="ffff00"/>
                  </a:solidFill>
                  <a:latin typeface="Comic Sans MS"/>
                </a:rPr>
                <a:t>LH</a:t>
              </a:r>
              <a:r>
                <a:rPr b="0" lang="it-IT" sz="2400" spc="-1" strike="noStrike">
                  <a:solidFill>
                    <a:srgbClr val="ffff00"/>
                  </a:solidFill>
                  <a:latin typeface="Comic Sans MS"/>
                </a:rPr>
                <a:t>) vs poo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fff00"/>
                  </a:solidFill>
                  <a:latin typeface="Comic Sans MS"/>
                </a:rPr>
                <a:t>    </a:t>
              </a:r>
              <a:r>
                <a:rPr b="0" lang="it-IT" sz="2400" spc="-1" strike="noStrike">
                  <a:solidFill>
                    <a:srgbClr val="ffff00"/>
                  </a:solidFill>
                  <a:latin typeface="Comic Sans MS"/>
                </a:rPr>
                <a:t>Linfoghiandole reattive (</a:t>
              </a:r>
              <a:r>
                <a:rPr b="1" lang="it-IT" sz="2400" spc="-1" strike="noStrike">
                  <a:solidFill>
                    <a:srgbClr val="ffff00"/>
                  </a:solidFill>
                  <a:latin typeface="Comic Sans MS"/>
                </a:rPr>
                <a:t>LR</a:t>
              </a:r>
              <a:r>
                <a:rPr b="0" lang="it-IT" sz="2400" spc="-1" strike="noStrike">
                  <a:solidFill>
                    <a:srgbClr val="ffff00"/>
                  </a:solidFill>
                  <a:latin typeface="Comic Sans MS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fff00"/>
                  </a:solidFill>
                  <a:latin typeface="Comic Sans MS"/>
                </a:rPr>
                <a:t>2) Linfoma non-Hodgkin (</a:t>
              </a:r>
              <a:r>
                <a:rPr b="1" lang="it-IT" sz="2400" spc="-1" strike="noStrike">
                  <a:solidFill>
                    <a:srgbClr val="ffff00"/>
                  </a:solidFill>
                  <a:latin typeface="Comic Sans MS"/>
                </a:rPr>
                <a:t>LNH</a:t>
              </a:r>
              <a:r>
                <a:rPr b="0" lang="it-IT" sz="2400" spc="-1" strike="noStrike">
                  <a:solidFill>
                    <a:srgbClr val="ffff00"/>
                  </a:solidFill>
                  <a:latin typeface="Comic Sans MS"/>
                </a:rPr>
                <a:t>) vs </a:t>
              </a:r>
              <a:r>
                <a:rPr b="1" lang="it-IT" sz="2400" spc="-1" strike="noStrike">
                  <a:solidFill>
                    <a:srgbClr val="ffff00"/>
                  </a:solidFill>
                  <a:latin typeface="Comic Sans MS"/>
                </a:rPr>
                <a:t>L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fff00"/>
                  </a:solidFill>
                  <a:latin typeface="Comic Sans MS"/>
                </a:rPr>
                <a:t>3) </a:t>
              </a:r>
              <a:r>
                <a:rPr b="1" lang="it-IT" sz="2400" spc="-1" strike="noStrike">
                  <a:solidFill>
                    <a:srgbClr val="ffff00"/>
                  </a:solidFill>
                  <a:latin typeface="Comic Sans MS"/>
                </a:rPr>
                <a:t>LNH</a:t>
              </a:r>
              <a:r>
                <a:rPr b="0" lang="it-IT" sz="2400" spc="-1" strike="noStrike">
                  <a:solidFill>
                    <a:srgbClr val="ffff00"/>
                  </a:solidFill>
                  <a:latin typeface="Comic Sans MS"/>
                </a:rPr>
                <a:t> vs pool </a:t>
              </a:r>
              <a:r>
                <a:rPr b="1" lang="it-IT" sz="2400" spc="-1" strike="noStrike">
                  <a:solidFill>
                    <a:srgbClr val="ffff00"/>
                  </a:solidFill>
                  <a:latin typeface="Comic Sans MS"/>
                </a:rPr>
                <a:t>L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468880" y="2859120"/>
              <a:ext cx="255960" cy="2514600"/>
            </a:xfrm>
            <a:custGeom>
              <a:avLst/>
              <a:gdLst>
                <a:gd name="textAreaLeft" fmla="*/ 163440 w 255960"/>
                <a:gd name="textAreaRight" fmla="*/ 256320 w 255960"/>
                <a:gd name="textAreaTop" fmla="*/ 65520 h 2514600"/>
                <a:gd name="textAreaBottom" fmla="*/ 2449080 h 2514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390680" y="388800"/>
            <a:ext cx="714204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ffffff"/>
                </a:solidFill>
                <a:latin typeface="Comic Sans MS"/>
              </a:rPr>
              <a:t>Risultati Ibridizzazione  LH / POOL L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180800" y="1262160"/>
            <a:ext cx="275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Comic Sans MS"/>
              </a:rPr>
              <a:t>GENI AMPLIFICATI (15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058800" y="1197000"/>
            <a:ext cx="206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Comic Sans MS"/>
              </a:rPr>
              <a:t>GENI DELETI (16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914400" y="1816200"/>
            <a:ext cx="3166920" cy="4637160"/>
            <a:chOff x="914400" y="1816200"/>
            <a:chExt cx="3166920" cy="4637160"/>
          </a:xfrm>
        </p:grpSpPr>
        <p:sp>
          <p:nvSpPr>
            <p:cNvPr id="98" name=""/>
            <p:cNvSpPr/>
            <p:nvPr/>
          </p:nvSpPr>
          <p:spPr>
            <a:xfrm>
              <a:off x="3560400" y="6178680"/>
              <a:ext cx="520560" cy="27468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1.3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419200" y="6178680"/>
              <a:ext cx="1140840" cy="27468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19q1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914400" y="6178680"/>
              <a:ext cx="1504800" cy="27468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CCNE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560400" y="5904000"/>
              <a:ext cx="520560" cy="27468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1.5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419200" y="5904000"/>
              <a:ext cx="1140840" cy="27468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Xp21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14400" y="5904000"/>
              <a:ext cx="1504800" cy="27468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DMD exon 45-5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560400" y="5629320"/>
              <a:ext cx="520560" cy="27468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1.5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419200" y="5629320"/>
              <a:ext cx="1140840" cy="27468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Xp22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914400" y="5629320"/>
              <a:ext cx="1504800" cy="27468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STS5’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560400" y="5354640"/>
              <a:ext cx="520560" cy="27468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1.5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419200" y="5354640"/>
              <a:ext cx="1140840" cy="27468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1p13.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4400" y="5354640"/>
              <a:ext cx="1504800" cy="27468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NR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560400" y="5080320"/>
              <a:ext cx="520560" cy="27432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1.6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419200" y="5080320"/>
              <a:ext cx="1140840" cy="27432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11q2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914400" y="5080320"/>
              <a:ext cx="1504800" cy="27432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M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560400" y="4805640"/>
              <a:ext cx="520560" cy="27468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1.6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419200" y="4805640"/>
              <a:ext cx="1140840" cy="27468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10p1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914400" y="4805640"/>
              <a:ext cx="1504800" cy="27468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BMI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60400" y="4530960"/>
              <a:ext cx="520560" cy="27468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1.6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419200" y="4530960"/>
              <a:ext cx="1140840" cy="27468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6q25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14400" y="4530960"/>
              <a:ext cx="1504800" cy="27468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ESR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560400" y="4256280"/>
              <a:ext cx="520560" cy="27468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1.7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19200" y="4256280"/>
              <a:ext cx="1140840" cy="27468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22q11.2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914400" y="4256280"/>
              <a:ext cx="1504800" cy="27468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BC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560400" y="3981600"/>
              <a:ext cx="520560" cy="27468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1.8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419200" y="3981600"/>
              <a:ext cx="1140840" cy="27468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1q4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914400" y="3981600"/>
              <a:ext cx="1504800" cy="27468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AKT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560400" y="3706920"/>
              <a:ext cx="520560" cy="27468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1.8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419200" y="3706920"/>
              <a:ext cx="1140840" cy="27468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2p te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914400" y="3706920"/>
              <a:ext cx="1504800" cy="27468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U3238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560400" y="3432240"/>
              <a:ext cx="520560" cy="27468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1.8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419200" y="3432240"/>
              <a:ext cx="1140840" cy="27468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20p te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914400" y="3432240"/>
              <a:ext cx="1504800" cy="27468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SOX2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560400" y="3157560"/>
              <a:ext cx="520560" cy="27468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1.9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419200" y="3157560"/>
              <a:ext cx="1140840" cy="27468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1p36.3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914400" y="3157560"/>
              <a:ext cx="1504800" cy="27468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PRKC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560400" y="2883240"/>
              <a:ext cx="520560" cy="27432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2.0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419200" y="2883240"/>
              <a:ext cx="1140840" cy="27432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8p22-p21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914400" y="2883240"/>
              <a:ext cx="1504800" cy="27432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PDGR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560400" y="2608560"/>
              <a:ext cx="520560" cy="27468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2.1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419200" y="2608560"/>
              <a:ext cx="1140840" cy="27468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3q2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914400" y="2608560"/>
              <a:ext cx="1504800" cy="27468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TER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560400" y="2333880"/>
              <a:ext cx="520560" cy="27468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2.4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419200" y="2333880"/>
              <a:ext cx="1140840" cy="27468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19p te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914400" y="2333880"/>
              <a:ext cx="1504800" cy="27468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129F16/SP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60400" y="1816200"/>
              <a:ext cx="520560" cy="51768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Rati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419200" y="1816200"/>
              <a:ext cx="1140840" cy="51768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Chromosomal Locu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914400" y="1816200"/>
              <a:ext cx="1504800" cy="51768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914400" y="1816200"/>
              <a:ext cx="316692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914400" y="6453360"/>
              <a:ext cx="316692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914400" y="1816200"/>
              <a:ext cx="0" cy="463716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081320" y="1816200"/>
              <a:ext cx="0" cy="463716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914400" y="2333880"/>
              <a:ext cx="316692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419200" y="1816200"/>
              <a:ext cx="0" cy="51768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560400" y="1816200"/>
              <a:ext cx="0" cy="51768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914400" y="2608560"/>
              <a:ext cx="316692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419200" y="2333880"/>
              <a:ext cx="0" cy="411948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560400" y="2333880"/>
              <a:ext cx="0" cy="411948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914400" y="2883240"/>
              <a:ext cx="316692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914400" y="3157560"/>
              <a:ext cx="316692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914400" y="3432240"/>
              <a:ext cx="316692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914400" y="3706920"/>
              <a:ext cx="316692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914400" y="3981600"/>
              <a:ext cx="316692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914400" y="4256280"/>
              <a:ext cx="316692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914400" y="4530960"/>
              <a:ext cx="316692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914400" y="4805640"/>
              <a:ext cx="316692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914400" y="5080320"/>
              <a:ext cx="316692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914400" y="5354640"/>
              <a:ext cx="316692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914400" y="5629320"/>
              <a:ext cx="316692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914400" y="5904000"/>
              <a:ext cx="316692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914400" y="6178680"/>
              <a:ext cx="316692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9" name=""/>
          <p:cNvGrpSpPr/>
          <p:nvPr/>
        </p:nvGrpSpPr>
        <p:grpSpPr>
          <a:xfrm>
            <a:off x="5075280" y="1773360"/>
            <a:ext cx="3600000" cy="5027040"/>
            <a:chOff x="5075280" y="1773360"/>
            <a:chExt cx="3600000" cy="5027040"/>
          </a:xfrm>
        </p:grpSpPr>
        <p:sp>
          <p:nvSpPr>
            <p:cNvPr id="170" name=""/>
            <p:cNvSpPr/>
            <p:nvPr/>
          </p:nvSpPr>
          <p:spPr>
            <a:xfrm>
              <a:off x="8084520" y="6519600"/>
              <a:ext cx="590760" cy="2808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0.4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786000" y="6519600"/>
              <a:ext cx="1298160" cy="2808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1q4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075280" y="6519600"/>
              <a:ext cx="1710720" cy="2808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TGFB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4520" y="6238440"/>
              <a:ext cx="590760" cy="2808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0.5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786000" y="6238440"/>
              <a:ext cx="1298160" cy="2808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17q23.2-q25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075280" y="6238440"/>
              <a:ext cx="1710720" cy="2808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TK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084520" y="5957280"/>
              <a:ext cx="590760" cy="2808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0.5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786000" y="5957280"/>
              <a:ext cx="1298160" cy="2808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15q26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075280" y="5957280"/>
              <a:ext cx="1710720" cy="2808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F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8084520" y="5676120"/>
              <a:ext cx="590760" cy="2808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0.5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786000" y="5676120"/>
              <a:ext cx="1298160" cy="2808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Yp11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075280" y="5676120"/>
              <a:ext cx="1710720" cy="2808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S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8084520" y="5394960"/>
              <a:ext cx="590760" cy="2808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0.5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786000" y="5394960"/>
              <a:ext cx="1298160" cy="2808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12q13.2-q13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075280" y="5394960"/>
              <a:ext cx="1710720" cy="2808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GL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8084520" y="5114160"/>
              <a:ext cx="590760" cy="28044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0.5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786000" y="5114160"/>
              <a:ext cx="1298160" cy="28044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9q22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075280" y="5114160"/>
              <a:ext cx="1710720" cy="28044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P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084520" y="4833000"/>
              <a:ext cx="590760" cy="2808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0.5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786000" y="4833000"/>
              <a:ext cx="1298160" cy="2808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17q1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075280" y="4833000"/>
              <a:ext cx="1710720" cy="2808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PPARBP(PBP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084520" y="4551840"/>
              <a:ext cx="590760" cy="2808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0.6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786000" y="4551840"/>
              <a:ext cx="1298160" cy="2808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2q1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075280" y="4551840"/>
              <a:ext cx="1710720" cy="2808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SGC3423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084520" y="4270680"/>
              <a:ext cx="590760" cy="2808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0.6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786000" y="4270680"/>
              <a:ext cx="1298160" cy="2808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8p te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075280" y="4270680"/>
              <a:ext cx="1710720" cy="2808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D8S50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8084520" y="3989520"/>
              <a:ext cx="590760" cy="2808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0.6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786000" y="3989520"/>
              <a:ext cx="1298160" cy="2808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22q13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75280" y="3989520"/>
              <a:ext cx="1710720" cy="2808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ARHGAP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84520" y="3708360"/>
              <a:ext cx="590760" cy="2808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0.6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786000" y="3708360"/>
              <a:ext cx="1298160" cy="2808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8q1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075280" y="3708360"/>
              <a:ext cx="1710720" cy="2808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M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084520" y="3427200"/>
              <a:ext cx="590760" cy="2808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0.6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786000" y="3427200"/>
              <a:ext cx="1298160" cy="2808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15q te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075280" y="3427200"/>
              <a:ext cx="1710720" cy="2808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WI-521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084520" y="3146040"/>
              <a:ext cx="590760" cy="2808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0.6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786000" y="3146040"/>
              <a:ext cx="1298160" cy="2808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4p te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75280" y="3146040"/>
              <a:ext cx="1710720" cy="2808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GS10K2/T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084520" y="2865240"/>
              <a:ext cx="590760" cy="28044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0.6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786000" y="2865240"/>
              <a:ext cx="1298160" cy="28044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16p13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075280" y="2865240"/>
              <a:ext cx="1710720" cy="28044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ABCC1(MRP1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8084520" y="2584080"/>
              <a:ext cx="590760" cy="2808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0.7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786000" y="2584080"/>
              <a:ext cx="1298160" cy="2808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3p25-p2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075280" y="2584080"/>
              <a:ext cx="1710720" cy="2808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VH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084520" y="2302920"/>
              <a:ext cx="590760" cy="2808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0.7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786000" y="2302920"/>
              <a:ext cx="1298160" cy="2808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11q12.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075280" y="2302920"/>
              <a:ext cx="1710720" cy="2808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D11S46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8084520" y="1773360"/>
              <a:ext cx="590760" cy="5295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Rati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786000" y="1773360"/>
              <a:ext cx="1298160" cy="5295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Chromosomal Locu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75280" y="1773360"/>
              <a:ext cx="1710720" cy="5295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075280" y="1773360"/>
              <a:ext cx="36000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075280" y="6800400"/>
              <a:ext cx="36000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075280" y="1773360"/>
              <a:ext cx="0" cy="502704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8675280" y="1773360"/>
              <a:ext cx="0" cy="502704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075280" y="2302920"/>
              <a:ext cx="36000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786000" y="1773360"/>
              <a:ext cx="0" cy="52956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8084520" y="1773360"/>
              <a:ext cx="0" cy="52956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075280" y="2584080"/>
              <a:ext cx="36000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786000" y="2302920"/>
              <a:ext cx="0" cy="449748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8084520" y="2302920"/>
              <a:ext cx="0" cy="449748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075280" y="2865240"/>
              <a:ext cx="36000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075280" y="3146040"/>
              <a:ext cx="36000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075280" y="3427200"/>
              <a:ext cx="36000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075280" y="3708360"/>
              <a:ext cx="36000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075280" y="3989520"/>
              <a:ext cx="36000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075280" y="4270680"/>
              <a:ext cx="36000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075280" y="4551840"/>
              <a:ext cx="36000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075280" y="4833000"/>
              <a:ext cx="36000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075280" y="5114160"/>
              <a:ext cx="36000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075280" y="5394960"/>
              <a:ext cx="36000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075280" y="5676120"/>
              <a:ext cx="36000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075280" y="5957280"/>
              <a:ext cx="36000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075280" y="6238440"/>
              <a:ext cx="36000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075280" y="6519600"/>
              <a:ext cx="36000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1584360" y="326880"/>
            <a:ext cx="1839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150920" y="461880"/>
            <a:ext cx="752472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ffffff"/>
                </a:solidFill>
                <a:latin typeface="Comic Sans MS"/>
              </a:rPr>
              <a:t>Risultati Ibridizzazione  LNH / POOL L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889200" y="1982880"/>
            <a:ext cx="26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Comic Sans MS"/>
              </a:rPr>
              <a:t>GENI AMPLIFICATI (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414840" y="1982880"/>
            <a:ext cx="193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Comic Sans MS"/>
              </a:rPr>
              <a:t>GENI DELETI (7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9" name=""/>
          <p:cNvGrpSpPr/>
          <p:nvPr/>
        </p:nvGrpSpPr>
        <p:grpSpPr>
          <a:xfrm>
            <a:off x="611280" y="3382920"/>
            <a:ext cx="3168720" cy="1341360"/>
            <a:chOff x="611280" y="3382920"/>
            <a:chExt cx="3168720" cy="1341360"/>
          </a:xfrm>
        </p:grpSpPr>
        <p:sp>
          <p:nvSpPr>
            <p:cNvPr id="250" name=""/>
            <p:cNvSpPr/>
            <p:nvPr/>
          </p:nvSpPr>
          <p:spPr>
            <a:xfrm>
              <a:off x="3259080" y="4449600"/>
              <a:ext cx="520920" cy="2746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1.2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043000" y="4449600"/>
              <a:ext cx="1216080" cy="2746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       </a:t>
              </a:r>
              <a:r>
                <a:rPr b="0" lang="en-GB" sz="12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Yp11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11280" y="4449600"/>
              <a:ext cx="1431720" cy="2746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S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259080" y="4174920"/>
              <a:ext cx="520920" cy="2746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1,3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043000" y="4174920"/>
              <a:ext cx="1216080" cy="2746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15q26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11280" y="4174920"/>
              <a:ext cx="1431720" cy="2746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F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259080" y="3900240"/>
              <a:ext cx="520920" cy="2746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1,4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043000" y="3900240"/>
              <a:ext cx="1216080" cy="2746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1p te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11280" y="3900240"/>
              <a:ext cx="1431720" cy="2746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CEB108/T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259080" y="3382920"/>
              <a:ext cx="520920" cy="5173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Rati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043000" y="3382920"/>
              <a:ext cx="1216080" cy="5173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Chromosomal Locu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11280" y="3382920"/>
              <a:ext cx="1431720" cy="5173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11280" y="3382920"/>
              <a:ext cx="316872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11280" y="4724280"/>
              <a:ext cx="316872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11280" y="3382920"/>
              <a:ext cx="0" cy="134136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780000" y="3382920"/>
              <a:ext cx="0" cy="134136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11280" y="3900240"/>
              <a:ext cx="316872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043000" y="3382920"/>
              <a:ext cx="0" cy="51732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259080" y="3382920"/>
              <a:ext cx="0" cy="51732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611280" y="4174920"/>
              <a:ext cx="316872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043000" y="3900240"/>
              <a:ext cx="0" cy="82404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259080" y="3900240"/>
              <a:ext cx="0" cy="82404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11280" y="4449600"/>
              <a:ext cx="316872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5292720" y="2860560"/>
            <a:ext cx="3526920" cy="2439720"/>
            <a:chOff x="5292720" y="2860560"/>
            <a:chExt cx="3526920" cy="2439720"/>
          </a:xfrm>
        </p:grpSpPr>
        <p:sp>
          <p:nvSpPr>
            <p:cNvPr id="274" name=""/>
            <p:cNvSpPr/>
            <p:nvPr/>
          </p:nvSpPr>
          <p:spPr>
            <a:xfrm>
              <a:off x="8241480" y="5025960"/>
              <a:ext cx="578160" cy="2743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0.6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968520" y="5025960"/>
              <a:ext cx="1272960" cy="2743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1p1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292720" y="5025960"/>
              <a:ext cx="1675800" cy="2743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D1S2465,D1S34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8241480" y="4751280"/>
              <a:ext cx="578160" cy="2746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0.7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968520" y="4751280"/>
              <a:ext cx="1272960" cy="2746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6q25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292720" y="4751280"/>
              <a:ext cx="1675800" cy="2746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ESR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8241480" y="4476600"/>
              <a:ext cx="578160" cy="2746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0.7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968520" y="4476600"/>
              <a:ext cx="1272960" cy="2746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7q21.3-q2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292720" y="4476600"/>
              <a:ext cx="1675800" cy="2746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SERP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8241480" y="4201920"/>
              <a:ext cx="578160" cy="2746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0.7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968520" y="4201920"/>
              <a:ext cx="1272960" cy="2746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19q1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292720" y="4201920"/>
              <a:ext cx="1675800" cy="2746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CCNE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8241480" y="3927240"/>
              <a:ext cx="578160" cy="2746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0.7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968520" y="3927240"/>
              <a:ext cx="1272960" cy="2746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3q27-q2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5292720" y="3927240"/>
              <a:ext cx="1675800" cy="2746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TP6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8241480" y="3652560"/>
              <a:ext cx="578160" cy="2746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0.7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968520" y="3652560"/>
              <a:ext cx="1272960" cy="2746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20q13.1-q13.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292720" y="3652560"/>
              <a:ext cx="1675800" cy="2746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PTPN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8241480" y="3377880"/>
              <a:ext cx="578160" cy="2746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0,8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968520" y="3377880"/>
              <a:ext cx="1272960" cy="2746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15q te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292720" y="3377880"/>
              <a:ext cx="1675800" cy="2746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PACE4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8241480" y="2860560"/>
              <a:ext cx="578160" cy="5173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Rati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968520" y="2860560"/>
              <a:ext cx="1272960" cy="5173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Chromosomal Locu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292720" y="2860560"/>
              <a:ext cx="1675800" cy="5173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292720" y="2860560"/>
              <a:ext cx="352692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5292720" y="5300280"/>
              <a:ext cx="352692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292720" y="2860560"/>
              <a:ext cx="0" cy="243972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8819640" y="2860560"/>
              <a:ext cx="0" cy="243972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5292720" y="3377880"/>
              <a:ext cx="352692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968520" y="2860560"/>
              <a:ext cx="0" cy="51732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8241480" y="2860560"/>
              <a:ext cx="0" cy="51732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292720" y="3652560"/>
              <a:ext cx="352692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968520" y="3377880"/>
              <a:ext cx="0" cy="192240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8241480" y="3377880"/>
              <a:ext cx="0" cy="192240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292720" y="3927240"/>
              <a:ext cx="352692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292720" y="4201920"/>
              <a:ext cx="352692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5292720" y="4476600"/>
              <a:ext cx="352692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5292720" y="4751280"/>
              <a:ext cx="352692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292720" y="5025960"/>
              <a:ext cx="352692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1581480" y="2160720"/>
            <a:ext cx="26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Comic Sans MS"/>
              </a:rPr>
              <a:t>GENI AMPLIFICATI (6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765760" y="2160720"/>
            <a:ext cx="193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Comic Sans MS"/>
              </a:rPr>
              <a:t>GENI DELETI (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905120" y="287028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6" name=""/>
          <p:cNvGraphicFramePr/>
          <p:nvPr/>
        </p:nvGraphicFramePr>
        <p:xfrm>
          <a:off x="1187280" y="2852640"/>
          <a:ext cx="3311640" cy="2165400"/>
        </p:xfrm>
        <a:graphic>
          <a:graphicData uri="http://schemas.openxmlformats.org/drawingml/2006/table">
            <a:tbl>
              <a:tblPr/>
              <a:tblGrid>
                <a:gridCol w="1573560"/>
                <a:gridCol w="1195200"/>
                <a:gridCol w="5428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hromosomal Locu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at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NIB14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q t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WNT1(INT1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q12-q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IGF1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q25-q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D9S9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p t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D11S4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q12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10QTEL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q t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17" name=""/>
          <p:cNvGraphicFramePr/>
          <p:nvPr/>
        </p:nvGraphicFramePr>
        <p:xfrm>
          <a:off x="5003640" y="2852640"/>
          <a:ext cx="3389400" cy="792360"/>
        </p:xfrm>
        <a:graphic>
          <a:graphicData uri="http://schemas.openxmlformats.org/drawingml/2006/table">
            <a:tbl>
              <a:tblPr/>
              <a:tblGrid>
                <a:gridCol w="1609920"/>
                <a:gridCol w="1224000"/>
                <a:gridCol w="5554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0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hromosomal Locu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0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at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00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1QTEL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0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q t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0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00cc"/>
                    </a:solidFill>
                  </a:tcPr>
                </a:tc>
              </a:tr>
            </a:tbl>
          </a:graphicData>
        </a:graphic>
      </p:graphicFrame>
      <p:sp>
        <p:nvSpPr>
          <p:cNvPr id="318" name=""/>
          <p:cNvSpPr/>
          <p:nvPr/>
        </p:nvSpPr>
        <p:spPr>
          <a:xfrm>
            <a:off x="1224000" y="404640"/>
            <a:ext cx="752472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ffffff"/>
                </a:solidFill>
                <a:latin typeface="Comic Sans MS"/>
              </a:rPr>
              <a:t>Risultati Ibridizzazione  LNH / L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2356920" y="557280"/>
            <a:ext cx="568404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ffffff"/>
                </a:solidFill>
                <a:latin typeface="Comic Sans MS"/>
              </a:rPr>
              <a:t>Risultati Ibridizzazione  LNH / L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" y="205740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00"/>
                </a:solidFill>
                <a:latin typeface="Comic Sans MS"/>
              </a:rPr>
              <a:t>La metodica di CGH microarray a DNA non ha individuato geni alterati (amplificati e/o deleti) comuni a tutti i pazien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133720" y="4191120"/>
            <a:ext cx="6248160" cy="2113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ff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cc"/>
                </a:solidFill>
                <a:latin typeface="Comic Sans MS"/>
              </a:rPr>
              <a:t> </a:t>
            </a:r>
            <a:r>
              <a:rPr b="1" lang="it-IT" sz="2400" spc="-1" strike="noStrike">
                <a:solidFill>
                  <a:srgbClr val="0000cc"/>
                </a:solidFill>
                <a:latin typeface="Comic Sans MS"/>
              </a:rPr>
              <a:t>I singoli profili genomici dei LNH sono statisticamente identici ai profili genomici dei L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ff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cc"/>
                </a:solidFill>
                <a:latin typeface="Comic Sans MS"/>
              </a:rPr>
              <a:t> </a:t>
            </a:r>
            <a:r>
              <a:rPr b="1" lang="it-IT" sz="2400" spc="-1" strike="noStrike">
                <a:solidFill>
                  <a:srgbClr val="0000cc"/>
                </a:solidFill>
                <a:latin typeface="Comic Sans MS"/>
              </a:rPr>
              <a:t>Non ci sono geni alterati comuni a tutti e 10 i pazien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rot="16200000">
            <a:off x="1346400" y="4197240"/>
            <a:ext cx="380880" cy="457200"/>
          </a:xfrm>
          <a:prstGeom prst="downArrow">
            <a:avLst>
              <a:gd name="adj1" fmla="val 50000"/>
              <a:gd name="adj2" fmla="val 30009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609480" y="1371600"/>
            <a:ext cx="7925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Comic Sans MS"/>
              </a:rPr>
              <a:t>Il gene N-MYC testato in FISH su 5 pazienti conferma i risultati osservati in CGH microarr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549440" y="388800"/>
            <a:ext cx="604836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ffffff"/>
                </a:solidFill>
                <a:latin typeface="Comic Sans MS"/>
              </a:rPr>
              <a:t>Risultati Metodica FI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2"/>
          <a:stretch/>
        </p:blipFill>
        <p:spPr>
          <a:xfrm>
            <a:off x="2286000" y="3429000"/>
            <a:ext cx="4572000" cy="3054240"/>
          </a:xfrm>
          <a:prstGeom prst="rect">
            <a:avLst/>
          </a:prstGeom>
          <a:ln w="9360">
            <a:solidFill>
              <a:srgbClr val="00cc99"/>
            </a:solidFill>
            <a:miter/>
          </a:ln>
        </p:spPr>
      </p:pic>
      <p:sp>
        <p:nvSpPr>
          <p:cNvPr id="326" name=""/>
          <p:cNvSpPr/>
          <p:nvPr/>
        </p:nvSpPr>
        <p:spPr>
          <a:xfrm>
            <a:off x="1371600" y="274320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FISH per N-MYC su linfoghiandola reat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" descr=""/>
          <p:cNvPicPr/>
          <p:nvPr/>
        </p:nvPicPr>
        <p:blipFill>
          <a:blip r:embed="rId2"/>
          <a:stretch/>
        </p:blipFill>
        <p:spPr>
          <a:xfrm>
            <a:off x="76320" y="44280"/>
            <a:ext cx="4572000" cy="3329280"/>
          </a:xfrm>
          <a:prstGeom prst="rect">
            <a:avLst/>
          </a:prstGeom>
          <a:ln w="9360">
            <a:solidFill>
              <a:srgbClr val="00cc99"/>
            </a:solidFill>
            <a:miter/>
          </a:ln>
        </p:spPr>
      </p:pic>
      <p:pic>
        <p:nvPicPr>
          <p:cNvPr id="328" name="" descr=""/>
          <p:cNvPicPr/>
          <p:nvPr/>
        </p:nvPicPr>
        <p:blipFill>
          <a:blip r:embed="rId3"/>
          <a:stretch/>
        </p:blipFill>
        <p:spPr>
          <a:xfrm>
            <a:off x="5486400" y="3429000"/>
            <a:ext cx="3505320" cy="3284640"/>
          </a:xfrm>
          <a:prstGeom prst="rect">
            <a:avLst/>
          </a:prstGeom>
          <a:ln w="9360">
            <a:solidFill>
              <a:srgbClr val="00cc99"/>
            </a:solidFill>
            <a:miter/>
          </a:ln>
        </p:spPr>
      </p:pic>
      <p:sp>
        <p:nvSpPr>
          <p:cNvPr id="329" name=""/>
          <p:cNvSpPr/>
          <p:nvPr/>
        </p:nvSpPr>
        <p:spPr>
          <a:xfrm>
            <a:off x="4724280" y="37476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FISH per N-MYC in L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981080" y="3789360"/>
            <a:ext cx="342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FISH per N-MYC nel corrispondente LN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50920" y="5400720"/>
            <a:ext cx="496872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cc"/>
                </a:solidFill>
                <a:latin typeface="Comic Sans MS"/>
              </a:rPr>
              <a:t>La popolazione tumorale del linfoma secondario non mostra evidenza di evoluzione genom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850680" y="1419120"/>
            <a:ext cx="207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00"/>
                </a:solidFill>
                <a:latin typeface="Comic Sans MS"/>
              </a:rPr>
              <a:t>MICRODISSEZI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292320" y="1969920"/>
            <a:ext cx="133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00"/>
                </a:solidFill>
                <a:latin typeface="Comic Sans MS"/>
              </a:rPr>
              <a:t>CELLULE 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00"/>
                </a:solidFill>
                <a:latin typeface="Comic Sans MS"/>
              </a:rPr>
              <a:t>  </a:t>
            </a:r>
            <a:r>
              <a:rPr b="1" lang="it-IT" sz="1600" spc="-1" strike="noStrike">
                <a:solidFill>
                  <a:srgbClr val="ffff00"/>
                </a:solidFill>
                <a:latin typeface="Comic Sans MS"/>
              </a:rPr>
              <a:t>(20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0320" y="1969920"/>
            <a:ext cx="328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00"/>
                </a:solidFill>
                <a:latin typeface="Comic Sans MS"/>
              </a:rPr>
              <a:t>COMPONENTE TUMORALE LN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961160" y="1419120"/>
            <a:ext cx="327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00"/>
                </a:solidFill>
                <a:latin typeface="Comic Sans MS"/>
              </a:rPr>
              <a:t>PRELIEVO SANGUE PERIFER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208240" y="765000"/>
            <a:ext cx="5121360" cy="580680"/>
          </a:xfrm>
          <a:prstGeom prst="rect">
            <a:avLst/>
          </a:prstGeom>
          <a:solidFill>
            <a:srgbClr val="ffff00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cc"/>
                </a:solidFill>
                <a:latin typeface="Comic Sans MS"/>
              </a:rPr>
              <a:t>SEZIONI DI TESSUTO DI 5</a:t>
            </a:r>
            <a:r>
              <a:rPr b="1" lang="en-US" sz="1600" spc="-1" strike="noStrike">
                <a:solidFill>
                  <a:srgbClr val="0000cc"/>
                </a:solidFill>
                <a:latin typeface="Comic Sans MS"/>
                <a:ea typeface="Times New Roman"/>
              </a:rPr>
              <a:t>µm FISSATE SU VETRI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Comic Sans MS"/>
                <a:ea typeface="Times New Roman"/>
              </a:rPr>
              <a:t>E COLORATE CON EMATOSSILINA-EOSI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1402920" y="1728720"/>
            <a:ext cx="144360" cy="28728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340000" y="1728720"/>
            <a:ext cx="144360" cy="28728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788000" y="2303640"/>
            <a:ext cx="0" cy="35856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528920" y="2711520"/>
            <a:ext cx="18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874680" y="2690640"/>
            <a:ext cx="193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00"/>
                </a:solidFill>
                <a:latin typeface="Comic Sans MS"/>
              </a:rPr>
              <a:t>ESTRAZIONE D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788000" y="3024360"/>
            <a:ext cx="0" cy="28728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769840" y="3338640"/>
            <a:ext cx="408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00"/>
                </a:solidFill>
                <a:latin typeface="Comic Sans MS"/>
              </a:rPr>
              <a:t>4 PCR SU REGIONE D-LOOP DEL mtD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788000" y="3743280"/>
            <a:ext cx="0" cy="36036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718440" y="4203720"/>
            <a:ext cx="208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00"/>
                </a:solidFill>
                <a:latin typeface="Comic Sans MS"/>
              </a:rPr>
              <a:t>SEQUENZIAME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788000" y="4535640"/>
            <a:ext cx="0" cy="36036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083240" y="4995720"/>
            <a:ext cx="654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00"/>
                </a:solidFill>
                <a:latin typeface="Comic Sans MS"/>
              </a:rPr>
              <a:t>“</a:t>
            </a:r>
            <a:r>
              <a:rPr b="1" lang="it-IT" sz="1600" spc="-1" strike="noStrike">
                <a:solidFill>
                  <a:srgbClr val="ffff00"/>
                </a:solidFill>
                <a:latin typeface="Comic Sans MS"/>
              </a:rPr>
              <a:t>MULTIPLE SEQUENCE ALIGNMENT” CON SOFTWARE CLUSTAL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564920" y="5361120"/>
            <a:ext cx="640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00"/>
                </a:solidFill>
                <a:latin typeface="Comic Sans MS"/>
              </a:rPr>
              <a:t>ANALISI FILOGENETICHE CON </a:t>
            </a:r>
            <a:r>
              <a:rPr b="1" i="1" lang="it-IT" sz="1600" spc="-1" strike="noStrike">
                <a:solidFill>
                  <a:srgbClr val="ffff00"/>
                </a:solidFill>
                <a:latin typeface="Comic Sans MS"/>
              </a:rPr>
              <a:t>NEIGHBOR-JOINING (NJ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4788000" y="5761080"/>
            <a:ext cx="0" cy="36036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124000" y="654516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218120" y="6291360"/>
            <a:ext cx="94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00"/>
                </a:solidFill>
                <a:latin typeface="Comic Sans MS"/>
              </a:rPr>
              <a:t>NJ TRE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2" name=""/>
          <p:cNvGraphicFramePr/>
          <p:nvPr/>
        </p:nvGraphicFramePr>
        <p:xfrm>
          <a:off x="250920" y="2592360"/>
          <a:ext cx="2160360" cy="792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5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0920" y="2592360"/>
                    <a:ext cx="2160360" cy="79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4" name=""/>
          <p:cNvSpPr/>
          <p:nvPr/>
        </p:nvSpPr>
        <p:spPr>
          <a:xfrm>
            <a:off x="1333080" y="163440"/>
            <a:ext cx="74106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ffffff"/>
                </a:solidFill>
                <a:latin typeface="Comic Sans MS"/>
              </a:rPr>
              <a:t>Analisi di Clonalità su DNA Mitocondriale (mtDN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5" name=""/>
          <p:cNvGraphicFramePr/>
          <p:nvPr/>
        </p:nvGraphicFramePr>
        <p:xfrm>
          <a:off x="6732720" y="1844640"/>
          <a:ext cx="1114200" cy="847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5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732720" y="1844640"/>
                    <a:ext cx="1114200" cy="84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57" name="" descr=""/>
          <p:cNvPicPr/>
          <p:nvPr/>
        </p:nvPicPr>
        <p:blipFill>
          <a:blip r:embed="rId6"/>
          <a:stretch/>
        </p:blipFill>
        <p:spPr>
          <a:xfrm>
            <a:off x="7524720" y="3068640"/>
            <a:ext cx="1441440" cy="936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58" name=""/>
          <p:cNvGraphicFramePr/>
          <p:nvPr/>
        </p:nvGraphicFramePr>
        <p:xfrm>
          <a:off x="1908000" y="4005360"/>
          <a:ext cx="1511640" cy="838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5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908000" y="4005360"/>
                    <a:ext cx="151164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60" name="" descr=""/>
          <p:cNvPicPr/>
          <p:nvPr/>
        </p:nvPicPr>
        <p:blipFill>
          <a:blip r:embed="rId9"/>
          <a:stretch/>
        </p:blipFill>
        <p:spPr>
          <a:xfrm>
            <a:off x="5940360" y="5877000"/>
            <a:ext cx="1513080" cy="86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1" name=""/>
          <p:cNvGrpSpPr/>
          <p:nvPr/>
        </p:nvGrpSpPr>
        <p:grpSpPr>
          <a:xfrm>
            <a:off x="828720" y="2428920"/>
            <a:ext cx="7343640" cy="4200480"/>
            <a:chOff x="828720" y="2428920"/>
            <a:chExt cx="7343640" cy="4200480"/>
          </a:xfrm>
        </p:grpSpPr>
        <p:pic>
          <p:nvPicPr>
            <p:cNvPr id="362" name="" descr=""/>
            <p:cNvPicPr/>
            <p:nvPr/>
          </p:nvPicPr>
          <p:blipFill>
            <a:blip r:embed="rId2"/>
            <a:stretch/>
          </p:blipFill>
          <p:spPr>
            <a:xfrm>
              <a:off x="828720" y="2428920"/>
              <a:ext cx="6676920" cy="420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3" name=""/>
            <p:cNvSpPr/>
            <p:nvPr/>
          </p:nvSpPr>
          <p:spPr>
            <a:xfrm>
              <a:off x="7237440" y="2571840"/>
              <a:ext cx="934920" cy="432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Comic Sans MS"/>
                </a:rPr>
                <a:t>A (LNH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780000" y="3076560"/>
              <a:ext cx="865080" cy="3603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Comic Sans MS"/>
                </a:rPr>
                <a:t>A (LH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861080" y="3364200"/>
              <a:ext cx="1008000" cy="4316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Comic Sans MS"/>
                </a:rPr>
                <a:t>A (S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3132360" y="3652920"/>
              <a:ext cx="792000" cy="3589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Comic Sans MS"/>
                </a:rPr>
                <a:t>B (SP)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3205080" y="4011840"/>
              <a:ext cx="935280" cy="3585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Comic Sans MS"/>
                </a:rPr>
                <a:t>B (LNH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292720" y="4445280"/>
              <a:ext cx="719280" cy="3585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Comic Sans MS"/>
                </a:rPr>
                <a:t>B (LH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2124000" y="4803840"/>
              <a:ext cx="862200" cy="358920"/>
            </a:xfrm>
            <a:prstGeom prst="rect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Comic Sans MS"/>
                </a:rPr>
                <a:t>C (LNH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2629080" y="5164200"/>
              <a:ext cx="718920" cy="358920"/>
            </a:xfrm>
            <a:prstGeom prst="rect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Comic Sans MS"/>
                </a:rPr>
                <a:t>C (LH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7237440" y="5596200"/>
              <a:ext cx="719280" cy="358560"/>
            </a:xfrm>
            <a:prstGeom prst="rect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Comic Sans MS"/>
                </a:rPr>
                <a:t>C (S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2" name=""/>
          <p:cNvSpPr/>
          <p:nvPr/>
        </p:nvSpPr>
        <p:spPr>
          <a:xfrm>
            <a:off x="1042920" y="1143000"/>
            <a:ext cx="779616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cc"/>
                </a:solidFill>
                <a:latin typeface="Comic Sans MS"/>
              </a:rPr>
              <a:t>N. 3 Pazienti </a:t>
            </a:r>
            <a:r>
              <a:rPr b="1" lang="it-IT" sz="1800" spc="-1" strike="noStrike" u="sng">
                <a:solidFill>
                  <a:srgbClr val="0000cc"/>
                </a:solidFill>
                <a:uFillTx/>
                <a:latin typeface="Comic Sans MS"/>
              </a:rPr>
              <a:t>viventi</a:t>
            </a:r>
            <a:r>
              <a:rPr b="1" lang="it-IT" sz="1800" spc="-1" strike="noStrike">
                <a:solidFill>
                  <a:srgbClr val="0000cc"/>
                </a:solidFill>
                <a:latin typeface="Comic Sans MS"/>
              </a:rPr>
              <a:t> su cui sono state effettuate le valutazioni di clonalit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374840" y="333360"/>
            <a:ext cx="73908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ffffff"/>
                </a:solidFill>
                <a:latin typeface="Comic Sans MS"/>
              </a:rPr>
              <a:t>Risultati Analisi di Clonalità su DNA Mitocondri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45240" y="1982880"/>
            <a:ext cx="866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Comic Sans MS"/>
              </a:rPr>
              <a:t>(SP=sangue periferico, LH=linfoma di Hodgkin, LNH=linfoma non-Hodgki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14400" y="304920"/>
            <a:ext cx="73152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i="1" lang="it-IT" sz="2800" spc="-1" strike="noStrike">
                <a:solidFill>
                  <a:srgbClr val="ffffff"/>
                </a:solidFill>
                <a:latin typeface="Comic Sans MS"/>
              </a:rPr>
              <a:t>Disegno sperimenta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13111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00"/>
                </a:solidFill>
                <a:latin typeface="Comic Sans MS"/>
              </a:rPr>
              <a:t>Casistica relativa agli Istituti di Ematologia e Radioterapia Università di Bolog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7480" y="2286000"/>
            <a:ext cx="48610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cc"/>
                </a:solidFill>
                <a:latin typeface="Comic Sans MS"/>
              </a:rPr>
              <a:t>1265 casi totali di LH 1972-20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46200" y="3567240"/>
            <a:ext cx="829296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cc"/>
                </a:solidFill>
                <a:latin typeface="Comic Sans MS"/>
              </a:rPr>
              <a:t>121 casi hanno sviluppato seconde neoplasie malig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29600" y="4784760"/>
            <a:ext cx="55497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9900"/>
                </a:solidFill>
                <a:latin typeface="Comic Sans MS"/>
              </a:rPr>
              <a:t> </a:t>
            </a:r>
            <a:r>
              <a:rPr b="1" lang="it-IT" sz="2000" spc="-1" strike="noStrike">
                <a:solidFill>
                  <a:srgbClr val="ff9900"/>
                </a:solidFill>
                <a:latin typeface="Comic Sans MS"/>
              </a:rPr>
              <a:t>6 leucemie acu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9900"/>
                </a:solidFill>
                <a:latin typeface="Comic Sans MS"/>
              </a:rPr>
              <a:t> </a:t>
            </a:r>
            <a:r>
              <a:rPr b="1" lang="it-IT" sz="2000" spc="-1" strike="noStrike">
                <a:solidFill>
                  <a:srgbClr val="ffff00"/>
                </a:solidFill>
                <a:latin typeface="Comic Sans MS"/>
              </a:rPr>
              <a:t>21 linfomi non-Hodgk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9900"/>
                </a:solidFill>
                <a:latin typeface="Comic Sans MS"/>
              </a:rPr>
              <a:t> </a:t>
            </a:r>
            <a:r>
              <a:rPr b="1" lang="it-IT" sz="2000" spc="-1" strike="noStrike">
                <a:solidFill>
                  <a:srgbClr val="ff9900"/>
                </a:solidFill>
                <a:latin typeface="Comic Sans MS"/>
              </a:rPr>
              <a:t>17 carcinomi del polm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9900"/>
                </a:solidFill>
                <a:latin typeface="Comic Sans MS"/>
              </a:rPr>
              <a:t> </a:t>
            </a:r>
            <a:r>
              <a:rPr b="1" lang="it-IT" sz="2000" spc="-1" strike="noStrike">
                <a:solidFill>
                  <a:srgbClr val="ff9900"/>
                </a:solidFill>
                <a:latin typeface="Comic Sans MS"/>
              </a:rPr>
              <a:t>9 carcinomi della mammel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9900"/>
                </a:solidFill>
                <a:latin typeface="Comic Sans MS"/>
              </a:rPr>
              <a:t> </a:t>
            </a:r>
            <a:r>
              <a:rPr b="1" lang="it-IT" sz="2000" spc="-1" strike="noStrike">
                <a:solidFill>
                  <a:srgbClr val="ff9900"/>
                </a:solidFill>
                <a:latin typeface="Comic Sans MS"/>
              </a:rPr>
              <a:t>68 altri secondi tumori solid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9900"/>
                </a:solidFill>
                <a:latin typeface="Comic Sans MS"/>
              </a:rPr>
              <a:t>       </a:t>
            </a:r>
            <a:r>
              <a:rPr b="1" lang="it-IT" sz="2000" spc="-1" strike="noStrike">
                <a:solidFill>
                  <a:srgbClr val="ff9900"/>
                </a:solidFill>
                <a:latin typeface="Comic Sans MS"/>
              </a:rPr>
              <a:t>(carcinomi gastrici, basoteliomi e altr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375080" y="2971800"/>
            <a:ext cx="381240" cy="457200"/>
          </a:xfrm>
          <a:prstGeom prst="downArrow">
            <a:avLst>
              <a:gd name="adj1" fmla="val 50000"/>
              <a:gd name="adj2" fmla="val 29981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381560" y="4191120"/>
            <a:ext cx="380880" cy="457200"/>
          </a:xfrm>
          <a:prstGeom prst="downArrow">
            <a:avLst>
              <a:gd name="adj1" fmla="val 50000"/>
              <a:gd name="adj2" fmla="val 3000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380880" y="380880"/>
            <a:ext cx="853452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43280" y="5373720"/>
            <a:ext cx="4114800" cy="1474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402240" y="5334120"/>
            <a:ext cx="1800" cy="125280"/>
          </a:xfrm>
          <a:custGeom>
            <a:avLst/>
            <a:gdLst/>
            <a:ahLst/>
            <a:rect l="l" t="t" r="r" b="b"/>
            <a:pathLst>
              <a:path w="0" h="79">
                <a:moveTo>
                  <a:pt x="0" y="79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402240" y="5470560"/>
            <a:ext cx="1800" cy="114120"/>
          </a:xfrm>
          <a:custGeom>
            <a:avLst/>
            <a:gdLst/>
            <a:ahLst/>
            <a:rect l="l" t="t" r="r" b="b"/>
            <a:pathLst>
              <a:path w="0" h="72">
                <a:moveTo>
                  <a:pt x="0" y="0"/>
                </a:moveTo>
                <a:lnTo>
                  <a:pt x="0" y="72"/>
                </a:lnTo>
                <a:lnTo>
                  <a:pt x="0" y="72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284720" y="5516640"/>
            <a:ext cx="2082600" cy="187200"/>
          </a:xfrm>
          <a:custGeom>
            <a:avLst/>
            <a:gdLst/>
            <a:ahLst/>
            <a:rect l="l" t="t" r="r" b="b"/>
            <a:pathLst>
              <a:path w="1312" h="118">
                <a:moveTo>
                  <a:pt x="0" y="118"/>
                </a:moveTo>
                <a:lnTo>
                  <a:pt x="0" y="0"/>
                </a:lnTo>
                <a:lnTo>
                  <a:pt x="131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284720" y="5657760"/>
            <a:ext cx="2082600" cy="176400"/>
          </a:xfrm>
          <a:custGeom>
            <a:avLst/>
            <a:gdLst/>
            <a:ahLst/>
            <a:rect l="l" t="t" r="r" b="b"/>
            <a:pathLst>
              <a:path w="1312" h="111">
                <a:moveTo>
                  <a:pt x="0" y="0"/>
                </a:moveTo>
                <a:lnTo>
                  <a:pt x="0" y="111"/>
                </a:lnTo>
                <a:lnTo>
                  <a:pt x="1312" y="111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2924280" y="5661000"/>
            <a:ext cx="1360440" cy="204840"/>
          </a:xfrm>
          <a:custGeom>
            <a:avLst/>
            <a:gdLst/>
            <a:ahLst/>
            <a:rect l="l" t="t" r="r" b="b"/>
            <a:pathLst>
              <a:path w="879" h="138">
                <a:moveTo>
                  <a:pt x="0" y="138"/>
                </a:moveTo>
                <a:lnTo>
                  <a:pt x="0" y="0"/>
                </a:lnTo>
                <a:lnTo>
                  <a:pt x="879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2924280" y="5877000"/>
            <a:ext cx="3477960" cy="207720"/>
          </a:xfrm>
          <a:custGeom>
            <a:avLst/>
            <a:gdLst/>
            <a:ahLst/>
            <a:rect l="l" t="t" r="r" b="b"/>
            <a:pathLst>
              <a:path w="2191" h="131">
                <a:moveTo>
                  <a:pt x="0" y="0"/>
                </a:moveTo>
                <a:lnTo>
                  <a:pt x="0" y="131"/>
                </a:lnTo>
                <a:lnTo>
                  <a:pt x="2191" y="131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6231600" y="5380200"/>
            <a:ext cx="131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Comic Sans MS"/>
              </a:rPr>
              <a:t>76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924280" y="6438960"/>
            <a:ext cx="347796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6402240" y="6397560"/>
            <a:ext cx="1800" cy="82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6244920" y="6481800"/>
            <a:ext cx="35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Comic Sans MS"/>
              </a:rPr>
              <a:t>0.00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308560" y="6397560"/>
            <a:ext cx="1800" cy="82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141880" y="6481800"/>
            <a:ext cx="35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Comic Sans MS"/>
              </a:rPr>
              <a:t>0.000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205160" y="6397560"/>
            <a:ext cx="1800" cy="82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038480" y="6481800"/>
            <a:ext cx="35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Comic Sans MS"/>
              </a:rPr>
              <a:t>0.001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111480" y="6397560"/>
            <a:ext cx="1440" cy="82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2933640" y="6481800"/>
            <a:ext cx="35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Comic Sans MS"/>
              </a:rPr>
              <a:t>0.00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44280" y="1973160"/>
            <a:ext cx="30492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807400" y="1900080"/>
            <a:ext cx="30492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1547640" y="928800"/>
            <a:ext cx="748836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cc"/>
                </a:solidFill>
                <a:latin typeface="Comic Sans MS"/>
              </a:rPr>
              <a:t>N.5 pazienti </a:t>
            </a:r>
            <a:r>
              <a:rPr b="1" lang="it-IT" sz="1800" spc="-1" strike="noStrike" u="sng">
                <a:solidFill>
                  <a:srgbClr val="0000cc"/>
                </a:solidFill>
                <a:uFillTx/>
                <a:latin typeface="Comic Sans MS"/>
              </a:rPr>
              <a:t>non viventi</a:t>
            </a:r>
            <a:r>
              <a:rPr b="1" lang="it-IT" sz="1800" spc="-1" strike="noStrike">
                <a:solidFill>
                  <a:srgbClr val="0000cc"/>
                </a:solidFill>
                <a:latin typeface="Comic Sans MS"/>
              </a:rPr>
              <a:t> che presentano clonalità tra il materiale da LNH e cellule RS da L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409680" y="1916280"/>
            <a:ext cx="4114800" cy="3384000"/>
            <a:chOff x="409680" y="1916280"/>
            <a:chExt cx="4114800" cy="3384000"/>
          </a:xfrm>
        </p:grpSpPr>
        <p:sp>
          <p:nvSpPr>
            <p:cNvPr id="397" name=""/>
            <p:cNvSpPr/>
            <p:nvPr/>
          </p:nvSpPr>
          <p:spPr>
            <a:xfrm>
              <a:off x="409680" y="1916280"/>
              <a:ext cx="4114800" cy="16300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83040" y="2057040"/>
              <a:ext cx="27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9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1" lang="it-IT" sz="900" spc="-1" strike="noStrike">
                  <a:solidFill>
                    <a:srgbClr val="000000"/>
                  </a:solidFill>
                  <a:latin typeface="Comic Sans MS"/>
                </a:rPr>
                <a:t>LNH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2246400" y="2153880"/>
              <a:ext cx="1727280" cy="128520"/>
            </a:xfrm>
            <a:custGeom>
              <a:avLst/>
              <a:gdLst/>
              <a:ahLst/>
              <a:rect l="l" t="t" r="r" b="b"/>
              <a:pathLst>
                <a:path w="1088" h="81">
                  <a:moveTo>
                    <a:pt x="0" y="81"/>
                  </a:moveTo>
                  <a:lnTo>
                    <a:pt x="0" y="0"/>
                  </a:lnTo>
                  <a:lnTo>
                    <a:pt x="1088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982320" y="2315880"/>
              <a:ext cx="182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9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1" lang="it-IT" sz="900" spc="-1" strike="noStrike">
                  <a:solidFill>
                    <a:srgbClr val="000000"/>
                  </a:solidFill>
                  <a:latin typeface="Comic Sans MS"/>
                </a:rPr>
                <a:t>LH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2246400" y="2293920"/>
              <a:ext cx="1727280" cy="118440"/>
            </a:xfrm>
            <a:custGeom>
              <a:avLst/>
              <a:gdLst/>
              <a:ahLst/>
              <a:rect l="l" t="t" r="r" b="b"/>
              <a:pathLst>
                <a:path w="1088" h="75">
                  <a:moveTo>
                    <a:pt x="0" y="0"/>
                  </a:moveTo>
                  <a:lnTo>
                    <a:pt x="0" y="75"/>
                  </a:lnTo>
                  <a:lnTo>
                    <a:pt x="1088" y="75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517680" y="2282760"/>
              <a:ext cx="1728720" cy="258120"/>
            </a:xfrm>
            <a:custGeom>
              <a:avLst/>
              <a:gdLst/>
              <a:ahLst/>
              <a:rect l="l" t="t" r="r" b="b"/>
              <a:pathLst>
                <a:path w="1089" h="163">
                  <a:moveTo>
                    <a:pt x="0" y="163"/>
                  </a:moveTo>
                  <a:lnTo>
                    <a:pt x="0" y="0"/>
                  </a:lnTo>
                  <a:lnTo>
                    <a:pt x="1089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3973680" y="2678040"/>
              <a:ext cx="550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1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1" lang="it-IT" sz="900" spc="-1" strike="noStrike">
                  <a:solidFill>
                    <a:srgbClr val="000000"/>
                  </a:solidFill>
                  <a:latin typeface="Comic Sans MS"/>
                </a:rPr>
                <a:t>Con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973680" y="2671560"/>
              <a:ext cx="1440" cy="129960"/>
            </a:xfrm>
            <a:custGeom>
              <a:avLst/>
              <a:gdLst/>
              <a:ahLst/>
              <a:rect l="l" t="t" r="r" b="b"/>
              <a:pathLst>
                <a:path w="0" h="82">
                  <a:moveTo>
                    <a:pt x="0" y="82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3975480" y="2835000"/>
              <a:ext cx="37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73680" y="2812680"/>
              <a:ext cx="1440" cy="117360"/>
            </a:xfrm>
            <a:custGeom>
              <a:avLst/>
              <a:gdLst/>
              <a:ahLst/>
              <a:rect l="l" t="t" r="r" b="b"/>
              <a:pathLst>
                <a:path w="0" h="74">
                  <a:moveTo>
                    <a:pt x="0" y="0"/>
                  </a:moveTo>
                  <a:lnTo>
                    <a:pt x="0" y="74"/>
                  </a:lnTo>
                  <a:lnTo>
                    <a:pt x="0" y="74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17680" y="2552400"/>
              <a:ext cx="3456000" cy="249120"/>
            </a:xfrm>
            <a:custGeom>
              <a:avLst/>
              <a:gdLst/>
              <a:ahLst/>
              <a:rect l="l" t="t" r="r" b="b"/>
              <a:pathLst>
                <a:path w="2177" h="157">
                  <a:moveTo>
                    <a:pt x="0" y="0"/>
                  </a:moveTo>
                  <a:lnTo>
                    <a:pt x="0" y="157"/>
                  </a:lnTo>
                  <a:lnTo>
                    <a:pt x="2177" y="157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3793320" y="2842920"/>
              <a:ext cx="131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Comic Sans MS"/>
                </a:rPr>
                <a:t>98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17680" y="3319200"/>
              <a:ext cx="34560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3973680" y="3276360"/>
              <a:ext cx="1440" cy="853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798720" y="336204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Comic Sans MS"/>
                </a:rPr>
                <a:t>0.00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3195720" y="3276360"/>
              <a:ext cx="1440" cy="853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3031920" y="336204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Comic Sans MS"/>
                </a:rPr>
                <a:t>0.000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2428920" y="3276360"/>
              <a:ext cx="1800" cy="853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2246400" y="336204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Comic Sans MS"/>
                </a:rPr>
                <a:t>0.001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662120" y="3276360"/>
              <a:ext cx="1800" cy="853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479600" y="336204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Comic Sans MS"/>
                </a:rPr>
                <a:t>0.001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884520" y="3276360"/>
              <a:ext cx="1440" cy="853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711000" y="336204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Comic Sans MS"/>
                </a:rPr>
                <a:t>0.00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409680" y="3973320"/>
              <a:ext cx="4114800" cy="13269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4076280" y="4125600"/>
              <a:ext cx="182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9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1" lang="it-IT" sz="900" spc="-1" strike="noStrike">
                  <a:solidFill>
                    <a:srgbClr val="000000"/>
                  </a:solidFill>
                  <a:latin typeface="Comic Sans MS"/>
                </a:rPr>
                <a:t>LH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070520" y="4168440"/>
              <a:ext cx="1440" cy="107640"/>
            </a:xfrm>
            <a:custGeom>
              <a:avLst/>
              <a:gdLst/>
              <a:ahLst/>
              <a:rect l="l" t="t" r="r" b="b"/>
              <a:pathLst>
                <a:path w="0" h="68">
                  <a:moveTo>
                    <a:pt x="0" y="68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4070520" y="4284360"/>
              <a:ext cx="1440" cy="98280"/>
            </a:xfrm>
            <a:custGeom>
              <a:avLst/>
              <a:gdLst/>
              <a:ahLst/>
              <a:rect l="l" t="t" r="r" b="b"/>
              <a:pathLst>
                <a:path w="0" h="62">
                  <a:moveTo>
                    <a:pt x="0" y="0"/>
                  </a:moveTo>
                  <a:lnTo>
                    <a:pt x="0" y="62"/>
                  </a:lnTo>
                  <a:lnTo>
                    <a:pt x="0" y="6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76640" y="4506840"/>
              <a:ext cx="27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9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1" lang="it-IT" sz="900" spc="-1" strike="noStrike">
                  <a:solidFill>
                    <a:srgbClr val="000000"/>
                  </a:solidFill>
                  <a:latin typeface="Comic Sans MS"/>
                </a:rPr>
                <a:t>LNH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070520" y="4392360"/>
              <a:ext cx="1440" cy="204480"/>
            </a:xfrm>
            <a:custGeom>
              <a:avLst/>
              <a:gdLst/>
              <a:ahLst/>
              <a:rect l="l" t="t" r="r" b="b"/>
              <a:pathLst>
                <a:path w="0" h="129">
                  <a:moveTo>
                    <a:pt x="0" y="0"/>
                  </a:moveTo>
                  <a:lnTo>
                    <a:pt x="0" y="129"/>
                  </a:lnTo>
                  <a:lnTo>
                    <a:pt x="0" y="129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4070520" y="4168440"/>
              <a:ext cx="1440" cy="21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498600" y="4383000"/>
              <a:ext cx="3571920" cy="213840"/>
            </a:xfrm>
            <a:custGeom>
              <a:avLst/>
              <a:gdLst/>
              <a:ahLst/>
              <a:rect l="l" t="t" r="r" b="b"/>
              <a:pathLst>
                <a:path w="2250" h="135">
                  <a:moveTo>
                    <a:pt x="0" y="135"/>
                  </a:moveTo>
                  <a:lnTo>
                    <a:pt x="0" y="0"/>
                  </a:lnTo>
                  <a:lnTo>
                    <a:pt x="225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498600" y="4605120"/>
              <a:ext cx="3571920" cy="204480"/>
            </a:xfrm>
            <a:custGeom>
              <a:avLst/>
              <a:gdLst/>
              <a:ahLst/>
              <a:rect l="l" t="t" r="r" b="b"/>
              <a:pathLst>
                <a:path w="2250" h="129">
                  <a:moveTo>
                    <a:pt x="0" y="0"/>
                  </a:moveTo>
                  <a:lnTo>
                    <a:pt x="0" y="129"/>
                  </a:lnTo>
                  <a:lnTo>
                    <a:pt x="2250" y="129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498600" y="5113080"/>
              <a:ext cx="3571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070520" y="5078160"/>
              <a:ext cx="144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935880" y="5149800"/>
              <a:ext cx="3178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Comic Sans MS"/>
                </a:rPr>
                <a:t>0.00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3392640" y="5078160"/>
              <a:ext cx="144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259800" y="5149800"/>
              <a:ext cx="3178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Comic Sans MS"/>
                </a:rPr>
                <a:t>0.000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716200" y="5078160"/>
              <a:ext cx="180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2581920" y="5149800"/>
              <a:ext cx="3178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Comic Sans MS"/>
                </a:rPr>
                <a:t>0.000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2040120" y="5078160"/>
              <a:ext cx="144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1905480" y="5149800"/>
              <a:ext cx="3178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Comic Sans MS"/>
                </a:rPr>
                <a:t>0.0006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1362240" y="5078160"/>
              <a:ext cx="144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1229400" y="5149800"/>
              <a:ext cx="3178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Comic Sans MS"/>
                </a:rPr>
                <a:t>0.0008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685800" y="5078160"/>
              <a:ext cx="180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543600" y="5149800"/>
              <a:ext cx="3178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Comic Sans MS"/>
                </a:rPr>
                <a:t>0.001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4132080" y="4735440"/>
              <a:ext cx="26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900" spc="-1" strike="noStrike">
                  <a:solidFill>
                    <a:srgbClr val="000000"/>
                  </a:solidFill>
                  <a:latin typeface="Comic Sans MS"/>
                </a:rPr>
                <a:t>Con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3" name=""/>
          <p:cNvGrpSpPr/>
          <p:nvPr/>
        </p:nvGrpSpPr>
        <p:grpSpPr>
          <a:xfrm>
            <a:off x="4645080" y="1844640"/>
            <a:ext cx="4114800" cy="3510000"/>
            <a:chOff x="4645080" y="1844640"/>
            <a:chExt cx="4114800" cy="3510000"/>
          </a:xfrm>
        </p:grpSpPr>
        <p:sp>
          <p:nvSpPr>
            <p:cNvPr id="444" name=""/>
            <p:cNvSpPr/>
            <p:nvPr/>
          </p:nvSpPr>
          <p:spPr>
            <a:xfrm>
              <a:off x="4645080" y="1844640"/>
              <a:ext cx="4114800" cy="13302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8312040" y="1996920"/>
              <a:ext cx="27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9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1" lang="it-IT" sz="900" spc="-1" strike="noStrike">
                  <a:solidFill>
                    <a:srgbClr val="000000"/>
                  </a:solidFill>
                  <a:latin typeface="Comic Sans MS"/>
                </a:rPr>
                <a:t>LNH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8304480" y="2041560"/>
              <a:ext cx="1440" cy="106200"/>
            </a:xfrm>
            <a:custGeom>
              <a:avLst/>
              <a:gdLst/>
              <a:ahLst/>
              <a:rect l="l" t="t" r="r" b="b"/>
              <a:pathLst>
                <a:path w="0" h="67">
                  <a:moveTo>
                    <a:pt x="0" y="67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8311680" y="2378160"/>
              <a:ext cx="182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9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1" lang="it-IT" sz="900" spc="-1" strike="noStrike">
                  <a:solidFill>
                    <a:srgbClr val="000000"/>
                  </a:solidFill>
                  <a:latin typeface="Comic Sans MS"/>
                </a:rPr>
                <a:t>LH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304480" y="2157480"/>
              <a:ext cx="1440" cy="98280"/>
            </a:xfrm>
            <a:custGeom>
              <a:avLst/>
              <a:gdLst/>
              <a:ahLst/>
              <a:rect l="l" t="t" r="r" b="b"/>
              <a:pathLst>
                <a:path w="0" h="62">
                  <a:moveTo>
                    <a:pt x="0" y="0"/>
                  </a:moveTo>
                  <a:lnTo>
                    <a:pt x="0" y="62"/>
                  </a:lnTo>
                  <a:lnTo>
                    <a:pt x="0" y="6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04480" y="2263680"/>
              <a:ext cx="1440" cy="206280"/>
            </a:xfrm>
            <a:custGeom>
              <a:avLst/>
              <a:gdLst/>
              <a:ahLst/>
              <a:rect l="l" t="t" r="r" b="b"/>
              <a:pathLst>
                <a:path w="0" h="130">
                  <a:moveTo>
                    <a:pt x="0" y="0"/>
                  </a:moveTo>
                  <a:lnTo>
                    <a:pt x="0" y="130"/>
                  </a:lnTo>
                  <a:lnTo>
                    <a:pt x="0" y="13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304480" y="2041560"/>
              <a:ext cx="1440" cy="21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4734000" y="2255760"/>
              <a:ext cx="3570480" cy="214200"/>
            </a:xfrm>
            <a:custGeom>
              <a:avLst/>
              <a:gdLst/>
              <a:ahLst/>
              <a:rect l="l" t="t" r="r" b="b"/>
              <a:pathLst>
                <a:path w="2249" h="135">
                  <a:moveTo>
                    <a:pt x="0" y="135"/>
                  </a:moveTo>
                  <a:lnTo>
                    <a:pt x="0" y="0"/>
                  </a:lnTo>
                  <a:lnTo>
                    <a:pt x="2249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8367840" y="2606760"/>
              <a:ext cx="26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900" spc="-1" strike="noStrike">
                  <a:solidFill>
                    <a:srgbClr val="000000"/>
                  </a:solidFill>
                  <a:latin typeface="Comic Sans MS"/>
                </a:rPr>
                <a:t>Con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4734000" y="2477880"/>
              <a:ext cx="3570480" cy="206640"/>
            </a:xfrm>
            <a:custGeom>
              <a:avLst/>
              <a:gdLst/>
              <a:ahLst/>
              <a:rect l="l" t="t" r="r" b="b"/>
              <a:pathLst>
                <a:path w="2249" h="130">
                  <a:moveTo>
                    <a:pt x="0" y="0"/>
                  </a:moveTo>
                  <a:lnTo>
                    <a:pt x="0" y="130"/>
                  </a:lnTo>
                  <a:lnTo>
                    <a:pt x="2249" y="13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734000" y="2987640"/>
              <a:ext cx="35704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8304480" y="2951280"/>
              <a:ext cx="144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8169840" y="3024000"/>
              <a:ext cx="3178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Comic Sans MS"/>
                </a:rPr>
                <a:t>0.00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7537680" y="2951280"/>
              <a:ext cx="144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403040" y="3024000"/>
              <a:ext cx="3178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Comic Sans MS"/>
                </a:rPr>
                <a:t>0.000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6778800" y="2951280"/>
              <a:ext cx="144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6634800" y="3024000"/>
              <a:ext cx="3178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Comic Sans MS"/>
                </a:rPr>
                <a:t>0.000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6010560" y="2951280"/>
              <a:ext cx="144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868000" y="3024000"/>
              <a:ext cx="3178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Comic Sans MS"/>
                </a:rPr>
                <a:t>0.0006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243760" y="2951280"/>
              <a:ext cx="144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5109120" y="3024000"/>
              <a:ext cx="3178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Comic Sans MS"/>
                </a:rPr>
                <a:t>0.0008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645080" y="3902040"/>
              <a:ext cx="4114800" cy="14526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263080" y="4116240"/>
              <a:ext cx="1800" cy="117720"/>
            </a:xfrm>
            <a:custGeom>
              <a:avLst/>
              <a:gdLst/>
              <a:ahLst/>
              <a:rect l="l" t="t" r="r" b="b"/>
              <a:pathLst>
                <a:path w="0" h="74">
                  <a:moveTo>
                    <a:pt x="0" y="74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8263080" y="4243320"/>
              <a:ext cx="1800" cy="106560"/>
            </a:xfrm>
            <a:custGeom>
              <a:avLst/>
              <a:gdLst/>
              <a:ahLst/>
              <a:rect l="l" t="t" r="r" b="b"/>
              <a:pathLst>
                <a:path w="0" h="67">
                  <a:moveTo>
                    <a:pt x="0" y="0"/>
                  </a:moveTo>
                  <a:lnTo>
                    <a:pt x="0" y="67"/>
                  </a:lnTo>
                  <a:lnTo>
                    <a:pt x="0" y="67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7140600" y="4233960"/>
              <a:ext cx="1122480" cy="174600"/>
            </a:xfrm>
            <a:custGeom>
              <a:avLst/>
              <a:gdLst/>
              <a:ahLst/>
              <a:rect l="l" t="t" r="r" b="b"/>
              <a:pathLst>
                <a:path w="707" h="110">
                  <a:moveTo>
                    <a:pt x="0" y="110"/>
                  </a:moveTo>
                  <a:lnTo>
                    <a:pt x="0" y="0"/>
                  </a:lnTo>
                  <a:lnTo>
                    <a:pt x="707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7140600" y="4417920"/>
              <a:ext cx="1122480" cy="166680"/>
            </a:xfrm>
            <a:custGeom>
              <a:avLst/>
              <a:gdLst/>
              <a:ahLst/>
              <a:rect l="l" t="t" r="r" b="b"/>
              <a:pathLst>
                <a:path w="707" h="105">
                  <a:moveTo>
                    <a:pt x="0" y="0"/>
                  </a:moveTo>
                  <a:lnTo>
                    <a:pt x="0" y="105"/>
                  </a:lnTo>
                  <a:lnTo>
                    <a:pt x="707" y="105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4741920" y="4408560"/>
              <a:ext cx="2398680" cy="204840"/>
            </a:xfrm>
            <a:custGeom>
              <a:avLst/>
              <a:gdLst/>
              <a:ahLst/>
              <a:rect l="l" t="t" r="r" b="b"/>
              <a:pathLst>
                <a:path w="1511" h="129">
                  <a:moveTo>
                    <a:pt x="0" y="129"/>
                  </a:moveTo>
                  <a:lnTo>
                    <a:pt x="0" y="0"/>
                  </a:lnTo>
                  <a:lnTo>
                    <a:pt x="1511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741920" y="4622760"/>
              <a:ext cx="3521160" cy="195120"/>
            </a:xfrm>
            <a:custGeom>
              <a:avLst/>
              <a:gdLst/>
              <a:ahLst/>
              <a:rect l="l" t="t" r="r" b="b"/>
              <a:pathLst>
                <a:path w="2218" h="123">
                  <a:moveTo>
                    <a:pt x="0" y="0"/>
                  </a:moveTo>
                  <a:lnTo>
                    <a:pt x="0" y="123"/>
                  </a:lnTo>
                  <a:lnTo>
                    <a:pt x="2218" y="123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034480" y="4048200"/>
              <a:ext cx="1972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Comic Sans MS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741920" y="5149800"/>
              <a:ext cx="35211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8263080" y="5110200"/>
              <a:ext cx="1800" cy="79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8133840" y="515952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Comic Sans MS"/>
                </a:rPr>
                <a:t>0.0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7121880" y="5110200"/>
              <a:ext cx="1440" cy="79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6992280" y="515952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Comic Sans MS"/>
                </a:rPr>
                <a:t>0.00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980320" y="5110200"/>
              <a:ext cx="1440" cy="79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852880" y="515952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Comic Sans MS"/>
                </a:rPr>
                <a:t>0.01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849920" y="5110200"/>
              <a:ext cx="1800" cy="79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711320" y="515952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Comic Sans MS"/>
                </a:rPr>
                <a:t>0.01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8291520" y="4740120"/>
              <a:ext cx="26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900" spc="-1" strike="noStrike">
                  <a:solidFill>
                    <a:srgbClr val="000000"/>
                  </a:solidFill>
                  <a:latin typeface="Comic Sans MS"/>
                </a:rPr>
                <a:t>Con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8312040" y="4511520"/>
              <a:ext cx="27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9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1" lang="it-IT" sz="900" spc="-1" strike="noStrike">
                  <a:solidFill>
                    <a:srgbClr val="000000"/>
                  </a:solidFill>
                  <a:latin typeface="Comic Sans MS"/>
                </a:rPr>
                <a:t>LNH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8311680" y="4206960"/>
              <a:ext cx="182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9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1" lang="it-IT" sz="900" spc="-1" strike="noStrike">
                  <a:solidFill>
                    <a:srgbClr val="000000"/>
                  </a:solidFill>
                  <a:latin typeface="Comic Sans MS"/>
                </a:rPr>
                <a:t>LH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5" name=""/>
          <p:cNvSpPr/>
          <p:nvPr/>
        </p:nvSpPr>
        <p:spPr>
          <a:xfrm>
            <a:off x="6468480" y="5445000"/>
            <a:ext cx="1821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9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it-IT" sz="900" spc="-1" strike="noStrike">
                <a:solidFill>
                  <a:srgbClr val="000000"/>
                </a:solidFill>
                <a:latin typeface="Comic Sans MS"/>
              </a:rPr>
              <a:t>L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6486120" y="5791320"/>
            <a:ext cx="275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9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it-IT" sz="900" spc="-1" strike="noStrike">
                <a:solidFill>
                  <a:srgbClr val="000000"/>
                </a:solidFill>
                <a:latin typeface="Comic Sans MS"/>
              </a:rPr>
              <a:t>LN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465600" y="6019920"/>
            <a:ext cx="26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900" spc="-1" strike="noStrike">
                <a:solidFill>
                  <a:srgbClr val="000000"/>
                </a:solidFill>
                <a:latin typeface="Comic Sans MS"/>
              </a:rPr>
              <a:t>Co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1457640" y="235080"/>
            <a:ext cx="73908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ffffff"/>
                </a:solidFill>
                <a:latin typeface="Comic Sans MS"/>
              </a:rPr>
              <a:t>Risultati Analisi di Clonalità su DNA Mitocondri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47520" y="3989520"/>
            <a:ext cx="30492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8807400" y="3989520"/>
            <a:ext cx="30492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7023240" y="5719680"/>
            <a:ext cx="30456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2" name=""/>
          <p:cNvGrpSpPr/>
          <p:nvPr/>
        </p:nvGrpSpPr>
        <p:grpSpPr>
          <a:xfrm>
            <a:off x="2666880" y="2257560"/>
            <a:ext cx="4114800" cy="3381120"/>
            <a:chOff x="2666880" y="2257560"/>
            <a:chExt cx="4114800" cy="3381120"/>
          </a:xfrm>
        </p:grpSpPr>
        <p:sp>
          <p:nvSpPr>
            <p:cNvPr id="493" name=""/>
            <p:cNvSpPr/>
            <p:nvPr/>
          </p:nvSpPr>
          <p:spPr>
            <a:xfrm>
              <a:off x="2666880" y="2257560"/>
              <a:ext cx="4114800" cy="13474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6333480" y="2373480"/>
              <a:ext cx="29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9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1" lang="it-IT" sz="900" spc="-1" strike="noStrike">
                  <a:solidFill>
                    <a:srgbClr val="000000"/>
                  </a:solidFill>
                  <a:latin typeface="Comic Sans MS"/>
                </a:rPr>
                <a:t>Con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3470400" y="2454120"/>
              <a:ext cx="2855880" cy="106560"/>
            </a:xfrm>
            <a:custGeom>
              <a:avLst/>
              <a:gdLst/>
              <a:ahLst/>
              <a:rect l="l" t="t" r="r" b="b"/>
              <a:pathLst>
                <a:path w="1799" h="67">
                  <a:moveTo>
                    <a:pt x="0" y="67"/>
                  </a:moveTo>
                  <a:lnTo>
                    <a:pt x="0" y="0"/>
                  </a:lnTo>
                  <a:lnTo>
                    <a:pt x="1799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6345000" y="2587680"/>
              <a:ext cx="27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9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1" lang="it-IT" sz="900" spc="-1" strike="noStrike">
                  <a:solidFill>
                    <a:srgbClr val="000000"/>
                  </a:solidFill>
                  <a:latin typeface="Comic Sans MS"/>
                </a:rPr>
                <a:t>LNH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3470400" y="2570040"/>
              <a:ext cx="2855880" cy="98640"/>
            </a:xfrm>
            <a:custGeom>
              <a:avLst/>
              <a:gdLst/>
              <a:ahLst/>
              <a:rect l="l" t="t" r="r" b="b"/>
              <a:pathLst>
                <a:path w="1799" h="62">
                  <a:moveTo>
                    <a:pt x="0" y="0"/>
                  </a:moveTo>
                  <a:lnTo>
                    <a:pt x="0" y="62"/>
                  </a:lnTo>
                  <a:lnTo>
                    <a:pt x="1799" y="6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2755800" y="2560680"/>
              <a:ext cx="714600" cy="214200"/>
            </a:xfrm>
            <a:custGeom>
              <a:avLst/>
              <a:gdLst/>
              <a:ahLst/>
              <a:rect l="l" t="t" r="r" b="b"/>
              <a:pathLst>
                <a:path w="450" h="135">
                  <a:moveTo>
                    <a:pt x="0" y="135"/>
                  </a:moveTo>
                  <a:lnTo>
                    <a:pt x="0" y="0"/>
                  </a:lnTo>
                  <a:lnTo>
                    <a:pt x="45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6400800" y="2867040"/>
              <a:ext cx="369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900" spc="-1" strike="noStrike">
                  <a:solidFill>
                    <a:srgbClr val="000000"/>
                  </a:solidFill>
                  <a:latin typeface="Comic Sans MS"/>
                </a:rPr>
                <a:t>LH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6326280" y="2882880"/>
              <a:ext cx="1440" cy="106560"/>
            </a:xfrm>
            <a:custGeom>
              <a:avLst/>
              <a:gdLst/>
              <a:ahLst/>
              <a:rect l="l" t="t" r="r" b="b"/>
              <a:pathLst>
                <a:path w="0" h="67">
                  <a:moveTo>
                    <a:pt x="0" y="67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6326280" y="2998800"/>
              <a:ext cx="1440" cy="98280"/>
            </a:xfrm>
            <a:custGeom>
              <a:avLst/>
              <a:gdLst/>
              <a:ahLst/>
              <a:rect l="l" t="t" r="r" b="b"/>
              <a:pathLst>
                <a:path w="0" h="62">
                  <a:moveTo>
                    <a:pt x="0" y="0"/>
                  </a:moveTo>
                  <a:lnTo>
                    <a:pt x="0" y="62"/>
                  </a:lnTo>
                  <a:lnTo>
                    <a:pt x="0" y="6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2755800" y="2784600"/>
              <a:ext cx="3570480" cy="204840"/>
            </a:xfrm>
            <a:custGeom>
              <a:avLst/>
              <a:gdLst/>
              <a:ahLst/>
              <a:rect l="l" t="t" r="r" b="b"/>
              <a:pathLst>
                <a:path w="2249" h="129">
                  <a:moveTo>
                    <a:pt x="0" y="0"/>
                  </a:moveTo>
                  <a:lnTo>
                    <a:pt x="0" y="129"/>
                  </a:lnTo>
                  <a:lnTo>
                    <a:pt x="2249" y="129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6179040" y="3025800"/>
              <a:ext cx="11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Comic Sans MS"/>
                </a:rPr>
                <a:t>9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2755800" y="3417840"/>
              <a:ext cx="35704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6326280" y="3381480"/>
              <a:ext cx="144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6191640" y="3454560"/>
              <a:ext cx="3178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Comic Sans MS"/>
                </a:rPr>
                <a:t>0.00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5389560" y="3381480"/>
              <a:ext cx="144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5255280" y="3454560"/>
              <a:ext cx="3178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Comic Sans MS"/>
                </a:rPr>
                <a:t>0.000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4460760" y="3381480"/>
              <a:ext cx="180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4310640" y="3454560"/>
              <a:ext cx="3178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Comic Sans MS"/>
                </a:rPr>
                <a:t>0.001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3524400" y="3381480"/>
              <a:ext cx="144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3381840" y="3454560"/>
              <a:ext cx="3178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Comic Sans MS"/>
                </a:rPr>
                <a:t>0.001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2666880" y="4086360"/>
              <a:ext cx="4114800" cy="15523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6333480" y="4314960"/>
              <a:ext cx="182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9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1" lang="it-IT" sz="900" spc="-1" strike="noStrike">
                  <a:solidFill>
                    <a:srgbClr val="000000"/>
                  </a:solidFill>
                  <a:latin typeface="Comic Sans MS"/>
                </a:rPr>
                <a:t>LH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6249960" y="4314960"/>
              <a:ext cx="1440" cy="125280"/>
            </a:xfrm>
            <a:custGeom>
              <a:avLst/>
              <a:gdLst/>
              <a:ahLst/>
              <a:rect l="l" t="t" r="r" b="b"/>
              <a:pathLst>
                <a:path w="0" h="79">
                  <a:moveTo>
                    <a:pt x="0" y="79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6249960" y="4451400"/>
              <a:ext cx="1440" cy="114120"/>
            </a:xfrm>
            <a:custGeom>
              <a:avLst/>
              <a:gdLst/>
              <a:ahLst/>
              <a:rect l="l" t="t" r="r" b="b"/>
              <a:pathLst>
                <a:path w="0" h="72">
                  <a:moveTo>
                    <a:pt x="0" y="0"/>
                  </a:moveTo>
                  <a:lnTo>
                    <a:pt x="0" y="72"/>
                  </a:lnTo>
                  <a:lnTo>
                    <a:pt x="0" y="72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4167360" y="4440240"/>
              <a:ext cx="2082600" cy="187200"/>
            </a:xfrm>
            <a:custGeom>
              <a:avLst/>
              <a:gdLst/>
              <a:ahLst/>
              <a:rect l="l" t="t" r="r" b="b"/>
              <a:pathLst>
                <a:path w="1312" h="118">
                  <a:moveTo>
                    <a:pt x="0" y="118"/>
                  </a:moveTo>
                  <a:lnTo>
                    <a:pt x="0" y="0"/>
                  </a:lnTo>
                  <a:lnTo>
                    <a:pt x="1312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6246360" y="4695840"/>
              <a:ext cx="29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9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1" lang="it-IT" sz="900" spc="-1" strike="noStrike">
                  <a:solidFill>
                    <a:srgbClr val="000000"/>
                  </a:solidFill>
                  <a:latin typeface="Comic Sans MS"/>
                </a:rPr>
                <a:t>Con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4167360" y="4638600"/>
              <a:ext cx="2082600" cy="176400"/>
            </a:xfrm>
            <a:custGeom>
              <a:avLst/>
              <a:gdLst/>
              <a:ahLst/>
              <a:rect l="l" t="t" r="r" b="b"/>
              <a:pathLst>
                <a:path w="1312" h="111">
                  <a:moveTo>
                    <a:pt x="0" y="0"/>
                  </a:moveTo>
                  <a:lnTo>
                    <a:pt x="0" y="111"/>
                  </a:lnTo>
                  <a:lnTo>
                    <a:pt x="1312" y="111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2771640" y="4627440"/>
              <a:ext cx="1395720" cy="219240"/>
            </a:xfrm>
            <a:custGeom>
              <a:avLst/>
              <a:gdLst/>
              <a:ahLst/>
              <a:rect l="l" t="t" r="r" b="b"/>
              <a:pathLst>
                <a:path w="879" h="138">
                  <a:moveTo>
                    <a:pt x="0" y="138"/>
                  </a:moveTo>
                  <a:lnTo>
                    <a:pt x="0" y="0"/>
                  </a:lnTo>
                  <a:lnTo>
                    <a:pt x="879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6324480" y="5000760"/>
              <a:ext cx="24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900" spc="-1" strike="noStrike">
                  <a:solidFill>
                    <a:srgbClr val="000000"/>
                  </a:solidFill>
                  <a:latin typeface="Comic Sans MS"/>
                </a:rPr>
                <a:t>LNH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2771640" y="4857840"/>
              <a:ext cx="3478320" cy="207720"/>
            </a:xfrm>
            <a:custGeom>
              <a:avLst/>
              <a:gdLst/>
              <a:ahLst/>
              <a:rect l="l" t="t" r="r" b="b"/>
              <a:pathLst>
                <a:path w="2191" h="131">
                  <a:moveTo>
                    <a:pt x="0" y="0"/>
                  </a:moveTo>
                  <a:lnTo>
                    <a:pt x="0" y="131"/>
                  </a:lnTo>
                  <a:lnTo>
                    <a:pt x="2191" y="131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6077880" y="4284720"/>
              <a:ext cx="131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Comic Sans MS"/>
                </a:rPr>
                <a:t>9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2771640" y="5419800"/>
              <a:ext cx="347832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6249960" y="5378400"/>
              <a:ext cx="1440" cy="82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6083280" y="546264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Comic Sans MS"/>
                </a:rPr>
                <a:t>0.00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5437080" y="5378400"/>
              <a:ext cx="1800" cy="82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5281560" y="546264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Comic Sans MS"/>
                </a:rPr>
                <a:t>0.000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635360" y="5378400"/>
              <a:ext cx="1800" cy="82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4459320" y="546264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Comic Sans MS"/>
                </a:rPr>
                <a:t>0.001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3822840" y="5378400"/>
              <a:ext cx="1440" cy="82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656160" y="546264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Comic Sans MS"/>
                </a:rPr>
                <a:t>0.001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3021120" y="5378400"/>
              <a:ext cx="1440" cy="82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2854080" y="546264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Comic Sans MS"/>
                </a:rPr>
                <a:t>0.00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5" name=""/>
          <p:cNvSpPr/>
          <p:nvPr/>
        </p:nvSpPr>
        <p:spPr>
          <a:xfrm>
            <a:off x="1627200" y="1181160"/>
            <a:ext cx="640080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cc"/>
                </a:solidFill>
                <a:latin typeface="Comic Sans MS"/>
              </a:rPr>
              <a:t>N.2 pazienti </a:t>
            </a:r>
            <a:r>
              <a:rPr b="1" lang="it-IT" sz="1800" spc="-1" strike="noStrike" u="sng">
                <a:solidFill>
                  <a:srgbClr val="0000cc"/>
                </a:solidFill>
                <a:uFillTx/>
                <a:latin typeface="Comic Sans MS"/>
              </a:rPr>
              <a:t>non viventi</a:t>
            </a:r>
            <a:r>
              <a:rPr b="1" lang="it-IT" sz="1800" spc="-1" strike="noStrike">
                <a:solidFill>
                  <a:srgbClr val="0000cc"/>
                </a:solidFill>
                <a:latin typeface="Comic Sans MS"/>
              </a:rPr>
              <a:t> che </a:t>
            </a:r>
            <a:r>
              <a:rPr b="1" lang="it-IT" sz="1800" spc="-1" strike="noStrike" u="sng">
                <a:solidFill>
                  <a:srgbClr val="0000cc"/>
                </a:solidFill>
                <a:uFillTx/>
                <a:latin typeface="Comic Sans MS"/>
              </a:rPr>
              <a:t>non presentano</a:t>
            </a:r>
            <a:r>
              <a:rPr b="1" lang="it-IT" sz="1800" spc="-1" strike="noStrike">
                <a:solidFill>
                  <a:srgbClr val="0000cc"/>
                </a:solidFill>
                <a:latin typeface="Comic Sans MS"/>
              </a:rPr>
              <a:t> clonalit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2133720" y="2701800"/>
            <a:ext cx="30456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2133720" y="4573440"/>
            <a:ext cx="30456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1386000" y="379440"/>
            <a:ext cx="73908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ffffff"/>
                </a:solidFill>
                <a:latin typeface="Comic Sans MS"/>
              </a:rPr>
              <a:t>Risultati Analisi di Clonalità su DNA Mitocondri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"/>
          <p:cNvSpPr/>
          <p:nvPr/>
        </p:nvSpPr>
        <p:spPr>
          <a:xfrm>
            <a:off x="533520" y="1676520"/>
            <a:ext cx="807696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cc"/>
                </a:solidFill>
                <a:latin typeface="Comic Sans MS"/>
              </a:rPr>
              <a:t>I LNH secondari a LH presentano profili genici statisticamente sovrapponibili ai rispettivi LH prima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539640" y="3213000"/>
            <a:ext cx="8064720" cy="2478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cc"/>
                </a:solidFill>
                <a:latin typeface="Comic Sans MS"/>
              </a:rPr>
              <a:t>L’analisi di clonalità ad alta risoluzione mediante NJT ha sottolineato come 7 pazienti su 10 presentino clonalità statisticamente significativa fra LNH e L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cc"/>
                </a:solidFill>
                <a:latin typeface="Comic Sans MS"/>
              </a:rPr>
              <a:t>Dei 3 pazienti non considerati clonali, 1 presenta valori statistici al limite della clonalit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348000" y="404640"/>
            <a:ext cx="243828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>
                <a:solidFill>
                  <a:srgbClr val="ffffff"/>
                </a:solidFill>
                <a:latin typeface="Comic Sans MS"/>
              </a:rPr>
              <a:t>Conclusioni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"/>
          <p:cNvSpPr/>
          <p:nvPr/>
        </p:nvSpPr>
        <p:spPr>
          <a:xfrm>
            <a:off x="468360" y="1413000"/>
            <a:ext cx="820728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cc"/>
                </a:solidFill>
                <a:latin typeface="Comic Sans MS"/>
              </a:rPr>
              <a:t>L’analisi di clonalità suggerisce che LH e LNH sequenziali potrebbero originare da un comune progenitore linfoide geneticamente instab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3352680" y="380880"/>
            <a:ext cx="24386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>
                <a:solidFill>
                  <a:srgbClr val="ffffff"/>
                </a:solidFill>
                <a:latin typeface="Comic Sans MS"/>
              </a:rPr>
              <a:t>Conclusioni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4" name="" descr=""/>
          <p:cNvPicPr/>
          <p:nvPr/>
        </p:nvPicPr>
        <p:blipFill>
          <a:blip r:embed="rId2"/>
          <a:stretch/>
        </p:blipFill>
        <p:spPr>
          <a:xfrm>
            <a:off x="2043000" y="2751120"/>
            <a:ext cx="5265720" cy="3630600"/>
          </a:xfrm>
          <a:prstGeom prst="rect">
            <a:avLst/>
          </a:prstGeom>
          <a:ln w="9360">
            <a:solidFill>
              <a:srgbClr val="00cc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"/>
          <p:cNvSpPr/>
          <p:nvPr/>
        </p:nvSpPr>
        <p:spPr>
          <a:xfrm>
            <a:off x="1187280" y="1916280"/>
            <a:ext cx="7344000" cy="394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cc"/>
                </a:solidFill>
                <a:latin typeface="Comic Sans MS"/>
              </a:rPr>
              <a:t>I nostri risultati lasciano presupporre che le due patologie, primitiva e secondaria, possano coesistere all’esordio della malattia con  </a:t>
            </a:r>
            <a:r>
              <a:rPr b="1" i="1" lang="it-IT" sz="2400" spc="-1" strike="noStrike">
                <a:solidFill>
                  <a:srgbClr val="0000cc"/>
                </a:solidFill>
                <a:latin typeface="Comic Sans MS"/>
              </a:rPr>
              <a:t>espressione clinica in fase successiv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cc"/>
                </a:solidFill>
                <a:latin typeface="Comic Sans MS"/>
              </a:rPr>
              <a:t>Allo scopo di precisare i parametri che permettano di diagnosticare questi linfomi simultanei ci riproponiamo di rivalutare la nostra casistica anche dal punto di vista immunofenotip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3352680" y="380880"/>
            <a:ext cx="24386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>
                <a:solidFill>
                  <a:srgbClr val="ffffff"/>
                </a:solidFill>
                <a:latin typeface="Comic Sans MS"/>
              </a:rPr>
              <a:t>Conclusioni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/>
          <p:nvPr/>
        </p:nvSpPr>
        <p:spPr>
          <a:xfrm>
            <a:off x="3054240" y="380880"/>
            <a:ext cx="304812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>
                <a:solidFill>
                  <a:srgbClr val="ffffff"/>
                </a:solidFill>
                <a:latin typeface="Comic Sans MS"/>
              </a:rPr>
              <a:t>Ringraziamen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0" y="15238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Arial"/>
              </a:rPr>
              <a:t>Dr.ssa Sandra Santucci, Prof. Pier Luigi Zinzani, Prof. Michele Baccarani</a:t>
            </a:r>
            <a:r>
              <a:rPr b="0" lang="it-IT" sz="1800" spc="-1" strike="noStrike">
                <a:solidFill>
                  <a:srgbClr val="ffff00"/>
                </a:solidFill>
                <a:latin typeface="Arial"/>
              </a:rPr>
              <a:t> - Istituto di Ematologia e Oncologia Medica “Seragnoli”, Università di Bolog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0" y="533412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Arial"/>
              </a:rPr>
              <a:t>Prof. Stefano Pileri, Dr.ssa Cristina Campidelli, Dr.ssa Simona Righi, Dr.ssa Patrizia Artioli</a:t>
            </a:r>
            <a:r>
              <a:rPr b="0" lang="it-IT" sz="1800" spc="-1" strike="noStrike">
                <a:solidFill>
                  <a:srgbClr val="ffff00"/>
                </a:solidFill>
                <a:latin typeface="Arial"/>
              </a:rPr>
              <a:t> - Istituto di Ematologia e Oncologia Medica “Seragnoli”, Unitò Operativa di Emolinfopatologia, Università di Bolog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0" y="25146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Arial"/>
              </a:rPr>
              <a:t>Dr. Massimo Serra, Dr.ssa Claudia Maria Hattinger</a:t>
            </a:r>
            <a:r>
              <a:rPr b="0" lang="it-IT" sz="1800" spc="-1" strike="noStrike">
                <a:solidFill>
                  <a:srgbClr val="ffff00"/>
                </a:solidFill>
                <a:latin typeface="Arial"/>
              </a:rPr>
              <a:t> - Laboratorio di Ricerc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00"/>
                </a:solidFill>
                <a:latin typeface="Arial"/>
              </a:rPr>
              <a:t>Oncologica, Istituti Ortopedici Rizzoli, Bologn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0" y="35053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Arial"/>
              </a:rPr>
              <a:t>Prof. Gastone Castellani, Dr. Daniel Remondini</a:t>
            </a:r>
            <a:r>
              <a:rPr b="0" lang="it-IT" sz="1800" spc="-1" strike="noStrike">
                <a:solidFill>
                  <a:srgbClr val="ffff00"/>
                </a:solidFill>
                <a:latin typeface="Arial"/>
              </a:rPr>
              <a:t> - Unità di Biostatistica de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00"/>
                </a:solidFill>
                <a:latin typeface="Arial"/>
              </a:rPr>
              <a:t>Dipartimento di Fisica, Università di Bolog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0" y="44956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Arial"/>
              </a:rPr>
              <a:t>Prof. Annalisa Pession, Dr. Luca Morandi</a:t>
            </a:r>
            <a:r>
              <a:rPr b="0" lang="it-IT" sz="1800" spc="-1" strike="noStrike">
                <a:solidFill>
                  <a:srgbClr val="ffff00"/>
                </a:solidFill>
                <a:latin typeface="Arial"/>
              </a:rPr>
              <a:t> - Divisione di Anatomia Patologica, Ospedale Bellaria, Bolog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3" name="" descr=""/>
          <p:cNvPicPr/>
          <p:nvPr/>
        </p:nvPicPr>
        <p:blipFill>
          <a:blip r:embed="rId2"/>
          <a:srcRect l="0" t="0" r="0" b="9325"/>
          <a:stretch/>
        </p:blipFill>
        <p:spPr>
          <a:xfrm>
            <a:off x="826920" y="1314360"/>
            <a:ext cx="8018640" cy="4786560"/>
          </a:xfrm>
          <a:prstGeom prst="rect">
            <a:avLst/>
          </a:prstGeom>
          <a:ln w="9360">
            <a:solidFill>
              <a:srgbClr val="00cc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523880" y="914400"/>
            <a:ext cx="624852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ffffff"/>
                </a:solidFill>
                <a:latin typeface="Comic Sans MS"/>
              </a:rPr>
              <a:t>Obiettivo della ricer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87280" y="2349360"/>
            <a:ext cx="722340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Comic Sans MS"/>
              </a:rPr>
              <a:t>Due doman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99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ffff00"/>
                </a:solidFill>
                <a:latin typeface="Comic Sans MS"/>
              </a:rPr>
              <a:t>i LNH</a:t>
            </a:r>
            <a:r>
              <a:rPr b="0" lang="it-IT" sz="2400" spc="-1" strike="noStrike">
                <a:solidFill>
                  <a:srgbClr val="ffff00"/>
                </a:solidFill>
                <a:latin typeface="Comic Sans MS"/>
              </a:rPr>
              <a:t> secondari originano da un progenitore normale geneticamente instabile diverso da quello che ha originato il LH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99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ffff00"/>
                </a:solidFill>
                <a:latin typeface="Comic Sans MS"/>
              </a:rPr>
              <a:t>i LNH</a:t>
            </a:r>
            <a:r>
              <a:rPr b="0" lang="it-IT" sz="2400" spc="-1" strike="noStrike">
                <a:solidFill>
                  <a:srgbClr val="ffff00"/>
                </a:solidFill>
                <a:latin typeface="Comic Sans MS"/>
              </a:rPr>
              <a:t>  secondari </a:t>
            </a:r>
            <a:r>
              <a:rPr b="1" i="1" lang="it-IT" sz="2400" spc="-1" strike="noStrike">
                <a:solidFill>
                  <a:srgbClr val="ffff00"/>
                </a:solidFill>
                <a:latin typeface="Comic Sans MS"/>
              </a:rPr>
              <a:t>rappresentano l’evoluzione di un progenitore comune trasformato che si esprime clinicamente in fase successiv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1187280" y="1700280"/>
            <a:ext cx="7058160" cy="4314600"/>
          </a:xfrm>
          <a:prstGeom prst="rect">
            <a:avLst/>
          </a:prstGeom>
          <a:ln w="9360">
            <a:solidFill>
              <a:srgbClr val="00cc99"/>
            </a:solidFill>
            <a:miter/>
          </a:ln>
        </p:spPr>
      </p:pic>
      <p:sp>
        <p:nvSpPr>
          <p:cNvPr id="62" name=""/>
          <p:cNvSpPr/>
          <p:nvPr/>
        </p:nvSpPr>
        <p:spPr>
          <a:xfrm>
            <a:off x="1619280" y="549360"/>
            <a:ext cx="624852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ffffff"/>
                </a:solidFill>
                <a:latin typeface="Comic Sans MS"/>
              </a:rPr>
              <a:t>Stadi di sviluppo del linfocita B e corrispondente linfo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258920" y="1684440"/>
            <a:ext cx="7885080" cy="3050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Comic Sans MS"/>
              </a:rPr>
              <a:t>Studio </a:t>
            </a:r>
            <a:r>
              <a:rPr b="0" i="1" lang="it-IT" sz="2400" spc="-1" strike="noStrike" u="sng">
                <a:solidFill>
                  <a:srgbClr val="ffff00"/>
                </a:solidFill>
                <a:uFillTx/>
                <a:latin typeface="Comic Sans MS"/>
              </a:rPr>
              <a:t>retrospettivo</a:t>
            </a:r>
            <a:r>
              <a:rPr b="0" lang="it-IT" sz="2400" spc="-1" strike="noStrike">
                <a:solidFill>
                  <a:srgbClr val="ffff00"/>
                </a:solidFill>
                <a:latin typeface="Comic Sans MS"/>
              </a:rPr>
              <a:t>  nei pazienti con LH pregresso che hanno sviluppato LNH come tumore secondari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it-IT" sz="2400" spc="-1" strike="noStrike">
                <a:solidFill>
                  <a:srgbClr val="ffff00"/>
                </a:solidFill>
                <a:latin typeface="Comic Sans MS"/>
              </a:rPr>
              <a:t>Materiale reperito        15/21 pa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it-IT" sz="2400" spc="-1" strike="noStrike">
                <a:solidFill>
                  <a:srgbClr val="ffff00"/>
                </a:solidFill>
                <a:latin typeface="Comic Sans MS"/>
              </a:rPr>
              <a:t>Materiale idoneo per lo studio su entrambe 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Comic Sans MS"/>
              </a:rPr>
              <a:t>   </a:t>
            </a:r>
            <a:r>
              <a:rPr b="0" lang="it-IT" sz="2400" spc="-1" strike="noStrike">
                <a:solidFill>
                  <a:srgbClr val="ffff00"/>
                </a:solidFill>
                <a:latin typeface="Comic Sans MS"/>
              </a:rPr>
              <a:t>biopsie        10/15  pa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332000" y="5084640"/>
            <a:ext cx="65530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cc"/>
                </a:solidFill>
                <a:latin typeface="Comic Sans MS"/>
              </a:rPr>
              <a:t>3 pazienti attualmente viventi, 7 deceduti</a:t>
            </a:r>
            <a:r>
              <a:rPr b="1" lang="it-IT" sz="24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343160" y="5151600"/>
            <a:ext cx="349200" cy="365040"/>
          </a:xfrm>
          <a:prstGeom prst="ellipse">
            <a:avLst/>
          </a:prstGeom>
          <a:noFill/>
          <a:ln w="2232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914400" y="822240"/>
            <a:ext cx="73152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i="1" lang="it-IT" sz="2800" spc="-1" strike="noStrike">
                <a:solidFill>
                  <a:srgbClr val="ffffff"/>
                </a:solidFill>
                <a:latin typeface="Comic Sans MS"/>
              </a:rPr>
              <a:t>Disegno sperimenta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356000" y="3357720"/>
            <a:ext cx="432000" cy="71280"/>
          </a:xfrm>
          <a:prstGeom prst="rightArrow">
            <a:avLst>
              <a:gd name="adj1" fmla="val 50000"/>
              <a:gd name="adj2" fmla="val 151515"/>
            </a:avLst>
          </a:prstGeom>
          <a:solidFill>
            <a:srgbClr val="00cc99"/>
          </a:solidFill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71640" y="4437000"/>
            <a:ext cx="432000" cy="71640"/>
          </a:xfrm>
          <a:prstGeom prst="rightArrow">
            <a:avLst>
              <a:gd name="adj1" fmla="val 50000"/>
              <a:gd name="adj2" fmla="val 150754"/>
            </a:avLst>
          </a:prstGeom>
          <a:solidFill>
            <a:srgbClr val="00cc99"/>
          </a:solidFill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7308720" y="5516640"/>
            <a:ext cx="9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an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1258920" y="333360"/>
          <a:ext cx="7811640" cy="5781600"/>
        </p:xfrm>
        <a:graphic>
          <a:graphicData uri="http://schemas.openxmlformats.org/drawingml/2006/table">
            <a:tbl>
              <a:tblPr/>
              <a:tblGrid>
                <a:gridCol w="1599840"/>
                <a:gridCol w="1533240"/>
                <a:gridCol w="1166040"/>
                <a:gridCol w="1170720"/>
                <a:gridCol w="1172520"/>
                <a:gridCol w="1169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ziente 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ziente 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ziente 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ziente 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ziente 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a di nasci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/02/196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/12/194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/03/196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/04/196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/03/196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a I diagnos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/05/199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/04/197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/01/19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/05/199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/10/198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116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assificazio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stologica e stadio clinico alla diagnos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cleronodul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adio IIIA Bulky mediastinic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cleronodul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adio IV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cleronodul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adio IV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cleronodul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adio II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cleronodul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adio III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1006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hemioterap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 cicli MOPP/ABVD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E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 cicl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PP/ABV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 cicl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PP/ABVD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EP+IE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cicli ABV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 2 cicli MOPP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BM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cicl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PP/ABV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 EDX, Velbe, BCNU+6 cicli CE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adioterap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llo, mediastin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ntellare 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ediastini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arra L-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ediastino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ovraclav., lomboaort.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ilz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a II diagnos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8/01/199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5/03/19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/10/199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/06/199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9/01/199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NH classificazio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stologica e stadio clinico alla diagnos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N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LC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odgkin-relat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LC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odgkin-relat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LC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H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rap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b terap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cicli IEV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cicli CEP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sito clinic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†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/04/199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†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missio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missio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†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/02/199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</a:tbl>
          </a:graphicData>
        </a:graphic>
      </p:graphicFrame>
      <p:sp>
        <p:nvSpPr>
          <p:cNvPr id="71" name=""/>
          <p:cNvSpPr/>
          <p:nvPr/>
        </p:nvSpPr>
        <p:spPr>
          <a:xfrm>
            <a:off x="179280" y="6237360"/>
            <a:ext cx="878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Comic Sans MS"/>
              </a:rPr>
              <a:t>Anni                             </a:t>
            </a:r>
            <a:r>
              <a:rPr b="0" lang="it-IT" sz="1800" spc="-1" strike="noStrike">
                <a:solidFill>
                  <a:srgbClr val="ffff00"/>
                </a:solidFill>
                <a:latin typeface="Comic Sans MS"/>
              </a:rPr>
              <a:t>12                11              4                1              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79280" y="6356520"/>
            <a:ext cx="878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Comic Sans MS"/>
              </a:rPr>
              <a:t>Anni                          </a:t>
            </a:r>
            <a:r>
              <a:rPr b="0" lang="it-IT" sz="1800" spc="-1" strike="noStrike">
                <a:solidFill>
                  <a:srgbClr val="ffff00"/>
                </a:solidFill>
                <a:latin typeface="Comic Sans MS"/>
              </a:rPr>
              <a:t>16                10              15                2              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1295280" y="420840"/>
          <a:ext cx="7740720" cy="5816520"/>
        </p:xfrm>
        <a:graphic>
          <a:graphicData uri="http://schemas.openxmlformats.org/drawingml/2006/table">
            <a:tbl>
              <a:tblPr/>
              <a:tblGrid>
                <a:gridCol w="1633680"/>
                <a:gridCol w="1222200"/>
                <a:gridCol w="1220760"/>
                <a:gridCol w="1220760"/>
                <a:gridCol w="1222560"/>
                <a:gridCol w="122076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ziente 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ziente 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ziente 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ziente 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ziente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a di nasci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/12/196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/04/19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/10/19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8/08/196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a di I diagnos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/06/198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/11/198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/11/198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/12/198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/12/198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1006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L classificazio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stologica e stadio clinico alla diagnos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cleronodulare, stadio 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cleronodulare, stadio I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ulky mediastinic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cleronodulare, stadio 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cleronodulare, stadio II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ellularità mis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adio III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649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hemioterap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cicl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PP/MVP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ABV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 cicl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PP/ABVD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P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adioterap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scella e regione costale d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T 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ub-totale-noda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a di II diagnos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/02/2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/05/199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/05/19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/12/199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/11/199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NH classificazio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stologica e stadio clinico alla diagnos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N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LCL CD30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adio I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N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adio IV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LC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rap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ELBE/EDX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TULAN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T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cicli CE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ssuna terap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COP-B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sito clinic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†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/01/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†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/02/9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†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/03/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missio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†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/03/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"/>
          <p:cNvGraphicFramePr/>
          <p:nvPr/>
        </p:nvGraphicFramePr>
        <p:xfrm>
          <a:off x="804960" y="1557360"/>
          <a:ext cx="7943760" cy="4691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04960" y="1557360"/>
                    <a:ext cx="7943760" cy="4691160"/>
                  </a:xfrm>
                  <a:prstGeom prst="rect">
                    <a:avLst/>
                  </a:prstGeom>
                  <a:ln w="9360">
                    <a:solidFill>
                      <a:srgbClr val="00cc99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6" name=""/>
          <p:cNvSpPr/>
          <p:nvPr/>
        </p:nvSpPr>
        <p:spPr>
          <a:xfrm>
            <a:off x="7308720" y="5516640"/>
            <a:ext cx="9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an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17520" y="404640"/>
            <a:ext cx="731520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ffffff"/>
                </a:solidFill>
                <a:latin typeface="Comic Sans MS"/>
              </a:rPr>
              <a:t>Trend all’insorgenza più precoce nei pz. più pesantemente tratta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324000" y="129528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00"/>
                </a:solidFill>
                <a:latin typeface="Comic Sans MS"/>
              </a:rPr>
              <a:t>Abbiamo applicato due metodiche di biologia molecolare ai 10 pazienti al momento della diagnosi di LH e LN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098800" y="4869000"/>
            <a:ext cx="596376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it-IT" sz="2400" spc="-1" strike="noStrike">
                <a:solidFill>
                  <a:srgbClr val="0000cc"/>
                </a:solidFill>
                <a:latin typeface="Comic Sans MS"/>
              </a:rPr>
              <a:t>Analisi di clonalità a partire dal DN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cc"/>
                </a:solidFill>
                <a:latin typeface="Comic Sans MS"/>
              </a:rPr>
              <a:t>in ogni singolo paz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258920" y="2852640"/>
            <a:ext cx="680076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it-IT" sz="2400" spc="-1" strike="noStrike">
                <a:solidFill>
                  <a:srgbClr val="0000cc"/>
                </a:solidFill>
                <a:latin typeface="Comic Sans MS"/>
              </a:rPr>
              <a:t>Confronto dei genomi mediante metodic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cc"/>
                </a:solidFill>
                <a:latin typeface="Comic Sans MS"/>
              </a:rPr>
              <a:t>di Comparative Genomic Hybridization (CGH) microarray a D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187280" y="404640"/>
            <a:ext cx="73152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i="1" lang="it-IT" sz="2800" spc="-1" strike="noStrike">
                <a:solidFill>
                  <a:srgbClr val="ffffff"/>
                </a:solidFill>
                <a:latin typeface="Comic Sans MS"/>
              </a:rPr>
              <a:t>Disegno sperimenta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8T09:43:27Z</dcterms:created>
  <dc:creator>malessandra.santucci</dc:creator>
  <dc:description/>
  <dc:language>en-US</dc:language>
  <cp:lastModifiedBy> </cp:lastModifiedBy>
  <dcterms:modified xsi:type="dcterms:W3CDTF">2008-07-05T06:03:29Z</dcterms:modified>
  <cp:revision>67</cp:revision>
  <dc:subject/>
  <dc:title>Nessun titolo diapositiva</dc:title>
</cp:coreProperties>
</file>