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158-EBFC-42D4-8361-C9B1A4D3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434-23EE-4399-9605-E8F80A04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D2D-62CA-4F4A-90DA-5E616058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539-5D34-4B3A-A094-43CF2C64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76A-49EE-4EAB-A49C-CEAD02A7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46D-C821-4FFA-904A-4842DEFF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18C-3A91-48DA-99A9-968FB74D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564-3EF2-4A4E-8D59-EC8F8436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D8E-ABC9-4562-95D8-227D20A1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0E2-B4C8-4F0E-B029-E7840CFA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77C-AD8D-4137-BE5B-E7272227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9A2-A39C-453D-9165-B3D69F91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901A-21A0-471D-94BC-BCC49A2E8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4762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Radiosensitizing potential of small organic molecules toward hypoxic tumour cells in the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58972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F. Minutolo, L. Fatigante, F. Pasqualetti, S. Romeo,S. Bertini, M. Gambini, C. Granchi, M. Macchia, V. Mey, S. Ricciardi, R. Danesi, M. Del Tacca, L. Cioni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801720" y="1633680"/>
            <a:ext cx="7556760" cy="4656240"/>
            <a:chOff x="801720" y="1633680"/>
            <a:chExt cx="7556760" cy="4656240"/>
          </a:xfrm>
        </p:grpSpPr>
        <p:grpSp>
          <p:nvGrpSpPr>
            <p:cNvPr id="755" name=""/>
            <p:cNvGrpSpPr/>
            <p:nvPr/>
          </p:nvGrpSpPr>
          <p:grpSpPr>
            <a:xfrm>
              <a:off x="1538280" y="2292480"/>
              <a:ext cx="2322360" cy="1798560"/>
              <a:chOff x="1538280" y="2292480"/>
              <a:chExt cx="2322360" cy="1798560"/>
            </a:xfrm>
          </p:grpSpPr>
          <p:sp>
            <p:nvSpPr>
              <p:cNvPr id="756" name=""/>
              <p:cNvSpPr/>
              <p:nvPr/>
            </p:nvSpPr>
            <p:spPr>
              <a:xfrm>
                <a:off x="3824280" y="4062240"/>
                <a:ext cx="1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05200" y="364968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448000" y="3119400"/>
                <a:ext cx="1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987560" y="252900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74640" y="2560680"/>
                <a:ext cx="1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1" name=""/>
              <p:cNvGrpSpPr/>
              <p:nvPr/>
            </p:nvGrpSpPr>
            <p:grpSpPr>
              <a:xfrm>
                <a:off x="3787920" y="4025880"/>
                <a:ext cx="64800" cy="65160"/>
                <a:chOff x="3787920" y="4025880"/>
                <a:chExt cx="64800" cy="651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3787920" y="4025880"/>
                  <a:ext cx="64800" cy="65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787920" y="4025880"/>
                  <a:ext cx="64800" cy="65160"/>
                </a:xfrm>
                <a:prstGeom prst="rect">
                  <a:avLst/>
                </a:prstGeom>
                <a:noFill/>
                <a:ln cap="rnd"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2868480" y="3613320"/>
                <a:ext cx="65160" cy="64800"/>
                <a:chOff x="2868480" y="3613320"/>
                <a:chExt cx="65160" cy="6480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2868480" y="3613320"/>
                  <a:ext cx="65160" cy="64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868480" y="3613320"/>
                  <a:ext cx="65160" cy="64800"/>
                </a:xfrm>
                <a:prstGeom prst="rect">
                  <a:avLst/>
                </a:prstGeom>
                <a:noFill/>
                <a:ln cap="rnd"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2409840" y="3083040"/>
                <a:ext cx="66600" cy="64800"/>
                <a:chOff x="2409840" y="3083040"/>
                <a:chExt cx="66600" cy="648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2409840" y="3083040"/>
                  <a:ext cx="66600" cy="64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2409840" y="3083040"/>
                  <a:ext cx="66600" cy="64800"/>
                </a:xfrm>
                <a:prstGeom prst="rect">
                  <a:avLst/>
                </a:prstGeom>
                <a:noFill/>
                <a:ln cap="rnd"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1951200" y="2492280"/>
                <a:ext cx="66600" cy="66600"/>
                <a:chOff x="1951200" y="2492280"/>
                <a:chExt cx="66600" cy="6660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1951200" y="2492280"/>
                  <a:ext cx="66600" cy="66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951200" y="2492280"/>
                  <a:ext cx="66600" cy="66600"/>
                </a:xfrm>
                <a:prstGeom prst="rect">
                  <a:avLst/>
                </a:prstGeom>
                <a:noFill/>
                <a:ln cap="rnd"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1538280" y="2523960"/>
                <a:ext cx="65160" cy="65160"/>
                <a:chOff x="1538280" y="2523960"/>
                <a:chExt cx="65160" cy="6516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1538280" y="2523960"/>
                  <a:ext cx="65160" cy="65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538280" y="2523960"/>
                  <a:ext cx="65160" cy="65160"/>
                </a:xfrm>
                <a:prstGeom prst="rect">
                  <a:avLst/>
                </a:prstGeom>
                <a:noFill/>
                <a:ln cap="rnd"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"/>
              <p:cNvSpPr/>
              <p:nvPr/>
            </p:nvSpPr>
            <p:spPr>
              <a:xfrm>
                <a:off x="1574640" y="2502000"/>
                <a:ext cx="144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89040" y="2503440"/>
                <a:ext cx="14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603440" y="2506680"/>
                <a:ext cx="1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619280" y="2508120"/>
                <a:ext cx="15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635120" y="2511360"/>
                <a:ext cx="144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649520" y="2513160"/>
                <a:ext cx="158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665360" y="2516040"/>
                <a:ext cx="15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81200" y="2519280"/>
                <a:ext cx="126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693800" y="2522520"/>
                <a:ext cx="15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9640" y="2525760"/>
                <a:ext cx="15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25480" y="2529000"/>
                <a:ext cx="14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39880" y="2532240"/>
                <a:ext cx="158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55720" y="2535120"/>
                <a:ext cx="1584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71560" y="2540160"/>
                <a:ext cx="144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85960" y="2544840"/>
                <a:ext cx="14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800360" y="2548080"/>
                <a:ext cx="1404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814400" y="2552760"/>
                <a:ext cx="1584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830240" y="2558880"/>
                <a:ext cx="1620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846440" y="2563920"/>
                <a:ext cx="1404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860480" y="2568600"/>
                <a:ext cx="1584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876320" y="2573280"/>
                <a:ext cx="1584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892160" y="2579760"/>
                <a:ext cx="144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906560" y="2585880"/>
                <a:ext cx="14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20960" y="2592360"/>
                <a:ext cx="1584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936800" y="2598840"/>
                <a:ext cx="14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951200" y="2606760"/>
                <a:ext cx="1584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67040" y="2612880"/>
                <a:ext cx="1584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982880" y="2620800"/>
                <a:ext cx="140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996920" y="2629080"/>
                <a:ext cx="16200" cy="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013120" y="2638440"/>
                <a:ext cx="1404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027160" y="2646360"/>
                <a:ext cx="14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041560" y="2654280"/>
                <a:ext cx="15840" cy="1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057400" y="2665440"/>
                <a:ext cx="14400" cy="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071800" y="2674800"/>
                <a:ext cx="15840" cy="1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87640" y="2685960"/>
                <a:ext cx="15840" cy="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103480" y="2695680"/>
                <a:ext cx="14400" cy="1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117880" y="2706840"/>
                <a:ext cx="158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133720" y="2719440"/>
                <a:ext cx="140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147760" y="2732040"/>
                <a:ext cx="14400" cy="1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162160" y="2743200"/>
                <a:ext cx="15840" cy="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178000" y="2757600"/>
                <a:ext cx="158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193840" y="2770200"/>
                <a:ext cx="1440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208240" y="2782800"/>
                <a:ext cx="1584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24080" y="2798640"/>
                <a:ext cx="1584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239920" y="2814480"/>
                <a:ext cx="12600" cy="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252520" y="2828880"/>
                <a:ext cx="1584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268360" y="2844720"/>
                <a:ext cx="1440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82760" y="2860560"/>
                <a:ext cx="15840" cy="1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298600" y="2878200"/>
                <a:ext cx="15840" cy="1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14440" y="2895480"/>
                <a:ext cx="1440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328840" y="2911320"/>
                <a:ext cx="15840" cy="1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344680" y="2930400"/>
                <a:ext cx="15840" cy="1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360520" y="2948040"/>
                <a:ext cx="1296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373480" y="2968560"/>
                <a:ext cx="15840" cy="1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389320" y="2986200"/>
                <a:ext cx="1584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05160" y="3006720"/>
                <a:ext cx="14040" cy="1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419200" y="3025800"/>
                <a:ext cx="1620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435400" y="3046320"/>
                <a:ext cx="15840" cy="2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451240" y="3067200"/>
                <a:ext cx="1404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465280" y="3089160"/>
                <a:ext cx="14400" cy="1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479680" y="3108240"/>
                <a:ext cx="14400" cy="2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494080" y="3130560"/>
                <a:ext cx="15840" cy="2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509920" y="3152880"/>
                <a:ext cx="1584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525760" y="3174840"/>
                <a:ext cx="14400" cy="2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540160" y="3195720"/>
                <a:ext cx="15840" cy="2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556000" y="3219480"/>
                <a:ext cx="1584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71840" y="3240000"/>
                <a:ext cx="14040" cy="2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585880" y="3262320"/>
                <a:ext cx="14400" cy="2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600280" y="3284640"/>
                <a:ext cx="1584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616120" y="3305160"/>
                <a:ext cx="14400" cy="2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630520" y="3328920"/>
                <a:ext cx="15840" cy="2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646360" y="3349800"/>
                <a:ext cx="1584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662200" y="3371760"/>
                <a:ext cx="14400" cy="2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676600" y="3394080"/>
                <a:ext cx="15840" cy="2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692440" y="3416400"/>
                <a:ext cx="14400" cy="1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706840" y="3435480"/>
                <a:ext cx="1404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720880" y="3457440"/>
                <a:ext cx="15840" cy="2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736720" y="3478320"/>
                <a:ext cx="1440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751120" y="3498840"/>
                <a:ext cx="15840" cy="1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766960" y="3517920"/>
                <a:ext cx="1584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782800" y="3538440"/>
                <a:ext cx="14400" cy="1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797200" y="3557520"/>
                <a:ext cx="14400" cy="1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811600" y="3576600"/>
                <a:ext cx="15840" cy="1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827440" y="3594240"/>
                <a:ext cx="14040" cy="1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841480" y="3613320"/>
                <a:ext cx="16200" cy="1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857680" y="3632040"/>
                <a:ext cx="15840" cy="1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873520" y="3648240"/>
                <a:ext cx="14040" cy="1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887560" y="3665520"/>
                <a:ext cx="1584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903400" y="3681360"/>
                <a:ext cx="1440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917800" y="3697200"/>
                <a:ext cx="1440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932200" y="3713040"/>
                <a:ext cx="15840" cy="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948040" y="3727440"/>
                <a:ext cx="1440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962440" y="3743280"/>
                <a:ext cx="158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978280" y="3755880"/>
                <a:ext cx="15840" cy="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994120" y="3770280"/>
                <a:ext cx="140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008160" y="3782880"/>
                <a:ext cx="16200" cy="1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24360" y="3795840"/>
                <a:ext cx="14040" cy="1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038400" y="3807000"/>
                <a:ext cx="1440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052800" y="3819600"/>
                <a:ext cx="15840" cy="1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068640" y="3830760"/>
                <a:ext cx="15840" cy="1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084480" y="3841920"/>
                <a:ext cx="14400" cy="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98880" y="3851280"/>
                <a:ext cx="15840" cy="1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114720" y="3862440"/>
                <a:ext cx="15840" cy="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130560" y="3871800"/>
                <a:ext cx="14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144960" y="3879720"/>
                <a:ext cx="14040" cy="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159000" y="3889440"/>
                <a:ext cx="14400" cy="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173400" y="3898800"/>
                <a:ext cx="1584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189240" y="3906720"/>
                <a:ext cx="1584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205080" y="3914640"/>
                <a:ext cx="14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219480" y="3921120"/>
                <a:ext cx="1584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235320" y="3927600"/>
                <a:ext cx="1584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251160" y="3935520"/>
                <a:ext cx="126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263760" y="3941640"/>
                <a:ext cx="1584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79600" y="3948120"/>
                <a:ext cx="162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295800" y="3954600"/>
                <a:ext cx="1404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09840" y="3959280"/>
                <a:ext cx="1584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325680" y="3963960"/>
                <a:ext cx="1584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341520" y="3970440"/>
                <a:ext cx="144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55920" y="3975120"/>
                <a:ext cx="1584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371760" y="3979800"/>
                <a:ext cx="129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384720" y="3984480"/>
                <a:ext cx="15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400560" y="3987720"/>
                <a:ext cx="1584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416400" y="3992400"/>
                <a:ext cx="1404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30440" y="3997440"/>
                <a:ext cx="16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446640" y="3998880"/>
                <a:ext cx="15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462480" y="4002120"/>
                <a:ext cx="140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476520" y="4005360"/>
                <a:ext cx="14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90920" y="4008600"/>
                <a:ext cx="158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506760" y="4011480"/>
                <a:ext cx="14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521160" y="4014720"/>
                <a:ext cx="15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537000" y="4017960"/>
                <a:ext cx="1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552840" y="4019400"/>
                <a:ext cx="14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567240" y="4022640"/>
                <a:ext cx="15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583080" y="4024440"/>
                <a:ext cx="140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597120" y="4027320"/>
                <a:ext cx="144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611520" y="4029120"/>
                <a:ext cx="1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627360" y="4030560"/>
                <a:ext cx="14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641760" y="4033800"/>
                <a:ext cx="15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657600" y="4035600"/>
                <a:ext cx="1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673440" y="4037040"/>
                <a:ext cx="144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687840" y="4038480"/>
                <a:ext cx="15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03680" y="4040280"/>
                <a:ext cx="144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18080" y="4040280"/>
                <a:ext cx="140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32120" y="4041720"/>
                <a:ext cx="15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47960" y="4043520"/>
                <a:ext cx="1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63800" y="4043520"/>
                <a:ext cx="144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78200" y="4044960"/>
                <a:ext cx="1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4040" y="4046400"/>
                <a:ext cx="15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09880" y="4046400"/>
                <a:ext cx="144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4280" y="3879720"/>
                <a:ext cx="1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905200" y="353700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448000" y="319104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987560" y="2500200"/>
                <a:ext cx="1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574640" y="2328840"/>
                <a:ext cx="1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3787920" y="3843360"/>
                <a:ext cx="72720" cy="74520"/>
                <a:chOff x="3787920" y="3843360"/>
                <a:chExt cx="72720" cy="7452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3787920" y="3843360"/>
                  <a:ext cx="7272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3787920" y="3843360"/>
                  <a:ext cx="7272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2868480" y="3500280"/>
                <a:ext cx="73080" cy="73080"/>
                <a:chOff x="2868480" y="3500280"/>
                <a:chExt cx="73080" cy="7308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2868480" y="3500280"/>
                  <a:ext cx="73080" cy="7308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868480" y="3500280"/>
                  <a:ext cx="73080" cy="7308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2409840" y="3154320"/>
                <a:ext cx="74520" cy="73080"/>
                <a:chOff x="2409840" y="3154320"/>
                <a:chExt cx="74520" cy="7308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2409840" y="3154320"/>
                  <a:ext cx="74520" cy="73080"/>
                </a:xfrm>
                <a:custGeom>
                  <a:avLst/>
                  <a:gdLst/>
                  <a:ahLst/>
                  <a:rect l="l" t="t" r="r" b="b"/>
                  <a:pathLst>
                    <a:path w="47" h="46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24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2409840" y="3154320"/>
                  <a:ext cx="74520" cy="73080"/>
                </a:xfrm>
                <a:custGeom>
                  <a:avLst/>
                  <a:gdLst/>
                  <a:ahLst/>
                  <a:rect l="l" t="t" r="r" b="b"/>
                  <a:pathLst>
                    <a:path w="47" h="46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24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1951200" y="2463840"/>
                <a:ext cx="74520" cy="73080"/>
                <a:chOff x="1951200" y="2463840"/>
                <a:chExt cx="74520" cy="7308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1951200" y="2463840"/>
                  <a:ext cx="74520" cy="73080"/>
                </a:xfrm>
                <a:custGeom>
                  <a:avLst/>
                  <a:gdLst/>
                  <a:ahLst/>
                  <a:rect l="l" t="t" r="r" b="b"/>
                  <a:pathLst>
                    <a:path w="47" h="46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1951200" y="2463840"/>
                  <a:ext cx="74520" cy="73080"/>
                </a:xfrm>
                <a:custGeom>
                  <a:avLst/>
                  <a:gdLst/>
                  <a:ahLst/>
                  <a:rect l="l" t="t" r="r" b="b"/>
                  <a:pathLst>
                    <a:path w="47" h="46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1538280" y="2292480"/>
                <a:ext cx="73080" cy="72720"/>
                <a:chOff x="1538280" y="2292480"/>
                <a:chExt cx="73080" cy="727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1538280" y="229248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538280" y="229248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1574640" y="2298600"/>
                <a:ext cx="14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589040" y="2305080"/>
                <a:ext cx="14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603440" y="2311560"/>
                <a:ext cx="1584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619280" y="2317680"/>
                <a:ext cx="1584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635120" y="2324160"/>
                <a:ext cx="144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649520" y="2330280"/>
                <a:ext cx="158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665360" y="2338560"/>
                <a:ext cx="1584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681200" y="2346480"/>
                <a:ext cx="12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93800" y="2354400"/>
                <a:ext cx="1584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709640" y="2362320"/>
                <a:ext cx="1584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725480" y="2368440"/>
                <a:ext cx="14400" cy="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739880" y="2378160"/>
                <a:ext cx="15840" cy="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755720" y="2387520"/>
                <a:ext cx="15840" cy="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771560" y="2397240"/>
                <a:ext cx="14400" cy="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785960" y="2406600"/>
                <a:ext cx="14400" cy="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800360" y="2416320"/>
                <a:ext cx="14040" cy="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814400" y="2425680"/>
                <a:ext cx="15840" cy="1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830240" y="2436840"/>
                <a:ext cx="16200" cy="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846440" y="2446200"/>
                <a:ext cx="14040" cy="1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860480" y="2459160"/>
                <a:ext cx="15840" cy="1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876320" y="2470320"/>
                <a:ext cx="158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892160" y="2482920"/>
                <a:ext cx="14400" cy="1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906560" y="2494080"/>
                <a:ext cx="14400" cy="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920960" y="2508120"/>
                <a:ext cx="15840" cy="1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936800" y="2521080"/>
                <a:ext cx="1440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951200" y="2533680"/>
                <a:ext cx="15840" cy="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967040" y="2548080"/>
                <a:ext cx="15840" cy="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982880" y="2562120"/>
                <a:ext cx="14040" cy="1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996920" y="2575080"/>
                <a:ext cx="1620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013120" y="2590920"/>
                <a:ext cx="1404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5" name=""/>
            <p:cNvSpPr/>
            <p:nvPr/>
          </p:nvSpPr>
          <p:spPr>
            <a:xfrm>
              <a:off x="2027160" y="2606760"/>
              <a:ext cx="1440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041560" y="2620800"/>
              <a:ext cx="15840" cy="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057400" y="263700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071800" y="2652840"/>
              <a:ext cx="158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87640" y="267012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103480" y="2685960"/>
              <a:ext cx="144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117880" y="2703600"/>
              <a:ext cx="158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33720" y="2720880"/>
              <a:ext cx="140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47760" y="273672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62160" y="275580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78000" y="277344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3840" y="279252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208240" y="2811600"/>
              <a:ext cx="158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24080" y="282888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39920" y="2849400"/>
              <a:ext cx="126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52520" y="286704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68360" y="288756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82760" y="2906640"/>
              <a:ext cx="15840" cy="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298600" y="2927520"/>
              <a:ext cx="158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14440" y="2944800"/>
              <a:ext cx="1440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328840" y="296532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44680" y="2984400"/>
              <a:ext cx="15840" cy="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60520" y="3005280"/>
              <a:ext cx="1296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73480" y="302436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9320" y="304488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05160" y="3063960"/>
              <a:ext cx="140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19200" y="3084480"/>
              <a:ext cx="162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35400" y="310356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51240" y="3124080"/>
              <a:ext cx="140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65280" y="314316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79680" y="316224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94080" y="318132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09920" y="320040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25760" y="3220920"/>
              <a:ext cx="144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540160" y="323856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556000" y="3257640"/>
              <a:ext cx="158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71840" y="3274920"/>
              <a:ext cx="140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85880" y="329400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600280" y="330984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616120" y="3327480"/>
              <a:ext cx="1440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30520" y="334476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646360" y="336240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662200" y="337824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676600" y="339408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692440" y="3409920"/>
              <a:ext cx="144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06840" y="3427560"/>
              <a:ext cx="140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20880" y="344016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736720" y="3456000"/>
              <a:ext cx="1440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51120" y="3470400"/>
              <a:ext cx="1584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66960" y="3484440"/>
              <a:ext cx="1584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82800" y="3498840"/>
              <a:ext cx="1440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97200" y="3511440"/>
              <a:ext cx="1440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11600" y="3524400"/>
              <a:ext cx="1584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27440" y="3538440"/>
              <a:ext cx="140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1480" y="3549600"/>
              <a:ext cx="1620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57680" y="356220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73520" y="3573360"/>
              <a:ext cx="140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87560" y="3586320"/>
              <a:ext cx="158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3400" y="3595680"/>
              <a:ext cx="1440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17800" y="3606840"/>
              <a:ext cx="1440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32200" y="3618000"/>
              <a:ext cx="158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48040" y="3627360"/>
              <a:ext cx="14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62440" y="363528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78280" y="3646440"/>
              <a:ext cx="158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94120" y="3656160"/>
              <a:ext cx="140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08160" y="3664080"/>
              <a:ext cx="162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024360" y="3672000"/>
              <a:ext cx="140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038400" y="3679920"/>
              <a:ext cx="14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52800" y="368784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68640" y="369576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084480" y="3703680"/>
              <a:ext cx="14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098880" y="371160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114720" y="371628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130560" y="3722760"/>
              <a:ext cx="1440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144960" y="3728880"/>
              <a:ext cx="140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159000" y="3735360"/>
              <a:ext cx="144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173400" y="3741840"/>
              <a:ext cx="15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189240" y="3747960"/>
              <a:ext cx="158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05080" y="3753000"/>
              <a:ext cx="144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19480" y="375768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35320" y="376236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51160" y="3767040"/>
              <a:ext cx="1260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3760" y="377208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79600" y="3776760"/>
              <a:ext cx="16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5800" y="3781440"/>
              <a:ext cx="140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9840" y="378468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25680" y="378936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41520" y="379260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55920" y="3795840"/>
              <a:ext cx="158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71760" y="3798720"/>
              <a:ext cx="129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84720" y="380196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400560" y="380520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416400" y="3808440"/>
              <a:ext cx="140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30440" y="3811680"/>
              <a:ext cx="162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446640" y="3814920"/>
              <a:ext cx="158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62480" y="3817800"/>
              <a:ext cx="14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76520" y="381960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490920" y="382284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06760" y="382428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21160" y="382752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37000" y="382896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52840" y="383220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67240" y="383364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83080" y="3835440"/>
              <a:ext cx="1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97120" y="383544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1520" y="383688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27360" y="3840120"/>
              <a:ext cx="14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41760" y="384192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57600" y="384336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673440" y="384336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687840" y="384480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03680" y="384660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18080" y="3848040"/>
              <a:ext cx="14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732120" y="384984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747960" y="385128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763800" y="385128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778200" y="385272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794040" y="385452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09880" y="385452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531520" y="163368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#4 e rad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528920" y="4915080"/>
              <a:ext cx="27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528920" y="4915080"/>
              <a:ext cx="144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9004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987560" y="4915080"/>
              <a:ext cx="144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4904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48000" y="4915080"/>
              <a:ext cx="144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0948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906640" y="4915080"/>
              <a:ext cx="180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86812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65640" y="4915080"/>
              <a:ext cx="144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32532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824280" y="4915080"/>
              <a:ext cx="144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8576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282920" y="4915080"/>
              <a:ext cx="180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4296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1528920" y="2017800"/>
              <a:ext cx="1440" cy="289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1474920" y="491508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345680" y="4838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474920" y="4673520"/>
              <a:ext cx="54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267200" y="45990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1474920" y="443232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67200" y="43560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1474920" y="419112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267200" y="4116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1474920" y="3949560"/>
              <a:ext cx="54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267200" y="3875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1474920" y="3708360"/>
              <a:ext cx="54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267200" y="3633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1474920" y="346716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267200" y="33926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1474920" y="3224160"/>
              <a:ext cx="54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267200" y="31496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1474920" y="298296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267200" y="29084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1474920" y="274176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267200" y="26654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474920" y="2500200"/>
              <a:ext cx="54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191960" y="24256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1474920" y="225900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191960" y="21826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1474920" y="201780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191960" y="19432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2158920" y="5896080"/>
              <a:ext cx="1665720" cy="393840"/>
              <a:chOff x="2158920" y="5896080"/>
              <a:chExt cx="1665720" cy="393840"/>
            </a:xfrm>
          </p:grpSpPr>
          <p:sp>
            <p:nvSpPr>
              <p:cNvPr id="1138" name=""/>
              <p:cNvSpPr/>
              <p:nvPr/>
            </p:nvSpPr>
            <p:spPr>
              <a:xfrm>
                <a:off x="2461320" y="5896080"/>
                <a:ext cx="1363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#4+ Rdio normoss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9" name=""/>
              <p:cNvGrpSpPr/>
              <p:nvPr/>
            </p:nvGrpSpPr>
            <p:grpSpPr>
              <a:xfrm>
                <a:off x="2158920" y="5932440"/>
                <a:ext cx="65160" cy="65160"/>
                <a:chOff x="2158920" y="5932440"/>
                <a:chExt cx="65160" cy="6516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2158920" y="5932440"/>
                  <a:ext cx="65160" cy="65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2158920" y="5932440"/>
                  <a:ext cx="65160" cy="65160"/>
                </a:xfrm>
                <a:prstGeom prst="rect">
                  <a:avLst/>
                </a:prstGeom>
                <a:noFill/>
                <a:ln cap="rnd"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"/>
              <p:cNvSpPr/>
              <p:nvPr/>
            </p:nvSpPr>
            <p:spPr>
              <a:xfrm>
                <a:off x="2453760" y="6107040"/>
                <a:ext cx="1220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#4+ Radio iposs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3" name=""/>
              <p:cNvGrpSpPr/>
              <p:nvPr/>
            </p:nvGrpSpPr>
            <p:grpSpPr>
              <a:xfrm>
                <a:off x="2158920" y="6143760"/>
                <a:ext cx="73080" cy="72720"/>
                <a:chOff x="2158920" y="6143760"/>
                <a:chExt cx="73080" cy="727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2158920" y="614376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2158920" y="614376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6" name=""/>
            <p:cNvSpPr/>
            <p:nvPr/>
          </p:nvSpPr>
          <p:spPr>
            <a:xfrm>
              <a:off x="2688480" y="5191200"/>
              <a:ext cx="55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T (G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16200000">
              <a:off x="29520" y="3264480"/>
              <a:ext cx="172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% cellule sopravvissu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16200000">
              <a:off x="364320" y="3281040"/>
              <a:ext cx="142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ispetto al cont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572080" y="2314440"/>
              <a:ext cx="2325600" cy="1670040"/>
              <a:chOff x="5572080" y="2314440"/>
              <a:chExt cx="2325600" cy="1670040"/>
            </a:xfrm>
          </p:grpSpPr>
          <p:sp>
            <p:nvSpPr>
              <p:cNvPr id="1150" name=""/>
              <p:cNvSpPr/>
              <p:nvPr/>
            </p:nvSpPr>
            <p:spPr>
              <a:xfrm>
                <a:off x="7861320" y="395604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940440" y="2895480"/>
                <a:ext cx="1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81800" y="2717640"/>
                <a:ext cx="1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21360" y="254016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608800" y="260208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5" name=""/>
              <p:cNvGrpSpPr/>
              <p:nvPr/>
            </p:nvGrpSpPr>
            <p:grpSpPr>
              <a:xfrm>
                <a:off x="7824960" y="3919680"/>
                <a:ext cx="64800" cy="64800"/>
                <a:chOff x="7824960" y="3919680"/>
                <a:chExt cx="64800" cy="648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7824960" y="3919680"/>
                  <a:ext cx="64800" cy="64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824960" y="3919680"/>
                  <a:ext cx="64800" cy="64800"/>
                </a:xfrm>
                <a:prstGeom prst="rect">
                  <a:avLst/>
                </a:prstGeom>
                <a:noFill/>
                <a:ln cap="rnd"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902280" y="2859120"/>
                <a:ext cx="66960" cy="65160"/>
                <a:chOff x="6902280" y="2859120"/>
                <a:chExt cx="66960" cy="6516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902280" y="2859120"/>
                  <a:ext cx="66960" cy="65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902280" y="2859120"/>
                  <a:ext cx="66960" cy="65160"/>
                </a:xfrm>
                <a:prstGeom prst="rect">
                  <a:avLst/>
                </a:prstGeom>
                <a:noFill/>
                <a:ln cap="rnd"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6445080" y="2681280"/>
                <a:ext cx="65160" cy="65160"/>
                <a:chOff x="6445080" y="2681280"/>
                <a:chExt cx="65160" cy="6516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6445080" y="2681280"/>
                  <a:ext cx="65160" cy="65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6445080" y="2681280"/>
                  <a:ext cx="65160" cy="65160"/>
                </a:xfrm>
                <a:prstGeom prst="rect">
                  <a:avLst/>
                </a:prstGeom>
                <a:noFill/>
                <a:ln cap="rnd"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5985000" y="2503440"/>
                <a:ext cx="64800" cy="66600"/>
                <a:chOff x="5985000" y="2503440"/>
                <a:chExt cx="64800" cy="6660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5985000" y="2503440"/>
                  <a:ext cx="64800" cy="66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5985000" y="2503440"/>
                  <a:ext cx="64800" cy="66600"/>
                </a:xfrm>
                <a:prstGeom prst="rect">
                  <a:avLst/>
                </a:prstGeom>
                <a:noFill/>
                <a:ln cap="rnd"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5572080" y="2565360"/>
                <a:ext cx="65160" cy="65160"/>
                <a:chOff x="5572080" y="2565360"/>
                <a:chExt cx="65160" cy="651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5572080" y="2565360"/>
                  <a:ext cx="65160" cy="65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572080" y="2565360"/>
                  <a:ext cx="65160" cy="65160"/>
                </a:xfrm>
                <a:prstGeom prst="rect">
                  <a:avLst/>
                </a:prstGeom>
                <a:noFill/>
                <a:ln cap="rnd"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"/>
              <p:cNvSpPr/>
              <p:nvPr/>
            </p:nvSpPr>
            <p:spPr>
              <a:xfrm>
                <a:off x="5608800" y="2568600"/>
                <a:ext cx="14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622840" y="2570040"/>
                <a:ext cx="1440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637240" y="2570040"/>
                <a:ext cx="158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653080" y="2571840"/>
                <a:ext cx="158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668920" y="2571840"/>
                <a:ext cx="1440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683320" y="2573280"/>
                <a:ext cx="158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699160" y="2573280"/>
                <a:ext cx="1440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713560" y="2575080"/>
                <a:ext cx="14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727600" y="2575080"/>
                <a:ext cx="158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743440" y="2576520"/>
                <a:ext cx="1440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757840" y="2577960"/>
                <a:ext cx="158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773680" y="2577960"/>
                <a:ext cx="158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789520" y="2579760"/>
                <a:ext cx="1440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03920" y="2579760"/>
                <a:ext cx="158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819760" y="2579760"/>
                <a:ext cx="1440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834160" y="2581200"/>
                <a:ext cx="140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848200" y="2583000"/>
                <a:ext cx="1620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864400" y="2583000"/>
                <a:ext cx="158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80240" y="2584440"/>
                <a:ext cx="14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894280" y="2585880"/>
                <a:ext cx="158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2587680"/>
                <a:ext cx="158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925960" y="2589120"/>
                <a:ext cx="1440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940360" y="2590920"/>
                <a:ext cx="1440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954760" y="2592360"/>
                <a:ext cx="158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70600" y="2593800"/>
                <a:ext cx="1440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985000" y="2595600"/>
                <a:ext cx="158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000840" y="2597040"/>
                <a:ext cx="158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016680" y="2598840"/>
                <a:ext cx="1440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031080" y="2600280"/>
                <a:ext cx="158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046920" y="2602080"/>
                <a:ext cx="14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060960" y="2603520"/>
                <a:ext cx="1440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075360" y="2606760"/>
                <a:ext cx="158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091200" y="2608200"/>
                <a:ext cx="158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107040" y="2610000"/>
                <a:ext cx="14400" cy="2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121440" y="2612880"/>
                <a:ext cx="158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7280" y="2614680"/>
                <a:ext cx="158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153120" y="2616120"/>
                <a:ext cx="1440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167520" y="2619360"/>
                <a:ext cx="14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81560" y="2620800"/>
                <a:ext cx="1620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197760" y="2622600"/>
                <a:ext cx="1404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211800" y="2625840"/>
                <a:ext cx="158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227640" y="2627280"/>
                <a:ext cx="1440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242040" y="2630520"/>
                <a:ext cx="1584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257880" y="2633760"/>
                <a:ext cx="1584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273720" y="2637000"/>
                <a:ext cx="12960" cy="2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286680" y="2639880"/>
                <a:ext cx="1584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302520" y="2643120"/>
                <a:ext cx="1584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318360" y="2646360"/>
                <a:ext cx="1404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332400" y="2649600"/>
                <a:ext cx="1584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348240" y="2652840"/>
                <a:ext cx="16200" cy="2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364440" y="2655720"/>
                <a:ext cx="1404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378480" y="2660760"/>
                <a:ext cx="158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394320" y="2662200"/>
                <a:ext cx="1440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08720" y="2666880"/>
                <a:ext cx="1440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3120" y="2670120"/>
                <a:ext cx="1584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38960" y="2674800"/>
                <a:ext cx="1584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54800" y="2678040"/>
                <a:ext cx="1440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69200" y="2682720"/>
                <a:ext cx="1584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85040" y="2687760"/>
                <a:ext cx="1584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00880" y="2692440"/>
                <a:ext cx="1260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13480" y="2697120"/>
                <a:ext cx="1584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529320" y="2701800"/>
                <a:ext cx="1584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45160" y="2706840"/>
                <a:ext cx="1440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559560" y="2711520"/>
                <a:ext cx="1584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575400" y="2716200"/>
                <a:ext cx="1584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591240" y="2722680"/>
                <a:ext cx="1440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605640" y="2728800"/>
                <a:ext cx="1584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21480" y="2733840"/>
                <a:ext cx="1440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635880" y="2739960"/>
                <a:ext cx="1404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649920" y="2744640"/>
                <a:ext cx="1584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665760" y="2751120"/>
                <a:ext cx="1620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681960" y="2757600"/>
                <a:ext cx="140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696000" y="2765520"/>
                <a:ext cx="1584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711840" y="2771640"/>
                <a:ext cx="1440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726240" y="2779560"/>
                <a:ext cx="1440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740640" y="2786040"/>
                <a:ext cx="1584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756480" y="2792520"/>
                <a:ext cx="140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770520" y="2800440"/>
                <a:ext cx="16200" cy="93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786720" y="2809800"/>
                <a:ext cx="158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802560" y="2817720"/>
                <a:ext cx="140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816600" y="2825640"/>
                <a:ext cx="158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832440" y="2833560"/>
                <a:ext cx="1440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846840" y="2841480"/>
                <a:ext cx="14400" cy="97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861240" y="2851200"/>
                <a:ext cx="15840" cy="93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877080" y="2860560"/>
                <a:ext cx="158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92920" y="2868480"/>
                <a:ext cx="14400" cy="111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907320" y="2879640"/>
                <a:ext cx="15840" cy="97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923160" y="2889360"/>
                <a:ext cx="15840" cy="111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939000" y="2900520"/>
                <a:ext cx="1440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953400" y="2908440"/>
                <a:ext cx="14040" cy="10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967440" y="2919240"/>
                <a:ext cx="15840" cy="129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983280" y="2932200"/>
                <a:ext cx="14400" cy="111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997680" y="2943360"/>
                <a:ext cx="15840" cy="93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013520" y="2952720"/>
                <a:ext cx="15840" cy="12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029360" y="2965320"/>
                <a:ext cx="14400" cy="129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043760" y="2978280"/>
                <a:ext cx="15840" cy="111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059600" y="2989440"/>
                <a:ext cx="14400" cy="12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074000" y="3002040"/>
                <a:ext cx="14040" cy="12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088040" y="3014640"/>
                <a:ext cx="16200" cy="14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104240" y="3029040"/>
                <a:ext cx="15840" cy="111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120080" y="3040200"/>
                <a:ext cx="14040" cy="14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134120" y="3054240"/>
                <a:ext cx="15840" cy="14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149960" y="3068640"/>
                <a:ext cx="14400" cy="12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164360" y="3081240"/>
                <a:ext cx="15840" cy="158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180200" y="3097080"/>
                <a:ext cx="14400" cy="14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194600" y="3111480"/>
                <a:ext cx="14400" cy="14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209000" y="3125880"/>
                <a:ext cx="15840" cy="158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224840" y="3141720"/>
                <a:ext cx="15840" cy="14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240680" y="3156120"/>
                <a:ext cx="14040" cy="17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254720" y="3173400"/>
                <a:ext cx="16200" cy="158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270920" y="3189240"/>
                <a:ext cx="15840" cy="158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286760" y="3205080"/>
                <a:ext cx="12600" cy="158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299360" y="3220920"/>
                <a:ext cx="15840" cy="158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315200" y="3236760"/>
                <a:ext cx="15840" cy="190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331040" y="3255840"/>
                <a:ext cx="14400" cy="176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345440" y="3273480"/>
                <a:ext cx="15840" cy="158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361280" y="3289320"/>
                <a:ext cx="15840" cy="190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377120" y="3308400"/>
                <a:ext cx="14400" cy="17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391520" y="3325680"/>
                <a:ext cx="15840" cy="190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407360" y="3344760"/>
                <a:ext cx="14040" cy="176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421400" y="3362400"/>
                <a:ext cx="14400" cy="190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435800" y="3381480"/>
                <a:ext cx="15840" cy="17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451640" y="3398760"/>
                <a:ext cx="15840" cy="20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467480" y="3419640"/>
                <a:ext cx="14400" cy="187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481880" y="3438360"/>
                <a:ext cx="15840" cy="190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497720" y="3457440"/>
                <a:ext cx="15840" cy="20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513560" y="3478320"/>
                <a:ext cx="12600" cy="190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526160" y="3497400"/>
                <a:ext cx="16200" cy="205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542360" y="3517920"/>
                <a:ext cx="15840" cy="190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558200" y="3537000"/>
                <a:ext cx="14040" cy="223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572240" y="3559320"/>
                <a:ext cx="15840" cy="190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588080" y="3578400"/>
                <a:ext cx="16200" cy="205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604280" y="3598920"/>
                <a:ext cx="14040" cy="205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618320" y="3619440"/>
                <a:ext cx="15840" cy="223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634160" y="3641760"/>
                <a:ext cx="14400" cy="190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648560" y="3660840"/>
                <a:ext cx="14400" cy="223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662960" y="3683160"/>
                <a:ext cx="15840" cy="205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678800" y="3703680"/>
                <a:ext cx="14400" cy="205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693200" y="3724200"/>
                <a:ext cx="15840" cy="20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709040" y="3745080"/>
                <a:ext cx="15840" cy="205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724880" y="3765600"/>
                <a:ext cx="14040" cy="223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738920" y="3787920"/>
                <a:ext cx="14400" cy="205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753320" y="3808440"/>
                <a:ext cx="15840" cy="205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769160" y="3828960"/>
                <a:ext cx="14400" cy="20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783560" y="3849840"/>
                <a:ext cx="15840" cy="219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799400" y="3871800"/>
                <a:ext cx="15840" cy="20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815240" y="3892680"/>
                <a:ext cx="14400" cy="205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829640" y="3913200"/>
                <a:ext cx="15840" cy="205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845480" y="3933720"/>
                <a:ext cx="15840" cy="223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861320" y="331632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940440" y="2994120"/>
                <a:ext cx="1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481800" y="267336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021360" y="267336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608800" y="235116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4" name=""/>
              <p:cNvGrpSpPr/>
              <p:nvPr/>
            </p:nvGrpSpPr>
            <p:grpSpPr>
              <a:xfrm>
                <a:off x="7824960" y="3279600"/>
                <a:ext cx="72720" cy="74880"/>
                <a:chOff x="7824960" y="3279600"/>
                <a:chExt cx="72720" cy="7488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7824960" y="3279600"/>
                  <a:ext cx="72720" cy="7488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824960" y="3279600"/>
                  <a:ext cx="72720" cy="7488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6902280" y="2957400"/>
                <a:ext cx="74880" cy="73080"/>
                <a:chOff x="6902280" y="2957400"/>
                <a:chExt cx="74880" cy="7308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6902280" y="2957400"/>
                  <a:ext cx="74880" cy="73080"/>
                </a:xfrm>
                <a:custGeom>
                  <a:avLst/>
                  <a:gdLst/>
                  <a:ahLst/>
                  <a:rect l="l" t="t" r="r" b="b"/>
                  <a:pathLst>
                    <a:path w="47" h="46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24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6902280" y="2957400"/>
                  <a:ext cx="74880" cy="73080"/>
                </a:xfrm>
                <a:custGeom>
                  <a:avLst/>
                  <a:gdLst/>
                  <a:ahLst/>
                  <a:rect l="l" t="t" r="r" b="b"/>
                  <a:pathLst>
                    <a:path w="47" h="46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24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6445080" y="2637000"/>
                <a:ext cx="73080" cy="72720"/>
                <a:chOff x="6445080" y="2637000"/>
                <a:chExt cx="73080" cy="7272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6445080" y="263700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6445080" y="263700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5985000" y="2637000"/>
                <a:ext cx="74520" cy="72720"/>
                <a:chOff x="5985000" y="2637000"/>
                <a:chExt cx="74520" cy="7272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5985000" y="2637000"/>
                  <a:ext cx="74520" cy="72720"/>
                </a:xfrm>
                <a:custGeom>
                  <a:avLst/>
                  <a:gdLst/>
                  <a:ahLst/>
                  <a:rect l="l" t="t" r="r" b="b"/>
                  <a:pathLst>
                    <a:path w="47" h="46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5985000" y="2637000"/>
                  <a:ext cx="74520" cy="72720"/>
                </a:xfrm>
                <a:custGeom>
                  <a:avLst/>
                  <a:gdLst/>
                  <a:ahLst/>
                  <a:rect l="l" t="t" r="r" b="b"/>
                  <a:pathLst>
                    <a:path w="47" h="46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5572080" y="2314440"/>
                <a:ext cx="73080" cy="73080"/>
                <a:chOff x="5572080" y="2314440"/>
                <a:chExt cx="73080" cy="7308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5572080" y="2314440"/>
                  <a:ext cx="73080" cy="7308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5572080" y="2314440"/>
                  <a:ext cx="73080" cy="7308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9" name=""/>
              <p:cNvSpPr/>
              <p:nvPr/>
            </p:nvSpPr>
            <p:spPr>
              <a:xfrm>
                <a:off x="5608800" y="2389320"/>
                <a:ext cx="1404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622840" y="2395440"/>
                <a:ext cx="1440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637240" y="2401920"/>
                <a:ext cx="158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653080" y="2409840"/>
                <a:ext cx="1584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668920" y="2416320"/>
                <a:ext cx="1440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683320" y="2422440"/>
                <a:ext cx="1584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699160" y="2428920"/>
                <a:ext cx="1440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713560" y="2435400"/>
                <a:ext cx="140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727600" y="2443320"/>
                <a:ext cx="1584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743440" y="2449440"/>
                <a:ext cx="1440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757840" y="2457360"/>
                <a:ext cx="1584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773680" y="2462040"/>
                <a:ext cx="1584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789520" y="2468520"/>
                <a:ext cx="1440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03920" y="2476440"/>
                <a:ext cx="1584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819760" y="2482920"/>
                <a:ext cx="1440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834160" y="2489040"/>
                <a:ext cx="140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848200" y="2496960"/>
                <a:ext cx="1620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864400" y="2502000"/>
                <a:ext cx="158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880240" y="2509920"/>
                <a:ext cx="1404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894280" y="2516040"/>
                <a:ext cx="1584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910120" y="2522520"/>
                <a:ext cx="158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925960" y="2530440"/>
                <a:ext cx="1440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40360" y="2536920"/>
                <a:ext cx="1440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954760" y="2541600"/>
                <a:ext cx="158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970600" y="2549520"/>
                <a:ext cx="1440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985000" y="2556000"/>
                <a:ext cx="1584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000840" y="2562120"/>
                <a:ext cx="158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016680" y="2570040"/>
                <a:ext cx="1440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031080" y="2576520"/>
                <a:ext cx="1584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046920" y="2581200"/>
                <a:ext cx="1404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9" name=""/>
            <p:cNvSpPr/>
            <p:nvPr/>
          </p:nvSpPr>
          <p:spPr>
            <a:xfrm>
              <a:off x="6060960" y="258912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075360" y="25956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91200" y="260208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107040" y="261000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121440" y="261612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137280" y="2620800"/>
              <a:ext cx="15840" cy="82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153120" y="262908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167520" y="2635200"/>
              <a:ext cx="140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181560" y="2641680"/>
              <a:ext cx="162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197760" y="264780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211800" y="265572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227640" y="266220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242040" y="266688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257880" y="26748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273720" y="2681280"/>
              <a:ext cx="1296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86680" y="268776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02520" y="269388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18360" y="2701800"/>
              <a:ext cx="140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332400" y="270684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348240" y="2712960"/>
              <a:ext cx="162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364440" y="271944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378480" y="27273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394320" y="273384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408720" y="273996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423120" y="274464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438960" y="27525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454800" y="27590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469200" y="276552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485040" y="27716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500880" y="2778120"/>
              <a:ext cx="126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513480" y="278460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529320" y="279072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545160" y="279720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559560" y="280368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575400" y="280980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591240" y="281772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05640" y="282420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21480" y="282888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35880" y="283536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49920" y="28414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65760" y="2847960"/>
              <a:ext cx="1620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81960" y="2855880"/>
              <a:ext cx="140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96000" y="286236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711840" y="28670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726240" y="287352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740640" y="28796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56480" y="2886120"/>
              <a:ext cx="140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770520" y="2892600"/>
              <a:ext cx="162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786720" y="289872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802560" y="290520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16600" y="291132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832440" y="291780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46840" y="292428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861240" y="29304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877080" y="29368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892920" y="294336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907320" y="294804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923160" y="29541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939000" y="29606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953400" y="296712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967440" y="29732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983280" y="297972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997680" y="298620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013520" y="29908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029360" y="299736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043760" y="30034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059600" y="300996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074000" y="3016080"/>
              <a:ext cx="140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088040" y="3022560"/>
              <a:ext cx="162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04240" y="302904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120080" y="3033720"/>
              <a:ext cx="140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134120" y="304020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149960" y="304632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164360" y="30528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180200" y="305928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194600" y="306540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09000" y="30700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24840" y="30765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240680" y="308304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254720" y="3089160"/>
              <a:ext cx="1620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270920" y="309420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286760" y="3100320"/>
              <a:ext cx="126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299360" y="310680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1114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331040" y="311796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345440" y="31240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361280" y="313056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77120" y="31352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391520" y="314172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407360" y="3147840"/>
              <a:ext cx="140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21400" y="315288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435800" y="31590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451640" y="316548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467480" y="317016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481880" y="317664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497720" y="31827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513560" y="3189240"/>
              <a:ext cx="126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526160" y="3193920"/>
              <a:ext cx="1620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542360" y="319896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558200" y="3205080"/>
              <a:ext cx="140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572240" y="32115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588080" y="3218040"/>
              <a:ext cx="162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604280" y="322272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18320" y="3228840"/>
              <a:ext cx="158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634160" y="323388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648560" y="323856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662960" y="32446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678800" y="325116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693200" y="32558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709040" y="326232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724880" y="3268800"/>
              <a:ext cx="140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738920" y="327348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753320" y="32781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769160" y="328464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783560" y="328932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799400" y="329580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815240" y="330192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29640" y="33066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845480" y="331308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29200" y="1646280"/>
              <a:ext cx="93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#12 e rad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62720" y="4925880"/>
              <a:ext cx="27572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562720" y="4925880"/>
              <a:ext cx="144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52420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021360" y="4925880"/>
              <a:ext cx="144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98140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481800" y="4925880"/>
              <a:ext cx="144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44328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942240" y="4925880"/>
              <a:ext cx="144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90372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400880" y="4925880"/>
              <a:ext cx="180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36092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861320" y="4925880"/>
              <a:ext cx="144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82280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319960" y="4925880"/>
              <a:ext cx="180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28000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5562720" y="2028600"/>
              <a:ext cx="1440" cy="2896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5508720" y="4925880"/>
              <a:ext cx="540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379480" y="485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5508720" y="4684680"/>
              <a:ext cx="540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299200" y="4610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5508720" y="444348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299200" y="4368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5508720" y="420228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299200" y="41274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5508720" y="3960720"/>
              <a:ext cx="540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299200" y="38847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5508720" y="371952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299200" y="36450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5508720" y="347832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299200" y="34020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5508720" y="323532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299200" y="3160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5508720" y="299412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299200" y="2917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5508720" y="2752560"/>
              <a:ext cx="540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299200" y="2678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5508720" y="2511360"/>
              <a:ext cx="540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225760" y="24354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5508720" y="227016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225760" y="21956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508720" y="202896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225760" y="19526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1" name=""/>
            <p:cNvGrpSpPr/>
            <p:nvPr/>
          </p:nvGrpSpPr>
          <p:grpSpPr>
            <a:xfrm>
              <a:off x="5983200" y="5896080"/>
              <a:ext cx="1868760" cy="393840"/>
              <a:chOff x="5983200" y="5896080"/>
              <a:chExt cx="1868760" cy="393840"/>
            </a:xfrm>
          </p:grpSpPr>
          <p:sp>
            <p:nvSpPr>
              <p:cNvPr id="1532" name=""/>
              <p:cNvSpPr/>
              <p:nvPr/>
            </p:nvSpPr>
            <p:spPr>
              <a:xfrm>
                <a:off x="6293880" y="5896080"/>
                <a:ext cx="155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#12 +Radio Normoss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3" name=""/>
              <p:cNvGrpSpPr/>
              <p:nvPr/>
            </p:nvGrpSpPr>
            <p:grpSpPr>
              <a:xfrm>
                <a:off x="5983200" y="5932440"/>
                <a:ext cx="65160" cy="65160"/>
                <a:chOff x="5983200" y="5932440"/>
                <a:chExt cx="65160" cy="65160"/>
              </a:xfrm>
            </p:grpSpPr>
            <p:sp>
              <p:nvSpPr>
                <p:cNvPr id="1534" name=""/>
                <p:cNvSpPr/>
                <p:nvPr/>
              </p:nvSpPr>
              <p:spPr>
                <a:xfrm>
                  <a:off x="5983200" y="5932440"/>
                  <a:ext cx="65160" cy="65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5983200" y="5932440"/>
                  <a:ext cx="65160" cy="65160"/>
                </a:xfrm>
                <a:prstGeom prst="rect">
                  <a:avLst/>
                </a:prstGeom>
                <a:noFill/>
                <a:ln cap="rnd"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6" name=""/>
              <p:cNvSpPr/>
              <p:nvPr/>
            </p:nvSpPr>
            <p:spPr>
              <a:xfrm>
                <a:off x="6285960" y="6107040"/>
                <a:ext cx="1399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# 12 + Radio Iposs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7" name=""/>
              <p:cNvGrpSpPr/>
              <p:nvPr/>
            </p:nvGrpSpPr>
            <p:grpSpPr>
              <a:xfrm>
                <a:off x="5983200" y="6143760"/>
                <a:ext cx="73080" cy="72720"/>
                <a:chOff x="5983200" y="6143760"/>
                <a:chExt cx="73080" cy="72720"/>
              </a:xfrm>
            </p:grpSpPr>
            <p:sp>
              <p:nvSpPr>
                <p:cNvPr id="1538" name=""/>
                <p:cNvSpPr/>
                <p:nvPr/>
              </p:nvSpPr>
              <p:spPr>
                <a:xfrm>
                  <a:off x="5983200" y="614376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5983200" y="614376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3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0" name=""/>
            <p:cNvSpPr/>
            <p:nvPr/>
          </p:nvSpPr>
          <p:spPr>
            <a:xfrm>
              <a:off x="6722280" y="5200560"/>
              <a:ext cx="55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T (G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16200000">
              <a:off x="4063320" y="3269160"/>
              <a:ext cx="172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% cellule sopravvissu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6200000">
              <a:off x="4399920" y="3286080"/>
              <a:ext cx="142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ispetto al cont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11280" y="3706920"/>
              <a:ext cx="24480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568840" y="3716280"/>
              <a:ext cx="244800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824280" y="406224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05200" y="364968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448000" y="31194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987560" y="252900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574640" y="2560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3787920" y="4025880"/>
              <a:ext cx="64800" cy="65160"/>
              <a:chOff x="3787920" y="4025880"/>
              <a:chExt cx="64800" cy="65160"/>
            </a:xfrm>
          </p:grpSpPr>
          <p:sp>
            <p:nvSpPr>
              <p:cNvPr id="1551" name=""/>
              <p:cNvSpPr/>
              <p:nvPr/>
            </p:nvSpPr>
            <p:spPr>
              <a:xfrm>
                <a:off x="3787920" y="4025880"/>
                <a:ext cx="6480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787920" y="4025880"/>
                <a:ext cx="6480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2868480" y="3613320"/>
              <a:ext cx="65160" cy="64800"/>
              <a:chOff x="2868480" y="3613320"/>
              <a:chExt cx="65160" cy="64800"/>
            </a:xfrm>
          </p:grpSpPr>
          <p:sp>
            <p:nvSpPr>
              <p:cNvPr id="1554" name=""/>
              <p:cNvSpPr/>
              <p:nvPr/>
            </p:nvSpPr>
            <p:spPr>
              <a:xfrm>
                <a:off x="2868480" y="3613320"/>
                <a:ext cx="6516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868480" y="3613320"/>
                <a:ext cx="65160" cy="6480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6" name=""/>
            <p:cNvGrpSpPr/>
            <p:nvPr/>
          </p:nvGrpSpPr>
          <p:grpSpPr>
            <a:xfrm>
              <a:off x="2409840" y="3083040"/>
              <a:ext cx="66600" cy="64800"/>
              <a:chOff x="2409840" y="3083040"/>
              <a:chExt cx="66600" cy="64800"/>
            </a:xfrm>
          </p:grpSpPr>
          <p:sp>
            <p:nvSpPr>
              <p:cNvPr id="1557" name=""/>
              <p:cNvSpPr/>
              <p:nvPr/>
            </p:nvSpPr>
            <p:spPr>
              <a:xfrm>
                <a:off x="2409840" y="3083040"/>
                <a:ext cx="6660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409840" y="3083040"/>
                <a:ext cx="66600" cy="6480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1951200" y="2492280"/>
              <a:ext cx="66600" cy="66600"/>
              <a:chOff x="1951200" y="2492280"/>
              <a:chExt cx="66600" cy="66600"/>
            </a:xfrm>
          </p:grpSpPr>
          <p:sp>
            <p:nvSpPr>
              <p:cNvPr id="1560" name=""/>
              <p:cNvSpPr/>
              <p:nvPr/>
            </p:nvSpPr>
            <p:spPr>
              <a:xfrm>
                <a:off x="1951200" y="2492280"/>
                <a:ext cx="66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951200" y="2492280"/>
                <a:ext cx="66600" cy="6660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2" name=""/>
            <p:cNvGrpSpPr/>
            <p:nvPr/>
          </p:nvGrpSpPr>
          <p:grpSpPr>
            <a:xfrm>
              <a:off x="1538280" y="2523960"/>
              <a:ext cx="65160" cy="65160"/>
              <a:chOff x="1538280" y="2523960"/>
              <a:chExt cx="65160" cy="65160"/>
            </a:xfrm>
          </p:grpSpPr>
          <p:sp>
            <p:nvSpPr>
              <p:cNvPr id="1563" name=""/>
              <p:cNvSpPr/>
              <p:nvPr/>
            </p:nvSpPr>
            <p:spPr>
              <a:xfrm>
                <a:off x="1538280" y="2523960"/>
                <a:ext cx="6516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538280" y="2523960"/>
                <a:ext cx="6516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1574640" y="250200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589040" y="250344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603440" y="250668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619280" y="250812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635120" y="2511360"/>
              <a:ext cx="14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649520" y="2513160"/>
              <a:ext cx="158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665360" y="251604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681200" y="2519280"/>
              <a:ext cx="12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693800" y="252252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709640" y="252576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725480" y="252900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739880" y="2532240"/>
              <a:ext cx="158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755720" y="2535120"/>
              <a:ext cx="158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771560" y="2540160"/>
              <a:ext cx="144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785960" y="254484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800360" y="2548080"/>
              <a:ext cx="140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814400" y="2552760"/>
              <a:ext cx="15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830240" y="2558880"/>
              <a:ext cx="1620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846440" y="2563920"/>
              <a:ext cx="140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860480" y="256860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876320" y="257328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892160" y="2579760"/>
              <a:ext cx="1440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906560" y="2585880"/>
              <a:ext cx="144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920960" y="259236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936800" y="2598840"/>
              <a:ext cx="14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951200" y="2606760"/>
              <a:ext cx="15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967040" y="261288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982880" y="2620800"/>
              <a:ext cx="14040" cy="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996920" y="2629080"/>
              <a:ext cx="162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013120" y="2638440"/>
              <a:ext cx="140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027160" y="2646360"/>
              <a:ext cx="14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041560" y="265428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057400" y="2665440"/>
              <a:ext cx="144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071800" y="267480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87640" y="2685960"/>
              <a:ext cx="158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103480" y="2695680"/>
              <a:ext cx="1440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117880" y="2706840"/>
              <a:ext cx="158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133720" y="2719440"/>
              <a:ext cx="140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147760" y="2732040"/>
              <a:ext cx="1440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162160" y="2743200"/>
              <a:ext cx="1584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178000" y="2757600"/>
              <a:ext cx="158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193840" y="2770200"/>
              <a:ext cx="1440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208240" y="278280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224080" y="279864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239920" y="2814480"/>
              <a:ext cx="1260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252520" y="282888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268360" y="284472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282760" y="286056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298600" y="2878200"/>
              <a:ext cx="158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14440" y="289548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28840" y="291132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344680" y="293040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360520" y="2948040"/>
              <a:ext cx="1296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373480" y="296856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389320" y="298620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05160" y="3006720"/>
              <a:ext cx="140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419200" y="3025800"/>
              <a:ext cx="1620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435400" y="3046320"/>
              <a:ext cx="15840" cy="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451240" y="3067200"/>
              <a:ext cx="14040" cy="2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465280" y="308916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479680" y="3108240"/>
              <a:ext cx="1440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494080" y="3130560"/>
              <a:ext cx="1584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509920" y="3152880"/>
              <a:ext cx="15840" cy="2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525760" y="3174840"/>
              <a:ext cx="14400" cy="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540160" y="3195720"/>
              <a:ext cx="15840" cy="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556000" y="321948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571840" y="3240000"/>
              <a:ext cx="1404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585880" y="3262320"/>
              <a:ext cx="1440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00280" y="328464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16120" y="3305160"/>
              <a:ext cx="14400" cy="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30520" y="3328920"/>
              <a:ext cx="15840" cy="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646360" y="3349800"/>
              <a:ext cx="15840" cy="2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2200" y="3371760"/>
              <a:ext cx="1440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676600" y="3394080"/>
              <a:ext cx="1584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92440" y="341640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706840" y="3435480"/>
              <a:ext cx="14040" cy="2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20880" y="3457440"/>
              <a:ext cx="15840" cy="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36720" y="3478320"/>
              <a:ext cx="1440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751120" y="349884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766960" y="351792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782800" y="353844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797200" y="355752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11600" y="357660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827440" y="3594240"/>
              <a:ext cx="140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841480" y="3613320"/>
              <a:ext cx="1620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857680" y="3632040"/>
              <a:ext cx="15840" cy="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873520" y="3648240"/>
              <a:ext cx="140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887560" y="366552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03400" y="368136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917800" y="369720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932200" y="3713040"/>
              <a:ext cx="1584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948040" y="372744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962440" y="3743280"/>
              <a:ext cx="158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978280" y="3755880"/>
              <a:ext cx="1584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994120" y="3770280"/>
              <a:ext cx="140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008160" y="3782880"/>
              <a:ext cx="1620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024360" y="3795840"/>
              <a:ext cx="140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038400" y="3807000"/>
              <a:ext cx="1440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052800" y="381960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068640" y="383076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84480" y="3841920"/>
              <a:ext cx="144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098880" y="385128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114720" y="3862440"/>
              <a:ext cx="158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130560" y="3871800"/>
              <a:ext cx="14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144960" y="3879720"/>
              <a:ext cx="140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159000" y="3889440"/>
              <a:ext cx="144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173400" y="389880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189240" y="390672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205080" y="3914640"/>
              <a:ext cx="144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219480" y="392112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235320" y="392760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251160" y="3935520"/>
              <a:ext cx="1260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263760" y="394164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279600" y="3948120"/>
              <a:ext cx="16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295800" y="3954600"/>
              <a:ext cx="140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309840" y="395928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325680" y="396396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341520" y="3970440"/>
              <a:ext cx="144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355920" y="397512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371760" y="3979800"/>
              <a:ext cx="129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384720" y="398448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400560" y="398772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416400" y="3992400"/>
              <a:ext cx="140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430440" y="3997440"/>
              <a:ext cx="16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446640" y="399888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462480" y="4002120"/>
              <a:ext cx="140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476520" y="400536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490920" y="4008600"/>
              <a:ext cx="158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506760" y="401148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521160" y="401472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537000" y="401796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552840" y="401940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567240" y="402264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83080" y="4024440"/>
              <a:ext cx="140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597120" y="4027320"/>
              <a:ext cx="14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611520" y="402912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627360" y="403056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641760" y="403380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657600" y="403560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673440" y="403704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687840" y="403848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703680" y="404028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718080" y="4040280"/>
              <a:ext cx="1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732120" y="404172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747960" y="404352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763800" y="404352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778200" y="404496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794040" y="404640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809880" y="4046400"/>
              <a:ext cx="14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24280" y="387972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905200" y="353700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448000" y="31910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987560" y="25002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574640" y="232884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9" name=""/>
            <p:cNvGrpSpPr/>
            <p:nvPr/>
          </p:nvGrpSpPr>
          <p:grpSpPr>
            <a:xfrm>
              <a:off x="3787920" y="3843360"/>
              <a:ext cx="72720" cy="74520"/>
              <a:chOff x="3787920" y="3843360"/>
              <a:chExt cx="72720" cy="74520"/>
            </a:xfrm>
          </p:grpSpPr>
          <p:sp>
            <p:nvSpPr>
              <p:cNvPr id="1720" name=""/>
              <p:cNvSpPr/>
              <p:nvPr/>
            </p:nvSpPr>
            <p:spPr>
              <a:xfrm>
                <a:off x="3787920" y="384336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0"/>
                    </a:moveTo>
                    <a:lnTo>
                      <a:pt x="46" y="0"/>
                    </a:lnTo>
                    <a:lnTo>
                      <a:pt x="23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787920" y="384336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0"/>
                    </a:moveTo>
                    <a:lnTo>
                      <a:pt x="46" y="0"/>
                    </a:lnTo>
                    <a:lnTo>
                      <a:pt x="23" y="4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2868480" y="3500280"/>
              <a:ext cx="73080" cy="73080"/>
              <a:chOff x="2868480" y="3500280"/>
              <a:chExt cx="73080" cy="73080"/>
            </a:xfrm>
          </p:grpSpPr>
          <p:sp>
            <p:nvSpPr>
              <p:cNvPr id="1723" name=""/>
              <p:cNvSpPr/>
              <p:nvPr/>
            </p:nvSpPr>
            <p:spPr>
              <a:xfrm>
                <a:off x="2868480" y="35002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868480" y="35002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2409840" y="3154320"/>
              <a:ext cx="74520" cy="73080"/>
              <a:chOff x="2409840" y="3154320"/>
              <a:chExt cx="74520" cy="73080"/>
            </a:xfrm>
          </p:grpSpPr>
          <p:sp>
            <p:nvSpPr>
              <p:cNvPr id="1726" name=""/>
              <p:cNvSpPr/>
              <p:nvPr/>
            </p:nvSpPr>
            <p:spPr>
              <a:xfrm>
                <a:off x="2409840" y="31543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4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09840" y="31543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4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1951200" y="2463840"/>
              <a:ext cx="74520" cy="73080"/>
              <a:chOff x="1951200" y="2463840"/>
              <a:chExt cx="74520" cy="73080"/>
            </a:xfrm>
          </p:grpSpPr>
          <p:sp>
            <p:nvSpPr>
              <p:cNvPr id="1729" name=""/>
              <p:cNvSpPr/>
              <p:nvPr/>
            </p:nvSpPr>
            <p:spPr>
              <a:xfrm>
                <a:off x="1951200" y="246384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951200" y="246384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1538280" y="2292480"/>
              <a:ext cx="73080" cy="72720"/>
              <a:chOff x="1538280" y="2292480"/>
              <a:chExt cx="73080" cy="72720"/>
            </a:xfrm>
          </p:grpSpPr>
          <p:sp>
            <p:nvSpPr>
              <p:cNvPr id="1732" name=""/>
              <p:cNvSpPr/>
              <p:nvPr/>
            </p:nvSpPr>
            <p:spPr>
              <a:xfrm>
                <a:off x="1538280" y="229248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538280" y="229248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4" name=""/>
            <p:cNvSpPr/>
            <p:nvPr/>
          </p:nvSpPr>
          <p:spPr>
            <a:xfrm>
              <a:off x="1574640" y="2298600"/>
              <a:ext cx="144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9040" y="2305080"/>
              <a:ext cx="144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603440" y="2311560"/>
              <a:ext cx="15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19280" y="231768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35120" y="2324160"/>
              <a:ext cx="1440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49520" y="2330280"/>
              <a:ext cx="15840" cy="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65360" y="233856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681200" y="2346480"/>
              <a:ext cx="126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693800" y="235440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709640" y="2362320"/>
              <a:ext cx="15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725480" y="2368440"/>
              <a:ext cx="144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739880" y="2378160"/>
              <a:ext cx="158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755720" y="2387520"/>
              <a:ext cx="158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771560" y="2397240"/>
              <a:ext cx="144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785960" y="2406600"/>
              <a:ext cx="144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800360" y="2416320"/>
              <a:ext cx="140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814400" y="242568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30240" y="2436840"/>
              <a:ext cx="162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846440" y="2446200"/>
              <a:ext cx="140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860480" y="245916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876320" y="2470320"/>
              <a:ext cx="158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892160" y="2482920"/>
              <a:ext cx="1440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906560" y="2494080"/>
              <a:ext cx="1440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920960" y="2508120"/>
              <a:ext cx="158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936800" y="2521080"/>
              <a:ext cx="1440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951200" y="2533680"/>
              <a:ext cx="1584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967040" y="2548080"/>
              <a:ext cx="1584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982880" y="2562120"/>
              <a:ext cx="140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996920" y="2575080"/>
              <a:ext cx="162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013120" y="2590920"/>
              <a:ext cx="140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824280" y="406224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905200" y="364968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448000" y="31194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987560" y="252900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574640" y="2560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9" name=""/>
            <p:cNvGrpSpPr/>
            <p:nvPr/>
          </p:nvGrpSpPr>
          <p:grpSpPr>
            <a:xfrm>
              <a:off x="3787920" y="4025880"/>
              <a:ext cx="64800" cy="65160"/>
              <a:chOff x="3787920" y="4025880"/>
              <a:chExt cx="64800" cy="65160"/>
            </a:xfrm>
          </p:grpSpPr>
          <p:sp>
            <p:nvSpPr>
              <p:cNvPr id="1770" name=""/>
              <p:cNvSpPr/>
              <p:nvPr/>
            </p:nvSpPr>
            <p:spPr>
              <a:xfrm>
                <a:off x="3787920" y="4025880"/>
                <a:ext cx="6480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787920" y="4025880"/>
                <a:ext cx="6480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2868480" y="3613320"/>
              <a:ext cx="65160" cy="64800"/>
              <a:chOff x="2868480" y="3613320"/>
              <a:chExt cx="65160" cy="64800"/>
            </a:xfrm>
          </p:grpSpPr>
          <p:sp>
            <p:nvSpPr>
              <p:cNvPr id="1773" name=""/>
              <p:cNvSpPr/>
              <p:nvPr/>
            </p:nvSpPr>
            <p:spPr>
              <a:xfrm>
                <a:off x="2868480" y="3613320"/>
                <a:ext cx="6516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868480" y="3613320"/>
                <a:ext cx="65160" cy="6480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2409840" y="3083040"/>
              <a:ext cx="66600" cy="64800"/>
              <a:chOff x="2409840" y="3083040"/>
              <a:chExt cx="66600" cy="64800"/>
            </a:xfrm>
          </p:grpSpPr>
          <p:sp>
            <p:nvSpPr>
              <p:cNvPr id="1776" name=""/>
              <p:cNvSpPr/>
              <p:nvPr/>
            </p:nvSpPr>
            <p:spPr>
              <a:xfrm>
                <a:off x="2409840" y="3083040"/>
                <a:ext cx="6660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409840" y="3083040"/>
                <a:ext cx="66600" cy="6480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1951200" y="2492280"/>
              <a:ext cx="66600" cy="66600"/>
              <a:chOff x="1951200" y="2492280"/>
              <a:chExt cx="66600" cy="66600"/>
            </a:xfrm>
          </p:grpSpPr>
          <p:sp>
            <p:nvSpPr>
              <p:cNvPr id="1779" name=""/>
              <p:cNvSpPr/>
              <p:nvPr/>
            </p:nvSpPr>
            <p:spPr>
              <a:xfrm>
                <a:off x="1951200" y="2492280"/>
                <a:ext cx="66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951200" y="2492280"/>
                <a:ext cx="66600" cy="6660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1538280" y="2523960"/>
              <a:ext cx="65160" cy="65160"/>
              <a:chOff x="1538280" y="2523960"/>
              <a:chExt cx="65160" cy="65160"/>
            </a:xfrm>
          </p:grpSpPr>
          <p:sp>
            <p:nvSpPr>
              <p:cNvPr id="1782" name=""/>
              <p:cNvSpPr/>
              <p:nvPr/>
            </p:nvSpPr>
            <p:spPr>
              <a:xfrm>
                <a:off x="1538280" y="2523960"/>
                <a:ext cx="6516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538280" y="2523960"/>
                <a:ext cx="6516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4" name=""/>
            <p:cNvSpPr/>
            <p:nvPr/>
          </p:nvSpPr>
          <p:spPr>
            <a:xfrm>
              <a:off x="1574640" y="250200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589040" y="250344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03440" y="250668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619280" y="250812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635120" y="2511360"/>
              <a:ext cx="14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649520" y="2513160"/>
              <a:ext cx="158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665360" y="251604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681200" y="2519280"/>
              <a:ext cx="12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693800" y="252252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709640" y="252576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725480" y="252900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739880" y="2532240"/>
              <a:ext cx="158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755720" y="2535120"/>
              <a:ext cx="158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71560" y="2540160"/>
              <a:ext cx="144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785960" y="254484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800360" y="2548080"/>
              <a:ext cx="140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814400" y="2552760"/>
              <a:ext cx="15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30240" y="2558880"/>
              <a:ext cx="1620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46440" y="2563920"/>
              <a:ext cx="140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860480" y="256860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876320" y="257328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92160" y="2579760"/>
              <a:ext cx="1440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906560" y="2585880"/>
              <a:ext cx="144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920960" y="259236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936800" y="2598840"/>
              <a:ext cx="14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951200" y="2606760"/>
              <a:ext cx="15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967040" y="261288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982880" y="2620800"/>
              <a:ext cx="14040" cy="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996920" y="2629080"/>
              <a:ext cx="162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013120" y="2638440"/>
              <a:ext cx="140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027160" y="2646360"/>
              <a:ext cx="14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041560" y="265428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057400" y="2665440"/>
              <a:ext cx="144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071800" y="267480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087640" y="2685960"/>
              <a:ext cx="158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103480" y="2695680"/>
              <a:ext cx="1440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117880" y="2706840"/>
              <a:ext cx="158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133720" y="2719440"/>
              <a:ext cx="140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147760" y="2732040"/>
              <a:ext cx="1440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162160" y="2743200"/>
              <a:ext cx="1584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178000" y="2757600"/>
              <a:ext cx="158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93840" y="2770200"/>
              <a:ext cx="1440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208240" y="278280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224080" y="279864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239920" y="2814480"/>
              <a:ext cx="1260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252520" y="282888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268360" y="284472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282760" y="286056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298600" y="2878200"/>
              <a:ext cx="158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14440" y="289548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328840" y="291132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344680" y="293040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360520" y="2948040"/>
              <a:ext cx="1296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373480" y="296856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389320" y="298620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405160" y="3006720"/>
              <a:ext cx="140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419200" y="3025800"/>
              <a:ext cx="1620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435400" y="3046320"/>
              <a:ext cx="15840" cy="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451240" y="3067200"/>
              <a:ext cx="14040" cy="2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465280" y="308916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479680" y="3108240"/>
              <a:ext cx="1440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494080" y="3130560"/>
              <a:ext cx="1584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509920" y="3152880"/>
              <a:ext cx="15840" cy="2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525760" y="3174840"/>
              <a:ext cx="14400" cy="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540160" y="3195720"/>
              <a:ext cx="15840" cy="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556000" y="321948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571840" y="3240000"/>
              <a:ext cx="1404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585880" y="3262320"/>
              <a:ext cx="1440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00280" y="328464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616120" y="3305160"/>
              <a:ext cx="14400" cy="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630520" y="3328920"/>
              <a:ext cx="15840" cy="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646360" y="3349800"/>
              <a:ext cx="15840" cy="2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62200" y="3371760"/>
              <a:ext cx="1440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76600" y="3394080"/>
              <a:ext cx="1584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692440" y="341640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706840" y="3435480"/>
              <a:ext cx="14040" cy="2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720880" y="3457440"/>
              <a:ext cx="15840" cy="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736720" y="3478320"/>
              <a:ext cx="1440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751120" y="349884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766960" y="351792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782800" y="353844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797200" y="355752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811600" y="357660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827440" y="3594240"/>
              <a:ext cx="140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841480" y="3613320"/>
              <a:ext cx="16200" cy="1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857680" y="3632040"/>
              <a:ext cx="15840" cy="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873520" y="3648240"/>
              <a:ext cx="140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887560" y="366552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903400" y="368136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917800" y="369720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932200" y="3713040"/>
              <a:ext cx="1584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948040" y="372744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962440" y="3743280"/>
              <a:ext cx="158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78280" y="3755880"/>
              <a:ext cx="1584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994120" y="3770280"/>
              <a:ext cx="140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8160" y="3782880"/>
              <a:ext cx="1620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24360" y="3795840"/>
              <a:ext cx="140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38400" y="3807000"/>
              <a:ext cx="1440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52800" y="381960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68640" y="383076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84480" y="3841920"/>
              <a:ext cx="144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98880" y="385128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114720" y="3862440"/>
              <a:ext cx="158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130560" y="3871800"/>
              <a:ext cx="14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144960" y="3879720"/>
              <a:ext cx="140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159000" y="3889440"/>
              <a:ext cx="144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173400" y="389880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89240" y="390672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205080" y="3914640"/>
              <a:ext cx="144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219480" y="392112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35320" y="392760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251160" y="3935520"/>
              <a:ext cx="1260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63760" y="394164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279600" y="3948120"/>
              <a:ext cx="16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295800" y="3954600"/>
              <a:ext cx="140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09840" y="395928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25680" y="396396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341520" y="3970440"/>
              <a:ext cx="144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55920" y="397512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71760" y="3979800"/>
              <a:ext cx="129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384720" y="398448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400560" y="398772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416400" y="3992400"/>
              <a:ext cx="140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430440" y="3997440"/>
              <a:ext cx="16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446640" y="399888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462480" y="4002120"/>
              <a:ext cx="140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476520" y="400536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490920" y="4008600"/>
              <a:ext cx="158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506760" y="401148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21160" y="401472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537000" y="401796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52840" y="401940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567240" y="402264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4024440"/>
              <a:ext cx="140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597120" y="4027320"/>
              <a:ext cx="14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11520" y="402912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627360" y="403056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41760" y="403380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657600" y="403560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673440" y="403704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687840" y="403848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703680" y="404028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718080" y="4040280"/>
              <a:ext cx="1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732120" y="404172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747960" y="404352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763800" y="404352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778200" y="404496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794040" y="404640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809880" y="4046400"/>
              <a:ext cx="14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824280" y="387972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905200" y="353700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448000" y="31910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987560" y="25002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574640" y="232884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8" name=""/>
            <p:cNvGrpSpPr/>
            <p:nvPr/>
          </p:nvGrpSpPr>
          <p:grpSpPr>
            <a:xfrm>
              <a:off x="3787920" y="3843360"/>
              <a:ext cx="72720" cy="74520"/>
              <a:chOff x="3787920" y="3843360"/>
              <a:chExt cx="72720" cy="74520"/>
            </a:xfrm>
          </p:grpSpPr>
          <p:sp>
            <p:nvSpPr>
              <p:cNvPr id="1939" name=""/>
              <p:cNvSpPr/>
              <p:nvPr/>
            </p:nvSpPr>
            <p:spPr>
              <a:xfrm>
                <a:off x="3787920" y="384336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0"/>
                    </a:moveTo>
                    <a:lnTo>
                      <a:pt x="46" y="0"/>
                    </a:lnTo>
                    <a:lnTo>
                      <a:pt x="23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3787920" y="384336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0"/>
                    </a:moveTo>
                    <a:lnTo>
                      <a:pt x="46" y="0"/>
                    </a:lnTo>
                    <a:lnTo>
                      <a:pt x="23" y="4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2868480" y="3500280"/>
              <a:ext cx="73080" cy="73080"/>
              <a:chOff x="2868480" y="3500280"/>
              <a:chExt cx="73080" cy="73080"/>
            </a:xfrm>
          </p:grpSpPr>
          <p:sp>
            <p:nvSpPr>
              <p:cNvPr id="1942" name=""/>
              <p:cNvSpPr/>
              <p:nvPr/>
            </p:nvSpPr>
            <p:spPr>
              <a:xfrm>
                <a:off x="2868480" y="35002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868480" y="35002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2409840" y="3154320"/>
              <a:ext cx="74520" cy="73080"/>
              <a:chOff x="2409840" y="3154320"/>
              <a:chExt cx="74520" cy="73080"/>
            </a:xfrm>
          </p:grpSpPr>
          <p:sp>
            <p:nvSpPr>
              <p:cNvPr id="1945" name=""/>
              <p:cNvSpPr/>
              <p:nvPr/>
            </p:nvSpPr>
            <p:spPr>
              <a:xfrm>
                <a:off x="2409840" y="31543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4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09840" y="31543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4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1951200" y="2463840"/>
              <a:ext cx="74520" cy="73080"/>
              <a:chOff x="1951200" y="2463840"/>
              <a:chExt cx="74520" cy="73080"/>
            </a:xfrm>
          </p:grpSpPr>
          <p:sp>
            <p:nvSpPr>
              <p:cNvPr id="1948" name=""/>
              <p:cNvSpPr/>
              <p:nvPr/>
            </p:nvSpPr>
            <p:spPr>
              <a:xfrm>
                <a:off x="1951200" y="246384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951200" y="246384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1538280" y="2292480"/>
              <a:ext cx="73080" cy="72720"/>
              <a:chOff x="1538280" y="2292480"/>
              <a:chExt cx="73080" cy="72720"/>
            </a:xfrm>
          </p:grpSpPr>
          <p:sp>
            <p:nvSpPr>
              <p:cNvPr id="1951" name=""/>
              <p:cNvSpPr/>
              <p:nvPr/>
            </p:nvSpPr>
            <p:spPr>
              <a:xfrm>
                <a:off x="1538280" y="229248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538280" y="229248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3" name=""/>
            <p:cNvSpPr/>
            <p:nvPr/>
          </p:nvSpPr>
          <p:spPr>
            <a:xfrm>
              <a:off x="1574640" y="2298600"/>
              <a:ext cx="144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589040" y="2305080"/>
              <a:ext cx="144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603440" y="2311560"/>
              <a:ext cx="15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619280" y="231768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635120" y="2324160"/>
              <a:ext cx="1440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649520" y="2330280"/>
              <a:ext cx="15840" cy="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665360" y="233856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681200" y="2346480"/>
              <a:ext cx="126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693800" y="235440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709640" y="2362320"/>
              <a:ext cx="15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725480" y="2368440"/>
              <a:ext cx="144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739880" y="2378160"/>
              <a:ext cx="158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755720" y="2387520"/>
              <a:ext cx="158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71560" y="2397240"/>
              <a:ext cx="144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785960" y="2406600"/>
              <a:ext cx="144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800360" y="2416320"/>
              <a:ext cx="140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814400" y="242568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830240" y="2436840"/>
              <a:ext cx="162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846440" y="2446200"/>
              <a:ext cx="140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860480" y="245916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876320" y="2470320"/>
              <a:ext cx="158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892160" y="2482920"/>
              <a:ext cx="1440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906560" y="2494080"/>
              <a:ext cx="1440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920960" y="2508120"/>
              <a:ext cx="158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936800" y="2521080"/>
              <a:ext cx="1440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951200" y="2533680"/>
              <a:ext cx="1584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967040" y="2548080"/>
              <a:ext cx="1584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982880" y="2562120"/>
              <a:ext cx="140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996920" y="2575080"/>
              <a:ext cx="162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013120" y="2590920"/>
              <a:ext cx="140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027160" y="2606760"/>
              <a:ext cx="1440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041560" y="2620800"/>
              <a:ext cx="15840" cy="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057400" y="263700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071800" y="2652840"/>
              <a:ext cx="158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087640" y="267012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103480" y="2685960"/>
              <a:ext cx="144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17880" y="2703600"/>
              <a:ext cx="158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133720" y="2720880"/>
              <a:ext cx="140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147760" y="273672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162160" y="275580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178000" y="277344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193840" y="279252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208240" y="2811600"/>
              <a:ext cx="158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224080" y="282888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239920" y="2849400"/>
              <a:ext cx="126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252520" y="286704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268360" y="288756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282760" y="2906640"/>
              <a:ext cx="15840" cy="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298600" y="2927520"/>
              <a:ext cx="158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314440" y="2944800"/>
              <a:ext cx="1440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328840" y="296532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344680" y="2984400"/>
              <a:ext cx="15840" cy="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360520" y="3005280"/>
              <a:ext cx="1296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373480" y="302436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389320" y="304488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405160" y="3063960"/>
              <a:ext cx="140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419200" y="3084480"/>
              <a:ext cx="162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435400" y="310356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451240" y="3124080"/>
              <a:ext cx="140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465280" y="314316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479680" y="3162240"/>
              <a:ext cx="14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494080" y="318132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509920" y="3200400"/>
              <a:ext cx="15840" cy="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525760" y="3220920"/>
              <a:ext cx="144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540160" y="323856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556000" y="3257640"/>
              <a:ext cx="1584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571840" y="3274920"/>
              <a:ext cx="140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585880" y="329400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600280" y="330984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616120" y="3327480"/>
              <a:ext cx="1440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630520" y="3344760"/>
              <a:ext cx="1584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646360" y="336240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662200" y="3378240"/>
              <a:ext cx="14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676600" y="339408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692440" y="3409920"/>
              <a:ext cx="144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706840" y="3427560"/>
              <a:ext cx="1404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720880" y="3440160"/>
              <a:ext cx="15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736720" y="3456000"/>
              <a:ext cx="1440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751120" y="3470400"/>
              <a:ext cx="1584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766960" y="3484440"/>
              <a:ext cx="1584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782800" y="3498840"/>
              <a:ext cx="1440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797200" y="3511440"/>
              <a:ext cx="1440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811600" y="3524400"/>
              <a:ext cx="1584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827440" y="3538440"/>
              <a:ext cx="140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841480" y="3549600"/>
              <a:ext cx="1620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57680" y="356220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873520" y="3573360"/>
              <a:ext cx="140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887560" y="3586320"/>
              <a:ext cx="158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903400" y="3595680"/>
              <a:ext cx="1440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917800" y="3606840"/>
              <a:ext cx="1440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932200" y="3618000"/>
              <a:ext cx="158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948040" y="3627360"/>
              <a:ext cx="14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962440" y="3635280"/>
              <a:ext cx="158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978280" y="3646440"/>
              <a:ext cx="158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994120" y="3656160"/>
              <a:ext cx="140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008160" y="3664080"/>
              <a:ext cx="162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024360" y="3672000"/>
              <a:ext cx="140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038400" y="3679920"/>
              <a:ext cx="14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052800" y="368784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068640" y="3695760"/>
              <a:ext cx="15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084480" y="3703680"/>
              <a:ext cx="144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098880" y="371160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114720" y="3716280"/>
              <a:ext cx="158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130560" y="3722760"/>
              <a:ext cx="1440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44960" y="3728880"/>
              <a:ext cx="1404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159000" y="3735360"/>
              <a:ext cx="144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173400" y="3741840"/>
              <a:ext cx="15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89240" y="3747960"/>
              <a:ext cx="158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205080" y="3753000"/>
              <a:ext cx="144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219480" y="375768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235320" y="376236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251160" y="3767040"/>
              <a:ext cx="1260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263760" y="377208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279600" y="3776760"/>
              <a:ext cx="16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295800" y="3781440"/>
              <a:ext cx="140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309840" y="3784680"/>
              <a:ext cx="15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325680" y="378936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341520" y="379260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355920" y="3795840"/>
              <a:ext cx="158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371760" y="3798720"/>
              <a:ext cx="129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384720" y="380196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400560" y="380520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416400" y="3808440"/>
              <a:ext cx="140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430440" y="3811680"/>
              <a:ext cx="162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446640" y="3814920"/>
              <a:ext cx="158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462480" y="3817800"/>
              <a:ext cx="14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476520" y="381960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490920" y="382284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506760" y="3824280"/>
              <a:ext cx="144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521160" y="382752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537000" y="382896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552840" y="383220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567240" y="383364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583080" y="3835440"/>
              <a:ext cx="1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597120" y="383544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611520" y="3836880"/>
              <a:ext cx="158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627360" y="3840120"/>
              <a:ext cx="14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641760" y="384192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657600" y="384336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673440" y="384336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687840" y="384480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703680" y="384660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718080" y="3848040"/>
              <a:ext cx="14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732120" y="384984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747960" y="385128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763800" y="385128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778200" y="3852720"/>
              <a:ext cx="15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794040" y="3854520"/>
              <a:ext cx="15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09880" y="3854520"/>
              <a:ext cx="14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531520" y="163368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#4 e rad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528920" y="4915080"/>
              <a:ext cx="27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528920" y="4915080"/>
              <a:ext cx="144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49004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987560" y="4915080"/>
              <a:ext cx="144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94904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448000" y="4915080"/>
              <a:ext cx="144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40948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906640" y="4915080"/>
              <a:ext cx="180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86812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365640" y="4915080"/>
              <a:ext cx="144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32532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824280" y="4915080"/>
              <a:ext cx="144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78576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282920" y="4915080"/>
              <a:ext cx="1800" cy="5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2960" y="4994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V="1">
              <a:off x="1528920" y="2017800"/>
              <a:ext cx="1440" cy="289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1474920" y="491508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345680" y="4838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1474920" y="4673520"/>
              <a:ext cx="54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267200" y="45990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>
              <a:off x="1474920" y="443232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267200" y="43560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1474920" y="419112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267200" y="4116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>
              <a:off x="1474920" y="3949560"/>
              <a:ext cx="54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267200" y="3875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1474920" y="3708360"/>
              <a:ext cx="54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267200" y="3633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1474920" y="346716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267200" y="33926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1474920" y="3224160"/>
              <a:ext cx="54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267200" y="31496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1474920" y="298296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267200" y="29084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1474920" y="274176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267200" y="26654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H="1">
              <a:off x="1474920" y="2500200"/>
              <a:ext cx="54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191960" y="24256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1474920" y="225900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91960" y="21826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1474920" y="2017800"/>
              <a:ext cx="54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191960" y="19432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461320" y="5896080"/>
              <a:ext cx="1363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#4+ Rdio normo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2158920" y="5932440"/>
              <a:ext cx="65160" cy="65160"/>
              <a:chOff x="2158920" y="5932440"/>
              <a:chExt cx="65160" cy="65160"/>
            </a:xfrm>
          </p:grpSpPr>
          <p:sp>
            <p:nvSpPr>
              <p:cNvPr id="2147" name=""/>
              <p:cNvSpPr/>
              <p:nvPr/>
            </p:nvSpPr>
            <p:spPr>
              <a:xfrm>
                <a:off x="2158920" y="5932440"/>
                <a:ext cx="6516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158920" y="5932440"/>
                <a:ext cx="6516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9" name=""/>
            <p:cNvSpPr/>
            <p:nvPr/>
          </p:nvSpPr>
          <p:spPr>
            <a:xfrm>
              <a:off x="2453760" y="6107040"/>
              <a:ext cx="122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#4+ Radio ipo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0" name=""/>
            <p:cNvGrpSpPr/>
            <p:nvPr/>
          </p:nvGrpSpPr>
          <p:grpSpPr>
            <a:xfrm>
              <a:off x="2158920" y="6143760"/>
              <a:ext cx="73080" cy="72720"/>
              <a:chOff x="2158920" y="6143760"/>
              <a:chExt cx="73080" cy="72720"/>
            </a:xfrm>
          </p:grpSpPr>
          <p:sp>
            <p:nvSpPr>
              <p:cNvPr id="2151" name=""/>
              <p:cNvSpPr/>
              <p:nvPr/>
            </p:nvSpPr>
            <p:spPr>
              <a:xfrm>
                <a:off x="2158920" y="614376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158920" y="614376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461320" y="5896080"/>
              <a:ext cx="1363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#4+ Rdio normo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4" name=""/>
            <p:cNvGrpSpPr/>
            <p:nvPr/>
          </p:nvGrpSpPr>
          <p:grpSpPr>
            <a:xfrm>
              <a:off x="2158920" y="5932440"/>
              <a:ext cx="65160" cy="65160"/>
              <a:chOff x="2158920" y="5932440"/>
              <a:chExt cx="65160" cy="65160"/>
            </a:xfrm>
          </p:grpSpPr>
          <p:sp>
            <p:nvSpPr>
              <p:cNvPr id="2155" name=""/>
              <p:cNvSpPr/>
              <p:nvPr/>
            </p:nvSpPr>
            <p:spPr>
              <a:xfrm>
                <a:off x="2158920" y="5932440"/>
                <a:ext cx="6516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158920" y="5932440"/>
                <a:ext cx="6516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>
              <a:off x="2453760" y="6107040"/>
              <a:ext cx="122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#4+ Radio ipo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8" name=""/>
            <p:cNvGrpSpPr/>
            <p:nvPr/>
          </p:nvGrpSpPr>
          <p:grpSpPr>
            <a:xfrm>
              <a:off x="2158920" y="6143760"/>
              <a:ext cx="73080" cy="72720"/>
              <a:chOff x="2158920" y="6143760"/>
              <a:chExt cx="73080" cy="72720"/>
            </a:xfrm>
          </p:grpSpPr>
          <p:sp>
            <p:nvSpPr>
              <p:cNvPr id="2159" name=""/>
              <p:cNvSpPr/>
              <p:nvPr/>
            </p:nvSpPr>
            <p:spPr>
              <a:xfrm>
                <a:off x="2158920" y="614376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158920" y="614376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1" name=""/>
            <p:cNvSpPr/>
            <p:nvPr/>
          </p:nvSpPr>
          <p:spPr>
            <a:xfrm>
              <a:off x="2688480" y="5191200"/>
              <a:ext cx="55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T (G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rot="16200000">
              <a:off x="29520" y="3264480"/>
              <a:ext cx="172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% cellule sopravvissu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rot="16200000">
              <a:off x="364320" y="3281040"/>
              <a:ext cx="142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ispetto al cont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861320" y="39560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940440" y="289548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481800" y="271764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21360" y="25401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08800" y="260208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9" name=""/>
            <p:cNvGrpSpPr/>
            <p:nvPr/>
          </p:nvGrpSpPr>
          <p:grpSpPr>
            <a:xfrm>
              <a:off x="7824960" y="3919680"/>
              <a:ext cx="64800" cy="64800"/>
              <a:chOff x="7824960" y="3919680"/>
              <a:chExt cx="64800" cy="64800"/>
            </a:xfrm>
          </p:grpSpPr>
          <p:sp>
            <p:nvSpPr>
              <p:cNvPr id="2170" name=""/>
              <p:cNvSpPr/>
              <p:nvPr/>
            </p:nvSpPr>
            <p:spPr>
              <a:xfrm>
                <a:off x="7824960" y="3919680"/>
                <a:ext cx="6480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824960" y="3919680"/>
                <a:ext cx="64800" cy="6480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6902280" y="2859120"/>
              <a:ext cx="66960" cy="65160"/>
              <a:chOff x="6902280" y="2859120"/>
              <a:chExt cx="66960" cy="65160"/>
            </a:xfrm>
          </p:grpSpPr>
          <p:sp>
            <p:nvSpPr>
              <p:cNvPr id="2173" name=""/>
              <p:cNvSpPr/>
              <p:nvPr/>
            </p:nvSpPr>
            <p:spPr>
              <a:xfrm>
                <a:off x="6902280" y="2859120"/>
                <a:ext cx="6696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6902280" y="2859120"/>
                <a:ext cx="6696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6445080" y="2681280"/>
              <a:ext cx="65160" cy="65160"/>
              <a:chOff x="6445080" y="2681280"/>
              <a:chExt cx="65160" cy="65160"/>
            </a:xfrm>
          </p:grpSpPr>
          <p:sp>
            <p:nvSpPr>
              <p:cNvPr id="2176" name=""/>
              <p:cNvSpPr/>
              <p:nvPr/>
            </p:nvSpPr>
            <p:spPr>
              <a:xfrm>
                <a:off x="6445080" y="2681280"/>
                <a:ext cx="6516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445080" y="2681280"/>
                <a:ext cx="6516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5985000" y="2503440"/>
              <a:ext cx="64800" cy="66600"/>
              <a:chOff x="5985000" y="2503440"/>
              <a:chExt cx="64800" cy="66600"/>
            </a:xfrm>
          </p:grpSpPr>
          <p:sp>
            <p:nvSpPr>
              <p:cNvPr id="2179" name=""/>
              <p:cNvSpPr/>
              <p:nvPr/>
            </p:nvSpPr>
            <p:spPr>
              <a:xfrm>
                <a:off x="5985000" y="2503440"/>
                <a:ext cx="648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985000" y="2503440"/>
                <a:ext cx="64800" cy="6660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5572080" y="2565360"/>
              <a:ext cx="65160" cy="65160"/>
              <a:chOff x="5572080" y="2565360"/>
              <a:chExt cx="65160" cy="65160"/>
            </a:xfrm>
          </p:grpSpPr>
          <p:sp>
            <p:nvSpPr>
              <p:cNvPr id="2182" name=""/>
              <p:cNvSpPr/>
              <p:nvPr/>
            </p:nvSpPr>
            <p:spPr>
              <a:xfrm>
                <a:off x="5572080" y="2565360"/>
                <a:ext cx="6516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572080" y="2565360"/>
                <a:ext cx="6516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4" name=""/>
            <p:cNvSpPr/>
            <p:nvPr/>
          </p:nvSpPr>
          <p:spPr>
            <a:xfrm>
              <a:off x="5608800" y="2568600"/>
              <a:ext cx="140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22840" y="2570040"/>
              <a:ext cx="144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37240" y="257004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53080" y="257184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68920" y="2571840"/>
              <a:ext cx="14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683320" y="257328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699160" y="2573280"/>
              <a:ext cx="144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713560" y="2575080"/>
              <a:ext cx="140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727600" y="257508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743440" y="2576520"/>
              <a:ext cx="14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57840" y="257796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73680" y="257796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89520" y="2579760"/>
              <a:ext cx="14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803920" y="257976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819760" y="2579760"/>
              <a:ext cx="14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834160" y="2581200"/>
              <a:ext cx="140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848200" y="2583000"/>
              <a:ext cx="162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864400" y="258300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880240" y="2584440"/>
              <a:ext cx="140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894280" y="258588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910120" y="258768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925960" y="2589120"/>
              <a:ext cx="144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40360" y="2590920"/>
              <a:ext cx="14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954760" y="259236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70600" y="2593800"/>
              <a:ext cx="144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85000" y="259560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000840" y="259704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16680" y="2598840"/>
              <a:ext cx="14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031080" y="260028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046920" y="2602080"/>
              <a:ext cx="140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060960" y="2603520"/>
              <a:ext cx="1440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075360" y="260676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091200" y="260820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107040" y="2610000"/>
              <a:ext cx="14400" cy="2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121440" y="261288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37280" y="261468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53120" y="2616120"/>
              <a:ext cx="1440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167520" y="2619360"/>
              <a:ext cx="140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181560" y="2620800"/>
              <a:ext cx="162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197760" y="2622600"/>
              <a:ext cx="140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211800" y="262584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227640" y="2627280"/>
              <a:ext cx="1440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242040" y="263052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257880" y="263376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273720" y="2637000"/>
              <a:ext cx="12960" cy="2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286680" y="263988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302520" y="264312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318360" y="2646360"/>
              <a:ext cx="140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332400" y="264960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348240" y="2652840"/>
              <a:ext cx="16200" cy="2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364440" y="2655720"/>
              <a:ext cx="140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378480" y="266076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394320" y="266220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408720" y="2666880"/>
              <a:ext cx="1440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423120" y="267012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438960" y="267480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454800" y="267804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469200" y="2682720"/>
              <a:ext cx="158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485040" y="268776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500880" y="2692440"/>
              <a:ext cx="126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513480" y="269712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529320" y="2701800"/>
              <a:ext cx="158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545160" y="270684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559560" y="271152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575400" y="27162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591240" y="272268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605640" y="2728800"/>
              <a:ext cx="158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621480" y="273384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635880" y="2739960"/>
              <a:ext cx="140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649920" y="27446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665760" y="2751120"/>
              <a:ext cx="162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681960" y="275760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696000" y="276552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711840" y="2771640"/>
              <a:ext cx="1440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726240" y="277956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740640" y="27860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756480" y="279252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770520" y="2800440"/>
              <a:ext cx="16200" cy="93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786720" y="280980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802560" y="281772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816600" y="282564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832440" y="2833560"/>
              <a:ext cx="1440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846840" y="2841480"/>
              <a:ext cx="14400" cy="9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861240" y="2851200"/>
              <a:ext cx="15840" cy="93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877080" y="286056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892920" y="2868480"/>
              <a:ext cx="14400" cy="111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907320" y="2879640"/>
              <a:ext cx="15840" cy="9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923160" y="2889360"/>
              <a:ext cx="15840" cy="111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939000" y="2900520"/>
              <a:ext cx="1440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953400" y="2908440"/>
              <a:ext cx="14040" cy="10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967440" y="2919240"/>
              <a:ext cx="15840" cy="12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983280" y="2932200"/>
              <a:ext cx="14400" cy="111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997680" y="2943360"/>
              <a:ext cx="15840" cy="93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013520" y="2952720"/>
              <a:ext cx="15840" cy="12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029360" y="2965320"/>
              <a:ext cx="14400" cy="12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043760" y="2978280"/>
              <a:ext cx="15840" cy="111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059600" y="2989440"/>
              <a:ext cx="14400" cy="12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074000" y="3002040"/>
              <a:ext cx="14040" cy="12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088040" y="3014640"/>
              <a:ext cx="16200" cy="14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104240" y="3029040"/>
              <a:ext cx="15840" cy="111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120080" y="3040200"/>
              <a:ext cx="14040" cy="14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134120" y="3054240"/>
              <a:ext cx="15840" cy="14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149960" y="3068640"/>
              <a:ext cx="14400" cy="12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164360" y="3081240"/>
              <a:ext cx="1584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180200" y="3097080"/>
              <a:ext cx="14400" cy="14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194600" y="3111480"/>
              <a:ext cx="14400" cy="14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209000" y="3125880"/>
              <a:ext cx="1584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224840" y="3141720"/>
              <a:ext cx="15840" cy="14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40680" y="3156120"/>
              <a:ext cx="14040" cy="172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254720" y="3173400"/>
              <a:ext cx="1620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270920" y="3189240"/>
              <a:ext cx="1584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286760" y="3205080"/>
              <a:ext cx="1260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299360" y="3220920"/>
              <a:ext cx="1584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315200" y="3236760"/>
              <a:ext cx="1584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331040" y="3255840"/>
              <a:ext cx="14400" cy="1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345440" y="3273480"/>
              <a:ext cx="1584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361280" y="3289320"/>
              <a:ext cx="1584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377120" y="3308400"/>
              <a:ext cx="14400" cy="172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391520" y="3325680"/>
              <a:ext cx="1584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407360" y="3344760"/>
              <a:ext cx="14040" cy="1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421400" y="3362400"/>
              <a:ext cx="1440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435800" y="3381480"/>
              <a:ext cx="15840" cy="172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451640" y="3398760"/>
              <a:ext cx="15840" cy="20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467480" y="3419640"/>
              <a:ext cx="14400" cy="18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481880" y="3438360"/>
              <a:ext cx="1584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497720" y="3457440"/>
              <a:ext cx="15840" cy="20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513560" y="3478320"/>
              <a:ext cx="1260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526160" y="3497400"/>
              <a:ext cx="1620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542360" y="3517920"/>
              <a:ext cx="1584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558200" y="3537000"/>
              <a:ext cx="14040" cy="223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572240" y="3559320"/>
              <a:ext cx="1584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588080" y="3578400"/>
              <a:ext cx="1620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604280" y="3598920"/>
              <a:ext cx="1404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618320" y="3619440"/>
              <a:ext cx="15840" cy="223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634160" y="3641760"/>
              <a:ext cx="1440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648560" y="3660840"/>
              <a:ext cx="14400" cy="223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662960" y="3683160"/>
              <a:ext cx="1584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678800" y="3703680"/>
              <a:ext cx="1440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693200" y="3724200"/>
              <a:ext cx="15840" cy="20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709040" y="3745080"/>
              <a:ext cx="1584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724880" y="3765600"/>
              <a:ext cx="14040" cy="223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738920" y="3787920"/>
              <a:ext cx="1440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753320" y="3808440"/>
              <a:ext cx="1584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69160" y="3828960"/>
              <a:ext cx="14400" cy="20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83560" y="3849840"/>
              <a:ext cx="15840" cy="2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799400" y="3871800"/>
              <a:ext cx="15840" cy="20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815240" y="3892680"/>
              <a:ext cx="1440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829640" y="3913200"/>
              <a:ext cx="1584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845480" y="3933720"/>
              <a:ext cx="15840" cy="223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861320" y="3316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940440" y="2994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481800" y="26733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021360" y="26733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608800" y="23511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8" name=""/>
            <p:cNvGrpSpPr/>
            <p:nvPr/>
          </p:nvGrpSpPr>
          <p:grpSpPr>
            <a:xfrm>
              <a:off x="7824960" y="3279600"/>
              <a:ext cx="72720" cy="74880"/>
              <a:chOff x="7824960" y="3279600"/>
              <a:chExt cx="72720" cy="74880"/>
            </a:xfrm>
          </p:grpSpPr>
          <p:sp>
            <p:nvSpPr>
              <p:cNvPr id="2339" name=""/>
              <p:cNvSpPr/>
              <p:nvPr/>
            </p:nvSpPr>
            <p:spPr>
              <a:xfrm>
                <a:off x="7824960" y="3279600"/>
                <a:ext cx="72720" cy="7488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0"/>
                    </a:moveTo>
                    <a:lnTo>
                      <a:pt x="46" y="0"/>
                    </a:lnTo>
                    <a:lnTo>
                      <a:pt x="23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24960" y="3279600"/>
                <a:ext cx="72720" cy="7488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0"/>
                    </a:moveTo>
                    <a:lnTo>
                      <a:pt x="46" y="0"/>
                    </a:lnTo>
                    <a:lnTo>
                      <a:pt x="23" y="4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902280" y="2957400"/>
              <a:ext cx="74880" cy="73080"/>
              <a:chOff x="6902280" y="2957400"/>
              <a:chExt cx="74880" cy="73080"/>
            </a:xfrm>
          </p:grpSpPr>
          <p:sp>
            <p:nvSpPr>
              <p:cNvPr id="2342" name=""/>
              <p:cNvSpPr/>
              <p:nvPr/>
            </p:nvSpPr>
            <p:spPr>
              <a:xfrm>
                <a:off x="6902280" y="2957400"/>
                <a:ext cx="7488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4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902280" y="2957400"/>
                <a:ext cx="7488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4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6445080" y="2637000"/>
              <a:ext cx="73080" cy="72720"/>
              <a:chOff x="6445080" y="2637000"/>
              <a:chExt cx="73080" cy="72720"/>
            </a:xfrm>
          </p:grpSpPr>
          <p:sp>
            <p:nvSpPr>
              <p:cNvPr id="2345" name=""/>
              <p:cNvSpPr/>
              <p:nvPr/>
            </p:nvSpPr>
            <p:spPr>
              <a:xfrm>
                <a:off x="6445080" y="26370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445080" y="26370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5985000" y="2637000"/>
              <a:ext cx="74520" cy="72720"/>
              <a:chOff x="5985000" y="2637000"/>
              <a:chExt cx="74520" cy="72720"/>
            </a:xfrm>
          </p:grpSpPr>
          <p:sp>
            <p:nvSpPr>
              <p:cNvPr id="2348" name=""/>
              <p:cNvSpPr/>
              <p:nvPr/>
            </p:nvSpPr>
            <p:spPr>
              <a:xfrm>
                <a:off x="5985000" y="2637000"/>
                <a:ext cx="7452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985000" y="2637000"/>
                <a:ext cx="7452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5572080" y="2314440"/>
              <a:ext cx="73080" cy="73080"/>
              <a:chOff x="5572080" y="2314440"/>
              <a:chExt cx="73080" cy="73080"/>
            </a:xfrm>
          </p:grpSpPr>
          <p:sp>
            <p:nvSpPr>
              <p:cNvPr id="2351" name=""/>
              <p:cNvSpPr/>
              <p:nvPr/>
            </p:nvSpPr>
            <p:spPr>
              <a:xfrm>
                <a:off x="5572080" y="23144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572080" y="23144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3" name=""/>
            <p:cNvSpPr/>
            <p:nvPr/>
          </p:nvSpPr>
          <p:spPr>
            <a:xfrm>
              <a:off x="5608800" y="238932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622840" y="23954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637240" y="240192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653080" y="24098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668920" y="241632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683320" y="24224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699160" y="242892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713560" y="243540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727600" y="244332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743440" y="2449440"/>
              <a:ext cx="1440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757840" y="245736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773680" y="24620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789520" y="2468520"/>
              <a:ext cx="1440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803920" y="24764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819760" y="248292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834160" y="248904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848200" y="2496960"/>
              <a:ext cx="1620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864400" y="250200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880240" y="250992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894280" y="25160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910120" y="252252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925960" y="25304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940360" y="253692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954760" y="254160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970600" y="254952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985000" y="255600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000840" y="256212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016680" y="25700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031080" y="257652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046920" y="258120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861320" y="39560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940440" y="289548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481800" y="271764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021360" y="25401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608800" y="260208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8" name=""/>
            <p:cNvGrpSpPr/>
            <p:nvPr/>
          </p:nvGrpSpPr>
          <p:grpSpPr>
            <a:xfrm>
              <a:off x="7824960" y="3919680"/>
              <a:ext cx="64800" cy="64800"/>
              <a:chOff x="7824960" y="3919680"/>
              <a:chExt cx="64800" cy="64800"/>
            </a:xfrm>
          </p:grpSpPr>
          <p:sp>
            <p:nvSpPr>
              <p:cNvPr id="2389" name=""/>
              <p:cNvSpPr/>
              <p:nvPr/>
            </p:nvSpPr>
            <p:spPr>
              <a:xfrm>
                <a:off x="7824960" y="3919680"/>
                <a:ext cx="6480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824960" y="3919680"/>
                <a:ext cx="64800" cy="6480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1" name=""/>
            <p:cNvGrpSpPr/>
            <p:nvPr/>
          </p:nvGrpSpPr>
          <p:grpSpPr>
            <a:xfrm>
              <a:off x="6902280" y="2859120"/>
              <a:ext cx="66960" cy="65160"/>
              <a:chOff x="6902280" y="2859120"/>
              <a:chExt cx="66960" cy="65160"/>
            </a:xfrm>
          </p:grpSpPr>
          <p:sp>
            <p:nvSpPr>
              <p:cNvPr id="2392" name=""/>
              <p:cNvSpPr/>
              <p:nvPr/>
            </p:nvSpPr>
            <p:spPr>
              <a:xfrm>
                <a:off x="6902280" y="2859120"/>
                <a:ext cx="6696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902280" y="2859120"/>
                <a:ext cx="6696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4" name=""/>
            <p:cNvGrpSpPr/>
            <p:nvPr/>
          </p:nvGrpSpPr>
          <p:grpSpPr>
            <a:xfrm>
              <a:off x="6445080" y="2681280"/>
              <a:ext cx="65160" cy="65160"/>
              <a:chOff x="6445080" y="2681280"/>
              <a:chExt cx="65160" cy="65160"/>
            </a:xfrm>
          </p:grpSpPr>
          <p:sp>
            <p:nvSpPr>
              <p:cNvPr id="2395" name=""/>
              <p:cNvSpPr/>
              <p:nvPr/>
            </p:nvSpPr>
            <p:spPr>
              <a:xfrm>
                <a:off x="6445080" y="2681280"/>
                <a:ext cx="6516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445080" y="2681280"/>
                <a:ext cx="6516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7" name=""/>
            <p:cNvGrpSpPr/>
            <p:nvPr/>
          </p:nvGrpSpPr>
          <p:grpSpPr>
            <a:xfrm>
              <a:off x="5985000" y="2503440"/>
              <a:ext cx="64800" cy="66600"/>
              <a:chOff x="5985000" y="2503440"/>
              <a:chExt cx="64800" cy="66600"/>
            </a:xfrm>
          </p:grpSpPr>
          <p:sp>
            <p:nvSpPr>
              <p:cNvPr id="2398" name=""/>
              <p:cNvSpPr/>
              <p:nvPr/>
            </p:nvSpPr>
            <p:spPr>
              <a:xfrm>
                <a:off x="5985000" y="2503440"/>
                <a:ext cx="648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985000" y="2503440"/>
                <a:ext cx="64800" cy="6660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"/>
            <p:cNvGrpSpPr/>
            <p:nvPr/>
          </p:nvGrpSpPr>
          <p:grpSpPr>
            <a:xfrm>
              <a:off x="5572080" y="2565360"/>
              <a:ext cx="65160" cy="65160"/>
              <a:chOff x="5572080" y="2565360"/>
              <a:chExt cx="65160" cy="65160"/>
            </a:xfrm>
          </p:grpSpPr>
          <p:sp>
            <p:nvSpPr>
              <p:cNvPr id="2401" name=""/>
              <p:cNvSpPr/>
              <p:nvPr/>
            </p:nvSpPr>
            <p:spPr>
              <a:xfrm>
                <a:off x="5572080" y="2565360"/>
                <a:ext cx="6516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572080" y="2565360"/>
                <a:ext cx="6516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3" name=""/>
            <p:cNvSpPr/>
            <p:nvPr/>
          </p:nvSpPr>
          <p:spPr>
            <a:xfrm>
              <a:off x="5608800" y="2568600"/>
              <a:ext cx="140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622840" y="2570040"/>
              <a:ext cx="144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637240" y="257004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653080" y="257184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668920" y="2571840"/>
              <a:ext cx="14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683320" y="257328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699160" y="2573280"/>
              <a:ext cx="144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713560" y="2575080"/>
              <a:ext cx="140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727600" y="257508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743440" y="2576520"/>
              <a:ext cx="14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757840" y="257796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773680" y="257796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89520" y="2579760"/>
              <a:ext cx="14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803920" y="257976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819760" y="2579760"/>
              <a:ext cx="14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834160" y="2581200"/>
              <a:ext cx="140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848200" y="2583000"/>
              <a:ext cx="162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864400" y="258300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880240" y="2584440"/>
              <a:ext cx="140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894280" y="258588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910120" y="258768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925960" y="2589120"/>
              <a:ext cx="144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940360" y="2590920"/>
              <a:ext cx="14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954760" y="259236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970600" y="2593800"/>
              <a:ext cx="144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985000" y="259560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000840" y="259704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016680" y="2598840"/>
              <a:ext cx="14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031080" y="260028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046920" y="2602080"/>
              <a:ext cx="140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060960" y="2603520"/>
              <a:ext cx="1440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075360" y="260676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091200" y="260820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107040" y="2610000"/>
              <a:ext cx="14400" cy="2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121440" y="2612880"/>
              <a:ext cx="15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137280" y="261468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153120" y="2616120"/>
              <a:ext cx="1440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167520" y="2619360"/>
              <a:ext cx="140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181560" y="2620800"/>
              <a:ext cx="162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197760" y="2622600"/>
              <a:ext cx="140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211800" y="262584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227640" y="2627280"/>
              <a:ext cx="1440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242040" y="263052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257880" y="263376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273720" y="2637000"/>
              <a:ext cx="12960" cy="2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286680" y="263988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302520" y="264312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318360" y="2646360"/>
              <a:ext cx="140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332400" y="264960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348240" y="2652840"/>
              <a:ext cx="16200" cy="2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364440" y="2655720"/>
              <a:ext cx="140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378480" y="2660760"/>
              <a:ext cx="15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394320" y="266220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408720" y="2666880"/>
              <a:ext cx="1440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423120" y="267012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438960" y="267480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454800" y="267804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469200" y="2682720"/>
              <a:ext cx="158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485040" y="268776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500880" y="2692440"/>
              <a:ext cx="126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513480" y="269712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529320" y="2701800"/>
              <a:ext cx="158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45160" y="270684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559560" y="271152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575400" y="27162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591240" y="272268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605640" y="2728800"/>
              <a:ext cx="158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621480" y="273384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635880" y="2739960"/>
              <a:ext cx="140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649920" y="27446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665760" y="2751120"/>
              <a:ext cx="162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681960" y="275760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696000" y="276552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711840" y="2771640"/>
              <a:ext cx="1440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726240" y="277956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740640" y="27860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756480" y="279252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770520" y="2800440"/>
              <a:ext cx="16200" cy="93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786720" y="280980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802560" y="281772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816600" y="282564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832440" y="2833560"/>
              <a:ext cx="1440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846840" y="2841480"/>
              <a:ext cx="14400" cy="9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861240" y="2851200"/>
              <a:ext cx="15840" cy="93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877080" y="286056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892920" y="2868480"/>
              <a:ext cx="14400" cy="111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907320" y="2879640"/>
              <a:ext cx="15840" cy="9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923160" y="2889360"/>
              <a:ext cx="15840" cy="111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939000" y="2900520"/>
              <a:ext cx="1440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953400" y="2908440"/>
              <a:ext cx="14040" cy="10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967440" y="2919240"/>
              <a:ext cx="15840" cy="12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983280" y="2932200"/>
              <a:ext cx="14400" cy="111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997680" y="2943360"/>
              <a:ext cx="15840" cy="93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013520" y="2952720"/>
              <a:ext cx="15840" cy="12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029360" y="2965320"/>
              <a:ext cx="14400" cy="12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043760" y="2978280"/>
              <a:ext cx="15840" cy="111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059600" y="2989440"/>
              <a:ext cx="14400" cy="12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074000" y="3002040"/>
              <a:ext cx="14040" cy="12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088040" y="3014640"/>
              <a:ext cx="16200" cy="14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104240" y="3029040"/>
              <a:ext cx="15840" cy="111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120080" y="3040200"/>
              <a:ext cx="14040" cy="14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134120" y="3054240"/>
              <a:ext cx="15840" cy="14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149960" y="3068640"/>
              <a:ext cx="14400" cy="12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164360" y="3081240"/>
              <a:ext cx="1584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180200" y="3097080"/>
              <a:ext cx="14400" cy="14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194600" y="3111480"/>
              <a:ext cx="14400" cy="14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209000" y="3125880"/>
              <a:ext cx="1584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224840" y="3141720"/>
              <a:ext cx="15840" cy="14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240680" y="3156120"/>
              <a:ext cx="14040" cy="172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254720" y="3173400"/>
              <a:ext cx="1620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270920" y="3189240"/>
              <a:ext cx="1584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286760" y="3205080"/>
              <a:ext cx="1260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299360" y="3220920"/>
              <a:ext cx="1584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7315200" y="3236760"/>
              <a:ext cx="1584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331040" y="3255840"/>
              <a:ext cx="14400" cy="1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345440" y="3273480"/>
              <a:ext cx="15840" cy="15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361280" y="3289320"/>
              <a:ext cx="1584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377120" y="3308400"/>
              <a:ext cx="14400" cy="172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391520" y="3325680"/>
              <a:ext cx="1584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407360" y="3344760"/>
              <a:ext cx="14040" cy="1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421400" y="3362400"/>
              <a:ext cx="1440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435800" y="3381480"/>
              <a:ext cx="15840" cy="172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451640" y="3398760"/>
              <a:ext cx="15840" cy="20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467480" y="3419640"/>
              <a:ext cx="14400" cy="18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481880" y="3438360"/>
              <a:ext cx="1584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497720" y="3457440"/>
              <a:ext cx="15840" cy="20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513560" y="3478320"/>
              <a:ext cx="1260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526160" y="3497400"/>
              <a:ext cx="1620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542360" y="3517920"/>
              <a:ext cx="1584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558200" y="3537000"/>
              <a:ext cx="14040" cy="223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572240" y="3559320"/>
              <a:ext cx="1584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588080" y="3578400"/>
              <a:ext cx="1620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604280" y="3598920"/>
              <a:ext cx="1404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618320" y="3619440"/>
              <a:ext cx="15840" cy="223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634160" y="3641760"/>
              <a:ext cx="14400" cy="19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648560" y="3660840"/>
              <a:ext cx="14400" cy="223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662960" y="3683160"/>
              <a:ext cx="1584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678800" y="3703680"/>
              <a:ext cx="1440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693200" y="3724200"/>
              <a:ext cx="15840" cy="20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709040" y="3745080"/>
              <a:ext cx="1584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724880" y="3765600"/>
              <a:ext cx="14040" cy="223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38920" y="3787920"/>
              <a:ext cx="1440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753320" y="3808440"/>
              <a:ext cx="1584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769160" y="3828960"/>
              <a:ext cx="14400" cy="20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783560" y="3849840"/>
              <a:ext cx="15840" cy="2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799400" y="3871800"/>
              <a:ext cx="15840" cy="208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815240" y="3892680"/>
              <a:ext cx="1440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829640" y="3913200"/>
              <a:ext cx="15840" cy="20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845480" y="3933720"/>
              <a:ext cx="15840" cy="223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861320" y="3316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940440" y="2994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481800" y="26733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021360" y="26733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608800" y="23511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7" name=""/>
            <p:cNvGrpSpPr/>
            <p:nvPr/>
          </p:nvGrpSpPr>
          <p:grpSpPr>
            <a:xfrm>
              <a:off x="7824960" y="3279600"/>
              <a:ext cx="72720" cy="74880"/>
              <a:chOff x="7824960" y="3279600"/>
              <a:chExt cx="72720" cy="74880"/>
            </a:xfrm>
          </p:grpSpPr>
          <p:sp>
            <p:nvSpPr>
              <p:cNvPr id="2558" name=""/>
              <p:cNvSpPr/>
              <p:nvPr/>
            </p:nvSpPr>
            <p:spPr>
              <a:xfrm>
                <a:off x="7824960" y="3279600"/>
                <a:ext cx="72720" cy="7488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0"/>
                    </a:moveTo>
                    <a:lnTo>
                      <a:pt x="46" y="0"/>
                    </a:lnTo>
                    <a:lnTo>
                      <a:pt x="23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824960" y="3279600"/>
                <a:ext cx="72720" cy="7488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0"/>
                    </a:moveTo>
                    <a:lnTo>
                      <a:pt x="46" y="0"/>
                    </a:lnTo>
                    <a:lnTo>
                      <a:pt x="23" y="4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0" name=""/>
            <p:cNvGrpSpPr/>
            <p:nvPr/>
          </p:nvGrpSpPr>
          <p:grpSpPr>
            <a:xfrm>
              <a:off x="6902280" y="2957400"/>
              <a:ext cx="74880" cy="73080"/>
              <a:chOff x="6902280" y="2957400"/>
              <a:chExt cx="74880" cy="73080"/>
            </a:xfrm>
          </p:grpSpPr>
          <p:sp>
            <p:nvSpPr>
              <p:cNvPr id="2561" name=""/>
              <p:cNvSpPr/>
              <p:nvPr/>
            </p:nvSpPr>
            <p:spPr>
              <a:xfrm>
                <a:off x="6902280" y="2957400"/>
                <a:ext cx="7488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4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902280" y="2957400"/>
                <a:ext cx="7488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4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3" name=""/>
            <p:cNvGrpSpPr/>
            <p:nvPr/>
          </p:nvGrpSpPr>
          <p:grpSpPr>
            <a:xfrm>
              <a:off x="6445080" y="2637000"/>
              <a:ext cx="73080" cy="72720"/>
              <a:chOff x="6445080" y="2637000"/>
              <a:chExt cx="73080" cy="72720"/>
            </a:xfrm>
          </p:grpSpPr>
          <p:sp>
            <p:nvSpPr>
              <p:cNvPr id="2564" name=""/>
              <p:cNvSpPr/>
              <p:nvPr/>
            </p:nvSpPr>
            <p:spPr>
              <a:xfrm>
                <a:off x="6445080" y="26370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445080" y="26370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6" name=""/>
            <p:cNvGrpSpPr/>
            <p:nvPr/>
          </p:nvGrpSpPr>
          <p:grpSpPr>
            <a:xfrm>
              <a:off x="5985000" y="2637000"/>
              <a:ext cx="74520" cy="72720"/>
              <a:chOff x="5985000" y="2637000"/>
              <a:chExt cx="74520" cy="72720"/>
            </a:xfrm>
          </p:grpSpPr>
          <p:sp>
            <p:nvSpPr>
              <p:cNvPr id="2567" name=""/>
              <p:cNvSpPr/>
              <p:nvPr/>
            </p:nvSpPr>
            <p:spPr>
              <a:xfrm>
                <a:off x="5985000" y="2637000"/>
                <a:ext cx="7452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985000" y="2637000"/>
                <a:ext cx="7452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9" name=""/>
            <p:cNvGrpSpPr/>
            <p:nvPr/>
          </p:nvGrpSpPr>
          <p:grpSpPr>
            <a:xfrm>
              <a:off x="5572080" y="2314440"/>
              <a:ext cx="73080" cy="73080"/>
              <a:chOff x="5572080" y="2314440"/>
              <a:chExt cx="73080" cy="73080"/>
            </a:xfrm>
          </p:grpSpPr>
          <p:sp>
            <p:nvSpPr>
              <p:cNvPr id="2570" name=""/>
              <p:cNvSpPr/>
              <p:nvPr/>
            </p:nvSpPr>
            <p:spPr>
              <a:xfrm>
                <a:off x="5572080" y="23144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572080" y="23144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2" name=""/>
            <p:cNvSpPr/>
            <p:nvPr/>
          </p:nvSpPr>
          <p:spPr>
            <a:xfrm>
              <a:off x="5608800" y="238932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622840" y="23954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637240" y="240192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653080" y="24098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668920" y="241632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683320" y="24224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699160" y="242892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713560" y="243540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727600" y="244332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743440" y="2449440"/>
              <a:ext cx="1440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757840" y="245736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773680" y="24620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789520" y="2468520"/>
              <a:ext cx="1440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803920" y="24764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819760" y="248292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834160" y="248904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848200" y="2496960"/>
              <a:ext cx="1620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864400" y="250200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880240" y="250992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894280" y="25160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910120" y="252252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925960" y="25304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940360" y="253692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954760" y="254160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970600" y="254952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985000" y="255600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000840" y="256212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016680" y="25700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031080" y="257652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046920" y="258120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060960" y="258912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075360" y="25956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091200" y="260208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107040" y="261000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121440" y="261612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137280" y="2620800"/>
              <a:ext cx="15840" cy="82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153120" y="262908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167520" y="2635200"/>
              <a:ext cx="140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181560" y="2641680"/>
              <a:ext cx="162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197760" y="264780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211800" y="265572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227640" y="266220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242040" y="266688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257880" y="26748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273720" y="2681280"/>
              <a:ext cx="1296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286680" y="268776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302520" y="269388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318360" y="2701800"/>
              <a:ext cx="140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332400" y="270684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348240" y="2712960"/>
              <a:ext cx="162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364440" y="2719440"/>
              <a:ext cx="140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378480" y="27273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394320" y="273384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408720" y="273996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423120" y="274464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438960" y="27525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454800" y="27590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469200" y="276552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485040" y="27716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500880" y="2778120"/>
              <a:ext cx="126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513480" y="278460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529320" y="279072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545160" y="279720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559560" y="280368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575400" y="2809800"/>
              <a:ext cx="1584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591240" y="281772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605640" y="282420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621480" y="282888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635880" y="283536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649920" y="28414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665760" y="2847960"/>
              <a:ext cx="16200" cy="7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681960" y="2855880"/>
              <a:ext cx="140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696000" y="286236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711840" y="28670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726240" y="287352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740640" y="28796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756480" y="2886120"/>
              <a:ext cx="140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770520" y="2892600"/>
              <a:ext cx="162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786720" y="289872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802560" y="290520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816600" y="291132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832440" y="291780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846840" y="292428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861240" y="29304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877080" y="29368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892920" y="294336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907320" y="294804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923160" y="29541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939000" y="29606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953400" y="296712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967440" y="29732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983280" y="297972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997680" y="298620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013520" y="29908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029360" y="299736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043760" y="30034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059600" y="300996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074000" y="3016080"/>
              <a:ext cx="140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088040" y="3022560"/>
              <a:ext cx="162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7104240" y="302904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120080" y="3033720"/>
              <a:ext cx="140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134120" y="304020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149960" y="304632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164360" y="30528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180200" y="305928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194600" y="306540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209000" y="30700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224840" y="30765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240680" y="308304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254720" y="3089160"/>
              <a:ext cx="1620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270920" y="309420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286760" y="3100320"/>
              <a:ext cx="126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299360" y="310680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315200" y="31114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331040" y="311796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345440" y="31240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361280" y="313056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377120" y="313524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391520" y="314172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407360" y="3147840"/>
              <a:ext cx="140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421400" y="315288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435800" y="31590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451640" y="3165480"/>
              <a:ext cx="158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467480" y="3170160"/>
              <a:ext cx="1440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481880" y="317664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497720" y="31827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513560" y="3189240"/>
              <a:ext cx="126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526160" y="3193920"/>
              <a:ext cx="1620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542360" y="319896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558200" y="3205080"/>
              <a:ext cx="140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572240" y="32115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588080" y="3218040"/>
              <a:ext cx="162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604280" y="3222720"/>
              <a:ext cx="140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618320" y="3228840"/>
              <a:ext cx="15840" cy="5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634160" y="323388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648560" y="3238560"/>
              <a:ext cx="1440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662960" y="324468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678800" y="325116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693200" y="325584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709040" y="326232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724880" y="3268800"/>
              <a:ext cx="1404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738920" y="327348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753320" y="327816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769160" y="328464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783560" y="328932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799400" y="3295800"/>
              <a:ext cx="15840" cy="6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815240" y="3301920"/>
              <a:ext cx="144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829640" y="3306600"/>
              <a:ext cx="15840" cy="6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845480" y="3313080"/>
              <a:ext cx="15840" cy="32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829200" y="1646280"/>
              <a:ext cx="93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#12 e rad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562720" y="4925880"/>
              <a:ext cx="27572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562720" y="4925880"/>
              <a:ext cx="144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52420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021360" y="4925880"/>
              <a:ext cx="144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98140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481800" y="4925880"/>
              <a:ext cx="144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44328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942240" y="4925880"/>
              <a:ext cx="144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90372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400880" y="4925880"/>
              <a:ext cx="180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36092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861320" y="4925880"/>
              <a:ext cx="144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82280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319960" y="4925880"/>
              <a:ext cx="1800" cy="54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80000" y="500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5562720" y="2028600"/>
              <a:ext cx="1440" cy="28969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H="1">
              <a:off x="5508720" y="4925880"/>
              <a:ext cx="540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379480" y="485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 flipH="1">
              <a:off x="5508720" y="4684680"/>
              <a:ext cx="540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299200" y="4610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H="1">
              <a:off x="5508720" y="444348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299200" y="4368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5508720" y="420228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299200" y="41274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5508720" y="3960720"/>
              <a:ext cx="540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299200" y="38847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5508720" y="371952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299200" y="36450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H="1">
              <a:off x="5508720" y="347832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299200" y="34020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>
              <a:off x="5508720" y="323532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299200" y="3160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H="1">
              <a:off x="5508720" y="299412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299200" y="2917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H="1">
              <a:off x="5508720" y="2752560"/>
              <a:ext cx="540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299200" y="2678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H="1">
              <a:off x="5508720" y="2511360"/>
              <a:ext cx="540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225760" y="24354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 flipH="1">
              <a:off x="5508720" y="227016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225760" y="21956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H="1">
              <a:off x="5508720" y="202896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225760" y="19526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293880" y="5896080"/>
              <a:ext cx="155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#12 +Radio Normo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5" name=""/>
            <p:cNvGrpSpPr/>
            <p:nvPr/>
          </p:nvGrpSpPr>
          <p:grpSpPr>
            <a:xfrm>
              <a:off x="5983200" y="5932440"/>
              <a:ext cx="65160" cy="65160"/>
              <a:chOff x="5983200" y="5932440"/>
              <a:chExt cx="65160" cy="65160"/>
            </a:xfrm>
          </p:grpSpPr>
          <p:sp>
            <p:nvSpPr>
              <p:cNvPr id="2766" name=""/>
              <p:cNvSpPr/>
              <p:nvPr/>
            </p:nvSpPr>
            <p:spPr>
              <a:xfrm>
                <a:off x="5983200" y="5932440"/>
                <a:ext cx="6516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983200" y="5932440"/>
                <a:ext cx="6516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8" name=""/>
            <p:cNvSpPr/>
            <p:nvPr/>
          </p:nvSpPr>
          <p:spPr>
            <a:xfrm>
              <a:off x="6285960" y="6107040"/>
              <a:ext cx="139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# 12 + Radio Ipo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9" name=""/>
            <p:cNvGrpSpPr/>
            <p:nvPr/>
          </p:nvGrpSpPr>
          <p:grpSpPr>
            <a:xfrm>
              <a:off x="5983200" y="6143760"/>
              <a:ext cx="73080" cy="72720"/>
              <a:chOff x="5983200" y="6143760"/>
              <a:chExt cx="73080" cy="72720"/>
            </a:xfrm>
          </p:grpSpPr>
          <p:sp>
            <p:nvSpPr>
              <p:cNvPr id="2770" name=""/>
              <p:cNvSpPr/>
              <p:nvPr/>
            </p:nvSpPr>
            <p:spPr>
              <a:xfrm>
                <a:off x="5983200" y="614376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983200" y="614376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2" name=""/>
            <p:cNvSpPr/>
            <p:nvPr/>
          </p:nvSpPr>
          <p:spPr>
            <a:xfrm>
              <a:off x="6293880" y="5896080"/>
              <a:ext cx="155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#12 +Radio Normo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3" name=""/>
            <p:cNvGrpSpPr/>
            <p:nvPr/>
          </p:nvGrpSpPr>
          <p:grpSpPr>
            <a:xfrm>
              <a:off x="5983200" y="5932440"/>
              <a:ext cx="65160" cy="65160"/>
              <a:chOff x="5983200" y="5932440"/>
              <a:chExt cx="65160" cy="65160"/>
            </a:xfrm>
          </p:grpSpPr>
          <p:sp>
            <p:nvSpPr>
              <p:cNvPr id="2774" name=""/>
              <p:cNvSpPr/>
              <p:nvPr/>
            </p:nvSpPr>
            <p:spPr>
              <a:xfrm>
                <a:off x="5983200" y="5932440"/>
                <a:ext cx="6516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983200" y="5932440"/>
                <a:ext cx="65160" cy="6516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6" name=""/>
            <p:cNvSpPr/>
            <p:nvPr/>
          </p:nvSpPr>
          <p:spPr>
            <a:xfrm>
              <a:off x="6285960" y="6107040"/>
              <a:ext cx="139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# 12 + Radio Ipo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7" name=""/>
            <p:cNvGrpSpPr/>
            <p:nvPr/>
          </p:nvGrpSpPr>
          <p:grpSpPr>
            <a:xfrm>
              <a:off x="5983200" y="6143760"/>
              <a:ext cx="73080" cy="72720"/>
              <a:chOff x="5983200" y="6143760"/>
              <a:chExt cx="73080" cy="72720"/>
            </a:xfrm>
          </p:grpSpPr>
          <p:sp>
            <p:nvSpPr>
              <p:cNvPr id="2778" name=""/>
              <p:cNvSpPr/>
              <p:nvPr/>
            </p:nvSpPr>
            <p:spPr>
              <a:xfrm>
                <a:off x="5983200" y="614376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983200" y="614376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0" name=""/>
            <p:cNvSpPr/>
            <p:nvPr/>
          </p:nvSpPr>
          <p:spPr>
            <a:xfrm>
              <a:off x="6722280" y="5200560"/>
              <a:ext cx="55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T (G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 rot="16200000">
              <a:off x="4063320" y="3269160"/>
              <a:ext cx="172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% cellule sopravvissu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rot="16200000">
              <a:off x="4399920" y="3286080"/>
              <a:ext cx="142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ispetto al cont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511280" y="3706920"/>
              <a:ext cx="24480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568840" y="3716280"/>
              <a:ext cx="244800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5" name=""/>
          <p:cNvSpPr/>
          <p:nvPr/>
        </p:nvSpPr>
        <p:spPr>
          <a:xfrm>
            <a:off x="3795480" y="333360"/>
            <a:ext cx="1672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is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6" name="" descr=""/>
          <p:cNvPicPr/>
          <p:nvPr/>
        </p:nvPicPr>
        <p:blipFill>
          <a:blip r:embed="rId1"/>
          <a:stretch/>
        </p:blipFill>
        <p:spPr>
          <a:xfrm>
            <a:off x="2809800" y="1773360"/>
            <a:ext cx="3522600" cy="4586040"/>
          </a:xfrm>
          <a:prstGeom prst="rect">
            <a:avLst/>
          </a:prstGeom>
          <a:ln w="0">
            <a:noFill/>
          </a:ln>
        </p:spPr>
      </p:pic>
      <p:sp>
        <p:nvSpPr>
          <p:cNvPr id="2787" name=""/>
          <p:cNvSpPr/>
          <p:nvPr/>
        </p:nvSpPr>
        <p:spPr>
          <a:xfrm>
            <a:off x="3795480" y="333360"/>
            <a:ext cx="1672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is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"/>
          <p:cNvSpPr/>
          <p:nvPr/>
        </p:nvSpPr>
        <p:spPr>
          <a:xfrm>
            <a:off x="3179880" y="333360"/>
            <a:ext cx="22291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519120" y="1413000"/>
            <a:ext cx="8373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Dai risultati ottenuti sulle linee cellulari di carcinoma pancreatico possiamo concludere che alcune di queste molecole hanno mostrato un’attività radiosensibilizzante in ambiente ipos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L’esperienza riportata è parte di un progetto che mira a valutare l’azione radiosensibilizzante in ambiente ipossico di nuovi composti con struttura simili alla tirapaza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662120"/>
            <a:ext cx="8012160" cy="73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955, Thomlison e Gray dimostrano che i tumori solidi sono caratterizzati da regioni con bassa tensione di ossigeno e aree popolate da cellule ipossi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gioni ipossiche sono state identificate nei tumori mammari, della regione testa collo, dell’utero, della prostata, del SNC, nei sarcomi e nei melanomi (Vaupel, 2002; Lartigau 1993; Mattern, 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’ossigeno  riveste un ruolo fondamentale nelle risposte cellulari alle radiozioni ionizzanti. L’ossigeno presente al momento dell’irradiazione interviene nella formazione di radicali liberi, amplificando l’effetto citotoss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0" y="333360"/>
            <a:ext cx="1898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30800" y="333360"/>
            <a:ext cx="1898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12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7840" y="1941480"/>
            <a:ext cx="80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6200" y="1557360"/>
            <a:ext cx="851688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A partire dagli anni ‘’60 si è cercato di migliorare l’ossigenazione dei tumori solidi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Camera iperba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Ipertermia associata alla radiotera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Inalazione di ossigeno al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Incremento della concentrazione ematica di emoglo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3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Utilizzo di molecole radiosensibilizz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527280" cy="360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30800" y="333360"/>
            <a:ext cx="1898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700280"/>
            <a:ext cx="4608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La Tirapazamina è un agente citotossico con un’azione selettiva sulle cellule ipossich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In carenza di ossigeno la molecola viene metabolizzata da una reduttasi intracellulare a formare un radicale altamente reattivo capace di provocare una singola o una doppia rottura dei filamenti del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30800" y="333360"/>
            <a:ext cx="1898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9280" y="1413000"/>
            <a:ext cx="752472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92360" y="231156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1156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430800" y="333360"/>
            <a:ext cx="1898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94920" y="333360"/>
            <a:ext cx="3457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teriali e met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240" y="1557360"/>
            <a:ext cx="86007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Il modello sperimentale utilizzato per lo studio è rappresentato da una linea di adenocarcinoma pancreatico (MIA PaCa-2) in cui è stato valutato l’effetto radiosensibilizzante di 12 molecole sintetizzate prendendo come riferimento la struttura della tirapaza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Il sinergismo tra le R.I. e le molecole sintetizzate è stato valutato mediante il calcolo della concentrazione-dose inibente il 50% della crescita cellulare (IC</a:t>
            </a:r>
            <a:r>
              <a:rPr b="1" lang="it-IT" sz="2000" spc="-1" strike="noStrike" baseline="-25000">
                <a:solidFill>
                  <a:srgbClr val="ffffff"/>
                </a:solidFill>
                <a:latin typeface="Comic Sans MS"/>
              </a:rPr>
              <a:t>50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94920" y="333360"/>
            <a:ext cx="3457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teriali e met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1773360"/>
            <a:ext cx="90360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Le dosi di radiazioni ionizzanti utilizzate variavano da 0,1 Gy a 8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Concentrazioni delle molecole da 1000 a 0,1 microm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La condizione di ipossia è stata creata con un incubatore dedic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nel quale le cellule venivano tenute per almeno 18 ore pr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dell’irradi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Sono stati condotti esperimenti in normossia e ipossia per valuat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l’attività  delle molecole in presenza e in assenza di ossi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795480" y="333360"/>
            <a:ext cx="1672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is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280" y="1628640"/>
            <a:ext cx="8964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lcuni dei composti utilizzati hanno mostrato attività radiosensibilizz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n vitro. La riduzione dell’IC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Comic Sans MS"/>
              </a:rPr>
              <a:t>50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è stata statisticamente signifi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197080" y="2708280"/>
            <a:ext cx="5095440" cy="3870720"/>
            <a:chOff x="2197080" y="2708280"/>
            <a:chExt cx="5095440" cy="3870720"/>
          </a:xfrm>
        </p:grpSpPr>
        <p:grpSp>
          <p:nvGrpSpPr>
            <p:cNvPr id="65" name=""/>
            <p:cNvGrpSpPr/>
            <p:nvPr/>
          </p:nvGrpSpPr>
          <p:grpSpPr>
            <a:xfrm>
              <a:off x="2932200" y="3097080"/>
              <a:ext cx="2746440" cy="3029040"/>
              <a:chOff x="2932200" y="3097080"/>
              <a:chExt cx="2746440" cy="3029040"/>
            </a:xfrm>
          </p:grpSpPr>
          <p:sp>
            <p:nvSpPr>
              <p:cNvPr id="66" name=""/>
              <p:cNvSpPr/>
              <p:nvPr/>
            </p:nvSpPr>
            <p:spPr>
              <a:xfrm>
                <a:off x="2932200" y="3097080"/>
                <a:ext cx="2746440" cy="30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7200" y="502596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3560" y="418608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0" y="0"/>
                    </a:moveTo>
                    <a:lnTo>
                      <a:pt x="48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09920" y="4186080"/>
                <a:ext cx="1800" cy="19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73560" y="4383000"/>
                <a:ext cx="7308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0" y="0"/>
                    </a:moveTo>
                    <a:lnTo>
                      <a:pt x="48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59120" y="3965400"/>
                <a:ext cx="1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446640" y="3659040"/>
                <a:ext cx="7452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0" y="0"/>
                    </a:moveTo>
                    <a:lnTo>
                      <a:pt x="48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83000" y="3659040"/>
                <a:ext cx="14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46640" y="379728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0" y="0"/>
                    </a:moveTo>
                    <a:lnTo>
                      <a:pt x="48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08320" y="3430440"/>
                <a:ext cx="1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99040" y="4989600"/>
                <a:ext cx="66600" cy="6480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73560" y="4248000"/>
                <a:ext cx="65160" cy="6696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22760" y="3929040"/>
                <a:ext cx="65160" cy="6516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446640" y="3690720"/>
                <a:ext cx="66600" cy="6696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171960" y="3392280"/>
                <a:ext cx="64800" cy="6696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208320" y="347328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14800" y="347832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20920" y="3483000"/>
                <a:ext cx="504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25960" y="348768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32080" y="349416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240000" y="34988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46480" y="350352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52960" y="351000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259080" y="3514680"/>
                <a:ext cx="648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65560" y="3517920"/>
                <a:ext cx="61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71680" y="352404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78160" y="352908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284640" y="353376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290760" y="35402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297240" y="354492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05160" y="3549600"/>
                <a:ext cx="46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09840" y="3556080"/>
                <a:ext cx="6480" cy="2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16320" y="355896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22800" y="3564000"/>
                <a:ext cx="79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30720" y="3570120"/>
                <a:ext cx="61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36840" y="35751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43320" y="357984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49800" y="3585960"/>
                <a:ext cx="46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354480" y="359100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362400" y="359568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68520" y="36003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75000" y="360504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381480" y="3610080"/>
                <a:ext cx="61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387600" y="361620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94080" y="362088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00560" y="3625920"/>
                <a:ext cx="61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06680" y="363204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13160" y="363708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21080" y="36417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27560" y="364644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33680" y="365112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38360" y="365580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44840" y="366228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452760" y="366696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59240" y="3672000"/>
                <a:ext cx="61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65360" y="36781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71840" y="368280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78320" y="368784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84440" y="36925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90920" y="369720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97400" y="370368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03520" y="370836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11440" y="371304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17920" y="371952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522600" y="3724200"/>
                <a:ext cx="648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29080" y="372744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35200" y="3733920"/>
                <a:ext cx="82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43480" y="373860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49600" y="374328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56080" y="374976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62200" y="3754440"/>
                <a:ext cx="504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567240" y="3759120"/>
                <a:ext cx="79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75160" y="3765600"/>
                <a:ext cx="612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81280" y="37688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87760" y="377352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94240" y="3779640"/>
                <a:ext cx="79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02160" y="378468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06840" y="378936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13320" y="379584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619440" y="38005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25920" y="3805200"/>
                <a:ext cx="79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33840" y="3811680"/>
                <a:ext cx="6120" cy="2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39960" y="381456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46440" y="382104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51120" y="382572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57600" y="3830760"/>
                <a:ext cx="79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65520" y="383688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72000" y="3841560"/>
                <a:ext cx="61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78120" y="384660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84600" y="3852720"/>
                <a:ext cx="792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92520" y="385596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97200" y="386064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03680" y="38671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710160" y="387180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16280" y="3876480"/>
                <a:ext cx="79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24200" y="38829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30680" y="3887640"/>
                <a:ext cx="46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735360" y="389268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41840" y="389736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47960" y="3902040"/>
                <a:ext cx="79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55880" y="39085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62360" y="391320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68840" y="391788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74960" y="39243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81440" y="39290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87920" y="393372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94040" y="393840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00520" y="39434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07000" y="3948120"/>
                <a:ext cx="79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14920" y="3954240"/>
                <a:ext cx="46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19600" y="395928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825720" y="396396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32200" y="39704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38680" y="397512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46600" y="397980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52720" y="398448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59200" y="3989520"/>
                <a:ext cx="46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63880" y="399564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71800" y="400032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78280" y="400536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84760" y="401148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90880" y="401616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97360" y="402120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05280" y="402588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09960" y="40305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916440" y="403524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922560" y="40417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929040" y="4046400"/>
                <a:ext cx="79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936960" y="405288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43440" y="405756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948120" y="406224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54600" y="406728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62520" y="407196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968640" y="407664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75120" y="40831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981600" y="408780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87720" y="409248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94200" y="40989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000680" y="410364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06800" y="41083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13280" y="4113000"/>
                <a:ext cx="61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019400" y="4118040"/>
                <a:ext cx="79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27320" y="4124160"/>
                <a:ext cx="504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032360" y="412920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38480" y="413388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4960" y="4140000"/>
                <a:ext cx="79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52880" y="4145040"/>
                <a:ext cx="6480" cy="2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59360" y="414792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65480" y="415440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071960" y="4159080"/>
                <a:ext cx="46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76640" y="416556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084560" y="41702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91040" y="417492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97160" y="418140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103640" y="418608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10120" y="419112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118040" y="419580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22720" y="420048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29200" y="420516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35320" y="421164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43240" y="421632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49720" y="422280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56200" y="422748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160880" y="42321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67360" y="4236840"/>
                <a:ext cx="79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75280" y="424188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81400" y="424656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187880" y="425304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194000" y="425772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00480" y="426384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206960" y="426888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3080" y="42735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19560" y="42782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26040" y="4282920"/>
                <a:ext cx="79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33960" y="4287960"/>
                <a:ext cx="61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40080" y="429408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246560" y="4298760"/>
                <a:ext cx="46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51240" y="430380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57720" y="4309920"/>
                <a:ext cx="79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265640" y="43149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72120" y="431964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78240" y="43243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84720" y="4329000"/>
                <a:ext cx="46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89400" y="433548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97320" y="43401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03800" y="434484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09920" y="43513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16400" y="435600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24320" y="436068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30800" y="436572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35480" y="437040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341960" y="4376520"/>
                <a:ext cx="61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48080" y="438156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6000" y="438624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62480" y="43927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68960" y="439740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73640" y="440208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79760" y="440676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87680" y="441144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394160" y="44179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171960" y="3602160"/>
              <a:ext cx="2001600" cy="2423880"/>
              <a:chOff x="3171960" y="3602160"/>
              <a:chExt cx="2001600" cy="2423880"/>
            </a:xfrm>
          </p:grpSpPr>
          <p:sp>
            <p:nvSpPr>
              <p:cNvPr id="267" name=""/>
              <p:cNvSpPr/>
              <p:nvPr/>
            </p:nvSpPr>
            <p:spPr>
              <a:xfrm>
                <a:off x="4400640" y="4422600"/>
                <a:ext cx="61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06760" y="4427640"/>
                <a:ext cx="79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414680" y="4433760"/>
                <a:ext cx="504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419720" y="4438440"/>
                <a:ext cx="61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425840" y="444348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432320" y="44481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38800" y="4452840"/>
                <a:ext cx="79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446720" y="445932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452840" y="446400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59320" y="4468680"/>
                <a:ext cx="46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64000" y="44751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70480" y="447984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78400" y="4484520"/>
                <a:ext cx="61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84520" y="44895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91000" y="44942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97480" y="449892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03600" y="450540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10080" y="451008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16560" y="451656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22680" y="45212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529160" y="452592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37080" y="453060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43560" y="4535280"/>
                <a:ext cx="46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548240" y="4540320"/>
                <a:ext cx="61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54360" y="454644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560840" y="4551480"/>
                <a:ext cx="79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568760" y="455760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575240" y="4562280"/>
                <a:ext cx="61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581360" y="4567320"/>
                <a:ext cx="504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86400" y="457200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94320" y="457668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00440" y="458136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06920" y="45878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13400" y="459252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19520" y="4597200"/>
                <a:ext cx="79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27440" y="4603680"/>
                <a:ext cx="504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32480" y="4608360"/>
                <a:ext cx="61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38600" y="461340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45080" y="461808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51200" y="4622760"/>
                <a:ext cx="82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59480" y="462924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65600" y="46339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72080" y="4638600"/>
                <a:ext cx="46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76760" y="464508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84680" y="46497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91160" y="465444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97280" y="465912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03760" y="466416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0240" y="4670280"/>
                <a:ext cx="61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46753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22840" y="468000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29320" y="4686120"/>
                <a:ext cx="61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35440" y="46911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41920" y="469584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49840" y="47005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6320" y="4705200"/>
                <a:ext cx="46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61000" y="471168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67120" y="471636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75040" y="472104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81520" y="47275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88000" y="473220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94120" y="473688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00600" y="47419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080" y="474660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13200" y="475308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19680" y="47577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26160" y="476244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832280" y="476892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40200" y="477360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844880" y="477828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51360" y="478296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857840" y="478800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4792680"/>
                <a:ext cx="61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71880" y="479880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878360" y="480384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84840" y="4809960"/>
                <a:ext cx="46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889520" y="481500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897440" y="481968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482436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10040" y="48290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16520" y="483372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3000" y="484020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9120" y="484488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35600" y="4849920"/>
                <a:ext cx="61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941720" y="48560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948200" y="4860720"/>
                <a:ext cx="79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56120" y="48657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962600" y="487044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68720" y="4875120"/>
                <a:ext cx="504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73760" y="488160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979880" y="488628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987800" y="4890960"/>
                <a:ext cx="64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94280" y="48974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00760" y="490212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06880" y="490680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13360" y="49118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19840" y="4916520"/>
                <a:ext cx="61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25960" y="492264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32440" y="492768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038560" y="4932360"/>
                <a:ext cx="82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046840" y="493884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52960" y="494352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057640" y="494820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064120" y="495288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070600" y="4957560"/>
                <a:ext cx="79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78520" y="4962600"/>
                <a:ext cx="61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084640" y="496872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91120" y="49737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97600" y="4978440"/>
                <a:ext cx="46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102280" y="4984560"/>
                <a:ext cx="79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10200" y="498960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16680" y="499428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22800" y="499896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129280" y="5003640"/>
                <a:ext cx="79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137200" y="5989680"/>
                <a:ext cx="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09920" y="5888160"/>
                <a:ext cx="1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759120" y="5711760"/>
                <a:ext cx="1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446640" y="4740120"/>
                <a:ext cx="7452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0" y="0"/>
                    </a:moveTo>
                    <a:lnTo>
                      <a:pt x="48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83000" y="4740120"/>
                <a:ext cx="1440" cy="37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46640" y="511812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0" y="0"/>
                    </a:moveTo>
                    <a:lnTo>
                      <a:pt x="48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71960" y="3602160"/>
                <a:ext cx="72720" cy="144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0" y="0"/>
                    </a:moveTo>
                    <a:lnTo>
                      <a:pt x="48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08320" y="3602160"/>
                <a:ext cx="144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71960" y="3728880"/>
                <a:ext cx="7272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0" y="0"/>
                    </a:moveTo>
                    <a:lnTo>
                      <a:pt x="48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099040" y="595296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4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73560" y="58514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722760" y="567540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0"/>
                    </a:moveTo>
                    <a:lnTo>
                      <a:pt x="46" y="0"/>
                    </a:lnTo>
                    <a:lnTo>
                      <a:pt x="23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446640" y="4892760"/>
                <a:ext cx="7452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0"/>
                    </a:moveTo>
                    <a:lnTo>
                      <a:pt x="47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71960" y="3630600"/>
                <a:ext cx="7272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46" y="0"/>
                    </a:lnTo>
                    <a:lnTo>
                      <a:pt x="2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08320" y="3666960"/>
                <a:ext cx="6480" cy="223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214800" y="3689280"/>
                <a:ext cx="6120" cy="27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20920" y="3716280"/>
                <a:ext cx="5040" cy="237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225960" y="3740040"/>
                <a:ext cx="6120" cy="27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232080" y="3767040"/>
                <a:ext cx="7920" cy="255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240000" y="3792600"/>
                <a:ext cx="6480" cy="252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46480" y="3817800"/>
                <a:ext cx="6480" cy="28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252960" y="3846600"/>
                <a:ext cx="6120" cy="27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259080" y="3873600"/>
                <a:ext cx="6480" cy="27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265560" y="3900600"/>
                <a:ext cx="6120" cy="29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71680" y="3930480"/>
                <a:ext cx="6480" cy="28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278160" y="3959280"/>
                <a:ext cx="6480" cy="28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284640" y="3987720"/>
                <a:ext cx="6120" cy="30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290760" y="4017960"/>
                <a:ext cx="6480" cy="28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297240" y="4046400"/>
                <a:ext cx="7920" cy="30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305160" y="4076640"/>
                <a:ext cx="4680" cy="30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309840" y="4106880"/>
                <a:ext cx="6480" cy="31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316320" y="4138560"/>
                <a:ext cx="6480" cy="30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322800" y="4168800"/>
                <a:ext cx="7920" cy="30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330720" y="4199040"/>
                <a:ext cx="6120" cy="31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336840" y="4230720"/>
                <a:ext cx="6480" cy="31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343320" y="4262400"/>
                <a:ext cx="6480" cy="30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349800" y="4292640"/>
                <a:ext cx="4680" cy="31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354480" y="4324320"/>
                <a:ext cx="7920" cy="33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362400" y="4357800"/>
                <a:ext cx="6120" cy="31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368520" y="4389480"/>
                <a:ext cx="6480" cy="30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375000" y="4419720"/>
                <a:ext cx="6480" cy="31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381480" y="4451400"/>
                <a:ext cx="6120" cy="33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387600" y="4484520"/>
                <a:ext cx="6480" cy="30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94080" y="4514760"/>
                <a:ext cx="6480" cy="31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00560" y="4546440"/>
                <a:ext cx="6120" cy="32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406680" y="4578480"/>
                <a:ext cx="6480" cy="31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13160" y="4610160"/>
                <a:ext cx="7920" cy="31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21080" y="4641840"/>
                <a:ext cx="6480" cy="30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27560" y="4672080"/>
                <a:ext cx="6120" cy="29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33680" y="4701960"/>
                <a:ext cx="4680" cy="32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38360" y="4734000"/>
                <a:ext cx="6480" cy="29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44840" y="4763880"/>
                <a:ext cx="7920" cy="28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452760" y="4792680"/>
                <a:ext cx="6480" cy="31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459240" y="4824360"/>
                <a:ext cx="6120" cy="28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465360" y="4852800"/>
                <a:ext cx="6480" cy="28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471840" y="4881600"/>
                <a:ext cx="6480" cy="27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78320" y="4908600"/>
                <a:ext cx="6120" cy="30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484440" y="4938840"/>
                <a:ext cx="6480" cy="266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490920" y="4965480"/>
                <a:ext cx="6480" cy="27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497400" y="4992480"/>
                <a:ext cx="6120" cy="28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03520" y="5021280"/>
                <a:ext cx="7920" cy="252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511440" y="5046480"/>
                <a:ext cx="6480" cy="27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517920" y="5073480"/>
                <a:ext cx="4680" cy="255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22600" y="5099040"/>
                <a:ext cx="6480" cy="237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29080" y="5122800"/>
                <a:ext cx="6120" cy="27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35200" y="5149800"/>
                <a:ext cx="8280" cy="223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43480" y="5172120"/>
                <a:ext cx="6120" cy="252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49600" y="5197320"/>
                <a:ext cx="6480" cy="223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556080" y="5219640"/>
                <a:ext cx="6120" cy="237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62200" y="5243400"/>
                <a:ext cx="5040" cy="223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567240" y="5265720"/>
                <a:ext cx="7920" cy="223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575160" y="5288040"/>
                <a:ext cx="6120" cy="205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581280" y="5308560"/>
                <a:ext cx="6480" cy="205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87760" y="5329080"/>
                <a:ext cx="6480" cy="190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94240" y="5348160"/>
                <a:ext cx="7920" cy="20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2160" y="5369040"/>
                <a:ext cx="4680" cy="187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06840" y="5387760"/>
                <a:ext cx="6480" cy="190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13320" y="5406840"/>
                <a:ext cx="6120" cy="176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19440" y="5424480"/>
                <a:ext cx="6480" cy="17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625920" y="5441760"/>
                <a:ext cx="7920" cy="176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33840" y="5459400"/>
                <a:ext cx="6120" cy="17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39960" y="5476680"/>
                <a:ext cx="6480" cy="162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6440" y="5492880"/>
                <a:ext cx="4680" cy="158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651120" y="5508720"/>
                <a:ext cx="6480" cy="158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657600" y="5524560"/>
                <a:ext cx="7920" cy="14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665520" y="5538600"/>
                <a:ext cx="6480" cy="14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672000" y="5553000"/>
              <a:ext cx="1290600" cy="392040"/>
              <a:chOff x="3672000" y="5553000"/>
              <a:chExt cx="1290600" cy="392040"/>
            </a:xfrm>
          </p:grpSpPr>
          <p:sp>
            <p:nvSpPr>
              <p:cNvPr id="468" name=""/>
              <p:cNvSpPr/>
              <p:nvPr/>
            </p:nvSpPr>
            <p:spPr>
              <a:xfrm>
                <a:off x="3672000" y="5553000"/>
                <a:ext cx="6120" cy="14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78120" y="5567400"/>
                <a:ext cx="6480" cy="14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84600" y="5581440"/>
                <a:ext cx="7920" cy="111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92520" y="5592600"/>
                <a:ext cx="4680" cy="14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97200" y="5607000"/>
                <a:ext cx="6480" cy="12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703680" y="5619600"/>
                <a:ext cx="6480" cy="97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10160" y="5629320"/>
                <a:ext cx="6120" cy="12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716280" y="5641920"/>
                <a:ext cx="7920" cy="111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24200" y="5653080"/>
                <a:ext cx="6480" cy="111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730680" y="5664240"/>
                <a:ext cx="4680" cy="93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735360" y="5673600"/>
                <a:ext cx="6480" cy="111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41840" y="5684760"/>
                <a:ext cx="6120" cy="97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47960" y="5694480"/>
                <a:ext cx="7920" cy="93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755880" y="5703840"/>
                <a:ext cx="648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762360" y="5711760"/>
                <a:ext cx="6480" cy="97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68840" y="5721480"/>
                <a:ext cx="612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774960" y="5729400"/>
                <a:ext cx="6480" cy="93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781440" y="5738760"/>
                <a:ext cx="648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787920" y="574668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794040" y="5753160"/>
                <a:ext cx="648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800520" y="576108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807000" y="5767200"/>
                <a:ext cx="7920" cy="79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814920" y="5775120"/>
                <a:ext cx="468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819600" y="5781600"/>
                <a:ext cx="6120" cy="64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5720" y="5788080"/>
                <a:ext cx="64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832200" y="579420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838680" y="5799240"/>
                <a:ext cx="792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846600" y="5805360"/>
                <a:ext cx="61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852720" y="5810040"/>
                <a:ext cx="648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59200" y="5815080"/>
                <a:ext cx="4680" cy="612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863880" y="5821200"/>
                <a:ext cx="7920" cy="5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71800" y="582624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878280" y="58309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884760" y="5835600"/>
                <a:ext cx="612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90880" y="5838840"/>
                <a:ext cx="648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897360" y="5842080"/>
                <a:ext cx="792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05280" y="5846760"/>
                <a:ext cx="46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909960" y="5851440"/>
                <a:ext cx="648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916440" y="5854680"/>
                <a:ext cx="612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922560" y="5857920"/>
                <a:ext cx="6480" cy="4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29040" y="5862600"/>
                <a:ext cx="792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36960" y="5865840"/>
                <a:ext cx="648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43440" y="5869080"/>
                <a:ext cx="4680" cy="28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948120" y="5871960"/>
                <a:ext cx="648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954600" y="5875200"/>
                <a:ext cx="79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962520" y="58770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968640" y="5878440"/>
                <a:ext cx="648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975120" y="5881680"/>
                <a:ext cx="648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981600" y="588492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987720" y="5886360"/>
                <a:ext cx="648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94200" y="5889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00680" y="5891040"/>
                <a:ext cx="61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06800" y="5892840"/>
                <a:ext cx="648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013280" y="589608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019400" y="589752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27320" y="5898960"/>
                <a:ext cx="50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032360" y="5900760"/>
                <a:ext cx="6120" cy="32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38480" y="59040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44960" y="590544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052880" y="590688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59360" y="590868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065480" y="591012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71960" y="5911920"/>
                <a:ext cx="46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076640" y="591192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84560" y="591336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91040" y="591516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097160" y="5916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03640" y="591804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10120" y="5918040"/>
                <a:ext cx="79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118040" y="5919840"/>
                <a:ext cx="46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22720" y="592128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29200" y="5921280"/>
                <a:ext cx="61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135320" y="5921280"/>
                <a:ext cx="79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43240" y="592308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49720" y="592308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156200" y="5924520"/>
                <a:ext cx="46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160880" y="592452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67360" y="5925960"/>
                <a:ext cx="79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75280" y="5925960"/>
                <a:ext cx="61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181400" y="592776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87880" y="592776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194000" y="592920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200480" y="592920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206960" y="5929200"/>
                <a:ext cx="61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213080" y="59310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219560" y="59310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226040" y="593100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233960" y="593244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40080" y="593244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246560" y="5932440"/>
                <a:ext cx="46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51240" y="593388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57720" y="5933880"/>
                <a:ext cx="79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65640" y="593388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272120" y="5933880"/>
                <a:ext cx="61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278240" y="593568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284720" y="5935680"/>
                <a:ext cx="46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289400" y="593568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297320" y="593568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03800" y="5937120"/>
                <a:ext cx="61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309920" y="593712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316400" y="5937120"/>
                <a:ext cx="79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324320" y="593712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330800" y="5937120"/>
                <a:ext cx="46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335480" y="593892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341960" y="593892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348080" y="593892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56000" y="593892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362480" y="593892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68960" y="5938920"/>
                <a:ext cx="46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73640" y="593892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379760" y="594036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87680" y="594036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94160" y="594036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00640" y="594036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406760" y="594036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414680" y="5940360"/>
                <a:ext cx="5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9720" y="594036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425840" y="594036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432320" y="594036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438800" y="594036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46720" y="5941800"/>
                <a:ext cx="61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452840" y="594180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459320" y="5941800"/>
                <a:ext cx="46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464000" y="594180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470480" y="5941800"/>
                <a:ext cx="79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78400" y="5941800"/>
                <a:ext cx="61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484520" y="594180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491000" y="594180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497480" y="5941800"/>
                <a:ext cx="61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503600" y="594180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510080" y="594180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16560" y="5941800"/>
                <a:ext cx="61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522680" y="594180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529160" y="5941800"/>
                <a:ext cx="79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37080" y="5941800"/>
                <a:ext cx="64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43560" y="5941800"/>
                <a:ext cx="468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4824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5436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560840" y="594360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6876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7524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581360" y="5943600"/>
                <a:ext cx="5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586400" y="594360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59432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0044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60692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61340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19520" y="594360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27440" y="5943600"/>
                <a:ext cx="5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3248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3860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4508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51200" y="5943600"/>
                <a:ext cx="82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5948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6560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72080" y="5943600"/>
                <a:ext cx="46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676760" y="594360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8468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9116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69728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70376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71024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1636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72284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72932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73544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741920" y="594360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74984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6320" y="5943600"/>
                <a:ext cx="46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76100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767120" y="594360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77504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78152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78800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79412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80060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0708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1320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81968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82616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832280" y="594360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840200" y="5943600"/>
                <a:ext cx="46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84488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85136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57840" y="594360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86576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87188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87836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884840" y="5943600"/>
                <a:ext cx="46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889520" y="594360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89744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90392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91004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91652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92300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92912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35600" y="5943600"/>
                <a:ext cx="61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94172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48200" y="5943600"/>
                <a:ext cx="79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956120" y="5943600"/>
                <a:ext cx="648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4962600" y="5943600"/>
              <a:ext cx="612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68720" y="5943600"/>
              <a:ext cx="50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73760" y="5943600"/>
              <a:ext cx="612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79880" y="5943600"/>
              <a:ext cx="792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987800" y="5943600"/>
              <a:ext cx="648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994280" y="5943600"/>
              <a:ext cx="648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00760" y="5943600"/>
              <a:ext cx="612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06880" y="5943600"/>
              <a:ext cx="648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013360" y="5943600"/>
              <a:ext cx="648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019840" y="5943600"/>
              <a:ext cx="612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25960" y="5943600"/>
              <a:ext cx="648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032440" y="5943600"/>
              <a:ext cx="612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38560" y="5945040"/>
              <a:ext cx="82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046840" y="5945040"/>
              <a:ext cx="61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052960" y="5945040"/>
              <a:ext cx="4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57640" y="5945040"/>
              <a:ext cx="64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64120" y="5945040"/>
              <a:ext cx="64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70600" y="5945040"/>
              <a:ext cx="79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78520" y="5945040"/>
              <a:ext cx="61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84640" y="5945040"/>
              <a:ext cx="64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91120" y="5945040"/>
              <a:ext cx="64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097600" y="5945040"/>
              <a:ext cx="4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102280" y="5945040"/>
              <a:ext cx="79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110200" y="5945040"/>
              <a:ext cx="64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16680" y="5945040"/>
              <a:ext cx="61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22800" y="5945040"/>
              <a:ext cx="64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129280" y="5945040"/>
              <a:ext cx="79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07280" y="2708280"/>
              <a:ext cx="122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T in IPOSS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32200" y="6127560"/>
              <a:ext cx="27558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932200" y="6127560"/>
              <a:ext cx="1440" cy="52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58760" y="6199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08320" y="6127560"/>
              <a:ext cx="1440" cy="52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134880" y="6199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483000" y="6127560"/>
              <a:ext cx="1440" cy="52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6199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59120" y="6127560"/>
              <a:ext cx="1800" cy="52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685680" y="6199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33800" y="6127560"/>
              <a:ext cx="1800" cy="52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960360" y="6199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09920" y="6127560"/>
              <a:ext cx="1800" cy="52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36840" y="6199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86400" y="6127560"/>
              <a:ext cx="1440" cy="52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12960" y="6199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61080" y="6127560"/>
              <a:ext cx="1440" cy="52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87640" y="6199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37200" y="6127560"/>
              <a:ext cx="1440" cy="52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63760" y="6199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11880" y="6127560"/>
              <a:ext cx="1440" cy="52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38440" y="6199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88000" y="6127560"/>
              <a:ext cx="1440" cy="525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76760" y="6199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932200" y="3097080"/>
              <a:ext cx="1440" cy="3030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2879640" y="6127560"/>
              <a:ext cx="5256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14400" y="6045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2879640" y="5875200"/>
              <a:ext cx="5256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636640" y="57927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2879640" y="5622840"/>
              <a:ext cx="5256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636640" y="55404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2879640" y="5370480"/>
              <a:ext cx="525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636640" y="5288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2879640" y="5118120"/>
              <a:ext cx="525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36640" y="50356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879640" y="4865760"/>
              <a:ext cx="525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636640" y="47815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2879640" y="4613400"/>
              <a:ext cx="525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36640" y="4529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879640" y="4359240"/>
              <a:ext cx="525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36640" y="4276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879640" y="4106880"/>
              <a:ext cx="525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36640" y="40244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879640" y="3854520"/>
              <a:ext cx="525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36640" y="3771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2879640" y="3602160"/>
              <a:ext cx="525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60320" y="35193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879640" y="3349440"/>
              <a:ext cx="5256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60320" y="32670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879640" y="3097080"/>
              <a:ext cx="5256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60320" y="30146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80840" y="3346560"/>
              <a:ext cx="111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P-2 normo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75280" y="3395520"/>
              <a:ext cx="73080" cy="74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0" y="0"/>
                  </a:moveTo>
                  <a:lnTo>
                    <a:pt x="46" y="0"/>
                  </a:lnTo>
                  <a:lnTo>
                    <a:pt x="23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80840" y="313524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P-2 ipo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975280" y="3184560"/>
              <a:ext cx="65160" cy="66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01960" y="4875120"/>
              <a:ext cx="26146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32360" y="6396120"/>
              <a:ext cx="55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T (G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6200000">
              <a:off x="1424880" y="4518000"/>
              <a:ext cx="172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% cellule sopravvissu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6200000">
              <a:off x="1758240" y="4526640"/>
              <a:ext cx="142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ispetto al cont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2:49:43Z</dcterms:created>
  <dc:creator>Francesco</dc:creator>
  <dc:description/>
  <dc:language>en-US</dc:language>
  <cp:lastModifiedBy>Francesco</cp:lastModifiedBy>
  <dcterms:modified xsi:type="dcterms:W3CDTF">2008-07-05T04:17:36Z</dcterms:modified>
  <cp:revision>11</cp:revision>
  <dc:subject/>
  <dc:title>Diapositiva 1</dc:title>
</cp:coreProperties>
</file>