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orkshop OT e RT in associazione nelle neoplasia della prosta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2ede20"/>
                </a:solidFill>
                <a:latin typeface="Times New Roman"/>
              </a:rPr>
              <a:t>F.S. Gross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80880" y="5028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 Complessa di Urologia - P.O. Martina Franca (T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Graz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68360" y="62064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o Cli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ede20"/>
                </a:solidFill>
                <a:latin typeface="Times New Roman"/>
                <a:ea typeface="Times New Roman"/>
              </a:rPr>
              <a:t>B.M. anni 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ede20"/>
                </a:solidFill>
                <a:latin typeface="Times New Roman"/>
                <a:ea typeface="Times New Roman"/>
              </a:rPr>
              <a:t>Giunge alla ns osservazione a gennaio 2008 per riscontro occasionale di PSA elevato (7.8ng/ml). All’ER ghiandola x 3 volte la norma, aumento di consistenza del lobo sin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segue Bx prostata (transperineale ecoguidata 8+8 prelievi) con diagnos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denocarcinoma prostatico ben differenziato Gl 4(2+2) del lobo sinistro della prost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paziente viene inserito in lista per Prostatectomia Radicale Videolaparoscop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</a:rPr>
              <a:t>Viene eseguito completamento dello staging con Scintigrafia ossea T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cintigrafia ossea TB segnala un piccolo accumulo del radiofarmaco, in corrispondenza del coccige, non riferibile a localizzazione secondaria, ma a probabile esito traumatico consigliando, in ogni caso, dettaglio Rx gra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 pz esegue Rx mirato con stratigrafia che esclude una localizzazione ossea second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conferma pertanto, l’indicazione all’intervento che viene eseguito in Videolaparo, in data 7.04.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35280" y="333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ede20"/>
                </a:solidFill>
                <a:latin typeface="Times New Roman"/>
                <a:ea typeface="Times New Roman"/>
              </a:rPr>
              <a:t>Quadro laparoscopico intraoperatorio</a:t>
            </a:r>
            <a:r>
              <a:rPr b="1" lang="it-IT" sz="2400" spc="-1" strike="noStrike">
                <a:solidFill>
                  <a:srgbClr val="2ede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814320"/>
            <a:ext cx="8317080" cy="604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</a:rPr>
              <a:t>Quadro intraoperatorio al termine della Prostatectomia e della LAD pelvica bilaterale. Sono evidenziati i bundle, bilateralmente, ed il Foley emergente dall’uretra prima dell’avvio dell’anastomo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1219320"/>
            <a:ext cx="723600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" y="-2135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820116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1440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 decorso postoperatorio consente la dimissione in 2° giornata postoperatoria, e la rimozione del catetere, previa cistografia, in 7° giornata postoper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ede20"/>
                </a:solidFill>
                <a:latin typeface="Times New Roman"/>
                <a:ea typeface="Times New Roman"/>
              </a:rPr>
              <a:t>Il reperto anatomopatologico definitivo mette in eviden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stata, VVSS e tratto di deferenti del peso di 44 g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enoca.Prostatico Gl 5 (3+2). Segni di permeazione vasale, margini di resezione indenni, esenti da infiltrazione le VVSS ed i deferen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fonodi ileootturatori (7 dx 9 sn) esenti da neopl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Times New Roman"/>
              </a:rPr>
              <a:t>Il paziente, recuperata la continenza, inizia la terapia riabilitativa per la funzione sessuale, eseguendo 2 PSA seriati a cadenza mensile (&lt;0.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ede2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2ede20"/>
                </a:solidFill>
                <a:latin typeface="Times New Roman"/>
              </a:rPr>
              <a:t>A luglio 08 il paziente afferisce alla ns osservazione lamentando insorgenza di dolore ingravescente al coccige. Viene ripetuto il PSA che mostra un incremento sino a 0.03 ng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Times New Roman"/>
              </a:rPr>
              <a:t>Si esegue RMN della zona coccigea, con diagnosi di lesione ossea osteoaddensante a carico del coccige, nella sede segnalata dalla scintigrafia ossea preoperato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Times New Roman"/>
              </a:rPr>
              <a:t>Dopo circa 30 gg il pz, eseguito un nuovo PSA (0.3 ng/ml) presenta all’ER una formazione nodulare perianastomotica parauretrale sn, di ca. 0.5 cm di diametro che viene sottoposta a biop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EFERTO: in uno dei 3 frammenti infiltrazione neoplastica da adenocarcinoma prosta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ede2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2ede20"/>
                </a:solidFill>
                <a:latin typeface="Times New Roman"/>
              </a:rPr>
              <a:t>Il pz viene inviato per valutazione per eventuale RXT, inizia B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ede20"/>
                </a:solidFill>
                <a:latin typeface="Times New Roman"/>
              </a:rPr>
              <a:t>Discuss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itale importanza riveste un corretto staging preoperatorio. In questo caso la stratigrafia eseguita sullo spot osseo non è stata in grado di evidenziare la localizzazione (uso precoce dell’RM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ede2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2ede20"/>
                </a:solidFill>
                <a:latin typeface="Times New Roman"/>
              </a:rPr>
              <a:t>Il campo operatorio risultava ottimo, senza far supporre la presenza di eventuale eccessiva “prudenza” nella prostatecto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Times New Roman"/>
              </a:rPr>
              <a:t>Una revisione anatomopatolgica del pezzo, infatti, ha consentito di escludere una positività del margine di resezione sinist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2:19:52Z</dcterms:created>
  <dc:creator>saverio</dc:creator>
  <dc:description/>
  <dc:language>en-US</dc:language>
  <cp:lastModifiedBy>Massimo Sammarco</cp:lastModifiedBy>
  <dcterms:modified xsi:type="dcterms:W3CDTF">2008-11-21T12:45:52Z</dcterms:modified>
  <cp:revision>8</cp:revision>
  <dc:subject/>
  <dc:title>Efficacia e sicurezza della ureteroscopia bilaterale in singola sessione  F.S. Grossi, D.Barnaba , M. Raguso, L.Larocca, G Sallustio, S. Di Lena°, G. Raguso </dc:title>
</cp:coreProperties>
</file>