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jpeg" ContentType="image/jpeg"/>
  <Override PartName="/ppt/media/image63.png" ContentType="image/png"/>
  <Override PartName="/ppt/media/image58.jpeg" ContentType="image/jpeg"/>
  <Override PartName="/ppt/media/image7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40.png" ContentType="image/png"/>
  <Override PartName="/ppt/media/image4.jpeg" ContentType="image/jpeg"/>
  <Override PartName="/ppt/media/image50.wmf" ContentType="image/x-wmf"/>
  <Override PartName="/ppt/media/image28.png" ContentType="image/png"/>
  <Override PartName="/ppt/media/image61.jpeg" ContentType="image/jpeg"/>
  <Override PartName="/ppt/media/image31.wmf" ContentType="image/x-wmf"/>
  <Override PartName="/ppt/media/image17.png" ContentType="image/png"/>
  <Override PartName="/ppt/media/image5.png" ContentType="image/png"/>
  <Override PartName="/ppt/media/image30.png" ContentType="image/png"/>
  <Override PartName="/ppt/media/image25.png" ContentType="image/png"/>
  <Override PartName="/ppt/media/image62.png" ContentType="image/png"/>
  <Override PartName="/ppt/media/image15.png" ContentType="image/png"/>
  <Override PartName="/ppt/media/image23.png" ContentType="image/png"/>
  <Override PartName="/ppt/media/image55.jpeg" ContentType="image/jpeg"/>
  <Override PartName="/ppt/media/image22.wmf" ContentType="image/x-wmf"/>
  <Override PartName="/ppt/media/image11.wmf" ContentType="image/x-wmf"/>
  <Override PartName="/ppt/media/image48.wmf" ContentType="image/x-wmf"/>
  <Override PartName="/ppt/media/image26.png" ContentType="image/png"/>
  <Override PartName="/ppt/media/image60.jpeg" ContentType="image/jpeg"/>
  <Override PartName="/ppt/media/image21.wmf" ContentType="image/x-wmf"/>
  <Override PartName="/ppt/media/image19.wmf" ContentType="image/x-wmf"/>
  <Override PartName="/ppt/media/image16.png" ContentType="image/png"/>
  <Override PartName="/ppt/media/image24.png" ContentType="image/png"/>
  <Override PartName="/ppt/media/image18.wmf" ContentType="image/x-wmf"/>
  <Override PartName="/ppt/media/image6.wmf" ContentType="image/x-wmf"/>
  <Override PartName="/ppt/media/image29.wmf" ContentType="image/x-wmf"/>
  <Override PartName="/ppt/media/image8.png" ContentType="image/png"/>
  <Override PartName="/ppt/media/image38.png" ContentType="image/png"/>
  <Override PartName="/ppt/media/image27.png" ContentType="image/png"/>
  <Override PartName="/ppt/media/image12.wmf" ContentType="image/x-wmf"/>
  <Override PartName="/ppt/media/image1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.jpeg" ContentType="image/jpeg"/>
  <Override PartName="/ppt/media/image41.png" ContentType="image/png"/>
  <Override PartName="/ppt/media/image32.png" ContentType="image/png"/>
  <Override PartName="/ppt/media/image54.jpeg" ContentType="image/jpeg"/>
  <Override PartName="/ppt/media/image33.png" ContentType="image/png"/>
  <Override PartName="/ppt/media/image34.png" ContentType="image/png"/>
  <Override PartName="/ppt/media/image35.wmf" ContentType="image/x-wmf"/>
  <Override PartName="/ppt/media/image36.png" ContentType="image/png"/>
  <Override PartName="/ppt/media/image37.wmf" ContentType="image/x-wmf"/>
  <Override PartName="/ppt/media/image39.png" ContentType="image/png"/>
  <Override PartName="/ppt/media/image42.png" ContentType="image/png"/>
  <Override PartName="/ppt/media/image43.wmf" ContentType="image/x-wmf"/>
  <Override PartName="/ppt/media/image4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49.png" ContentType="image/png"/>
  <Override PartName="/ppt/media/image51.wmf" ContentType="image/x-wmf"/>
  <Override PartName="/ppt/media/image52.png" ContentType="image/png"/>
  <Override PartName="/ppt/media/image56.jpeg" ContentType="image/jpeg"/>
  <Override PartName="/ppt/media/image5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6D43-2AEA-4962-8D0B-24C77384B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0251-7106-4D50-AF52-204937C07B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7CDF-1386-4FB6-BE22-A03E22DC00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8C8A-B9D8-40A9-B0BF-0BA4F20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7595-183E-4456-9A83-ABBD7C3F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668-3FC6-4CCA-819B-1AD48B85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144-C2BB-4218-8635-93D85903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7FB-6550-488D-9301-CABB08E2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F18B-A12C-459E-80FB-5FE1303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A968-11E0-49DD-8D04-9DA2F97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BC0-9A7C-4A2D-9535-4238198E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6AA-A33C-4161-80AE-90DCF2BF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7E5-AABE-4E37-B1DE-489E0CD7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A31-0D9A-499C-BE53-FDC86812A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7FC-9094-4F5E-9C1B-F18CB485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160" y="101520"/>
            <a:ext cx="86486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9972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e997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160" y="1698120"/>
            <a:ext cx="8648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0440" indent="-460440">
              <a:lnSpc>
                <a:spcPct val="110000"/>
              </a:lnSpc>
              <a:spcBef>
                <a:spcPts val="2438"/>
              </a:spcBef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1" marL="967680" indent="-405360">
              <a:lnSpc>
                <a:spcPct val="110000"/>
              </a:lnSpc>
              <a:spcBef>
                <a:spcPts val="2438"/>
              </a:spcBef>
              <a:buClr>
                <a:srgbClr val="eda221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2" marL="1296720" indent="-227160">
              <a:lnSpc>
                <a:spcPct val="110000"/>
              </a:lnSpc>
              <a:spcBef>
                <a:spcPts val="2438"/>
              </a:spcBef>
              <a:buClr>
                <a:srgbClr val="eda221"/>
              </a:buClr>
              <a:buSzPct val="11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3" marL="1658520" indent="-259560">
              <a:lnSpc>
                <a:spcPct val="110000"/>
              </a:lnSpc>
              <a:spcBef>
                <a:spcPts val="2438"/>
              </a:spcBef>
              <a:buClr>
                <a:srgbClr val="eda221"/>
              </a:buClr>
              <a:buSzPct val="110000"/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4" marL="1987560" indent="-227160">
              <a:lnSpc>
                <a:spcPct val="110000"/>
              </a:lnSpc>
              <a:spcBef>
                <a:spcPts val="2438"/>
              </a:spcBef>
              <a:buClr>
                <a:srgbClr val="eda221"/>
              </a:buClr>
              <a:buSzPct val="110000"/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5" marL="1987560" indent="-227160">
              <a:lnSpc>
                <a:spcPct val="110000"/>
              </a:lnSpc>
              <a:spcBef>
                <a:spcPts val="2438"/>
              </a:spcBef>
              <a:buClr>
                <a:srgbClr val="000000"/>
              </a:buClr>
              <a:buSzPct val="110000"/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  <a:p>
            <a:pPr lvl="6" marL="1987560" indent="-227160">
              <a:lnSpc>
                <a:spcPct val="110000"/>
              </a:lnSpc>
              <a:spcBef>
                <a:spcPts val="2438"/>
              </a:spcBef>
              <a:buClr>
                <a:srgbClr val="000000"/>
              </a:buClr>
              <a:buSzPct val="110000"/>
              <a:buFont typeface="Times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28394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528394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65040" y="1257480"/>
            <a:ext cx="8528040" cy="26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66840" y="1469880"/>
            <a:ext cx="836136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da221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eda221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3084480" y="243000"/>
            <a:ext cx="2975040" cy="12492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rcRect l="9039" t="32560" r="13476" b="40531"/>
          <a:stretch/>
        </p:blipFill>
        <p:spPr>
          <a:xfrm>
            <a:off x="0" y="4646520"/>
            <a:ext cx="9144000" cy="221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468360" y="6244920"/>
            <a:ext cx="712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7596000" y="6244920"/>
            <a:ext cx="1090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GS2008X/</a:t>
            </a:r>
            <a:fld id="{212BC2D3-02FC-47D2-BF98-51F08836F0B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ncbi.nlm.nih.gov/sites/entrez?Db=pubmed&amp;Cmd=Search&amp;Term=%22Johnstone%20PA%22%5BAuthor%5D&amp;itool=EntrezSystem2.PEntrez.Pubmed.Pubmed_ResultsPanel.Pubmed_DiscoveryPanel.Pubmed_RVAbstractPlus" TargetMode="External"/><Relationship Id="rId2" Type="http://schemas.openxmlformats.org/officeDocument/2006/relationships/hyperlink" Target="http://www.ncbi.nlm.nih.gov/sites/entrez?Db=pubmed&amp;Cmd=Search&amp;Term=%22Johnstone%20PA%22%5BAuthor%5D&amp;itool=EntrezSystem2.PEntrez.Pubmed.Pubmed_ResultsPanel.Pubmed_DiscoveryPanel.Pubmed_RVAbstractPlus" TargetMode="External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3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2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jpeg"/><Relationship Id="rId3" Type="http://schemas.openxmlformats.org/officeDocument/2006/relationships/image" Target="../media/image61.jpeg"/><Relationship Id="rId4" Type="http://schemas.openxmlformats.org/officeDocument/2006/relationships/image" Target="../media/image61.jpeg"/><Relationship Id="rId5" Type="http://schemas.openxmlformats.org/officeDocument/2006/relationships/image" Target="../media/image61.jpeg"/><Relationship Id="rId6" Type="http://schemas.openxmlformats.org/officeDocument/2006/relationships/image" Target="../media/image61.jpeg"/><Relationship Id="rId7" Type="http://schemas.openxmlformats.org/officeDocument/2006/relationships/image" Target="../media/image61.jpeg"/><Relationship Id="rId8" Type="http://schemas.openxmlformats.org/officeDocument/2006/relationships/image" Target="../media/image61.jpeg"/><Relationship Id="rId9" Type="http://schemas.openxmlformats.org/officeDocument/2006/relationships/image" Target="../media/image61.jpeg"/><Relationship Id="rId10" Type="http://schemas.openxmlformats.org/officeDocument/2006/relationships/image" Target="../media/image61.jpeg"/><Relationship Id="rId11" Type="http://schemas.openxmlformats.org/officeDocument/2006/relationships/image" Target="../media/image61.jpeg"/><Relationship Id="rId12" Type="http://schemas.openxmlformats.org/officeDocument/2006/relationships/image" Target="../media/image62.png"/><Relationship Id="rId13" Type="http://schemas.openxmlformats.org/officeDocument/2006/relationships/image" Target="../media/image63.png"/><Relationship Id="rId14" Type="http://schemas.openxmlformats.org/officeDocument/2006/relationships/slideLayout" Target="../slideLayouts/slideLayout3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16360" y="549000"/>
            <a:ext cx="4176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Ormonoterapia e Radioterapia post-operatoria</a:t>
            </a:r>
            <a:br>
              <a:rPr sz="4400"/>
            </a:b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nel carcinoma della prost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32000" y="4653000"/>
            <a:ext cx="3808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Giovanni Silv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Radioterapia Oncolog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00"/>
                </a:solidFill>
                <a:latin typeface="Arial"/>
              </a:rPr>
              <a:t>Tar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0" r="2120" b="0"/>
          <a:stretch/>
        </p:blipFill>
        <p:spPr>
          <a:xfrm>
            <a:off x="250920" y="333360"/>
            <a:ext cx="41767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36000" cy="2736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57080" y="1989000"/>
            <a:ext cx="7991640" cy="235512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 1005 pts: 503 pts no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2 pts PORT 16 weeks from R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no pelvic RT;  50 + 10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gibility criteria: pT2-3 N0 with ECE and/or R+ , S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18900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6600"/>
                </a:solidFill>
                <a:latin typeface="Arial"/>
              </a:rPr>
              <a:t>Bolla M et al, Lance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5640" y="4292640"/>
            <a:ext cx="7993080" cy="275688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spcBef>
                <a:spcPts val="1874"/>
              </a:spcBef>
              <a:buClr>
                <a:srgbClr val="ff66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te G2-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xicity (30%) significantly increased with PORT but G3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~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spcBef>
                <a:spcPts val="1874"/>
              </a:spcBef>
              <a:buClr>
                <a:srgbClr val="ff66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te G4-G5 toxicity not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41440" indent="-54144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63086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CE1-8A8B-4785-8024-8695524298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464000" cy="328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4176720" cy="3373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95280" y="3860640"/>
            <a:ext cx="8209080" cy="292284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tter biochemical and clinical progression-free survival after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5-years overall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.but pelvic RT for local recurrence in the control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6381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olla M et al, Lance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D138-2FBD-4522-B66C-22F47BF31D1E}" type="slidenum">
              <a:t>11</a:t>
            </a:fld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179280" y="189000"/>
            <a:ext cx="8713800" cy="4032000"/>
            <a:chOff x="179280" y="189000"/>
            <a:chExt cx="8713800" cy="4032000"/>
          </a:xfrm>
        </p:grpSpPr>
        <p:pic>
          <p:nvPicPr>
            <p:cNvPr id="186" name="" descr=""/>
            <p:cNvPicPr/>
            <p:nvPr/>
          </p:nvPicPr>
          <p:blipFill>
            <a:blip r:embed="rId1"/>
            <a:srcRect l="0" t="5271" r="2066" b="0"/>
            <a:stretch/>
          </p:blipFill>
          <p:spPr>
            <a:xfrm>
              <a:off x="179280" y="189000"/>
              <a:ext cx="8713800" cy="40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 txBox="1"/>
            <p:nvPr/>
          </p:nvSpPr>
          <p:spPr>
            <a:xfrm>
              <a:off x="179280" y="189000"/>
              <a:ext cx="8713800" cy="40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4000" y="4508640"/>
            <a:ext cx="8496000" cy="258228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te G2-G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toxicity (30%) significantly increased with PORT but G3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~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8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ate G4-G5 toxicity not observ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96000" y="63817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Bolla M et al, Lancet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083-3C86-446F-B44A-6071BB3803A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9640" y="2492280"/>
            <a:ext cx="8136000" cy="235512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 426 pts:   211 pts no PORT (control 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4 pts PORT 16 weeks from RP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(no pelvic RT;  50 + 10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igibility criteria: pT2-3 N0 with ECE and/or R+ , SV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3680" y="731880"/>
            <a:ext cx="8223120" cy="1665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24000" y="1773360"/>
            <a:ext cx="2232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4941720"/>
            <a:ext cx="8136000" cy="175464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ctal toxic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(proctitis, rectal bleeding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3%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3 urological toxicit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(total incontinence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te G4-G5 toxicity not obser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E97D-D063-47EF-9BA5-22D75DF9B15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084720" y="260280"/>
            <a:ext cx="2808360" cy="650772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milar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urrence Free Survival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 =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eedom from Hormonal Treatment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 &lt; 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tastasis Free Survival 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 = 0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4186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6600"/>
                </a:solidFill>
                <a:latin typeface="Arial"/>
              </a:rPr>
              <a:t>Thompson IM et al JAMA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>
            <a:lum bright="6000"/>
          </a:blip>
          <a:srcRect l="6365" t="0" r="5052" b="7197"/>
          <a:stretch/>
        </p:blipFill>
        <p:spPr>
          <a:xfrm>
            <a:off x="179280" y="2171880"/>
            <a:ext cx="5832720" cy="4419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1500" t="0" r="0" b="0"/>
          <a:stretch/>
        </p:blipFill>
        <p:spPr>
          <a:xfrm>
            <a:off x="0" y="2276640"/>
            <a:ext cx="3240000" cy="20588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6880" y="4287960"/>
            <a:ext cx="2760840" cy="9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2133720"/>
            <a:ext cx="129528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D6CA-4E61-4EF2-B0EB-C194C781F3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333399"/>
                </a:solidFill>
                <a:latin typeface="Arial"/>
              </a:rPr>
              <a:t>who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03440" y="1967040"/>
            <a:ext cx="7673760" cy="26715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68360" y="5157720"/>
            <a:ext cx="612144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mediate PORT: 16 weeks from 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B7E5-09CA-413A-85E1-B343EC40F3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56000" y="6308640"/>
            <a:ext cx="431964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24000" y="1557360"/>
            <a:ext cx="4038480" cy="5067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675320" y="1566720"/>
            <a:ext cx="3554280" cy="4238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362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who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8000" y="5300640"/>
            <a:ext cx="2879640" cy="93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2060640"/>
            <a:ext cx="287280" cy="14436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08360" y="3860640"/>
            <a:ext cx="287280" cy="144720"/>
          </a:xfrm>
          <a:prstGeom prst="leftArrow">
            <a:avLst>
              <a:gd name="adj1" fmla="val 50000"/>
              <a:gd name="adj2" fmla="val 496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37080" y="5661000"/>
            <a:ext cx="287280" cy="14436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476360" y="623736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6597720"/>
            <a:ext cx="482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300720" y="5949720"/>
            <a:ext cx="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6165720"/>
            <a:ext cx="1873440" cy="336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SA 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Arial"/>
              </a:rPr>
              <a:t>postRP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≤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0.2 ng/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885080" y="2060640"/>
            <a:ext cx="287280" cy="144360"/>
          </a:xfrm>
          <a:prstGeom prst="leftArrow">
            <a:avLst>
              <a:gd name="adj1" fmla="val 50000"/>
              <a:gd name="adj2" fmla="val 4975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189000"/>
            <a:ext cx="266544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Van der Kwast, JC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91A-C8E0-4117-8A1F-9F88228109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357120" y="1773360"/>
            <a:ext cx="2301840" cy="24476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556000" y="1700280"/>
            <a:ext cx="5400720" cy="49910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9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who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8360" y="414972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4297320"/>
            <a:ext cx="2232000" cy="2226960"/>
          </a:xfrm>
          <a:prstGeom prst="rect">
            <a:avLst/>
          </a:prstGeom>
          <a:solidFill>
            <a:srgbClr val="092f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bPFS for SM+ pts after PORT is similar to SM- 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932360" y="3499920"/>
            <a:ext cx="1368360" cy="505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212760"/>
            <a:ext cx="259236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Van der Kwast, JC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36C-BBD5-4B76-A2AF-94C99CBA80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716360" y="476280"/>
            <a:ext cx="4178520" cy="613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3889440" cy="23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</a:t>
            </a:r>
            <a:br>
              <a:rPr sz="4400"/>
            </a:b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who ?</a:t>
            </a: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5157720"/>
            <a:ext cx="4176720" cy="1373760"/>
          </a:xfrm>
          <a:prstGeom prst="rect">
            <a:avLst/>
          </a:prstGeom>
          <a:solidFill>
            <a:srgbClr val="092f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margin location does not influence bPFS after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4653000"/>
            <a:ext cx="2590920" cy="337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Arial"/>
              </a:rPr>
              <a:t>Van der Kwast, JCO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325-3149-46E1-B2F2-CA0BDEF46D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5920" y="5569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who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6236640"/>
            <a:ext cx="718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Prostate Cancer Prostatic Dis. 2007;10(2):185-8. Epub 2007 Jan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8000" y="1687320"/>
            <a:ext cx="8280360" cy="43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k of survival benefit of post-operative radiation therapy in prostate cancer patients with positive lymph no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Johnstone</a:t>
            </a:r>
            <a:r>
              <a:rPr b="0" lang="en-GB" sz="12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2"/>
              </a:rPr>
              <a:t> P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ikis V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odman 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d K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iffenburgh RH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 V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diation Oncology Department, Emory University School of Medicine, Atlanta, GA 30322, USA. peter@radonc.emory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ta regarding the potential benefit of RT for patients post-RP with positive lymph node (+LN) involvement are limited. We analyzed the Surveillance Epidemiology End Results (SEER) registry for population-based data on efficacy of post-operative RT for +LN patients after RP. As LN data have only been captured by SEER since 1988, we analyzed data for 1988-1992, with specific attention to 10-year relative survival (defined as observed survival divided by the survival of a gender-, age- and race-matched population cohort without disease). Specifically analyzed were data for 1921 patients with non metastatic prostate cancer who underwent surgery alone, or surgery followed by RT, and who had +LNs documented. SEER does not code the interval between surgery and RT, so the ratio of patients receiving salvage versus adjuvant therapy is unknown. Using follow-up data through 2002, post-diagnosis survival was examined by number of +L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  <a:ea typeface="Times New Roman"/>
              </a:rPr>
              <a:t>There was no significant relative survival benefit for +LN patients receiving post-operative RT (chi(2)P=0.270). These data do not support routine use of post-operative RT for patients with +LNs in the surgical specim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-330120" y="5037120"/>
            <a:ext cx="190440" cy="142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877080" y="0"/>
            <a:ext cx="1727280" cy="581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pN+ 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124000" y="4221000"/>
            <a:ext cx="93528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40000" y="3500280"/>
            <a:ext cx="388764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ABE4-9A8C-4CE6-A487-7FBFC973AF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Introdu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46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100000"/>
              </a:lnSpc>
              <a:spcBef>
                <a:spcPts val="700"/>
              </a:spcBef>
              <a:buSzPct val="1285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Radical prostatectomy (RP) is a standard definitive surgical management for clinically localized prostate cancer in patients (pts) free of serious comorbi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00"/>
              </a:spcBef>
              <a:buSzPct val="1285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The optimal postoperative management of pts with positive surgical margins (R1) or pT3 disease is un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100000"/>
              </a:lnSpc>
              <a:spcBef>
                <a:spcPts val="700"/>
              </a:spcBef>
              <a:buSzPct val="12854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Immediate postoperative radiotherapy (PORT) or active surveillance are therapeutic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EC7-5E5A-4DDB-9994-79C56B0966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when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>
            <a:lum bright="6000"/>
          </a:blip>
          <a:srcRect l="0" t="0" r="0" b="11475"/>
          <a:stretch/>
        </p:blipFill>
        <p:spPr>
          <a:xfrm>
            <a:off x="250920" y="1413000"/>
            <a:ext cx="8642160" cy="29527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4581000"/>
            <a:ext cx="8209080" cy="20163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3354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149 pts pT3 N0: 52 PORT vs 97 control  (matched-pair analysis on 72 pts - 36 vs 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3354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Stratification criteria:  PSA &lt;10&gt; ; GS  &lt;7&gt;;  SV +/- ;  R 0/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SzPct val="13354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Arial"/>
              </a:rPr>
              <a:t>RTPO  3-6 months from RP -  box tecnique, 10 x 10 cm; mean dose 64,8 Gy  (59,4 - 70,2 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F73-109F-4309-99A6-2BF5855727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6600"/>
                </a:solidFill>
                <a:latin typeface="Arial"/>
              </a:rPr>
              <a:t>Results:</a:t>
            </a:r>
            <a:r>
              <a:rPr b="1" i="1" lang="it-IT" sz="3600" spc="-1" strike="noStrike">
                <a:solidFill>
                  <a:srgbClr val="2653ac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333399"/>
                </a:solidFill>
                <a:latin typeface="Arial"/>
              </a:rPr>
              <a:t>RR = 0.12  (78-93%) for 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1484280"/>
            <a:ext cx="756144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0366-98DF-4A90-9CF6-08C15E082B7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528394"/>
                </a:solidFill>
                <a:latin typeface="Arial"/>
              </a:rPr>
              <a:t>when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9280" y="4076280"/>
            <a:ext cx="8209080" cy="2521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284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146 pts pT1-4 N0  -  PORT 3-6 months from RP in “early” p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1284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75 adjuvant PORT - 96%R+ 4% SV+  </a:t>
            </a:r>
            <a:r>
              <a:rPr b="1" i="1" lang="en-US" sz="1600" spc="-1" strike="noStrike">
                <a:solidFill>
                  <a:srgbClr val="ff6600"/>
                </a:solidFill>
                <a:latin typeface="Arial"/>
              </a:rPr>
              <a:t>(PSA after RP not detectab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71 salvage PORT because detectable PSA or biochemical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84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ean dose: “early” 51-70 Gy  - “late”  60-78 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5"/>
          <a:srcRect l="0" t="0" r="0" b="12729"/>
          <a:stretch/>
        </p:blipFill>
        <p:spPr>
          <a:xfrm>
            <a:off x="468360" y="1197000"/>
            <a:ext cx="8280360" cy="280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FB78-8D92-4A63-80A1-E07A72184B8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22200" y="333360"/>
            <a:ext cx="3962520" cy="3133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250920" y="3502080"/>
            <a:ext cx="4106880" cy="31305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356000" y="3867120"/>
            <a:ext cx="4537080" cy="144180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-PSA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 delayed but PSA not detectable following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imilar results when PORT is given after biochemical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56000" y="5396040"/>
            <a:ext cx="4537080" cy="113688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-PSA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RT delayed but PSA persistently detec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llowing 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alvage PORT is use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56000" y="1700280"/>
            <a:ext cx="4537080" cy="1167480"/>
          </a:xfrm>
          <a:prstGeom prst="rect">
            <a:avLst/>
          </a:prstGeom>
          <a:solidFill>
            <a:srgbClr val="265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rly” better than “Lat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PORT timing and post-RP PSA are conclusive for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84720" y="34034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Salvage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427640" y="404640"/>
            <a:ext cx="4465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6600"/>
                </a:solidFill>
                <a:latin typeface="Arial"/>
              </a:rPr>
              <a:t>Taylor N et al, IJROBP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56000" y="1197000"/>
            <a:ext cx="4608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FC3-C32B-482F-B9E8-4DFD344001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77868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8080"/>
                </a:solidFill>
                <a:latin typeface="Arial"/>
              </a:rPr>
              <a:t>RADICALS: Radiotherapy and Androgen Deprivation in Combination after Local Surg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i="1" lang="it-IT" sz="2800" spc="-1" strike="noStrike">
                <a:solidFill>
                  <a:srgbClr val="ff6600"/>
                </a:solidFill>
                <a:latin typeface="Arial"/>
              </a:rPr>
              <a:t>Phase III multicenter t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adjuvant PORT</a:t>
            </a: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NO 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RANDOMIZE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              6 months of 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salvage PORT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  2 years of A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108000" y="27432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whe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35640" y="3284640"/>
            <a:ext cx="0" cy="28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3284640"/>
            <a:ext cx="360360" cy="2838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NDO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2556000" y="436572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56000" y="486900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59280" y="4005360"/>
            <a:ext cx="194436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59280" y="5157720"/>
            <a:ext cx="194436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4005360"/>
            <a:ext cx="1079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56360" y="4581360"/>
            <a:ext cx="216072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56360" y="5157720"/>
            <a:ext cx="216072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84720" y="5805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ADT: Adjuvant Deprivation  Therap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5877000"/>
            <a:ext cx="3598920" cy="368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Parker C et al, Clin Oncol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580000" y="3141720"/>
            <a:ext cx="3313080" cy="3024000"/>
          </a:xfrm>
          <a:prstGeom prst="rect">
            <a:avLst/>
          </a:prstGeom>
          <a:gradFill rotWithShape="0">
            <a:gsLst>
              <a:gs pos="0">
                <a:srgbClr val="808080">
                  <a:alpha val="49019"/>
                </a:srgbClr>
              </a:gs>
              <a:gs pos="100000">
                <a:srgbClr val="3b3b3b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D13-3130-4E3E-9C66-787085B740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9640" y="1907640"/>
            <a:ext cx="83901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-898560">
              <a:spcBef>
                <a:spcPts val="1100"/>
              </a:spcBef>
              <a:buSzPct val="15427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Androgen Suppression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00"/>
              </a:spcBef>
              <a:buSzPct val="154271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Thecnical details:</a:t>
            </a:r>
            <a:r>
              <a:rPr b="0" lang="it-IT" sz="4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1026"/>
              </a:spcBef>
              <a:buClr>
                <a:srgbClr val="808080"/>
              </a:buClr>
              <a:buFont typeface="Wingdings" charset="2"/>
              <a:buChar char="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6600"/>
                </a:solidFill>
                <a:latin typeface="Arial"/>
              </a:rPr>
              <a:t>Volum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1026"/>
              </a:spcBef>
              <a:buClr>
                <a:srgbClr val="808080"/>
              </a:buClr>
              <a:buFont typeface="Wingdings" charset="2"/>
              <a:buChar char="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6600"/>
                </a:solidFill>
                <a:latin typeface="Arial"/>
              </a:rPr>
              <a:t>Dos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1026"/>
              </a:spcBef>
              <a:buClr>
                <a:srgbClr val="808080"/>
              </a:buClr>
              <a:buFont typeface="Wingdings" charset="2"/>
              <a:buChar char="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100" spc="-1" strike="noStrike">
                <a:solidFill>
                  <a:srgbClr val="ff6600"/>
                </a:solidFill>
                <a:latin typeface="Arial"/>
              </a:rPr>
              <a:t>Guideline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B8C-19FB-4C63-BCD3-BDA997734A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spcBef>
                <a:spcPts val="901"/>
              </a:spcBef>
              <a:buSzPct val="15433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PORT combined with Androgen Deprivation Therapy (A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1628640"/>
            <a:ext cx="5367600" cy="51008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468360" y="6302520"/>
            <a:ext cx="324180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Arial"/>
              </a:rPr>
              <a:t>KING CR et al, IJROBP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8C9F-6871-46B1-87CF-D17F90A105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01520"/>
            <a:ext cx="8461440" cy="8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how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572000" y="932040"/>
            <a:ext cx="4392720" cy="28494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500720" y="3573360"/>
            <a:ext cx="4518000" cy="32860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539640" y="907920"/>
            <a:ext cx="2232000" cy="276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KING CR et al, IJROBP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773360"/>
            <a:ext cx="4608360" cy="19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180720">
              <a:spcBef>
                <a:spcPts val="1125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mproved bNED survival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p=0.012 – multivari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spcBef>
                <a:spcPts val="374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spcBef>
                <a:spcPts val="10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Improved OS for GS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  <a:ea typeface="Arial"/>
              </a:rPr>
              <a:t>≥ 8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it-IT" sz="1600" spc="-1" strike="noStrike">
                <a:solidFill>
                  <a:srgbClr val="ff0000"/>
                </a:solidFill>
                <a:latin typeface="Arial"/>
                <a:ea typeface="Arial"/>
              </a:rPr>
              <a:t>(p=0.040 - univari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1800" indent="-180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179280" y="3659040"/>
            <a:ext cx="439272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BA4C-4150-4F7D-BA3C-A6D91BA5A1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RADICALS: Radiotherapy and Androgen Deprivation in Combination after Local Surgery:</a:t>
            </a: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6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0" i="1" lang="it-IT" sz="2000" spc="-1" strike="noStrike">
                <a:solidFill>
                  <a:srgbClr val="ff6600"/>
                </a:solidFill>
                <a:latin typeface="Arial"/>
              </a:rPr>
              <a:t>phase III multicente 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4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it-IT" sz="2200" spc="-1" strike="noStrike">
                <a:solidFill>
                  <a:srgbClr val="0000cc"/>
                </a:solidFill>
                <a:latin typeface="Arial"/>
              </a:rPr>
              <a:t>adjuvant PORT                NO A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RANDOMIZE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6 months of A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                             </a:t>
            </a:r>
            <a:r>
              <a:rPr b="0" lang="it-IT" sz="2200" spc="-1" strike="noStrike">
                <a:solidFill>
                  <a:srgbClr val="0000cc"/>
                </a:solidFill>
                <a:latin typeface="Arial"/>
              </a:rPr>
              <a:t>salvage PORT                  2 years of A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how ?</a:t>
            </a: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333399"/>
                </a:solidFill>
                <a:latin typeface="Arial"/>
              </a:rPr>
              <a:t>androgen suppress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35640" y="3429000"/>
            <a:ext cx="0" cy="28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651640" y="3402000"/>
            <a:ext cx="360360" cy="2838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ANDO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2556000" y="4654440"/>
            <a:ext cx="43164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372280"/>
            <a:ext cx="431640" cy="28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4437000"/>
            <a:ext cx="20174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5445000"/>
            <a:ext cx="20174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4365720"/>
            <a:ext cx="1224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56360" y="4941720"/>
            <a:ext cx="2448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56360" y="5445000"/>
            <a:ext cx="216072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2000" y="59500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99"/>
                </a:solidFill>
                <a:latin typeface="Arial"/>
              </a:rPr>
              <a:t>ADT: Adjuvant Deprivation  Therap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4076640"/>
            <a:ext cx="2232000" cy="2016360"/>
          </a:xfrm>
          <a:prstGeom prst="rect">
            <a:avLst/>
          </a:prstGeom>
          <a:gradFill rotWithShape="0">
            <a:gsLst>
              <a:gs pos="0">
                <a:srgbClr val="808080">
                  <a:alpha val="49019"/>
                </a:srgbClr>
              </a:gs>
              <a:gs pos="100000">
                <a:srgbClr val="3b3b3b">
                  <a:alpha val="46274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9640" y="6308640"/>
            <a:ext cx="813600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1280" y="6292800"/>
            <a:ext cx="460836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Parker C et al, Clin Oncol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D6AA-6A54-47EC-A6C4-1F8E8BC79F4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68000" y="1557000"/>
            <a:ext cx="8675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808080"/>
                </a:solidFill>
                <a:latin typeface="Arial"/>
              </a:rPr>
              <a:t>Three randomized tria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5568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TOG 96-01: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vs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 + Bicalutamide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150 mg x 2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losed in 2007 – waiting for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55680">
              <a:spcBef>
                <a:spcPts val="4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TOG P-0011</a:t>
            </a: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 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vs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 PORT 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+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Bicalutamide or LHRH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x 2 y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closed because of poor accr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355680">
              <a:spcBef>
                <a:spcPts val="3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TOG 05-34</a:t>
            </a:r>
            <a:r>
              <a:rPr b="0" lang="it-IT" sz="2400" spc="-1" strike="noStrike">
                <a:solidFill>
                  <a:srgbClr val="ff6600"/>
                </a:solidFill>
                <a:latin typeface="Arial"/>
              </a:rPr>
              <a:t>: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prostate b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opened 2007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prostate bed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+ ADT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 x 4/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                   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RT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808080"/>
                </a:solidFill>
                <a:latin typeface="Arial"/>
              </a:rPr>
              <a:t>whole pelvis and prostate bed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+ ADT</a:t>
            </a:r>
            <a:r>
              <a:rPr b="0" lang="it-IT" sz="1600" spc="-1" strike="noStrike">
                <a:solidFill>
                  <a:srgbClr val="808080"/>
                </a:solidFill>
                <a:latin typeface="Arial"/>
              </a:rPr>
              <a:t> x 4/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how ?</a:t>
            </a:r>
            <a:r>
              <a:rPr b="0" lang="it-IT" sz="40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4000"/>
            </a:br>
            <a:r>
              <a:rPr b="0" lang="it-IT" sz="1500" spc="-1" strike="noStrike">
                <a:solidFill>
                  <a:srgbClr val="808080"/>
                </a:solidFill>
                <a:latin typeface="Arial"/>
              </a:rPr>
              <a:t>androgen suppres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6237360"/>
            <a:ext cx="8136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A075-4A93-4DAD-B140-E47543A064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73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55280" y="2383920"/>
            <a:ext cx="32828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-898560">
              <a:spcBef>
                <a:spcPts val="1100"/>
              </a:spcBef>
              <a:buSzPct val="128590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00"/>
              </a:spcBef>
              <a:buSzPct val="128590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00"/>
              </a:spcBef>
              <a:buSzPct val="128590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W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98560" indent="-898560">
              <a:spcBef>
                <a:spcPts val="1100"/>
              </a:spcBef>
              <a:buSzPct val="128590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341360"/>
            <a:ext cx="47527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0" spc="-1" strike="noStrike">
                <a:solidFill>
                  <a:srgbClr val="ff6600"/>
                </a:solidFill>
                <a:latin typeface="Arial"/>
                <a:ea typeface="Arial"/>
              </a:rPr>
              <a:t>?</a:t>
            </a:r>
            <a:endParaRPr b="0" lang="en-US" sz="3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8B5-2DDB-4C81-90FD-6377CB3C3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152280" y="1038240"/>
            <a:ext cx="8763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1" descr=""/>
          <p:cNvPicPr/>
          <p:nvPr/>
        </p:nvPicPr>
        <p:blipFill>
          <a:blip r:embed="rId1"/>
          <a:srcRect l="30608" t="40052" r="0" b="21588"/>
          <a:stretch/>
        </p:blipFill>
        <p:spPr>
          <a:xfrm>
            <a:off x="457200" y="304920"/>
            <a:ext cx="8305920" cy="12189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2"/>
          <a:srcRect l="0" t="0" r="0" b="2868"/>
          <a:stretch/>
        </p:blipFill>
        <p:spPr>
          <a:xfrm>
            <a:off x="685800" y="1752480"/>
            <a:ext cx="3962520" cy="23972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"/>
          <a:srcRect l="0" t="7449" r="4272" b="3154"/>
          <a:stretch/>
        </p:blipFill>
        <p:spPr>
          <a:xfrm>
            <a:off x="4800600" y="3124080"/>
            <a:ext cx="3733920" cy="32767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4"/>
          <a:srcRect l="0" t="2584" r="0" b="12168"/>
          <a:stretch/>
        </p:blipFill>
        <p:spPr>
          <a:xfrm>
            <a:off x="684360" y="4191120"/>
            <a:ext cx="3963960" cy="2287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666880" y="1905120"/>
            <a:ext cx="89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2670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800600" y="2743200"/>
            <a:ext cx="3733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Arial"/>
              </a:rPr>
              <a:t>MALATTIA AVANZ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43400" y="7873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0000"/>
                </a:solidFill>
                <a:latin typeface="Arial"/>
              </a:rPr>
              <a:t>BJU -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7CA-DA4E-4A85-A074-22F5ECEE48E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"/>
          <p:cNvPicPr/>
          <p:nvPr/>
        </p:nvPicPr>
        <p:blipFill>
          <a:blip r:embed="rId1"/>
          <a:srcRect l="0" t="4760" r="0" b="0"/>
          <a:stretch/>
        </p:blipFill>
        <p:spPr>
          <a:xfrm>
            <a:off x="914400" y="228600"/>
            <a:ext cx="7543800" cy="1523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4" descr=""/>
          <p:cNvPicPr/>
          <p:nvPr/>
        </p:nvPicPr>
        <p:blipFill>
          <a:blip r:embed="rId2"/>
          <a:srcRect l="3024" t="4477" r="6234" b="15922"/>
          <a:stretch/>
        </p:blipFill>
        <p:spPr>
          <a:xfrm>
            <a:off x="4495680" y="4267080"/>
            <a:ext cx="3276720" cy="24386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3"/>
          <a:srcRect l="3757" t="2771" r="51175" b="22009"/>
          <a:stretch/>
        </p:blipFill>
        <p:spPr>
          <a:xfrm>
            <a:off x="4495680" y="1905120"/>
            <a:ext cx="3276720" cy="23619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"/>
          <a:srcRect l="52493" t="17061" r="7706" b="14696"/>
          <a:stretch/>
        </p:blipFill>
        <p:spPr>
          <a:xfrm>
            <a:off x="1143000" y="419112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5"/>
          <a:srcRect l="6509" t="11873" r="6693" b="14499"/>
          <a:stretch/>
        </p:blipFill>
        <p:spPr>
          <a:xfrm>
            <a:off x="1143000" y="1905120"/>
            <a:ext cx="3048120" cy="23619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352680" y="19810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0808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362320" y="42670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SA</a:t>
            </a:r>
            <a:r>
              <a:rPr b="1" lang="it-IT" sz="1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pro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406200" y="1981080"/>
            <a:ext cx="12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FS </a:t>
            </a: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over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02920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808080"/>
                </a:solidFill>
                <a:latin typeface="Arial"/>
              </a:rPr>
              <a:t>PFS </a:t>
            </a:r>
            <a:r>
              <a:rPr b="1" lang="it-IT" sz="1400" spc="-1" strike="noStrike">
                <a:solidFill>
                  <a:srgbClr val="808080"/>
                </a:solidFill>
                <a:latin typeface="Arial"/>
              </a:rPr>
              <a:t>malattia avanz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351A-AFD5-4434-8591-288521E0267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</a:t>
            </a:r>
            <a:r>
              <a:rPr b="0" lang="it-IT" sz="4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808080"/>
                </a:solidFill>
                <a:latin typeface="Arial"/>
              </a:rPr>
              <a:t>volu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20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-420840">
              <a:lnSpc>
                <a:spcPct val="90000"/>
              </a:lnSpc>
              <a:spcBef>
                <a:spcPts val="400"/>
              </a:spcBef>
              <a:buSzPct val="154256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3800" spc="-1" strike="noStrike">
                <a:solidFill>
                  <a:srgbClr val="808080"/>
                </a:solidFill>
                <a:latin typeface="Arial"/>
              </a:rPr>
              <a:t>Whole Pelvic Radiotherapy </a:t>
            </a:r>
            <a:r>
              <a:rPr b="0" lang="it-IT" sz="1600" spc="-1" strike="noStrike">
                <a:solidFill>
                  <a:srgbClr val="ff6600"/>
                </a:solidFill>
                <a:latin typeface="Arial"/>
              </a:rPr>
              <a:t>(WP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7080" y="2565360"/>
            <a:ext cx="2541600" cy="3886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2565360"/>
            <a:ext cx="3097080" cy="34722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160/114 High-risk pts: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72 pts WP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42 pts Prostate Bed 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87 pts short-course AD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High-risk pts: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GS 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≥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Preop. PSA level &gt; 20 n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pT3 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  <a:ea typeface="Arial"/>
              </a:rPr>
              <a:t>and/or</a:t>
            </a:r>
            <a:r>
              <a:rPr b="1" lang="it-IT" sz="1600" spc="-1" strike="noStrike">
                <a:solidFill>
                  <a:srgbClr val="ffffff"/>
                </a:solidFill>
                <a:latin typeface="Arial"/>
                <a:ea typeface="Arial"/>
              </a:rPr>
              <a:t> pN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6156360" y="2492280"/>
            <a:ext cx="2890800" cy="4032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324000" y="5950080"/>
            <a:ext cx="331128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808080"/>
                </a:solidFill>
                <a:latin typeface="Arial"/>
              </a:rPr>
              <a:t>Spiotto MT et al, IJROBP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282-DA22-4F26-BBCE-0D7BE462F4A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</a:t>
            </a:r>
            <a:r>
              <a:rPr b="0" lang="it-IT" sz="45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808080"/>
                </a:solidFill>
                <a:latin typeface="Arial"/>
              </a:rPr>
              <a:t>volu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-720720">
              <a:spcBef>
                <a:spcPts val="1100"/>
              </a:spcBef>
              <a:buSzPct val="15427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808080"/>
                </a:solidFill>
                <a:latin typeface="Arial"/>
              </a:rPr>
              <a:t>Prostate fossa &amp; bed: relap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spcBef>
                <a:spcPts val="499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901"/>
              </a:spcBef>
              <a:buClr>
                <a:srgbClr val="ff660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Urethro-vescical anastomos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224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901"/>
              </a:spcBef>
              <a:buClr>
                <a:srgbClr val="ff660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bladder n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224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spcBef>
                <a:spcPts val="901"/>
              </a:spcBef>
              <a:buClr>
                <a:srgbClr val="ff660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retrovescical sp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9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901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6165720"/>
            <a:ext cx="813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808080"/>
                </a:solidFill>
                <a:latin typeface="Arial"/>
              </a:rPr>
              <a:t>Poortmans P et al, R&amp;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79C-3341-4B77-84CB-00C33DD548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 </a:t>
            </a:r>
            <a:r>
              <a:rPr b="0" lang="it-IT" sz="1700" spc="-1" strike="noStrike">
                <a:solidFill>
                  <a:srgbClr val="808080"/>
                </a:solidFill>
                <a:latin typeface="Arial"/>
              </a:rPr>
              <a:t>volu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79916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spcBef>
                <a:spcPts val="1001"/>
              </a:spcBef>
              <a:buSzPct val="154298"/>
              <a:buBlip>
                <a:blip r:embed="rId1"/>
              </a:buBlip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CT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Centrally: the urethro-vescical anastom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Cranially: the bladder 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Posteriorly: up to but not including the outer rectal wall, cranially including the most posterior part of bladder 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Caudally: include the apex (15 mm cranially from the penile bu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Laterally: up to the neurovascular bundles (if removed up to the ilo-obturatic musc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-354240">
              <a:spcBef>
                <a:spcPts val="499"/>
              </a:spcBef>
              <a:buClr>
                <a:srgbClr val="808080"/>
              </a:buClr>
              <a:buSzPct val="150000"/>
              <a:buFont typeface="Arial"/>
              <a:buChar char="•"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Anteriorly: including anastomosis and the urethr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76400" indent="0">
              <a:spcBef>
                <a:spcPts val="499"/>
              </a:spcBef>
              <a:buNone/>
              <a:tabLst>
                <a:tab algn="l" pos="0"/>
                <a:tab algn="l" pos="895320"/>
                <a:tab algn="l" pos="1257480"/>
                <a:tab algn="l" pos="1346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6237360"/>
            <a:ext cx="842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6600"/>
                </a:solidFill>
                <a:latin typeface="Arial"/>
              </a:rPr>
              <a:t>Poortmans P et al, R&amp;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DA2-DBF7-4944-853E-BF9F22551EB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 </a:t>
            </a:r>
            <a:r>
              <a:rPr b="0" lang="it-IT" sz="1700" spc="-1" strike="noStrike">
                <a:solidFill>
                  <a:srgbClr val="808080"/>
                </a:solidFill>
                <a:latin typeface="Arial"/>
              </a:rPr>
              <a:t>volum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5520" y="1835280"/>
            <a:ext cx="83232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714240">
              <a:lnSpc>
                <a:spcPct val="100000"/>
              </a:lnSpc>
              <a:spcBef>
                <a:spcPts val="601"/>
              </a:spcBef>
              <a:buSzPct val="154298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CTV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92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5 mm in all directions (except the rectal wall) to account for microscopical exten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92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Supplementary 5 mm in the posterior and lateral direction (excluding the rectal wall) in the presence of incompletely resected 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92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Supplementary 5 mm in the direction of SM+ as reported by the pathologist (excluding the rectal w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1001"/>
              </a:spcBef>
              <a:buSzPct val="154298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PT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9280">
              <a:lnSpc>
                <a:spcPct val="10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CTV + 5 mm margin as minimum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0360" y="170028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e85e00"/>
                </a:solidFill>
                <a:latin typeface="Arial"/>
              </a:rPr>
              <a:t>Poortmans P et al, R&amp;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9640" y="6237360"/>
            <a:ext cx="8064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25B-5CE2-4F43-990E-64174FBD2CE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611280" y="4365720"/>
            <a:ext cx="7056360" cy="1871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how ? </a:t>
            </a:r>
            <a:r>
              <a:rPr b="0" lang="it-IT" sz="1700" spc="-1" strike="noStrike">
                <a:solidFill>
                  <a:srgbClr val="808080"/>
                </a:solidFill>
                <a:latin typeface="Arial"/>
              </a:rPr>
              <a:t>do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4920" y="1512720"/>
            <a:ext cx="8109000" cy="494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-717480">
              <a:lnSpc>
                <a:spcPct val="100000"/>
              </a:lnSpc>
              <a:spcBef>
                <a:spcPts val="901"/>
              </a:spcBef>
              <a:buSzPct val="15433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Do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9856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R0 (SM-):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PORT if post-RP PSA detectable (&gt; 0.1-2) &amp; SV+ or 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-45576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–"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6600"/>
                </a:solidFill>
                <a:latin typeface="Arial"/>
              </a:rPr>
              <a:t>R1(SM+):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46 - 50 Gy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to whole pelvis if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64 - 68 Gy to prostate 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&gt; 70 Gy if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03640" y="4005360"/>
            <a:ext cx="28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e85e00"/>
                </a:solidFill>
                <a:latin typeface="Arial"/>
              </a:rPr>
              <a:t>Poortmans P et al, R&amp;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8D6-9610-4906-AA61-C2D85DD721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367812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6600"/>
                </a:solidFill>
                <a:latin typeface="Arial"/>
              </a:rPr>
              <a:t>Adjuvant Radiotherapy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r>
              <a:rPr b="0" lang="it-IT" sz="2300" spc="-1" strike="noStrike">
                <a:solidFill>
                  <a:srgbClr val="808080"/>
                </a:solidFill>
                <a:latin typeface="Arial"/>
              </a:rPr>
              <a:t>ESTRO Guidel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0">
              <a:spcBef>
                <a:spcPts val="1026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1026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896000" y="0"/>
            <a:ext cx="4248000" cy="18334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rcRect l="11881" t="0" r="8449" b="16277"/>
          <a:stretch/>
        </p:blipFill>
        <p:spPr>
          <a:xfrm>
            <a:off x="395280" y="3068640"/>
            <a:ext cx="3905280" cy="16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4465800" y="1565280"/>
            <a:ext cx="4643280" cy="25113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500720" y="4181400"/>
            <a:ext cx="4643280" cy="241632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95280" y="4797360"/>
            <a:ext cx="27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Sites of local re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24360" y="1628640"/>
            <a:ext cx="792000" cy="337320"/>
          </a:xfrm>
          <a:prstGeom prst="rect">
            <a:avLst/>
          </a:prstGeom>
          <a:solidFill>
            <a:srgbClr val="e8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ECE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24360" y="5950080"/>
            <a:ext cx="792000" cy="337320"/>
          </a:xfrm>
          <a:prstGeom prst="rect">
            <a:avLst/>
          </a:prstGeom>
          <a:solidFill>
            <a:srgbClr val="e85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SV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6308640"/>
            <a:ext cx="396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8317-EE1D-43A4-B196-570AFCDE1E6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33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ff6600"/>
                </a:solidFill>
                <a:latin typeface="Arial"/>
              </a:rPr>
              <a:t>Adjuvant Radiotherapy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r>
              <a:rPr b="0" lang="it-IT" sz="2300" spc="-1" strike="noStrike">
                <a:solidFill>
                  <a:srgbClr val="808080"/>
                </a:solidFill>
                <a:latin typeface="Arial"/>
              </a:rPr>
              <a:t>ASTRO Guideli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8560" indent="0">
              <a:spcBef>
                <a:spcPts val="1026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1533600" indent="0">
              <a:spcBef>
                <a:spcPts val="1026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217008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024360" y="2205000"/>
            <a:ext cx="3122280" cy="44640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3"/>
          <a:stretch/>
        </p:blipFill>
        <p:spPr>
          <a:xfrm>
            <a:off x="5956200" y="2205000"/>
            <a:ext cx="3079800" cy="44640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4"/>
          <a:stretch/>
        </p:blipFill>
        <p:spPr>
          <a:xfrm>
            <a:off x="0" y="2205000"/>
            <a:ext cx="3071880" cy="36003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5805360"/>
            <a:ext cx="2952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RMN 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B31-E1AE-4682-8BD1-00BDB500BA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06472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lnSpc>
                <a:spcPct val="90000"/>
              </a:lnSpc>
              <a:spcBef>
                <a:spcPts val="624"/>
              </a:spcBef>
              <a:buSzPct val="154357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From 2002 to 2008, 92 postoperative prostate eligible cancer pT3/pT4 or R1 pts were treated with PORT in our institution. Mean age 68 years (42-80); only two pts had pN1 disea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24"/>
              </a:spcBef>
              <a:buSzPct val="154357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In 72 pts PORT was prescribed as immediate therapy </a:t>
            </a: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(18 pts PSA postCH &gt; 0.2 ng/ml)</a:t>
            </a: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 while in 20 pts it was delivered as salvage treatment after proven biochemical re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349"/>
              </a:spcBef>
              <a:buSzPct val="154357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Combined pelvis with prostatic fossa ± prostatic bed was treated in 39 cN0 high-risk pts according the Roach’s formula; 2 pts were pN1</a:t>
            </a: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(micr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lnSpc>
                <a:spcPct val="90000"/>
              </a:lnSpc>
              <a:spcBef>
                <a:spcPts val="624"/>
              </a:spcBef>
              <a:buSzPct val="154357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8080"/>
                </a:solidFill>
                <a:latin typeface="Arial"/>
              </a:rPr>
              <a:t>Prostatic fossa and prostatic bed were irradiated in 29 pts while prostatic fossa alone was treated in 24 p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9640" y="6237360"/>
            <a:ext cx="8209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2F15-2443-4D0B-B726-9569C87010D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why 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640" y="1914480"/>
            <a:ext cx="835344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622440">
              <a:lnSpc>
                <a:spcPct val="100000"/>
              </a:lnSpc>
              <a:spcBef>
                <a:spcPts val="901"/>
              </a:spcBef>
              <a:buSzPct val="12857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sults following RP are suboptimal in pts pT3 or R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00000"/>
              </a:lnSpc>
              <a:spcBef>
                <a:spcPts val="901"/>
              </a:spcBef>
              <a:buSzPct val="128571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After RP high-risk pts are 5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lnSpc>
                <a:spcPct val="100000"/>
              </a:lnSpc>
              <a:spcBef>
                <a:spcPts val="901"/>
              </a:spcBef>
              <a:buSzPct val="128571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isk of biochemical disease progression is 30-75% at five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DBC-6EF0-47DC-882D-49FD4E39A4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rcRect l="7339" t="0" r="9795" b="0"/>
          <a:stretch/>
        </p:blipFill>
        <p:spPr>
          <a:xfrm>
            <a:off x="468360" y="260280"/>
            <a:ext cx="8137440" cy="640872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rcRect l="16133" t="16509" r="17878" b="19057"/>
          <a:stretch/>
        </p:blipFill>
        <p:spPr>
          <a:xfrm>
            <a:off x="684360" y="1125360"/>
            <a:ext cx="7991280" cy="485172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rcRect l="23472" t="16509" r="20807" b="6816"/>
          <a:stretch/>
        </p:blipFill>
        <p:spPr>
          <a:xfrm>
            <a:off x="6767640" y="0"/>
            <a:ext cx="2376360" cy="203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5007-7E1B-4923-97DC-92F230236990}" type="slidenum">
              <a:t>40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rcRect l="25576" t="14145" r="9894" b="0"/>
          <a:stretch/>
        </p:blipFill>
        <p:spPr>
          <a:xfrm>
            <a:off x="0" y="0"/>
            <a:ext cx="8244000" cy="6818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812000" cy="4857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"/>
          <a:srcRect l="16119" t="0" r="19352" b="8007"/>
          <a:stretch/>
        </p:blipFill>
        <p:spPr>
          <a:xfrm>
            <a:off x="5580000" y="0"/>
            <a:ext cx="3564000" cy="3159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4"/>
          <a:srcRect l="24847" t="1904" r="17944" b="20254"/>
          <a:stretch/>
        </p:blipFill>
        <p:spPr>
          <a:xfrm>
            <a:off x="5614920" y="3871800"/>
            <a:ext cx="3529080" cy="298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32F-CA9E-470D-84B7-1A33FF62FB4B}" type="slidenum">
              <a:t>41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cent EORTC guidelines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(Poortmans et al, R&amp;O 2007)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has been implemented reducing irradiated volu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39640" y="3860640"/>
          <a:ext cx="4038840" cy="2186280"/>
        </p:xfrm>
        <a:graphic>
          <a:graphicData uri="http://schemas.openxmlformats.org/drawingml/2006/table">
            <a:tbl>
              <a:tblPr/>
              <a:tblGrid>
                <a:gridCol w="1276920"/>
                <a:gridCol w="1054800"/>
                <a:gridCol w="962280"/>
                <a:gridCol w="744840"/>
              </a:tblGrid>
              <a:tr h="58140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VOLUME 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medi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(68 pz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VOLUME B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medio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50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6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(24 pz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P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PTV cc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(loggia prostatica)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2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&lt; 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53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PTV cc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(letto prostatico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53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cc   retto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700" spc="-1" strike="noStrike">
                          <a:solidFill>
                            <a:srgbClr val="fb0321"/>
                          </a:solidFill>
                          <a:latin typeface="Arial"/>
                        </a:rPr>
                        <a:t>cc   vescic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 </a:t>
                      </a: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4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2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0.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3497400"/>
                          <a:tab algn="l" pos="6994440"/>
                          <a:tab algn="l" pos="10491840"/>
                        </a:tabLst>
                      </a:pP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 </a:t>
                      </a:r>
                      <a:r>
                        <a:rPr b="1" i="1" lang="it-IT" sz="800" spc="-1" strike="noStrike">
                          <a:solidFill>
                            <a:srgbClr val="00005a"/>
                          </a:solidFill>
                          <a:latin typeface="Arial"/>
                        </a:rPr>
                        <a:t>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363" name="" descr=""/>
          <p:cNvPicPr/>
          <p:nvPr/>
        </p:nvPicPr>
        <p:blipFill>
          <a:blip r:embed="rId12"/>
          <a:srcRect l="877" t="27959" r="2363" b="5302"/>
          <a:stretch/>
        </p:blipFill>
        <p:spPr>
          <a:xfrm>
            <a:off x="4788000" y="1916280"/>
            <a:ext cx="3929040" cy="18270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3"/>
          <a:srcRect l="798" t="29124" r="477" b="7746"/>
          <a:stretch/>
        </p:blipFill>
        <p:spPr>
          <a:xfrm>
            <a:off x="4788000" y="4221000"/>
            <a:ext cx="3898800" cy="1855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4788000" y="198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Vol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88000" y="4149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Vol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300720" y="1611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6600"/>
                </a:solidFill>
                <a:latin typeface="Arial"/>
              </a:rPr>
              <a:t>Lazzari et al AIRO,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361-4EB0-4C39-8087-C7E45F225F5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18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799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-5428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an dose to pelvis was 45 Gy (45-4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451"/>
              </a:spcBef>
              <a:buSzPct val="154158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an dose of prostatic boost was 25 Gy 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(tot. dose 66-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an dose to prostatic fossa alone was 71 (70-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mean dose to combined fossa and prostatic bed was 58 Gy (54-7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OAR’s DVH were calculated as V70 &lt; 30% for rectum and V50 &lt; 60% and V70 &lt; 30% for b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rectum was contoured from sigmoid-rectal junction to anal verge; bladder was contoured empty in all p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9640" y="6308640"/>
            <a:ext cx="820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5C1-4133-407E-B19C-329436BFEBE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51868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808080"/>
                </a:solidFill>
                <a:latin typeface="Arial"/>
              </a:rPr>
              <a:t>ou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2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5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 the historical group at 5 years of mean follow up were record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7840">
              <a:lnSpc>
                <a:spcPct val="150000"/>
              </a:lnSpc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0 G2-G3 bladder hemorrhages (14%) as late urinary toxicity according to Common Terminology Criteria for Adverse Events (</a:t>
            </a:r>
            <a:r>
              <a:rPr b="0" i="1" lang="en-US" sz="2000" spc="-1" strike="noStrike">
                <a:solidFill>
                  <a:srgbClr val="808080"/>
                </a:solidFill>
                <a:latin typeface="Arial"/>
              </a:rPr>
              <a:t>v.3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7840">
              <a:lnSpc>
                <a:spcPct val="15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4 rectal bleedings (6%) as G2 RTOG rectal late tox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-447840">
              <a:lnSpc>
                <a:spcPct val="15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3 uretral stricture (4%) as G3 RTOG late urinary toxic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43160"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2880" indent="-542880">
              <a:lnSpc>
                <a:spcPct val="15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7142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In the control group no data on rectal and bladder late toxicity are available yet due to the short follow-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640" y="6308640"/>
            <a:ext cx="820908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E300-059D-4350-BFA3-D31BFD2367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toxicity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42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48480" indent="-261360">
              <a:lnSpc>
                <a:spcPct val="90000"/>
              </a:lnSpc>
              <a:spcBef>
                <a:spcPts val="751"/>
              </a:spcBef>
              <a:buClr>
                <a:srgbClr val="808080"/>
              </a:buClr>
              <a:buFont typeface="Arial"/>
              <a:buChar char="•"/>
              <a:tabLst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808080"/>
                </a:solidFill>
                <a:latin typeface="Arial"/>
              </a:rPr>
              <a:t>Late genitourinary and gastrointestinal toxicity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8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72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EORTC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60 Gy  5-years   G3     4.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72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SWOG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60 Gy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late  G2-3  23.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0808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72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GERMAN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60 Gy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late  G2     18%;G3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272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Arial"/>
              </a:rPr>
              <a:t>our series</a:t>
            </a:r>
            <a:r>
              <a:rPr b="0" lang="it-IT" sz="2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70 Gy  5-years   G2-3  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0" i="1" lang="it-IT" sz="2800" spc="-1" strike="noStrike">
                <a:solidFill>
                  <a:srgbClr val="ff6600"/>
                </a:solidFill>
                <a:latin typeface="Arial"/>
              </a:rPr>
              <a:t>G4-G5 toxicity usually not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900000" y="4797360"/>
            <a:ext cx="7056720" cy="504720"/>
          </a:xfrm>
          <a:prstGeom prst="rect">
            <a:avLst/>
          </a:prstGeom>
          <a:noFill/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9640" y="6308640"/>
            <a:ext cx="820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0E5-E3E4-4358-92F3-C452F5031D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Conclusion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500" spc="-1" strike="noStrike">
                <a:solidFill>
                  <a:srgbClr val="808080"/>
                </a:solidFill>
                <a:latin typeface="Arial"/>
              </a:rPr>
              <a:t>pro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 adjuvant RT</a:t>
            </a: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0920" y="1979280"/>
            <a:ext cx="75610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4240" indent="-714240">
              <a:lnSpc>
                <a:spcPct val="100000"/>
              </a:lnSpc>
              <a:spcBef>
                <a:spcPts val="901"/>
              </a:spcBef>
              <a:buSzPct val="154331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significantly improves bPFS and LC in SM+ p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901"/>
              </a:spcBef>
              <a:buSzPct val="154331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late G4-G5 toxicity not obser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700"/>
              </a:spcBef>
              <a:buSzPct val="154280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808080"/>
                </a:solidFill>
                <a:latin typeface="Arial"/>
              </a:rPr>
              <a:t>ADT de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4240" indent="-714240">
              <a:lnSpc>
                <a:spcPct val="100000"/>
              </a:lnSpc>
              <a:spcBef>
                <a:spcPts val="950"/>
              </a:spcBef>
              <a:buSzPct val="154280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808080"/>
                </a:solidFill>
                <a:latin typeface="Arial"/>
              </a:rPr>
              <a:t>clinical failures &amp; metastasis reduced</a:t>
            </a:r>
            <a:r>
              <a:rPr b="0" lang="it-IT" sz="3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3156-B5D9-4864-995E-D25DB9CB4F3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556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ff6600"/>
                </a:solidFill>
                <a:latin typeface="Arial"/>
              </a:rPr>
              <a:t>Conclusion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4500" spc="-1" strike="noStrike">
                <a:solidFill>
                  <a:srgbClr val="808080"/>
                </a:solidFill>
                <a:latin typeface="Arial"/>
              </a:rPr>
              <a:t>contra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 adjuvant R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-723960">
              <a:lnSpc>
                <a:spcPct val="90000"/>
              </a:lnSpc>
              <a:spcBef>
                <a:spcPts val="1001"/>
              </a:spcBef>
              <a:buSzPct val="154298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useless in 50% of p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1001"/>
              </a:spcBef>
              <a:buSzPct val="154298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acute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1001"/>
              </a:spcBef>
              <a:buSzPct val="154298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some case of G3/G4 late toxi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23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90000"/>
              </a:lnSpc>
              <a:spcBef>
                <a:spcPts val="1001"/>
              </a:spcBef>
              <a:buSzPct val="154298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808080"/>
                </a:solidFill>
                <a:latin typeface="Arial"/>
              </a:rPr>
              <a:t>OS: un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236-5FAC-442D-8F88-310114B7877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6600"/>
                </a:solidFill>
                <a:latin typeface="Arial"/>
              </a:rPr>
              <a:t>Adjuvant Radiotherapy:</a:t>
            </a:r>
            <a:r>
              <a:rPr b="0" lang="it-IT" sz="45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500"/>
            </a:b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still unsolved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424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2440" indent="-536760">
              <a:lnSpc>
                <a:spcPct val="90000"/>
              </a:lnSpc>
              <a:spcBef>
                <a:spcPts val="876"/>
              </a:spcBef>
              <a:buSzPct val="154309"/>
              <a:buBlip>
                <a:blip r:embed="rId1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808080"/>
                </a:solidFill>
                <a:latin typeface="Arial"/>
              </a:rPr>
              <a:t>PORT do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36760">
              <a:lnSpc>
                <a:spcPct val="90000"/>
              </a:lnSpc>
              <a:spcBef>
                <a:spcPts val="876"/>
              </a:spcBef>
              <a:buSzPct val="154309"/>
              <a:buBlip>
                <a:blip r:embed="rId2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808080"/>
                </a:solidFill>
                <a:latin typeface="Arial"/>
              </a:rPr>
              <a:t>Immediate/Late PORT for R0 p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36760">
              <a:lnSpc>
                <a:spcPct val="90000"/>
              </a:lnSpc>
              <a:spcBef>
                <a:spcPts val="876"/>
              </a:spcBef>
              <a:buSzPct val="154309"/>
              <a:buBlip>
                <a:blip r:embed="rId3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808080"/>
                </a:solidFill>
                <a:latin typeface="Arial"/>
              </a:rPr>
              <a:t>Pelvic Volum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2440" indent="-536760">
              <a:lnSpc>
                <a:spcPct val="90000"/>
              </a:lnSpc>
              <a:spcBef>
                <a:spcPts val="451"/>
              </a:spcBef>
              <a:buSzPct val="154309"/>
              <a:buBlip>
                <a:blip r:embed="rId4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808080"/>
                </a:solidFill>
                <a:latin typeface="Arial"/>
              </a:rPr>
              <a:t>Adjuvant Androgen Deprivation </a:t>
            </a:r>
            <a:r>
              <a:rPr b="0" lang="it-IT" sz="1800" spc="-1" strike="noStrike">
                <a:solidFill>
                  <a:srgbClr val="808080"/>
                </a:solidFill>
                <a:latin typeface="Arial"/>
              </a:rPr>
              <a:t>(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2440" indent="-536760">
              <a:lnSpc>
                <a:spcPct val="90000"/>
              </a:lnSpc>
              <a:spcBef>
                <a:spcPts val="876"/>
              </a:spcBef>
              <a:buSzPct val="154309"/>
              <a:buBlip>
                <a:blip r:embed="rId5"/>
              </a:buBlip>
              <a:tabLst>
                <a:tab algn="l" pos="622440"/>
                <a:tab algn="l" pos="1311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808080"/>
                </a:solidFill>
                <a:latin typeface="Arial"/>
              </a:rPr>
              <a:t>Overall Surviv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95280" y="6237360"/>
            <a:ext cx="835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5146-50A4-455A-AC29-EBC94D6D87F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Why</a:t>
            </a:r>
            <a:r>
              <a:rPr b="1" i="1" lang="it-IT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it-IT" sz="4500" spc="-1" strike="noStrike">
                <a:solidFill>
                  <a:srgbClr val="808080"/>
                </a:solidFill>
                <a:latin typeface="Arial"/>
              </a:rPr>
              <a:t>?:</a:t>
            </a:r>
            <a:r>
              <a:rPr b="0" lang="it-IT" sz="4500" spc="-1" strike="noStrike">
                <a:solidFill>
                  <a:srgbClr val="528394"/>
                </a:solidFill>
                <a:latin typeface="Arial"/>
              </a:rPr>
              <a:t> </a:t>
            </a: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poor pathologic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86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3D87-2DC0-421D-98D7-AFA675844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>
            <a:lum bright="6000"/>
          </a:blip>
          <a:srcRect l="3632" t="4026" r="2756" b="2643"/>
          <a:stretch/>
        </p:blipFill>
        <p:spPr>
          <a:xfrm>
            <a:off x="4716360" y="3141720"/>
            <a:ext cx="3816360" cy="3127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6000" y="3213000"/>
            <a:ext cx="7920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S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4716360" y="260280"/>
            <a:ext cx="4032360" cy="2959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7093080" y="404640"/>
            <a:ext cx="7920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2781360"/>
            <a:ext cx="3481560" cy="3522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700360" y="3213000"/>
            <a:ext cx="8636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E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5640" y="33336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Verdana"/>
              </a:rPr>
              <a:t>bNED </a:t>
            </a:r>
            <a:r>
              <a:rPr b="0" lang="en-US" sz="2800" spc="-1" strike="noStrike">
                <a:solidFill>
                  <a:srgbClr val="ff6600"/>
                </a:solidFill>
                <a:latin typeface="Verdana"/>
              </a:rPr>
              <a:t>improved after PORT for high-risk 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7002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Vargas C et al, IJROBP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D781-784F-4367-B8FC-5DE5FAD014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rcRect l="0" t="3936" r="1711" b="0"/>
          <a:stretch/>
        </p:blipFill>
        <p:spPr>
          <a:xfrm>
            <a:off x="463680" y="1920960"/>
            <a:ext cx="8211960" cy="41479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6600"/>
                </a:solidFill>
                <a:latin typeface="Arial"/>
              </a:rPr>
              <a:t>Poor pathologic features:</a:t>
            </a:r>
            <a:r>
              <a:rPr b="0" lang="it-IT" sz="4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332000" y="1844640"/>
            <a:ext cx="1008000" cy="4392720"/>
          </a:xfrm>
          <a:prstGeom prst="ellipse">
            <a:avLst/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119700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333399"/>
                </a:solidFill>
                <a:latin typeface="Arial"/>
              </a:rPr>
              <a:t>pT3-T4, ECE, R1, close ma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56000" y="2349360"/>
            <a:ext cx="503280" cy="3313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2349360"/>
            <a:ext cx="503280" cy="33130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35640" y="5733720"/>
            <a:ext cx="100800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059280" y="5733720"/>
            <a:ext cx="1225440" cy="4316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7640" y="5734080"/>
            <a:ext cx="86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7640" y="5734080"/>
            <a:ext cx="288720" cy="504720"/>
          </a:xfrm>
          <a:prstGeom prst="upArrow">
            <a:avLst>
              <a:gd name="adj1" fmla="val 50000"/>
              <a:gd name="adj2" fmla="val 43703"/>
            </a:avLst>
          </a:prstGeom>
          <a:solidFill>
            <a:srgbClr val="ff9900"/>
          </a:solidFill>
          <a:ln w="9360">
            <a:solidFill>
              <a:srgbClr val="5283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80000" y="2349360"/>
            <a:ext cx="431640" cy="3313080"/>
          </a:xfrm>
          <a:prstGeom prst="ellipse">
            <a:avLst/>
          </a:prstGeom>
          <a:noFill/>
          <a:ln w="38160">
            <a:solidFill>
              <a:srgbClr val="265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2349360"/>
            <a:ext cx="358920" cy="3313080"/>
          </a:xfrm>
          <a:prstGeom prst="ellipse">
            <a:avLst/>
          </a:prstGeom>
          <a:noFill/>
          <a:ln w="38160">
            <a:solidFill>
              <a:srgbClr val="2653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4140000" y="1700280"/>
            <a:ext cx="1152360" cy="504720"/>
          </a:xfrm>
          <a:prstGeom prst="line">
            <a:avLst/>
          </a:prstGeom>
          <a:ln w="38160">
            <a:solidFill>
              <a:srgbClr val="2653a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773360"/>
            <a:ext cx="1152720" cy="360360"/>
          </a:xfrm>
          <a:prstGeom prst="line">
            <a:avLst/>
          </a:prstGeom>
          <a:ln w="38160">
            <a:solidFill>
              <a:srgbClr val="2653a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19640" y="1484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53ac"/>
                </a:solidFill>
                <a:latin typeface="Arial"/>
                <a:ea typeface="Arial"/>
              </a:rPr>
              <a:t>~</a:t>
            </a:r>
            <a:r>
              <a:rPr b="0" lang="en-US" sz="2800" spc="-1" strike="noStrike">
                <a:solidFill>
                  <a:srgbClr val="2653ac"/>
                </a:solidFill>
                <a:latin typeface="Arial"/>
                <a:ea typeface="Arial"/>
              </a:rPr>
              <a:t> O</a:t>
            </a:r>
            <a:r>
              <a:rPr b="0" lang="it-IT" sz="2800" spc="-1" strike="noStrike">
                <a:solidFill>
                  <a:srgbClr val="2653a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90792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Vargas C et al, IJROBP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F47-B58F-4F77-9BA0-C9794DBE00DA}" type="slidenum">
              <a:t>7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640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Adjuvant Radiotherapy: </a:t>
            </a: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clinical t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95280" y="1557360"/>
            <a:ext cx="5472000" cy="5076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227640" y="1628640"/>
            <a:ext cx="266544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Three randomized clinical trial (2005-2007) representing 1743 pN0 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t-RP PSA undetectable only in the German 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Morgan SC et a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6600"/>
                </a:solidFill>
                <a:latin typeface="Arial"/>
              </a:rPr>
              <a:t>R&amp;O 2008 in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227640" y="4438800"/>
            <a:ext cx="2592360" cy="100620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5651640" y="2349000"/>
            <a:ext cx="576000" cy="20876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6308640"/>
            <a:ext cx="27370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D1A-462E-4D8F-8C60-9B43123AF7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Arial"/>
              </a:rPr>
              <a:t>Adjuvant Radiotherapy: </a:t>
            </a:r>
            <a:r>
              <a:rPr b="0" lang="it-IT" sz="3600" spc="-1" strike="noStrike">
                <a:solidFill>
                  <a:srgbClr val="808080"/>
                </a:solidFill>
                <a:latin typeface="Arial"/>
              </a:rPr>
              <a:t>meta-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352000" cy="4608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79640" y="3500280"/>
            <a:ext cx="1225440" cy="360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03640" y="2637000"/>
            <a:ext cx="2160360" cy="100800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48000" y="5084640"/>
            <a:ext cx="1728720" cy="93672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5280" y="5948280"/>
            <a:ext cx="1657080" cy="360360"/>
          </a:xfrm>
          <a:prstGeom prst="ellipse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1052640"/>
            <a:ext cx="32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0" i="1" lang="it-IT" sz="1400" spc="-1" strike="noStrike">
                <a:solidFill>
                  <a:srgbClr val="808080"/>
                </a:solidFill>
                <a:latin typeface="Arial"/>
              </a:rPr>
              <a:t>Morgan SC et al, R&amp;O 2008 in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6308640"/>
            <a:ext cx="7201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rmonoterapia e radioterapia nel cancro della prosta e della mammella  Taranto 21-22 novembr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5859-A36D-48D6-810E-415E2DF206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6:05:48Z</dcterms:created>
  <dc:creator>User 1</dc:creator>
  <dc:description/>
  <dc:language>en-US</dc:language>
  <cp:lastModifiedBy>oncuser</cp:lastModifiedBy>
  <dcterms:modified xsi:type="dcterms:W3CDTF">2008-11-21T11:00:55Z</dcterms:modified>
  <cp:revision>119</cp:revision>
  <dc:subject/>
  <dc:title>Slide 1</dc:title>
</cp:coreProperties>
</file>