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4.jpeg" ContentType="image/jpeg"/>
  <Override PartName="/ppt/media/image3.png" ContentType="image/png"/>
  <Override PartName="/ppt/media/image6.png" ContentType="image/png"/>
  <Override PartName="/ppt/media/image24.gif" ContentType="image/gif"/>
  <Override PartName="/ppt/media/image1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10.png" ContentType="image/png"/>
  <Override PartName="/ppt/media/image21.png" ContentType="image/png"/>
  <Override PartName="/ppt/media/image17.png" ContentType="image/png"/>
  <Override PartName="/ppt/media/image2.gif" ContentType="image/gif"/>
  <Override PartName="/ppt/media/image5.png" ContentType="image/png"/>
  <Override PartName="/ppt/media/image25.gif" ContentType="image/gif"/>
  <Override PartName="/ppt/media/image15.gif" ContentType="image/gi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52948F-4045-4D78-B7FC-783B9998E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66A7CF-6119-494B-AE3C-02576006D08A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1D4D9F-F321-40AE-9B92-17F7B6C63F4D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EC41C4-6941-4574-B38B-BB269D9E80B5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9A4BC1-2755-4446-9C38-E984FC4BF427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CFBB6C-EB7F-4E9B-87AB-A5EC1162C7E0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C1FC56-F690-4C22-8374-975DBFA23913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EE295E-AA50-40A3-8885-F13A491C9CBE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BECEA6-3628-466D-93A9-6C2D73934CBB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9602AC-40A9-4E0A-A9B9-C1F3DC9EDDBE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4C1B3B-4174-4AC6-A7B3-4CEDAFC020AD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F7A8FD-6B6F-4B0A-A906-40E6DAD5C091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37B66E-9179-4B22-A003-56DC8049AB9D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F62E94-9840-476B-B046-BBBC95269DA4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9E22A9-2C69-4C60-83D4-6D2F0E576FB9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1B7021-1FCB-44C2-8FF0-7DCD9FC187E2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AB294B-71CB-41D8-8199-7D0B2310934F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4B294A-5B48-453C-8A31-784F191972A4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600A38-FF76-455F-89D3-14380DA8B03A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C5B171-1C5A-4299-A379-9B7C6B93994A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658F6C-1A9B-448A-AAFA-B88314AEE3B0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BCC39B-6D66-4F84-B131-85F4FA373839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A838EC-9F3F-4BF2-A1E4-42A1968940A8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637651-501C-474D-B871-53CA913E4369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B8BADB-D996-42C7-8F9F-391194486BC7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18DD8C-F497-44A6-99A3-F6F97C4B5052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E44E06-DEF4-4563-B5EE-72355D2B0013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311AC6-C5FC-4560-B83E-2A96CC51A45E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3A387A-8BC4-422F-ABA0-04C80C4BAC6A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F4BEB2-6E21-48F7-A47C-C650741F528E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3570FE-1DB6-46E3-B227-AB4B9D05351E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7B9C64-7FBF-48D0-9486-BC3A9EA48334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CC393E-492D-4ED5-BA64-BFD1D2C88737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9090FA-ACA2-46E1-A8E3-D54D60BAD950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71AB58-235D-4857-8D34-662535B2B28D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2448E8-F7AE-4CAF-8B70-706DF45A71B2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B63111-2303-47D3-84BF-C4F3BC32CD33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09A-782D-4EA5-9035-6E8050A0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4E6-4CA5-4F09-8706-B9574C74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A1D-87E9-4793-AB0B-01573B2B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8CF-D145-4C97-BD8C-0D6401C0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6979-3DAA-42A9-9871-69F7BB39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6291-0862-4235-BF38-05B4BE9E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F0EB-39F5-49B4-B954-DED86F12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388B-7BDC-4740-B75E-2A37B31D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A525-4777-445B-8E6F-D1A870C4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4185-A9F3-43BF-AC2C-6E1B0A26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5709-2A8B-48AB-8C0E-9E96733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388-1249-4C9E-8BCD-A4C68101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5D7E-46E0-417E-AE2E-2100F4F4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3757-4080-4F12-BEDD-7B7CB5C8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07E6-2256-4D51-AC50-0DDA31B6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6AA6-41B3-44C5-BCA5-A2F9B294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DB92-F9DE-4064-8001-E66250BF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8FB6-DD4C-47AA-B5D9-5EDBFF72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0C9E-F951-4B77-8EEF-86E45193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B0BB-4709-4A6F-A2E4-EE65E66B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CBF0-D082-4CAA-8B55-2B923929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6B64-D1AC-4576-93E4-6D70ABD5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584-F7DB-431E-8B79-F729F1A2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D25E6-D2B4-4F1F-AF45-52781D17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1F6A-14F6-4ECE-8AB2-711BED0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4C6C-89D0-4465-A24B-6CC33645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7897C-C73C-4983-AE84-C017BE3D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0EB3-8FFC-4BBF-8559-FA177C8E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C5B86-2590-4200-90DC-17AF69B5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5763E-6420-42AC-9E60-3C7A4803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0BB-95D6-4497-90F1-AB620AEE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507-69E5-4A2C-A2EC-EF8D7E91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B2E-B564-4BDB-9BD8-2B4E0043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505-5F40-45A2-83EB-F22DF4E0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877-30E5-4B79-B35B-FCD89D0D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D66-AF9F-4E1A-BD0A-27D4AFB2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695AE3-A8B2-4D64-A727-D3608878522A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F5833B-FEC3-4F7C-9289-74DCE0AC07B9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7FFE32-43F6-465A-B3AC-CCC71FC02E2A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ttangolo 3"/>
          <p:cNvSpPr/>
          <p:nvPr/>
        </p:nvSpPr>
        <p:spPr>
          <a:xfrm>
            <a:off x="1357200" y="3034080"/>
            <a:ext cx="6357600" cy="130860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Le basi della Ormonoterapia nel carcinoma della prost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2052360" y="583200"/>
            <a:ext cx="4987440" cy="1277280"/>
          </a:xfrm>
          <a:prstGeom prst="rect">
            <a:avLst/>
          </a:prstGeom>
          <a:noFill/>
          <a:ln w="9525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ahoma"/>
              </a:rPr>
              <a:t>Worksho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ahoma"/>
              </a:rPr>
              <a:t>Associazione di Terapia Ormonale e Radioterap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ahoma"/>
              </a:rPr>
              <a:t>nelle neoplasie della prostata e della mamme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it-IT" sz="1400" spc="-1" strike="noStrike">
                <a:solidFill>
                  <a:srgbClr val="00000a"/>
                </a:solidFill>
                <a:latin typeface="Arial"/>
                <a:ea typeface="Tahoma"/>
              </a:rPr>
              <a:t>Coordinatore del Corso: Giovanni Silv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ahoma"/>
              </a:rPr>
              <a:t>Taranto, 21-22 novembre 20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4"/>
          <p:cNvSpPr/>
          <p:nvPr/>
        </p:nvSpPr>
        <p:spPr>
          <a:xfrm>
            <a:off x="2020680" y="5000760"/>
            <a:ext cx="4644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asquale  Dito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U.O. Urologia I° e Trapianto di R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Università di B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ttangolo 2"/>
          <p:cNvSpPr/>
          <p:nvPr/>
        </p:nvSpPr>
        <p:spPr>
          <a:xfrm>
            <a:off x="285840" y="169200"/>
            <a:ext cx="8572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ly advanced CaP tissue from TURP after ADT for  37 months in pts with increasing PSA levels and testosterone castrat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3000240" y="1000080"/>
            <a:ext cx="5744880" cy="242856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  <p:sp>
        <p:nvSpPr>
          <p:cNvPr id="296" name="Rettangolo 4"/>
          <p:cNvSpPr/>
          <p:nvPr/>
        </p:nvSpPr>
        <p:spPr>
          <a:xfrm>
            <a:off x="5143680" y="6417360"/>
            <a:ext cx="3928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Mohler JL, </a:t>
            </a:r>
            <a:r>
              <a:rPr b="0" i="1" lang="it-IT" sz="1800" spc="-1" strike="noStrike">
                <a:solidFill>
                  <a:srgbClr val="c00000"/>
                </a:solidFill>
                <a:latin typeface="Calibri"/>
              </a:rPr>
              <a:t>Clin Cancer Res. 2004;10: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ttangolo 5"/>
          <p:cNvSpPr/>
          <p:nvPr/>
        </p:nvSpPr>
        <p:spPr>
          <a:xfrm>
            <a:off x="214200" y="3643200"/>
            <a:ext cx="4928760" cy="283284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prostate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osterone was slightly lower than in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HT levels reduced to 25% of preTx lev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relation between serum and tissu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HT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DHT, although decreased, persisted to activate the abundantly present androgen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5329080" y="3643200"/>
            <a:ext cx="3671640" cy="266184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  <p:sp>
        <p:nvSpPr>
          <p:cNvPr id="299" name="Rettangolo 7"/>
          <p:cNvSpPr/>
          <p:nvPr/>
        </p:nvSpPr>
        <p:spPr>
          <a:xfrm>
            <a:off x="714240" y="1571760"/>
            <a:ext cx="1999800" cy="821160"/>
          </a:xfrm>
          <a:prstGeom prst="rect">
            <a:avLst/>
          </a:prstGeom>
          <a:noFill/>
          <a:ln w="0">
            <a:solidFill>
              <a:srgbClr val="00b0f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 unaffected by AD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ttangolo 8"/>
          <p:cNvSpPr/>
          <p:nvPr/>
        </p:nvSpPr>
        <p:spPr>
          <a:xfrm>
            <a:off x="6357960" y="5091120"/>
            <a:ext cx="356760" cy="128556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Rettangolo 9"/>
          <p:cNvSpPr/>
          <p:nvPr/>
        </p:nvSpPr>
        <p:spPr>
          <a:xfrm>
            <a:off x="6786720" y="4591080"/>
            <a:ext cx="356760" cy="178560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ttangolo 2"/>
          <p:cNvSpPr/>
          <p:nvPr/>
        </p:nvSpPr>
        <p:spPr>
          <a:xfrm>
            <a:off x="4500720" y="634572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Nishiyama T, </a:t>
            </a: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Clin Cancer Res. </a:t>
            </a:r>
            <a:r>
              <a:rPr b="0" lang="it-IT" sz="1800" spc="-1" strike="noStrike">
                <a:solidFill>
                  <a:srgbClr val="c00000"/>
                </a:solidFill>
                <a:latin typeface="Calibri"/>
              </a:rPr>
              <a:t>2004;10:7121-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7" descr="4"/>
          <p:cNvPicPr/>
          <p:nvPr/>
        </p:nvPicPr>
        <p:blipFill>
          <a:blip r:embed="rId1"/>
          <a:srcRect l="8520" t="24623" r="3411" b="16667"/>
          <a:stretch/>
        </p:blipFill>
        <p:spPr>
          <a:xfrm>
            <a:off x="357120" y="2928960"/>
            <a:ext cx="4928760" cy="246420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304" name="Rettangolo 4"/>
          <p:cNvSpPr/>
          <p:nvPr/>
        </p:nvSpPr>
        <p:spPr>
          <a:xfrm>
            <a:off x="5357880" y="714240"/>
            <a:ext cx="3214440" cy="130932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SA was still actively being produced in the tissues of these androgen-deprived men with recurrent 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489960" y="142920"/>
            <a:ext cx="4653360" cy="264276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  <p:sp>
        <p:nvSpPr>
          <p:cNvPr id="306" name="CasellaDiTesto 7"/>
          <p:cNvSpPr/>
          <p:nvPr/>
        </p:nvSpPr>
        <p:spPr>
          <a:xfrm>
            <a:off x="5500800" y="3000240"/>
            <a:ext cx="31428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ultiple AR regulated genes are similarly re-expressed in Pca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tangolo 6"/>
          <p:cNvSpPr/>
          <p:nvPr/>
        </p:nvSpPr>
        <p:spPr>
          <a:xfrm>
            <a:off x="1071720" y="5500800"/>
            <a:ext cx="6714720" cy="82116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70c0"/>
                </a:solidFill>
                <a:latin typeface="Calibri"/>
              </a:rPr>
              <a:t>Progression to castration resistant Pca is associated with reactivation of AR transcriptional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ttangolo 1"/>
          <p:cNvSpPr/>
          <p:nvPr/>
        </p:nvSpPr>
        <p:spPr>
          <a:xfrm>
            <a:off x="642960" y="2155680"/>
            <a:ext cx="7714800" cy="3381480"/>
          </a:xfrm>
          <a:prstGeom prst="rect">
            <a:avLst/>
          </a:prstGeom>
          <a:noFill/>
          <a:ln w="0">
            <a:solidFill>
              <a:srgbClr val="00b0f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trate levels of testosterone in serum  is inadequate to prevent residual androgens in the prostat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from stimulating androgen-regulated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ession to “Androgen-independent” CaP is mediated by residual intraprostatic andr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idual DHT within the organ, after the induction of ADT, activate the androgen receptor, which is unaffected by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ttangolo 2"/>
          <p:cNvSpPr/>
          <p:nvPr/>
        </p:nvSpPr>
        <p:spPr>
          <a:xfrm>
            <a:off x="4643280" y="6072120"/>
            <a:ext cx="400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c00000"/>
                </a:solidFill>
                <a:latin typeface="Calibri"/>
              </a:rPr>
              <a:t>Mostaghel EA, </a:t>
            </a:r>
            <a:r>
              <a:rPr b="0" i="1" lang="it-IT" sz="1800" spc="-1" strike="noStrike">
                <a:solidFill>
                  <a:srgbClr val="c00000"/>
                </a:solidFill>
                <a:latin typeface="Calibri"/>
              </a:rPr>
              <a:t>Cancer Res. 2007;67:50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ttangolo 3"/>
          <p:cNvSpPr/>
          <p:nvPr/>
        </p:nvSpPr>
        <p:spPr>
          <a:xfrm>
            <a:off x="898200" y="642960"/>
            <a:ext cx="6998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Mechanism of Androgen Independence of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ttangolo 4"/>
          <p:cNvSpPr/>
          <p:nvPr/>
        </p:nvSpPr>
        <p:spPr>
          <a:xfrm>
            <a:off x="857160" y="1428840"/>
            <a:ext cx="7071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progression to “androgen-independent”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ttangolo 1"/>
          <p:cNvSpPr/>
          <p:nvPr/>
        </p:nvSpPr>
        <p:spPr>
          <a:xfrm>
            <a:off x="285840" y="785880"/>
            <a:ext cx="8572320" cy="161424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state levels of androstenedione, the major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etabolite of the adrenal androgen DEHA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ed after ADT at levels similar to normal pro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rostenedione can stimulate the mutated androgen receptor directly, despite castrate levels of androgens……or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ttangolo 2"/>
          <p:cNvSpPr/>
          <p:nvPr/>
        </p:nvSpPr>
        <p:spPr>
          <a:xfrm>
            <a:off x="5000760" y="2571840"/>
            <a:ext cx="371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c00000"/>
                </a:solidFill>
                <a:latin typeface="Calibri"/>
              </a:rPr>
              <a:t>Mizokami A,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Cancer </a:t>
            </a:r>
            <a:r>
              <a:rPr b="0" i="1" lang="it-IT" sz="1800" spc="-1" strike="noStrike">
                <a:solidFill>
                  <a:srgbClr val="c00000"/>
                </a:solidFill>
                <a:latin typeface="Calibri"/>
              </a:rPr>
              <a:t>Res. 2004;64: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ttangolo 3"/>
          <p:cNvSpPr/>
          <p:nvPr/>
        </p:nvSpPr>
        <p:spPr>
          <a:xfrm>
            <a:off x="4643280" y="6274440"/>
            <a:ext cx="421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Stanbrough M, </a:t>
            </a:r>
            <a:r>
              <a:rPr b="0" lang="it-IT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it-IT" sz="1800" spc="-1" strike="noStrike">
                <a:solidFill>
                  <a:srgbClr val="c00000"/>
                </a:solidFill>
                <a:latin typeface="Calibri"/>
              </a:rPr>
              <a:t>Cancer Res. 2006;66:28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07280" y="3000240"/>
            <a:ext cx="6107400" cy="226188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  <p:sp>
        <p:nvSpPr>
          <p:cNvPr id="316" name="Rettangolo 5"/>
          <p:cNvSpPr/>
          <p:nvPr/>
        </p:nvSpPr>
        <p:spPr>
          <a:xfrm>
            <a:off x="357120" y="142920"/>
            <a:ext cx="850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2800" spc="-1" strike="noStrike">
                <a:solidFill>
                  <a:srgbClr val="0070c0"/>
                </a:solidFill>
                <a:latin typeface="Calibri"/>
              </a:rPr>
              <a:t>Uptake and conversion of circulating adrenal andr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ttangolo 6"/>
          <p:cNvSpPr/>
          <p:nvPr/>
        </p:nvSpPr>
        <p:spPr>
          <a:xfrm>
            <a:off x="6286680" y="3500280"/>
            <a:ext cx="2714400" cy="130932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expression of enzymes mediating androgen synthesis and catabolism in AI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ttangolo 7"/>
          <p:cNvSpPr/>
          <p:nvPr/>
        </p:nvSpPr>
        <p:spPr>
          <a:xfrm>
            <a:off x="571320" y="5507280"/>
            <a:ext cx="8072280" cy="699480"/>
          </a:xfrm>
          <a:prstGeom prst="rect">
            <a:avLst/>
          </a:prstGeom>
          <a:noFill/>
          <a:ln w="0">
            <a:solidFill>
              <a:srgbClr val="00b0f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mechanism for the persistence of androgenic activity appears to be intraprostatic conversion of adrenal steroids into testosterone and D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ttangolo 1"/>
          <p:cNvSpPr/>
          <p:nvPr/>
        </p:nvSpPr>
        <p:spPr>
          <a:xfrm>
            <a:off x="1143000" y="2823120"/>
            <a:ext cx="6643440" cy="264924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pregul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enzymes for steroid bi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pro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rogen recep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ttangolo 3"/>
          <p:cNvSpPr/>
          <p:nvPr/>
        </p:nvSpPr>
        <p:spPr>
          <a:xfrm>
            <a:off x="969840" y="691200"/>
            <a:ext cx="6998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Mechanism of Androgen Independence of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ttangolo 4"/>
          <p:cNvSpPr/>
          <p:nvPr/>
        </p:nvSpPr>
        <p:spPr>
          <a:xfrm>
            <a:off x="857160" y="1928880"/>
            <a:ext cx="7071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progression to “androgen-independent”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71280" y="981000"/>
            <a:ext cx="4414680" cy="544788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  <p:sp>
        <p:nvSpPr>
          <p:cNvPr id="323" name="Rettangolo 2"/>
          <p:cNvSpPr/>
          <p:nvPr/>
        </p:nvSpPr>
        <p:spPr>
          <a:xfrm>
            <a:off x="642960" y="97560"/>
            <a:ext cx="8000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70c0"/>
                </a:solidFill>
                <a:latin typeface="Calibri"/>
              </a:rPr>
              <a:t>Expression of steroidogenic enzyme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ranscripts in primary and metastatic prostate tum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ttangolo 3"/>
          <p:cNvSpPr/>
          <p:nvPr/>
        </p:nvSpPr>
        <p:spPr>
          <a:xfrm>
            <a:off x="4722480" y="6274440"/>
            <a:ext cx="396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c00000"/>
                </a:solidFill>
                <a:latin typeface="Calibri"/>
              </a:rPr>
              <a:t>Montgomery RB, Cancer Res 2008;11,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ttangolo 4"/>
          <p:cNvSpPr/>
          <p:nvPr/>
        </p:nvSpPr>
        <p:spPr>
          <a:xfrm>
            <a:off x="4643280" y="1343880"/>
            <a:ext cx="4428720" cy="313884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oft tissue metastases from CRPC  shows elevated testosterone compared to pri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cripts encoding all enzymes involved in the sequential biosynthesis of testosterone and DHT from cholesterol precursors were expressed in the majority of castration-resistant metastatic tumors exa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ttangolo 1"/>
          <p:cNvSpPr/>
          <p:nvPr/>
        </p:nvSpPr>
        <p:spPr>
          <a:xfrm>
            <a:off x="142920" y="3286080"/>
            <a:ext cx="5500440" cy="3138840"/>
          </a:xfrm>
          <a:prstGeom prst="rect">
            <a:avLst/>
          </a:prstGeom>
          <a:noFill/>
          <a:ln w="0">
            <a:solidFill>
              <a:srgbClr val="00b0f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ck of survival benefit with AR antagonists by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levated tumoral androgen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tiandrogen  AR affinity 30-fold lower than the endogenous lig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ing clinical outcomes in CRPC will require treatment strategies designed to abrogate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ntracrine and systemic contributions to the tumoral androgen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ttangolo 3"/>
          <p:cNvSpPr/>
          <p:nvPr/>
        </p:nvSpPr>
        <p:spPr>
          <a:xfrm>
            <a:off x="500040" y="142920"/>
            <a:ext cx="7929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800" spc="-1" strike="noStrike">
                <a:solidFill>
                  <a:srgbClr val="0070c0"/>
                </a:solidFill>
                <a:latin typeface="Calibri"/>
              </a:rPr>
              <a:t>De novo androgen biosynthesis from cholesterol, progesterone or earlier precu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Fig 1 full size"/>
          <p:cNvPicPr/>
          <p:nvPr/>
        </p:nvPicPr>
        <p:blipFill>
          <a:blip r:embed="rId1"/>
          <a:srcRect l="805" t="10680" r="2420" b="44186"/>
          <a:stretch/>
        </p:blipFill>
        <p:spPr>
          <a:xfrm>
            <a:off x="71280" y="1143000"/>
            <a:ext cx="5571720" cy="199980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sp>
        <p:nvSpPr>
          <p:cNvPr id="329" name="Rettangolo 5"/>
          <p:cNvSpPr/>
          <p:nvPr/>
        </p:nvSpPr>
        <p:spPr>
          <a:xfrm>
            <a:off x="5786280" y="1143000"/>
            <a:ext cx="3214440" cy="1919160"/>
          </a:xfrm>
          <a:prstGeom prst="rect">
            <a:avLst/>
          </a:prstGeom>
          <a:noFill/>
          <a:ln w="0">
            <a:solidFill>
              <a:srgbClr val="00b0f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tion to low testosterone by maintaining intratumoral androgens through the modulation of enzymes involved in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tracrine steroido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Fig 1 full size"/>
          <p:cNvPicPr/>
          <p:nvPr/>
        </p:nvPicPr>
        <p:blipFill>
          <a:blip r:embed="rId2"/>
          <a:srcRect l="0" t="59123" r="57657" b="0"/>
          <a:stretch/>
        </p:blipFill>
        <p:spPr>
          <a:xfrm>
            <a:off x="5857920" y="3643200"/>
            <a:ext cx="3071520" cy="2305080"/>
          </a:xfrm>
          <a:prstGeom prst="rect">
            <a:avLst/>
          </a:prstGeom>
          <a:ln w="0">
            <a:solidFill>
              <a:srgbClr val="00b0f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3"/>
          <p:cNvPicPr/>
          <p:nvPr/>
        </p:nvPicPr>
        <p:blipFill>
          <a:blip r:embed="rId1"/>
          <a:srcRect l="17717" t="14654" r="21427" b="46970"/>
          <a:stretch/>
        </p:blipFill>
        <p:spPr>
          <a:xfrm>
            <a:off x="1371600" y="1143000"/>
            <a:ext cx="6343200" cy="299988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332" name="CasellaDiTesto 2"/>
          <p:cNvSpPr/>
          <p:nvPr/>
        </p:nvSpPr>
        <p:spPr>
          <a:xfrm>
            <a:off x="2026440" y="500040"/>
            <a:ext cx="5070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</a:rPr>
              <a:t>Abiraterone Acetate (CB7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asellaDiTesto 3"/>
          <p:cNvSpPr/>
          <p:nvPr/>
        </p:nvSpPr>
        <p:spPr>
          <a:xfrm>
            <a:off x="1000080" y="4263840"/>
            <a:ext cx="7000560" cy="228420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Oral irreversible inhibitor of CYP17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-hydrox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alibri"/>
              </a:rPr>
              <a:t>17,20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-ly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hibits testosterone production in the testis , adrenal gland and pro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" descr=""/>
          <p:cNvPicPr/>
          <p:nvPr/>
        </p:nvPicPr>
        <p:blipFill>
          <a:blip r:embed="rId1"/>
          <a:stretch/>
        </p:blipFill>
        <p:spPr>
          <a:xfrm>
            <a:off x="857160" y="1904400"/>
            <a:ext cx="7500600" cy="438192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  <p:sp>
        <p:nvSpPr>
          <p:cNvPr id="335" name="Rettangolo 4"/>
          <p:cNvSpPr/>
          <p:nvPr/>
        </p:nvSpPr>
        <p:spPr>
          <a:xfrm>
            <a:off x="500040" y="442800"/>
            <a:ext cx="8214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hase I Clinical Trial of a Selective Inhibitor of CYP17, Abiraterone Acetate, Confirms That Castration-Resistant Prostate Cancer Commonly Remains Hormone 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ttangolo 5"/>
          <p:cNvSpPr/>
          <p:nvPr/>
        </p:nvSpPr>
        <p:spPr>
          <a:xfrm>
            <a:off x="5951160" y="6376680"/>
            <a:ext cx="3124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c00000"/>
                </a:solidFill>
                <a:latin typeface="Calibri"/>
              </a:rPr>
              <a:t>Attard G, J Clin Oncol 26:4563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CasellaDiTesto 6"/>
          <p:cNvSpPr/>
          <p:nvPr/>
        </p:nvSpPr>
        <p:spPr>
          <a:xfrm>
            <a:off x="4809240" y="2571840"/>
            <a:ext cx="3889080" cy="313884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ior systemic thera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HRH agonist ,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1° li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2 (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2° li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6 (1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3° li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8 (2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4° li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8 (2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5° li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14 83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Ketoconazol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17 (4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ocetaxel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26 (6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2 line chem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12 (3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2" descr="1"/>
          <p:cNvPicPr/>
          <p:nvPr/>
        </p:nvPicPr>
        <p:blipFill>
          <a:blip r:embed="rId1"/>
          <a:srcRect l="0" t="17046" r="0" b="33713"/>
          <a:stretch/>
        </p:blipFill>
        <p:spPr>
          <a:xfrm>
            <a:off x="2214720" y="357120"/>
            <a:ext cx="5028840" cy="1856880"/>
          </a:xfrm>
          <a:prstGeom prst="rect">
            <a:avLst/>
          </a:prstGeom>
          <a:ln w="0">
            <a:noFill/>
          </a:ln>
        </p:spPr>
      </p:pic>
      <p:sp>
        <p:nvSpPr>
          <p:cNvPr id="339" name="CasellaDiTesto 8"/>
          <p:cNvSpPr/>
          <p:nvPr/>
        </p:nvSpPr>
        <p:spPr>
          <a:xfrm>
            <a:off x="6438960" y="6215040"/>
            <a:ext cx="226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c00000"/>
                </a:solidFill>
                <a:latin typeface="Calibri"/>
              </a:rPr>
              <a:t>Danila DC, ASCO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ttangolo 9"/>
          <p:cNvSpPr/>
          <p:nvPr/>
        </p:nvSpPr>
        <p:spPr>
          <a:xfrm>
            <a:off x="285840" y="2896920"/>
            <a:ext cx="4214520" cy="222408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tudy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biraterone acetate 1000mg orally day + prednisone 5mg BID (to minimize 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43 pts screened, 38 pts enrolled at MSK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ACU02-01-08-006"/>
          <p:cNvPicPr/>
          <p:nvPr/>
        </p:nvPicPr>
        <p:blipFill>
          <a:blip r:embed="rId1"/>
          <a:srcRect l="12020" t="2752" r="5790" b="2752"/>
          <a:stretch/>
        </p:blipFill>
        <p:spPr>
          <a:xfrm>
            <a:off x="119880" y="857160"/>
            <a:ext cx="3880440" cy="578628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pic>
        <p:nvPicPr>
          <p:cNvPr id="133" name="Picture 2" descr="The development of androgen-independent prostate cancer"/>
          <p:cNvPicPr/>
          <p:nvPr/>
        </p:nvPicPr>
        <p:blipFill>
          <a:blip r:embed="rId2"/>
          <a:srcRect l="3748" t="0" r="6249" b="7339"/>
          <a:stretch/>
        </p:blipFill>
        <p:spPr>
          <a:xfrm>
            <a:off x="4143240" y="857160"/>
            <a:ext cx="4901040" cy="578628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134" name="CasellaDiTesto 8"/>
          <p:cNvSpPr/>
          <p:nvPr/>
        </p:nvSpPr>
        <p:spPr>
          <a:xfrm>
            <a:off x="864720" y="3357720"/>
            <a:ext cx="4888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9"/>
          <p:cNvSpPr/>
          <p:nvPr/>
        </p:nvSpPr>
        <p:spPr>
          <a:xfrm>
            <a:off x="1006920" y="3916800"/>
            <a:ext cx="1435320" cy="3639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LHRH agon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sellaDiTesto 10"/>
          <p:cNvSpPr/>
          <p:nvPr/>
        </p:nvSpPr>
        <p:spPr>
          <a:xfrm>
            <a:off x="7008480" y="2357280"/>
            <a:ext cx="4888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sellaDiTesto 11"/>
          <p:cNvSpPr/>
          <p:nvPr/>
        </p:nvSpPr>
        <p:spPr>
          <a:xfrm>
            <a:off x="5143680" y="2286000"/>
            <a:ext cx="1571400" cy="63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Nonsteroidal antian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tangolo 13"/>
          <p:cNvSpPr/>
          <p:nvPr/>
        </p:nvSpPr>
        <p:spPr>
          <a:xfrm>
            <a:off x="785880" y="214200"/>
            <a:ext cx="764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70c0"/>
                </a:solidFill>
                <a:latin typeface="Calibri"/>
              </a:rPr>
              <a:t>Le basi della Ormonoterapia nel carcinoma della prost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11"/>
          <p:cNvPicPr/>
          <p:nvPr/>
        </p:nvPicPr>
        <p:blipFill>
          <a:blip r:embed="rId1"/>
          <a:srcRect l="6999" t="25256" r="4999" b="14933"/>
          <a:stretch/>
        </p:blipFill>
        <p:spPr>
          <a:xfrm>
            <a:off x="1830240" y="1643040"/>
            <a:ext cx="5500440" cy="280368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342" name="CasellaDiTesto 4"/>
          <p:cNvSpPr/>
          <p:nvPr/>
        </p:nvSpPr>
        <p:spPr>
          <a:xfrm>
            <a:off x="1564560" y="987840"/>
            <a:ext cx="591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Waterfall plot of PSA decline by prior ketoconazole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11"/>
          <p:cNvPicPr/>
          <p:nvPr/>
        </p:nvPicPr>
        <p:blipFill>
          <a:blip r:embed="rId2"/>
          <a:srcRect l="16001" t="84598" r="37121" b="253"/>
          <a:stretch/>
        </p:blipFill>
        <p:spPr>
          <a:xfrm>
            <a:off x="4902120" y="4500720"/>
            <a:ext cx="2356920" cy="571320"/>
          </a:xfrm>
          <a:prstGeom prst="rect">
            <a:avLst/>
          </a:prstGeom>
          <a:ln w="0">
            <a:noFill/>
          </a:ln>
        </p:spPr>
      </p:pic>
      <p:sp>
        <p:nvSpPr>
          <p:cNvPr id="344" name="CasellaDiTesto 6"/>
          <p:cNvSpPr/>
          <p:nvPr/>
        </p:nvSpPr>
        <p:spPr>
          <a:xfrm>
            <a:off x="2007360" y="1357200"/>
            <a:ext cx="500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adir PSA by PSAWG1:decline of 50% 17/38 (44.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asellaDiTesto 7"/>
          <p:cNvSpPr/>
          <p:nvPr/>
        </p:nvSpPr>
        <p:spPr>
          <a:xfrm rot="16200000">
            <a:off x="364320" y="3156120"/>
            <a:ext cx="258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SA decline from 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asellaDiTesto 8"/>
          <p:cNvSpPr/>
          <p:nvPr/>
        </p:nvSpPr>
        <p:spPr>
          <a:xfrm>
            <a:off x="714240" y="5072040"/>
            <a:ext cx="7429320" cy="118692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13/38 pts (34%) continue on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on progression at 6 months noted in 9 pts including 3 with visceral m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asellaDiTesto 9"/>
          <p:cNvSpPr/>
          <p:nvPr/>
        </p:nvSpPr>
        <p:spPr>
          <a:xfrm>
            <a:off x="3506040" y="214200"/>
            <a:ext cx="139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20"/>
          <p:cNvPicPr/>
          <p:nvPr/>
        </p:nvPicPr>
        <p:blipFill>
          <a:blip r:embed="rId1"/>
          <a:srcRect l="0" t="0" r="0" b="18938"/>
          <a:stretch/>
        </p:blipFill>
        <p:spPr>
          <a:xfrm>
            <a:off x="529560" y="1011600"/>
            <a:ext cx="7971120" cy="48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ttangolo 1"/>
          <p:cNvSpPr/>
          <p:nvPr/>
        </p:nvSpPr>
        <p:spPr>
          <a:xfrm>
            <a:off x="214200" y="714240"/>
            <a:ext cx="88578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44 men with late-onse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pogonadism (no CaP on baseline biopsy) randomized to placebo or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150 mg testosterone enanthate 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2 weeks for 6 months in a double-bl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ttangolo 2"/>
          <p:cNvSpPr/>
          <p:nvPr/>
        </p:nvSpPr>
        <p:spPr>
          <a:xfrm>
            <a:off x="142920" y="1714320"/>
            <a:ext cx="45716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rmalized  serum  testoste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hange in prostate tissue levels of testosterone or D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ttangolo 3"/>
          <p:cNvSpPr/>
          <p:nvPr/>
        </p:nvSpPr>
        <p:spPr>
          <a:xfrm>
            <a:off x="5429160" y="6286680"/>
            <a:ext cx="335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Marks LS,</a:t>
            </a: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JAMA. </a:t>
            </a:r>
            <a:r>
              <a:rPr b="0" lang="it-IT" sz="1800" spc="-1" strike="noStrike">
                <a:solidFill>
                  <a:srgbClr val="c00000"/>
                </a:solidFill>
                <a:latin typeface="Calibri"/>
              </a:rPr>
              <a:t>2006;296:23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4786200" y="1714320"/>
            <a:ext cx="4142880" cy="431280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  <p:sp>
        <p:nvSpPr>
          <p:cNvPr id="353" name="Rettangolo 5"/>
          <p:cNvSpPr/>
          <p:nvPr/>
        </p:nvSpPr>
        <p:spPr>
          <a:xfrm>
            <a:off x="571680" y="142920"/>
            <a:ext cx="8071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Testosterone Replacement Therapy and the </a:t>
            </a:r>
            <a:r>
              <a:rPr b="1" lang="it-IT" sz="2800" spc="-1" strike="noStrike">
                <a:solidFill>
                  <a:srgbClr val="0070c0"/>
                </a:solidFill>
                <a:latin typeface="Calibri"/>
              </a:rPr>
              <a:t>Pro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e 6"/>
          <p:cNvSpPr/>
          <p:nvPr/>
        </p:nvSpPr>
        <p:spPr>
          <a:xfrm>
            <a:off x="5500800" y="2286000"/>
            <a:ext cx="428400" cy="99972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5" name="Ovale 7"/>
          <p:cNvSpPr/>
          <p:nvPr/>
        </p:nvSpPr>
        <p:spPr>
          <a:xfrm>
            <a:off x="5500800" y="5072040"/>
            <a:ext cx="428400" cy="71388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56" name="Connettore 2 9"/>
          <p:cNvCxnSpPr/>
          <p:nvPr/>
        </p:nvCxnSpPr>
        <p:spPr>
          <a:xfrm>
            <a:off x="3714480" y="1928520"/>
            <a:ext cx="1572120" cy="6433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57" name="Connettore 2 11"/>
          <p:cNvCxnSpPr/>
          <p:nvPr/>
        </p:nvCxnSpPr>
        <p:spPr>
          <a:xfrm>
            <a:off x="2357280" y="2643120"/>
            <a:ext cx="3072240" cy="242928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58" name="Connettore 2 13"/>
          <p:cNvCxnSpPr/>
          <p:nvPr/>
        </p:nvCxnSpPr>
        <p:spPr>
          <a:xfrm>
            <a:off x="2357280" y="2643120"/>
            <a:ext cx="5286600" cy="228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359" name="Rettangolo 14"/>
          <p:cNvSpPr/>
          <p:nvPr/>
        </p:nvSpPr>
        <p:spPr>
          <a:xfrm>
            <a:off x="142920" y="300420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change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oma-to-epithelial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% of atrophic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liferation, angiogenesis,AR bio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ttangolo 15"/>
          <p:cNvSpPr/>
          <p:nvPr/>
        </p:nvSpPr>
        <p:spPr>
          <a:xfrm>
            <a:off x="71280" y="4460760"/>
            <a:ext cx="4571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treatment-related effect on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androgen regulated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exit biopsy cancer fo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4 men taking the plac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2 receiving T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e 16"/>
          <p:cNvSpPr/>
          <p:nvPr/>
        </p:nvSpPr>
        <p:spPr>
          <a:xfrm>
            <a:off x="7643880" y="4786200"/>
            <a:ext cx="428400" cy="71388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ttangolo 1"/>
          <p:cNvSpPr/>
          <p:nvPr/>
        </p:nvSpPr>
        <p:spPr>
          <a:xfrm>
            <a:off x="642960" y="841680"/>
            <a:ext cx="7929360" cy="1004400"/>
          </a:xfrm>
          <a:prstGeom prst="rect">
            <a:avLst/>
          </a:prstGeom>
          <a:noFill/>
          <a:ln w="0">
            <a:solidFill>
              <a:srgbClr val="00b0f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xogenous testosterone in doses sufficient to normalize seru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ls does not accumulate in the prostate, does not produce abnormal levels of DHT, and does not induce any major biologic change in the pro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2071800" y="2152080"/>
            <a:ext cx="5357520" cy="291960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  <p:sp>
        <p:nvSpPr>
          <p:cNvPr id="364" name="Rettangolo 3"/>
          <p:cNvSpPr/>
          <p:nvPr/>
        </p:nvSpPr>
        <p:spPr>
          <a:xfrm>
            <a:off x="785880" y="5241240"/>
            <a:ext cx="7500600" cy="82116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al environment of the prostate buffered against wide fluctuations in circulating androge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ttangolo 4"/>
          <p:cNvSpPr/>
          <p:nvPr/>
        </p:nvSpPr>
        <p:spPr>
          <a:xfrm>
            <a:off x="5437080" y="6274440"/>
            <a:ext cx="325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c00000"/>
                </a:solidFill>
                <a:latin typeface="Calibri"/>
              </a:rPr>
              <a:t>Mark LS, UROLOGY 72: 247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ttangolo 6"/>
          <p:cNvSpPr/>
          <p:nvPr/>
        </p:nvSpPr>
        <p:spPr>
          <a:xfrm>
            <a:off x="571680" y="191160"/>
            <a:ext cx="8071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Testosterone Replacement Therapy and the </a:t>
            </a:r>
            <a:r>
              <a:rPr b="1" lang="it-IT" sz="2800" spc="-1" strike="noStrike">
                <a:solidFill>
                  <a:srgbClr val="0070c0"/>
                </a:solidFill>
                <a:latin typeface="Calibri"/>
              </a:rPr>
              <a:t>Pro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ttangolo 1"/>
          <p:cNvSpPr/>
          <p:nvPr/>
        </p:nvSpPr>
        <p:spPr>
          <a:xfrm>
            <a:off x="785880" y="2071800"/>
            <a:ext cx="7643520" cy="3076560"/>
          </a:xfrm>
          <a:prstGeom prst="rect">
            <a:avLst/>
          </a:prstGeom>
          <a:noFill/>
          <a:ln w="0">
            <a:solidFill>
              <a:srgbClr val="00b0f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 expression and signaling remains intact as the disease evolves from androgen-sensitive cancer  to hormone refractory prostate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tic and epigenetic changes mean that prostate tumors continue to rely on AR growth sign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 remains the main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arget of ‘hormonal’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ttangolo 2"/>
          <p:cNvSpPr/>
          <p:nvPr/>
        </p:nvSpPr>
        <p:spPr>
          <a:xfrm>
            <a:off x="2592720" y="785880"/>
            <a:ext cx="3861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ndrogen recep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ttangolo 2"/>
          <p:cNvSpPr/>
          <p:nvPr/>
        </p:nvSpPr>
        <p:spPr>
          <a:xfrm>
            <a:off x="214200" y="857160"/>
            <a:ext cx="5857560" cy="557820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 gene located on chromosome Xq11–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ber steroid hormone receptor family of ligand-activated nuclear transcription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gene structure with estrogen,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ogesterone, glucocorticoid, retinoid, mineralocorticoi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yroid hormone recep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reg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mino-terminal regulatory domain (AF-1 s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DNA binding domain composed of two zinc fi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inge region with a nuclear localization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arboxy-terminal ligand-binding domain (AF-2 si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gated AR located in the cytoplasm and bound to HSPs 90, 70, 56, 23 which stabilize the ARs’ conformation that permits androgen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8" descr="ncponc0765-f1"/>
          <p:cNvPicPr/>
          <p:nvPr/>
        </p:nvPicPr>
        <p:blipFill>
          <a:blip r:embed="rId1"/>
          <a:srcRect l="0" t="0" r="68184" b="0"/>
          <a:stretch/>
        </p:blipFill>
        <p:spPr>
          <a:xfrm>
            <a:off x="6286680" y="1214280"/>
            <a:ext cx="2571480" cy="509004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371" name="Rettangolo 4"/>
          <p:cNvSpPr/>
          <p:nvPr/>
        </p:nvSpPr>
        <p:spPr>
          <a:xfrm>
            <a:off x="1445040" y="142920"/>
            <a:ext cx="6409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ndrogen receptor structure and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ttangolo 1"/>
          <p:cNvSpPr/>
          <p:nvPr/>
        </p:nvSpPr>
        <p:spPr>
          <a:xfrm>
            <a:off x="71280" y="2714760"/>
            <a:ext cx="428580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activators facilitate transcription b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ruiting protein that alter the chromatin structure to a more activ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-repressors mediate chromatin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densation and silence tran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8" descr="ncponc0765-f1"/>
          <p:cNvPicPr/>
          <p:nvPr/>
        </p:nvPicPr>
        <p:blipFill>
          <a:blip r:embed="rId1"/>
          <a:srcRect l="30125" t="0" r="0" b="0"/>
          <a:stretch/>
        </p:blipFill>
        <p:spPr>
          <a:xfrm>
            <a:off x="4286160" y="1928880"/>
            <a:ext cx="4500360" cy="405540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374" name="Rettangolo 3"/>
          <p:cNvSpPr/>
          <p:nvPr/>
        </p:nvSpPr>
        <p:spPr>
          <a:xfrm>
            <a:off x="214200" y="292320"/>
            <a:ext cx="8643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rogen binding to AR results in dissociation of HSPs, causing dimerization and tyrosine kinas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hosphorylation, resulting in nucleus trans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 binds to elements located in the promoter and enhancer regions of target genes, resulting in recruitment of co-regulatory proteins and formation of an active transcription comp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ttangolo 5"/>
          <p:cNvSpPr/>
          <p:nvPr/>
        </p:nvSpPr>
        <p:spPr>
          <a:xfrm>
            <a:off x="357120" y="6068880"/>
            <a:ext cx="8643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rogens function nongenomically in the cytoplasm through the mitogen-activated protein kinase (MAPK) signal cascade; however, the physiologic effects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un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ttangolo 1"/>
          <p:cNvSpPr/>
          <p:nvPr/>
        </p:nvSpPr>
        <p:spPr>
          <a:xfrm>
            <a:off x="500040" y="1126800"/>
            <a:ext cx="8143560" cy="4968360"/>
          </a:xfrm>
          <a:prstGeom prst="rect">
            <a:avLst/>
          </a:prstGeom>
          <a:noFill/>
          <a:ln w="0">
            <a:solidFill>
              <a:srgbClr val="00b0f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rted in 25–30% of patients with HRPC but 1–2% in primary prostate cancer, indicating amplification involved in development of H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increased mRNA expression and levels of AR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absence of AR gene ampl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transcription rates or stabilization of the AR mRNA or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R-amplifi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m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er response to A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er survival in H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likelihood of responding to 2°-line hormone thera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plifications of the AR gene highlight the strong selective pressure for continued AR signaling as tumors evolve in an environment of androgen dep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ttangolo 2"/>
          <p:cNvSpPr/>
          <p:nvPr/>
        </p:nvSpPr>
        <p:spPr>
          <a:xfrm>
            <a:off x="2521080" y="357120"/>
            <a:ext cx="3990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AR gene ampl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ttangolo 2"/>
          <p:cNvSpPr/>
          <p:nvPr/>
        </p:nvSpPr>
        <p:spPr>
          <a:xfrm>
            <a:off x="2733480" y="142920"/>
            <a:ext cx="334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AR gene Mu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The development of androgen-independent prostate cancer"/>
          <p:cNvPicPr/>
          <p:nvPr/>
        </p:nvPicPr>
        <p:blipFill>
          <a:blip r:embed="rId1"/>
          <a:srcRect l="13751" t="3659" r="13745" b="3106"/>
          <a:stretch/>
        </p:blipFill>
        <p:spPr>
          <a:xfrm>
            <a:off x="5143680" y="857160"/>
            <a:ext cx="3590640" cy="557172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380" name="Rettangolo 4"/>
          <p:cNvSpPr/>
          <p:nvPr/>
        </p:nvSpPr>
        <p:spPr>
          <a:xfrm>
            <a:off x="214200" y="868680"/>
            <a:ext cx="4785840" cy="557820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ed ligand specificity such that mutated ARs can be activated by non-androgenic ligands such as antiandr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mutated AR cloned from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LNCa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ll line. The mutation, at codon 877 of the ligand-binding domain of the AR, is activated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by progesterone, estradiol, cyproterone acetate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ilutamide and hydroxyfluta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 incidence of AR mutations  is probably 10–40% depending on antecedent exposure to compounds, which apply selective pres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 mutation in 5/16 pts previously treated with flutamide vs 1/17 pts without this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ttangolo 1"/>
          <p:cNvSpPr/>
          <p:nvPr/>
        </p:nvSpPr>
        <p:spPr>
          <a:xfrm>
            <a:off x="214200" y="928800"/>
            <a:ext cx="87148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jority of mutations cluster in 3 areas (8% of AR sequenc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codons 701–730: AR activation by adrenal androgens, glucocorticoids, progeste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codons 874–910 (AF-2 region): broaden ligand specificity, activation by flutamide and cyproterone ace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codons 670–678 (hinge and ligand-binding domains):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creased response t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R mutations determine a growth advanta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osening the ligand-binding pocket and expanding the range of agon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ing the interaction between co-regulatory molecules that favor cell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R trans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led by the interplay between ligands and co- regulatory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-regulatory proteins regulated by post-translational modifications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uch as phosphorylation, acetylation, and methy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ttangolo 2"/>
          <p:cNvSpPr/>
          <p:nvPr/>
        </p:nvSpPr>
        <p:spPr>
          <a:xfrm>
            <a:off x="571680" y="46080"/>
            <a:ext cx="8000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hysiologic significance of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AR mutation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 related to broadened ligand specif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CasellaDiTesto 3"/>
          <p:cNvSpPr/>
          <p:nvPr/>
        </p:nvSpPr>
        <p:spPr>
          <a:xfrm>
            <a:off x="571320" y="1035720"/>
            <a:ext cx="771480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mbined therapy (castration +AR antagonist) provide very small survival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artial  and transient response (20-60%) to drugs that further suppress adrenal androgen synthesis (ketoconaz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tangolo 5"/>
          <p:cNvSpPr/>
          <p:nvPr/>
        </p:nvSpPr>
        <p:spPr>
          <a:xfrm>
            <a:off x="428760" y="1901880"/>
            <a:ext cx="35715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ompar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B v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y ADT followed by addition of antiandrogen at time of PSA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odest response rate (20%) if addition of AR antagonist (bicalutamide or flutamide) at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uppo 6"/>
          <p:cNvGrpSpPr/>
          <p:nvPr/>
        </p:nvGrpSpPr>
        <p:grpSpPr>
          <a:xfrm>
            <a:off x="4143240" y="1782720"/>
            <a:ext cx="4463640" cy="3217680"/>
            <a:chOff x="4143240" y="1782720"/>
            <a:chExt cx="4463640" cy="3217680"/>
          </a:xfrm>
        </p:grpSpPr>
        <p:sp>
          <p:nvSpPr>
            <p:cNvPr id="142" name="AutoShape 2"/>
            <p:cNvSpPr/>
            <p:nvPr/>
          </p:nvSpPr>
          <p:spPr>
            <a:xfrm>
              <a:off x="4432320" y="1816200"/>
              <a:ext cx="3541320" cy="3117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4143240" y="1782720"/>
              <a:ext cx="4463640" cy="3217680"/>
            </a:xfrm>
            <a:prstGeom prst="roundRect">
              <a:avLst>
                <a:gd name="adj" fmla="val 12139"/>
              </a:avLst>
            </a:prstGeom>
            <a:solidFill>
              <a:srgbClr val="000080"/>
            </a:solidFill>
            <a:ln w="381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en-GB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345280" y="2328840"/>
              <a:ext cx="677520" cy="2174400"/>
            </a:xfrm>
            <a:prstGeom prst="rect">
              <a:avLst/>
            </a:prstGeom>
            <a:solidFill>
              <a:srgbClr val="ff0000"/>
            </a:solidFill>
            <a:ln w="25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en-GB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7105680" y="2571840"/>
              <a:ext cx="676080" cy="1931760"/>
            </a:xfrm>
            <a:prstGeom prst="rect">
              <a:avLst/>
            </a:prstGeom>
            <a:solidFill>
              <a:srgbClr val="ffff00"/>
            </a:solidFill>
            <a:ln w="25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en-GB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5276520" y="1838160"/>
              <a:ext cx="98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5390640" y="18381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5497200" y="1838160"/>
              <a:ext cx="98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5602320" y="1838160"/>
              <a:ext cx="78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4"/>
            <p:cNvSpPr/>
            <p:nvPr/>
          </p:nvSpPr>
          <p:spPr>
            <a:xfrm>
              <a:off x="5668560" y="18381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5765400" y="18381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5862240" y="18381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7"/>
            <p:cNvSpPr/>
            <p:nvPr/>
          </p:nvSpPr>
          <p:spPr>
            <a:xfrm>
              <a:off x="5959080" y="1838160"/>
              <a:ext cx="50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8"/>
            <p:cNvSpPr/>
            <p:nvPr/>
          </p:nvSpPr>
          <p:spPr>
            <a:xfrm>
              <a:off x="6006600" y="18381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9"/>
            <p:cNvSpPr/>
            <p:nvPr/>
          </p:nvSpPr>
          <p:spPr>
            <a:xfrm>
              <a:off x="6102360" y="1838160"/>
              <a:ext cx="78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0"/>
            <p:cNvSpPr/>
            <p:nvPr/>
          </p:nvSpPr>
          <p:spPr>
            <a:xfrm>
              <a:off x="6197400" y="1838160"/>
              <a:ext cx="98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1"/>
            <p:cNvSpPr/>
            <p:nvPr/>
          </p:nvSpPr>
          <p:spPr>
            <a:xfrm>
              <a:off x="6303960" y="1838160"/>
              <a:ext cx="78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2"/>
            <p:cNvSpPr/>
            <p:nvPr/>
          </p:nvSpPr>
          <p:spPr>
            <a:xfrm>
              <a:off x="6389280" y="18381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3"/>
            <p:cNvSpPr/>
            <p:nvPr/>
          </p:nvSpPr>
          <p:spPr>
            <a:xfrm>
              <a:off x="6485040" y="1838160"/>
              <a:ext cx="4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4"/>
            <p:cNvSpPr/>
            <p:nvPr/>
          </p:nvSpPr>
          <p:spPr>
            <a:xfrm>
              <a:off x="6533640" y="18381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5"/>
            <p:cNvSpPr/>
            <p:nvPr/>
          </p:nvSpPr>
          <p:spPr>
            <a:xfrm>
              <a:off x="6638400" y="1838160"/>
              <a:ext cx="50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6"/>
            <p:cNvSpPr/>
            <p:nvPr/>
          </p:nvSpPr>
          <p:spPr>
            <a:xfrm>
              <a:off x="6686280" y="18381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7"/>
            <p:cNvSpPr/>
            <p:nvPr/>
          </p:nvSpPr>
          <p:spPr>
            <a:xfrm>
              <a:off x="6791040" y="1838160"/>
              <a:ext cx="98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8"/>
            <p:cNvSpPr/>
            <p:nvPr/>
          </p:nvSpPr>
          <p:spPr>
            <a:xfrm>
              <a:off x="6897240" y="18381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9"/>
            <p:cNvSpPr/>
            <p:nvPr/>
          </p:nvSpPr>
          <p:spPr>
            <a:xfrm>
              <a:off x="6992640" y="1838160"/>
              <a:ext cx="50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0"/>
            <p:cNvSpPr/>
            <p:nvPr/>
          </p:nvSpPr>
          <p:spPr>
            <a:xfrm>
              <a:off x="7040520" y="1838160"/>
              <a:ext cx="78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1"/>
            <p:cNvSpPr/>
            <p:nvPr/>
          </p:nvSpPr>
          <p:spPr>
            <a:xfrm>
              <a:off x="7135920" y="1838160"/>
              <a:ext cx="4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2"/>
            <p:cNvSpPr/>
            <p:nvPr/>
          </p:nvSpPr>
          <p:spPr>
            <a:xfrm>
              <a:off x="7184520" y="18381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3"/>
            <p:cNvSpPr/>
            <p:nvPr/>
          </p:nvSpPr>
          <p:spPr>
            <a:xfrm>
              <a:off x="7280280" y="1838160"/>
              <a:ext cx="4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>
              <a:off x="7327440" y="18381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5"/>
            <p:cNvSpPr/>
            <p:nvPr/>
          </p:nvSpPr>
          <p:spPr>
            <a:xfrm>
              <a:off x="7423200" y="1838160"/>
              <a:ext cx="4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6"/>
            <p:cNvSpPr/>
            <p:nvPr/>
          </p:nvSpPr>
          <p:spPr>
            <a:xfrm>
              <a:off x="7470360" y="18381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7"/>
            <p:cNvSpPr/>
            <p:nvPr/>
          </p:nvSpPr>
          <p:spPr>
            <a:xfrm>
              <a:off x="7567200" y="1838160"/>
              <a:ext cx="98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8"/>
            <p:cNvSpPr/>
            <p:nvPr/>
          </p:nvSpPr>
          <p:spPr>
            <a:xfrm>
              <a:off x="7671960" y="1838160"/>
              <a:ext cx="98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9"/>
            <p:cNvSpPr/>
            <p:nvPr/>
          </p:nvSpPr>
          <p:spPr>
            <a:xfrm>
              <a:off x="7776720" y="1838160"/>
              <a:ext cx="50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0"/>
            <p:cNvSpPr/>
            <p:nvPr/>
          </p:nvSpPr>
          <p:spPr>
            <a:xfrm>
              <a:off x="5191200" y="4568760"/>
              <a:ext cx="16776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1"/>
            <p:cNvSpPr/>
            <p:nvPr/>
          </p:nvSpPr>
          <p:spPr>
            <a:xfrm>
              <a:off x="5334120" y="4568760"/>
              <a:ext cx="12816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2"/>
            <p:cNvSpPr/>
            <p:nvPr/>
          </p:nvSpPr>
          <p:spPr>
            <a:xfrm>
              <a:off x="5459400" y="4568760"/>
              <a:ext cx="11880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3"/>
            <p:cNvSpPr/>
            <p:nvPr/>
          </p:nvSpPr>
          <p:spPr>
            <a:xfrm>
              <a:off x="5583240" y="4573440"/>
              <a:ext cx="4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4"/>
            <p:cNvSpPr/>
            <p:nvPr/>
          </p:nvSpPr>
          <p:spPr>
            <a:xfrm>
              <a:off x="5630760" y="4573440"/>
              <a:ext cx="78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5"/>
            <p:cNvSpPr/>
            <p:nvPr/>
          </p:nvSpPr>
          <p:spPr>
            <a:xfrm>
              <a:off x="5716080" y="45734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6"/>
            <p:cNvSpPr/>
            <p:nvPr/>
          </p:nvSpPr>
          <p:spPr>
            <a:xfrm>
              <a:off x="5812920" y="45734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47"/>
            <p:cNvSpPr/>
            <p:nvPr/>
          </p:nvSpPr>
          <p:spPr>
            <a:xfrm>
              <a:off x="4856040" y="4721400"/>
              <a:ext cx="12816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8"/>
            <p:cNvSpPr/>
            <p:nvPr/>
          </p:nvSpPr>
          <p:spPr>
            <a:xfrm>
              <a:off x="4979880" y="4721400"/>
              <a:ext cx="12816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49"/>
            <p:cNvSpPr/>
            <p:nvPr/>
          </p:nvSpPr>
          <p:spPr>
            <a:xfrm>
              <a:off x="5105520" y="4721400"/>
              <a:ext cx="4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0"/>
            <p:cNvSpPr/>
            <p:nvPr/>
          </p:nvSpPr>
          <p:spPr>
            <a:xfrm>
              <a:off x="5152680" y="4721400"/>
              <a:ext cx="98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1"/>
            <p:cNvSpPr/>
            <p:nvPr/>
          </p:nvSpPr>
          <p:spPr>
            <a:xfrm>
              <a:off x="5257440" y="472140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2"/>
            <p:cNvSpPr/>
            <p:nvPr/>
          </p:nvSpPr>
          <p:spPr>
            <a:xfrm>
              <a:off x="5362200" y="4721400"/>
              <a:ext cx="98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3"/>
            <p:cNvSpPr/>
            <p:nvPr/>
          </p:nvSpPr>
          <p:spPr>
            <a:xfrm>
              <a:off x="5468400" y="4721400"/>
              <a:ext cx="59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54"/>
            <p:cNvSpPr/>
            <p:nvPr/>
          </p:nvSpPr>
          <p:spPr>
            <a:xfrm>
              <a:off x="5526000" y="4721400"/>
              <a:ext cx="69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5"/>
            <p:cNvSpPr/>
            <p:nvPr/>
          </p:nvSpPr>
          <p:spPr>
            <a:xfrm>
              <a:off x="5621040" y="4721400"/>
              <a:ext cx="59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56"/>
            <p:cNvSpPr/>
            <p:nvPr/>
          </p:nvSpPr>
          <p:spPr>
            <a:xfrm>
              <a:off x="5678640" y="4721400"/>
              <a:ext cx="78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7"/>
            <p:cNvSpPr/>
            <p:nvPr/>
          </p:nvSpPr>
          <p:spPr>
            <a:xfrm>
              <a:off x="5775480" y="4721400"/>
              <a:ext cx="78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8"/>
            <p:cNvSpPr/>
            <p:nvPr/>
          </p:nvSpPr>
          <p:spPr>
            <a:xfrm>
              <a:off x="5841720" y="472140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9"/>
            <p:cNvSpPr/>
            <p:nvPr/>
          </p:nvSpPr>
          <p:spPr>
            <a:xfrm>
              <a:off x="5946480" y="4721400"/>
              <a:ext cx="50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0"/>
            <p:cNvSpPr/>
            <p:nvPr/>
          </p:nvSpPr>
          <p:spPr>
            <a:xfrm>
              <a:off x="5994000" y="4721400"/>
              <a:ext cx="98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1"/>
            <p:cNvSpPr/>
            <p:nvPr/>
          </p:nvSpPr>
          <p:spPr>
            <a:xfrm>
              <a:off x="6100920" y="4721400"/>
              <a:ext cx="78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2"/>
            <p:cNvSpPr/>
            <p:nvPr/>
          </p:nvSpPr>
          <p:spPr>
            <a:xfrm>
              <a:off x="6195600" y="4721400"/>
              <a:ext cx="50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63"/>
            <p:cNvSpPr/>
            <p:nvPr/>
          </p:nvSpPr>
          <p:spPr>
            <a:xfrm>
              <a:off x="6989760" y="4568760"/>
              <a:ext cx="11880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4"/>
            <p:cNvSpPr/>
            <p:nvPr/>
          </p:nvSpPr>
          <p:spPr>
            <a:xfrm>
              <a:off x="7115040" y="4568760"/>
              <a:ext cx="78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65"/>
            <p:cNvSpPr/>
            <p:nvPr/>
          </p:nvSpPr>
          <p:spPr>
            <a:xfrm>
              <a:off x="7213680" y="4568760"/>
              <a:ext cx="69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66"/>
            <p:cNvSpPr/>
            <p:nvPr/>
          </p:nvSpPr>
          <p:spPr>
            <a:xfrm>
              <a:off x="7299000" y="4568760"/>
              <a:ext cx="50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7"/>
            <p:cNvSpPr/>
            <p:nvPr/>
          </p:nvSpPr>
          <p:spPr>
            <a:xfrm>
              <a:off x="7346520" y="4568760"/>
              <a:ext cx="59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8"/>
            <p:cNvSpPr/>
            <p:nvPr/>
          </p:nvSpPr>
          <p:spPr>
            <a:xfrm>
              <a:off x="7404120" y="4568760"/>
              <a:ext cx="78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9"/>
            <p:cNvSpPr/>
            <p:nvPr/>
          </p:nvSpPr>
          <p:spPr>
            <a:xfrm>
              <a:off x="7500960" y="4568760"/>
              <a:ext cx="78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0"/>
            <p:cNvSpPr/>
            <p:nvPr/>
          </p:nvSpPr>
          <p:spPr>
            <a:xfrm>
              <a:off x="7586280" y="4568760"/>
              <a:ext cx="50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1"/>
            <p:cNvSpPr/>
            <p:nvPr/>
          </p:nvSpPr>
          <p:spPr>
            <a:xfrm>
              <a:off x="7624440" y="45687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2"/>
            <p:cNvSpPr/>
            <p:nvPr/>
          </p:nvSpPr>
          <p:spPr>
            <a:xfrm>
              <a:off x="7719480" y="456876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3"/>
            <p:cNvSpPr/>
            <p:nvPr/>
          </p:nvSpPr>
          <p:spPr>
            <a:xfrm>
              <a:off x="7816680" y="4568760"/>
              <a:ext cx="78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4"/>
            <p:cNvSpPr/>
            <p:nvPr/>
          </p:nvSpPr>
          <p:spPr>
            <a:xfrm>
              <a:off x="4921200" y="4465800"/>
              <a:ext cx="18720" cy="58320"/>
            </a:xfrm>
            <a:prstGeom prst="rect">
              <a:avLst/>
            </a:pr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75"/>
            <p:cNvSpPr/>
            <p:nvPr/>
          </p:nvSpPr>
          <p:spPr>
            <a:xfrm>
              <a:off x="7956720" y="4446720"/>
              <a:ext cx="20160" cy="61560"/>
            </a:xfrm>
            <a:prstGeom prst="rect">
              <a:avLst/>
            </a:pr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76"/>
            <p:cNvSpPr/>
            <p:nvPr/>
          </p:nvSpPr>
          <p:spPr>
            <a:xfrm>
              <a:off x="4930920" y="4514760"/>
              <a:ext cx="3034800" cy="18720"/>
            </a:xfrm>
            <a:prstGeom prst="rect">
              <a:avLst/>
            </a:pr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Rectangle 77"/>
            <p:cNvSpPr/>
            <p:nvPr/>
          </p:nvSpPr>
          <p:spPr>
            <a:xfrm>
              <a:off x="4930920" y="4514760"/>
              <a:ext cx="58320" cy="18720"/>
            </a:xfrm>
            <a:prstGeom prst="rect">
              <a:avLst/>
            </a:pr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78"/>
            <p:cNvSpPr/>
            <p:nvPr/>
          </p:nvSpPr>
          <p:spPr>
            <a:xfrm>
              <a:off x="4930920" y="4111560"/>
              <a:ext cx="58320" cy="18720"/>
            </a:xfrm>
            <a:prstGeom prst="rect">
              <a:avLst/>
            </a:pr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Rectangle 79"/>
            <p:cNvSpPr/>
            <p:nvPr/>
          </p:nvSpPr>
          <p:spPr>
            <a:xfrm>
              <a:off x="4930920" y="3705120"/>
              <a:ext cx="58320" cy="18720"/>
            </a:xfrm>
            <a:prstGeom prst="rect">
              <a:avLst/>
            </a:pr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Rectangle 80"/>
            <p:cNvSpPr/>
            <p:nvPr/>
          </p:nvSpPr>
          <p:spPr>
            <a:xfrm>
              <a:off x="4930920" y="3298680"/>
              <a:ext cx="58320" cy="18720"/>
            </a:xfrm>
            <a:prstGeom prst="rect">
              <a:avLst/>
            </a:pr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Rectangle 81"/>
            <p:cNvSpPr/>
            <p:nvPr/>
          </p:nvSpPr>
          <p:spPr>
            <a:xfrm>
              <a:off x="4930920" y="2894040"/>
              <a:ext cx="58320" cy="18720"/>
            </a:xfrm>
            <a:prstGeom prst="rect">
              <a:avLst/>
            </a:pr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Rectangle 82"/>
            <p:cNvSpPr/>
            <p:nvPr/>
          </p:nvSpPr>
          <p:spPr>
            <a:xfrm>
              <a:off x="4930920" y="2487600"/>
              <a:ext cx="58320" cy="18720"/>
            </a:xfrm>
            <a:prstGeom prst="rect">
              <a:avLst/>
            </a:pr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Rectangle 83"/>
            <p:cNvSpPr/>
            <p:nvPr/>
          </p:nvSpPr>
          <p:spPr>
            <a:xfrm>
              <a:off x="4930920" y="2084400"/>
              <a:ext cx="58320" cy="18720"/>
            </a:xfrm>
            <a:prstGeom prst="rect">
              <a:avLst/>
            </a:pr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Rectangle 84"/>
            <p:cNvSpPr/>
            <p:nvPr/>
          </p:nvSpPr>
          <p:spPr>
            <a:xfrm>
              <a:off x="4921200" y="2093760"/>
              <a:ext cx="18720" cy="2430000"/>
            </a:xfrm>
            <a:prstGeom prst="rect">
              <a:avLst/>
            </a:pr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7140240" y="23018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86"/>
            <p:cNvSpPr/>
            <p:nvPr/>
          </p:nvSpPr>
          <p:spPr>
            <a:xfrm>
              <a:off x="7237080" y="23018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7"/>
            <p:cNvSpPr/>
            <p:nvPr/>
          </p:nvSpPr>
          <p:spPr>
            <a:xfrm>
              <a:off x="7332480" y="2301840"/>
              <a:ext cx="4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7380000" y="23018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89"/>
            <p:cNvSpPr/>
            <p:nvPr/>
          </p:nvSpPr>
          <p:spPr>
            <a:xfrm>
              <a:off x="7475400" y="2301840"/>
              <a:ext cx="4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90"/>
            <p:cNvSpPr/>
            <p:nvPr/>
          </p:nvSpPr>
          <p:spPr>
            <a:xfrm>
              <a:off x="7524720" y="2301840"/>
              <a:ext cx="177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91"/>
            <p:cNvSpPr/>
            <p:nvPr/>
          </p:nvSpPr>
          <p:spPr>
            <a:xfrm>
              <a:off x="5371560" y="206532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2"/>
            <p:cNvSpPr/>
            <p:nvPr/>
          </p:nvSpPr>
          <p:spPr>
            <a:xfrm>
              <a:off x="5468400" y="206532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93"/>
            <p:cNvSpPr/>
            <p:nvPr/>
          </p:nvSpPr>
          <p:spPr>
            <a:xfrm>
              <a:off x="5564160" y="2065320"/>
              <a:ext cx="4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94"/>
            <p:cNvSpPr/>
            <p:nvPr/>
          </p:nvSpPr>
          <p:spPr>
            <a:xfrm>
              <a:off x="5611320" y="206532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95"/>
            <p:cNvSpPr/>
            <p:nvPr/>
          </p:nvSpPr>
          <p:spPr>
            <a:xfrm>
              <a:off x="5707080" y="2065320"/>
              <a:ext cx="4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6"/>
            <p:cNvSpPr/>
            <p:nvPr/>
          </p:nvSpPr>
          <p:spPr>
            <a:xfrm>
              <a:off x="5756400" y="2065320"/>
              <a:ext cx="1778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97"/>
            <p:cNvSpPr/>
            <p:nvPr/>
          </p:nvSpPr>
          <p:spPr>
            <a:xfrm>
              <a:off x="4779720" y="441792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8"/>
            <p:cNvSpPr/>
            <p:nvPr/>
          </p:nvSpPr>
          <p:spPr>
            <a:xfrm>
              <a:off x="4779720" y="401328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99"/>
            <p:cNvSpPr/>
            <p:nvPr/>
          </p:nvSpPr>
          <p:spPr>
            <a:xfrm>
              <a:off x="4700160" y="36068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00"/>
            <p:cNvSpPr/>
            <p:nvPr/>
          </p:nvSpPr>
          <p:spPr>
            <a:xfrm>
              <a:off x="4795560" y="36068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01"/>
            <p:cNvSpPr/>
            <p:nvPr/>
          </p:nvSpPr>
          <p:spPr>
            <a:xfrm>
              <a:off x="4700160" y="32036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2"/>
            <p:cNvSpPr/>
            <p:nvPr/>
          </p:nvSpPr>
          <p:spPr>
            <a:xfrm>
              <a:off x="4795560" y="32036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3"/>
            <p:cNvSpPr/>
            <p:nvPr/>
          </p:nvSpPr>
          <p:spPr>
            <a:xfrm>
              <a:off x="4700160" y="279720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4"/>
            <p:cNvSpPr/>
            <p:nvPr/>
          </p:nvSpPr>
          <p:spPr>
            <a:xfrm>
              <a:off x="4795560" y="279720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05"/>
            <p:cNvSpPr/>
            <p:nvPr/>
          </p:nvSpPr>
          <p:spPr>
            <a:xfrm>
              <a:off x="4700160" y="239220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06"/>
            <p:cNvSpPr/>
            <p:nvPr/>
          </p:nvSpPr>
          <p:spPr>
            <a:xfrm>
              <a:off x="4795560" y="239220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07"/>
            <p:cNvSpPr/>
            <p:nvPr/>
          </p:nvSpPr>
          <p:spPr>
            <a:xfrm>
              <a:off x="4700160" y="198612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08"/>
            <p:cNvSpPr/>
            <p:nvPr/>
          </p:nvSpPr>
          <p:spPr>
            <a:xfrm>
              <a:off x="4795560" y="198612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9"/>
            <p:cNvSpPr/>
            <p:nvPr/>
          </p:nvSpPr>
          <p:spPr>
            <a:xfrm>
              <a:off x="6153120" y="3581280"/>
              <a:ext cx="821880" cy="1404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18" h="9">
                  <a:moveTo>
                    <a:pt x="0" y="0"/>
                  </a:moveTo>
                  <a:lnTo>
                    <a:pt x="0" y="7"/>
                  </a:lnTo>
                  <a:lnTo>
                    <a:pt x="518" y="9"/>
                  </a:lnTo>
                  <a:lnTo>
                    <a:pt x="51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10"/>
            <p:cNvSpPr/>
            <p:nvPr/>
          </p:nvSpPr>
          <p:spPr>
            <a:xfrm>
              <a:off x="6068880" y="3549600"/>
              <a:ext cx="88560" cy="709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56" h="45">
                  <a:moveTo>
                    <a:pt x="56" y="23"/>
                  </a:moveTo>
                  <a:lnTo>
                    <a:pt x="56" y="45"/>
                  </a:lnTo>
                  <a:lnTo>
                    <a:pt x="0" y="23"/>
                  </a:lnTo>
                  <a:lnTo>
                    <a:pt x="56" y="0"/>
                  </a:lnTo>
                  <a:lnTo>
                    <a:pt x="56" y="23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11"/>
            <p:cNvSpPr/>
            <p:nvPr/>
          </p:nvSpPr>
          <p:spPr>
            <a:xfrm>
              <a:off x="6970680" y="3551400"/>
              <a:ext cx="88560" cy="72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46">
                  <a:moveTo>
                    <a:pt x="0" y="23"/>
                  </a:moveTo>
                  <a:lnTo>
                    <a:pt x="0" y="0"/>
                  </a:lnTo>
                  <a:lnTo>
                    <a:pt x="56" y="23"/>
                  </a:lnTo>
                  <a:lnTo>
                    <a:pt x="0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Rectangle 112"/>
            <p:cNvSpPr/>
            <p:nvPr/>
          </p:nvSpPr>
          <p:spPr>
            <a:xfrm>
              <a:off x="6186240" y="33782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13"/>
            <p:cNvSpPr/>
            <p:nvPr/>
          </p:nvSpPr>
          <p:spPr>
            <a:xfrm>
              <a:off x="6281280" y="33782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14"/>
            <p:cNvSpPr/>
            <p:nvPr/>
          </p:nvSpPr>
          <p:spPr>
            <a:xfrm>
              <a:off x="6378480" y="3378240"/>
              <a:ext cx="10008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15"/>
            <p:cNvSpPr/>
            <p:nvPr/>
          </p:nvSpPr>
          <p:spPr>
            <a:xfrm>
              <a:off x="6478200" y="33782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16"/>
            <p:cNvSpPr/>
            <p:nvPr/>
          </p:nvSpPr>
          <p:spPr>
            <a:xfrm>
              <a:off x="6576840" y="3378240"/>
              <a:ext cx="4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17"/>
            <p:cNvSpPr/>
            <p:nvPr/>
          </p:nvSpPr>
          <p:spPr>
            <a:xfrm>
              <a:off x="6621120" y="33782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18"/>
            <p:cNvSpPr/>
            <p:nvPr/>
          </p:nvSpPr>
          <p:spPr>
            <a:xfrm>
              <a:off x="6719400" y="33782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19"/>
            <p:cNvSpPr/>
            <p:nvPr/>
          </p:nvSpPr>
          <p:spPr>
            <a:xfrm>
              <a:off x="6814800" y="3378240"/>
              <a:ext cx="896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1"/>
            <p:cNvSpPr/>
            <p:nvPr/>
          </p:nvSpPr>
          <p:spPr>
            <a:xfrm rot="16200000">
              <a:off x="4128120" y="3277800"/>
              <a:ext cx="823680" cy="212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% pazien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Rettangolo 122"/>
          <p:cNvSpPr/>
          <p:nvPr/>
        </p:nvSpPr>
        <p:spPr>
          <a:xfrm>
            <a:off x="138240" y="6120360"/>
            <a:ext cx="8829720" cy="39456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</a:rPr>
              <a:t>Patients treated with ADT invariably relapse: Castration Resistent Prostate Can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asellaDiTesto 123"/>
          <p:cNvSpPr/>
          <p:nvPr/>
        </p:nvSpPr>
        <p:spPr>
          <a:xfrm>
            <a:off x="1811160" y="200880"/>
            <a:ext cx="5367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</a:rPr>
              <a:t>Androgen Deprivation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ttangolo 1"/>
          <p:cNvSpPr/>
          <p:nvPr/>
        </p:nvSpPr>
        <p:spPr>
          <a:xfrm>
            <a:off x="214200" y="945720"/>
            <a:ext cx="36428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BB2, IGF, keratinocyte growth factor and EGF can activate 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ligands for receptor tyrosine kinases, activate one or several of the tyrosine kinase pathways could promote AR activation and growth in low-androg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ttangolo 2"/>
          <p:cNvSpPr/>
          <p:nvPr/>
        </p:nvSpPr>
        <p:spPr>
          <a:xfrm>
            <a:off x="1892880" y="142920"/>
            <a:ext cx="5242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igand-independent AR ac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The development of androgen-independent prostate cancer"/>
          <p:cNvPicPr/>
          <p:nvPr/>
        </p:nvPicPr>
        <p:blipFill>
          <a:blip r:embed="rId1"/>
          <a:srcRect l="3748" t="1707" r="2501" b="5341"/>
          <a:stretch/>
        </p:blipFill>
        <p:spPr>
          <a:xfrm>
            <a:off x="4071960" y="857160"/>
            <a:ext cx="4803120" cy="5571720"/>
          </a:xfrm>
          <a:prstGeom prst="rect">
            <a:avLst/>
          </a:prstGeom>
          <a:ln w="0">
            <a:solidFill>
              <a:srgbClr val="4f81bd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ttangolo 1"/>
          <p:cNvSpPr/>
          <p:nvPr/>
        </p:nvSpPr>
        <p:spPr>
          <a:xfrm>
            <a:off x="214200" y="1220400"/>
            <a:ext cx="871524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dard hormone therapy for prostate cancer includes directly reduce the ligand (androgen) or interfere with the ability of the ligand to interact with the 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duce but do not eliminate androgen at the target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ress circulating androgen by 90–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aprostatic (and metastatic PCa) DHT concentrations reduced by 50–7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renal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glands secrete the precursor DEH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ed to T and DHT in the pro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sma concentrations of androgen metabolites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ndrosterone glucuronide and 3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α-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ol-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28% and 37% of control levels reflects conversion of adrenal androgens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o DHT in prostate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ttangolo 2"/>
          <p:cNvSpPr/>
          <p:nvPr/>
        </p:nvSpPr>
        <p:spPr>
          <a:xfrm>
            <a:off x="1000080" y="285840"/>
            <a:ext cx="7214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2800" spc="-1" strike="noStrike">
                <a:solidFill>
                  <a:srgbClr val="0070c0"/>
                </a:solidFill>
                <a:latin typeface="Calibri"/>
              </a:rPr>
              <a:t>The androgen receptor as a therapeutic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ttangolo 1"/>
          <p:cNvSpPr/>
          <p:nvPr/>
        </p:nvSpPr>
        <p:spPr>
          <a:xfrm>
            <a:off x="285840" y="560880"/>
            <a:ext cx="85006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-line hormone therapies  directed at blocking AR-ligand interaction with antiandrogens  or by inhibiting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drenal androge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ntiandrogens : bicalutamide, hydroxyflutamid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niluta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renal androgen synthesis inhibition: corticosteroids,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ketoconazole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selectively inhibiting several cytochrome P450 enzymes )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aminoglutethi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nical and PSA responses range between 20% and 40%, with a median duration of response of about 5 months, a minority durable responses of 2–4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imited utility is probably the result of incomplete AR inhib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mplete abrogation of adrenal androgen synthesis is compounded by the ability of prostate tumor to create hypersensitive receptors and produce androgen through intracrine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r understanding of the endocrinology and molecular biology of HRPC supports the hypothesis that AR signaling remains a key growth path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ttangolo 2"/>
          <p:cNvSpPr/>
          <p:nvPr/>
        </p:nvSpPr>
        <p:spPr>
          <a:xfrm>
            <a:off x="214200" y="610200"/>
            <a:ext cx="87865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tiandrogens first examples of ‘targeted’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erapy in prostate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chanism of action might differ at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R–antiandrogen-cofactor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Bicalutamid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es with androgen and stabilization of the AR–HSP complex and also recruit the SMRT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-repr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C50 values (mass of compound that causes 50% displacement of specifically bound radioligan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nmol/l for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18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3.8 nmol/l for D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190 nmol/l for bicaluta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00 nmol/l for hydroxy fluta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ulticenter phase I trial underway to evaluate BMS-641988, 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onsteroidal antiandrogen with unique transcription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ifepristone (RU486) has anti androgen proper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ed as a strong enhancer of the AR–NCOR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uclear-receptor corepressor interac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sil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hase II trial in 19 HRPC pts: well tolerated, but low response rates: response abrogated by arise in T by glycocorticoid receptor inhib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ttangolo 3"/>
          <p:cNvSpPr/>
          <p:nvPr/>
        </p:nvSpPr>
        <p:spPr>
          <a:xfrm>
            <a:off x="2908800" y="58320"/>
            <a:ext cx="2651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</a:rPr>
              <a:t>Antiandr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ttangolo 123"/>
          <p:cNvSpPr/>
          <p:nvPr/>
        </p:nvSpPr>
        <p:spPr>
          <a:xfrm>
            <a:off x="4214880" y="2857320"/>
            <a:ext cx="4714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velopment of new classes of small-molecule antagonists with increased po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Connettore 2 125"/>
          <p:cNvCxnSpPr/>
          <p:nvPr/>
        </p:nvCxnSpPr>
        <p:spPr>
          <a:xfrm flipH="1">
            <a:off x="6429240" y="3714480"/>
            <a:ext cx="214560" cy="429120"/>
          </a:xfrm>
          <a:prstGeom prst="straightConnector1">
            <a:avLst/>
          </a:prstGeom>
          <a:ln w="76200"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393" name="Parentesi graffa chiusa 126"/>
          <p:cNvSpPr/>
          <p:nvPr/>
        </p:nvSpPr>
        <p:spPr>
          <a:xfrm>
            <a:off x="3857760" y="2714760"/>
            <a:ext cx="356760" cy="12139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ttangolo 1"/>
          <p:cNvSpPr/>
          <p:nvPr/>
        </p:nvSpPr>
        <p:spPr>
          <a:xfrm>
            <a:off x="428760" y="1143000"/>
            <a:ext cx="828648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SP90 is required for protein maturation into active threedimensiona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addition to AR, protein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kinases (e.g. ERBB2, BCR–ABL1, RAF1, Akt, CDK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MET), mutant p53 and human TERT ar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HSP90 client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HSP90 protein stabilizat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dependent on binding and hydrolysis of ATP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eldanamycin (an ansamycin antibiotic) and 17-allylamino-17 demethoxygeldanamy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7-AAG)  in development as prostate cancer therapeu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-AGG, which has a better safety profile, is currently in clinic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se I testing demonstrated that the effects of 17-AAG were dose dependent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d schedule-dependent, and recommende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ses are currently in phase II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 HSP90 inhibitors such as 17-dimethylaminoethylamino-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7 demethoxygeldanamycin hydrochlorid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7-DMAG) and novobiocin analogs ar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phase I/II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ttangolo 2"/>
          <p:cNvSpPr/>
          <p:nvPr/>
        </p:nvSpPr>
        <p:spPr>
          <a:xfrm>
            <a:off x="2945160" y="357120"/>
            <a:ext cx="2963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</a:rPr>
              <a:t>HSP90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ttangolo 1"/>
          <p:cNvSpPr/>
          <p:nvPr/>
        </p:nvSpPr>
        <p:spPr>
          <a:xfrm>
            <a:off x="285840" y="1074240"/>
            <a:ext cx="857232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ne deacetylases (HDACs) are enzymes that deacetylate the amino-terminal tails of histones, causing structural changes in chromatin that regulat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etylation is inherently important in all cell types, but, because of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umor-specific imbalances in deacetylation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etylation, HDAC inhibitors exert tumor-specific effects including apoptosis, cell-cycle arrest and cellular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DAC inhibitors destabilize the AR by interfering with the binding of HSP90 to the AR and also to ERB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DAC inhibitors are in phase I and II testing in leukemia and solid tumors including prostate cancer: sodium phenyl butyrate, suberoy -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nilide hydroxmic acid, LBH-589, FK-228 (depsipeptide), MS-275 (benzamide), LAQ-824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ydroxamic acid derivative) and PXD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ncreased ubiquitination of AR after genistein treatment is attributed to de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sp90 chaperone activity as assessed by its increased inactive acetylate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DAC6, which is Hsp90 deacetylase, is inhibited by the antiestrogenic activity of geni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ttangolo 2"/>
          <p:cNvSpPr/>
          <p:nvPr/>
        </p:nvSpPr>
        <p:spPr>
          <a:xfrm>
            <a:off x="2946960" y="285840"/>
            <a:ext cx="317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3600" spc="-1" strike="noStrike">
                <a:solidFill>
                  <a:srgbClr val="0070c0"/>
                </a:solidFill>
                <a:latin typeface="Calibri"/>
              </a:rPr>
              <a:t>HDAC inhib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CasellaDiTesto 4"/>
          <p:cNvSpPr/>
          <p:nvPr/>
        </p:nvSpPr>
        <p:spPr>
          <a:xfrm>
            <a:off x="357120" y="785880"/>
            <a:ext cx="835776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2400" spc="-1" strike="noStrike">
                <a:solidFill>
                  <a:srgbClr val="0070c0"/>
                </a:solidFill>
                <a:latin typeface="Calibri"/>
              </a:rPr>
              <a:t>Mechanisms of hormonal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ptake of circulating testoste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ptake and conversion of circulating adrenal andr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 novo androgen synthesis from cholesterol or earlier precur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pregul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Androgen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2400" spc="-1" strike="noStrike">
                <a:solidFill>
                  <a:srgbClr val="0070c0"/>
                </a:solidFill>
                <a:latin typeface="Calibri"/>
              </a:rPr>
              <a:t>Therapeutic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plication of agents targ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atumoral androgen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 regulation and a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ing the treatment of androgen-sensitive prostate cancer may delay or prevent C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CasellaDiTesto 5"/>
          <p:cNvSpPr/>
          <p:nvPr/>
        </p:nvSpPr>
        <p:spPr>
          <a:xfrm>
            <a:off x="3012120" y="71280"/>
            <a:ext cx="2709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4400" spc="-1" strike="noStrike">
                <a:solidFill>
                  <a:srgbClr val="0070c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ttangolo 1"/>
          <p:cNvSpPr/>
          <p:nvPr/>
        </p:nvSpPr>
        <p:spPr>
          <a:xfrm>
            <a:off x="285840" y="2714760"/>
            <a:ext cx="8500680" cy="380952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atural history of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aive prostate cancer 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istance to ADT and tumor growth despit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astrate levels of serum testoste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0070c0"/>
                </a:solidFill>
                <a:latin typeface="Calibri"/>
              </a:rPr>
              <a:t>Castration Resistent Prostate Can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cause the efficacy of ADT is related to its ability to deprive the tumor of androgen, genes involved in the androgen metabolism pathway are candidates for influencing response to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29 men with advanced prostate cancer treated with ADT was genotyped for 129 DNA polymorphisms distributed across 20 genes involved in androgen 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uppo 2"/>
          <p:cNvGrpSpPr/>
          <p:nvPr/>
        </p:nvGrpSpPr>
        <p:grpSpPr>
          <a:xfrm>
            <a:off x="357120" y="71280"/>
            <a:ext cx="8353080" cy="2476440"/>
            <a:chOff x="357120" y="71280"/>
            <a:chExt cx="8353080" cy="2476440"/>
          </a:xfrm>
        </p:grpSpPr>
        <p:pic>
          <p:nvPicPr>
            <p:cNvPr id="261" name="Picture 2" descr=""/>
            <p:cNvPicPr/>
            <p:nvPr/>
          </p:nvPicPr>
          <p:blipFill>
            <a:blip r:embed="rId1"/>
            <a:srcRect l="0" t="51636" r="0" b="0"/>
            <a:stretch/>
          </p:blipFill>
          <p:spPr>
            <a:xfrm>
              <a:off x="357120" y="1143000"/>
              <a:ext cx="8353080" cy="14047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262" name="Picture 2" descr=""/>
            <p:cNvPicPr/>
            <p:nvPr/>
          </p:nvPicPr>
          <p:blipFill>
            <a:blip r:embed="rId2"/>
            <a:srcRect l="0" t="0" r="0" b="58513"/>
            <a:stretch/>
          </p:blipFill>
          <p:spPr>
            <a:xfrm>
              <a:off x="357120" y="71280"/>
              <a:ext cx="8353080" cy="120456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ttp://www.dnalandmarks.com/english/pictures/what_are_snps.jpg"/>
          <p:cNvPicPr/>
          <p:nvPr/>
        </p:nvPicPr>
        <p:blipFill>
          <a:blip r:embed="rId1"/>
          <a:stretch/>
        </p:blipFill>
        <p:spPr>
          <a:xfrm>
            <a:off x="351360" y="2000160"/>
            <a:ext cx="5051880" cy="307152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264" name="Rettangolo 3"/>
          <p:cNvSpPr/>
          <p:nvPr/>
        </p:nvSpPr>
        <p:spPr>
          <a:xfrm>
            <a:off x="1391400" y="285840"/>
            <a:ext cx="6665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</a:rPr>
              <a:t>SNP- Single nucleotide polymorph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ttangolo 4"/>
          <p:cNvSpPr/>
          <p:nvPr/>
        </p:nvSpPr>
        <p:spPr>
          <a:xfrm>
            <a:off x="357120" y="1071720"/>
            <a:ext cx="8357760" cy="82116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ifferences in DNA at the single nucleotide level between  individu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ttangolo 5"/>
          <p:cNvSpPr/>
          <p:nvPr/>
        </p:nvSpPr>
        <p:spPr>
          <a:xfrm>
            <a:off x="5643720" y="2066760"/>
            <a:ext cx="32144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Highly abundant ma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llow very fine mapping of tra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Occur within gene sequences and may be the source of mutation behind the phenotypic var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ttangolo 7"/>
          <p:cNvSpPr/>
          <p:nvPr/>
        </p:nvSpPr>
        <p:spPr>
          <a:xfrm>
            <a:off x="4643640" y="5434560"/>
            <a:ext cx="4071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NP genotyping Technologies: simplex reactions (ABI Taqman) to &gt;50,000 SNPs simultaneously (Affymetri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asellaDiTesto 8"/>
          <p:cNvSpPr/>
          <p:nvPr/>
        </p:nvSpPr>
        <p:spPr>
          <a:xfrm>
            <a:off x="1339560" y="4500720"/>
            <a:ext cx="660240" cy="10645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asellaDiTesto 9"/>
          <p:cNvSpPr/>
          <p:nvPr/>
        </p:nvSpPr>
        <p:spPr>
          <a:xfrm>
            <a:off x="1143000" y="4487400"/>
            <a:ext cx="856800" cy="10645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llaDiTesto 10"/>
          <p:cNvSpPr/>
          <p:nvPr/>
        </p:nvSpPr>
        <p:spPr>
          <a:xfrm>
            <a:off x="3714840" y="4500720"/>
            <a:ext cx="856800" cy="10645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http://upload.wikimedia.org/wikipedia/commons/thumb/2/2e/Dna-SNP.svg/416px-Dna-SNP.svg.png"/>
          <p:cNvPicPr/>
          <p:nvPr/>
        </p:nvPicPr>
        <p:blipFill>
          <a:blip r:embed="rId2"/>
          <a:stretch/>
        </p:blipFill>
        <p:spPr>
          <a:xfrm>
            <a:off x="1928880" y="4572000"/>
            <a:ext cx="1785600" cy="2236320"/>
          </a:xfrm>
          <a:prstGeom prst="rect">
            <a:avLst/>
          </a:prstGeom>
          <a:ln w="0">
            <a:solidFill>
              <a:srgbClr val="4f81bd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"/>
          <p:cNvPicPr/>
          <p:nvPr/>
        </p:nvPicPr>
        <p:blipFill>
          <a:blip r:embed="rId1"/>
          <a:srcRect l="5665" t="0" r="0" b="66878"/>
          <a:stretch/>
        </p:blipFill>
        <p:spPr>
          <a:xfrm>
            <a:off x="285840" y="785880"/>
            <a:ext cx="2695320" cy="208728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  <p:sp>
        <p:nvSpPr>
          <p:cNvPr id="273" name="Rettangolo 2"/>
          <p:cNvSpPr/>
          <p:nvPr/>
        </p:nvSpPr>
        <p:spPr>
          <a:xfrm>
            <a:off x="142920" y="142920"/>
            <a:ext cx="885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3 Polymorphisms in separate genes associated with TTP during 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ttangolo 3"/>
          <p:cNvSpPr/>
          <p:nvPr/>
        </p:nvSpPr>
        <p:spPr>
          <a:xfrm>
            <a:off x="428760" y="3143160"/>
            <a:ext cx="2428560" cy="130932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ncodes: aromat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verts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estosterone to estro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ttangolo 4"/>
          <p:cNvSpPr/>
          <p:nvPr/>
        </p:nvSpPr>
        <p:spPr>
          <a:xfrm>
            <a:off x="214200" y="5556600"/>
            <a:ext cx="8715240" cy="100440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e effect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germline variations on ADT efficacy may be a result of th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luence on gene expression within prostate tumor, altering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ocal androgen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ttangolo 5"/>
          <p:cNvSpPr/>
          <p:nvPr/>
        </p:nvSpPr>
        <p:spPr>
          <a:xfrm>
            <a:off x="3071880" y="3071880"/>
            <a:ext cx="2928600" cy="222408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encodes: enzym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atalyze androstenedione production and deactivate dihydroxytestoster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sociated with prostate cancer suscep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ttangolo 6"/>
          <p:cNvSpPr/>
          <p:nvPr/>
        </p:nvSpPr>
        <p:spPr>
          <a:xfrm>
            <a:off x="6143760" y="3071880"/>
            <a:ext cx="2785680" cy="222408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at converts estradiol t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rone and 5-androstendiol to dehydroepiandroster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sociat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higher Gleason Sc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2"/>
          <a:srcRect l="5665" t="67240" r="0" b="0"/>
          <a:stretch/>
        </p:blipFill>
        <p:spPr>
          <a:xfrm>
            <a:off x="6143760" y="785880"/>
            <a:ext cx="2714400" cy="207936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  <p:pic>
        <p:nvPicPr>
          <p:cNvPr id="279" name="Picture 3" descr=""/>
          <p:cNvPicPr/>
          <p:nvPr/>
        </p:nvPicPr>
        <p:blipFill>
          <a:blip r:embed="rId3"/>
          <a:srcRect l="5665" t="34291" r="0" b="32591"/>
          <a:stretch/>
        </p:blipFill>
        <p:spPr>
          <a:xfrm>
            <a:off x="3214800" y="785880"/>
            <a:ext cx="2714400" cy="210204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  <p:sp>
        <p:nvSpPr>
          <p:cNvPr id="280" name="Rettangolo 9"/>
          <p:cNvSpPr/>
          <p:nvPr/>
        </p:nvSpPr>
        <p:spPr>
          <a:xfrm>
            <a:off x="1077120" y="857160"/>
            <a:ext cx="102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YP19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ttangolo 10"/>
          <p:cNvSpPr/>
          <p:nvPr/>
        </p:nvSpPr>
        <p:spPr>
          <a:xfrm>
            <a:off x="4219200" y="844920"/>
            <a:ext cx="82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HSD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ttangolo 11"/>
          <p:cNvSpPr/>
          <p:nvPr/>
        </p:nvSpPr>
        <p:spPr>
          <a:xfrm>
            <a:off x="7013520" y="844920"/>
            <a:ext cx="105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SD17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08440" y="1081080"/>
            <a:ext cx="4149000" cy="2776320"/>
          </a:xfrm>
          <a:prstGeom prst="rect">
            <a:avLst/>
          </a:prstGeom>
          <a:ln w="9525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4456800" y="928800"/>
            <a:ext cx="4472640" cy="335736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  <p:sp>
        <p:nvSpPr>
          <p:cNvPr id="285" name="Rettangolo 3"/>
          <p:cNvSpPr/>
          <p:nvPr/>
        </p:nvSpPr>
        <p:spPr>
          <a:xfrm>
            <a:off x="285840" y="285840"/>
            <a:ext cx="8572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olymorphisms in separate genes associated with TTP during 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ttangolo 4"/>
          <p:cNvSpPr/>
          <p:nvPr/>
        </p:nvSpPr>
        <p:spPr>
          <a:xfrm>
            <a:off x="357120" y="4429080"/>
            <a:ext cx="8500680" cy="2224080"/>
          </a:xfrm>
          <a:prstGeom prst="rect">
            <a:avLst/>
          </a:prstGeom>
          <a:noFill/>
          <a:ln w="2857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multivariate model, polymorphism data retained its association with the efficacy of ADT while controlling for clinical risk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eason score, type of primary therapy, whether ADT as part of local therapy, metastatic status, PRE-ADT P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Pt genotype adds information beyond </a:t>
            </a:r>
            <a:r>
              <a:rPr b="1" lang="it-IT" sz="2000" spc="-1" strike="noStrike">
                <a:solidFill>
                  <a:srgbClr val="0070c0"/>
                </a:solidFill>
                <a:latin typeface="Calibri"/>
              </a:rPr>
              <a:t>traditional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ttangolo 1"/>
          <p:cNvSpPr/>
          <p:nvPr/>
        </p:nvSpPr>
        <p:spPr>
          <a:xfrm>
            <a:off x="285840" y="857160"/>
            <a:ext cx="8572320" cy="191916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otyping patients beginning ADT at these genetic loci provide important information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stratifying in castration-sensitive prostate cancer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prognostic information to clinical risk factors for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ttangolo 2"/>
          <p:cNvSpPr/>
          <p:nvPr/>
        </p:nvSpPr>
        <p:spPr>
          <a:xfrm>
            <a:off x="2799720" y="214200"/>
            <a:ext cx="3255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rognostic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ttangolo 3"/>
          <p:cNvSpPr/>
          <p:nvPr/>
        </p:nvSpPr>
        <p:spPr>
          <a:xfrm>
            <a:off x="214200" y="3571920"/>
            <a:ext cx="8643600" cy="283392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polymorphisms have functional consequences for these enzymes, providing evidence these enzymes influence ADT effi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s development to inhibit or augment enzyme activity to improve ADT effi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iscover old dru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omatase inhibitors widely used in breast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ies in castration-resistant prostate cancer are unimpressive….but….never studied in combination with ADT in castration-sensitive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ttangolo 4"/>
          <p:cNvSpPr/>
          <p:nvPr/>
        </p:nvSpPr>
        <p:spPr>
          <a:xfrm>
            <a:off x="2693520" y="2915640"/>
            <a:ext cx="3500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erapeutic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ttangolo 1"/>
          <p:cNvSpPr/>
          <p:nvPr/>
        </p:nvSpPr>
        <p:spPr>
          <a:xfrm>
            <a:off x="571320" y="1890000"/>
            <a:ext cx="7929360" cy="350316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T often does not completely deprive the prostat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rogenic st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tration failed to completely eliminat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prostatic androg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men with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al low DHT levels were sufficient to stimulate tumor grow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ttangolo 11"/>
          <p:cNvSpPr/>
          <p:nvPr/>
        </p:nvSpPr>
        <p:spPr>
          <a:xfrm>
            <a:off x="5643720" y="5988600"/>
            <a:ext cx="2999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c00000"/>
                </a:solidFill>
                <a:latin typeface="Calibri"/>
              </a:rPr>
              <a:t>Geller J,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J Urol. 1984;132:6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ttangolo 4"/>
          <p:cNvSpPr/>
          <p:nvPr/>
        </p:nvSpPr>
        <p:spPr>
          <a:xfrm>
            <a:off x="751680" y="700920"/>
            <a:ext cx="750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</a:rPr>
              <a:t>Castration Resistent Prostate Cancer (CR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  <Words>2620</Words>
  <Paragraphs>4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9:40:48Z</dcterms:created>
  <dc:creator>Pasquale Ditonno</dc:creator>
  <dc:description/>
  <dc:language>en-US</dc:language>
  <cp:lastModifiedBy>Ditonnopas</cp:lastModifiedBy>
  <dcterms:modified xsi:type="dcterms:W3CDTF">2008-11-20T21:44:48Z</dcterms:modified>
  <cp:revision>9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6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36</vt:r8>
  </property>
</Properties>
</file>