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7988-462E-40B6-B772-8420322A2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CC8D-C2C8-4B05-854F-2AD1F10A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DD1F-8A45-4744-9E49-02A2A5C1C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81D2-4CC4-4842-BBFC-21231372E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B95C-9182-44C5-B090-76E9C719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BDBB-8B97-4104-A705-4C9FC915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F951-E161-4073-943F-76C622DD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14A2-708F-4005-9F9E-FB6EC861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1249-741F-4911-B1C9-0A590C32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16EF-CAC8-4B8D-9EF0-1DC1C7A5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BD6E-2F28-4FC0-8BE0-80E9830F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541B-D217-4AE3-98F9-3C067388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1F13-5C9C-456F-8C4C-2BC9DBF4B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M.G. 73 anni con pregresso 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ennaio 2008  - PSA 6,5 ng/ml PSA FREE 15,2%   E.R. -IBP 2° - cicli di terapia disinfet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prile 2008 - PSA 9,6 ng/ml  PSA FREE 13,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aggio 2008 -Biopsia Prostatica Sestante- Gleason ( 3 + 2 ) con maggiore localizzazione a  LOBO 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unzione erettile norm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izia  a Maggio 2008 terapia Casodex 50 mg + Enantone 11,25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mpotenza sessuale, astenia- rivalutato da un altro urologo ER- Lieve aumento di consistenza lobo 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uglio 2008 rivalutato da radiologo per brachitera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v. 2008 Brachiterapia previa TAC torace addome e pelvi, scintigrafia ossee, eco prostata ( 31,6x39,5x40,2),flussometria (flusso-max 19ml/s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20:35:06Z</dcterms:created>
  <dc:creator>francis</dc:creator>
  <dc:description/>
  <dc:language>en-US</dc:language>
  <cp:lastModifiedBy>PC</cp:lastModifiedBy>
  <dcterms:modified xsi:type="dcterms:W3CDTF">2008-11-21T10:32:27Z</dcterms:modified>
  <cp:revision>5</cp:revision>
  <dc:subject/>
  <dc:title>Cognome e nome – M.G. Età73,pregressa IMA</dc:title>
</cp:coreProperties>
</file>