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DFC-3DE4-4B55-B4EE-888DB405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EAF-DCCD-4C4D-BCB6-ECB49204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00B-DF1B-443C-A462-96CDAD62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07C-C57E-4531-B0F9-C7E44F09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6CD-85AB-4984-98D2-7DDE8D3A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273-EE4B-4947-8F09-391AC197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08C5-22B6-4BD4-8E3B-4058773D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7D4-4A7D-48A1-B1F7-BFF25728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8A3-45A8-4AF5-ADF7-6441768A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4AF-4198-4995-96FB-EA63A843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2D5-3D55-4F3A-B993-A2EE2722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FE8-8F29-4D55-8B30-B836924C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D45F-6955-4D1A-8391-3C3C360610D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-108000" y="4222800"/>
            <a:ext cx="928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99"/>
                </a:solidFill>
                <a:latin typeface="Arial"/>
              </a:rPr>
              <a:t>UO Radioterapi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99"/>
                </a:solidFill>
                <a:latin typeface="Arial"/>
              </a:rPr>
              <a:t>Centro di Ricerca e Formazione ad Alta Tecnologia nelle Scienze Biomediche Giovanni Paolo I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99"/>
                </a:solidFill>
                <a:latin typeface="Arial"/>
              </a:rPr>
              <a:t>Università Cattolica del S. Cuore, Campobas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287880" y="5791320"/>
            <a:ext cx="24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99"/>
                </a:solidFill>
                <a:latin typeface="Palatino Linotype"/>
                <a:ea typeface="Arial"/>
              </a:rPr>
              <a:t>Bologna, 14 Novembr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8600" y="762120"/>
            <a:ext cx="861048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99"/>
                </a:solidFill>
                <a:latin typeface="Arial"/>
              </a:rPr>
              <a:t>Radioterapia palliativa short course: risultati preliminari degli studi SHAR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0" i="1" lang="it-IT" sz="3200" spc="-1" strike="noStrike">
                <a:solidFill>
                  <a:srgbClr val="000099"/>
                </a:solidFill>
                <a:latin typeface="Arial"/>
              </a:rPr>
              <a:t>ort course </a:t>
            </a: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i="1" lang="it-IT" sz="3200" spc="-1" strike="noStrike">
                <a:solidFill>
                  <a:srgbClr val="000099"/>
                </a:solidFill>
                <a:latin typeface="Arial"/>
              </a:rPr>
              <a:t>ccelerated </a:t>
            </a: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i="1" lang="it-IT" sz="3200" spc="-1" strike="noStrike">
                <a:solidFill>
                  <a:srgbClr val="000099"/>
                </a:solidFill>
                <a:latin typeface="Arial"/>
              </a:rPr>
              <a:t>adiati</a:t>
            </a: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ON</a:t>
            </a:r>
            <a:r>
              <a:rPr b="0" i="1" lang="it-IT" sz="3200" spc="-1" strike="noStrike">
                <a:solidFill>
                  <a:srgbClr val="000099"/>
                </a:solidFill>
                <a:latin typeface="Arial"/>
              </a:rPr>
              <a:t> thera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L. Caravatta, G. Macchia, F. Deodato, C. Digesù, V. Picardi, C. Montor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S. Mignogna, C. Travaglini, M. Rossi, G. Volpacchio, MP. Vaccarell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M. Buwenge, V. Valentini, N. Cellini, AG. Morgan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logo UCSC blu trasp"/>
          <p:cNvPicPr/>
          <p:nvPr/>
        </p:nvPicPr>
        <p:blipFill>
          <a:blip r:embed="rId1"/>
          <a:stretch/>
        </p:blipFill>
        <p:spPr>
          <a:xfrm>
            <a:off x="8305920" y="6049800"/>
            <a:ext cx="744480" cy="744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47520" y="6060960"/>
            <a:ext cx="104796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24000" y="746280"/>
            <a:ext cx="8496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CONCLUS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99"/>
                </a:solidFill>
                <a:latin typeface="Arial"/>
                <a:ea typeface="Times New Roman"/>
              </a:rPr>
              <a:t>Uno schema radioterapico SHORT COURSE con due frazioni al giorno per due giorni consecutivi è risultato ben tollerato nei livelli valutat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Arial"/>
              </a:rPr>
              <a:t>I risultati preliminari lasciano ipotizzare una buona palliazione dei sintomi, un significativo beneficio in termini logistici e di confort per il paz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99"/>
                </a:solidFill>
                <a:latin typeface="Arial"/>
              </a:rPr>
              <a:t>La dose escalation è attualmente in cors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logo UCSC blu trasp"/>
          <p:cNvPicPr/>
          <p:nvPr/>
        </p:nvPicPr>
        <p:blipFill>
          <a:blip r:embed="rId1"/>
          <a:stretch/>
        </p:blipFill>
        <p:spPr>
          <a:xfrm>
            <a:off x="8305920" y="6049800"/>
            <a:ext cx="744480" cy="7448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0" y="763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000099"/>
                </a:solidFill>
                <a:latin typeface="Arial"/>
              </a:rPr>
              <a:t>Radioterapia palliativa short course:</a:t>
            </a:r>
            <a:r>
              <a:rPr b="1" i="1" lang="it-IT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100" spc="-1" strike="noStrike">
                <a:solidFill>
                  <a:srgbClr val="000099"/>
                </a:solidFill>
                <a:latin typeface="Arial"/>
              </a:rPr>
              <a:t>risultati degli studi SHARON (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ort course 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ccelerated 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adiati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ON 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therapy)</a:t>
            </a:r>
            <a:r>
              <a:rPr b="1" i="1" lang="it-IT" sz="11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47520" y="6060960"/>
            <a:ext cx="1047960" cy="720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4815000" y="5622840"/>
            <a:ext cx="235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0" spc="-1" strike="noStrike">
                <a:solidFill>
                  <a:srgbClr val="000099"/>
                </a:solidFill>
                <a:latin typeface="Century Schoolbook"/>
              </a:rPr>
              <a:t>Graz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57200" y="760320"/>
            <a:ext cx="82072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La Radioterapia Palliativa viene impiegata in un’alta percentuale di malati oncologici, dal 30 al 50% a seconda delle varie Istituzioni Radioterapich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Essa trova indicazione nel trattamento sintomatico in pazienti oncologici con beneficio nel trattamento di alcune condizioni clin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763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000099"/>
                </a:solidFill>
                <a:latin typeface="Arial"/>
              </a:rPr>
              <a:t>Radioterapia palliativa short course:</a:t>
            </a:r>
            <a:r>
              <a:rPr b="1" i="1" lang="it-IT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100" spc="-1" strike="noStrike">
                <a:solidFill>
                  <a:srgbClr val="000099"/>
                </a:solidFill>
                <a:latin typeface="Arial"/>
              </a:rPr>
              <a:t>risultati degli studi SHARON (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ort course 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ccelerated 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adiati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ON 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therapy)</a:t>
            </a:r>
            <a:r>
              <a:rPr b="1" i="1" lang="it-IT" sz="11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logo UCSC blu trasp"/>
          <p:cNvPicPr/>
          <p:nvPr/>
        </p:nvPicPr>
        <p:blipFill>
          <a:blip r:embed="rId1"/>
          <a:stretch/>
        </p:blipFill>
        <p:spPr>
          <a:xfrm>
            <a:off x="8305920" y="6049800"/>
            <a:ext cx="744480" cy="744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417960" y="3060720"/>
            <a:ext cx="8273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PROBLEMATICHE NEL TRATTAMENTO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TEMPO DI TRATTAMENTO - DISAGIO PSICOFISICO</a:t>
            </a: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4368960" y="4038480"/>
            <a:ext cx="360360" cy="505080"/>
          </a:xfrm>
          <a:prstGeom prst="downArrow">
            <a:avLst>
              <a:gd name="adj1" fmla="val 50000"/>
              <a:gd name="adj2" fmla="val 3504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757520" y="4584600"/>
            <a:ext cx="55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ort course </a:t>
            </a:r>
            <a:r>
              <a:rPr b="1" i="1" lang="en-GB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ccelerated </a:t>
            </a:r>
            <a:r>
              <a:rPr b="1" i="1" lang="en-GB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adiati</a:t>
            </a:r>
            <a:r>
              <a:rPr b="1" i="1" lang="en-GB" sz="2000" spc="-1" strike="noStrike">
                <a:solidFill>
                  <a:srgbClr val="ff3300"/>
                </a:solidFill>
                <a:latin typeface="Arial"/>
              </a:rPr>
              <a:t>ON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755640" y="5672160"/>
            <a:ext cx="763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riduzione del tempo totale di tratt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miglioramento del confort psico- fis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più veloce risoluzione della sintomatologia cli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possibilità di ritrattamento sulla stesa se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4368960" y="497520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078240" y="1506600"/>
            <a:ext cx="251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 u="sng">
                <a:solidFill>
                  <a:srgbClr val="000099"/>
                </a:solidFill>
                <a:uFillTx/>
                <a:latin typeface="Arial"/>
              </a:rPr>
              <a:t>http://www.radioterapiaitalia.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"/>
          <p:cNvPicPr/>
          <p:nvPr/>
        </p:nvPicPr>
        <p:blipFill>
          <a:blip r:embed="rId2"/>
          <a:stretch/>
        </p:blipFill>
        <p:spPr>
          <a:xfrm>
            <a:off x="47520" y="6060960"/>
            <a:ext cx="10479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RAZIONALE DELLO 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-93600" y="8366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985680" y="2708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738840" y="1628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5541840" y="2852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960800" y="44370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8000" y="990720"/>
          <a:ext cx="8929800" cy="5722920"/>
        </p:xfrm>
        <a:graphic>
          <a:graphicData uri="http://schemas.openxmlformats.org/drawingml/2006/table">
            <a:tbl>
              <a:tblPr/>
              <a:tblGrid>
                <a:gridCol w="1035000"/>
                <a:gridCol w="1905120"/>
                <a:gridCol w="2286000"/>
                <a:gridCol w="2743200"/>
                <a:gridCol w="960480"/>
              </a:tblGrid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tu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y/f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isulta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ncefa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Borgelt G</a:t>
                      </a: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, 1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Borgelt G</a:t>
                      </a: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, 1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0 Gy/10 vs 30 Gy/15 vs 40Gy/1 vs 40/ 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0/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VV medi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VV medi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sta co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Weissberg JB,198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hanti BK, 200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AIIMS study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orry J</a:t>
                      </a: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, 2005 (Quad Sho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0-48 Gy/10-15 v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0-70 Gy/30-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0 Gy/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Pz 50% PR→ 70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4 Gy/4; 3.5 BID x 2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ontrollo locale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tox  acuta e tard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VV mediana: 6 me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VV mediana: 3 me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VV mediana: 5.7 me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olm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tevens MJ</a:t>
                      </a: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, 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Vyas RK, 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onato V, 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Bhatt ML, 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Lupattelli M, 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ross CK,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7 Gy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7 Gy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0 Gy/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0 Gy/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6 Gy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7 Gy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VV mediana: 8.2 me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VV: 33% 1 an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VV mediana: 6.8 me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VV mediana: 4.9 me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VV mediana: 4.3 me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el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panos WJ</a:t>
                      </a: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, 1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panos WJ</a:t>
                      </a: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, 1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Wong R</a:t>
                      </a: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, 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cLaren DB</a:t>
                      </a:r>
                      <a:r>
                        <a:rPr b="1" lang="it-IT" sz="9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, 19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rinivasan V</a:t>
                      </a: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, 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hesne GM, 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.0 Gy x 3 courses = 30.0 Gy /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4.4 Gy / 12; 14.8 Gy x 3 courses; 3.7 Gy BID x 2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0 Gy/6; 2 vv/settim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0-36 Gy/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5 Gy / 12 vs 17 Gy / 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5 Gy/ 10 vs 21 Gy/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grade 3-4 GI tox a 12 mesi: 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grade 3-4 GI tox  a 18 mesi: 6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ontrollo locale 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VV mediana: 9me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VV mediana: 15 vs 10 mesi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VV ed effica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H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st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alazar OM</a:t>
                      </a: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, 20001 </a:t>
                      </a: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IAE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5 Gy/ 5 vs 8 Gy/ 2 BID vs 12/ 2 B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pz con neoplasia prostatica migliore beneficio e minor tossicità con regime più lung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s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Wu JSY</a:t>
                      </a: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, 200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metanalisi 4000 traila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Wu JSY</a:t>
                      </a: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,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-10 Gy/1 vs 20 Gy/5 vs 30 Gy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-10 Gy/1 vs 20 Gy/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emissione della sintomatologia doloro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trattamento più lungo auspicabile in lesioni complic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298"/>
          <p:cNvSpPr/>
          <p:nvPr/>
        </p:nvSpPr>
        <p:spPr>
          <a:xfrm>
            <a:off x="0" y="763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000099"/>
                </a:solidFill>
                <a:latin typeface="Arial"/>
              </a:rPr>
              <a:t>Radioterapia palliativa short course:</a:t>
            </a:r>
            <a:r>
              <a:rPr b="1" i="1" lang="it-IT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100" spc="-1" strike="noStrike">
                <a:solidFill>
                  <a:srgbClr val="000099"/>
                </a:solidFill>
                <a:latin typeface="Arial"/>
              </a:rPr>
              <a:t>risultati degli studi SHARON (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ort course 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ccelerated 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adiati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ON 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therapy)</a:t>
            </a:r>
            <a:r>
              <a:rPr b="1" i="1" lang="it-IT" sz="11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00" descr="libri"/>
          <p:cNvPicPr/>
          <p:nvPr/>
        </p:nvPicPr>
        <p:blipFill>
          <a:blip r:embed="rId1"/>
          <a:stretch/>
        </p:blipFill>
        <p:spPr>
          <a:xfrm>
            <a:off x="352440" y="942840"/>
            <a:ext cx="49068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9"/>
          <p:cNvSpPr/>
          <p:nvPr/>
        </p:nvSpPr>
        <p:spPr>
          <a:xfrm>
            <a:off x="395280" y="2089080"/>
            <a:ext cx="842472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cc"/>
                </a:solidFill>
                <a:latin typeface="Arial"/>
              </a:rPr>
              <a:t>tecnica 3D conformazionale con ML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cc"/>
                </a:solidFill>
                <a:latin typeface="Arial"/>
              </a:rPr>
              <a:t>impiego di fasci multipli coplanari, in base al distretto di interess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000cc"/>
                </a:solidFill>
                <a:latin typeface="Arial"/>
              </a:rPr>
              <a:t>AP-PA</a:t>
            </a:r>
            <a:r>
              <a:rPr b="0" i="1" lang="it-IT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0000cc"/>
                </a:solidFill>
                <a:latin typeface="Arial"/>
              </a:rPr>
              <a:t>standard </a:t>
            </a:r>
            <a:r>
              <a:rPr b="1" i="1" lang="it-IT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it-IT" sz="1600" spc="-1" strike="noStrike">
                <a:solidFill>
                  <a:srgbClr val="0000cc"/>
                </a:solidFill>
                <a:latin typeface="Arial"/>
              </a:rPr>
              <a:t>3D</a:t>
            </a:r>
            <a:r>
              <a:rPr b="0" i="1" lang="it-IT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0000cc"/>
                </a:solidFill>
                <a:latin typeface="Arial"/>
              </a:rPr>
              <a:t>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RAZIONALE DELLO 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logo UCSC blu trasp"/>
          <p:cNvPicPr/>
          <p:nvPr/>
        </p:nvPicPr>
        <p:blipFill>
          <a:blip r:embed="rId1"/>
          <a:stretch/>
        </p:blipFill>
        <p:spPr>
          <a:xfrm>
            <a:off x="8305920" y="6049800"/>
            <a:ext cx="744480" cy="7448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/>
          <p:cNvSpPr/>
          <p:nvPr/>
        </p:nvSpPr>
        <p:spPr>
          <a:xfrm>
            <a:off x="4038480" y="2992320"/>
            <a:ext cx="723960" cy="360360"/>
          </a:xfrm>
          <a:prstGeom prst="rightArrow">
            <a:avLst>
              <a:gd name="adj1" fmla="val 50000"/>
              <a:gd name="adj2" fmla="val 502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rcRect l="18012" t="13657" r="42640" b="42151"/>
          <a:stretch/>
        </p:blipFill>
        <p:spPr>
          <a:xfrm>
            <a:off x="4645080" y="3789360"/>
            <a:ext cx="3206520" cy="2878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408240" y="1036800"/>
            <a:ext cx="47588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2fr/g per 2g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cc"/>
                </a:solidFill>
                <a:latin typeface="Arial"/>
              </a:rPr>
              <a:t>impostazione del trattamento mediante TC-SI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05360" y="1766880"/>
            <a:ext cx="442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cc"/>
                </a:solidFill>
                <a:latin typeface="Arial"/>
              </a:rPr>
              <a:t>sistema di immobilizzazione personalizza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395280" y="3367080"/>
            <a:ext cx="65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cc"/>
                </a:solidFill>
                <a:latin typeface="Arial"/>
              </a:rPr>
              <a:t>DVH per PTV e OAR elaborati  per ogni paziente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DA4C93FF3"/>
          <p:cNvPicPr/>
          <p:nvPr/>
        </p:nvPicPr>
        <p:blipFill>
          <a:blip r:embed="rId3"/>
          <a:stretch/>
        </p:blipFill>
        <p:spPr>
          <a:xfrm>
            <a:off x="1979640" y="3789360"/>
            <a:ext cx="2363760" cy="28782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3"/>
          <p:cNvSpPr/>
          <p:nvPr/>
        </p:nvSpPr>
        <p:spPr>
          <a:xfrm>
            <a:off x="0" y="763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000099"/>
                </a:solidFill>
                <a:latin typeface="Arial"/>
              </a:rPr>
              <a:t>Radioterapia palliativa short course:</a:t>
            </a:r>
            <a:r>
              <a:rPr b="1" i="1" lang="it-IT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100" spc="-1" strike="noStrike">
                <a:solidFill>
                  <a:srgbClr val="000099"/>
                </a:solidFill>
                <a:latin typeface="Arial"/>
              </a:rPr>
              <a:t>risultati degli studi SHARON (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ort course 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ccelerated 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adiati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ON 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therapy)</a:t>
            </a:r>
            <a:r>
              <a:rPr b="1" i="1" lang="it-IT" sz="11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"/>
          <p:cNvPicPr/>
          <p:nvPr/>
        </p:nvPicPr>
        <p:blipFill>
          <a:blip r:embed="rId4"/>
          <a:stretch/>
        </p:blipFill>
        <p:spPr>
          <a:xfrm>
            <a:off x="47520" y="6060960"/>
            <a:ext cx="104796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61128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DISEGNO DELLO 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78360" y="181440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171440" y="4965840"/>
            <a:ext cx="678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Previsto l’arruolamento di 6 pazienti per ogni livello di d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con ampliamento ad ulteriori 6 pazienti in caso di DLT in più di un terzo dei pazienti della prima sest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logo UCSC blu trasp"/>
          <p:cNvPicPr/>
          <p:nvPr/>
        </p:nvPicPr>
        <p:blipFill>
          <a:blip r:embed="rId1"/>
          <a:stretch/>
        </p:blipFill>
        <p:spPr>
          <a:xfrm>
            <a:off x="8305920" y="6049800"/>
            <a:ext cx="744480" cy="7448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1"/>
          <p:cNvSpPr/>
          <p:nvPr/>
        </p:nvSpPr>
        <p:spPr>
          <a:xfrm>
            <a:off x="0" y="763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000099"/>
                </a:solidFill>
                <a:latin typeface="Arial"/>
              </a:rPr>
              <a:t>Radioterapia palliativa short course:</a:t>
            </a:r>
            <a:r>
              <a:rPr b="1" i="1" lang="it-IT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100" spc="-1" strike="noStrike">
                <a:solidFill>
                  <a:srgbClr val="000099"/>
                </a:solidFill>
                <a:latin typeface="Arial"/>
              </a:rPr>
              <a:t>risultati degli studi SHARON (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ort course 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ccelerated 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adiati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ON 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therapy)</a:t>
            </a:r>
            <a:r>
              <a:rPr b="1" i="1" lang="it-IT" sz="11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2"/>
          <a:stretch/>
        </p:blipFill>
        <p:spPr>
          <a:xfrm>
            <a:off x="47520" y="6060960"/>
            <a:ext cx="1047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15"/>
          <p:cNvGrpSpPr/>
          <p:nvPr/>
        </p:nvGrpSpPr>
        <p:grpSpPr>
          <a:xfrm>
            <a:off x="98280" y="1143000"/>
            <a:ext cx="8893080" cy="3313080"/>
            <a:chOff x="98280" y="1143000"/>
            <a:chExt cx="8893080" cy="3313080"/>
          </a:xfrm>
        </p:grpSpPr>
        <p:pic>
          <p:nvPicPr>
            <p:cNvPr id="83" name="Picture 3" descr=""/>
            <p:cNvPicPr/>
            <p:nvPr/>
          </p:nvPicPr>
          <p:blipFill>
            <a:blip r:embed="rId3"/>
            <a:stretch/>
          </p:blipFill>
          <p:spPr>
            <a:xfrm>
              <a:off x="98280" y="1143000"/>
              <a:ext cx="889308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14"/>
            <p:cNvSpPr/>
            <p:nvPr/>
          </p:nvSpPr>
          <p:spPr>
            <a:xfrm>
              <a:off x="6171840" y="3724200"/>
              <a:ext cx="1600200" cy="55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500" spc="-1" strike="noStrike">
                  <a:solidFill>
                    <a:srgbClr val="000000"/>
                  </a:solidFill>
                  <a:latin typeface="Arial Narrow"/>
                </a:rPr>
                <a:t>15 Gy; 3.75 Gy/fx   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28600" y="404640"/>
            <a:ext cx="861048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OBIETTIVI DELLO 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Prim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Definizione della DMT (Dose Massima Tollerata) di un trattamento radioterapico accelerato con doppio frazionamento quotidi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Dose Massima Tollerata (MT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E’ definita come il massimo livello di dose con incidenza di Dose Limiting Toxicity (DLT) &lt; 33%. E’ considerata come DLT ogni tossicità acuta (RTOG) di grado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Arial"/>
              </a:rPr>
              <a:t>&gt;</a:t>
            </a: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Secondar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valutazione 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della risposta dei sintom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della risposta clinica, della sopravvivenza libera da sintomi, della tossicità tardiva, analisi del controllo locale e tempo alla progressione lo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logo UCSC blu trasp"/>
          <p:cNvPicPr/>
          <p:nvPr/>
        </p:nvPicPr>
        <p:blipFill>
          <a:blip r:embed="rId1"/>
          <a:stretch/>
        </p:blipFill>
        <p:spPr>
          <a:xfrm>
            <a:off x="8305920" y="6049800"/>
            <a:ext cx="744480" cy="7448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763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000099"/>
                </a:solidFill>
                <a:latin typeface="Arial"/>
              </a:rPr>
              <a:t>Radioterapia palliativa short course:</a:t>
            </a:r>
            <a:r>
              <a:rPr b="1" i="1" lang="it-IT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100" spc="-1" strike="noStrike">
                <a:solidFill>
                  <a:srgbClr val="000099"/>
                </a:solidFill>
                <a:latin typeface="Arial"/>
              </a:rPr>
              <a:t>risultati degli studi SHARON (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ort course 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ccelerated 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adiati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ON 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therapy)</a:t>
            </a:r>
            <a:r>
              <a:rPr b="1" i="1" lang="it-IT" sz="11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2"/>
          <a:stretch/>
        </p:blipFill>
        <p:spPr>
          <a:xfrm>
            <a:off x="47520" y="6060960"/>
            <a:ext cx="104796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57360" y="404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METO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logo UCSC blu trasp"/>
          <p:cNvPicPr/>
          <p:nvPr/>
        </p:nvPicPr>
        <p:blipFill>
          <a:blip r:embed="rId1"/>
          <a:stretch/>
        </p:blipFill>
        <p:spPr>
          <a:xfrm>
            <a:off x="8305920" y="6049800"/>
            <a:ext cx="744480" cy="7448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9"/>
          <p:cNvSpPr/>
          <p:nvPr/>
        </p:nvSpPr>
        <p:spPr>
          <a:xfrm>
            <a:off x="1777320" y="5803200"/>
            <a:ext cx="2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0"/>
          <p:cNvSpPr/>
          <p:nvPr/>
        </p:nvSpPr>
        <p:spPr>
          <a:xfrm>
            <a:off x="338040" y="912960"/>
            <a:ext cx="84250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Stato di validità EC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99"/>
                </a:solidFill>
                <a:latin typeface="Arial"/>
              </a:rPr>
              <a:t>Schag CC, J Clin Oncol 1984</a:t>
            </a:r>
            <a:r>
              <a:rPr b="0" lang="it-IT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304920" y="197496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Pain Score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: si utilizza per misurare l’intensità del dolore e si ottiene moltiplicando la severità (“pain severity”) e la frequenza del dolore (“pain frequency”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ain Score = Pain Severity X Pain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2"/>
          <p:cNvSpPr/>
          <p:nvPr/>
        </p:nvSpPr>
        <p:spPr>
          <a:xfrm>
            <a:off x="324000" y="2846520"/>
            <a:ext cx="85690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Drug Score: 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si utilizza per valutare l’entità dell’approccio farmacologico; si ottiene moltiplicando la tipologia della terapia antalgica utilizzata (“drug severity”) e la frequenza dell’assunzione di tale terapia “drug frequency”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rug score = Drug severity x Drug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99"/>
                </a:solidFill>
                <a:latin typeface="Arial"/>
              </a:rPr>
              <a:t>Salazar OM, </a:t>
            </a:r>
            <a:r>
              <a:rPr b="0" i="1" lang="it-IT" sz="1200" spc="-1" strike="noStrike">
                <a:solidFill>
                  <a:srgbClr val="000099"/>
                </a:solidFill>
                <a:latin typeface="Arial"/>
              </a:rPr>
              <a:t>Int J Radiat Oncol Biol Phys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3"/>
          <p:cNvSpPr/>
          <p:nvPr/>
        </p:nvSpPr>
        <p:spPr>
          <a:xfrm>
            <a:off x="322200" y="4675320"/>
            <a:ext cx="84978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Visual Analog Scale (VAS): 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misurare l’intensità del dolo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99"/>
                </a:solidFill>
                <a:latin typeface="Arial"/>
              </a:rPr>
              <a:t>Priestman TJ, Lancet 197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4"/>
          <p:cNvSpPr/>
          <p:nvPr/>
        </p:nvSpPr>
        <p:spPr>
          <a:xfrm>
            <a:off x="320760" y="5565600"/>
            <a:ext cx="54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Qualità della Vita, Livello di Energia, Attività quotidi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7"/>
          <p:cNvSpPr/>
          <p:nvPr/>
        </p:nvSpPr>
        <p:spPr>
          <a:xfrm>
            <a:off x="5683680" y="6202440"/>
            <a:ext cx="247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99"/>
                </a:solidFill>
                <a:latin typeface="Arial"/>
              </a:rPr>
              <a:t>Sutherland HJ, Cancer Nurs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8"/>
          <p:cNvSpPr/>
          <p:nvPr/>
        </p:nvSpPr>
        <p:spPr>
          <a:xfrm>
            <a:off x="0" y="763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000099"/>
                </a:solidFill>
                <a:latin typeface="Arial"/>
              </a:rPr>
              <a:t>Radioterapia palliativa short course:</a:t>
            </a:r>
            <a:r>
              <a:rPr b="1" i="1" lang="it-IT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100" spc="-1" strike="noStrike">
                <a:solidFill>
                  <a:srgbClr val="000099"/>
                </a:solidFill>
                <a:latin typeface="Arial"/>
              </a:rPr>
              <a:t>risultati degli studi SHARON (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ort course 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ccelerated 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adiati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ON 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therapy)</a:t>
            </a:r>
            <a:r>
              <a:rPr b="1" i="1" lang="it-IT" sz="11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9" descr=""/>
          <p:cNvPicPr/>
          <p:nvPr/>
        </p:nvPicPr>
        <p:blipFill>
          <a:blip r:embed="rId2"/>
          <a:stretch/>
        </p:blipFill>
        <p:spPr>
          <a:xfrm>
            <a:off x="47520" y="6060960"/>
            <a:ext cx="104796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2" descr="libri"/>
          <p:cNvPicPr/>
          <p:nvPr/>
        </p:nvPicPr>
        <p:blipFill>
          <a:blip r:embed="rId3"/>
          <a:stretch/>
        </p:blipFill>
        <p:spPr>
          <a:xfrm>
            <a:off x="6329520" y="1452600"/>
            <a:ext cx="295200" cy="21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3" descr="libri"/>
          <p:cNvPicPr/>
          <p:nvPr/>
        </p:nvPicPr>
        <p:blipFill>
          <a:blip r:embed="rId4"/>
          <a:stretch/>
        </p:blipFill>
        <p:spPr>
          <a:xfrm>
            <a:off x="5286240" y="4098960"/>
            <a:ext cx="295560" cy="21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4" descr="libri"/>
          <p:cNvPicPr/>
          <p:nvPr/>
        </p:nvPicPr>
        <p:blipFill>
          <a:blip r:embed="rId5"/>
          <a:stretch/>
        </p:blipFill>
        <p:spPr>
          <a:xfrm>
            <a:off x="6562800" y="5189400"/>
            <a:ext cx="295200" cy="21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5" descr="libri"/>
          <p:cNvPicPr/>
          <p:nvPr/>
        </p:nvPicPr>
        <p:blipFill>
          <a:blip r:embed="rId6"/>
          <a:stretch/>
        </p:blipFill>
        <p:spPr>
          <a:xfrm>
            <a:off x="5486400" y="6208560"/>
            <a:ext cx="295200" cy="2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340000" y="1295280"/>
          <a:ext cx="4464000" cy="3484800"/>
        </p:xfrm>
        <a:graphic>
          <a:graphicData uri="http://schemas.openxmlformats.org/drawingml/2006/table">
            <a:tbl>
              <a:tblPr/>
              <a:tblGrid>
                <a:gridCol w="1359000"/>
                <a:gridCol w="1825560"/>
                <a:gridCol w="1279440"/>
              </a:tblGrid>
              <a:tr h="448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RATTERISTICHE DEI PAZI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 TO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TA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EDI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 </a:t>
                      </a: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 </a:t>
                      </a: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9-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EN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 </a:t>
                      </a: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373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C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 </a:t>
                      </a: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 </a:t>
                      </a: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 </a:t>
                      </a: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 </a:t>
                      </a:r>
                      <a:r>
                        <a:rPr b="1" lang="it-IT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55"/>
          <p:cNvSpPr/>
          <p:nvPr/>
        </p:nvSpPr>
        <p:spPr>
          <a:xfrm>
            <a:off x="3781440" y="40464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RISUL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6"/>
          <p:cNvSpPr/>
          <p:nvPr/>
        </p:nvSpPr>
        <p:spPr>
          <a:xfrm>
            <a:off x="2057400" y="5334120"/>
            <a:ext cx="50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Follow-up mediano di 4 mesi (range: 1-17 me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8" descr="logo UCSC blu trasp"/>
          <p:cNvPicPr/>
          <p:nvPr/>
        </p:nvPicPr>
        <p:blipFill>
          <a:blip r:embed="rId1"/>
          <a:stretch/>
        </p:blipFill>
        <p:spPr>
          <a:xfrm>
            <a:off x="8305920" y="6049800"/>
            <a:ext cx="744480" cy="7448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0"/>
          <p:cNvSpPr/>
          <p:nvPr/>
        </p:nvSpPr>
        <p:spPr>
          <a:xfrm>
            <a:off x="0" y="763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000099"/>
                </a:solidFill>
                <a:latin typeface="Arial"/>
              </a:rPr>
              <a:t>Radioterapia palliativa short course:</a:t>
            </a:r>
            <a:r>
              <a:rPr b="1" i="1" lang="it-IT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100" spc="-1" strike="noStrike">
                <a:solidFill>
                  <a:srgbClr val="000099"/>
                </a:solidFill>
                <a:latin typeface="Arial"/>
              </a:rPr>
              <a:t>risultati degli studi SHARON (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ort course 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ccelerated 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adiati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ON 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therapy)</a:t>
            </a:r>
            <a:r>
              <a:rPr b="1" i="1" lang="it-IT" sz="11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1" descr=""/>
          <p:cNvPicPr/>
          <p:nvPr/>
        </p:nvPicPr>
        <p:blipFill>
          <a:blip r:embed="rId2"/>
          <a:stretch/>
        </p:blipFill>
        <p:spPr>
          <a:xfrm>
            <a:off x="47520" y="6060960"/>
            <a:ext cx="104796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5"/>
          <p:cNvSpPr/>
          <p:nvPr/>
        </p:nvSpPr>
        <p:spPr>
          <a:xfrm>
            <a:off x="3781440" y="40464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RISUL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8" descr="logo UCSC blu trasp"/>
          <p:cNvPicPr/>
          <p:nvPr/>
        </p:nvPicPr>
        <p:blipFill>
          <a:blip r:embed="rId1"/>
          <a:stretch/>
        </p:blipFill>
        <p:spPr>
          <a:xfrm>
            <a:off x="8305920" y="6049800"/>
            <a:ext cx="744480" cy="74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282600" y="1041480"/>
          <a:ext cx="8556480" cy="4002120"/>
        </p:xfrm>
        <a:graphic>
          <a:graphicData uri="http://schemas.openxmlformats.org/drawingml/2006/table">
            <a:tbl>
              <a:tblPr/>
              <a:tblGrid>
                <a:gridCol w="1915920"/>
                <a:gridCol w="1162080"/>
                <a:gridCol w="776520"/>
                <a:gridCol w="1082520"/>
                <a:gridCol w="774720"/>
                <a:gridCol w="932040"/>
                <a:gridCol w="922320"/>
                <a:gridCol w="99036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CEFA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H&amp;N</a:t>
                      </a: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OLM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EL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H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os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S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zienti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ivello di d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8 Gy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.5 Gy/f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 Gy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 Gy/f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 Gy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 Gy/f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 Gy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 Gy/f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 Gy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5 Gy/f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8 Gy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.5 Gy/f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DLT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isposta al sintom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 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 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R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 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R 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iduzione 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 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R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 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R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 71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R 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 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R 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 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R 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 6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R 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.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iduzio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Pain scor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iduzio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Drug Scor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311"/>
          <p:cNvSpPr/>
          <p:nvPr/>
        </p:nvSpPr>
        <p:spPr>
          <a:xfrm>
            <a:off x="306000" y="5191200"/>
            <a:ext cx="2102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ff"/>
                </a:solidFill>
                <a:latin typeface="Arial"/>
              </a:rPr>
              <a:t>Qualità della 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Arial"/>
              </a:rPr>
              <a:t>p 0.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12"/>
          <p:cNvSpPr/>
          <p:nvPr/>
        </p:nvSpPr>
        <p:spPr>
          <a:xfrm>
            <a:off x="3518640" y="5191200"/>
            <a:ext cx="2119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ff"/>
                </a:solidFill>
                <a:latin typeface="Arial"/>
              </a:rPr>
              <a:t>Livello di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Arial"/>
              </a:rPr>
              <a:t>p 0.0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3"/>
          <p:cNvSpPr/>
          <p:nvPr/>
        </p:nvSpPr>
        <p:spPr>
          <a:xfrm>
            <a:off x="6631560" y="5226120"/>
            <a:ext cx="218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ff"/>
                </a:solidFill>
                <a:latin typeface="Arial"/>
              </a:rPr>
              <a:t>Attività quoti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Arial"/>
              </a:rPr>
              <a:t>p 0.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14" descr="smiley03"/>
          <p:cNvPicPr/>
          <p:nvPr/>
        </p:nvPicPr>
        <p:blipFill>
          <a:blip r:embed="rId2"/>
          <a:stretch/>
        </p:blipFill>
        <p:spPr>
          <a:xfrm>
            <a:off x="3905280" y="6062760"/>
            <a:ext cx="719280" cy="718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15"/>
          <p:cNvSpPr/>
          <p:nvPr/>
        </p:nvSpPr>
        <p:spPr>
          <a:xfrm>
            <a:off x="4642920" y="62071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6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39"/>
          <p:cNvSpPr/>
          <p:nvPr/>
        </p:nvSpPr>
        <p:spPr>
          <a:xfrm>
            <a:off x="0" y="763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000099"/>
                </a:solidFill>
                <a:latin typeface="Arial"/>
              </a:rPr>
              <a:t>Radioterapia palliativa short course:</a:t>
            </a:r>
            <a:r>
              <a:rPr b="1" i="1" lang="it-IT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100" spc="-1" strike="noStrike">
                <a:solidFill>
                  <a:srgbClr val="000099"/>
                </a:solidFill>
                <a:latin typeface="Arial"/>
              </a:rPr>
              <a:t>risultati degli studi SHARON (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ort course 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ccelerated 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adiati</a:t>
            </a:r>
            <a:r>
              <a:rPr b="1" i="1" lang="en-GB" sz="1100" spc="-1" strike="noStrike">
                <a:solidFill>
                  <a:srgbClr val="ff3300"/>
                </a:solidFill>
                <a:latin typeface="Arial"/>
              </a:rPr>
              <a:t>ON </a:t>
            </a:r>
            <a:r>
              <a:rPr b="1" i="1" lang="en-GB" sz="1100" spc="-1" strike="noStrike">
                <a:solidFill>
                  <a:srgbClr val="000099"/>
                </a:solidFill>
                <a:latin typeface="Arial"/>
              </a:rPr>
              <a:t>therapy)</a:t>
            </a:r>
            <a:r>
              <a:rPr b="1" i="1" lang="it-IT" sz="11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40" descr=""/>
          <p:cNvPicPr/>
          <p:nvPr/>
        </p:nvPicPr>
        <p:blipFill>
          <a:blip r:embed="rId3"/>
          <a:stretch/>
        </p:blipFill>
        <p:spPr>
          <a:xfrm>
            <a:off x="47520" y="6060960"/>
            <a:ext cx="10479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09-11-14T08:48:11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