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26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7.wmf" ContentType="image/x-wmf"/>
  <Override PartName="/ppt/media/image24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5.wmf" ContentType="image/x-wmf"/>
  <Override PartName="/ppt/media/image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7DE8-02C3-41D0-935D-C57236B034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9344-BCB5-4F3C-96E6-41B7522F2A2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DFC0-297C-43E5-B880-8E5F9176D19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57360"/>
            <a:ext cx="4570560" cy="3427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74720"/>
            <a:ext cx="502920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pillon: tecnica isocentrica ad arco con 60Co 30 in  fr. Su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F4F-43F2-4375-975F-802C066E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A37-1AB8-4C2D-88E4-EFF66D97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995-1A49-4A29-AAFE-88DCD1C3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AD2-1A50-4112-B8C4-755E35D6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FAB9-7F3E-41A9-8ED5-F84AF2FC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D9D7-55ED-46EE-BA2A-105611E9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6DEE-420D-4677-884D-A4F78D99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9A58-484A-4F8B-B32F-9033CA2F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A8E7-D069-4251-9A71-E011B2F1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302-A64D-45E6-B2DB-16996A94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61C4-530A-4C82-8A3A-B4CCA83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F5C-2907-4DD3-B631-ED61C6FA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1B18-927D-413F-8934-ABBC26E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89BB-BCF5-4C8B-B205-77782E53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9DAD-9B16-441D-B377-B908ACFC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8CD5-0C66-40A1-A280-F2323874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01F-B23F-41B9-83A6-4A7ABD2A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244-F1F4-4317-9F46-EB2BCD1B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60C-A736-47E7-8A1F-15C80676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DCB-A4A0-4489-868B-2166C8CE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DDE-B474-4971-B588-206F921E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124-63E1-4DCC-B657-2AC3E23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4D5-2D0B-49AA-8776-0E4C802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CB5-602A-497A-940A-1D27392C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b5ad"/>
            </a:gs>
            <a:gs pos="100000">
              <a:srgbClr val="ffff8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420-B0B7-4148-8424-E92E27A5719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b5ad"/>
            </a:gs>
            <a:gs pos="100000">
              <a:srgbClr val="ffff8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EC26-50B9-4746-A621-1E35B4674F9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343640" cy="3672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Rapid palliative symptomatic irradiation using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helical tomotherap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 preliminary analysis of workflow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and feasibility at th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Radiotherapy Departmen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of Modena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87280" y="4511520"/>
            <a:ext cx="655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G. De Marco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, 1M. Amadori, 1P. Antognoni, 1P. Giacobazzi, 2G. Guidi, 2E.Cenacchi, 1B. Lanfranchi, 1M. Parmiggiani, 1S. Pratissoli, 1S. Scicolone, 1F. Titone, 1G. Tolento, 2C. Danielli, </a:t>
            </a:r>
            <a:r>
              <a:rPr b="0" i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1F. Berton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1 U.O. Radioterapia Oncologica, Azienda Ospedaliera Universitaria Policlinico di Modena; 2 Servizio di Fisica Sanitaria, Azienda Ospedaliera Universitaria, Policlinico di Moden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4"/>
          <p:cNvGraphicFramePr/>
          <p:nvPr/>
        </p:nvGraphicFramePr>
        <p:xfrm>
          <a:off x="3780000" y="4276800"/>
          <a:ext cx="42796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276800"/>
                    <a:ext cx="427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250920" y="1773360"/>
          <a:ext cx="3419280" cy="338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3419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8"/>
          <p:cNvSpPr/>
          <p:nvPr/>
        </p:nvSpPr>
        <p:spPr>
          <a:xfrm>
            <a:off x="468360" y="1268280"/>
            <a:ext cx="31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ractionation regi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708360" y="3871800"/>
            <a:ext cx="496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istribution of total doses deli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material and method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 rot="16200000">
            <a:off x="3095280" y="5222880"/>
            <a:ext cx="1255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Arial"/>
              </a:rPr>
              <a:t>n. 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6877080" y="4724280"/>
            <a:ext cx="0" cy="129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560" y="1052640"/>
            <a:ext cx="7658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tient positioning on the treatment cou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gavoltage CT(MVCT) of 3.5 MV with Slice thikness 2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tion of superior/inferior borders encompassing the intended treatment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ouring of GTV and GTV to PTV uniform expansion of 1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material and method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643280" y="3789360"/>
            <a:ext cx="3313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Black"/>
              </a:rPr>
              <a:t>Optimization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lculation grid 0.4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F 1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terations ma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tch 0.2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eld Width 5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1670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ivery Quality Assurance (</a:t>
            </a: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DQ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 was performed for the first 3 patients,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the treatment s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99"/>
                </a:solidFill>
                <a:latin typeface="Arial Black"/>
                <a:ea typeface="Arial"/>
              </a:rPr>
              <a:t>γ</a:t>
            </a:r>
            <a:r>
              <a:rPr b="0" lang="it-IT" sz="3200" spc="-1" strike="noStrike">
                <a:solidFill>
                  <a:srgbClr val="000099"/>
                </a:solidFill>
                <a:latin typeface="Arial Black"/>
                <a:ea typeface="Arial"/>
              </a:rPr>
              <a:t> INDEX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 is within 3 mm and 3%(*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material and method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119600" y="581652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*) ISTISAN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 u="sng">
                <a:solidFill>
                  <a:srgbClr val="008000"/>
                </a:solidFill>
                <a:uFillTx/>
                <a:latin typeface="Arial Black"/>
              </a:rPr>
              <a:t>ENDPO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Time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cessary for each treatment phase have been regis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Patie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complian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valuated by creating an arbitrary index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Conformity index (CI) and OARs and PTV dose distribution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formed by dosimetry comparison with a conventional 3D-C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material and method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280" y="2552760"/>
            <a:ext cx="4465800" cy="3108240"/>
          </a:xfrm>
          <a:prstGeom prst="rect">
            <a:avLst/>
          </a:prstGeom>
          <a:noFill/>
          <a:ln w="3168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t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V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to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lan cal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rradiation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material and method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826920" y="1197000"/>
            <a:ext cx="18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Tim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6516720" y="3416400"/>
            <a:ext cx="2305080" cy="1439640"/>
          </a:xfrm>
          <a:prstGeom prst="rect">
            <a:avLst/>
          </a:prstGeom>
          <a:noFill/>
          <a:ln w="316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IN – 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for each patient tr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364000" y="3487680"/>
            <a:ext cx="863640" cy="719280"/>
          </a:xfrm>
          <a:prstGeom prst="rightArrow">
            <a:avLst>
              <a:gd name="adj1" fmla="val 50000"/>
              <a:gd name="adj2" fmla="val 30018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0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Patien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 each treated patient an </a:t>
            </a:r>
            <a:r>
              <a:rPr b="1" lang="it-IT" sz="3000" spc="-1" strike="noStrike">
                <a:solidFill>
                  <a:srgbClr val="000099"/>
                </a:solidFill>
                <a:latin typeface="Times New Roman"/>
              </a:rPr>
              <a:t>arbitrary index sc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as crea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843280" y="3645000"/>
          <a:ext cx="3313080" cy="2376360"/>
        </p:xfrm>
        <a:graphic>
          <a:graphicData uri="http://schemas.openxmlformats.org/drawingml/2006/table">
            <a:tbl>
              <a:tblPr/>
              <a:tblGrid>
                <a:gridCol w="1657440"/>
                <a:gridCol w="1655640"/>
              </a:tblGrid>
              <a:tr h="866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48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material and method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96520" y="1699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Conformity index (CI) and OARs and PTV dose distrib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 3 patients a dosimetry comparison of statRT treatment vs conventional 3D-CRT was performed evalu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OARs and PTV dose distribu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material and method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925560" y="76500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75564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Mean overall treatment time (IN-OUT) was 106.3 min. Range: 48 - 1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resul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 rot="16200000">
            <a:off x="371520" y="3434760"/>
            <a:ext cx="21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TIME IN MINU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692360" y="5805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PATIEN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1749600" y="1268280"/>
          <a:ext cx="5789520" cy="44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268280"/>
                    <a:ext cx="57895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1054080"/>
            <a:ext cx="158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Black"/>
              </a:rPr>
              <a:t>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6407280" cy="3075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6378480" cy="1586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948360" y="2452680"/>
            <a:ext cx="2017800" cy="3286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resul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4"/>
          <a:stretch/>
        </p:blipFill>
        <p:spPr>
          <a:xfrm>
            <a:off x="5435640" y="5589720"/>
            <a:ext cx="351468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125000"/>
            <a:ext cx="489600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Patient</a:t>
            </a:r>
            <a:r>
              <a:rPr b="0" lang="it-IT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1623960" y="2381400"/>
          <a:ext cx="5684760" cy="35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2381400"/>
                    <a:ext cx="56847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7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resul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75772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0" i="1" lang="it-IT" sz="3200" spc="-1" strike="noStrike">
                <a:solidFill>
                  <a:srgbClr val="333300"/>
                </a:solidFill>
                <a:latin typeface="Arial"/>
              </a:rPr>
              <a:t>Time is precious when life is sho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78920" y="6093000"/>
            <a:ext cx="6697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333300"/>
                </a:solidFill>
                <a:latin typeface="Arial"/>
              </a:rPr>
              <a:t>The rapid access palliative radiotherapy program: blueprint for initiation of a one stop multidisciplinary bone metastases clinic</a:t>
            </a:r>
            <a:br>
              <a:rPr sz="1400"/>
            </a:br>
            <a:r>
              <a:rPr b="1" i="1" lang="it-IT" sz="1400" spc="-1" strike="noStrike">
                <a:solidFill>
                  <a:srgbClr val="333300"/>
                </a:solidFill>
                <a:latin typeface="Arial"/>
              </a:rPr>
              <a:t>A. Fairchild et al.:Support Care Cancer 2009;17:163-170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3662280" cy="183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2"/>
          <a:stretch/>
        </p:blipFill>
        <p:spPr>
          <a:xfrm>
            <a:off x="5931000" y="1382760"/>
            <a:ext cx="2457360" cy="2190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7"/>
          <p:cNvSpPr/>
          <p:nvPr/>
        </p:nvSpPr>
        <p:spPr>
          <a:xfrm>
            <a:off x="611280" y="3860640"/>
            <a:ext cx="763272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99"/>
                </a:solidFill>
                <a:latin typeface="Arial"/>
              </a:rPr>
              <a:t>Aim of symptomatic palliative radiotherap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328320" y="508464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00"/>
                </a:solidFill>
                <a:latin typeface="Arial"/>
              </a:rPr>
              <a:t>2 - Delivery of therapy and rapid access to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50920" y="4581360"/>
            <a:ext cx="58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00"/>
                </a:solidFill>
                <a:latin typeface="Arial"/>
              </a:rPr>
              <a:t>1 - Symptom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5975280" y="4508640"/>
            <a:ext cx="316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imes New Roman"/>
              </a:rPr>
              <a:t>At </a:t>
            </a: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Radiotherapy Department of Mode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palliative-</a:t>
            </a:r>
            <a:r>
              <a:rPr b="1" lang="it-IT" sz="1600" spc="-1" strike="noStrike">
                <a:solidFill>
                  <a:srgbClr val="000099"/>
                </a:solidFill>
                <a:latin typeface="Times New Roman"/>
              </a:rPr>
              <a:t>symptomatic</a:t>
            </a: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 radiotherapy accounts  for 22% of treat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(ANNUAL REPORT 200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STAT_2_3DCRT"/>
          <p:cNvPicPr/>
          <p:nvPr/>
        </p:nvPicPr>
        <p:blipFill>
          <a:blip r:embed="rId1"/>
          <a:stretch/>
        </p:blipFill>
        <p:spPr>
          <a:xfrm>
            <a:off x="163440" y="1413000"/>
            <a:ext cx="4479840" cy="311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365040" y="3933720"/>
            <a:ext cx="1830600" cy="14479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468360" y="5780160"/>
            <a:ext cx="32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g. 3: PdT e DVH calcolati per 3D-CRt con LINAC 18 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Stat_2_Tomo_NoColorWash"/>
          <p:cNvPicPr/>
          <p:nvPr/>
        </p:nvPicPr>
        <p:blipFill>
          <a:blip r:embed="rId3"/>
          <a:stretch/>
        </p:blipFill>
        <p:spPr>
          <a:xfrm>
            <a:off x="4500720" y="2133720"/>
            <a:ext cx="4478040" cy="3492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5508720" y="5924520"/>
            <a:ext cx="278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g. 4: PdT e DVH calcolati per Tomoterap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08000" y="76500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Black"/>
              </a:rPr>
              <a:t>Conformity index (CI) and OARs and PTV dose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resul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11280" y="1268280"/>
          <a:ext cx="7775640" cy="5181840"/>
        </p:xfrm>
        <a:graphic>
          <a:graphicData uri="http://schemas.openxmlformats.org/drawingml/2006/table">
            <a:tbl>
              <a:tblPr/>
              <a:tblGrid>
                <a:gridCol w="2368440"/>
                <a:gridCol w="1114560"/>
                <a:gridCol w="1755720"/>
                <a:gridCol w="1171440"/>
                <a:gridCol w="1365480"/>
              </a:tblGrid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 Index comparison of  (a) STAT-RT and (b) 3D-C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95 D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r>
                        <a:rPr b="1" lang="de-DE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,9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) </a:t>
                      </a:r>
                      <a:r>
                        <a:rPr b="1" lang="de-DE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,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 polmone s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7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 polmone d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AX midoll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5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84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95 D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) </a:t>
                      </a:r>
                      <a:r>
                        <a:rPr b="1" lang="en-GB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) </a:t>
                      </a:r>
                      <a:r>
                        <a:rPr b="1" lang="de-DE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2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AX midoll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9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9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AX esofa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6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 polmone d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2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 polmone s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1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3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95 D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) </a:t>
                      </a:r>
                      <a:r>
                        <a:rPr b="1" lang="en-GB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,6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) </a:t>
                      </a:r>
                      <a:r>
                        <a:rPr b="1" lang="de-DE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,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 Intesti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5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74 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110"/>
          <p:cNvSpPr/>
          <p:nvPr/>
        </p:nvSpPr>
        <p:spPr>
          <a:xfrm>
            <a:off x="1009440" y="765000"/>
            <a:ext cx="64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Black"/>
              </a:rPr>
              <a:t>Conformity index (CI) and OARs and PTV dose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11"/>
          <p:cNvSpPr/>
          <p:nvPr/>
        </p:nvSpPr>
        <p:spPr>
          <a:xfrm>
            <a:off x="539640" y="0"/>
            <a:ext cx="8385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3500" spc="-1" strike="noStrike">
                <a:solidFill>
                  <a:srgbClr val="000000"/>
                </a:solidFill>
                <a:latin typeface="Arial Black"/>
              </a:rPr>
              <a:t>- resul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26"/>
          <p:cNvSpPr/>
          <p:nvPr/>
        </p:nvSpPr>
        <p:spPr>
          <a:xfrm>
            <a:off x="5148360" y="1628640"/>
            <a:ext cx="647640" cy="216000"/>
          </a:xfrm>
          <a:prstGeom prst="rect">
            <a:avLst/>
          </a:prstGeom>
          <a:solidFill>
            <a:srgbClr val="006600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27"/>
          <p:cNvSpPr/>
          <p:nvPr/>
        </p:nvSpPr>
        <p:spPr>
          <a:xfrm>
            <a:off x="7667640" y="1628640"/>
            <a:ext cx="647640" cy="216000"/>
          </a:xfrm>
          <a:prstGeom prst="rect">
            <a:avLst/>
          </a:prstGeom>
          <a:solidFill>
            <a:srgbClr val="006600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28"/>
          <p:cNvSpPr/>
          <p:nvPr/>
        </p:nvSpPr>
        <p:spPr>
          <a:xfrm>
            <a:off x="5148360" y="3429000"/>
            <a:ext cx="647640" cy="216000"/>
          </a:xfrm>
          <a:prstGeom prst="rect">
            <a:avLst/>
          </a:prstGeom>
          <a:solidFill>
            <a:srgbClr val="006600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29"/>
          <p:cNvSpPr/>
          <p:nvPr/>
        </p:nvSpPr>
        <p:spPr>
          <a:xfrm>
            <a:off x="7669080" y="3429000"/>
            <a:ext cx="648000" cy="216000"/>
          </a:xfrm>
          <a:prstGeom prst="rect">
            <a:avLst/>
          </a:prstGeom>
          <a:solidFill>
            <a:srgbClr val="006600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30"/>
          <p:cNvSpPr/>
          <p:nvPr/>
        </p:nvSpPr>
        <p:spPr>
          <a:xfrm>
            <a:off x="5148360" y="5589720"/>
            <a:ext cx="647640" cy="215640"/>
          </a:xfrm>
          <a:prstGeom prst="rect">
            <a:avLst/>
          </a:prstGeom>
          <a:solidFill>
            <a:srgbClr val="006600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31"/>
          <p:cNvSpPr/>
          <p:nvPr/>
        </p:nvSpPr>
        <p:spPr>
          <a:xfrm>
            <a:off x="7667640" y="5589720"/>
            <a:ext cx="647640" cy="215640"/>
          </a:xfrm>
          <a:prstGeom prst="rect">
            <a:avLst/>
          </a:prstGeom>
          <a:solidFill>
            <a:srgbClr val="006600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32"/>
          <p:cNvSpPr/>
          <p:nvPr/>
        </p:nvSpPr>
        <p:spPr>
          <a:xfrm>
            <a:off x="5148360" y="2852640"/>
            <a:ext cx="647640" cy="2160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33"/>
          <p:cNvSpPr/>
          <p:nvPr/>
        </p:nvSpPr>
        <p:spPr>
          <a:xfrm>
            <a:off x="7667640" y="2852640"/>
            <a:ext cx="647640" cy="2160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34"/>
          <p:cNvSpPr/>
          <p:nvPr/>
        </p:nvSpPr>
        <p:spPr>
          <a:xfrm>
            <a:off x="5148360" y="6165720"/>
            <a:ext cx="647640" cy="2160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35"/>
          <p:cNvSpPr/>
          <p:nvPr/>
        </p:nvSpPr>
        <p:spPr>
          <a:xfrm>
            <a:off x="7667640" y="6165720"/>
            <a:ext cx="647640" cy="2160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36"/>
          <p:cNvSpPr/>
          <p:nvPr/>
        </p:nvSpPr>
        <p:spPr>
          <a:xfrm>
            <a:off x="5148360" y="4941720"/>
            <a:ext cx="647640" cy="2160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37"/>
          <p:cNvSpPr/>
          <p:nvPr/>
        </p:nvSpPr>
        <p:spPr>
          <a:xfrm>
            <a:off x="7669080" y="4941720"/>
            <a:ext cx="648000" cy="2160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Arial Black"/>
              </a:rPr>
              <a:t>StatRT </a:t>
            </a:r>
            <a:r>
              <a:rPr b="1" lang="it-IT" sz="44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it-IT" sz="4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it-IT" sz="44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74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TO DEFINE ORGANIZATIONAL PROCEDURES AND THE COSTS/BENEFITS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41440" y="2779560"/>
            <a:ext cx="4822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plian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41440" y="3357720"/>
            <a:ext cx="51102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937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-treatments after previous palliative 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619280" y="5084640"/>
            <a:ext cx="39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raining of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5823000" y="2708280"/>
            <a:ext cx="3128760" cy="399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j0422773"/>
          <p:cNvPicPr/>
          <p:nvPr/>
        </p:nvPicPr>
        <p:blipFill>
          <a:blip r:embed="rId2"/>
          <a:stretch/>
        </p:blipFill>
        <p:spPr>
          <a:xfrm>
            <a:off x="250920" y="501336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229" name="Oval 16"/>
          <p:cNvSpPr/>
          <p:nvPr/>
        </p:nvSpPr>
        <p:spPr>
          <a:xfrm>
            <a:off x="755640" y="2349360"/>
            <a:ext cx="4608360" cy="25196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-36360" y="333360"/>
            <a:ext cx="5616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00"/>
                </a:solidFill>
                <a:latin typeface="Arial Black"/>
              </a:rPr>
              <a:t>Recent</a:t>
            </a:r>
            <a:r>
              <a:rPr b="1" lang="it-IT" sz="1800" spc="-1" strike="noStrike">
                <a:solidFill>
                  <a:srgbClr val="333300"/>
                </a:solidFill>
                <a:latin typeface="Arial Black"/>
              </a:rPr>
              <a:t> </a:t>
            </a:r>
            <a:r>
              <a:rPr b="1" lang="it-IT" sz="1800" spc="-1" strike="noStrike">
                <a:solidFill>
                  <a:srgbClr val="333300"/>
                </a:solidFill>
                <a:latin typeface="Arial Black"/>
              </a:rPr>
              <a:t>work has investigated the feasibility of online planning of palliative radiation therapy using kilovoltage  cone-beam CT and external treatment planning and verify and record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560844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108000" y="5300640"/>
            <a:ext cx="8705880" cy="7095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3"/>
          <a:srcRect l="5207" t="0" r="5207" b="0"/>
          <a:stretch/>
        </p:blipFill>
        <p:spPr>
          <a:xfrm>
            <a:off x="5724360" y="260280"/>
            <a:ext cx="3203640" cy="260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6007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475160" cy="11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00"/>
                </a:solidFill>
                <a:latin typeface="Arial Black"/>
              </a:rPr>
              <a:t>TomoTherap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5040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00"/>
                </a:solidFill>
                <a:latin typeface="Arial"/>
              </a:rPr>
              <a:t>The  TomoTherapy Incorporated has develop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2 new software pack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00"/>
                </a:solidFill>
                <a:latin typeface="Arial"/>
              </a:rPr>
              <a:t>for the tomotherapy Hi-Art treatment system for palliative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570640" y="1484280"/>
            <a:ext cx="3363840" cy="4251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395280" y="551664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StatRT</a:t>
            </a:r>
            <a:r>
              <a:rPr b="0" lang="it-IT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465300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TomoDirect (200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Arial Black"/>
              </a:rPr>
              <a:t>TomoDi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2565360"/>
            <a:ext cx="7559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00"/>
                </a:solidFill>
                <a:latin typeface="Arial"/>
              </a:rPr>
              <a:t>Clinicians can choose several discrete angles and the optimal modulation level required for delivery,based on specific patient therapy go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84360" y="1195560"/>
            <a:ext cx="763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00"/>
                </a:solidFill>
                <a:latin typeface="Arial"/>
              </a:rPr>
              <a:t>This innovative new technology allows Hi-Art system users to quickly plan and deliver advanced TomoTherapy  radiation treatments with a series of linear beam paths,rather than the existing helical pat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705636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2"/>
          <a:stretch/>
        </p:blipFill>
        <p:spPr>
          <a:xfrm>
            <a:off x="3419640" y="4667400"/>
            <a:ext cx="52178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52671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Arial Black"/>
              </a:rPr>
              <a:t>Stat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5689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The software  is designed to enhance the quality of care for time-critical cancer c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841400" cy="6356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395280" y="3189240"/>
            <a:ext cx="56674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StatRT saves preciou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395280" y="3621240"/>
            <a:ext cx="6553080" cy="423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539640" y="4484520"/>
            <a:ext cx="4803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StatRT is patient-cen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3"/>
          <a:stretch/>
        </p:blipFill>
        <p:spPr>
          <a:xfrm>
            <a:off x="539640" y="4916520"/>
            <a:ext cx="6215040" cy="480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395280" y="5708520"/>
            <a:ext cx="648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StatRT is versatility without com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611280" y="6141960"/>
            <a:ext cx="606240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280" y="4146120"/>
            <a:ext cx="741708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00"/>
                </a:solidFill>
                <a:latin typeface="Arial"/>
              </a:rPr>
              <a:t>At the Radiotherapy Department of Modena a preliminary analysis of workflow and feasibility of rapid palliative irradiation with helical tomotherapy</a:t>
            </a:r>
            <a:r>
              <a:rPr b="0" lang="it-IT" sz="2800" spc="-1" strike="noStrike">
                <a:solidFill>
                  <a:srgbClr val="333300"/>
                </a:solidFill>
                <a:latin typeface="Arial"/>
              </a:rPr>
              <a:t> has been carryed out </a:t>
            </a:r>
            <a:r>
              <a:rPr b="0" lang="en-GB" sz="2800" spc="-1" strike="noStrike">
                <a:solidFill>
                  <a:srgbClr val="333300"/>
                </a:solidFill>
                <a:latin typeface="Arial"/>
              </a:rPr>
              <a:t>in a prospective series of symptomatic metastatic pat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95280" y="404640"/>
            <a:ext cx="838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Arial Black"/>
              </a:rPr>
              <a:t>Stat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9" descr="IMG_0630_ridotta"/>
          <p:cNvPicPr/>
          <p:nvPr/>
        </p:nvPicPr>
        <p:blipFill>
          <a:blip r:embed="rId1"/>
          <a:stretch/>
        </p:blipFill>
        <p:spPr>
          <a:xfrm>
            <a:off x="3203640" y="311040"/>
            <a:ext cx="5761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93116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99"/>
                </a:solidFill>
                <a:latin typeface="Arial Black"/>
              </a:rPr>
              <a:t>StatR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2880" y="4365360"/>
            <a:ext cx="80071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00"/>
                </a:solidFill>
                <a:latin typeface="Arial"/>
              </a:rPr>
              <a:t>3 -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o evaluate the clinical benefit of employing a helical tomotherapy to scan, plan, and deliver a radiation treatment in a single radiotherapy appoin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26920" y="2232000"/>
            <a:ext cx="705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1 - to establish the workflow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26920" y="3338640"/>
            <a:ext cx="705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2 - to define the proced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50920" y="112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99"/>
                </a:solidFill>
                <a:latin typeface="Arial Black"/>
              </a:rPr>
              <a:t>StatRT</a:t>
            </a:r>
            <a:br>
              <a:rPr sz="3500"/>
            </a:br>
            <a:r>
              <a:rPr b="1" lang="it-IT" sz="3500" spc="-1" strike="noStrike">
                <a:solidFill>
                  <a:srgbClr val="333300"/>
                </a:solidFill>
                <a:latin typeface="Arial Black"/>
              </a:rPr>
              <a:t>material e methods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4427640" y="3851280"/>
          <a:ext cx="4359240" cy="300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51280"/>
                    <a:ext cx="435924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6"/>
          <p:cNvSpPr/>
          <p:nvPr/>
        </p:nvSpPr>
        <p:spPr>
          <a:xfrm>
            <a:off x="395280" y="3213000"/>
            <a:ext cx="770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28.6% were re-treatments to previously irradiated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24000" y="2708280"/>
            <a:ext cx="8424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12 pts received RT to 1 single site and 2 pts were irradiated to 2 metastatic sites in a single treatment s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4005360"/>
          <a:ext cx="3600360" cy="2398680"/>
        </p:xfrm>
        <a:graphic>
          <a:graphicData uri="http://schemas.openxmlformats.org/drawingml/2006/table">
            <a:tbl>
              <a:tblPr/>
              <a:tblGrid>
                <a:gridCol w="2552760"/>
                <a:gridCol w="1047600"/>
              </a:tblGrid>
              <a:tr h="7444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istributions of palliation sit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93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one metasta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333300"/>
                      </a:solidFill>
                    </a:lnR>
                    <a:lnT w="9360">
                      <a:solidFill>
                        <a:srgbClr val="333300"/>
                      </a:solidFill>
                    </a:lnT>
                    <a:lnB w="93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333300"/>
                      </a:solidFill>
                    </a:lnT>
                    <a:lnB w="93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Rectal blee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333300"/>
                      </a:solidFill>
                    </a:lnR>
                    <a:lnT w="9360">
                      <a:solidFill>
                        <a:srgbClr val="333300"/>
                      </a:solidFill>
                    </a:lnT>
                    <a:lnB w="93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333300"/>
                      </a:solidFill>
                    </a:lnT>
                    <a:lnB w="93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Lung metasta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333300"/>
                      </a:solidFill>
                    </a:lnR>
                    <a:lnT w="9360">
                      <a:solidFill>
                        <a:srgbClr val="3333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3333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302"/>
          <p:cNvSpPr/>
          <p:nvPr/>
        </p:nvSpPr>
        <p:spPr>
          <a:xfrm>
            <a:off x="5867280" y="3645000"/>
            <a:ext cx="1543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-treat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62"/>
          <p:cNvSpPr/>
          <p:nvPr/>
        </p:nvSpPr>
        <p:spPr>
          <a:xfrm>
            <a:off x="324000" y="1628640"/>
            <a:ext cx="8208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00"/>
                </a:solidFill>
                <a:latin typeface="Arial"/>
              </a:rPr>
              <a:t>March 2009-October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00"/>
                </a:solidFill>
                <a:latin typeface="Arial"/>
              </a:rPr>
              <a:t>14 consecutive pts (64% males,36% females; m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ean age: 67.7 years, range 48-95 yrs) with symptomatic metastasis have been prospectively accru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4:25:05Z</dcterms:created>
  <dc:creator>marco</dc:creator>
  <dc:description/>
  <dc:language>en-US</dc:language>
  <cp:lastModifiedBy>Lenovo User</cp:lastModifiedBy>
  <dcterms:modified xsi:type="dcterms:W3CDTF">2009-11-14T08:02:36Z</dcterms:modified>
  <cp:revision>213</cp:revision>
  <dc:subject/>
  <dc:title>Palliative therapy consitutes nearly 50% of the modern radiation therapy workload!(vedi articolo)</dc:title>
</cp:coreProperties>
</file>