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0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15.wmf" ContentType="image/x-wmf"/>
  <Override PartName="/ppt/media/image14.jpeg" ContentType="image/jpe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E6A-BDE6-41CF-BD60-E9B0C138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319-9E17-4CDA-8C44-5F774ECF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C0B-A55E-46A5-9D3F-5FEE059C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705-9897-48AC-8917-EF367B6A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457-4AFA-4EE5-8F38-CE037B91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962-3CCD-41D3-A80F-4C527348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44B-0FED-4A4B-9171-E0590BA4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BC0-1F92-41AC-88D9-79BA652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41B-37AD-412B-8934-A79D9551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549-43E2-475C-BFC4-B12208F8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15A-FFE8-4D19-828B-DF12762B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A5C-C440-4FA0-8A0F-9C3C7B9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2A2E-CA4A-4C21-AD0D-AD32E24293D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4437000"/>
            <a:ext cx="7202520" cy="13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diotherapy Department S.Orsola-Malpighi Bolog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f. Enza Barb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82560" y="346860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.Guid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, A.Cecconi, F.Bunkheila, S.Cammell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.Veraldi., Barbieri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38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current chemotherapy with intensity-modulated radiation therapy for head-and-neck cancer: a retrospective single institutio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54560" y="912960"/>
            <a:ext cx="44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tients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03280" y="2924280"/>
          <a:ext cx="7129440" cy="3162240"/>
        </p:xfrm>
        <a:graphic>
          <a:graphicData uri="http://schemas.openxmlformats.org/drawingml/2006/table">
            <a:tbl>
              <a:tblPr/>
              <a:tblGrid>
                <a:gridCol w="3456000"/>
                <a:gridCol w="3673440"/>
              </a:tblGrid>
              <a:tr h="1411200">
                <a:tc>
                  <a:txBody>
                    <a:bodyPr lIns="90000" rIns="90000" tIns="19044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s treated for curative intent (M/F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(29/1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19044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 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ropharynx/nasopharynx (32/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19044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yrs (range,37-7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42"/>
          <p:cNvSpPr/>
          <p:nvPr/>
        </p:nvSpPr>
        <p:spPr>
          <a:xfrm>
            <a:off x="1906560" y="1628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ril 2006 - June 2009, were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83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atients with IM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59280" y="18864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6"/>
          <p:cNvGraphicFramePr/>
          <p:nvPr/>
        </p:nvGraphicFramePr>
        <p:xfrm>
          <a:off x="4851360" y="1773360"/>
          <a:ext cx="403380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1360" y="1773360"/>
                    <a:ext cx="403380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0"/>
          <p:cNvGraphicFramePr/>
          <p:nvPr/>
        </p:nvGraphicFramePr>
        <p:xfrm>
          <a:off x="339840" y="1749600"/>
          <a:ext cx="4152960" cy="42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840" y="1749600"/>
                    <a:ext cx="415296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13"/>
          <p:cNvSpPr/>
          <p:nvPr/>
        </p:nvSpPr>
        <p:spPr>
          <a:xfrm>
            <a:off x="1348560" y="1433520"/>
            <a:ext cx="2041560" cy="5205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ro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27320" y="1413000"/>
            <a:ext cx="2279160" cy="5205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aso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Nasopharynx cancer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70 Gy (2.12 Gy/fx) were prescribed to the region of macroscopic tumor(PTV1) , 59.4 Gy (1.8 Gy/fx)   to the region of high-risk subclinical disease (PTV2)  and 50.4 Gy (1.8 Gy/fx)  to the region of low-risk subclinical disease (PTV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Oropharynx cancer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66 Gy (2.2 Gy/fx), 60Gy (2 Gy/fx) and 54 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1.8 Gy/fx)  were the prescribed doses to the PTV1, PTV2 and PTV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omitant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isplati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based chemotherapy was given to 38 pati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1-4 cy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44760" y="696960"/>
            <a:ext cx="42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terial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013920" y="26028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arget Delin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569440" cy="4996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3"/>
          <p:cNvSpPr/>
          <p:nvPr/>
        </p:nvSpPr>
        <p:spPr>
          <a:xfrm>
            <a:off x="1550880" y="6273720"/>
            <a:ext cx="5622840" cy="3682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TV were significantly changed by combined PET/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819840" cy="6667560"/>
          </a:xfrm>
          <a:prstGeom prst="rect">
            <a:avLst/>
          </a:prstGeom>
          <a:ln w="0">
            <a:noFill/>
          </a:ln>
        </p:spPr>
      </p:pic>
      <p:sp>
        <p:nvSpPr>
          <p:cNvPr id="98" name="Freeform 10"/>
          <p:cNvSpPr/>
          <p:nvPr/>
        </p:nvSpPr>
        <p:spPr>
          <a:xfrm>
            <a:off x="4067280" y="3068640"/>
            <a:ext cx="649080" cy="647640"/>
          </a:xfrm>
          <a:custGeom>
            <a:avLst/>
            <a:gdLst>
              <a:gd name="textAreaLeft" fmla="*/ 0 w 649080"/>
              <a:gd name="textAreaRight" fmla="*/ 649440 w 649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391" h="353">
                <a:moveTo>
                  <a:pt x="54" y="53"/>
                </a:moveTo>
                <a:cubicBezTo>
                  <a:pt x="32" y="73"/>
                  <a:pt x="23" y="137"/>
                  <a:pt x="23" y="137"/>
                </a:cubicBezTo>
                <a:cubicBezTo>
                  <a:pt x="31" y="299"/>
                  <a:pt x="0" y="312"/>
                  <a:pt x="137" y="326"/>
                </a:cubicBezTo>
                <a:cubicBezTo>
                  <a:pt x="216" y="353"/>
                  <a:pt x="289" y="319"/>
                  <a:pt x="364" y="303"/>
                </a:cubicBezTo>
                <a:cubicBezTo>
                  <a:pt x="391" y="228"/>
                  <a:pt x="372" y="88"/>
                  <a:pt x="296" y="38"/>
                </a:cubicBezTo>
                <a:cubicBezTo>
                  <a:pt x="277" y="10"/>
                  <a:pt x="266" y="11"/>
                  <a:pt x="235" y="0"/>
                </a:cubicBezTo>
                <a:cubicBezTo>
                  <a:pt x="207" y="3"/>
                  <a:pt x="179" y="2"/>
                  <a:pt x="152" y="8"/>
                </a:cubicBezTo>
                <a:cubicBezTo>
                  <a:pt x="143" y="10"/>
                  <a:pt x="137" y="19"/>
                  <a:pt x="129" y="23"/>
                </a:cubicBezTo>
                <a:cubicBezTo>
                  <a:pt x="114" y="31"/>
                  <a:pt x="92" y="34"/>
                  <a:pt x="76" y="38"/>
                </a:cubicBezTo>
                <a:cubicBezTo>
                  <a:pt x="59" y="64"/>
                  <a:pt x="67" y="68"/>
                  <a:pt x="54" y="53"/>
                </a:cubicBez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7108560" y="2498760"/>
            <a:ext cx="1043280" cy="398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GTV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103160" y="4083120"/>
            <a:ext cx="119736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GTV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agliar5"/>
          <p:cNvPicPr/>
          <p:nvPr/>
        </p:nvPicPr>
        <p:blipFill>
          <a:blip r:embed="rId1"/>
          <a:stretch/>
        </p:blipFill>
        <p:spPr>
          <a:xfrm>
            <a:off x="1449360" y="838080"/>
            <a:ext cx="6399360" cy="533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Pagliar6"/>
          <p:cNvPicPr/>
          <p:nvPr/>
        </p:nvPicPr>
        <p:blipFill>
          <a:blip r:embed="rId2"/>
          <a:stretch/>
        </p:blipFill>
        <p:spPr>
          <a:xfrm>
            <a:off x="1447920" y="838080"/>
            <a:ext cx="6399000" cy="533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agliar7"/>
          <p:cNvPicPr/>
          <p:nvPr/>
        </p:nvPicPr>
        <p:blipFill>
          <a:blip r:embed="rId3"/>
          <a:stretch/>
        </p:blipFill>
        <p:spPr>
          <a:xfrm>
            <a:off x="1449360" y="838080"/>
            <a:ext cx="6399360" cy="533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Pagliar8"/>
          <p:cNvPicPr/>
          <p:nvPr/>
        </p:nvPicPr>
        <p:blipFill>
          <a:blip r:embed="rId4"/>
          <a:stretch/>
        </p:blipFill>
        <p:spPr>
          <a:xfrm>
            <a:off x="1447920" y="838080"/>
            <a:ext cx="6399000" cy="533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Pagliar9"/>
          <p:cNvPicPr/>
          <p:nvPr/>
        </p:nvPicPr>
        <p:blipFill>
          <a:blip r:embed="rId5"/>
          <a:stretch/>
        </p:blipFill>
        <p:spPr>
          <a:xfrm>
            <a:off x="1449360" y="838080"/>
            <a:ext cx="6399360" cy="533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agliar11"/>
          <p:cNvPicPr/>
          <p:nvPr/>
        </p:nvPicPr>
        <p:blipFill>
          <a:blip r:embed="rId6"/>
          <a:stretch/>
        </p:blipFill>
        <p:spPr>
          <a:xfrm>
            <a:off x="1447920" y="838080"/>
            <a:ext cx="6399000" cy="53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711960" y="55728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68360" y="1413000"/>
            <a:ext cx="8351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Locoregional contro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88% after a mean period of follow-up 12.7 months (range 2-41 month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 cases presented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umor primary relapse and nodal metast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fter 6 and 7 month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ases develop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dal metastasis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ulmonary metastatic sprea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4 and 17 mon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ute reactions were mild to moderate: mucositis ( 35% grade 1, 64% Grad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 patient had grade 3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711960" y="55728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08200" y="1197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ivary-gland function was assessed in 22 pts by quantitative scinti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1979640" y="1989000"/>
          <a:ext cx="5406840" cy="18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89000"/>
                    <a:ext cx="54068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9"/>
          <p:cNvGraphicFramePr/>
          <p:nvPr/>
        </p:nvGraphicFramePr>
        <p:xfrm>
          <a:off x="1979640" y="4076640"/>
          <a:ext cx="5400720" cy="194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76640"/>
                    <a:ext cx="54007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9"/>
          <p:cNvSpPr/>
          <p:nvPr/>
        </p:nvSpPr>
        <p:spPr>
          <a:xfrm>
            <a:off x="1763640" y="812880"/>
            <a:ext cx="5508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684360" y="2419200"/>
            <a:ext cx="7921440" cy="15861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retrospective analysis reveals a very good outcome and an acceptable toxicity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898200" y="2224080"/>
            <a:ext cx="7749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rge RCT comparing IMRT vs non-IM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with long period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aluating both local control and overal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 primary end-po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691280" y="866880"/>
            <a:ext cx="57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 FUTUR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295280" y="1665360"/>
          <a:ext cx="6858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65360"/>
                    <a:ext cx="6858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"/>
          <p:cNvSpPr/>
          <p:nvPr/>
        </p:nvSpPr>
        <p:spPr>
          <a:xfrm>
            <a:off x="2362320" y="373392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vention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470560" y="362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851440" y="3733920"/>
            <a:ext cx="275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formal Radiotherapy (CF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861080" y="552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319640" y="487692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FRT with intensity modulation (IM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79640" y="80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895480" y="86832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556360" y="33660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adiatio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80880" y="10666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772240" y="114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 19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57200" y="3581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581280" y="868320"/>
            <a:ext cx="25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830960" y="17542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nsity-Modulated Radiotherapy (IM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51680" y="2448000"/>
            <a:ext cx="817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 advanced form of 3D-conformal radiotherapy (3D-CR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at uses non-uniform radiation beam intensities inci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n the patient that have been determined using vari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uter-based optimiz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92040" y="5962680"/>
            <a:ext cx="66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port of the IMRT Collaborative Working Group: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t J Radiat Oncol Biol Phy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51:880-914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58920" y="1533600"/>
          <a:ext cx="71294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33600"/>
                    <a:ext cx="71294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3"/>
          <p:cNvSpPr/>
          <p:nvPr/>
        </p:nvSpPr>
        <p:spPr>
          <a:xfrm>
            <a:off x="755640" y="5950080"/>
            <a:ext cx="81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port of the IMRT Collaborative Working Group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t J Radiat Oncol biol Phy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51:880-914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177800" y="87948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M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47720" y="1773360"/>
            <a:ext cx="78627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 produce much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higher conformal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f dose distributions than those achievable with conventional 3D conformal radiatio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improve spar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f normal tissues in many tumo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optimize the dose distribution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especially for target volumes and organs at risk with complex shapes and conca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115880" y="91296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M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73392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04920" y="2168640"/>
            <a:ext cx="4495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RT planning for sinonasal canc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shape and distances between the isodose lines represent concave dose gradients to spare the optic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284200" y="61740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ead and Neck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magine 8" descr=""/>
          <p:cNvPicPr/>
          <p:nvPr/>
        </p:nvPicPr>
        <p:blipFill>
          <a:blip r:embed="rId1"/>
          <a:stretch/>
        </p:blipFill>
        <p:spPr>
          <a:xfrm>
            <a:off x="3352680" y="914400"/>
            <a:ext cx="5791320" cy="4054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5307480" y="6539040"/>
            <a:ext cx="362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v Veldeman et al. Lancet Oncol. 9:367-375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9"/>
          <p:cNvSpPr/>
          <p:nvPr/>
        </p:nvSpPr>
        <p:spPr>
          <a:xfrm>
            <a:off x="76320" y="1120680"/>
            <a:ext cx="335268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 and neck canc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20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one RCT and 19 case 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state canc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16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ynaecological canc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5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NS tumour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3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east Canc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4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ng cancer and mesotheliom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trointestinal canc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5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7400" y="4943520"/>
            <a:ext cx="6330960" cy="7642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is review shows evidence of reduced toxicity for various tumour sites by use of IM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09160" y="114480"/>
            <a:ext cx="72781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vidence behind use of intensity-modulated radiotherap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 systematic review of comparative clinic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585000" y="5772240"/>
            <a:ext cx="7032600" cy="7642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 findings regarding local control and overall survi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re generally inconclu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068720" y="120168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922320" y="2131200"/>
            <a:ext cx="77533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fficac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xic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head and neck cancer treatment with intensity-modulated radiation therapy (IMRT) and concurrent chemotherapy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162440" y="3105000"/>
            <a:ext cx="3317040" cy="21780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ers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ep-and-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multane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ted boost (SI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196960" y="2727360"/>
            <a:ext cx="3655080" cy="130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asopharyngeal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opharyngeal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09600" y="2197080"/>
            <a:ext cx="32288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livery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5458320" y="1851120"/>
            <a:ext cx="31298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3:50:41Z</dcterms:created>
  <dc:creator> </dc:creator>
  <dc:description/>
  <dc:language>en-US</dc:language>
  <cp:lastModifiedBy>Lenovo User</cp:lastModifiedBy>
  <dcterms:modified xsi:type="dcterms:W3CDTF">2009-11-15T10:14:06Z</dcterms:modified>
  <cp:revision>59</cp:revision>
  <dc:subject/>
  <dc:title>Diapositiva 1</dc:title>
</cp:coreProperties>
</file>