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png" ContentType="image/png"/>
  <Override PartName="/ppt/media/image3.jpeg" ContentType="image/jpeg"/>
  <Override PartName="/ppt/media/image16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367-B241-44C3-AFAC-3DB62F08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85B-93E7-48E1-97CF-5E08305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8E3-F8F6-4013-BC59-FA96E42F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44F-F194-4124-B9EC-F872C58E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294-28A0-49D4-B206-AA2F148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2ED-961E-42FA-9937-879EA5D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8F8-AC31-4EF5-8AE8-86C5649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E7A-8A37-4CD9-8071-BABA2878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91E-E497-4D33-B31F-CEBCA6D8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C8D-1200-4207-87CB-4EDE61B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08F-98DA-4768-9A53-BAFB51C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E66-550A-4DC1-A2FF-95B1B62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834-FA12-45BE-A215-6D06658A76D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695600" y="115920"/>
            <a:ext cx="7296120" cy="2653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673280" y="351792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. Maurizi, F. Bertoni, A. Bonetta, R. Bortolus, G. Fell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. Frezza, M. Marcenaro, F. Mauro, S. Meregalli, G. Moro, S. Nava, M. Signor, V. Vavassori, G. Zini, G. Malinv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600200" y="6165720"/>
            <a:ext cx="738972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808080"/>
                </a:solidFill>
                <a:latin typeface="Arial"/>
              </a:rPr>
              <a:t>AIRO National Working Group on Prostate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17840" y="693720"/>
            <a:ext cx="7418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mong 303 patients available for the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290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95.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) are sti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a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243 patient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80.2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)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disease f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5-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biochemical control (B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71.1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ctuaria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5-y overall survi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(O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9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3 pts (4.3%) died (5 pts not for cancer related caus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95400" y="5646600"/>
          <a:ext cx="3036960" cy="1097280"/>
        </p:xfrm>
        <a:graphic>
          <a:graphicData uri="http://schemas.openxmlformats.org/drawingml/2006/table">
            <a:tbl>
              <a:tblPr/>
              <a:tblGrid>
                <a:gridCol w="1751040"/>
                <a:gridCol w="608040"/>
                <a:gridCol w="677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43"/>
          <p:cNvSpPr/>
          <p:nvPr/>
        </p:nvSpPr>
        <p:spPr>
          <a:xfrm>
            <a:off x="2471760" y="414972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9" descr=""/>
          <p:cNvPicPr/>
          <p:nvPr/>
        </p:nvPicPr>
        <p:blipFill>
          <a:blip r:embed="rId2"/>
          <a:srcRect l="0" t="10530" r="0" b="0"/>
          <a:stretch/>
        </p:blipFill>
        <p:spPr>
          <a:xfrm>
            <a:off x="1862280" y="2565360"/>
            <a:ext cx="2912760" cy="30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780160" y="5646600"/>
          <a:ext cx="2824200" cy="1097280"/>
        </p:xfrm>
        <a:graphic>
          <a:graphicData uri="http://schemas.openxmlformats.org/drawingml/2006/table">
            <a:tbl>
              <a:tblPr/>
              <a:tblGrid>
                <a:gridCol w="1538280"/>
                <a:gridCol w="608040"/>
                <a:gridCol w="677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8"/>
          <p:cNvSpPr/>
          <p:nvPr/>
        </p:nvSpPr>
        <p:spPr>
          <a:xfrm>
            <a:off x="6283440" y="417528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"/>
          <p:cNvPicPr/>
          <p:nvPr/>
        </p:nvPicPr>
        <p:blipFill>
          <a:blip r:embed="rId3"/>
          <a:srcRect l="0" t="10530" r="0" b="0"/>
          <a:stretch/>
        </p:blipFill>
        <p:spPr>
          <a:xfrm>
            <a:off x="5610240" y="2565360"/>
            <a:ext cx="2905200" cy="30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9" descr=""/>
          <p:cNvPicPr/>
          <p:nvPr/>
        </p:nvPicPr>
        <p:blipFill>
          <a:blip r:embed="rId1"/>
          <a:srcRect l="0" t="10530" r="0" b="0"/>
          <a:stretch/>
        </p:blipFill>
        <p:spPr>
          <a:xfrm>
            <a:off x="1546200" y="539640"/>
            <a:ext cx="6172200" cy="4894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635280" y="5300640"/>
          <a:ext cx="5305680" cy="1371600"/>
        </p:xfrm>
        <a:graphic>
          <a:graphicData uri="http://schemas.openxmlformats.org/drawingml/2006/table">
            <a:tbl>
              <a:tblPr/>
              <a:tblGrid>
                <a:gridCol w="3400560"/>
                <a:gridCol w="1905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Free SV (177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filtrated SV (126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4"/>
          <p:cNvSpPr/>
          <p:nvPr/>
        </p:nvSpPr>
        <p:spPr>
          <a:xfrm>
            <a:off x="7489800" y="4221000"/>
            <a:ext cx="140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Free 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7489800" y="4508640"/>
            <a:ext cx="165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filtrated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SV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6588000" y="292428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p = 0.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2" descr=""/>
          <p:cNvPicPr/>
          <p:nvPr/>
        </p:nvPicPr>
        <p:blipFill>
          <a:blip r:embed="rId1"/>
          <a:srcRect l="0" t="10530" r="0" b="0"/>
          <a:stretch/>
        </p:blipFill>
        <p:spPr>
          <a:xfrm>
            <a:off x="1546200" y="539640"/>
            <a:ext cx="6172200" cy="4894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0" y="5300640"/>
          <a:ext cx="4383000" cy="1371600"/>
        </p:xfrm>
        <a:graphic>
          <a:graphicData uri="http://schemas.openxmlformats.org/drawingml/2006/table">
            <a:tbl>
              <a:tblPr/>
              <a:tblGrid>
                <a:gridCol w="2478240"/>
                <a:gridCol w="1904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S &lt; 7 (93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S </a:t>
                      </a:r>
                      <a:r>
                        <a:rPr b="1" lang="it-IT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7 (210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4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7453440" y="4221000"/>
            <a:ext cx="1511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GS &lt;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7454880" y="4532400"/>
            <a:ext cx="1293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S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Arial"/>
              </a:rPr>
              <a:t>&gt;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6443640" y="292428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p = 0.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7" descr=""/>
          <p:cNvPicPr/>
          <p:nvPr/>
        </p:nvPicPr>
        <p:blipFill>
          <a:blip r:embed="rId1"/>
          <a:srcRect l="0" t="10530" r="0" b="0"/>
          <a:stretch/>
        </p:blipFill>
        <p:spPr>
          <a:xfrm>
            <a:off x="1546200" y="539640"/>
            <a:ext cx="6172200" cy="4894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916360" y="5300640"/>
          <a:ext cx="6038640" cy="1371600"/>
        </p:xfrm>
        <a:graphic>
          <a:graphicData uri="http://schemas.openxmlformats.org/drawingml/2006/table">
            <a:tbl>
              <a:tblPr/>
              <a:tblGrid>
                <a:gridCol w="3943080"/>
                <a:gridCol w="2095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Free Margins (53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ositive Margins (250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24"/>
          <p:cNvSpPr/>
          <p:nvPr/>
        </p:nvSpPr>
        <p:spPr>
          <a:xfrm>
            <a:off x="7451640" y="422100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Margin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7451640" y="4508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gin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5"/>
          <p:cNvSpPr/>
          <p:nvPr/>
        </p:nvSpPr>
        <p:spPr>
          <a:xfrm>
            <a:off x="6372360" y="287964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1" descr=""/>
          <p:cNvPicPr/>
          <p:nvPr/>
        </p:nvPicPr>
        <p:blipFill>
          <a:blip r:embed="rId1"/>
          <a:srcRect l="0" t="10530" r="0" b="0"/>
          <a:stretch/>
        </p:blipFill>
        <p:spPr>
          <a:xfrm>
            <a:off x="1546200" y="539640"/>
            <a:ext cx="6595920" cy="48927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572000" y="5300640"/>
          <a:ext cx="4425840" cy="1371600"/>
        </p:xfrm>
        <a:graphic>
          <a:graphicData uri="http://schemas.openxmlformats.org/drawingml/2006/table">
            <a:tbl>
              <a:tblPr/>
              <a:tblGrid>
                <a:gridCol w="2521080"/>
                <a:gridCol w="1904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T1-T2 (45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T3-T4 (258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32"/>
          <p:cNvSpPr/>
          <p:nvPr/>
        </p:nvSpPr>
        <p:spPr>
          <a:xfrm>
            <a:off x="6588000" y="287964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0.0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3" descr=""/>
          <p:cNvPicPr/>
          <p:nvPr/>
        </p:nvPicPr>
        <p:blipFill>
          <a:blip r:embed="rId1"/>
          <a:srcRect l="0" t="10530" r="0" b="0"/>
          <a:stretch/>
        </p:blipFill>
        <p:spPr>
          <a:xfrm>
            <a:off x="1546200" y="539640"/>
            <a:ext cx="6172200" cy="4894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435640" y="5300640"/>
          <a:ext cx="3478320" cy="1371600"/>
        </p:xfrm>
        <a:graphic>
          <a:graphicData uri="http://schemas.openxmlformats.org/drawingml/2006/table">
            <a:tbl>
              <a:tblPr/>
              <a:tblGrid>
                <a:gridCol w="2182680"/>
                <a:gridCol w="1295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N – (274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N + (29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48"/>
          <p:cNvSpPr/>
          <p:nvPr/>
        </p:nvSpPr>
        <p:spPr>
          <a:xfrm>
            <a:off x="7451640" y="422100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p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6659640" y="3814920"/>
            <a:ext cx="1152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6"/>
          <p:cNvSpPr/>
          <p:nvPr/>
        </p:nvSpPr>
        <p:spPr>
          <a:xfrm>
            <a:off x="7451640" y="4508640"/>
            <a:ext cx="8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p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1"/>
          <p:cNvSpPr/>
          <p:nvPr/>
        </p:nvSpPr>
        <p:spPr>
          <a:xfrm>
            <a:off x="6372360" y="287964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2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6"/>
          <p:cNvSpPr/>
          <p:nvPr/>
        </p:nvSpPr>
        <p:spPr>
          <a:xfrm>
            <a:off x="2987640" y="2349360"/>
            <a:ext cx="111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9 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9" descr=""/>
          <p:cNvPicPr/>
          <p:nvPr/>
        </p:nvPicPr>
        <p:blipFill>
          <a:blip r:embed="rId1"/>
          <a:srcRect l="0" t="10525" r="0" b="0"/>
          <a:stretch/>
        </p:blipFill>
        <p:spPr>
          <a:xfrm>
            <a:off x="1546200" y="539640"/>
            <a:ext cx="661500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995720" y="5300640"/>
          <a:ext cx="3969000" cy="1371600"/>
        </p:xfrm>
        <a:graphic>
          <a:graphicData uri="http://schemas.openxmlformats.org/drawingml/2006/table">
            <a:tbl>
              <a:tblPr/>
              <a:tblGrid>
                <a:gridCol w="2673360"/>
                <a:gridCol w="1295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PRT – (202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PRT+ (101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23"/>
          <p:cNvSpPr/>
          <p:nvPr/>
        </p:nvSpPr>
        <p:spPr>
          <a:xfrm>
            <a:off x="7451640" y="422100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659640" y="3814920"/>
            <a:ext cx="1657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P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7451640" y="4508640"/>
            <a:ext cx="8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6372360" y="287964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8" descr=""/>
          <p:cNvPicPr/>
          <p:nvPr/>
        </p:nvPicPr>
        <p:blipFill>
          <a:blip r:embed="rId1"/>
          <a:srcRect l="0" t="10531" r="0" b="0"/>
          <a:stretch/>
        </p:blipFill>
        <p:spPr>
          <a:xfrm>
            <a:off x="1546200" y="539640"/>
            <a:ext cx="6294600" cy="489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ioro 09 1 pag prog"/>
          <p:cNvPicPr/>
          <p:nvPr/>
        </p:nvPicPr>
        <p:blipFill>
          <a:blip r:embed="rId2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470560" y="5300640"/>
          <a:ext cx="3494160" cy="1371600"/>
        </p:xfrm>
        <a:graphic>
          <a:graphicData uri="http://schemas.openxmlformats.org/drawingml/2006/table">
            <a:tbl>
              <a:tblPr/>
              <a:tblGrid>
                <a:gridCol w="2198520"/>
                <a:gridCol w="1295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OT – (172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T+ (131 p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7451640" y="422100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659640" y="3814920"/>
            <a:ext cx="1152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451640" y="4508640"/>
            <a:ext cx="8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6372360" y="2879640"/>
            <a:ext cx="187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6516720" y="1844640"/>
            <a:ext cx="1008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2" descr=""/>
          <p:cNvPicPr/>
          <p:nvPr/>
        </p:nvPicPr>
        <p:blipFill>
          <a:blip r:embed="rId1"/>
          <a:srcRect l="0" t="10530" r="2800" b="0"/>
          <a:stretch/>
        </p:blipFill>
        <p:spPr>
          <a:xfrm>
            <a:off x="4976640" y="1884240"/>
            <a:ext cx="3562560" cy="290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"/>
          <p:cNvPicPr/>
          <p:nvPr/>
        </p:nvPicPr>
        <p:blipFill>
          <a:blip r:embed="rId2"/>
          <a:srcRect l="0" t="10530" r="0" b="0"/>
          <a:stretch/>
        </p:blipFill>
        <p:spPr>
          <a:xfrm>
            <a:off x="1403280" y="1870200"/>
            <a:ext cx="3667320" cy="2908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Result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ioro 09 1 pag prog"/>
          <p:cNvPicPr/>
          <p:nvPr/>
        </p:nvPicPr>
        <p:blipFill>
          <a:blip r:embed="rId3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3"/>
          <p:cNvSpPr/>
          <p:nvPr/>
        </p:nvSpPr>
        <p:spPr>
          <a:xfrm>
            <a:off x="8496360" y="4005360"/>
            <a:ext cx="68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</a:rPr>
              <a:t>&lt;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8531280" y="42037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ff"/>
                </a:solidFill>
                <a:uFillTx/>
                <a:latin typeface="Arial"/>
              </a:rPr>
              <a:t>&gt;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979640" y="3073320"/>
            <a:ext cx="1871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SimSun"/>
              </a:rPr>
              <a:t>p = 0.0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3995640" y="1125360"/>
            <a:ext cx="2592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5y-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92360" y="5157720"/>
          <a:ext cx="2628720" cy="1096920"/>
        </p:xfrm>
        <a:graphic>
          <a:graphicData uri="http://schemas.openxmlformats.org/drawingml/2006/table">
            <a:tbl>
              <a:tblPr/>
              <a:tblGrid>
                <a:gridCol w="1670040"/>
                <a:gridCol w="958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V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V infil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435640" y="5157720"/>
          <a:ext cx="2232000" cy="1096920"/>
        </p:xfrm>
        <a:graphic>
          <a:graphicData uri="http://schemas.openxmlformats.org/drawingml/2006/table">
            <a:tbl>
              <a:tblPr/>
              <a:tblGrid>
                <a:gridCol w="1247760"/>
                <a:gridCol w="984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y-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S &lt;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S </a:t>
                      </a:r>
                      <a:r>
                        <a:rPr b="1" lang="it-IT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75"/>
          <p:cNvSpPr/>
          <p:nvPr/>
        </p:nvSpPr>
        <p:spPr>
          <a:xfrm>
            <a:off x="5651640" y="3002040"/>
            <a:ext cx="1871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 = 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Van der kwast JCO 07"/>
          <p:cNvPicPr/>
          <p:nvPr/>
        </p:nvPicPr>
        <p:blipFill>
          <a:blip r:embed="rId2"/>
          <a:stretch/>
        </p:blipFill>
        <p:spPr>
          <a:xfrm>
            <a:off x="3740040" y="-27000"/>
            <a:ext cx="536904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Line 20"/>
          <p:cNvSpPr/>
          <p:nvPr/>
        </p:nvSpPr>
        <p:spPr>
          <a:xfrm flipH="1">
            <a:off x="7669080" y="1052640"/>
            <a:ext cx="1440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5219640" y="1268280"/>
            <a:ext cx="4320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512720" y="6296040"/>
            <a:ext cx="54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dentification of Patients With Prostate Cancer Who Benefit From Immediate Postoperative Radiotherapy: EORTC 22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1547640" y="-27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Van der Kwast TH, JCO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0205"/>
          <p:cNvPicPr/>
          <p:nvPr/>
        </p:nvPicPr>
        <p:blipFill>
          <a:blip r:embed="rId2"/>
          <a:stretch/>
        </p:blipFill>
        <p:spPr>
          <a:xfrm>
            <a:off x="4211640" y="2852640"/>
            <a:ext cx="2208240" cy="30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rcRect l="0" t="0" r="1494" b="4491"/>
          <a:stretch/>
        </p:blipFill>
        <p:spPr>
          <a:xfrm>
            <a:off x="1547640" y="115920"/>
            <a:ext cx="7632720" cy="2598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836720" y="609300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Retrospective Study: Survey  Jan  - Dec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"/>
          <p:cNvPicPr/>
          <p:nvPr/>
        </p:nvPicPr>
        <p:blipFill>
          <a:blip r:embed="rId2"/>
          <a:stretch/>
        </p:blipFill>
        <p:spPr>
          <a:xfrm>
            <a:off x="-36360" y="378000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"/>
          <p:cNvPicPr/>
          <p:nvPr/>
        </p:nvPicPr>
        <p:blipFill>
          <a:blip r:embed="rId3"/>
          <a:stretch/>
        </p:blipFill>
        <p:spPr>
          <a:xfrm>
            <a:off x="-36360" y="150660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9"/>
          <p:cNvSpPr/>
          <p:nvPr/>
        </p:nvSpPr>
        <p:spPr>
          <a:xfrm>
            <a:off x="89280" y="5445000"/>
            <a:ext cx="209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verall mortality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34920" y="3335400"/>
            <a:ext cx="4140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iochemical progression free survi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1619280" y="27144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  <a:ea typeface="Times New Roman"/>
              </a:rPr>
              <a:t>RCT</a:t>
            </a:r>
            <a:r>
              <a:rPr b="1" lang="it-IT" sz="2100" spc="-1" strike="noStrike">
                <a:solidFill>
                  <a:srgbClr val="99cc00"/>
                </a:solidFill>
                <a:latin typeface="Arial"/>
                <a:ea typeface="Times New Roman"/>
              </a:rPr>
              <a:t> EORTC 22911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(Bolla M et al., Lancet ’05)</a:t>
            </a:r>
            <a:r>
              <a:rPr b="1" lang="it-IT" sz="2100" spc="-1" strike="noStrike">
                <a:solidFill>
                  <a:srgbClr val="99cc00"/>
                </a:solidFill>
                <a:latin typeface="Arial"/>
                <a:ea typeface="Times New Roman"/>
              </a:rPr>
              <a:t>, SWOG 8794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hompson IM et al., Jama ’06)</a:t>
            </a:r>
            <a:r>
              <a:rPr b="1" lang="it-IT" sz="2100" spc="-1" strike="noStrike">
                <a:solidFill>
                  <a:srgbClr val="99cc00"/>
                </a:solidFill>
                <a:latin typeface="Arial"/>
                <a:ea typeface="Times New Roman"/>
              </a:rPr>
              <a:t>, GCS ARO 96-02/AUO AP 09/95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Wiegel T et al., abs. IJROBP ’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2"/>
          <p:cNvSpPr/>
          <p:nvPr/>
        </p:nvSpPr>
        <p:spPr>
          <a:xfrm>
            <a:off x="4916520" y="2565360"/>
            <a:ext cx="6094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3"/>
          <p:cNvSpPr/>
          <p:nvPr/>
        </p:nvSpPr>
        <p:spPr>
          <a:xfrm>
            <a:off x="6732720" y="2565360"/>
            <a:ext cx="1800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1547640" y="5950080"/>
            <a:ext cx="75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djuvant RT in pT3 or margin-positive prostate cancer: a systematic review and meta-analysis -  Morgan SC et al.,  RO 88 (2008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6948360" y="4653000"/>
            <a:ext cx="180036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5364000" y="4695840"/>
            <a:ext cx="609840" cy="388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Conclusions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47640" y="1052640"/>
            <a:ext cx="752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esults of this prospective multicenter study confirm literature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SimSun"/>
              </a:rPr>
              <a:t>GS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&gt;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SimSun"/>
              </a:rPr>
              <a:t>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SimSun"/>
              </a:rPr>
              <a:t>SV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can predict disease progr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SimSun"/>
              </a:rPr>
              <a:t>Adjuvant radiotherap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ppears to be able to compensate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  <a:ea typeface="SimSun"/>
              </a:rPr>
              <a:t>SM invol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Longer follow up is necessary to substantiate these early finding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763640" y="4428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rospective Study: Survey  Jan ‘02 - Dec ‘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979640" y="1362240"/>
            <a:ext cx="6697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adiotherapy Centers and  Coordinator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Avian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CRO) G. Bortolu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Biell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 Infermi ASL 12) G. Mor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Bolog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Civile Bellaria) G. Frezza, F. Salv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Candiol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RCC) G. Malinverni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Cremo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st. Ospitalieri) A. Bonetta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Genov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st. Naz. Tumori) S. Barra, M. Marcena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de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ASL Policlinico) F. Bertoni, P. Giacobazz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nz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Gerardo) S. Meregalli, E. Bonetto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nz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Policlinico) S. N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Raven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Villa M. Cecilia-Cotignola) F. Maur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Reggio Emili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Maria Nuova) G.Zini, C. Iot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Udine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Maria)  M. Sign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Varese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Di Circolo) V. Vavassori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83528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Thanks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087640" y="6294600"/>
            <a:ext cx="716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rtecipat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Centers Total 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ts enrolled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547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979640" y="549360"/>
            <a:ext cx="6697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adiotherapy Centers and  Coordinator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Avian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CRO) G. Bortolu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Biell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 Infermi ASL 12) G. Mor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Bolog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Civile Bellaria) G. Frezza, F. Salv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Candiol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RCC) G. Malinverni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Cremo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st. Ospitalieri) A. Bonetta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Genov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st. Naz. Tumori) S. Barra, M. Marcena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Lecc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A. Manzoni)  A. Colomb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ilano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Clinica San Pio X) R. Valdagn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de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ASL Policlinico) F. Bertoni, P. Giacobazz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nz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Gerardo) S. Meregalli, E. Bonetto 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Monz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Policlinico) S. N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Pavi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IRCCS Policlinico S. Matteo) L. Squil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Ravenn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Villa M. Cecilia-Cotignola) F. Maur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Reggio Emilia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Maria Nuova) G.Zi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Udine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S. Maria)  M. Sign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Varese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(Osp. Di Circolo) V. Vavassori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195640" y="638172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3640" y="4428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Retrospective Study: Survey  Jan  - Dec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547640" y="1197000"/>
            <a:ext cx="7596360" cy="48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artecipating Centers: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tients enrolled: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547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an Pts/Center: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an age:  65.6 y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ts &gt;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70 y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 157 pts (28.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Adiuvant R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within 6 months)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355 pt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65%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Salvage R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ecurrence - after 6 months)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"/>
              </a:rPr>
              <a:t>169 p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cally advanced stage (pT3-pT4)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411 pt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(7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763640" y="4428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Retrospective Study: Survey  Jan  - Dec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028960" y="880920"/>
            <a:ext cx="6359400" cy="5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Background</a:t>
            </a:r>
            <a:r>
              <a:rPr b="0" lang="it-IT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728720" y="4726080"/>
            <a:ext cx="723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To assess the impact of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SimSun"/>
              </a:rPr>
              <a:t>Adjuvant Radiotherap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on biochemical outcomes in this subgroup of prostate cancer patient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4"/>
          <p:cNvSpPr/>
          <p:nvPr/>
        </p:nvSpPr>
        <p:spPr>
          <a:xfrm>
            <a:off x="1690560" y="1495440"/>
            <a:ext cx="727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adical prostatectomy is the most common initial treatment for prostate can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atients with high-risk pathologic features have a 40% to 50% risk of developing biochemical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2028960" y="4121280"/>
            <a:ext cx="635940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547640" y="6237360"/>
            <a:ext cx="75614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836720" y="4428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rospective Study: Survey  Jan ‘02 - Dec ‘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47640" y="614520"/>
            <a:ext cx="7596360" cy="11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data 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16  Partecipating Cen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 available for analysis 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o. Patients /Center 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0"/>
          <p:cNvSpPr/>
          <p:nvPr/>
        </p:nvSpPr>
        <p:spPr>
          <a:xfrm>
            <a:off x="1835280" y="6524640"/>
            <a:ext cx="69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91"/>
          <p:cNvSpPr/>
          <p:nvPr/>
        </p:nvSpPr>
        <p:spPr>
          <a:xfrm>
            <a:off x="1547640" y="6237360"/>
            <a:ext cx="75614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97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98" descr="AD centres"/>
          <p:cNvPicPr/>
          <p:nvPr/>
        </p:nvPicPr>
        <p:blipFill>
          <a:blip r:embed="rId2"/>
          <a:stretch/>
        </p:blipFill>
        <p:spPr>
          <a:xfrm>
            <a:off x="3132000" y="1790640"/>
            <a:ext cx="4824720" cy="444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99"/>
          <p:cNvSpPr/>
          <p:nvPr/>
        </p:nvSpPr>
        <p:spPr>
          <a:xfrm>
            <a:off x="1836720" y="44280"/>
            <a:ext cx="7056360" cy="532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rospective Study: Survey  Jan ‘02 - Dec ‘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132000" y="3430440"/>
          <a:ext cx="4100760" cy="2664000"/>
        </p:xfrm>
        <a:graphic>
          <a:graphicData uri="http://schemas.openxmlformats.org/drawingml/2006/table">
            <a:tbl>
              <a:tblPr/>
              <a:tblGrid>
                <a:gridCol w="1530360"/>
                <a:gridCol w="1140120"/>
                <a:gridCol w="1430280"/>
              </a:tblGrid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 p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9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th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3"/>
          <p:cNvSpPr/>
          <p:nvPr/>
        </p:nvSpPr>
        <p:spPr>
          <a:xfrm>
            <a:off x="1619280" y="1052640"/>
            <a:ext cx="7416720" cy="22269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Between January 2002 and December 2003,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303 p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reated with radical prostatectomy and presenting at least one adverse prognostic factor 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nroll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2"/>
          <p:cNvSpPr/>
          <p:nvPr/>
        </p:nvSpPr>
        <p:spPr>
          <a:xfrm>
            <a:off x="1619280" y="-71280"/>
            <a:ext cx="752472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Materials and Methods</a:t>
            </a:r>
            <a:r>
              <a:rPr b="0" lang="it-IT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1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1547640" y="6237360"/>
            <a:ext cx="75614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2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Patients’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5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2079720" y="2924280"/>
          <a:ext cx="6453000" cy="2879640"/>
        </p:xfrm>
        <a:graphic>
          <a:graphicData uri="http://schemas.openxmlformats.org/drawingml/2006/table">
            <a:tbl>
              <a:tblPr/>
              <a:tblGrid>
                <a:gridCol w="3838320"/>
                <a:gridCol w="1460520"/>
                <a:gridCol w="11541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tient’s characteristic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 p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3-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 +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 Margi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 </a:t>
                      </a:r>
                      <a:r>
                        <a:rPr b="1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+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118"/>
          <p:cNvSpPr/>
          <p:nvPr/>
        </p:nvSpPr>
        <p:spPr>
          <a:xfrm>
            <a:off x="1549440" y="83664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250 pts (</a:t>
            </a: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SimSun"/>
              </a:rPr>
              <a:t>82.5%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presented 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positive surgical margins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258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pts (</a:t>
            </a: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SimSun"/>
              </a:rPr>
              <a:t>85.1%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) presented 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locally advanced dise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29 pts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SimSun"/>
              </a:rPr>
              <a:t>9.6%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) 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positive pelvic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126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pts (</a:t>
            </a: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SimSun"/>
              </a:rPr>
              <a:t>41.6%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) revealed 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seminal vesicles inva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210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pts (</a:t>
            </a: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SimSun"/>
              </a:rPr>
              <a:t>69.3%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) 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Gleason Score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SimSun"/>
              </a:rPr>
              <a:t> (GS) </a:t>
            </a:r>
            <a:r>
              <a:rPr b="1" lang="en-GB" sz="23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&gt;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  <a:ea typeface="SimSun"/>
              </a:rPr>
              <a:t>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0"/>
          <p:cNvSpPr/>
          <p:nvPr/>
        </p:nvSpPr>
        <p:spPr>
          <a:xfrm>
            <a:off x="1547640" y="6237360"/>
            <a:ext cx="75614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547640" y="216000"/>
            <a:ext cx="759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Treatmen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SimSun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619280" y="765000"/>
            <a:ext cx="752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SimSun"/>
              </a:rPr>
              <a:t>A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pts receiv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SimSun"/>
              </a:rPr>
              <a:t>3D conformal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SimSu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pts were treated 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prostatic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SimSun"/>
              </a:rPr>
              <a:t>33.3%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receiv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SimSun"/>
              </a:rPr>
              <a:t>initial whole pelvic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rrad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SimSun"/>
              </a:rPr>
              <a:t>Androgen suppression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SimSun"/>
              </a:rPr>
              <a:t>was prescribed to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  <a:ea typeface="SimSun"/>
              </a:rPr>
              <a:t> 43.2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ioro 09 1 pag prog"/>
          <p:cNvPicPr/>
          <p:nvPr/>
        </p:nvPicPr>
        <p:blipFill>
          <a:blip r:embed="rId1"/>
          <a:stretch/>
        </p:blipFill>
        <p:spPr>
          <a:xfrm>
            <a:off x="250920" y="115920"/>
            <a:ext cx="9428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041560" y="3036960"/>
          <a:ext cx="6681600" cy="2914560"/>
        </p:xfrm>
        <a:graphic>
          <a:graphicData uri="http://schemas.openxmlformats.org/drawingml/2006/table">
            <a:tbl>
              <a:tblPr/>
              <a:tblGrid>
                <a:gridCol w="4449600"/>
                <a:gridCol w="2232000"/>
              </a:tblGrid>
              <a:tr h="414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eatment characteristic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-CR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pts (100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T dose (prostatic fossa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9 G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RT Doses (prostatic fossa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6 G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pelvic R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pts (33.3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RT Doses (Whole pelvi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0.4 G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pts (43.2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19"/>
          <p:cNvSpPr/>
          <p:nvPr/>
        </p:nvSpPr>
        <p:spPr>
          <a:xfrm>
            <a:off x="1547640" y="6237360"/>
            <a:ext cx="75614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mproved outcomes with Adjuvant Radiotherapy in prostate cancer: a multicenter prospective study conducted by the “AIRO National Working Group on Prostate Radiotherapy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5:50:49Z</dcterms:created>
  <dc:creator>Francesca</dc:creator>
  <dc:description/>
  <dc:language>en-US</dc:language>
  <cp:lastModifiedBy>Lenovo User</cp:lastModifiedBy>
  <dcterms:modified xsi:type="dcterms:W3CDTF">2009-11-15T13:50:35Z</dcterms:modified>
  <cp:revision>110</cp:revision>
  <dc:subject/>
  <dc:title>Diapositiva 1</dc:title>
</cp:coreProperties>
</file>