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8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B20-95E6-4B88-B937-C5F14960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DFC0-CF82-4D0B-B7CD-440F485F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9DD-E524-4C10-B954-7989B186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608-90C6-4CBF-A128-C2B697DD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232-8796-49BC-B281-57FCC0A7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90F-F6AA-4ACE-829E-D8369AD4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A54-7C9F-4531-964D-DFDCD962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B96-844A-4DE9-B5E0-EDB63196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518-9438-40E0-BB5E-75267668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BFF-31FD-4673-8456-CF843F58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48E-5D57-4AD9-95D5-8A8C3E61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48F-5D30-4639-A08F-FE136CB9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E0CF-3F51-4C74-8064-69F967FD231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budda-boxagainstcancer.com/GRAPHICS/Logos-4-Link-Page/National-Cancer-Institute-Logo-118-081.gif&amp;imgrefurl=http://www.budda-boxagainstcancer.com/facts.htm&amp;usg=__5-XDUxHzSedypF4uJZplCJkW1_Q=&amp;h=81&amp;w=118&amp;sz=3&amp;hl=it&amp;start=3&amp;tbnid=eK7w3hTG4PZ9QM:&amp;tbnh=60&amp;tbnw=88&amp;prev=/images%3Fq%3DNational%2Bcancer%2BInstitute%2Blogo%26gbv%3D2%26hl%3Dit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141360"/>
            <a:ext cx="86421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Nuovo schema di ipofrazionamento e concomitant boost: studi di fattibilit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logo_ist"/>
          <p:cNvPicPr/>
          <p:nvPr/>
        </p:nvPicPr>
        <p:blipFill>
          <a:blip r:embed="rId1"/>
          <a:stretch/>
        </p:blipFill>
        <p:spPr>
          <a:xfrm>
            <a:off x="6732720" y="5805360"/>
            <a:ext cx="792000" cy="549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50920" y="59738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.C.Azinw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419640" y="59500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ncologia radioterap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596360" y="59500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en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Genova%20Boccadasse"/>
          <p:cNvPicPr/>
          <p:nvPr/>
        </p:nvPicPr>
        <p:blipFill>
          <a:blip r:embed="rId2"/>
          <a:stretch/>
        </p:blipFill>
        <p:spPr>
          <a:xfrm>
            <a:off x="395280" y="260280"/>
            <a:ext cx="2592360" cy="187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genova%202"/>
          <p:cNvPicPr/>
          <p:nvPr/>
        </p:nvPicPr>
        <p:blipFill>
          <a:blip r:embed="rId3"/>
          <a:stretch/>
        </p:blipFill>
        <p:spPr>
          <a:xfrm>
            <a:off x="3059280" y="1052640"/>
            <a:ext cx="2663640" cy="1938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Genova+24-8-07+018"/>
          <p:cNvPicPr/>
          <p:nvPr/>
        </p:nvPicPr>
        <p:blipFill>
          <a:blip r:embed="rId4"/>
          <a:stretch/>
        </p:blipFill>
        <p:spPr>
          <a:xfrm>
            <a:off x="5435640" y="0"/>
            <a:ext cx="2946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Whelan T, Mackenzie R, Julian J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Randomised Trial of breast irradiation schedules after lumpectomy for women with node negative brest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J. Natl Cancer Inst. 2002; 94:1143-1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Only mild early effects : mainly erythema &lt; 30% 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No fearsome reactions such as skin necrosis or rib  fractur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359840" cy="157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971640" y="3141720"/>
            <a:ext cx="1584360" cy="14079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3738960" y="3489480"/>
            <a:ext cx="25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Brush Script MT"/>
              </a:rPr>
              <a:t>In 5 week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4502160" cy="612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4032360" cy="833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4932360" y="2924280"/>
            <a:ext cx="3887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omparison b/n standard and explored sched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sp>
        <p:nvSpPr>
          <p:cNvPr id="76" name="Rectangle 6"/>
          <p:cNvSpPr/>
          <p:nvPr/>
        </p:nvSpPr>
        <p:spPr>
          <a:xfrm>
            <a:off x="2048040" y="1779120"/>
            <a:ext cx="504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omparison between standard and explored R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058840" y="2328840"/>
          <a:ext cx="4910400" cy="2630520"/>
        </p:xfrm>
        <a:graphic>
          <a:graphicData uri="http://schemas.openxmlformats.org/drawingml/2006/table">
            <a:tbl>
              <a:tblPr/>
              <a:tblGrid>
                <a:gridCol w="1371600"/>
                <a:gridCol w="1282680"/>
                <a:gridCol w="1113120"/>
                <a:gridCol w="1143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T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D ca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nogens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α∕β = 4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D Fibro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α∕β = 1.7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D Vascu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m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α∕β = 2.5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0Gy/25fr/5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no boos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it-IT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Gy/30fr/6 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Gy + 10Gy boos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9Gy/13fx/3.1 w  + ccboost 3Gy/3fr (once a week)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it-IT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it-IT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Gy/20fr/5w  + ccboost 6Gy/5fr (once a wee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37"/>
          <p:cNvSpPr/>
          <p:nvPr/>
        </p:nvSpPr>
        <p:spPr>
          <a:xfrm>
            <a:off x="2627280" y="5248440"/>
            <a:ext cx="42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me factor not taken account of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ff3300"/>
                </a:solidFill>
                <a:latin typeface="Comic Sans MS"/>
              </a:rPr>
              <a:t>Radioterapia ipofrazionata nelle pazienti operate conservativamente per carcinoma mammario</a:t>
            </a:r>
            <a:r>
              <a:rPr b="0" lang="it-IT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logo_ist"/>
          <p:cNvPicPr/>
          <p:nvPr/>
        </p:nvPicPr>
        <p:blipFill>
          <a:blip r:embed="rId1"/>
          <a:stretch/>
        </p:blipFill>
        <p:spPr>
          <a:xfrm>
            <a:off x="7667640" y="620640"/>
            <a:ext cx="1028520" cy="83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genova"/>
          <p:cNvPicPr/>
          <p:nvPr/>
        </p:nvPicPr>
        <p:blipFill>
          <a:blip r:embed="rId2"/>
          <a:stretch/>
        </p:blipFill>
        <p:spPr>
          <a:xfrm>
            <a:off x="1187280" y="620640"/>
            <a:ext cx="6264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1341000"/>
            <a:ext cx="828036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Criteri di inclusione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stologia di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carcinoma mammari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asportato mediante intervento chirurgico standard di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tumorectomi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tà </a:t>
            </a:r>
            <a:r>
              <a:rPr b="0" lang="it-IT" sz="2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65 ann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;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Non interessamento del linfonodo sentinell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o da 0 a 3 linfonodi ascellari metastastatici, dopo dissezione class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Margini chirurgici negativ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o solo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focalmente positiv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positività limitata ad uno solo dei margini di exeresi chirurg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seguito trattamento esteso a donne con età superiore ai  55 a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genova"/>
          <p:cNvPicPr/>
          <p:nvPr/>
        </p:nvPicPr>
        <p:blipFill>
          <a:blip r:embed="rId1"/>
          <a:stretch/>
        </p:blipFill>
        <p:spPr>
          <a:xfrm>
            <a:off x="468360" y="189000"/>
            <a:ext cx="6396120" cy="115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logo_ist"/>
          <p:cNvPicPr/>
          <p:nvPr/>
        </p:nvPicPr>
        <p:blipFill>
          <a:blip r:embed="rId2"/>
          <a:stretch/>
        </p:blipFill>
        <p:spPr>
          <a:xfrm>
            <a:off x="7667640" y="620640"/>
            <a:ext cx="10285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Disponibilit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a ripresentarsi al centro di studio per le visite di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follow‑up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ossibilità di effettuare successivi esami di ultrasuoni e mammograf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Firma del consenso informato scrit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genova"/>
          <p:cNvPicPr/>
          <p:nvPr/>
        </p:nvPicPr>
        <p:blipFill>
          <a:blip r:embed="rId1"/>
          <a:stretch/>
        </p:blipFill>
        <p:spPr>
          <a:xfrm>
            <a:off x="755640" y="374760"/>
            <a:ext cx="6769080" cy="1065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_ist"/>
          <p:cNvPicPr/>
          <p:nvPr/>
        </p:nvPicPr>
        <p:blipFill>
          <a:blip r:embed="rId2"/>
          <a:stretch/>
        </p:blipFill>
        <p:spPr>
          <a:xfrm>
            <a:off x="7667640" y="620640"/>
            <a:ext cx="1028520" cy="838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35120" y="1700280"/>
            <a:ext cx="34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Criteri di inclu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0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3300"/>
                </a:solidFill>
                <a:latin typeface="Comic Sans MS"/>
              </a:rPr>
              <a:t>Criteri di esclus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33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ravi malattie o condizioni in grado di compromettere il trat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esenza di disturbi  psichiatrici grav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esenza di collagenopat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genova"/>
          <p:cNvPicPr/>
          <p:nvPr/>
        </p:nvPicPr>
        <p:blipFill>
          <a:blip r:embed="rId1"/>
          <a:stretch/>
        </p:blipFill>
        <p:spPr>
          <a:xfrm>
            <a:off x="1258920" y="476280"/>
            <a:ext cx="5605560" cy="1041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logo_ist"/>
          <p:cNvPicPr/>
          <p:nvPr/>
        </p:nvPicPr>
        <p:blipFill>
          <a:blip r:embed="rId2"/>
          <a:stretch/>
        </p:blipFill>
        <p:spPr>
          <a:xfrm>
            <a:off x="7667640" y="620640"/>
            <a:ext cx="10285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genova"/>
          <p:cNvPicPr/>
          <p:nvPr/>
        </p:nvPicPr>
        <p:blipFill>
          <a:blip r:embed="rId1"/>
          <a:stretch/>
        </p:blipFill>
        <p:spPr>
          <a:xfrm>
            <a:off x="395280" y="333360"/>
            <a:ext cx="6192720" cy="1112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enova"/>
          <p:cNvPicPr/>
          <p:nvPr/>
        </p:nvPicPr>
        <p:blipFill>
          <a:blip r:embed="rId2"/>
          <a:stretch/>
        </p:blipFill>
        <p:spPr>
          <a:xfrm>
            <a:off x="1476360" y="404640"/>
            <a:ext cx="5605560" cy="1041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logo_ist"/>
          <p:cNvPicPr/>
          <p:nvPr/>
        </p:nvPicPr>
        <p:blipFill>
          <a:blip r:embed="rId3"/>
          <a:stretch/>
        </p:blipFill>
        <p:spPr>
          <a:xfrm>
            <a:off x="7596360" y="476280"/>
            <a:ext cx="1028520" cy="8380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826920" y="2997360"/>
            <a:ext cx="749016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atients with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large breast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as defined by a cup size separation of greater than 25 cm, that is the breast measured greater than 25 cm left to right at its widest part) were ex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elan et al.Randomized trial of breast irradiation schedules after lumpectomy for women with lymph node-negative breast cancer.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Journal of the National Cancer Institute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02;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94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15):1143–5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684360" y="2924280"/>
            <a:ext cx="755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4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3300"/>
                </a:solidFill>
                <a:latin typeface="Comic Sans MS"/>
              </a:rPr>
              <a:t>Tratt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3141360"/>
            <a:ext cx="84358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rradiazione della mammella (Whole Breast irradiation) in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13 sedut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4 frazioni alla settiman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dose singola 300cG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dose totale all’intero seno 3900 cG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rante lo stesso periodo viene somministrata una dose aggiuntiva al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letto tumora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una sola volta alla settimana con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dose singola di 100cGy per 3 sedute to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genova"/>
          <p:cNvPicPr/>
          <p:nvPr/>
        </p:nvPicPr>
        <p:blipFill>
          <a:blip r:embed="rId1"/>
          <a:stretch/>
        </p:blipFill>
        <p:spPr>
          <a:xfrm>
            <a:off x="539640" y="404640"/>
            <a:ext cx="5605560" cy="1041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logo_ist"/>
          <p:cNvPicPr/>
          <p:nvPr/>
        </p:nvPicPr>
        <p:blipFill>
          <a:blip r:embed="rId2"/>
          <a:stretch/>
        </p:blipFill>
        <p:spPr>
          <a:xfrm>
            <a:off x="7667640" y="620640"/>
            <a:ext cx="10285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e most used standard for the delivery of this vital treatment is 60Gy/30fx for 6 to 7 weeks or 50Gy/25fx/5w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febbraio 2008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ottobr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71 pazi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F.U. Mediano 8 m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logo_ist"/>
          <p:cNvPicPr/>
          <p:nvPr/>
        </p:nvPicPr>
        <p:blipFill>
          <a:blip r:embed="rId1"/>
          <a:stretch/>
        </p:blipFill>
        <p:spPr>
          <a:xfrm>
            <a:off x="7451640" y="836640"/>
            <a:ext cx="1028880" cy="838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genova"/>
          <p:cNvPicPr/>
          <p:nvPr/>
        </p:nvPicPr>
        <p:blipFill>
          <a:blip r:embed="rId2"/>
          <a:stretch/>
        </p:blipFill>
        <p:spPr>
          <a:xfrm>
            <a:off x="539640" y="476280"/>
            <a:ext cx="65534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77612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ean age (range) in yrs70 (55-8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Tumor classification (AJCC)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Max tumor diameter (range) mm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3 -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Tis      4    (6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T1a     4    (6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T1b    13   (18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T1c   39   (55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T2     11   (15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Gr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1 14  (2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2 42 (59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3 15 (21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odal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eg 62 (8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os   9 (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Surgical marg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eg 67 (94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os   2  (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lose 2  (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logo_ist"/>
          <p:cNvPicPr/>
          <p:nvPr/>
        </p:nvPicPr>
        <p:blipFill>
          <a:blip r:embed="rId1"/>
          <a:stretch/>
        </p:blipFill>
        <p:spPr>
          <a:xfrm>
            <a:off x="7596360" y="5516640"/>
            <a:ext cx="1028520" cy="838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genova"/>
          <p:cNvPicPr/>
          <p:nvPr/>
        </p:nvPicPr>
        <p:blipFill>
          <a:blip r:embed="rId2"/>
          <a:stretch/>
        </p:blipFill>
        <p:spPr>
          <a:xfrm>
            <a:off x="3203640" y="5800680"/>
            <a:ext cx="4032360" cy="7970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0920" y="595008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mic Sans MS"/>
              </a:rPr>
              <a:t>HYPO 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mic Sans MS"/>
              </a:rPr>
              <a:t>Ccboost 42Gy/13 fx/3.1 w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6"/>
          <p:cNvSpPr/>
          <p:nvPr/>
        </p:nvSpPr>
        <p:spPr>
          <a:xfrm>
            <a:off x="884160" y="1928880"/>
            <a:ext cx="1428840" cy="17280"/>
          </a:xfrm>
          <a:custGeom>
            <a:avLst/>
            <a:gdLst/>
            <a:ahLst/>
            <a:rect l="l" t="t" r="r" b="b"/>
            <a:pathLst>
              <a:path w="3969" h="50">
                <a:moveTo>
                  <a:pt x="2456" y="5407"/>
                </a:moveTo>
                <a:cubicBezTo>
                  <a:pt x="2497" y="5396"/>
                  <a:pt x="2535" y="5393"/>
                  <a:pt x="2580" y="5383"/>
                </a:cubicBezTo>
                <a:cubicBezTo>
                  <a:pt x="2619" y="5374"/>
                  <a:pt x="2636" y="5363"/>
                  <a:pt x="2679" y="5358"/>
                </a:cubicBezTo>
                <a:cubicBezTo>
                  <a:pt x="3196" y="5302"/>
                  <a:pt x="3816" y="5332"/>
                  <a:pt x="4316" y="5383"/>
                </a:cubicBezTo>
                <a:cubicBezTo>
                  <a:pt x="5004" y="5452"/>
                  <a:pt x="5733" y="5383"/>
                  <a:pt x="6424" y="538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7"/>
          <p:cNvSpPr/>
          <p:nvPr/>
        </p:nvSpPr>
        <p:spPr>
          <a:xfrm>
            <a:off x="901800" y="3027240"/>
            <a:ext cx="1009440" cy="1800"/>
          </a:xfrm>
          <a:custGeom>
            <a:avLst/>
            <a:gdLst/>
            <a:ahLst/>
            <a:rect l="l" t="t" r="r" b="b"/>
            <a:pathLst>
              <a:path w="2804" h="1">
                <a:moveTo>
                  <a:pt x="2505" y="8409"/>
                </a:moveTo>
                <a:cubicBezTo>
                  <a:pt x="3439" y="8409"/>
                  <a:pt x="4374" y="8409"/>
                  <a:pt x="5308" y="840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8"/>
          <p:cNvSpPr/>
          <p:nvPr/>
        </p:nvSpPr>
        <p:spPr>
          <a:xfrm>
            <a:off x="928800" y="3867120"/>
            <a:ext cx="1206360" cy="1440"/>
          </a:xfrm>
          <a:custGeom>
            <a:avLst/>
            <a:gdLst/>
            <a:ahLst/>
            <a:rect l="l" t="t" r="r" b="b"/>
            <a:pathLst>
              <a:path w="3349" h="1">
                <a:moveTo>
                  <a:pt x="2580" y="10740"/>
                </a:moveTo>
                <a:cubicBezTo>
                  <a:pt x="3696" y="10740"/>
                  <a:pt x="4812" y="10740"/>
                  <a:pt x="5928" y="1074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9"/>
          <p:cNvSpPr/>
          <p:nvPr/>
        </p:nvSpPr>
        <p:spPr>
          <a:xfrm>
            <a:off x="892080" y="4697280"/>
            <a:ext cx="1127160" cy="1800"/>
          </a:xfrm>
          <a:custGeom>
            <a:avLst/>
            <a:gdLst/>
            <a:ahLst/>
            <a:rect l="l" t="t" r="r" b="b"/>
            <a:pathLst>
              <a:path w="3127" h="1">
                <a:moveTo>
                  <a:pt x="2480" y="13047"/>
                </a:moveTo>
                <a:cubicBezTo>
                  <a:pt x="3522" y="13047"/>
                  <a:pt x="4564" y="13047"/>
                  <a:pt x="5606" y="1304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roliferative index  (Ki 67)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gt; 15%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8 (4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5%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1 (6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HR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g     8 (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s   65 (9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Hormonal therapy  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2 (8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hemotherapy      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 (1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genova"/>
          <p:cNvPicPr/>
          <p:nvPr/>
        </p:nvPicPr>
        <p:blipFill>
          <a:blip r:embed="rId1"/>
          <a:stretch/>
        </p:blipFill>
        <p:spPr>
          <a:xfrm>
            <a:off x="684360" y="476280"/>
            <a:ext cx="5903640" cy="100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logo_ist"/>
          <p:cNvPicPr/>
          <p:nvPr/>
        </p:nvPicPr>
        <p:blipFill>
          <a:blip r:embed="rId2"/>
          <a:stretch/>
        </p:blipFill>
        <p:spPr>
          <a:xfrm>
            <a:off x="7236000" y="476280"/>
            <a:ext cx="1028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24000" y="1628640"/>
          <a:ext cx="8245440" cy="3382920"/>
        </p:xfrm>
        <a:graphic>
          <a:graphicData uri="http://schemas.openxmlformats.org/drawingml/2006/table">
            <a:tbl>
              <a:tblPr/>
              <a:tblGrid>
                <a:gridCol w="1385640"/>
                <a:gridCol w="6859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Grade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 change over base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Grad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ollicular, faint or dull erythema/epilation/dry desquamation/ decreased sweat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Grad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nder or bright erythema, patchy moist desquamation/ moderate ede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Grad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fluent, moist desquamation other than skin folds, pitting ede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Grade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lceration, haemorrhage, necr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22"/>
          <p:cNvSpPr/>
          <p:nvPr/>
        </p:nvSpPr>
        <p:spPr>
          <a:xfrm>
            <a:off x="304200" y="532116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TOG s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324000" y="549360"/>
            <a:ext cx="32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Tossicità Ac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4" descr="logo_ist"/>
          <p:cNvPicPr/>
          <p:nvPr/>
        </p:nvPicPr>
        <p:blipFill>
          <a:blip r:embed="rId1"/>
          <a:stretch/>
        </p:blipFill>
        <p:spPr>
          <a:xfrm>
            <a:off x="6516720" y="5950080"/>
            <a:ext cx="836640" cy="574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5"/>
          <p:cNvSpPr/>
          <p:nvPr/>
        </p:nvSpPr>
        <p:spPr>
          <a:xfrm>
            <a:off x="7451640" y="602136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en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9280" y="765000"/>
          <a:ext cx="8640720" cy="5362920"/>
        </p:xfrm>
        <a:graphic>
          <a:graphicData uri="http://schemas.openxmlformats.org/drawingml/2006/table">
            <a:tbl>
              <a:tblPr/>
              <a:tblGrid>
                <a:gridCol w="2489400"/>
                <a:gridCol w="1390680"/>
                <a:gridCol w="1550880"/>
                <a:gridCol w="1976400"/>
                <a:gridCol w="123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Gr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Gr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Gr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Grade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Fibr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rely palpable increased den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finite increased density and firm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ery marked density, retraction and fix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Telangiecta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&lt; 1 cm</a:t>
                      </a:r>
                      <a:r>
                        <a:rPr b="0" lang="it-IT" sz="20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cm</a:t>
                      </a:r>
                      <a:r>
                        <a:rPr b="0" lang="it-IT" sz="20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4 cm</a:t>
                      </a:r>
                      <a:r>
                        <a:rPr b="0" lang="it-IT" sz="20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&gt;4 cm</a:t>
                      </a:r>
                      <a:r>
                        <a:rPr b="0" lang="it-IT" sz="20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yperpig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i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de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v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Retraction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tro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0-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&gt;25-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&gt;40-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hole br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Ul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pidermal only, ≤ 1cm</a:t>
                      </a:r>
                      <a:r>
                        <a:rPr b="0" lang="it-IT" sz="20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rmal ,  &gt;1cm</a:t>
                      </a:r>
                      <a:r>
                        <a:rPr b="0" lang="it-IT" sz="20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bcutane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one exposed, necr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46"/>
          <p:cNvSpPr/>
          <p:nvPr/>
        </p:nvSpPr>
        <p:spPr>
          <a:xfrm flipH="1">
            <a:off x="181080" y="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Tossicità Tardiva (lent So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7" descr="logo_ist"/>
          <p:cNvPicPr/>
          <p:nvPr/>
        </p:nvPicPr>
        <p:blipFill>
          <a:blip r:embed="rId1"/>
          <a:stretch/>
        </p:blipFill>
        <p:spPr>
          <a:xfrm>
            <a:off x="6156360" y="6308640"/>
            <a:ext cx="863640" cy="371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8"/>
          <p:cNvSpPr/>
          <p:nvPr/>
        </p:nvSpPr>
        <p:spPr>
          <a:xfrm>
            <a:off x="7308720" y="630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en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1600200"/>
          <a:ext cx="8229600" cy="3621240"/>
        </p:xfrm>
        <a:graphic>
          <a:graphicData uri="http://schemas.openxmlformats.org/drawingml/2006/table">
            <a:tbl>
              <a:tblPr/>
              <a:tblGrid>
                <a:gridCol w="1371600"/>
                <a:gridCol w="1519200"/>
                <a:gridCol w="1440000"/>
                <a:gridCol w="1152360"/>
                <a:gridCol w="1224000"/>
                <a:gridCol w="1522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it-IT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it-IT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it-IT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it-IT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Totale pz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Termine 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(5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(4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(6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3 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(88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(7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(5%)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6 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(98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(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39" descr="genova"/>
          <p:cNvPicPr/>
          <p:nvPr/>
        </p:nvPicPr>
        <p:blipFill>
          <a:blip r:embed="rId1"/>
          <a:stretch/>
        </p:blipFill>
        <p:spPr>
          <a:xfrm>
            <a:off x="611280" y="260280"/>
            <a:ext cx="619272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0" descr="logo_ist"/>
          <p:cNvPicPr/>
          <p:nvPr/>
        </p:nvPicPr>
        <p:blipFill>
          <a:blip r:embed="rId2"/>
          <a:stretch/>
        </p:blipFill>
        <p:spPr>
          <a:xfrm>
            <a:off x="7451640" y="333360"/>
            <a:ext cx="1028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539640" y="1413000"/>
          <a:ext cx="8053560" cy="4460760"/>
        </p:xfrm>
        <a:graphic>
          <a:graphicData uri="http://schemas.openxmlformats.org/drawingml/2006/table">
            <a:tbl>
              <a:tblPr/>
              <a:tblGrid>
                <a:gridCol w="3176640"/>
                <a:gridCol w="1576440"/>
                <a:gridCol w="1224000"/>
                <a:gridCol w="1008000"/>
                <a:gridCol w="1068480"/>
              </a:tblGrid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12 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(31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(6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angiecta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pigmen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(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action and atro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c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46"/>
          <p:cNvSpPr/>
          <p:nvPr/>
        </p:nvSpPr>
        <p:spPr>
          <a:xfrm>
            <a:off x="684360" y="618480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tot of 35 pts had been seen at ≥12 months with19 (54%) free of side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42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Comic Sans MS"/>
              </a:rPr>
              <a:t>Conclus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logo_ist"/>
          <p:cNvPicPr/>
          <p:nvPr/>
        </p:nvPicPr>
        <p:blipFill>
          <a:blip r:embed="rId1"/>
          <a:stretch/>
        </p:blipFill>
        <p:spPr>
          <a:xfrm>
            <a:off x="7451640" y="1773360"/>
            <a:ext cx="792360" cy="549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 flipH="1">
            <a:off x="7165080" y="242100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en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Genova%20Boccadasse"/>
          <p:cNvPicPr/>
          <p:nvPr/>
        </p:nvPicPr>
        <p:blipFill>
          <a:blip r:embed="rId2"/>
          <a:stretch/>
        </p:blipFill>
        <p:spPr>
          <a:xfrm>
            <a:off x="250920" y="1484280"/>
            <a:ext cx="2736720" cy="1903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genova%202"/>
          <p:cNvPicPr/>
          <p:nvPr/>
        </p:nvPicPr>
        <p:blipFill>
          <a:blip r:embed="rId3"/>
          <a:stretch/>
        </p:blipFill>
        <p:spPr>
          <a:xfrm>
            <a:off x="2124000" y="1052640"/>
            <a:ext cx="2664000" cy="193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Genova+24-8-07+018"/>
          <p:cNvPicPr/>
          <p:nvPr/>
        </p:nvPicPr>
        <p:blipFill>
          <a:blip r:embed="rId4"/>
          <a:stretch/>
        </p:blipFill>
        <p:spPr>
          <a:xfrm>
            <a:off x="4572000" y="1484280"/>
            <a:ext cx="2587680" cy="19414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324000" y="357336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easonably well toll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ew Acut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Very high 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mproves clinical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ate Toxicit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ocal Control ? ……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Follow up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50920" y="3573360"/>
            <a:ext cx="8496360" cy="2997360"/>
          </a:xfrm>
          <a:prstGeom prst="rect">
            <a:avLst/>
          </a:prstGeom>
          <a:noFill/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is creates 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enormous problem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Otherwise eligible women might refuse BCT for the sheer effort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Compliance to treatment is a very real problem.(esp in the elder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Waiting lis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In an era of shrinking resources…the cost of prolunged treatment begins to look like the real determinant of treatment quality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e question comes up naturally..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Why not Hypofraction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horter treatment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creased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duction of costs for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duction of waiting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β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for breast ca clonogens~4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adiation therapy (as part of breast-conserving local therapy) consists of postoperative external-beam radiation therapy (EBRT) to the entire breast with doses of 45 Gy to 50 Gy, in 1.8 Gy to 2.0 Gy daily fractions over a 5-week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cc0000"/>
                </a:solidFill>
                <a:latin typeface="Comic Sans MS"/>
              </a:rPr>
              <a:t>Shorter hypofractionation schemes achieve comparable results</a:t>
            </a:r>
            <a:r>
              <a:rPr b="0" lang="it-IT" sz="3200" spc="-1" strike="noStrike">
                <a:solidFill>
                  <a:srgbClr val="cc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National-Cancer-Institute-Logo-118-0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5423040"/>
            <a:ext cx="14400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he breast should receive a dose of </a:t>
            </a:r>
            <a:r>
              <a:rPr b="1" lang="it-IT" sz="3200" spc="-1" strike="noStrike">
                <a:solidFill>
                  <a:srgbClr val="0099cc"/>
                </a:solidFill>
                <a:latin typeface="Comic Sans MS"/>
              </a:rPr>
              <a:t>45-50 Gy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in 1.8-2 Gy per fraction </a:t>
            </a:r>
            <a:r>
              <a:rPr b="0" i="1" lang="it-IT" sz="3200" spc="-1" strike="noStrike">
                <a:solidFill>
                  <a:srgbClr val="ff0000"/>
                </a:solidFill>
                <a:latin typeface="Comic Sans MS"/>
              </a:rPr>
              <a:t>or </a:t>
            </a:r>
            <a:r>
              <a:rPr b="1" i="1" lang="it-IT" sz="3200" spc="-1" strike="noStrike">
                <a:solidFill>
                  <a:srgbClr val="ff0000"/>
                </a:solidFill>
                <a:latin typeface="Comic Sans MS"/>
              </a:rPr>
              <a:t>42.5 at 2.66 Gy per f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it-IT" sz="3200" spc="-1" strike="noStrike">
                <a:solidFill>
                  <a:srgbClr val="33ccff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99cc"/>
                </a:solidFill>
                <a:latin typeface="Comic Sans MS"/>
              </a:rPr>
              <a:t>boos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to the tumor bed is recommended in higher risk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( age &lt; 50, positive axillary nodes, lymphovascular invasion or close marg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NCCN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3"/>
          <p:cNvSpPr/>
          <p:nvPr/>
        </p:nvSpPr>
        <p:spPr>
          <a:xfrm>
            <a:off x="6659640" y="1197000"/>
            <a:ext cx="366480" cy="1440"/>
          </a:xfrm>
          <a:custGeom>
            <a:avLst/>
            <a:gdLst/>
            <a:ahLst/>
            <a:rect l="l" t="t" r="r" b="b"/>
            <a:pathLst>
              <a:path w="1018" h="1">
                <a:moveTo>
                  <a:pt x="18728" y="3423"/>
                </a:moveTo>
                <a:cubicBezTo>
                  <a:pt x="19067" y="3423"/>
                  <a:pt x="19406" y="3423"/>
                  <a:pt x="19745" y="342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427640" y="620640"/>
            <a:ext cx="4248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i raccomanda la somministrazione di una dose totale pari a </a:t>
            </a:r>
            <a:r>
              <a:rPr b="1" lang="it-IT" sz="2800" spc="-1" strike="noStrike">
                <a:solidFill>
                  <a:srgbClr val="66ffcc"/>
                </a:solidFill>
                <a:latin typeface="Comic Sans MS"/>
              </a:rPr>
              <a:t>45-50 Gy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n regime di frazionamento convenzionale (1,8-2 Gy/die, in </a:t>
            </a:r>
            <a:r>
              <a:rPr b="0" lang="it-IT" sz="2800" spc="-1" strike="noStrike">
                <a:solidFill>
                  <a:srgbClr val="66ffcc"/>
                </a:solidFill>
                <a:latin typeface="Comic Sans MS"/>
              </a:rPr>
              <a:t>4 e ½ - 5 e ½ settima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, con il massimo risparmio possibile di dose a cuore e polmon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427640" y="26028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ffcc"/>
                </a:solidFill>
                <a:latin typeface="Comic Sans MS"/>
              </a:rPr>
              <a:t>Linee Guida AIRO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3959280" cy="5545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lavori_in_corso"/>
          <p:cNvPicPr/>
          <p:nvPr/>
        </p:nvPicPr>
        <p:blipFill>
          <a:blip r:embed="rId2"/>
          <a:stretch/>
        </p:blipFill>
        <p:spPr>
          <a:xfrm>
            <a:off x="2987640" y="5229360"/>
            <a:ext cx="17272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1583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Questo è lo standard più diffuso e accettato, </a:t>
            </a:r>
            <a:r>
              <a:rPr b="0" i="1" lang="it-IT" sz="3200" spc="-1" strike="noStrike">
                <a:solidFill>
                  <a:srgbClr val="ff0000"/>
                </a:solidFill>
                <a:latin typeface="Comic Sans MS"/>
              </a:rPr>
              <a:t>tuttavia esistono anche alternative nella direzione dell’</a:t>
            </a:r>
            <a:r>
              <a:rPr b="1" i="1" lang="it-IT" sz="3200" spc="-1" strike="noStrike">
                <a:solidFill>
                  <a:srgbClr val="ff0000"/>
                </a:solidFill>
                <a:latin typeface="Comic Sans MS"/>
              </a:rPr>
              <a:t>ipofrazionamento</a:t>
            </a:r>
            <a:r>
              <a:rPr b="0" lang="it-IT" sz="3200" spc="-1" strike="noStrike">
                <a:solidFill>
                  <a:srgbClr val="66ffcc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he, pur non essendo riconosciute come standard consolidato e non potendo essere dal punto di vista radiobiologico del tutto equivalenti, sono state valutate in diversi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Linee Guida AIRO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aillet f, Housset M,Maylin C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The use of a specific hypofractionated radiotherapy regime Vs classical fractionation in the treatmet of breast cancer; A randomized Study of 230 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Arial"/>
              </a:rPr>
              <a:t>Int J Radiat Oncol Biol Phys 1990; 19: 1131 - 1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6:12:45Z</dcterms:created>
  <dc:creator> </dc:creator>
  <dc:description/>
  <dc:language>en-US</dc:language>
  <cp:lastModifiedBy>Lenovo User</cp:lastModifiedBy>
  <dcterms:modified xsi:type="dcterms:W3CDTF">2009-11-16T09:11:55Z</dcterms:modified>
  <cp:revision>34</cp:revision>
  <dc:subject/>
  <dc:title>UNIVERSITY OF GENOA  FACULTY OF MEDICINE AND SURGERY  SCHOOL OF RADIATION ONCOLOGY  FINAL YEAR THESIS  “HYPOFRACTIONATION IN BREAST CANCER RADIOTHERAPY: SHORT TERM EFFECTS AND FEASIBILTY STUDIES OF A SINGLE INSTITUTION”  N.C.AZINWI</dc:title>
</cp:coreProperties>
</file>