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35.wmf" ContentType="image/x-wmf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4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5.png" ContentType="image/png"/>
  <Override PartName="/ppt/media/image43.jpeg" ContentType="image/jpeg"/>
  <Override PartName="/ppt/media/image1.png" ContentType="image/png"/>
  <Override PartName="/ppt/media/image38.wmf" ContentType="image/x-wmf"/>
  <Override PartName="/ppt/media/image28.png" ContentType="image/png"/>
  <Override PartName="/ppt/media/image31.wmf" ContentType="image/x-wmf"/>
  <Override PartName="/ppt/media/image40.jpeg" ContentType="image/jpeg"/>
  <Override PartName="/ppt/media/image44.png" ContentType="image/png"/>
  <Override PartName="/ppt/media/image45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15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9D8C-EB7C-45CB-A4A3-2EB63E31F2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189A-4505-4616-8ABE-740C83BACF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34BC-3842-43DA-96A7-C812A58DBE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182F-FDE7-49F0-9A29-36FE4B7A31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BCD6-686F-41C7-8ABD-075DD3CE12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5D78-A57E-46F2-9456-2F6C7F73CC8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6E99-533C-4B87-A49C-D2F0DB8AB0D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4908-37F4-45D0-B442-B30B39278A0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CEEF-3A86-44C7-B0B1-B7F121CAB9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360C-4167-4035-88F3-95543E9B7F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1F43-D22F-4DEB-8B40-10D0C2F00BA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A02F-C378-4F92-B107-EF12ABD043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E6C1-E31C-4893-8724-D8AF7A2B70F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0F9C-F735-4867-B4A6-5DB85A10F4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16E-3B0E-41EA-BBE5-DBC280539A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7F8C-1C4E-49D4-B0D2-D5B8130088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12AD-5996-49DD-8B08-17B3E9AF1D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6D6-A0DD-44FD-955E-17FC400BF2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20A8-DA41-4FEF-B617-7B4AEA5E8E1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C5E0-6CC1-44FF-8063-43A60A6789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CA0E-6595-4324-BC67-9C469B6203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18E2-EB0F-4840-A20A-92B34F6B8C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7395-939E-4232-9D3B-54E8465D1D2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6240" y="712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5840" y="4370400"/>
            <a:ext cx="50263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9BDA-F77A-4F22-B806-2F89A27278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173B-C4FC-4BE6-BF13-4E41F4BE92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B077-C758-448F-9DDF-B6653CA0A82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9265-4894-405D-A969-BC84635625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95CF-4390-4167-939F-475BFE15A65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D86C-A692-4E27-AB05-BD146A7FFF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5668-FBE4-4542-8762-A165A7C015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68DF-235E-4399-A865-FA814CCB04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B5ED-51F9-49A0-8CFD-ECAF0802AC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6240" y="712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5840" y="4370400"/>
            <a:ext cx="50263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4091-9A2F-4383-A456-B8D2C1488CA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0E49-914B-4BCE-A60E-16CC9CD148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7FCC-4BB0-4D28-BD30-1C105C7E77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B29-FDFC-4AB5-A582-8133DD237E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8817-05EF-43D3-8CEA-167116E2B8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A562-0B16-428D-81F3-8870DC4D2B2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44D-749B-43CF-8632-277CB294BA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B984-3C38-4806-9DB1-41246220973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4DC-A14F-4376-B3B9-C2552580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548-C386-41F6-8B77-7522921F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49B-6A03-4C9C-9B3A-E7422334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30B-4E49-42F5-8CF2-4785ECA6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E8C-D94F-44B8-AF21-6380A82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7E0-DA98-4EF5-9EEB-07C732DB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DB9-F919-4801-8250-76D67A4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D53-0DB1-413B-AB6E-EDC35CA0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DD3-DCA4-4F0B-B1B1-B712B001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AC5-5B9A-4C18-A4BE-5C54C742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CA9-C83E-4E44-ACB4-5CCFC857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E81-F3C7-4901-BEE7-77CAD64D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6AE8-583C-457C-B73C-19E3020DFAA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Comic Sans MS"/>
              </a:rPr>
              <a:t>NSCLC marginalmente reseca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407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Giovanni Luca Ceres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U.O. Oncologia, Humanitas Gavazz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Berg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195640" y="6021360"/>
            <a:ext cx="4968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11 SETTEM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179280" y="2205000"/>
            <a:ext cx="87854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179280" y="5373720"/>
            <a:ext cx="87854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1801800" cy="18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74640" cy="187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2351160" cy="178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"/>
          <p:cNvPicPr/>
          <p:nvPr/>
        </p:nvPicPr>
        <p:blipFill>
          <a:blip r:embed="rId4"/>
          <a:stretch/>
        </p:blipFill>
        <p:spPr>
          <a:xfrm>
            <a:off x="7380360" y="5734080"/>
            <a:ext cx="1582560" cy="90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"/>
          <p:cNvPicPr/>
          <p:nvPr/>
        </p:nvPicPr>
        <p:blipFill>
          <a:blip r:embed="rId5"/>
          <a:stretch/>
        </p:blipFill>
        <p:spPr>
          <a:xfrm>
            <a:off x="250920" y="5734080"/>
            <a:ext cx="1582560" cy="90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FLAVIS1"/>
          <p:cNvPicPr/>
          <p:nvPr/>
        </p:nvPicPr>
        <p:blipFill>
          <a:blip r:embed="rId6"/>
          <a:stretch/>
        </p:blipFill>
        <p:spPr>
          <a:xfrm>
            <a:off x="4140360" y="189000"/>
            <a:ext cx="2158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%_bonnerep" hidden="1"/>
          <p:cNvSpPr/>
          <p:nvPr/>
        </p:nvSpPr>
        <p:spPr>
          <a:xfrm>
            <a:off x="0" y="0"/>
            <a:ext cx="25401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0,0,0,0,0,0,0,0,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%_mts" hidden="1"/>
          <p:cNvSpPr/>
          <p:nvPr/>
        </p:nvSpPr>
        <p:spPr>
          <a:xfrm>
            <a:off x="0" y="0"/>
            <a:ext cx="25401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%_param" hidden="1"/>
          <p:cNvSpPr/>
          <p:nvPr/>
        </p:nvSpPr>
        <p:spPr>
          <a:xfrm>
            <a:off x="0" y="0"/>
            <a:ext cx="25401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915,1,2,1,0,1,1,1,1,1,1,1,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96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6" name="r%_compteur" descr="Compt finaux bleu rouge 1"/>
          <p:cNvPicPr/>
          <p:nvPr/>
        </p:nvPicPr>
        <p:blipFill>
          <a:blip r:embed="rId2"/>
          <a:stretch/>
        </p:blipFill>
        <p:spPr>
          <a:xfrm>
            <a:off x="5562720" y="2209680"/>
            <a:ext cx="1942920" cy="709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5700240" y="645156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Depierre et al, JCO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716360" y="1773360"/>
          <a:ext cx="3816360" cy="1373040"/>
        </p:xfrm>
        <a:graphic>
          <a:graphicData uri="http://schemas.openxmlformats.org/drawingml/2006/table">
            <a:tbl>
              <a:tblPr/>
              <a:tblGrid>
                <a:gridCol w="1387440"/>
                <a:gridCol w="866880"/>
                <a:gridCol w="782640"/>
                <a:gridCol w="779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Y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-Y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P + S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rgery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fference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09" name="Text Box 40"/>
          <p:cNvSpPr/>
          <p:nvPr/>
        </p:nvSpPr>
        <p:spPr>
          <a:xfrm>
            <a:off x="6132600" y="3375000"/>
            <a:ext cx="159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5-YS=+9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p=.06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1"/>
          <p:cNvSpPr/>
          <p:nvPr/>
        </p:nvSpPr>
        <p:spPr>
          <a:xfrm flipH="1">
            <a:off x="5867280" y="3573360"/>
            <a:ext cx="144720" cy="360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2"/>
          <p:cNvSpPr/>
          <p:nvPr/>
        </p:nvSpPr>
        <p:spPr>
          <a:xfrm>
            <a:off x="0" y="1285920"/>
            <a:ext cx="9144000" cy="127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3" descr=""/>
          <p:cNvPicPr/>
          <p:nvPr/>
        </p:nvPicPr>
        <p:blipFill>
          <a:blip r:embed="rId3"/>
          <a:srcRect l="0" t="0" r="0" b="55895"/>
          <a:stretch/>
        </p:blipFill>
        <p:spPr>
          <a:xfrm>
            <a:off x="0" y="4428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%_bonnerep" hidden="1"/>
          <p:cNvSpPr/>
          <p:nvPr/>
        </p:nvSpPr>
        <p:spPr>
          <a:xfrm>
            <a:off x="0" y="0"/>
            <a:ext cx="25401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0,0,0,0,0,0,0,0,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%_mts" hidden="1"/>
          <p:cNvSpPr/>
          <p:nvPr/>
        </p:nvSpPr>
        <p:spPr>
          <a:xfrm>
            <a:off x="0" y="0"/>
            <a:ext cx="25401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em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%_param" hidden="1"/>
          <p:cNvSpPr/>
          <p:nvPr/>
        </p:nvSpPr>
        <p:spPr>
          <a:xfrm>
            <a:off x="0" y="0"/>
            <a:ext cx="25401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915,1,2,1,0,1,1,1,1,1,1,1,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%_compteur" descr="Compt finaux bleu rouge 1"/>
          <p:cNvPicPr/>
          <p:nvPr/>
        </p:nvPicPr>
        <p:blipFill>
          <a:blip r:embed="rId1"/>
          <a:stretch/>
        </p:blipFill>
        <p:spPr>
          <a:xfrm>
            <a:off x="5562720" y="2209680"/>
            <a:ext cx="1942920" cy="709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198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it-IT" sz="4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5904360" y="651816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epierre et al, JCO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971640" y="5308560"/>
            <a:ext cx="3217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0-1:  HR 0.68  </a:t>
            </a:r>
            <a:r>
              <a:rPr b="1" lang="it-IT" sz="1800" spc="-1" strike="noStrike">
                <a:solidFill>
                  <a:srgbClr val="ffcc00"/>
                </a:solidFill>
                <a:latin typeface="Tahoma"/>
              </a:rPr>
              <a:t>p=0.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2    :  HR 1.04  </a:t>
            </a:r>
            <a:r>
              <a:rPr b="1" lang="it-IT" sz="1800" spc="-1" strike="noStrike">
                <a:solidFill>
                  <a:srgbClr val="ff3300"/>
                </a:solidFill>
                <a:latin typeface="Tahoma"/>
              </a:rPr>
              <a:t>p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1557360"/>
            <a:ext cx="9144000" cy="1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pPr algn="ctr"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"/>
          <p:cNvPicPr/>
          <p:nvPr/>
        </p:nvPicPr>
        <p:blipFill>
          <a:blip r:embed="rId3"/>
          <a:srcRect l="0" t="0" r="0" b="55895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Comic Sans MS"/>
              </a:rPr>
              <a:t>Meta-Analysis of neoadjuvant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319440" y="607212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Gilligan D, Lancet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342000" y="1603440"/>
            <a:ext cx="8464320" cy="3650040"/>
            <a:chOff x="342000" y="1603440"/>
            <a:chExt cx="8464320" cy="3650040"/>
          </a:xfrm>
        </p:grpSpPr>
        <p:sp>
          <p:nvSpPr>
            <p:cNvPr id="126" name="Line 8"/>
            <p:cNvSpPr/>
            <p:nvPr/>
          </p:nvSpPr>
          <p:spPr>
            <a:xfrm>
              <a:off x="5904000" y="2297160"/>
              <a:ext cx="0" cy="2430360"/>
            </a:xfrm>
            <a:prstGeom prst="line">
              <a:avLst/>
            </a:prstGeom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5368680" y="17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7926120" y="17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>
              <a:off x="454320" y="2400480"/>
              <a:ext cx="147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utzenberg 1990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2418840" y="240516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3               13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5907240" y="2460600"/>
              <a:ext cx="55440" cy="57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>
              <a:off x="5349960" y="2487600"/>
              <a:ext cx="11700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7125840" y="240516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3 [0.37, 2.93]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6"/>
            <p:cNvSpPr/>
            <p:nvPr/>
          </p:nvSpPr>
          <p:spPr>
            <a:xfrm>
              <a:off x="457560" y="2600280"/>
              <a:ext cx="117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oth 1994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2418840" y="260496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8               32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5821560" y="2657520"/>
              <a:ext cx="54000" cy="61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5426280" y="2689200"/>
              <a:ext cx="84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7125840" y="260496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9 [0.42, 1.88]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456840" y="2801880"/>
              <a:ext cx="110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osell 1994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2"/>
            <p:cNvSpPr/>
            <p:nvPr/>
          </p:nvSpPr>
          <p:spPr>
            <a:xfrm>
              <a:off x="2418840" y="280512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               30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3"/>
            <p:cNvSpPr/>
            <p:nvPr/>
          </p:nvSpPr>
          <p:spPr>
            <a:xfrm>
              <a:off x="5629320" y="2859120"/>
              <a:ext cx="54000" cy="60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>
              <a:off x="5273640" y="2890800"/>
              <a:ext cx="7606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5"/>
            <p:cNvSpPr/>
            <p:nvPr/>
          </p:nvSpPr>
          <p:spPr>
            <a:xfrm>
              <a:off x="7125840" y="280512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3 [0.32, 1.24]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456120" y="3002040"/>
              <a:ext cx="114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pierre 2002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7"/>
            <p:cNvSpPr/>
            <p:nvPr/>
          </p:nvSpPr>
          <p:spPr>
            <a:xfrm>
              <a:off x="2416320" y="3005280"/>
              <a:ext cx="162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79             176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5770800" y="3046320"/>
              <a:ext cx="81000" cy="90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>
              <a:off x="5664240" y="3090960"/>
              <a:ext cx="2905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7125840" y="300528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3 [0.64, 1.07]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1"/>
            <p:cNvSpPr/>
            <p:nvPr/>
          </p:nvSpPr>
          <p:spPr>
            <a:xfrm>
              <a:off x="456120" y="3202200"/>
              <a:ext cx="144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COG9209 2003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2"/>
            <p:cNvSpPr/>
            <p:nvPr/>
          </p:nvSpPr>
          <p:spPr>
            <a:xfrm>
              <a:off x="2418840" y="320688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1               31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3"/>
            <p:cNvSpPr/>
            <p:nvPr/>
          </p:nvSpPr>
          <p:spPr>
            <a:xfrm>
              <a:off x="5722920" y="3259080"/>
              <a:ext cx="57240" cy="65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440320" y="3292560"/>
              <a:ext cx="623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7125840" y="320688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75 [0.43, 1.30]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6"/>
            <p:cNvSpPr/>
            <p:nvPr/>
          </p:nvSpPr>
          <p:spPr>
            <a:xfrm>
              <a:off x="455400" y="3402000"/>
              <a:ext cx="129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rensen 2005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7"/>
            <p:cNvSpPr/>
            <p:nvPr/>
          </p:nvSpPr>
          <p:spPr>
            <a:xfrm>
              <a:off x="2418840" y="340848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4               46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8"/>
            <p:cNvSpPr/>
            <p:nvPr/>
          </p:nvSpPr>
          <p:spPr>
            <a:xfrm>
              <a:off x="5824800" y="3459240"/>
              <a:ext cx="58680" cy="65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5513400" y="3490920"/>
              <a:ext cx="6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0"/>
            <p:cNvSpPr/>
            <p:nvPr/>
          </p:nvSpPr>
          <p:spPr>
            <a:xfrm>
              <a:off x="7125840" y="340848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9 [0.49, 1.63]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1"/>
            <p:cNvSpPr/>
            <p:nvPr/>
          </p:nvSpPr>
          <p:spPr>
            <a:xfrm>
              <a:off x="456120" y="3603600"/>
              <a:ext cx="133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WOG9900 2005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2"/>
            <p:cNvSpPr/>
            <p:nvPr/>
          </p:nvSpPr>
          <p:spPr>
            <a:xfrm>
              <a:off x="2416320" y="361008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68             167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5786640" y="3656160"/>
              <a:ext cx="68040" cy="75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4"/>
            <p:cNvSpPr/>
            <p:nvPr/>
          </p:nvSpPr>
          <p:spPr>
            <a:xfrm>
              <a:off x="5629320" y="3692520"/>
              <a:ext cx="379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7125840" y="361008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4 [0.60, 1.18]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459360" y="3925800"/>
              <a:ext cx="104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urrent trial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2416320" y="3930840"/>
              <a:ext cx="162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258             26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5886720" y="3967200"/>
              <a:ext cx="8388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9"/>
            <p:cNvSpPr/>
            <p:nvPr/>
          </p:nvSpPr>
          <p:spPr>
            <a:xfrm>
              <a:off x="5789880" y="4013280"/>
              <a:ext cx="280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7126200" y="3930840"/>
              <a:ext cx="168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1.02 [0.80, 1.31]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459360" y="432756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613960" y="4330800"/>
              <a:ext cx="119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51             75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3"/>
            <p:cNvSpPr/>
            <p:nvPr/>
          </p:nvSpPr>
          <p:spPr>
            <a:xfrm>
              <a:off x="5764320" y="4330800"/>
              <a:ext cx="160200" cy="171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7125120" y="4330800"/>
              <a:ext cx="132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8 [0.76, 1.0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5"/>
            <p:cNvSpPr/>
            <p:nvPr/>
          </p:nvSpPr>
          <p:spPr>
            <a:xfrm>
              <a:off x="460440" y="4756320"/>
              <a:ext cx="8277120" cy="2880"/>
            </a:xfrm>
            <a:prstGeom prst="line">
              <a:avLst/>
            </a:prstGeom>
            <a:ln w="9360">
              <a:solidFill>
                <a:srgbClr val="215b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4622760" y="4727520"/>
              <a:ext cx="50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4457880" y="479736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8"/>
            <p:cNvSpPr/>
            <p:nvPr/>
          </p:nvSpPr>
          <p:spPr>
            <a:xfrm>
              <a:off x="5011920" y="4727520"/>
              <a:ext cx="14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4853160" y="479736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0"/>
            <p:cNvSpPr/>
            <p:nvPr/>
          </p:nvSpPr>
          <p:spPr>
            <a:xfrm>
              <a:off x="5526360" y="4727520"/>
              <a:ext cx="14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5363640" y="479736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62"/>
            <p:cNvSpPr/>
            <p:nvPr/>
          </p:nvSpPr>
          <p:spPr>
            <a:xfrm>
              <a:off x="5915160" y="4727520"/>
              <a:ext cx="468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5814360" y="479736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64"/>
            <p:cNvSpPr/>
            <p:nvPr/>
          </p:nvSpPr>
          <p:spPr>
            <a:xfrm>
              <a:off x="6307200" y="4727520"/>
              <a:ext cx="324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6211080" y="479736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66"/>
            <p:cNvSpPr/>
            <p:nvPr/>
          </p:nvSpPr>
          <p:spPr>
            <a:xfrm>
              <a:off x="6820200" y="4727520"/>
              <a:ext cx="612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6724080" y="479736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8"/>
            <p:cNvSpPr/>
            <p:nvPr/>
          </p:nvSpPr>
          <p:spPr>
            <a:xfrm>
              <a:off x="7210440" y="4727520"/>
              <a:ext cx="180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7075800" y="4797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4480560" y="5070600"/>
              <a:ext cx="103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vours CT+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5995800" y="5070600"/>
              <a:ext cx="74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vours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72"/>
            <p:cNvSpPr/>
            <p:nvPr/>
          </p:nvSpPr>
          <p:spPr>
            <a:xfrm>
              <a:off x="342000" y="192240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73"/>
            <p:cNvSpPr/>
            <p:nvPr/>
          </p:nvSpPr>
          <p:spPr>
            <a:xfrm>
              <a:off x="2637000" y="1922400"/>
              <a:ext cx="98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CT +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74"/>
            <p:cNvSpPr/>
            <p:nvPr/>
          </p:nvSpPr>
          <p:spPr>
            <a:xfrm>
              <a:off x="3997440" y="192240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5"/>
            <p:cNvSpPr/>
            <p:nvPr/>
          </p:nvSpPr>
          <p:spPr>
            <a:xfrm>
              <a:off x="5232600" y="1922400"/>
              <a:ext cx="196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azard Rat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6"/>
            <p:cNvSpPr/>
            <p:nvPr/>
          </p:nvSpPr>
          <p:spPr>
            <a:xfrm>
              <a:off x="7317000" y="1922400"/>
              <a:ext cx="14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R (95% C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>
              <a:off x="405000" y="2286000"/>
              <a:ext cx="8277120" cy="3240"/>
            </a:xfrm>
            <a:prstGeom prst="line">
              <a:avLst/>
            </a:prstGeom>
            <a:ln w="9360">
              <a:solidFill>
                <a:srgbClr val="215b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8"/>
            <p:cNvSpPr/>
            <p:nvPr/>
          </p:nvSpPr>
          <p:spPr>
            <a:xfrm>
              <a:off x="2590920" y="160344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Number of pati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Line 79"/>
          <p:cNvSpPr/>
          <p:nvPr/>
        </p:nvSpPr>
        <p:spPr>
          <a:xfrm>
            <a:off x="179280" y="1268280"/>
            <a:ext cx="86407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2060640" cy="1522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340000" y="5013360"/>
            <a:ext cx="2016000" cy="1511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956720" y="4581360"/>
            <a:ext cx="0" cy="503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04000" y="5084640"/>
            <a:ext cx="216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5% Sv  improvement at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P=0.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INDUCTION CTx in III A STAGE NSCLC                </a:t>
            </a:r>
            <a:r>
              <a:rPr b="0" lang="fr-FR" sz="3200" spc="-1" strike="noStrike">
                <a:solidFill>
                  <a:srgbClr val="ffcc00"/>
                </a:solidFill>
                <a:latin typeface="Comic Sans MS"/>
              </a:rPr>
              <a:t>OR in 2</a:t>
            </a:r>
            <a:r>
              <a:rPr b="0" lang="fr-FR" sz="3200" spc="-1" strike="noStrike" baseline="30000">
                <a:solidFill>
                  <a:srgbClr val="ffcc00"/>
                </a:solidFill>
                <a:latin typeface="Comic Sans MS"/>
              </a:rPr>
              <a:t>nd</a:t>
            </a:r>
            <a:r>
              <a:rPr b="0" lang="fr-FR" sz="3200" spc="-1" strike="noStrike">
                <a:solidFill>
                  <a:srgbClr val="ffcc00"/>
                </a:solidFill>
                <a:latin typeface="Comic Sans MS"/>
              </a:rPr>
              <a:t> and 3</a:t>
            </a:r>
            <a:r>
              <a:rPr b="0" lang="fr-FR" sz="3200" spc="-1" strike="noStrike" baseline="30000">
                <a:solidFill>
                  <a:srgbClr val="ffcc00"/>
                </a:solidFill>
                <a:latin typeface="Comic Sans MS"/>
              </a:rPr>
              <a:t>rd</a:t>
            </a:r>
            <a:r>
              <a:rPr b="0" lang="fr-FR" sz="3200" spc="-1" strike="noStrike">
                <a:solidFill>
                  <a:srgbClr val="ffcc00"/>
                </a:solidFill>
                <a:latin typeface="Comic Sans MS"/>
              </a:rPr>
              <a:t> Generation Regi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324000" y="1455840"/>
          <a:ext cx="8820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55840"/>
                    <a:ext cx="8820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4"/>
          <p:cNvSpPr/>
          <p:nvPr/>
        </p:nvSpPr>
        <p:spPr>
          <a:xfrm rot="16200000">
            <a:off x="-589320" y="2697840"/>
            <a:ext cx="1860480" cy="32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%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1125360"/>
            <a:ext cx="9080640" cy="21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050920" y="6381720"/>
            <a:ext cx="730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324440" y="5465880"/>
            <a:ext cx="18054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OLD Doubl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Tri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826080" y="6014880"/>
            <a:ext cx="1860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NEW Doublets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0" r="49791" b="12125"/>
          <a:stretch/>
        </p:blipFill>
        <p:spPr>
          <a:xfrm>
            <a:off x="1332000" y="1538280"/>
            <a:ext cx="6624720" cy="49863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5719680" y="64785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Betticher et al, JCO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rcRect l="0" t="17989" r="0" b="35399"/>
          <a:stretch/>
        </p:blipFill>
        <p:spPr>
          <a:xfrm>
            <a:off x="179280" y="5013360"/>
            <a:ext cx="439128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5" descr=""/>
          <p:cNvPicPr/>
          <p:nvPr/>
        </p:nvPicPr>
        <p:blipFill>
          <a:blip r:embed="rId3"/>
          <a:srcRect l="0" t="50290" r="0" b="0"/>
          <a:stretch/>
        </p:blipFill>
        <p:spPr>
          <a:xfrm>
            <a:off x="4788000" y="1916280"/>
            <a:ext cx="4284720" cy="106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6"/>
          <p:cNvSpPr/>
          <p:nvPr/>
        </p:nvSpPr>
        <p:spPr>
          <a:xfrm>
            <a:off x="4861080" y="1987560"/>
            <a:ext cx="251928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50920" y="5062680"/>
            <a:ext cx="2592360" cy="38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4"/>
          <a:srcRect l="0" t="0" r="0" b="39964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9"/>
          <p:cNvSpPr/>
          <p:nvPr/>
        </p:nvSpPr>
        <p:spPr>
          <a:xfrm>
            <a:off x="34920" y="1268280"/>
            <a:ext cx="9109080" cy="14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43280" y="5878440"/>
            <a:ext cx="16574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0" t="30273" r="0" b="0"/>
          <a:stretch/>
        </p:blipFill>
        <p:spPr>
          <a:xfrm>
            <a:off x="250920" y="1557360"/>
            <a:ext cx="8642160" cy="47293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Comic Sans MS"/>
              </a:rPr>
              <a:t>EORTC 08941: Inclus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350680" y="566100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Van Meerbeeck JP, JNCI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141720"/>
            <a:ext cx="1800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EORTC 08941: Stud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92280" y="2757600"/>
            <a:ext cx="250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R, PR or MR after 3 cycles of platinum-based induction chemothera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71400" y="2685960"/>
            <a:ext cx="2473560" cy="2087640"/>
          </a:xfrm>
          <a:prstGeom prst="rect">
            <a:avLst/>
          </a:prstGeom>
          <a:noFill/>
          <a:ln w="38160">
            <a:solidFill>
              <a:srgbClr val="ff9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 rot="7858200">
            <a:off x="4429440" y="3332520"/>
            <a:ext cx="898560" cy="900000"/>
          </a:xfrm>
          <a:prstGeom prst="pie">
            <a:avLst/>
          </a:prstGeom>
          <a:gradFill rotWithShape="0">
            <a:gsLst>
              <a:gs pos="0">
                <a:srgbClr val="76480b"/>
              </a:gs>
              <a:gs pos="100000">
                <a:srgbClr val="ff9c18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276720" y="3571920"/>
            <a:ext cx="500040" cy="433440"/>
          </a:xfrm>
          <a:prstGeom prst="rightArrow">
            <a:avLst>
              <a:gd name="adj1" fmla="val 50000"/>
              <a:gd name="adj2" fmla="val 28841"/>
            </a:avLst>
          </a:prstGeom>
          <a:solidFill>
            <a:srgbClr val="ff9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5219640" y="453240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Thoracic RT (60 gy/2 f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5148360" y="4270320"/>
            <a:ext cx="3600360" cy="984240"/>
          </a:xfrm>
          <a:prstGeom prst="rect">
            <a:avLst/>
          </a:prstGeom>
          <a:noFill/>
          <a:ln w="38160">
            <a:solidFill>
              <a:srgbClr val="ff9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5581800" y="244620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Surgical Re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5148360" y="2182680"/>
            <a:ext cx="3600360" cy="984240"/>
          </a:xfrm>
          <a:prstGeom prst="rect">
            <a:avLst/>
          </a:prstGeom>
          <a:noFill/>
          <a:ln w="38160">
            <a:solidFill>
              <a:srgbClr val="ff9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371200" y="60688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Van Meerbeeck JP, JNCI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3978000" y="2062080"/>
            <a:ext cx="435240" cy="3385800"/>
          </a:xfrm>
          <a:prstGeom prst="rect">
            <a:avLst/>
          </a:prstGeom>
          <a:gradFill rotWithShape="0">
            <a:gsLst>
              <a:gs pos="0">
                <a:srgbClr val="ffe1b9"/>
              </a:gs>
              <a:gs pos="100000">
                <a:srgbClr val="ff9c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rcRect l="0" t="13476" r="0" b="6461"/>
          <a:stretch/>
        </p:blipFill>
        <p:spPr>
          <a:xfrm>
            <a:off x="468360" y="1297080"/>
            <a:ext cx="8064360" cy="47242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611280" y="18900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EORTC 08941: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350680" y="616572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Van Meerbeeck JP, JNCI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EORTC 08941: Survival by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700280"/>
          <a:ext cx="8351640" cy="3508200"/>
        </p:xfrm>
        <a:graphic>
          <a:graphicData uri="http://schemas.openxmlformats.org/drawingml/2006/table">
            <a:tbl>
              <a:tblPr/>
              <a:tblGrid>
                <a:gridCol w="3424320"/>
                <a:gridCol w="792000"/>
                <a:gridCol w="1440000"/>
                <a:gridCol w="1728720"/>
                <a:gridCol w="966600"/>
              </a:tblGrid>
              <a:tr h="80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 pts with surg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ff9c18"/>
                        </a:gs>
                        <a:gs pos="50000">
                          <a:srgbClr val="ffe4c0"/>
                        </a:gs>
                        <a:gs pos="100000">
                          <a:srgbClr val="ff9c1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ff9c18"/>
                        </a:gs>
                        <a:gs pos="50000">
                          <a:srgbClr val="ffe4c0"/>
                        </a:gs>
                        <a:gs pos="100000">
                          <a:srgbClr val="ff9c1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 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ff9c18"/>
                        </a:gs>
                        <a:gs pos="50000">
                          <a:srgbClr val="ffe4c0"/>
                        </a:gs>
                        <a:gs pos="100000">
                          <a:srgbClr val="ff9c1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yr S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ff9c18"/>
                        </a:gs>
                        <a:gs pos="50000">
                          <a:srgbClr val="ffe4c0"/>
                        </a:gs>
                        <a:gs pos="100000">
                          <a:srgbClr val="ff9c1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ff9c18"/>
                        </a:gs>
                        <a:gs pos="50000">
                          <a:srgbClr val="ffe4c0"/>
                        </a:gs>
                        <a:gs pos="100000">
                          <a:srgbClr val="ff9c18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Bi-) lobectom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neumonectom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pN0/N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p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.00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lete res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complete res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.00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1f8f9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42" name="Line 45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5350680" y="616572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Van Meerbeeck JP, JNCI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1773360"/>
            <a:ext cx="13669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7340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ost-op. mortality: 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70920"/>
            <a:ext cx="8713800" cy="1413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IIIA N</a:t>
            </a:r>
            <a:r>
              <a:rPr b="0" lang="it-IT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4400" spc="-1" strike="noStrike">
                <a:solidFill>
                  <a:srgbClr val="ff3300"/>
                </a:solidFill>
                <a:latin typeface="Tahoma"/>
              </a:rPr>
              <a:t>RESECTABLE</a:t>
            </a: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 NSCLC                   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Neoadjuvant Treatment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4040" y="1846440"/>
            <a:ext cx="8609040" cy="47512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5f5f5f"/>
                </a:solidFill>
                <a:latin typeface="Tahoma"/>
              </a:rPr>
              <a:t>INDUCTION CTx</a:t>
            </a:r>
            <a:r>
              <a:rPr b="1" lang="it-IT" sz="5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1" lang="en-GB" sz="54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1" lang="en-GB" sz="5400" spc="-1" strike="noStrike">
                <a:solidFill>
                  <a:srgbClr val="5f5f5f"/>
                </a:solidFill>
                <a:latin typeface="Tahoma"/>
              </a:rPr>
              <a:t> SURGE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INDUCTI</a:t>
            </a:r>
            <a:r>
              <a:rPr b="1" lang="it-IT" sz="5400" spc="-1" strike="noStrike">
                <a:solidFill>
                  <a:srgbClr val="000000"/>
                </a:solidFill>
                <a:latin typeface="Tahoma"/>
              </a:rPr>
              <a:t>ON CHEMO-RADIOTHERAPY </a:t>
            </a:r>
            <a:r>
              <a:rPr b="1" lang="it-IT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5400" spc="-1" strike="noStrike">
                <a:solidFill>
                  <a:srgbClr val="000000"/>
                </a:solidFill>
                <a:latin typeface="Tahoma"/>
              </a:rPr>
              <a:t> SURGER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1628640"/>
            <a:ext cx="9144000" cy="14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4360" y="1341360"/>
          <a:ext cx="7775280" cy="4751640"/>
        </p:xfrm>
        <a:graphic>
          <a:graphicData uri="http://schemas.openxmlformats.org/drawingml/2006/table">
            <a:tbl>
              <a:tblPr/>
              <a:tblGrid>
                <a:gridCol w="2425680"/>
                <a:gridCol w="1755720"/>
                <a:gridCol w="3593880"/>
              </a:tblGrid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A “minimal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3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1-3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2 LFN, 1 level, microsc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A “not minimal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1-3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and more levels, bulky 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B “technically resectable”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4N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ina, spine, right atrium, vena c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3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B “technically not resectabl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4N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4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1-4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lmonary artery, aorta, oesophagus, myocar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alateral mediast. nod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raclavicular n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24"/>
          <p:cNvSpPr/>
          <p:nvPr/>
        </p:nvSpPr>
        <p:spPr>
          <a:xfrm>
            <a:off x="395280" y="549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NSCLC Stage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179280" y="1125360"/>
            <a:ext cx="864072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464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0" y="184464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887360" y="6527880"/>
            <a:ext cx="38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M Thomas et al, Lung Canc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ttangolo arrotondato 5"/>
          <p:cNvSpPr/>
          <p:nvPr/>
        </p:nvSpPr>
        <p:spPr>
          <a:xfrm>
            <a:off x="5429160" y="4214880"/>
            <a:ext cx="857520" cy="214308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143080"/>
              <a:gd name="textAreaBottom" fmla="*/ 2101320 h 2143080"/>
            </a:gdLst>
            <a:ahLst/>
            <a:rect l="textAreaLeft" t="textAreaTop" r="textAreaRight" b="textAreaBottom"/>
            <a:pathLst>
              <a:path w="21600" h="53968">
                <a:moveTo>
                  <a:pt x="3600" y="0"/>
                </a:moveTo>
                <a:arcTo wR="3600" hR="3600" stAng="16200000" swAng="-5400000"/>
                <a:lnTo>
                  <a:pt x="0" y="50368"/>
                </a:lnTo>
                <a:arcTo wR="3600" hR="3600" stAng="10800000" swAng="-5400000"/>
                <a:lnTo>
                  <a:pt x="18000" y="539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ttangolo arrotondato 5"/>
          <p:cNvSpPr/>
          <p:nvPr/>
        </p:nvSpPr>
        <p:spPr>
          <a:xfrm>
            <a:off x="8101080" y="4221000"/>
            <a:ext cx="857160" cy="214344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2143440"/>
              <a:gd name="textAreaBottom" fmla="*/ 2101680 h 2143440"/>
            </a:gdLst>
            <a:ahLst/>
            <a:rect l="textAreaLeft" t="textAreaTop" r="textAreaRight" b="textAreaBottom"/>
            <a:pathLst>
              <a:path w="21600" h="54000">
                <a:moveTo>
                  <a:pt x="3600" y="0"/>
                </a:moveTo>
                <a:arcTo wR="3600" hR="3600" stAng="16200000" swAng="-5400000"/>
                <a:lnTo>
                  <a:pt x="0" y="50400"/>
                </a:lnTo>
                <a:arcTo wR="3600" hR="3600" stAng="10800000" swAng="-5400000"/>
                <a:lnTo>
                  <a:pt x="18000" y="5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rcRect l="0" t="26532" r="0" b="0"/>
          <a:stretch/>
        </p:blipFill>
        <p:spPr>
          <a:xfrm>
            <a:off x="684360" y="1700280"/>
            <a:ext cx="7704000" cy="3838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324000" y="18900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Int 0139/RTOG9309: Eligibility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868720" y="628488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Albain KS, Lance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92360" y="2781360"/>
            <a:ext cx="5543640" cy="503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Int 0139/RTOG9309: Stud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7800" y="2708280"/>
            <a:ext cx="2737080" cy="2160720"/>
          </a:xfrm>
          <a:prstGeom prst="rect">
            <a:avLst/>
          </a:prstGeom>
          <a:noFill/>
          <a:ln w="38160">
            <a:solidFill>
              <a:srgbClr val="ff9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258920" y="2827440"/>
            <a:ext cx="324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isplatin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50 mg/m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ays 1,8,29,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Etoposide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50 mg/m</a:t>
            </a:r>
            <a:r>
              <a:rPr b="0" lang="it-IT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ays 1-5, 29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TRT, 45 Gy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(1.8 Gy/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egin da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716360" y="1341360"/>
            <a:ext cx="3024360" cy="1657440"/>
          </a:xfrm>
          <a:prstGeom prst="rect">
            <a:avLst/>
          </a:prstGeom>
          <a:noFill/>
          <a:ln w="38160">
            <a:solidFill>
              <a:srgbClr val="ff9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4788000" y="134136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RE-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7 days before completion of RT.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f No PD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ontinue TRT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to 61 Gy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without inte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572000" y="4508640"/>
            <a:ext cx="3240000" cy="1657080"/>
          </a:xfrm>
          <a:prstGeom prst="rect">
            <a:avLst/>
          </a:prstGeom>
          <a:noFill/>
          <a:ln w="38160">
            <a:solidFill>
              <a:srgbClr val="ff9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4643280" y="465300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RE-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2-4 wks after completion of RT.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f No 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Surgical re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516720" y="3282840"/>
            <a:ext cx="2448000" cy="938160"/>
          </a:xfrm>
          <a:prstGeom prst="rect">
            <a:avLst/>
          </a:prstGeom>
          <a:noFill/>
          <a:ln w="38160">
            <a:solidFill>
              <a:srgbClr val="ff9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6558120" y="3429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Cisplatin + Etopo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"/>
          <p:cNvSpPr/>
          <p:nvPr/>
        </p:nvSpPr>
        <p:spPr>
          <a:xfrm rot="5400000">
            <a:off x="7776360" y="2240640"/>
            <a:ext cx="934920" cy="720720"/>
          </a:xfrm>
          <a:prstGeom prst="pie">
            <a:avLst/>
          </a:prstGeom>
          <a:gradFill rotWithShape="0">
            <a:gsLst>
              <a:gs pos="0">
                <a:srgbClr val="ff9c18"/>
              </a:gs>
              <a:gs pos="100000">
                <a:srgbClr val="76480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"/>
          <p:cNvSpPr/>
          <p:nvPr/>
        </p:nvSpPr>
        <p:spPr>
          <a:xfrm flipV="1" rot="16200000">
            <a:off x="7846920" y="4545000"/>
            <a:ext cx="936720" cy="720720"/>
          </a:xfrm>
          <a:prstGeom prst="pie">
            <a:avLst/>
          </a:prstGeom>
          <a:gradFill rotWithShape="0">
            <a:gsLst>
              <a:gs pos="0">
                <a:srgbClr val="ff9c18"/>
              </a:gs>
              <a:gs pos="100000">
                <a:srgbClr val="76480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96720" y="2133720"/>
            <a:ext cx="435240" cy="3385800"/>
          </a:xfrm>
          <a:prstGeom prst="rect">
            <a:avLst/>
          </a:prstGeom>
          <a:gradFill rotWithShape="0">
            <a:gsLst>
              <a:gs pos="0">
                <a:srgbClr val="ffe1b9"/>
              </a:gs>
              <a:gs pos="100000">
                <a:srgbClr val="ff9c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ba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5"/>
          <p:cNvSpPr/>
          <p:nvPr/>
        </p:nvSpPr>
        <p:spPr>
          <a:xfrm rot="7858200">
            <a:off x="4235040" y="3162240"/>
            <a:ext cx="1106640" cy="1154160"/>
          </a:xfrm>
          <a:prstGeom prst="pie">
            <a:avLst/>
          </a:prstGeom>
          <a:gradFill rotWithShape="0">
            <a:gsLst>
              <a:gs pos="0">
                <a:srgbClr val="76480b"/>
              </a:gs>
              <a:gs pos="100000">
                <a:srgbClr val="ff9c18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6"/>
          <p:cNvSpPr/>
          <p:nvPr/>
        </p:nvSpPr>
        <p:spPr>
          <a:xfrm>
            <a:off x="900000" y="3573360"/>
            <a:ext cx="500040" cy="433440"/>
          </a:xfrm>
          <a:prstGeom prst="rightArrow">
            <a:avLst>
              <a:gd name="adj1" fmla="val 50000"/>
              <a:gd name="adj2" fmla="val 28841"/>
            </a:avLst>
          </a:prstGeom>
          <a:solidFill>
            <a:srgbClr val="ff9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5868720" y="628488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Albain KS, Lance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Int 0139/RTOG9309: Survival &amp; P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1413000"/>
          <a:ext cx="8426520" cy="2735280"/>
        </p:xfrm>
        <a:graphic>
          <a:graphicData uri="http://schemas.openxmlformats.org/drawingml/2006/table">
            <a:tbl>
              <a:tblPr/>
              <a:tblGrid>
                <a:gridCol w="3244680"/>
                <a:gridCol w="1727280"/>
                <a:gridCol w="1727280"/>
                <a:gridCol w="172728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po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ff9c18"/>
                        </a:gs>
                        <a:gs pos="50000">
                          <a:srgbClr val="ffe7c7"/>
                        </a:gs>
                        <a:gs pos="100000">
                          <a:srgbClr val="ff9c1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/RT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ff9c18"/>
                        </a:gs>
                        <a:gs pos="50000">
                          <a:srgbClr val="ffe7c7"/>
                        </a:gs>
                        <a:gs pos="100000">
                          <a:srgbClr val="ff9c1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/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ff9c18"/>
                        </a:gs>
                        <a:gs pos="50000">
                          <a:srgbClr val="ffe7c7"/>
                        </a:gs>
                        <a:gs pos="100000">
                          <a:srgbClr val="ff9c1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ff9c18"/>
                        </a:gs>
                        <a:gs pos="50000">
                          <a:srgbClr val="ffe7c7"/>
                        </a:gs>
                        <a:gs pos="100000">
                          <a:srgbClr val="ff9c18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PFS (month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year PFS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 (month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576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year survival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5ba9"/>
                      </a:solidFill>
                    </a:lnT>
                    <a:lnB w="18720">
                      <a:solidFill>
                        <a:srgbClr val="215ba9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50000">
                          <a:srgbClr val="f3f9fa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8" name="Line 37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38"/>
          <p:cNvSpPr/>
          <p:nvPr/>
        </p:nvSpPr>
        <p:spPr>
          <a:xfrm>
            <a:off x="7380360" y="3141720"/>
            <a:ext cx="1297080" cy="936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6344640" y="630864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Albain KS, Lance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1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79640" cy="2473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2" descr=""/>
          <p:cNvPicPr/>
          <p:nvPr/>
        </p:nvPicPr>
        <p:blipFill>
          <a:blip r:embed="rId2"/>
          <a:stretch/>
        </p:blipFill>
        <p:spPr>
          <a:xfrm>
            <a:off x="3419640" y="4221000"/>
            <a:ext cx="2808000" cy="2487600"/>
          </a:xfrm>
          <a:prstGeom prst="rect">
            <a:avLst/>
          </a:prstGeom>
          <a:ln w="0">
            <a:noFill/>
          </a:ln>
        </p:spPr>
      </p:pic>
      <p:sp>
        <p:nvSpPr>
          <p:cNvPr id="283" name="CasellaDiTesto 42"/>
          <p:cNvSpPr/>
          <p:nvPr/>
        </p:nvSpPr>
        <p:spPr>
          <a:xfrm>
            <a:off x="2143080" y="5000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llaDiTesto 43"/>
          <p:cNvSpPr/>
          <p:nvPr/>
        </p:nvSpPr>
        <p:spPr>
          <a:xfrm>
            <a:off x="5286240" y="5000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Object 4"/>
          <p:cNvGraphicFramePr/>
          <p:nvPr/>
        </p:nvGraphicFramePr>
        <p:xfrm>
          <a:off x="611280" y="333360"/>
          <a:ext cx="8243640" cy="6211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3360"/>
                    <a:ext cx="824364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ttangolo 4"/>
          <p:cNvSpPr/>
          <p:nvPr/>
        </p:nvSpPr>
        <p:spPr>
          <a:xfrm>
            <a:off x="6200280" y="621504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Albain KS, Lance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llaDiTesto 5"/>
          <p:cNvSpPr/>
          <p:nvPr/>
        </p:nvSpPr>
        <p:spPr>
          <a:xfrm>
            <a:off x="642960" y="607212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Treatment-related deaths: 8% vs 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Int 0139: CT/RT + lobectomy or pneumonec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406080" y="1700280"/>
            <a:ext cx="43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T/RT</a:t>
            </a:r>
            <a:r>
              <a:rPr b="0" lang="it-IT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Pneumonectomy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vs CT/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5012280" y="170028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CT/RT</a:t>
            </a:r>
            <a:r>
              <a:rPr b="0" lang="it-IT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Lobectomy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vs CT/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953160" cy="295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936960" cy="298620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6344640" y="630864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Albain KS, Lance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5661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ts matched with those in non-surgical group according to age, sex, KPS, clinical T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398920" cy="4981320"/>
          </a:xfrm>
          <a:prstGeom prst="rect">
            <a:avLst/>
          </a:prstGeom>
          <a:ln w="0">
            <a:noFill/>
          </a:ln>
        </p:spPr>
      </p:pic>
      <p:sp>
        <p:nvSpPr>
          <p:cNvPr id="298" name="Line 3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250920" y="18900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Int 0139: OS by pathological nod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6344640" y="630864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Albain KS, Lance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asellaDiTesto 7"/>
          <p:cNvSpPr/>
          <p:nvPr/>
        </p:nvSpPr>
        <p:spPr>
          <a:xfrm>
            <a:off x="4000680" y="321480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Comic Sans MS"/>
              </a:rPr>
              <a:t>mSv 34.4 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e 8"/>
          <p:cNvSpPr/>
          <p:nvPr/>
        </p:nvSpPr>
        <p:spPr>
          <a:xfrm>
            <a:off x="2286000" y="5929200"/>
            <a:ext cx="642960" cy="3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tangolo 9"/>
          <p:cNvSpPr/>
          <p:nvPr/>
        </p:nvSpPr>
        <p:spPr>
          <a:xfrm>
            <a:off x="2778840" y="38577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b050"/>
                </a:solidFill>
                <a:latin typeface="Comic Sans MS"/>
              </a:rPr>
              <a:t>mSv 26.4 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ttangolo 10"/>
          <p:cNvSpPr/>
          <p:nvPr/>
        </p:nvSpPr>
        <p:spPr>
          <a:xfrm>
            <a:off x="1924200" y="457200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b0f0"/>
                </a:solidFill>
                <a:latin typeface="Comic Sans MS"/>
              </a:rPr>
              <a:t>mSv 7.9 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asellaDiTesto 11"/>
          <p:cNvSpPr/>
          <p:nvPr/>
        </p:nvSpPr>
        <p:spPr>
          <a:xfrm>
            <a:off x="6072120" y="178596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pT0N0: mSv 39.8 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4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539640" y="404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mic Sans MS"/>
              </a:rPr>
              <a:t>Stage IIIB NSCLC: an open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468360" y="1557360"/>
            <a:ext cx="820728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10-15% of newly diagnosed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Heterogeneous group (new TNM class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T4 (carina, pulmonary artery, vertebral bodies, vena cava vs pleural/pericardial effusion, aorta, oesophagus, myocardi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N3 (“limited” contralateral vs bulky contralateral, supraclavi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Standard treatment (ASCO guidelines): combined CT-RT (concomi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Limited (combined IIIA/IIIB) surgical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Mainly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539640" y="1039680"/>
            <a:ext cx="7920000" cy="52182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539640" y="404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mic Sans MS"/>
              </a:rPr>
              <a:t>Neoadjuvant CT-RT in  IIIB NSC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468360" y="981000"/>
            <a:ext cx="8136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140360" y="638172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Stupp et al., Lancet Oncolog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ttangolo arrotondato 7"/>
          <p:cNvSpPr/>
          <p:nvPr/>
        </p:nvSpPr>
        <p:spPr>
          <a:xfrm>
            <a:off x="6429240" y="3643200"/>
            <a:ext cx="285840" cy="192888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1928880"/>
              <a:gd name="textAreaBottom" fmla="*/ 1915200 h 1928880"/>
            </a:gdLst>
            <a:ahLst/>
            <a:rect l="textAreaLeft" t="textAreaTop" r="textAreaRight" b="textAreaBottom"/>
            <a:pathLst>
              <a:path w="21600" h="145603">
                <a:moveTo>
                  <a:pt x="3600" y="0"/>
                </a:moveTo>
                <a:arcTo wR="3600" hR="3600" stAng="16200000" swAng="-5400000"/>
                <a:lnTo>
                  <a:pt x="0" y="142003"/>
                </a:lnTo>
                <a:arcTo wR="3600" hR="3600" stAng="10800000" swAng="-5400000"/>
                <a:lnTo>
                  <a:pt x="18000" y="145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ttangolo arrotondato 8"/>
          <p:cNvSpPr/>
          <p:nvPr/>
        </p:nvSpPr>
        <p:spPr>
          <a:xfrm>
            <a:off x="6929280" y="3643200"/>
            <a:ext cx="500400" cy="1928880"/>
          </a:xfrm>
          <a:custGeom>
            <a:avLst/>
            <a:gdLst>
              <a:gd name="textAreaLeft" fmla="*/ 24120 w 500400"/>
              <a:gd name="textAreaRight" fmla="*/ 476280 w 500400"/>
              <a:gd name="textAreaTop" fmla="*/ 24120 h 1928880"/>
              <a:gd name="textAreaBottom" fmla="*/ 1904760 h 1928880"/>
            </a:gdLst>
            <a:ahLst/>
            <a:rect l="textAreaLeft" t="textAreaTop" r="textAreaRight" b="textAreaBottom"/>
            <a:pathLst>
              <a:path w="21600" h="83217">
                <a:moveTo>
                  <a:pt x="3600" y="0"/>
                </a:moveTo>
                <a:arcTo wR="3600" hR="3600" stAng="16200000" swAng="-5400000"/>
                <a:lnTo>
                  <a:pt x="0" y="79617"/>
                </a:lnTo>
                <a:arcTo wR="3600" hR="3600" stAng="10800000" swAng="-5400000"/>
                <a:lnTo>
                  <a:pt x="18000" y="83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ttangolo arrotondato 9"/>
          <p:cNvSpPr/>
          <p:nvPr/>
        </p:nvSpPr>
        <p:spPr>
          <a:xfrm>
            <a:off x="1857240" y="3643200"/>
            <a:ext cx="428760" cy="192888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1928880"/>
              <a:gd name="textAreaBottom" fmla="*/ 1908000 h 1928880"/>
            </a:gdLst>
            <a:ahLst/>
            <a:rect l="textAreaLeft" t="textAreaTop" r="textAreaRight" b="textAreaBottom"/>
            <a:pathLst>
              <a:path w="21600" h="97109">
                <a:moveTo>
                  <a:pt x="3600" y="0"/>
                </a:moveTo>
                <a:arcTo wR="3600" hR="3600" stAng="16200000" swAng="-5400000"/>
                <a:lnTo>
                  <a:pt x="0" y="93509"/>
                </a:lnTo>
                <a:arcTo wR="3600" hR="3600" stAng="10800000" swAng="-5400000"/>
                <a:lnTo>
                  <a:pt x="18000" y="97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ttangolo arrotondato 10"/>
          <p:cNvSpPr/>
          <p:nvPr/>
        </p:nvSpPr>
        <p:spPr>
          <a:xfrm>
            <a:off x="2357280" y="3643200"/>
            <a:ext cx="285840" cy="192888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1928880"/>
              <a:gd name="textAreaBottom" fmla="*/ 1915200 h 1928880"/>
            </a:gdLst>
            <a:ahLst/>
            <a:rect l="textAreaLeft" t="textAreaTop" r="textAreaRight" b="textAreaBottom"/>
            <a:pathLst>
              <a:path w="21600" h="145603">
                <a:moveTo>
                  <a:pt x="3600" y="0"/>
                </a:moveTo>
                <a:arcTo wR="3600" hR="3600" stAng="16200000" swAng="-5400000"/>
                <a:lnTo>
                  <a:pt x="0" y="142003"/>
                </a:lnTo>
                <a:arcTo wR="3600" hR="3600" stAng="10800000" swAng="-5400000"/>
                <a:lnTo>
                  <a:pt x="18000" y="145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ttangolo arrotondato 11"/>
          <p:cNvSpPr/>
          <p:nvPr/>
        </p:nvSpPr>
        <p:spPr>
          <a:xfrm>
            <a:off x="2714760" y="3643200"/>
            <a:ext cx="357120" cy="1928880"/>
          </a:xfrm>
          <a:custGeom>
            <a:avLst/>
            <a:gdLst>
              <a:gd name="textAreaLeft" fmla="*/ 17280 w 357120"/>
              <a:gd name="textAreaRight" fmla="*/ 339840 w 357120"/>
              <a:gd name="textAreaTop" fmla="*/ 17280 h 1928880"/>
              <a:gd name="textAreaBottom" fmla="*/ 1911600 h 1928880"/>
            </a:gdLst>
            <a:ahLst/>
            <a:rect l="textAreaLeft" t="textAreaTop" r="textAreaRight" b="textAreaBottom"/>
            <a:pathLst>
              <a:path w="21600" h="116570">
                <a:moveTo>
                  <a:pt x="3600" y="0"/>
                </a:moveTo>
                <a:arcTo wR="3600" hR="3600" stAng="16200000" swAng="-5400000"/>
                <a:lnTo>
                  <a:pt x="0" y="112970"/>
                </a:lnTo>
                <a:arcTo wR="3600" hR="3600" stAng="10800000" swAng="-5400000"/>
                <a:lnTo>
                  <a:pt x="18000" y="1165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3276720" y="623736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Grunenwald et al, J Thorac Cardiovasc Surg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032520" cy="49212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539640" y="404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mic Sans MS"/>
              </a:rPr>
              <a:t>Post-induction nodal staging in  IIIB NSC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468360" y="981000"/>
            <a:ext cx="8136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cc00"/>
                </a:solidFill>
                <a:latin typeface="Comic Sans MS"/>
              </a:rPr>
              <a:t>IIIA-N2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197000"/>
          <a:ext cx="8136000" cy="4664160"/>
        </p:xfrm>
        <a:graphic>
          <a:graphicData uri="http://schemas.openxmlformats.org/drawingml/2006/table">
            <a:tbl>
              <a:tblPr/>
              <a:tblGrid>
                <a:gridCol w="1609560"/>
                <a:gridCol w="3481560"/>
                <a:gridCol w="304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86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Incidental nodal metastases found at  pathology examination of the resection specimen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(occult N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Up to 7% of thoracotom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Nodal (single station) metastases recognized intra-operativ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MS Mincho"/>
                        </a:rPr>
                        <a:t>(unexpected N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p to 6% false negative mediastinoscop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Comic Sans MS"/>
                          <a:ea typeface="MS Mincho"/>
                        </a:rPr>
                        <a:t>Nodal metastases (single or multiple station) recognized at pre-thoracotomy 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Comic Sans MS"/>
                          <a:ea typeface="MS Mincho"/>
                        </a:rPr>
                        <a:t>(clinical N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67% of clinical  stage I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Comic Sans MS"/>
                          <a:ea typeface="MS Mincho"/>
                        </a:rPr>
                        <a:t>Fixed multi-station N2 disease </a:t>
                      </a:r>
                      <a:r>
                        <a:rPr b="1" lang="en-GB" sz="1800" spc="-1" strike="noStrike">
                          <a:solidFill>
                            <a:srgbClr val="ffff00"/>
                          </a:solidFill>
                          <a:latin typeface="Comic Sans MS"/>
                          <a:ea typeface="MS Mincho"/>
                        </a:rPr>
                        <a:t>(bulky N2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Comic Sans MS"/>
                          <a:ea typeface="MS Mincho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Rectangle 28"/>
          <p:cNvSpPr/>
          <p:nvPr/>
        </p:nvSpPr>
        <p:spPr>
          <a:xfrm>
            <a:off x="0" y="519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79280" y="1052640"/>
            <a:ext cx="86407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cc00"/>
                </a:solidFill>
                <a:latin typeface="Comic Sans MS"/>
              </a:rPr>
              <a:t>Accuracy of PET for Diagnosis of Residual Mediastinal Disease After Induction Chemotherapy or Chemoradiotherapy in Surgically Treated Patients With Stage IIIA NSC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8000" y="2239920"/>
          <a:ext cx="8856720" cy="3495600"/>
        </p:xfrm>
        <a:graphic>
          <a:graphicData uri="http://schemas.openxmlformats.org/drawingml/2006/table">
            <a:tbl>
              <a:tblPr/>
              <a:tblGrid>
                <a:gridCol w="1150920"/>
                <a:gridCol w="1368360"/>
                <a:gridCol w="801720"/>
                <a:gridCol w="1108080"/>
                <a:gridCol w="1104840"/>
                <a:gridCol w="1108080"/>
                <a:gridCol w="1106640"/>
                <a:gridCol w="110808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n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A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khu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rfol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T-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tt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T-&gt; CT-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Ley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T-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Line 166"/>
          <p:cNvSpPr/>
          <p:nvPr/>
        </p:nvSpPr>
        <p:spPr>
          <a:xfrm>
            <a:off x="468360" y="1844640"/>
            <a:ext cx="8136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cc00"/>
                </a:solidFill>
                <a:latin typeface="Comic Sans MS"/>
              </a:rPr>
              <a:t>Restaging by E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283520" cy="50562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7350120" y="630864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bbe0e3"/>
                </a:solidFill>
                <a:latin typeface="Comic Sans MS"/>
              </a:rPr>
              <a:t>Herth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2"/>
          <a:stretch/>
        </p:blipFill>
        <p:spPr>
          <a:xfrm>
            <a:off x="826920" y="5157720"/>
            <a:ext cx="7274160" cy="1150920"/>
          </a:xfrm>
          <a:prstGeom prst="rect">
            <a:avLst/>
          </a:prstGeom>
          <a:ln w="0">
            <a:noFill/>
          </a:ln>
        </p:spPr>
      </p:pic>
      <p:sp>
        <p:nvSpPr>
          <p:cNvPr id="329" name="Line 9"/>
          <p:cNvSpPr/>
          <p:nvPr/>
        </p:nvSpPr>
        <p:spPr>
          <a:xfrm>
            <a:off x="468360" y="981000"/>
            <a:ext cx="8136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68360" y="260280"/>
            <a:ext cx="46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Comic Sans M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000" y="1512360"/>
            <a:ext cx="8351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Stage IIIA(N2) heterogenous: better stratification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areful identification of pts candidates to aggressive multimodality treatments (staging with PET and mediastinoscopy, clinical evaluation – age, comorbidities). Critical role of mediastinal re-sta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Induction CT/RT may increase peri-op mortality (esp. if right pneumonectomy required) and toxicity; maximum survival benefit realized by lobectomy post CT/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ole of trimodality therapy in selected IIIB pts (T4, some N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324000" y="1197000"/>
            <a:ext cx="84960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8000" y="117360"/>
            <a:ext cx="896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EOADJUVANT THERAPY IN NSCLC IIIA/B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43214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2760" indent="-48276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Optimal staging and restaging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Chemotherapy vs CT/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Optimal chemotherapy regim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New therapeutic (targeted)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mprovement in RT techniques (IMRT, proton therapy) and planning (FDG-PET, V20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ole in selected IIIB 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Prophylactic brain radiation (PCI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foto TURCHIA"/>
          <p:cNvPicPr/>
          <p:nvPr/>
        </p:nvPicPr>
        <p:blipFill>
          <a:blip r:embed="rId1"/>
          <a:srcRect l="0" t="0" r="0" b="65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95280" y="40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Comic Sans MS"/>
              </a:rPr>
              <a:t>NSCLC Stage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"/>
          <p:cNvSpPr/>
          <p:nvPr/>
        </p:nvSpPr>
        <p:spPr>
          <a:xfrm>
            <a:off x="179280" y="1125360"/>
            <a:ext cx="864072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611280" y="595008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GRAZIE PER L’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1413000"/>
            <a:ext cx="891540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T1-3N2 without subcarinal involvement and without  N1 is the best prognostic N2 subcategory 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( p = 0.0018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Surgery for patients with T1-3 N2 NSCLC acceptable if subcarinal metastasis is predicted to be absen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4495680" y="23623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2268360" y="6165720"/>
            <a:ext cx="658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be0e3"/>
                </a:solidFill>
                <a:latin typeface="Comic Sans MS"/>
              </a:rPr>
              <a:t>Iwasaki A, et al. Thorac Cardiovasc Surg 2006;54:42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666880" cy="2286000"/>
          </a:xfrm>
          <a:prstGeom prst="rect">
            <a:avLst/>
          </a:prstGeom>
          <a:ln w="57240">
            <a:solidFill>
              <a:srgbClr val="bbe0e3"/>
            </a:solidFill>
            <a:miter/>
          </a:ln>
        </p:spPr>
      </p:pic>
      <p:sp>
        <p:nvSpPr>
          <p:cNvPr id="344" name="Oval 7"/>
          <p:cNvSpPr/>
          <p:nvPr/>
        </p:nvSpPr>
        <p:spPr>
          <a:xfrm>
            <a:off x="1295280" y="3048120"/>
            <a:ext cx="45720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380880" y="1523880"/>
            <a:ext cx="1067040" cy="1676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2"/>
          <a:stretch/>
        </p:blipFill>
        <p:spPr>
          <a:xfrm>
            <a:off x="6889680" y="2209680"/>
            <a:ext cx="1665360" cy="2057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"/>
          <p:cNvPicPr/>
          <p:nvPr/>
        </p:nvPicPr>
        <p:blipFill>
          <a:blip r:embed="rId3"/>
          <a:stretch/>
        </p:blipFill>
        <p:spPr>
          <a:xfrm>
            <a:off x="5214960" y="2209680"/>
            <a:ext cx="1719360" cy="20574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0"/>
          <p:cNvSpPr/>
          <p:nvPr/>
        </p:nvSpPr>
        <p:spPr>
          <a:xfrm>
            <a:off x="25092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Comic Sans MS"/>
              </a:rPr>
              <a:t>Subcarinal nodal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1"/>
          <p:cNvSpPr/>
          <p:nvPr/>
        </p:nvSpPr>
        <p:spPr>
          <a:xfrm>
            <a:off x="179280" y="907920"/>
            <a:ext cx="86407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83480" cy="450396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1835280" y="602136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bbe0e3"/>
                </a:solidFill>
                <a:latin typeface="Comic Sans MS"/>
                <a:ea typeface="Arial"/>
              </a:rPr>
              <a:t>5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Albain JCO 1995; </a:t>
            </a:r>
            <a:r>
              <a:rPr b="0" lang="en-US" sz="1800" spc="-1" strike="noStrike" baseline="30000">
                <a:solidFill>
                  <a:srgbClr val="bbe0e3"/>
                </a:solidFill>
                <a:latin typeface="Comic Sans MS"/>
                <a:ea typeface="Arial"/>
              </a:rPr>
              <a:t>6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Eberhardt JCO1998; </a:t>
            </a:r>
            <a:r>
              <a:rPr b="0" lang="en-US" sz="1800" spc="-1" strike="noStrike" baseline="30000">
                <a:solidFill>
                  <a:srgbClr val="bbe0e3"/>
                </a:solidFill>
                <a:latin typeface="Comic Sans MS"/>
                <a:ea typeface="Arial"/>
              </a:rPr>
              <a:t>7</a:t>
            </a: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Thomas JCO 19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  <a:ea typeface="Arial"/>
              </a:rPr>
              <a:t>Grunenwald et al, J Thorac Cardiovasc Surg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539640" y="404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mic Sans MS"/>
              </a:rPr>
              <a:t>Neoadjuvant CT-RT in  IIIB NSC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381480" cy="53676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4067280" y="1341360"/>
            <a:ext cx="44654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rospective study of 153 candidates for radical RT/chem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ll pts underwent conventional staging and FDG-PET before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30% of pts were denied radical RT/chemoRT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because of unexpected distant mets (20%) or intrathoracic disease too extensive for radical irradiation 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Survival correlated with PET stage (p=0.0041),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not with conventional stage (p=0.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5076720" y="609300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bbe0e3"/>
                </a:solidFill>
                <a:latin typeface="Comic Sans MS"/>
              </a:rPr>
              <a:t>Mac Manus et al., Cancer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24000" y="260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FDG-PET staging before radical RT/chem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250920" y="981000"/>
            <a:ext cx="864072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47"/>
            </a:gs>
            <a:gs pos="5000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541440" y="2514600"/>
            <a:ext cx="1287360" cy="22827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609480" y="27432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335 NSCLCStage IB - II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2303640" y="1905120"/>
            <a:ext cx="541080" cy="3657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370240" y="2176560"/>
            <a:ext cx="406440" cy="32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2979720" y="220968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2979720" y="449568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3726000" y="2057400"/>
            <a:ext cx="203184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3726000" y="4495680"/>
            <a:ext cx="4130640" cy="1020960"/>
          </a:xfrm>
          <a:prstGeom prst="rect">
            <a:avLst/>
          </a:prstGeom>
          <a:gradFill rotWithShape="0">
            <a:gsLst>
              <a:gs pos="0">
                <a:srgbClr val="462a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6637320" y="1981080"/>
            <a:ext cx="2100240" cy="1143000"/>
          </a:xfrm>
          <a:prstGeom prst="rect">
            <a:avLst/>
          </a:prstGeom>
          <a:gradFill rotWithShape="0">
            <a:gsLst>
              <a:gs pos="0">
                <a:srgbClr val="462a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3801960" y="2209680"/>
            <a:ext cx="2370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MIC*x2 Q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(if OR,2+cyc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2"/>
          <p:cNvSpPr/>
          <p:nvPr/>
        </p:nvSpPr>
        <p:spPr>
          <a:xfrm>
            <a:off x="5892840" y="220968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6781680" y="2057400"/>
            <a:ext cx="21002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Surgery 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(7</a:t>
            </a:r>
            <a:r>
              <a:rPr b="0" lang="it-IT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wk after random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3809880" y="4495680"/>
            <a:ext cx="434340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Surgery 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(1</a:t>
            </a:r>
            <a:r>
              <a:rPr b="0" lang="it-IT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wk after random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135000" y="5734080"/>
            <a:ext cx="8940600" cy="67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* MMC (6 mg/m2 d1); IFO (1.5 g/m2 d1-3); CIS (30 mg/m2 d1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§ RT 60Gy/6 wk (if pT3 and/or p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5875560" y="64627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A Depierre et al, JCO 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7" descr=""/>
          <p:cNvPicPr/>
          <p:nvPr/>
        </p:nvPicPr>
        <p:blipFill>
          <a:blip r:embed="rId1"/>
          <a:srcRect l="0" t="0" r="0" b="55895"/>
          <a:stretch/>
        </p:blipFill>
        <p:spPr>
          <a:xfrm>
            <a:off x="179280" y="73080"/>
            <a:ext cx="8785440" cy="133992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962" t="9767" r="2745" b="1943"/>
          <a:stretch/>
        </p:blipFill>
        <p:spPr>
          <a:xfrm>
            <a:off x="179280" y="1557360"/>
            <a:ext cx="8785440" cy="3816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5092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Comic Sans MS"/>
              </a:rPr>
              <a:t>Staging: ASC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79280" y="1052640"/>
            <a:ext cx="86407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rcRect l="0" t="0" r="0" b="69603"/>
          <a:stretch/>
        </p:blipFill>
        <p:spPr>
          <a:xfrm>
            <a:off x="1476360" y="5516640"/>
            <a:ext cx="7505640" cy="1057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5867280" y="3068640"/>
            <a:ext cx="2952720" cy="79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356000" y="60930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Mac Manus &amp; Hicks, IJROBP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24000" y="260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Comic Sans MS"/>
              </a:rPr>
              <a:t>Role of FDG-PET in R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50920" y="981000"/>
            <a:ext cx="864072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15800" y="1352520"/>
            <a:ext cx="8313840" cy="4152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867280" y="1773360"/>
            <a:ext cx="2737080" cy="31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79280" y="1773360"/>
          <a:ext cx="8785440" cy="4464000"/>
        </p:xfrm>
        <a:graphic>
          <a:graphicData uri="http://schemas.openxmlformats.org/drawingml/2006/table">
            <a:tbl>
              <a:tblPr/>
              <a:tblGrid>
                <a:gridCol w="1392480"/>
                <a:gridCol w="1477800"/>
                <a:gridCol w="3914640"/>
                <a:gridCol w="2000520"/>
              </a:tblGrid>
              <a:tr h="707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2 Sub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y-S after Surg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 N</a:t>
                      </a:r>
                      <a:r>
                        <a:rPr b="1" lang="nl-NL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A</a:t>
                      </a:r>
                      <a:r>
                        <a:rPr b="1" lang="nl-NL" sz="16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dal metastases found incidentally on the final pathological examination of the surgical resected speci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-2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 N</a:t>
                      </a:r>
                      <a:r>
                        <a:rPr b="1" lang="nl-NL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A</a:t>
                      </a:r>
                      <a:r>
                        <a:rPr b="1" lang="nl-NL" sz="16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dal metastases (single station) found intraoperativ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 N</a:t>
                      </a:r>
                      <a:r>
                        <a:rPr b="1" lang="nl-NL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A</a:t>
                      </a:r>
                      <a:r>
                        <a:rPr b="1" lang="nl-NL" sz="16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dal metastases identified by pre-thoracotomy staging (mediastinoscopy; EUS, EBUS, PET sc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-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ulky N</a:t>
                      </a:r>
                      <a:r>
                        <a:rPr b="1" lang="nl-NL" sz="16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IIA</a:t>
                      </a:r>
                      <a:r>
                        <a:rPr b="1" lang="nl-NL" sz="16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ulky or fixed multi-station N2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STAGE III A NSCLC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Results of surgery alone</a:t>
            </a: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2"/>
          <p:cNvSpPr/>
          <p:nvPr/>
        </p:nvSpPr>
        <p:spPr>
          <a:xfrm>
            <a:off x="0" y="141300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1618920" y="6308640"/>
            <a:ext cx="72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bbe0e3"/>
                </a:solidFill>
                <a:latin typeface="Comic Sans MS"/>
              </a:rPr>
              <a:t>Adapted from LA Robinson, H Wagner, J Ruckdeschel, Chest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7380360" y="4437000"/>
            <a:ext cx="115092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6156360" y="2962440"/>
            <a:ext cx="2879640" cy="2482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3132000" y="1708200"/>
            <a:ext cx="2735280" cy="105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linical N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tage-II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RESECT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300720" y="1749600"/>
            <a:ext cx="2592360" cy="135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Bulky N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tage-II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UNRESECT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N2"/>
          <p:cNvPicPr/>
          <p:nvPr/>
        </p:nvPicPr>
        <p:blipFill>
          <a:blip r:embed="rId2"/>
          <a:srcRect l="0" t="0" r="0" b="1465"/>
          <a:stretch/>
        </p:blipFill>
        <p:spPr>
          <a:xfrm>
            <a:off x="2987640" y="2997360"/>
            <a:ext cx="3097080" cy="2420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931720" y="6356520"/>
            <a:ext cx="318600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HEMO-RADIO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618280" y="6354720"/>
            <a:ext cx="30949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NDUCTION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8000" y="1700280"/>
            <a:ext cx="2735280" cy="105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Minimal N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tage-II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RESECTAB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801000" y="6356520"/>
            <a:ext cx="13345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1042920" y="5373720"/>
            <a:ext cx="10620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3929040" y="5357880"/>
            <a:ext cx="10620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7110360" y="5373720"/>
            <a:ext cx="10620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5" descr=""/>
          <p:cNvPicPr/>
          <p:nvPr/>
        </p:nvPicPr>
        <p:blipFill>
          <a:blip r:embed="rId3"/>
          <a:stretch/>
        </p:blipFill>
        <p:spPr>
          <a:xfrm>
            <a:off x="179280" y="2997360"/>
            <a:ext cx="273708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Comic Sans MS"/>
              </a:rPr>
              <a:t>Marginally resectable NSCL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IIIA N</a:t>
            </a:r>
            <a:r>
              <a:rPr b="0" lang="it-IT" sz="4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4400" spc="-1" strike="noStrike">
                <a:solidFill>
                  <a:srgbClr val="ff3300"/>
                </a:solidFill>
                <a:latin typeface="Tahoma"/>
              </a:rPr>
              <a:t>RESECTABLE</a:t>
            </a: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 NSCLC                   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Neoadjuvant Treatment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4040" y="1846440"/>
            <a:ext cx="8609040" cy="47512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INDUCTION CTx</a:t>
            </a:r>
            <a:r>
              <a:rPr b="1" lang="it-IT" sz="5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 SURGE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5f5f5f"/>
                </a:solidFill>
                <a:latin typeface="Tahoma"/>
              </a:rPr>
              <a:t>INDUCTI</a:t>
            </a:r>
            <a:r>
              <a:rPr b="1" lang="it-IT" sz="5400" spc="-1" strike="noStrike">
                <a:solidFill>
                  <a:srgbClr val="5f5f5f"/>
                </a:solidFill>
                <a:latin typeface="Tahoma"/>
              </a:rPr>
              <a:t>ON CHEMO-RADIOTHERAPY </a:t>
            </a:r>
            <a:r>
              <a:rPr b="1" lang="it-IT" sz="54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1" lang="it-IT" sz="5400" spc="-1" strike="noStrike">
                <a:solidFill>
                  <a:srgbClr val="5f5f5f"/>
                </a:solidFill>
                <a:latin typeface="Tahoma"/>
              </a:rPr>
              <a:t> SURGER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628640"/>
            <a:ext cx="9144000" cy="14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0" y="162864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07200" y="6527880"/>
            <a:ext cx="42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Comic Sans MS"/>
              </a:rPr>
              <a:t>F de Marinis et al, J Thorac Onco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21:15:21Z</dcterms:created>
  <dc:creator>CERESOLI</dc:creator>
  <dc:description/>
  <dc:language>en-US</dc:language>
  <cp:lastModifiedBy>i_uni</cp:lastModifiedBy>
  <dcterms:modified xsi:type="dcterms:W3CDTF">2009-09-11T11:51:48Z</dcterms:modified>
  <cp:revision>52</cp:revision>
  <dc:subject/>
  <dc:title>NSCLC marginalmente resecabile</dc:title>
</cp:coreProperties>
</file>