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68B8-CD93-42BB-8D0C-8662B73366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70C-7EF4-449C-9B44-64FD0AE444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19E-EB10-4363-B0A1-C4501274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3C5-1C92-40B3-A4FC-EF3D36A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FAC-DF72-44CE-BE4A-65CCD866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A7B-A98C-4430-9EB1-12AA788E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09A-A47C-41F7-9175-5B73BCF2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220-DBFC-48D8-92DE-20055627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C82-5559-46CA-8B22-1575EC1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A2B-8735-44F9-AC45-AFBD2F43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9BF-E9E7-4F97-9783-5BC2D722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47E-B1E2-4202-81FA-34BC7E6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B45-84D5-4672-B22D-2095FC9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508-EF97-417D-AB50-CE1152A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B5A-B242-4B7B-9200-AE2CCFCD762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906200"/>
            <a:ext cx="878688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, inoperabile: </a:t>
            </a:r>
            <a:br>
              <a:rPr sz="3600"/>
            </a:br>
            <a:r>
              <a:rPr b="0" lang="it-IT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CHEMIOTERAPIA CONCOMITA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920" y="4428720"/>
            <a:ext cx="87868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a Navar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so Itinerante Nazionale AIRO,  11 settembre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ituto Clinico Humanitas, Rozz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499840"/>
            <a:ext cx="8400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z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 + RT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G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a RT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G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osta loca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6 %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 4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mediana 11 mesi (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.7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9.6 m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a 2 ann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%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% e a 5 ann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%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lman ROet al J Natl Cancer Inst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4"/>
          <p:cNvSpPr/>
          <p:nvPr/>
        </p:nvSpPr>
        <p:spPr>
          <a:xfrm>
            <a:off x="28584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sequenziale CALGB 8433 155 p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6760" y="2571480"/>
            <a:ext cx="8363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o di fase III; 460 pazienti; anche stadi II inoperab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 + RT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/Vinb x 2 + 60 Gy/2Gy/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T iperfraziona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.6 Gy/2fr/die 1.2 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T standar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Gy/2 Gy/30 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gliorament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sopravvivenza nel braccio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T/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median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.2 me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2 mesi,</a:t>
            </a:r>
            <a:r>
              <a:rPr b="0" lang="it-IT" sz="2400" spc="-1" strike="noStrike">
                <a:solidFill>
                  <a:srgbClr val="07078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4 mes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a 5a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%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,</a:t>
            </a:r>
            <a:r>
              <a:rPr b="0" lang="it-IT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statisticamente signific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se WT et al Chest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4"/>
          <p:cNvSpPr/>
          <p:nvPr/>
        </p:nvSpPr>
        <p:spPr>
          <a:xfrm>
            <a:off x="28584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sequenziale RTOG-ECOG-SW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1280" y="2529000"/>
            <a:ext cx="90014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e dagli anni ‘90 diversi stu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glioramen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v median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ulterior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mes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v a 5 a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un ulterior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%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etto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tamento sequen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gior tossicità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a (ematologica, esofagea e polmon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CURATA SELEZIONE DEI PAZI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ccia in giù 5"/>
          <p:cNvSpPr/>
          <p:nvPr/>
        </p:nvSpPr>
        <p:spPr>
          <a:xfrm>
            <a:off x="4000680" y="5000760"/>
            <a:ext cx="142560" cy="142920"/>
          </a:xfrm>
          <a:prstGeom prst="downArrow">
            <a:avLst>
              <a:gd name="adj1" fmla="val 50000"/>
              <a:gd name="adj2" fmla="val 501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ccia in giù 8"/>
          <p:cNvSpPr/>
          <p:nvPr/>
        </p:nvSpPr>
        <p:spPr>
          <a:xfrm>
            <a:off x="3929040" y="485784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ccia in giù 9"/>
          <p:cNvSpPr/>
          <p:nvPr/>
        </p:nvSpPr>
        <p:spPr>
          <a:xfrm>
            <a:off x="4071960" y="500076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ccia in giù 10"/>
          <p:cNvSpPr/>
          <p:nvPr/>
        </p:nvSpPr>
        <p:spPr>
          <a:xfrm>
            <a:off x="4286160" y="4929120"/>
            <a:ext cx="142920" cy="214560"/>
          </a:xfrm>
          <a:prstGeom prst="downArrow">
            <a:avLst>
              <a:gd name="adj1" fmla="val 50000"/>
              <a:gd name="adj2" fmla="val 500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in giù 11"/>
          <p:cNvSpPr/>
          <p:nvPr/>
        </p:nvSpPr>
        <p:spPr>
          <a:xfrm>
            <a:off x="3143160" y="4929120"/>
            <a:ext cx="714600" cy="357120"/>
          </a:xfrm>
          <a:prstGeom prst="downArrow">
            <a:avLst>
              <a:gd name="adj1" fmla="val 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in giù 13"/>
          <p:cNvSpPr/>
          <p:nvPr/>
        </p:nvSpPr>
        <p:spPr>
          <a:xfrm>
            <a:off x="4572000" y="485784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03" name="Rettangolo 10"/>
          <p:cNvSpPr/>
          <p:nvPr/>
        </p:nvSpPr>
        <p:spPr>
          <a:xfrm>
            <a:off x="285840" y="57168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sellaDiTesto 11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concomit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platin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tutta la durata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tera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sensibilizza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gio sulla sopravvivenza rispetto alla sola R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anni 26% vs 13%;  5anni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6%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s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aake-Koning C et al  N Engl J Med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07" name="CasellaDiTesto 4"/>
          <p:cNvSpPr/>
          <p:nvPr/>
        </p:nvSpPr>
        <p:spPr>
          <a:xfrm>
            <a:off x="28584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concomit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 pazienti;  72% III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mediana 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.5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3.3 mes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a 5 a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15.8%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8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gior tossicità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atolog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use K et al, J Clin Oncol.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"/>
          <p:cNvSpPr/>
          <p:nvPr/>
        </p:nvSpPr>
        <p:spPr>
          <a:xfrm>
            <a:off x="1143000" y="1928880"/>
            <a:ext cx="107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4"/>
          <p:cNvSpPr/>
          <p:nvPr/>
        </p:nvSpPr>
        <p:spPr>
          <a:xfrm>
            <a:off x="468360" y="3141720"/>
            <a:ext cx="4103640" cy="975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/RT concomit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plit 10 die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28 Gy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5"/>
          <p:cNvSpPr/>
          <p:nvPr/>
        </p:nvSpPr>
        <p:spPr>
          <a:xfrm>
            <a:off x="5643720" y="3216240"/>
            <a:ext cx="3214440" cy="90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/RT sequ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Gy/2 Gy/28 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7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concomitant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quenziale Jap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6760" y="1928880"/>
            <a:ext cx="8572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0 pz stadio II e I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-RT concomit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 Gy con frazionamento conven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-RT sequenzia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cicli/63 Gy) con frazionamento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-RT concomitante 69.6 Gy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 al giorno 1.2Gy (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gliora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spv nel gruppo CT/RT concomitante con RT con frazionamento convenz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gior tossicità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a del trattamento concomi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an WJ et al Proc Am Soc Clin Oncol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3"/>
          <p:cNvSpPr/>
          <p:nvPr/>
        </p:nvSpPr>
        <p:spPr>
          <a:xfrm>
            <a:off x="571680" y="4786200"/>
            <a:ext cx="3714480" cy="1036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4a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1%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%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4"/>
          <p:cNvSpPr/>
          <p:nvPr/>
        </p:nvSpPr>
        <p:spPr>
          <a:xfrm>
            <a:off x="4929120" y="4786200"/>
            <a:ext cx="3857760" cy="1036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medi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.6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14.6 vs 15.2 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18" name="CasellaDiTesto 6"/>
          <p:cNvSpPr/>
          <p:nvPr/>
        </p:nvSpPr>
        <p:spPr>
          <a:xfrm>
            <a:off x="214200" y="285840"/>
            <a:ext cx="664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600"/>
            </a:b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concomitant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quenziale RTOG 94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85840" y="1714680"/>
            <a:ext cx="85010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zato 102 pz  85% stadio II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OMITANTE: CT (4 cicli)/ RT (60 Gy) dal II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ZIALE: CT (4 cicli)/ RT (60 Gy) 2 sett dalla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loukal PP et al Lung Cancer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0080" y="3119400"/>
          <a:ext cx="7143840" cy="2595600"/>
        </p:xfrm>
        <a:graphic>
          <a:graphicData uri="http://schemas.openxmlformats.org/drawingml/2006/table">
            <a:tbl>
              <a:tblPr/>
              <a:tblGrid>
                <a:gridCol w="2381400"/>
                <a:gridCol w="2381040"/>
                <a:gridCol w="2381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omi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zi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 lo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%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1% R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% (17% R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 ematolo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g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 Esofagea 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v me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.6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v 3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 alla P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5"/>
          <p:cNvSpPr/>
          <p:nvPr/>
        </p:nvSpPr>
        <p:spPr>
          <a:xfrm>
            <a:off x="214200" y="285840"/>
            <a:ext cx="65008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600"/>
            </a:b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concomitante </a:t>
            </a:r>
            <a:r>
              <a:rPr b="0" i="1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quenziale Rep Ce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1680" y="2563920"/>
            <a:ext cx="857268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VANZAMENTO TECNOLOG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omministrazione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do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otali più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elev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rità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tossic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CUTA e TARD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ove modalità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 somministrazione della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25" name="CasellaDiTesto 4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adioterapia – Controllo loc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2500200"/>
            <a:ext cx="81741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cremento di dose corre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ositivament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 il controllo locoregionale (dosi fino a 102.9 G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 incremento della dose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10 G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è correlato 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riduzione del 34.6 %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a probabilità di ricaduta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engan R et al, IJROBP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28" name="CasellaDiTesto 4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adioterapia-”dose escal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3840" y="2428560"/>
            <a:ext cx="86439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7280" y="2214720"/>
          <a:ext cx="8569440" cy="3914640"/>
        </p:xfrm>
        <a:graphic>
          <a:graphicData uri="http://schemas.openxmlformats.org/drawingml/2006/table">
            <a:tbl>
              <a:tblPr/>
              <a:tblGrid>
                <a:gridCol w="1295280"/>
                <a:gridCol w="2125800"/>
                <a:gridCol w="2158920"/>
                <a:gridCol w="1368720"/>
                <a:gridCol w="16207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idollo spin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sof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u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ol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ax &lt; 45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ax &lt; 70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55 &lt; 30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45 &lt; 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0 &lt; 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50 &lt; 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0 &lt; 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D &lt;15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ssic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NOSI PERFOR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CARD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MO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2" descr=""/>
          <p:cNvPicPr/>
          <p:nvPr/>
        </p:nvPicPr>
        <p:blipFill>
          <a:blip r:embed="rId1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5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adioterapia – “Dose Constra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0120" y="2999880"/>
            <a:ext cx="797256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i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A e II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a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zienti alla diagn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a stadiazione pretratt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 o 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stinoscopia o biopsia  transbronchiale ecoguidata (EUS-EB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53" name="CasellaDiTesto 4"/>
          <p:cNvSpPr/>
          <p:nvPr/>
        </p:nvSpPr>
        <p:spPr>
          <a:xfrm>
            <a:off x="285840" y="33984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5480" y="2571840"/>
            <a:ext cx="86439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ADIOTERAPIA AD INTENSITA’ MODULATA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umor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volumino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prossimità di struttur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riti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versi studi dosimetrici hanno dimostrato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uperiorità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spetto alla TECNICA 3D-C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ch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tudi cli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iu HH et al, IJROBP 2004; Murshed H et al, IJROBP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4"/>
          <p:cNvSpPr/>
          <p:nvPr/>
        </p:nvSpPr>
        <p:spPr>
          <a:xfrm>
            <a:off x="28584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adioterapia- Nuove tecnologi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500200"/>
            <a:ext cx="822960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CREMENT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dose totale al targe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i circa il 15-2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UZIONE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dose media al polm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i circa il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UZIONE de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rischio di tossic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olmonare di circa il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5"/>
          <p:cNvSpPr/>
          <p:nvPr/>
        </p:nvSpPr>
        <p:spPr>
          <a:xfrm>
            <a:off x="28584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adioterapia- IMRT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versus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3DCR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198864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trospettivo, 55 pazienti: 39 pz (71%) IIIA-III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se media di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70 Gy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range 60-90 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ssuna morte iatrog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ura S. et al Radiotherapy and Oncolog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77760" y="3676680"/>
            <a:ext cx="280836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TR loc 2aa 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3414600"/>
            <a:ext cx="33847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v median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5 me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v 2 a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357280" y="4643280"/>
            <a:ext cx="3929400" cy="90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ssicità polmon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uta 11% tardiva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CasellaDiTesto 7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adioterapia - IMR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SK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bareggi2"/>
          <p:cNvPicPr/>
          <p:nvPr/>
        </p:nvPicPr>
        <p:blipFill>
          <a:blip r:embed="rId1"/>
          <a:stretch/>
        </p:blipFill>
        <p:spPr>
          <a:xfrm>
            <a:off x="214200" y="1214280"/>
            <a:ext cx="8786880" cy="5572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572320" cy="857160"/>
          </a:xfrm>
          <a:prstGeom prst="rect">
            <a:avLst/>
          </a:prstGeom>
          <a:ln w="0">
            <a:noFill/>
          </a:ln>
        </p:spPr>
      </p:pic>
      <p:sp>
        <p:nvSpPr>
          <p:cNvPr id="148" name="CasellaDiTesto 5"/>
          <p:cNvSpPr/>
          <p:nvPr/>
        </p:nvSpPr>
        <p:spPr>
          <a:xfrm>
            <a:off x="228600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IO II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Finotto_IIIB_20Gy"/>
          <p:cNvPicPr/>
          <p:nvPr/>
        </p:nvPicPr>
        <p:blipFill>
          <a:blip r:embed="rId1"/>
          <a:stretch/>
        </p:blipFill>
        <p:spPr>
          <a:xfrm>
            <a:off x="250920" y="1285920"/>
            <a:ext cx="8637480" cy="550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5840" y="254160"/>
            <a:ext cx="8572320" cy="888840"/>
          </a:xfrm>
          <a:prstGeom prst="rect">
            <a:avLst/>
          </a:prstGeom>
          <a:ln w="0">
            <a:noFill/>
          </a:ln>
        </p:spPr>
      </p:pic>
      <p:sp>
        <p:nvSpPr>
          <p:cNvPr id="152" name="CasellaDiTesto 4"/>
          <p:cNvSpPr/>
          <p:nvPr/>
        </p:nvSpPr>
        <p:spPr>
          <a:xfrm>
            <a:off x="2643120" y="3571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IO III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243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and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cura è il trattamento combinato chemioradioterapic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antagg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lla sopravvivenza d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ttamento concomita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vato da un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ggior tossicit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ccurat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ez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i pazi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cremento della dose di 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 tecniche avanzate (IMRT) sembra promettente nel migliorare il controllo locale e potrebbe influenzare la sopravviv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155" name="CasellaDiTesto 4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NCLUSION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1557000"/>
            <a:ext cx="42116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T4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estensione; noduli polmonari omolaterali)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lsiasi T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N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essamento linfonodale controlaterale e/o claveare omo o controlat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14320" y="1534680"/>
            <a:ext cx="1471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2844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8"/>
          <p:cNvSpPr/>
          <p:nvPr/>
        </p:nvSpPr>
        <p:spPr>
          <a:xfrm>
            <a:off x="285840" y="320760"/>
            <a:ext cx="657216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prova"/>
          <p:cNvPicPr/>
          <p:nvPr/>
        </p:nvPicPr>
        <p:blipFill>
          <a:blip r:embed="rId2"/>
          <a:stretch/>
        </p:blipFill>
        <p:spPr>
          <a:xfrm>
            <a:off x="250920" y="3867120"/>
            <a:ext cx="4321080" cy="284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prova2"/>
          <p:cNvPicPr/>
          <p:nvPr/>
        </p:nvPicPr>
        <p:blipFill>
          <a:blip r:embed="rId3"/>
          <a:stretch/>
        </p:blipFill>
        <p:spPr>
          <a:xfrm>
            <a:off x="4572000" y="1357200"/>
            <a:ext cx="4286160" cy="250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prova3"/>
          <p:cNvPicPr/>
          <p:nvPr/>
        </p:nvPicPr>
        <p:blipFill>
          <a:blip r:embed="rId4"/>
          <a:stretch/>
        </p:blipFill>
        <p:spPr>
          <a:xfrm>
            <a:off x="4643280" y="3929040"/>
            <a:ext cx="4214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2000160"/>
            <a:ext cx="4572000" cy="3857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 (dimensione &gt;7cm; estensione; noduli nello stesso lobo) N1 o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 (estensione, noduli nello stesso polmone) N0 o N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more primitivo non resecab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attia linfonodale bulky (IIIA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etro max &gt; 2 cm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one extracapsu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tazioni linfonod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N2"/>
          <p:cNvPicPr/>
          <p:nvPr/>
        </p:nvPicPr>
        <p:blipFill>
          <a:blip r:embed="rId1"/>
          <a:srcRect l="0" t="0" r="0" b="1465"/>
          <a:stretch/>
        </p:blipFill>
        <p:spPr>
          <a:xfrm>
            <a:off x="5172120" y="1500120"/>
            <a:ext cx="3471840" cy="234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rcRect l="1692" t="0" r="0" b="0"/>
          <a:stretch/>
        </p:blipFill>
        <p:spPr>
          <a:xfrm>
            <a:off x="5143680" y="3929040"/>
            <a:ext cx="3500280" cy="2643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68" name="CasellaDiTesto 14"/>
          <p:cNvSpPr/>
          <p:nvPr/>
        </p:nvSpPr>
        <p:spPr>
          <a:xfrm>
            <a:off x="285840" y="326880"/>
            <a:ext cx="65008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2356920"/>
            <a:ext cx="85438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i trattamento nei pazienti inoper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totale di 60 Gy con frazionamento conven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ultati insoddisfacenti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mediana inferiore a 1 anno (10 mes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2 aa 15% e 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anni del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 MV et al, IJROBP 1995; Perez CA, IJROBP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71" name="CasellaDiTesto 4"/>
          <p:cNvSpPr/>
          <p:nvPr/>
        </p:nvSpPr>
        <p:spPr>
          <a:xfrm>
            <a:off x="285840" y="28584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terapia es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2071440"/>
            <a:ext cx="85438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2440" indent="-172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 di “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e escalatio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fino a 80 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 di frazionamen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ra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d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HA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/die su 7 gio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A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 al giorn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HA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 frazionamento conven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lior controllo locale, maggior tossicità e minima influenza sulla spv (mediana 13 m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x J et J Clin Oncol 1990; Auchter RM et al IJROBP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4"/>
          <p:cNvSpPr/>
          <p:nvPr/>
        </p:nvSpPr>
        <p:spPr>
          <a:xfrm>
            <a:off x="28584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oterapia es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400" y="3029040"/>
            <a:ext cx="8358120" cy="29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oradioterapi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equen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oradioterapi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omi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T/RT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omi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/RT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omita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OLID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4"/>
          <p:cNvSpPr/>
          <p:nvPr/>
        </p:nvSpPr>
        <p:spPr>
          <a:xfrm>
            <a:off x="25092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tamento  CT-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13840" y="2499840"/>
            <a:ext cx="86439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 cooperativi condotti a partire dagli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i ‘80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no evidenziato che due cicli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mioterapi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atino-based”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uiti d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se standar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gliorav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pravvivenza median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13-14 mes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irca 3 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doppiamen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pravvivenza a 5 ann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%-15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80" name="CasellaDiTesto 4"/>
          <p:cNvSpPr/>
          <p:nvPr/>
        </p:nvSpPr>
        <p:spPr>
          <a:xfrm>
            <a:off x="250920" y="28584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sequen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571840"/>
            <a:ext cx="84009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entrico,  randomizz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T+R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5 Gy)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a RT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5 G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hevalier T et al J Natl Cancer Inst. 19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3"/>
          <p:cNvSpPr/>
          <p:nvPr/>
        </p:nvSpPr>
        <p:spPr>
          <a:xfrm>
            <a:off x="928800" y="3786120"/>
            <a:ext cx="13572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5"/>
          <p:cNvSpPr/>
          <p:nvPr/>
        </p:nvSpPr>
        <p:spPr>
          <a:xfrm>
            <a:off x="6072120" y="4786200"/>
            <a:ext cx="271476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v 3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/RT: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6"/>
          <p:cNvSpPr/>
          <p:nvPr/>
        </p:nvSpPr>
        <p:spPr>
          <a:xfrm>
            <a:off x="3500280" y="3573360"/>
            <a:ext cx="250056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 locale 1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/RT:  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:       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7"/>
          <p:cNvSpPr/>
          <p:nvPr/>
        </p:nvSpPr>
        <p:spPr>
          <a:xfrm>
            <a:off x="6500880" y="6572160"/>
            <a:ext cx="32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8"/>
          <p:cNvSpPr/>
          <p:nvPr/>
        </p:nvSpPr>
        <p:spPr>
          <a:xfrm>
            <a:off x="214200" y="4803840"/>
            <a:ext cx="321480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diva a distanza 1 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/RT: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: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96048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9"/>
          <p:cNvSpPr/>
          <p:nvPr/>
        </p:nvSpPr>
        <p:spPr>
          <a:xfrm>
            <a:off x="214200" y="2858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SCLC localmente avanzato-inoperabile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-RT sequenziale Studio Francese 343 p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6:03:57Z</dcterms:created>
  <dc:creator>NAVARRIA Piera         ICH (MEDRTE01 - NAP)</dc:creator>
  <dc:description/>
  <dc:language>en-US</dc:language>
  <cp:lastModifiedBy>AUDIT1</cp:lastModifiedBy>
  <dcterms:modified xsi:type="dcterms:W3CDTF">2009-09-11T06:29:48Z</dcterms:modified>
  <cp:revision>343</cp:revision>
  <dc:subject/>
  <dc:title>NSCLC RT-CT concomitante</dc:title>
</cp:coreProperties>
</file>