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132C-0378-441E-B4CF-A4E0C8C5C5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% HOSPITALISATION VS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% DIED AS A RESULT OF 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05000" y="685800"/>
            <a:ext cx="4248000" cy="3186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100160" y="4017960"/>
            <a:ext cx="465768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622A49-DD24-42B8-9481-4092BB4620A2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CB35D9-98B4-4126-A7EB-E530108A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311120" y="685800"/>
            <a:ext cx="4235760" cy="31766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100160" y="4017960"/>
            <a:ext cx="46576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B2D495-9B3A-4387-A599-161296E7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311120" y="685800"/>
            <a:ext cx="4235760" cy="31766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12440" y="4017600"/>
            <a:ext cx="5413320" cy="51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46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p belani 05 arm 2 induction-concurrent ms 12.7 mos 2 yr 25%  TRD ONE IN arm 2 and 2 in ar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kes CALGB39801  induction x 2-Cb/Tthen weekly Cb T for 7 weeks  with con RT vs concurrent RT /weeklyTCb NB survival worse than PE C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y LAMP ind ct –ctrt closed inferior surv 11 mos all negative except schaake koning Matavadi hog not all pts got the inductionCT ONLY AFTER dILL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induction GP.DP Zandwick. Betticher,no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NS despite schake koning,daily lowdose p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omaki CT P 75 mgs vs PE Hf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ake –k MS= rt 12 dailyP 14, WEEKLY p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.009   2 YR %     13 ,         26,              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ORTC 08972 INOP CT induction GP then RT vs con dailyP/RT as S-K 150/250 more to b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linter-inoperable  stage 111 EORTC 08941 result awaited. Induction CT –if OR random to S or 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uction PVb x 2 then std RT or RT/rs HU dose 221 pts. Ms 12.5 vs 12.3 mos.NS </a:t>
            </a:r>
            <a:r>
              <a:rPr b="0" i="1" lang="en-GB" sz="800" spc="-1" strike="noStrike">
                <a:solidFill>
                  <a:srgbClr val="ffff00"/>
                </a:solidFill>
                <a:latin typeface="Arial"/>
              </a:rPr>
              <a:t>Mantravadi et al ASCO 1998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Gervais  french group powered for I yr local control 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ido spanosh lung group droopped a sequential ctthen rt arm because of Cur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uction PVb x 2 then std RT or RT/rs Cb dose 283 pts. Ms 13.5 vs 13.4 mos. NS </a:t>
            </a:r>
            <a:r>
              <a:rPr b="0" i="1" lang="en-GB" sz="800" spc="-1" strike="noStrike">
                <a:solidFill>
                  <a:srgbClr val="ffff00"/>
                </a:solidFill>
                <a:latin typeface="Arial"/>
              </a:rPr>
              <a:t>Clamon et al J Clin Oncol 1999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A43-CDA5-42F0-8A92-32006029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E8A-A444-4349-A006-2F87568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9DF-414F-47AA-89E8-B03BDC1B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AAF-F646-49CD-8DB1-6B9767A0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927-CE3F-401F-AF81-E9D2B591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0B0-DA93-4DCE-B72C-53A85DB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957-D65E-48B4-AF92-5C67B3B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E81-FC75-4C8F-810D-C552C2B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6D7-08E1-4893-9E1B-CC607D41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C6F-B8C9-4A21-86B4-C499752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D09-B9E6-4008-B886-1BFB3DC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0DF-F4C0-4936-87E9-B332B959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ED4-425B-400D-96D6-2FA34CCA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60" y="1916280"/>
            <a:ext cx="9107640" cy="324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OLE OF CHEMOTHERAPY IN LOCALLY ADVANCED UNRESECTABLE NSC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640" y="506052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ederico Cappuz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stituto Clinico Humanitas IR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ozzano-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53960" y="303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784520" y="2376360"/>
            <a:ext cx="515880" cy="289728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567240" y="3289320"/>
            <a:ext cx="504720" cy="198432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340240" y="3718080"/>
            <a:ext cx="515880" cy="155556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7122960" y="3718080"/>
            <a:ext cx="505080" cy="155556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2298600" y="3452760"/>
            <a:ext cx="505080" cy="1824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070520" y="4365720"/>
            <a:ext cx="506160" cy="9111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854680" y="4365720"/>
            <a:ext cx="504720" cy="9111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1407960" y="2060640"/>
            <a:ext cx="1800" cy="32176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407960" y="5278320"/>
            <a:ext cx="6516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1407960" y="4741920"/>
            <a:ext cx="6516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4"/>
          <p:cNvSpPr/>
          <p:nvPr/>
        </p:nvSpPr>
        <p:spPr>
          <a:xfrm>
            <a:off x="1407960" y="4205160"/>
            <a:ext cx="6516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5"/>
          <p:cNvSpPr/>
          <p:nvPr/>
        </p:nvSpPr>
        <p:spPr>
          <a:xfrm>
            <a:off x="1407960" y="3668760"/>
            <a:ext cx="6516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6"/>
          <p:cNvSpPr/>
          <p:nvPr/>
        </p:nvSpPr>
        <p:spPr>
          <a:xfrm>
            <a:off x="1407960" y="3133800"/>
            <a:ext cx="6516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7"/>
          <p:cNvSpPr/>
          <p:nvPr/>
        </p:nvSpPr>
        <p:spPr>
          <a:xfrm>
            <a:off x="1407960" y="2597040"/>
            <a:ext cx="6516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>
            <a:off x="1407960" y="2060640"/>
            <a:ext cx="6516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>
            <a:off x="1407960" y="5278320"/>
            <a:ext cx="711216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0"/>
          <p:cNvSpPr/>
          <p:nvPr/>
        </p:nvSpPr>
        <p:spPr>
          <a:xfrm>
            <a:off x="7230240" y="3327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2464560" y="3075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2"/>
          <p:cNvSpPr/>
          <p:nvPr/>
        </p:nvSpPr>
        <p:spPr>
          <a:xfrm>
            <a:off x="4236480" y="39704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6004800" y="39704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1901160" y="1986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450760" y="3327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7"/>
          <p:cNvSpPr/>
          <p:nvPr/>
        </p:nvSpPr>
        <p:spPr>
          <a:xfrm>
            <a:off x="3690360" y="28972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8"/>
          <p:cNvSpPr/>
          <p:nvPr/>
        </p:nvSpPr>
        <p:spPr>
          <a:xfrm>
            <a:off x="1128600" y="5046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9"/>
          <p:cNvSpPr/>
          <p:nvPr/>
        </p:nvSpPr>
        <p:spPr>
          <a:xfrm>
            <a:off x="1011240" y="4595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0"/>
          <p:cNvSpPr/>
          <p:nvPr/>
        </p:nvSpPr>
        <p:spPr>
          <a:xfrm>
            <a:off x="1011240" y="4044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>
            <a:off x="1011240" y="3494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011240" y="2957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>
            <a:off x="1011240" y="240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4"/>
          <p:cNvSpPr/>
          <p:nvPr/>
        </p:nvSpPr>
        <p:spPr>
          <a:xfrm>
            <a:off x="1011240" y="1898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1986480" y="5308560"/>
            <a:ext cx="72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3758040" y="5308560"/>
            <a:ext cx="72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5542560" y="5308560"/>
            <a:ext cx="72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7314120" y="5308560"/>
            <a:ext cx="72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9"/>
          <p:cNvSpPr/>
          <p:nvPr/>
        </p:nvSpPr>
        <p:spPr>
          <a:xfrm rot="16200000">
            <a:off x="-128520" y="3411720"/>
            <a:ext cx="162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%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0"/>
          <p:cNvSpPr/>
          <p:nvPr/>
        </p:nvSpPr>
        <p:spPr>
          <a:xfrm>
            <a:off x="2689200" y="1960560"/>
            <a:ext cx="193680" cy="20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1"/>
          <p:cNvSpPr/>
          <p:nvPr/>
        </p:nvSpPr>
        <p:spPr>
          <a:xfrm>
            <a:off x="3056760" y="1905120"/>
            <a:ext cx="55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OG 9504: Cis-Eto + RT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ocetaxel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2689200" y="2338560"/>
            <a:ext cx="193680" cy="164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3"/>
          <p:cNvSpPr/>
          <p:nvPr/>
        </p:nvSpPr>
        <p:spPr>
          <a:xfrm>
            <a:off x="3057480" y="2268360"/>
            <a:ext cx="590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OG 9019: Cis-Eto + RT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is-Etoposide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7620120" y="4484520"/>
            <a:ext cx="566640" cy="789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7806600" y="4062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5398920" y="6170760"/>
            <a:ext cx="3745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Albain et al. J Clin Oncol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MS PGothic"/>
              </a:rPr>
              <a:t>Gandara et al. J Clin Oncol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MS PGothic"/>
              </a:rPr>
              <a:t>Gandara et al. J Clin Oncol 2005 abs 70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resectable stage III NSCLC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role of consolidation CT after CT/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5880" y="1557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12600" y="1494000"/>
            <a:ext cx="4345560" cy="11912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hemo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splatin 50 mg/m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IV d1,8,29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toposide 50 mg/m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IV d 1- 5 &amp; 29 –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current RT 59.4 Gy (1.8 Gy/f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4920" y="3119400"/>
            <a:ext cx="2989440" cy="11912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ification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S 0.1 v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IIA vs II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 vs. non C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78000" y="4824360"/>
            <a:ext cx="3466440" cy="368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cetaxel 75 mg/m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q 3 wk 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86240" y="3429000"/>
            <a:ext cx="3019320" cy="10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do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2724120"/>
            <a:ext cx="0" cy="70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80880" y="4292640"/>
            <a:ext cx="754200" cy="490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94360" y="4365720"/>
            <a:ext cx="649440" cy="41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05560" y="6553080"/>
            <a:ext cx="26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Hanna et al.  J Clin Onco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5246640"/>
            <a:ext cx="51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bs:   MST: 23.2 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Yr. Survival: 2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 = 0.8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c:   MST: 21.2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Yr survival : 27.1%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55400" y="4824360"/>
            <a:ext cx="1578240" cy="368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urrent CT/RT +/- consolidation docetaxel: Phase III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NO-TARGETED THERAPY” FOR LOCALLY-ADVANCED, SELECTED, NSCLC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4480" y="392904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72320" y="1816200"/>
            <a:ext cx="3447000" cy="1756440"/>
            <a:chOff x="472320" y="1816200"/>
            <a:chExt cx="3447000" cy="1756440"/>
          </a:xfrm>
        </p:grpSpPr>
        <p:sp>
          <p:nvSpPr>
            <p:cNvPr id="294" name=""/>
            <p:cNvSpPr/>
            <p:nvPr/>
          </p:nvSpPr>
          <p:spPr>
            <a:xfrm>
              <a:off x="2425320" y="3079800"/>
              <a:ext cx="1440" cy="22680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716560" y="2819160"/>
              <a:ext cx="0" cy="12204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16560" y="2997360"/>
              <a:ext cx="136800" cy="777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76080" y="3319560"/>
              <a:ext cx="158040" cy="9360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52360" y="2970360"/>
              <a:ext cx="200520" cy="1047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35280" y="2390400"/>
              <a:ext cx="227160" cy="18252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034360" y="3294000"/>
              <a:ext cx="200160" cy="11448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1919520" y="3001680"/>
              <a:ext cx="78840" cy="507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25200" y="3317760"/>
              <a:ext cx="171720" cy="921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774160" y="3284280"/>
              <a:ext cx="108000" cy="6804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533600" y="3323880"/>
              <a:ext cx="155160" cy="8892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6880" y="2503440"/>
              <a:ext cx="379080" cy="318960"/>
            </a:xfrm>
            <a:custGeom>
              <a:avLst/>
              <a:gdLst/>
              <a:ahLst/>
              <a:rect l="l" t="t" r="r" b="b"/>
              <a:pathLst>
                <a:path w="236" h="210">
                  <a:moveTo>
                    <a:pt x="0" y="46"/>
                  </a:moveTo>
                  <a:lnTo>
                    <a:pt x="100" y="0"/>
                  </a:lnTo>
                  <a:lnTo>
                    <a:pt x="236" y="90"/>
                  </a:lnTo>
                  <a:lnTo>
                    <a:pt x="236" y="210"/>
                  </a:lnTo>
                </a:path>
              </a:pathLst>
            </a:custGeom>
            <a:noFill/>
            <a:ln w="30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480" y="2786040"/>
              <a:ext cx="390600" cy="273240"/>
            </a:xfrm>
            <a:custGeom>
              <a:avLst/>
              <a:gdLst/>
              <a:ahLst/>
              <a:rect l="l" t="t" r="r" b="b"/>
              <a:pathLst>
                <a:path w="242" h="180">
                  <a:moveTo>
                    <a:pt x="0" y="0"/>
                  </a:moveTo>
                  <a:lnTo>
                    <a:pt x="0" y="90"/>
                  </a:lnTo>
                  <a:lnTo>
                    <a:pt x="144" y="180"/>
                  </a:lnTo>
                  <a:lnTo>
                    <a:pt x="242" y="128"/>
                  </a:lnTo>
                </a:path>
              </a:pathLst>
            </a:custGeom>
            <a:noFill/>
            <a:ln w="30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7040" y="2879640"/>
              <a:ext cx="630360" cy="14940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0" y="44"/>
                  </a:moveTo>
                  <a:lnTo>
                    <a:pt x="52" y="88"/>
                  </a:lnTo>
                  <a:lnTo>
                    <a:pt x="167" y="0"/>
                  </a:lnTo>
                  <a:lnTo>
                    <a:pt x="293" y="94"/>
                  </a:lnTo>
                  <a:lnTo>
                    <a:pt x="373" y="36"/>
                  </a:lnTo>
                </a:path>
              </a:pathLst>
            </a:custGeom>
            <a:noFill/>
            <a:ln w="30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980360" y="2950560"/>
              <a:ext cx="519120" cy="478800"/>
            </a:xfrm>
            <a:prstGeom prst="hexagon">
              <a:avLst>
                <a:gd name="adj" fmla="val 27105"/>
                <a:gd name="vf" fmla="val 115470"/>
              </a:avLst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4360" y="2940120"/>
              <a:ext cx="379080" cy="119160"/>
            </a:xfrm>
            <a:custGeom>
              <a:avLst/>
              <a:gdLst/>
              <a:ahLst/>
              <a:rect l="l" t="t" r="r" b="b"/>
              <a:pathLst>
                <a:path w="236" h="78">
                  <a:moveTo>
                    <a:pt x="0" y="78"/>
                  </a:moveTo>
                  <a:lnTo>
                    <a:pt x="146" y="0"/>
                  </a:lnTo>
                  <a:lnTo>
                    <a:pt x="236" y="52"/>
                  </a:lnTo>
                </a:path>
              </a:pathLst>
            </a:custGeom>
            <a:noFill/>
            <a:ln w="30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9440" y="3208320"/>
              <a:ext cx="127800" cy="19368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0" y="128"/>
                  </a:moveTo>
                  <a:lnTo>
                    <a:pt x="80" y="72"/>
                  </a:lnTo>
                  <a:lnTo>
                    <a:pt x="80" y="0"/>
                  </a:lnTo>
                </a:path>
              </a:pathLst>
            </a:custGeom>
            <a:noFill/>
            <a:ln w="30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57000" y="2556000"/>
              <a:ext cx="25668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H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21760" y="2948040"/>
              <a:ext cx="12888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58960" y="3355920"/>
              <a:ext cx="12888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28720" y="2795760"/>
              <a:ext cx="13932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89120" y="3359160"/>
              <a:ext cx="13932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0400" y="2428920"/>
              <a:ext cx="17892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26360" y="1816200"/>
              <a:ext cx="10908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09720" y="2790720"/>
              <a:ext cx="12888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2320" y="2533680"/>
              <a:ext cx="139320" cy="21348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2158920"/>
              <a:ext cx="1800" cy="2271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182040" y="2368440"/>
              <a:ext cx="200160" cy="1047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3201840" y="2058840"/>
              <a:ext cx="199080" cy="11448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2934360" y="2026800"/>
              <a:ext cx="519120" cy="478800"/>
            </a:xfrm>
            <a:prstGeom prst="hexagon">
              <a:avLst>
                <a:gd name="adj" fmla="val 27105"/>
                <a:gd name="vf" fmla="val 115470"/>
              </a:avLst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39800" y="1996560"/>
              <a:ext cx="242640" cy="13356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33320" y="2401920"/>
              <a:ext cx="237240" cy="128520"/>
            </a:xfrm>
            <a:prstGeom prst="line">
              <a:avLst/>
            </a:prstGeom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880" y="1979640"/>
              <a:ext cx="1489680" cy="459720"/>
            </a:xfrm>
            <a:prstGeom prst="rect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gefiti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39640" y="4076640"/>
            <a:ext cx="3384360" cy="1539000"/>
            <a:chOff x="539640" y="4076640"/>
            <a:chExt cx="3384360" cy="1539000"/>
          </a:xfrm>
        </p:grpSpPr>
        <p:sp>
          <p:nvSpPr>
            <p:cNvPr id="328" name=""/>
            <p:cNvSpPr/>
            <p:nvPr/>
          </p:nvSpPr>
          <p:spPr>
            <a:xfrm>
              <a:off x="2817000" y="5402160"/>
              <a:ext cx="12888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1600" y="5149800"/>
              <a:ext cx="1800" cy="22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855160" y="4889160"/>
              <a:ext cx="0" cy="12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55160" y="5067360"/>
              <a:ext cx="148680" cy="77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5960" y="5389560"/>
              <a:ext cx="172080" cy="9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141280" y="5040360"/>
              <a:ext cx="215280" cy="10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75320" y="4460400"/>
              <a:ext cx="245880" cy="18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2124720" y="5364000"/>
              <a:ext cx="213480" cy="1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1997640" y="5071680"/>
              <a:ext cx="86760" cy="5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006640" y="5388120"/>
              <a:ext cx="75960" cy="6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918520" y="5354640"/>
              <a:ext cx="115920" cy="6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77560" y="4950000"/>
              <a:ext cx="583200" cy="149040"/>
            </a:xfrm>
            <a:custGeom>
              <a:avLst/>
              <a:gdLst/>
              <a:ahLst/>
              <a:rect l="l" t="t" r="r" b="b"/>
              <a:pathLst>
                <a:path w="321" h="94">
                  <a:moveTo>
                    <a:pt x="0" y="88"/>
                  </a:moveTo>
                  <a:lnTo>
                    <a:pt x="115" y="0"/>
                  </a:lnTo>
                  <a:lnTo>
                    <a:pt x="241" y="94"/>
                  </a:lnTo>
                  <a:lnTo>
                    <a:pt x="321" y="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2084760" y="5002920"/>
              <a:ext cx="519120" cy="514800"/>
            </a:xfrm>
            <a:prstGeom prst="hexagon">
              <a:avLst>
                <a:gd name="adj" fmla="val 25210"/>
                <a:gd name="vf" fmla="val 11547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06760" y="5010120"/>
              <a:ext cx="405720" cy="119160"/>
            </a:xfrm>
            <a:custGeom>
              <a:avLst/>
              <a:gdLst/>
              <a:ahLst/>
              <a:rect l="l" t="t" r="r" b="b"/>
              <a:pathLst>
                <a:path w="236" h="78">
                  <a:moveTo>
                    <a:pt x="0" y="78"/>
                  </a:moveTo>
                  <a:lnTo>
                    <a:pt x="146" y="0"/>
                  </a:lnTo>
                  <a:lnTo>
                    <a:pt x="236" y="5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6680" y="5278320"/>
              <a:ext cx="137520" cy="19368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0" y="128"/>
                  </a:moveTo>
                  <a:lnTo>
                    <a:pt x="80" y="72"/>
                  </a:lnTo>
                  <a:lnTo>
                    <a:pt x="8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77960" y="4630680"/>
              <a:ext cx="25668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H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70800" y="5018040"/>
              <a:ext cx="14652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440" y="4865760"/>
              <a:ext cx="13932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63320" y="4226040"/>
              <a:ext cx="1440" cy="226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3840" y="4452840"/>
              <a:ext cx="215640" cy="10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3363840" y="4116240"/>
              <a:ext cx="213480" cy="1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3109320" y="4078080"/>
              <a:ext cx="519120" cy="516240"/>
            </a:xfrm>
            <a:prstGeom prst="hexagon">
              <a:avLst>
                <a:gd name="adj" fmla="val 25139"/>
                <a:gd name="vf" fmla="val 11547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27000" y="4471920"/>
              <a:ext cx="254880" cy="128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631800" y="4957920"/>
              <a:ext cx="239040" cy="13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42480" y="4973760"/>
              <a:ext cx="13932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177560" y="5357880"/>
              <a:ext cx="583200" cy="149040"/>
            </a:xfrm>
            <a:custGeom>
              <a:avLst/>
              <a:gdLst/>
              <a:ahLst/>
              <a:rect l="l" t="t" r="r" b="b"/>
              <a:pathLst>
                <a:path w="321" h="94">
                  <a:moveTo>
                    <a:pt x="0" y="88"/>
                  </a:moveTo>
                  <a:lnTo>
                    <a:pt x="115" y="0"/>
                  </a:lnTo>
                  <a:lnTo>
                    <a:pt x="241" y="94"/>
                  </a:lnTo>
                  <a:lnTo>
                    <a:pt x="321" y="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01440" y="5351400"/>
              <a:ext cx="13932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31800" y="5357880"/>
              <a:ext cx="239040" cy="13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2480" y="5268960"/>
              <a:ext cx="139320" cy="213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5800" y="4545000"/>
              <a:ext cx="181080" cy="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2920" y="4468680"/>
              <a:ext cx="181080" cy="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640" y="4114800"/>
              <a:ext cx="216684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erloti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96720" y="309600"/>
            <a:ext cx="85186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GFR Selective Small Molecule Tyrosine Kin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3860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GFR tyrosine kinase activity requires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efitinib and erlotinib compete for ATP bind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versible inhib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ally bioavailable small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341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nical and Biological Factors Predictive for Sensitivity to T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04920" y="1523880"/>
          <a:ext cx="8686800" cy="4659480"/>
        </p:xfrm>
        <a:graphic>
          <a:graphicData uri="http://schemas.openxmlformats.org/drawingml/2006/table">
            <a:tbl>
              <a:tblPr/>
              <a:tblGrid>
                <a:gridCol w="1676160"/>
                <a:gridCol w="3276720"/>
                <a:gridCol w="3733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redictive for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redictive for 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lin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oking hi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oking hi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to prior thera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ous Plat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n r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olog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Gene 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high copy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 high copy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 acti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gene 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high copy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685800" y="137160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Response to TKIs According to EGFR Status in Retrospective and Prospectiv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57200" y="1600200"/>
          <a:ext cx="8242200" cy="4743360"/>
        </p:xfrm>
        <a:graphic>
          <a:graphicData uri="http://schemas.openxmlformats.org/drawingml/2006/table">
            <a:tbl>
              <a:tblPr/>
              <a:tblGrid>
                <a:gridCol w="1522440"/>
                <a:gridCol w="828720"/>
                <a:gridCol w="1176120"/>
                <a:gridCol w="1235160"/>
                <a:gridCol w="1128600"/>
                <a:gridCol w="1175040"/>
                <a:gridCol w="1176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pu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pu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p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tsudo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pu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p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z-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p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p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515880" y="2349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637704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2492280"/>
            <a:ext cx="8064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FISH: Response rate up to 6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4437000"/>
            <a:ext cx="8064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utation: Response rate up to 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96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 Stage III Disease is Clinical Selection Enough? The IPASS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4251240" y="4264200"/>
            <a:ext cx="1606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4251240" y="2325600"/>
            <a:ext cx="1606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3259080" y="3535200"/>
            <a:ext cx="2051280" cy="1393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263760" y="1717560"/>
            <a:ext cx="2041560" cy="1216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3268800" y="1797120"/>
            <a:ext cx="2030400" cy="105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fitini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250 mg /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 flipV="1">
            <a:off x="2384280" y="2317680"/>
            <a:ext cx="863640" cy="687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0"/>
          <p:cNvSpPr/>
          <p:nvPr/>
        </p:nvSpPr>
        <p:spPr>
          <a:xfrm>
            <a:off x="2397240" y="3621240"/>
            <a:ext cx="850680" cy="661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1"/>
          <p:cNvSpPr/>
          <p:nvPr/>
        </p:nvSpPr>
        <p:spPr>
          <a:xfrm>
            <a:off x="3159000" y="3873600"/>
            <a:ext cx="2249640" cy="73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AUC 5 or 6) / paclitaxe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200 mg /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 weekl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3146400" y="3152880"/>
            <a:ext cx="2293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9440" indent="-37944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:1 rando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>
            <a:off x="5867280" y="1063800"/>
            <a:ext cx="2990880" cy="465588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655880"/>
              <a:gd name="textAreaBottom" fmla="*/ 4510080 h 4655880"/>
            </a:gdLst>
            <a:ahLst/>
            <a:rect l="textAreaLeft" t="textAreaTop" r="textAreaRight" b="textAreaBottom"/>
            <a:pathLst>
              <a:path w="21600" h="33623">
                <a:moveTo>
                  <a:pt x="3600" y="0"/>
                </a:moveTo>
                <a:arcTo wR="3600" hR="3600" stAng="16200000" swAng="-5400000"/>
                <a:lnTo>
                  <a:pt x="0" y="30023"/>
                </a:lnTo>
                <a:arcTo wR="3600" hR="3600" stAng="10800000" swAng="-5400000"/>
                <a:lnTo>
                  <a:pt x="18000" y="33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390600" y="144468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77840" y="571032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*Never smokers, &lt;100 cigarettes in lifetime; light ex-smokers, stopped </a:t>
            </a:r>
            <a:r>
              <a:rPr b="1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5 years ago and smoked </a:t>
            </a:r>
            <a:r>
              <a:rPr b="1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 pack years; 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#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limited to a maximum of 6 cycles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S, performance status; EGFR, epidermal growth factor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507960" y="1528920"/>
            <a:ext cx="224172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Chemonaï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Age ≥18 year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≥12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PS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Measurable stage IIIB / IV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5954760" y="1638360"/>
            <a:ext cx="291132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rogression-free survival   (non-inferi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verall survi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Quality of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isease-related sympto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Bio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GFR m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GFR-gene-cop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EGFR protein ex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6014880" y="12682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1052640"/>
            <a:ext cx="8642160" cy="7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1360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gression-free Survival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 IT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91400" y="1925640"/>
            <a:ext cx="1014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453 (74.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778880" y="1925640"/>
            <a:ext cx="1014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497 (81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4894200" y="1911240"/>
            <a:ext cx="124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5286960" y="2489040"/>
            <a:ext cx="32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R (95% CI) =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.741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(0.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651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, 0.845) p&lt;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5327640" y="2443320"/>
            <a:ext cx="3214800" cy="342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6898680" y="1566720"/>
            <a:ext cx="799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Gefitin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5065560" y="3745080"/>
            <a:ext cx="376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Gefitinib demonstrated superiority relative to carboplatin / paclitaxel in terms of P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77840" y="6159600"/>
            <a:ext cx="86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imary Cox analysis with covar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 &lt;1 implies a lower risk of progression on gefi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7750440" y="1450800"/>
            <a:ext cx="1113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arboplatin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aclita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69"/>
          <p:cNvGrpSpPr/>
          <p:nvPr/>
        </p:nvGrpSpPr>
        <p:grpSpPr>
          <a:xfrm>
            <a:off x="-357120" y="1447920"/>
            <a:ext cx="8910720" cy="4488120"/>
            <a:chOff x="-357120" y="1447920"/>
            <a:chExt cx="8910720" cy="4488120"/>
          </a:xfrm>
        </p:grpSpPr>
        <p:sp>
          <p:nvSpPr>
            <p:cNvPr id="400" name="Rectangle 86"/>
            <p:cNvSpPr/>
            <p:nvPr/>
          </p:nvSpPr>
          <p:spPr>
            <a:xfrm>
              <a:off x="-357120" y="5570640"/>
              <a:ext cx="1598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arboplatin /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clitax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71"/>
            <p:cNvGrpSpPr/>
            <p:nvPr/>
          </p:nvGrpSpPr>
          <p:grpSpPr>
            <a:xfrm>
              <a:off x="230040" y="1447920"/>
              <a:ext cx="8323560" cy="4305600"/>
              <a:chOff x="230040" y="1447920"/>
              <a:chExt cx="8323560" cy="4305600"/>
            </a:xfrm>
          </p:grpSpPr>
          <p:sp>
            <p:nvSpPr>
              <p:cNvPr id="402" name="Rectangle 85"/>
              <p:cNvSpPr/>
              <p:nvPr/>
            </p:nvSpPr>
            <p:spPr>
              <a:xfrm>
                <a:off x="614520" y="535968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Gefitini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8"/>
              <p:cNvSpPr/>
              <p:nvPr/>
            </p:nvSpPr>
            <p:spPr>
              <a:xfrm>
                <a:off x="1668240" y="1549440"/>
                <a:ext cx="5148360" cy="3386160"/>
              </a:xfrm>
              <a:prstGeom prst="pie">
                <a:avLst/>
              </a:prstGeom>
              <a:noFill/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6"/>
              <p:cNvSpPr/>
              <p:nvPr/>
            </p:nvSpPr>
            <p:spPr>
              <a:xfrm>
                <a:off x="1665000" y="1546200"/>
                <a:ext cx="5535720" cy="33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1"/>
              <p:cNvSpPr/>
              <p:nvPr/>
            </p:nvSpPr>
            <p:spPr>
              <a:xfrm>
                <a:off x="4894200" y="2860560"/>
                <a:ext cx="22352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"/>
                  </a:spcBef>
                  <a:spcAft>
                    <a:spcPts val="15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Median PFS (months)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4 months progression-free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6 months progression-free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2 months progression-fre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12"/>
              <p:cNvSpPr/>
              <p:nvPr/>
            </p:nvSpPr>
            <p:spPr>
              <a:xfrm>
                <a:off x="7058160" y="2865600"/>
                <a:ext cx="487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"/>
                  </a:spcBef>
                  <a:spcAft>
                    <a:spcPts val="15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5.7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61%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48%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25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"/>
              <p:cNvSpPr/>
              <p:nvPr/>
            </p:nvSpPr>
            <p:spPr>
              <a:xfrm>
                <a:off x="8031600" y="2854440"/>
                <a:ext cx="487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"/>
                  </a:spcBef>
                  <a:spcAft>
                    <a:spcPts val="15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5.8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74%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48%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7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2"/>
              <p:cNvSpPr/>
              <p:nvPr/>
            </p:nvSpPr>
            <p:spPr>
              <a:xfrm>
                <a:off x="1543680" y="53611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6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3"/>
              <p:cNvSpPr/>
              <p:nvPr/>
            </p:nvSpPr>
            <p:spPr>
              <a:xfrm>
                <a:off x="3558600" y="53708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24"/>
              <p:cNvSpPr/>
              <p:nvPr/>
            </p:nvSpPr>
            <p:spPr>
              <a:xfrm>
                <a:off x="4606920" y="5361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7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25"/>
              <p:cNvSpPr/>
              <p:nvPr/>
            </p:nvSpPr>
            <p:spPr>
              <a:xfrm>
                <a:off x="5615280" y="5361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26"/>
              <p:cNvSpPr/>
              <p:nvPr/>
            </p:nvSpPr>
            <p:spPr>
              <a:xfrm>
                <a:off x="6653880" y="536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27"/>
              <p:cNvSpPr/>
              <p:nvPr/>
            </p:nvSpPr>
            <p:spPr>
              <a:xfrm>
                <a:off x="7665120" y="536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32"/>
              <p:cNvSpPr/>
              <p:nvPr/>
            </p:nvSpPr>
            <p:spPr>
              <a:xfrm>
                <a:off x="1543680" y="55706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6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33"/>
              <p:cNvSpPr/>
              <p:nvPr/>
            </p:nvSpPr>
            <p:spPr>
              <a:xfrm>
                <a:off x="3558600" y="55706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34"/>
              <p:cNvSpPr/>
              <p:nvPr/>
            </p:nvSpPr>
            <p:spPr>
              <a:xfrm>
                <a:off x="4606920" y="55706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35"/>
              <p:cNvSpPr/>
              <p:nvPr/>
            </p:nvSpPr>
            <p:spPr>
              <a:xfrm>
                <a:off x="5658480" y="557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36"/>
              <p:cNvSpPr/>
              <p:nvPr/>
            </p:nvSpPr>
            <p:spPr>
              <a:xfrm>
                <a:off x="6655320" y="557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37"/>
              <p:cNvSpPr/>
              <p:nvPr/>
            </p:nvSpPr>
            <p:spPr>
              <a:xfrm>
                <a:off x="7665120" y="557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42"/>
              <p:cNvSpPr/>
              <p:nvPr/>
            </p:nvSpPr>
            <p:spPr>
              <a:xfrm>
                <a:off x="2553480" y="53611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36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43"/>
              <p:cNvSpPr/>
              <p:nvPr/>
            </p:nvSpPr>
            <p:spPr>
              <a:xfrm>
                <a:off x="2558160" y="55706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4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5"/>
              <p:cNvSpPr/>
              <p:nvPr/>
            </p:nvSpPr>
            <p:spPr>
              <a:xfrm>
                <a:off x="1671480" y="1535040"/>
                <a:ext cx="6058080" cy="3432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46"/>
              <p:cNvSpPr/>
              <p:nvPr/>
            </p:nvSpPr>
            <p:spPr>
              <a:xfrm flipH="1">
                <a:off x="1558440" y="154764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47"/>
              <p:cNvSpPr/>
              <p:nvPr/>
            </p:nvSpPr>
            <p:spPr>
              <a:xfrm flipH="1">
                <a:off x="1558440" y="222732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48"/>
              <p:cNvSpPr/>
              <p:nvPr/>
            </p:nvSpPr>
            <p:spPr>
              <a:xfrm flipH="1">
                <a:off x="1558440" y="291636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49"/>
              <p:cNvSpPr/>
              <p:nvPr/>
            </p:nvSpPr>
            <p:spPr>
              <a:xfrm flipH="1">
                <a:off x="1558440" y="360216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50"/>
              <p:cNvSpPr/>
              <p:nvPr/>
            </p:nvSpPr>
            <p:spPr>
              <a:xfrm flipH="1">
                <a:off x="1558440" y="428472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51"/>
              <p:cNvSpPr/>
              <p:nvPr/>
            </p:nvSpPr>
            <p:spPr>
              <a:xfrm flipH="1">
                <a:off x="1558440" y="4959360"/>
                <a:ext cx="11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52"/>
              <p:cNvSpPr/>
              <p:nvPr/>
            </p:nvSpPr>
            <p:spPr>
              <a:xfrm>
                <a:off x="167148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3"/>
              <p:cNvSpPr/>
              <p:nvPr/>
            </p:nvSpPr>
            <p:spPr>
              <a:xfrm>
                <a:off x="267948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54"/>
              <p:cNvSpPr/>
              <p:nvPr/>
            </p:nvSpPr>
            <p:spPr>
              <a:xfrm>
                <a:off x="368784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55"/>
              <p:cNvSpPr/>
              <p:nvPr/>
            </p:nvSpPr>
            <p:spPr>
              <a:xfrm>
                <a:off x="469584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56"/>
              <p:cNvSpPr/>
              <p:nvPr/>
            </p:nvSpPr>
            <p:spPr>
              <a:xfrm>
                <a:off x="570384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57"/>
              <p:cNvSpPr/>
              <p:nvPr/>
            </p:nvSpPr>
            <p:spPr>
              <a:xfrm>
                <a:off x="671220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62"/>
              <p:cNvSpPr/>
              <p:nvPr/>
            </p:nvSpPr>
            <p:spPr>
              <a:xfrm>
                <a:off x="7720200" y="4972320"/>
                <a:ext cx="0" cy="117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65"/>
              <p:cNvSpPr/>
              <p:nvPr/>
            </p:nvSpPr>
            <p:spPr>
              <a:xfrm>
                <a:off x="1627920" y="51199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66"/>
              <p:cNvSpPr/>
              <p:nvPr/>
            </p:nvSpPr>
            <p:spPr>
              <a:xfrm>
                <a:off x="2632680" y="51199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67"/>
              <p:cNvSpPr/>
              <p:nvPr/>
            </p:nvSpPr>
            <p:spPr>
              <a:xfrm>
                <a:off x="3639240" y="51199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68"/>
              <p:cNvSpPr/>
              <p:nvPr/>
            </p:nvSpPr>
            <p:spPr>
              <a:xfrm>
                <a:off x="4588560" y="5119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69"/>
              <p:cNvSpPr/>
              <p:nvPr/>
            </p:nvSpPr>
            <p:spPr>
              <a:xfrm>
                <a:off x="5599800" y="5119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70"/>
              <p:cNvSpPr/>
              <p:nvPr/>
            </p:nvSpPr>
            <p:spPr>
              <a:xfrm>
                <a:off x="6610680" y="5119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75"/>
              <p:cNvSpPr/>
              <p:nvPr/>
            </p:nvSpPr>
            <p:spPr>
              <a:xfrm>
                <a:off x="7623360" y="5119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82"/>
              <p:cNvSpPr/>
              <p:nvPr/>
            </p:nvSpPr>
            <p:spPr>
              <a:xfrm>
                <a:off x="7695000" y="5119920"/>
                <a:ext cx="85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Month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76"/>
              <p:cNvSpPr/>
              <p:nvPr/>
            </p:nvSpPr>
            <p:spPr>
              <a:xfrm>
                <a:off x="1185480" y="487368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77"/>
              <p:cNvSpPr/>
              <p:nvPr/>
            </p:nvSpPr>
            <p:spPr>
              <a:xfrm>
                <a:off x="1185480" y="419760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78"/>
              <p:cNvSpPr/>
              <p:nvPr/>
            </p:nvSpPr>
            <p:spPr>
              <a:xfrm>
                <a:off x="1185480" y="351324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79"/>
              <p:cNvSpPr/>
              <p:nvPr/>
            </p:nvSpPr>
            <p:spPr>
              <a:xfrm>
                <a:off x="1185480" y="282744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80"/>
              <p:cNvSpPr/>
              <p:nvPr/>
            </p:nvSpPr>
            <p:spPr>
              <a:xfrm>
                <a:off x="1185480" y="214308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81"/>
              <p:cNvSpPr/>
              <p:nvPr/>
            </p:nvSpPr>
            <p:spPr>
              <a:xfrm>
                <a:off x="1185480" y="1457280"/>
                <a:ext cx="33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83"/>
              <p:cNvSpPr/>
              <p:nvPr/>
            </p:nvSpPr>
            <p:spPr>
              <a:xfrm>
                <a:off x="230040" y="1447920"/>
                <a:ext cx="11811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Probability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of PF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84"/>
              <p:cNvSpPr/>
              <p:nvPr/>
            </p:nvSpPr>
            <p:spPr>
              <a:xfrm>
                <a:off x="673200" y="5202360"/>
                <a:ext cx="56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At risk 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9"/>
              <p:cNvSpPr/>
              <p:nvPr/>
            </p:nvSpPr>
            <p:spPr>
              <a:xfrm>
                <a:off x="1661760" y="1549440"/>
                <a:ext cx="5540760" cy="3309840"/>
              </a:xfrm>
              <a:prstGeom prst="pi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Straight Connector 73"/>
          <p:cNvSpPr/>
          <p:nvPr/>
        </p:nvSpPr>
        <p:spPr>
          <a:xfrm>
            <a:off x="4967280" y="3616200"/>
            <a:ext cx="38340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76"/>
          <p:cNvSpPr/>
          <p:nvPr/>
        </p:nvSpPr>
        <p:spPr>
          <a:xfrm>
            <a:off x="4967280" y="1938240"/>
            <a:ext cx="38340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77"/>
          <p:cNvSpPr/>
          <p:nvPr/>
        </p:nvSpPr>
        <p:spPr>
          <a:xfrm>
            <a:off x="4967280" y="1474920"/>
            <a:ext cx="383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052640"/>
            <a:ext cx="8642160" cy="7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gression-free Survival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 EGFR Mutation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ositive and Negative Patients: Two Important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43080" y="1779480"/>
            <a:ext cx="30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FR mutation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4"/>
          <p:cNvSpPr/>
          <p:nvPr/>
        </p:nvSpPr>
        <p:spPr>
          <a:xfrm>
            <a:off x="5775480" y="1779480"/>
            <a:ext cx="30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FR mutation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9"/>
          <p:cNvSpPr/>
          <p:nvPr/>
        </p:nvSpPr>
        <p:spPr>
          <a:xfrm>
            <a:off x="1855800" y="5972040"/>
            <a:ext cx="56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eatment by subgroup interaction test, p&lt;0.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2320920" y="2736720"/>
            <a:ext cx="25509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R (95% CI) =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.48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(0.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36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, 0.64)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&lt;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o. events gefitinib,  97 (73.5%)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o. events C / P,  111 (86.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2151000" y="2268360"/>
            <a:ext cx="249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Gefitinib (n=132)</a:t>
            </a:r>
            <a:br>
              <a:rPr sz="1200"/>
            </a:b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Carboplatin / paclitaxel (n=129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177840" y="6143760"/>
            <a:ext cx="3757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TT population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x analysis with covar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6251400" y="2786040"/>
            <a:ext cx="2892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R (95% CI) =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2.85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(2.05, 3.98)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p&lt;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o. events gefitinib , 88 (96.7%)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o. events C / P, 70 (82.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2"/>
          <p:cNvSpPr/>
          <p:nvPr/>
        </p:nvSpPr>
        <p:spPr>
          <a:xfrm>
            <a:off x="982440" y="5483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2148840" y="5489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4"/>
          <p:cNvSpPr/>
          <p:nvPr/>
        </p:nvSpPr>
        <p:spPr>
          <a:xfrm>
            <a:off x="2728080" y="5483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5"/>
          <p:cNvSpPr/>
          <p:nvPr/>
        </p:nvSpPr>
        <p:spPr>
          <a:xfrm>
            <a:off x="3300480" y="5483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389664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7"/>
          <p:cNvSpPr/>
          <p:nvPr/>
        </p:nvSpPr>
        <p:spPr>
          <a:xfrm>
            <a:off x="447264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2"/>
          <p:cNvSpPr/>
          <p:nvPr/>
        </p:nvSpPr>
        <p:spPr>
          <a:xfrm>
            <a:off x="982440" y="5626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3"/>
          <p:cNvSpPr/>
          <p:nvPr/>
        </p:nvSpPr>
        <p:spPr>
          <a:xfrm>
            <a:off x="2150280" y="562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4"/>
          <p:cNvSpPr/>
          <p:nvPr/>
        </p:nvSpPr>
        <p:spPr>
          <a:xfrm>
            <a:off x="276444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5"/>
          <p:cNvSpPr/>
          <p:nvPr/>
        </p:nvSpPr>
        <p:spPr>
          <a:xfrm>
            <a:off x="332820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6"/>
          <p:cNvSpPr/>
          <p:nvPr/>
        </p:nvSpPr>
        <p:spPr>
          <a:xfrm>
            <a:off x="389664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7"/>
          <p:cNvSpPr/>
          <p:nvPr/>
        </p:nvSpPr>
        <p:spPr>
          <a:xfrm>
            <a:off x="447264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1558440" y="5483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1561680" y="5626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45"/>
          <p:cNvSpPr/>
          <p:nvPr/>
        </p:nvSpPr>
        <p:spPr>
          <a:xfrm>
            <a:off x="1055520" y="2530440"/>
            <a:ext cx="3454560" cy="23414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6"/>
          <p:cNvSpPr/>
          <p:nvPr/>
        </p:nvSpPr>
        <p:spPr>
          <a:xfrm flipH="1">
            <a:off x="990720" y="254808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7"/>
          <p:cNvSpPr/>
          <p:nvPr/>
        </p:nvSpPr>
        <p:spPr>
          <a:xfrm flipH="1">
            <a:off x="990720" y="301140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8"/>
          <p:cNvSpPr/>
          <p:nvPr/>
        </p:nvSpPr>
        <p:spPr>
          <a:xfrm flipH="1">
            <a:off x="990720" y="348300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9"/>
          <p:cNvSpPr/>
          <p:nvPr/>
        </p:nvSpPr>
        <p:spPr>
          <a:xfrm flipH="1">
            <a:off x="990720" y="394956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0"/>
          <p:cNvSpPr/>
          <p:nvPr/>
        </p:nvSpPr>
        <p:spPr>
          <a:xfrm flipH="1">
            <a:off x="990720" y="441648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1"/>
          <p:cNvSpPr/>
          <p:nvPr/>
        </p:nvSpPr>
        <p:spPr>
          <a:xfrm flipH="1">
            <a:off x="990720" y="4876920"/>
            <a:ext cx="64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2"/>
          <p:cNvSpPr/>
          <p:nvPr/>
        </p:nvSpPr>
        <p:spPr>
          <a:xfrm>
            <a:off x="105552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3"/>
          <p:cNvSpPr/>
          <p:nvPr/>
        </p:nvSpPr>
        <p:spPr>
          <a:xfrm>
            <a:off x="163044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4"/>
          <p:cNvSpPr/>
          <p:nvPr/>
        </p:nvSpPr>
        <p:spPr>
          <a:xfrm>
            <a:off x="220500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5"/>
          <p:cNvSpPr/>
          <p:nvPr/>
        </p:nvSpPr>
        <p:spPr>
          <a:xfrm>
            <a:off x="277956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6"/>
          <p:cNvSpPr/>
          <p:nvPr/>
        </p:nvSpPr>
        <p:spPr>
          <a:xfrm>
            <a:off x="335448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7"/>
          <p:cNvSpPr/>
          <p:nvPr/>
        </p:nvSpPr>
        <p:spPr>
          <a:xfrm>
            <a:off x="392904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2"/>
          <p:cNvSpPr/>
          <p:nvPr/>
        </p:nvSpPr>
        <p:spPr>
          <a:xfrm>
            <a:off x="450360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5"/>
          <p:cNvSpPr/>
          <p:nvPr/>
        </p:nvSpPr>
        <p:spPr>
          <a:xfrm>
            <a:off x="103032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6"/>
          <p:cNvSpPr/>
          <p:nvPr/>
        </p:nvSpPr>
        <p:spPr>
          <a:xfrm>
            <a:off x="160344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7"/>
          <p:cNvSpPr/>
          <p:nvPr/>
        </p:nvSpPr>
        <p:spPr>
          <a:xfrm>
            <a:off x="217764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8"/>
          <p:cNvSpPr/>
          <p:nvPr/>
        </p:nvSpPr>
        <p:spPr>
          <a:xfrm>
            <a:off x="271944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9"/>
          <p:cNvSpPr/>
          <p:nvPr/>
        </p:nvSpPr>
        <p:spPr>
          <a:xfrm>
            <a:off x="329580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0"/>
          <p:cNvSpPr/>
          <p:nvPr/>
        </p:nvSpPr>
        <p:spPr>
          <a:xfrm>
            <a:off x="387216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44852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5"/>
          <p:cNvSpPr/>
          <p:nvPr/>
        </p:nvSpPr>
        <p:spPr>
          <a:xfrm>
            <a:off x="270360" y="548172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Gefitin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6"/>
          <p:cNvSpPr/>
          <p:nvPr/>
        </p:nvSpPr>
        <p:spPr>
          <a:xfrm>
            <a:off x="270000" y="5616720"/>
            <a:ext cx="3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 /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6"/>
          <p:cNvSpPr/>
          <p:nvPr/>
        </p:nvSpPr>
        <p:spPr>
          <a:xfrm>
            <a:off x="777960" y="481824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7"/>
          <p:cNvSpPr/>
          <p:nvPr/>
        </p:nvSpPr>
        <p:spPr>
          <a:xfrm>
            <a:off x="777960" y="435600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8"/>
          <p:cNvSpPr/>
          <p:nvPr/>
        </p:nvSpPr>
        <p:spPr>
          <a:xfrm>
            <a:off x="777960" y="388944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9"/>
          <p:cNvSpPr/>
          <p:nvPr/>
        </p:nvSpPr>
        <p:spPr>
          <a:xfrm>
            <a:off x="777960" y="342108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0"/>
          <p:cNvSpPr/>
          <p:nvPr/>
        </p:nvSpPr>
        <p:spPr>
          <a:xfrm>
            <a:off x="777960" y="295416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1"/>
          <p:cNvSpPr/>
          <p:nvPr/>
        </p:nvSpPr>
        <p:spPr>
          <a:xfrm>
            <a:off x="777960" y="2487600"/>
            <a:ext cx="18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3"/>
          <p:cNvSpPr/>
          <p:nvPr/>
        </p:nvSpPr>
        <p:spPr>
          <a:xfrm rot="16200000">
            <a:off x="-644760" y="365508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Probability of progression-free surv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84"/>
          <p:cNvSpPr/>
          <p:nvPr/>
        </p:nvSpPr>
        <p:spPr>
          <a:xfrm>
            <a:off x="268920" y="532764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t risk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2"/>
          <p:cNvSpPr/>
          <p:nvPr/>
        </p:nvSpPr>
        <p:spPr>
          <a:xfrm>
            <a:off x="5234760" y="5483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6435720" y="548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701820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758340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814860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8724960" y="5483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2"/>
          <p:cNvSpPr/>
          <p:nvPr/>
        </p:nvSpPr>
        <p:spPr>
          <a:xfrm>
            <a:off x="5234760" y="562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6401520" y="562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4"/>
          <p:cNvSpPr/>
          <p:nvPr/>
        </p:nvSpPr>
        <p:spPr>
          <a:xfrm>
            <a:off x="701820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5"/>
          <p:cNvSpPr/>
          <p:nvPr/>
        </p:nvSpPr>
        <p:spPr>
          <a:xfrm>
            <a:off x="758340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6"/>
          <p:cNvSpPr/>
          <p:nvPr/>
        </p:nvSpPr>
        <p:spPr>
          <a:xfrm>
            <a:off x="815040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7"/>
          <p:cNvSpPr/>
          <p:nvPr/>
        </p:nvSpPr>
        <p:spPr>
          <a:xfrm>
            <a:off x="8724960" y="562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2"/>
          <p:cNvSpPr/>
          <p:nvPr/>
        </p:nvSpPr>
        <p:spPr>
          <a:xfrm>
            <a:off x="5817600" y="5483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3"/>
          <p:cNvSpPr/>
          <p:nvPr/>
        </p:nvSpPr>
        <p:spPr>
          <a:xfrm>
            <a:off x="5817600" y="562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5"/>
          <p:cNvSpPr/>
          <p:nvPr/>
        </p:nvSpPr>
        <p:spPr>
          <a:xfrm>
            <a:off x="5307120" y="2530440"/>
            <a:ext cx="3454200" cy="23414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6"/>
          <p:cNvSpPr/>
          <p:nvPr/>
        </p:nvSpPr>
        <p:spPr>
          <a:xfrm flipH="1">
            <a:off x="5243040" y="254808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7"/>
          <p:cNvSpPr/>
          <p:nvPr/>
        </p:nvSpPr>
        <p:spPr>
          <a:xfrm flipH="1">
            <a:off x="5243040" y="301140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8"/>
          <p:cNvSpPr/>
          <p:nvPr/>
        </p:nvSpPr>
        <p:spPr>
          <a:xfrm flipH="1">
            <a:off x="5243040" y="348300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9"/>
          <p:cNvSpPr/>
          <p:nvPr/>
        </p:nvSpPr>
        <p:spPr>
          <a:xfrm flipH="1">
            <a:off x="5243040" y="394956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0"/>
          <p:cNvSpPr/>
          <p:nvPr/>
        </p:nvSpPr>
        <p:spPr>
          <a:xfrm flipH="1">
            <a:off x="5243040" y="441648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1"/>
          <p:cNvSpPr/>
          <p:nvPr/>
        </p:nvSpPr>
        <p:spPr>
          <a:xfrm flipH="1">
            <a:off x="5243040" y="4876920"/>
            <a:ext cx="63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2"/>
          <p:cNvSpPr/>
          <p:nvPr/>
        </p:nvSpPr>
        <p:spPr>
          <a:xfrm>
            <a:off x="530712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3"/>
          <p:cNvSpPr/>
          <p:nvPr/>
        </p:nvSpPr>
        <p:spPr>
          <a:xfrm>
            <a:off x="588168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4"/>
          <p:cNvSpPr/>
          <p:nvPr/>
        </p:nvSpPr>
        <p:spPr>
          <a:xfrm>
            <a:off x="645804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5"/>
          <p:cNvSpPr/>
          <p:nvPr/>
        </p:nvSpPr>
        <p:spPr>
          <a:xfrm>
            <a:off x="703260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6"/>
          <p:cNvSpPr/>
          <p:nvPr/>
        </p:nvSpPr>
        <p:spPr>
          <a:xfrm>
            <a:off x="760716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7"/>
          <p:cNvSpPr/>
          <p:nvPr/>
        </p:nvSpPr>
        <p:spPr>
          <a:xfrm>
            <a:off x="818208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2"/>
          <p:cNvSpPr/>
          <p:nvPr/>
        </p:nvSpPr>
        <p:spPr>
          <a:xfrm>
            <a:off x="8756640" y="4884840"/>
            <a:ext cx="0" cy="8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5"/>
          <p:cNvSpPr/>
          <p:nvPr/>
        </p:nvSpPr>
        <p:spPr>
          <a:xfrm>
            <a:off x="528300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6"/>
          <p:cNvSpPr/>
          <p:nvPr/>
        </p:nvSpPr>
        <p:spPr>
          <a:xfrm>
            <a:off x="584640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7"/>
          <p:cNvSpPr/>
          <p:nvPr/>
        </p:nvSpPr>
        <p:spPr>
          <a:xfrm>
            <a:off x="6429600" y="4984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8"/>
          <p:cNvSpPr/>
          <p:nvPr/>
        </p:nvSpPr>
        <p:spPr>
          <a:xfrm>
            <a:off x="697104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9"/>
          <p:cNvSpPr/>
          <p:nvPr/>
        </p:nvSpPr>
        <p:spPr>
          <a:xfrm>
            <a:off x="754704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0"/>
          <p:cNvSpPr/>
          <p:nvPr/>
        </p:nvSpPr>
        <p:spPr>
          <a:xfrm>
            <a:off x="812448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5"/>
          <p:cNvSpPr/>
          <p:nvPr/>
        </p:nvSpPr>
        <p:spPr>
          <a:xfrm>
            <a:off x="8701200" y="498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6"/>
          <p:cNvSpPr/>
          <p:nvPr/>
        </p:nvSpPr>
        <p:spPr>
          <a:xfrm>
            <a:off x="5030640" y="481824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7"/>
          <p:cNvSpPr/>
          <p:nvPr/>
        </p:nvSpPr>
        <p:spPr>
          <a:xfrm>
            <a:off x="5030640" y="435600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8"/>
          <p:cNvSpPr/>
          <p:nvPr/>
        </p:nvSpPr>
        <p:spPr>
          <a:xfrm>
            <a:off x="5030640" y="388944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9"/>
          <p:cNvSpPr/>
          <p:nvPr/>
        </p:nvSpPr>
        <p:spPr>
          <a:xfrm>
            <a:off x="5030640" y="342108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0"/>
          <p:cNvSpPr/>
          <p:nvPr/>
        </p:nvSpPr>
        <p:spPr>
          <a:xfrm>
            <a:off x="5030640" y="295416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1"/>
          <p:cNvSpPr/>
          <p:nvPr/>
        </p:nvSpPr>
        <p:spPr>
          <a:xfrm>
            <a:off x="5030640" y="2487600"/>
            <a:ext cx="18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3"/>
          <p:cNvSpPr/>
          <p:nvPr/>
        </p:nvSpPr>
        <p:spPr>
          <a:xfrm rot="16200000">
            <a:off x="3606120" y="365508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Probability of progression-free surv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55"/>
          <p:cNvSpPr/>
          <p:nvPr/>
        </p:nvSpPr>
        <p:spPr>
          <a:xfrm>
            <a:off x="1054080" y="2554200"/>
            <a:ext cx="2948040" cy="230184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6"/>
          <p:cNvSpPr/>
          <p:nvPr/>
        </p:nvSpPr>
        <p:spPr>
          <a:xfrm>
            <a:off x="1060560" y="2554200"/>
            <a:ext cx="3165480" cy="2264040"/>
          </a:xfrm>
          <a:prstGeom prst="pi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68"/>
          <p:cNvSpPr/>
          <p:nvPr/>
        </p:nvSpPr>
        <p:spPr>
          <a:xfrm>
            <a:off x="5322960" y="2550960"/>
            <a:ext cx="1795320" cy="2320920"/>
          </a:xfrm>
          <a:prstGeom prst="pi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69"/>
          <p:cNvSpPr/>
          <p:nvPr/>
        </p:nvSpPr>
        <p:spPr>
          <a:xfrm>
            <a:off x="5326200" y="2557440"/>
            <a:ext cx="2712960" cy="2311560"/>
          </a:xfrm>
          <a:prstGeom prst="pi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6205680" y="2286000"/>
            <a:ext cx="241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Gefitinib (n=91)</a:t>
            </a:r>
            <a:br>
              <a:rPr sz="1200"/>
            </a:br>
            <a:r>
              <a:rPr b="1" lang="en-GB" sz="1200" spc="-1" strike="noStrike">
                <a:solidFill>
                  <a:srgbClr val="ffff00"/>
                </a:solidFill>
                <a:latin typeface="Arial"/>
              </a:rPr>
              <a:t>Carboplatin / paclitaxel (n=85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41"/>
          <p:cNvSpPr/>
          <p:nvPr/>
        </p:nvSpPr>
        <p:spPr>
          <a:xfrm>
            <a:off x="2390040" y="51624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42"/>
          <p:cNvSpPr/>
          <p:nvPr/>
        </p:nvSpPr>
        <p:spPr>
          <a:xfrm>
            <a:off x="6746040" y="51624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0920" y="1627200"/>
            <a:ext cx="8642160" cy="73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97360" y="1773360"/>
            <a:ext cx="434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We need biologic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1280" y="1773360"/>
            <a:ext cx="4348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EGFR mutant mor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to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UCTION THERAPY INCLUDING A TARGETED DRUG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BIOLOGICAL TRIPLE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4480" y="443232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484280"/>
            <a:ext cx="4392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484280"/>
            <a:ext cx="439236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229360"/>
            <a:ext cx="396072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surgical multimod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57400" y="23097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57400" y="261468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261468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3097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00"/>
                </a:solidFill>
                <a:latin typeface="Arial"/>
              </a:rPr>
              <a:t>Locally advanced (stage III) NSCLC</a:t>
            </a:r>
            <a:br>
              <a:rPr sz="3200"/>
            </a:br>
            <a:r>
              <a:rPr b="1" lang="nl-BE" sz="3200" spc="-1" strike="noStrike">
                <a:solidFill>
                  <a:srgbClr val="ffff00"/>
                </a:solidFill>
                <a:latin typeface="Arial"/>
              </a:rPr>
              <a:t> a heterogeneou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61468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61468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229360"/>
            <a:ext cx="387180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non-surgical multimod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444840"/>
            <a:ext cx="0" cy="78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5276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3757680"/>
            <a:ext cx="1066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757680"/>
            <a:ext cx="0" cy="507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124080" y="3371760"/>
            <a:ext cx="7920" cy="766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157400" y="3371760"/>
            <a:ext cx="7920" cy="766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1700280"/>
            <a:ext cx="3886200" cy="45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unrese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003480"/>
            <a:ext cx="179388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some IIIA-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003480"/>
            <a:ext cx="198612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some T4-N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87000" y="3038400"/>
            <a:ext cx="172584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bulky IIIA-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992320"/>
            <a:ext cx="1738440" cy="39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Arial"/>
              </a:rPr>
              <a:t>most II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5720" y="4159080"/>
            <a:ext cx="2097000" cy="698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Induction ch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24680" y="4159080"/>
            <a:ext cx="1970640" cy="698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Induction CT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700280"/>
            <a:ext cx="3962520" cy="45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potentially rese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164120"/>
            <a:ext cx="4016160" cy="63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Radio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Systemic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00400" y="655308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00"/>
                </a:solidFill>
                <a:latin typeface="Arial"/>
              </a:rPr>
              <a:t>Vansteenkiste ERS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880" y="1341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rgeted Agents Tested in Combination with Chemotherapy in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54200" y="2104920"/>
          <a:ext cx="7626240" cy="4216680"/>
        </p:xfrm>
        <a:graphic>
          <a:graphicData uri="http://schemas.openxmlformats.org/drawingml/2006/table">
            <a:tbl>
              <a:tblPr/>
              <a:tblGrid>
                <a:gridCol w="1906560"/>
                <a:gridCol w="1906560"/>
                <a:gridCol w="1906560"/>
                <a:gridCol w="1906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 on 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fit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G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tuzum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vacizum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G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tezom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a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xarot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50920" y="2847960"/>
            <a:ext cx="862812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305400"/>
            <a:ext cx="862812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51240" y="1392120"/>
            <a:ext cx="641520" cy="475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Bevacizumab in NSCLC: ECOG 4599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64480" y="642636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andler A, NEJM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8920" y="1341360"/>
            <a:ext cx="318924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Eligibi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Non-squamo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Non hemopt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No CNS metast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Stratification vari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RT vs no 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Stage IIIB or IV vs recurr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</a:rPr>
              <a:t>WT loss &lt;5% vs </a:t>
            </a:r>
            <a:r>
              <a:rPr b="1" lang="it-IT" sz="2300" spc="-1" strike="noStrike">
                <a:solidFill>
                  <a:srgbClr val="ffffff"/>
                </a:solidFill>
                <a:latin typeface="Arial"/>
                <a:ea typeface="Arial"/>
              </a:rPr>
              <a:t>≥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Arial"/>
                <a:ea typeface="Arial"/>
              </a:rPr>
              <a:t>Measurable vs non-measur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9840" y="1413000"/>
            <a:ext cx="3144600" cy="4733640"/>
          </a:xfrm>
          <a:prstGeom prst="rect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59160" y="1479960"/>
            <a:ext cx="59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36520" y="1797120"/>
            <a:ext cx="292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aclitaxel 200 mg/m</a:t>
            </a:r>
            <a:r>
              <a:rPr b="1" lang="it-IT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arboplatin AUC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 3 weeks x 6 cy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630760" y="1700280"/>
            <a:ext cx="3360960" cy="1368360"/>
          </a:xfrm>
          <a:prstGeom prst="rect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4316400"/>
            <a:ext cx="337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C x 6 cycles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Bevacizumab 15 mg/K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 3 wks to 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65680" y="4221000"/>
            <a:ext cx="3326040" cy="1368720"/>
          </a:xfrm>
          <a:prstGeom prst="rect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858200">
            <a:off x="4898160" y="3251520"/>
            <a:ext cx="898560" cy="874800"/>
          </a:xfrm>
          <a:custGeom>
            <a:avLst/>
            <a:gdLst>
              <a:gd name="textAreaLeft" fmla="*/ 257760 w 898560"/>
              <a:gd name="textAreaRight" fmla="*/ 769680 w 898560"/>
              <a:gd name="textAreaTop" fmla="*/ 504000 h 874800"/>
              <a:gd name="textAreaBottom" fmla="*/ 749520 h 8748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13320" y="3500280"/>
            <a:ext cx="510840" cy="433440"/>
          </a:xfrm>
          <a:prstGeom prst="rightArrow">
            <a:avLst>
              <a:gd name="adj1" fmla="val 50000"/>
              <a:gd name="adj2" fmla="val 2946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219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50920" y="2710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VASTIN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-Based Therapy Significantly Improves Response Rate Compared with CP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 flipH="1">
            <a:off x="3946680" y="4189320"/>
            <a:ext cx="17697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2837520" y="3798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6377400" y="184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2541960" y="566748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P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n=3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5770080" y="566568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vastin + CP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n=3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4067280" y="2255760"/>
            <a:ext cx="0" cy="192888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276800" y="28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7"/>
          <p:cNvSpPr/>
          <p:nvPr/>
        </p:nvSpPr>
        <p:spPr>
          <a:xfrm rot="16200000">
            <a:off x="-829080" y="350316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verall response rat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4896000" y="6327360"/>
            <a:ext cx="3906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ndler, et al. NEJM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5840" y="1573200"/>
            <a:ext cx="2538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5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5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5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5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5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 flipH="1">
            <a:off x="3946680" y="2230560"/>
            <a:ext cx="17697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78000" y="4175280"/>
            <a:ext cx="1771560" cy="14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13560" y="2216160"/>
            <a:ext cx="1761840" cy="3424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01760" y="1720800"/>
            <a:ext cx="1440" cy="3919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25440" y="564048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25440" y="466092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25440" y="367992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25440" y="270036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25440" y="1720800"/>
            <a:ext cx="76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01760" y="5640480"/>
            <a:ext cx="705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301760" y="5640120"/>
            <a:ext cx="14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836960" y="5640120"/>
            <a:ext cx="18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8361360" y="5640120"/>
            <a:ext cx="14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8800" y="155736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157760" y="1881360"/>
            <a:ext cx="503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31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87640" y="2152800"/>
            <a:ext cx="2193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vacizumab +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46200" y="5450040"/>
            <a:ext cx="73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014480"/>
                <a:tab algn="ctr" pos="1974960"/>
                <a:tab algn="ctr" pos="2925720"/>
                <a:tab algn="ctr" pos="3886200"/>
                <a:tab algn="ctr" pos="4836960"/>
                <a:tab algn="ctr" pos="5778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93800" y="580536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-796680" y="351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35760" y="405756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Medians: 10.2, 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VASTIN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Significantly Improves Overall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27920" y="2154240"/>
            <a:ext cx="2377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2%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91120" y="215424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116760" y="1778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 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48520" y="1778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4 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46200" y="30495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R: 0.77 (0.65, 0.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05320" y="234792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277164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31400" y="350532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0.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93800" y="2060640"/>
            <a:ext cx="6280200" cy="3006720"/>
          </a:xfrm>
          <a:custGeom>
            <a:avLst/>
            <a:gdLst/>
            <a:ahLst/>
            <a:rect l="l" t="t" r="r" b="b"/>
            <a:pathLst>
              <a:path w="3956" h="1894">
                <a:moveTo>
                  <a:pt x="16" y="2"/>
                </a:moveTo>
                <a:lnTo>
                  <a:pt x="16" y="8"/>
                </a:lnTo>
                <a:lnTo>
                  <a:pt x="0" y="8"/>
                </a:lnTo>
                <a:lnTo>
                  <a:pt x="0" y="2"/>
                </a:lnTo>
                <a:lnTo>
                  <a:pt x="16" y="2"/>
                </a:lnTo>
                <a:close/>
                <a:moveTo>
                  <a:pt x="8" y="16"/>
                </a:move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8" y="16"/>
                </a:lnTo>
                <a:close/>
                <a:moveTo>
                  <a:pt x="8" y="0"/>
                </a:moveTo>
                <a:lnTo>
                  <a:pt x="41" y="0"/>
                </a:lnTo>
                <a:lnTo>
                  <a:pt x="41" y="16"/>
                </a:lnTo>
                <a:lnTo>
                  <a:pt x="8" y="16"/>
                </a:lnTo>
                <a:lnTo>
                  <a:pt x="8" y="0"/>
                </a:lnTo>
                <a:close/>
                <a:moveTo>
                  <a:pt x="41" y="0"/>
                </a:moveTo>
                <a:lnTo>
                  <a:pt x="48" y="0"/>
                </a:lnTo>
                <a:lnTo>
                  <a:pt x="48" y="8"/>
                </a:lnTo>
                <a:lnTo>
                  <a:pt x="41" y="8"/>
                </a:lnTo>
                <a:lnTo>
                  <a:pt x="41" y="0"/>
                </a:lnTo>
                <a:close/>
                <a:moveTo>
                  <a:pt x="48" y="8"/>
                </a:moveTo>
                <a:lnTo>
                  <a:pt x="48" y="20"/>
                </a:lnTo>
                <a:lnTo>
                  <a:pt x="33" y="20"/>
                </a:lnTo>
                <a:lnTo>
                  <a:pt x="33" y="8"/>
                </a:lnTo>
                <a:lnTo>
                  <a:pt x="48" y="8"/>
                </a:lnTo>
                <a:close/>
                <a:moveTo>
                  <a:pt x="41" y="27"/>
                </a:moveTo>
                <a:lnTo>
                  <a:pt x="33" y="27"/>
                </a:lnTo>
                <a:lnTo>
                  <a:pt x="33" y="20"/>
                </a:lnTo>
                <a:lnTo>
                  <a:pt x="41" y="20"/>
                </a:lnTo>
                <a:lnTo>
                  <a:pt x="41" y="27"/>
                </a:lnTo>
                <a:close/>
                <a:moveTo>
                  <a:pt x="41" y="12"/>
                </a:moveTo>
                <a:lnTo>
                  <a:pt x="54" y="12"/>
                </a:lnTo>
                <a:lnTo>
                  <a:pt x="54" y="27"/>
                </a:lnTo>
                <a:lnTo>
                  <a:pt x="41" y="27"/>
                </a:lnTo>
                <a:lnTo>
                  <a:pt x="41" y="12"/>
                </a:lnTo>
                <a:close/>
                <a:moveTo>
                  <a:pt x="54" y="12"/>
                </a:moveTo>
                <a:lnTo>
                  <a:pt x="62" y="12"/>
                </a:lnTo>
                <a:lnTo>
                  <a:pt x="62" y="20"/>
                </a:lnTo>
                <a:lnTo>
                  <a:pt x="54" y="20"/>
                </a:lnTo>
                <a:lnTo>
                  <a:pt x="54" y="12"/>
                </a:lnTo>
                <a:close/>
                <a:moveTo>
                  <a:pt x="62" y="20"/>
                </a:moveTo>
                <a:lnTo>
                  <a:pt x="62" y="25"/>
                </a:lnTo>
                <a:lnTo>
                  <a:pt x="45" y="25"/>
                </a:lnTo>
                <a:lnTo>
                  <a:pt x="45" y="20"/>
                </a:lnTo>
                <a:lnTo>
                  <a:pt x="62" y="20"/>
                </a:lnTo>
                <a:close/>
                <a:moveTo>
                  <a:pt x="62" y="25"/>
                </a:moveTo>
                <a:lnTo>
                  <a:pt x="62" y="31"/>
                </a:lnTo>
                <a:lnTo>
                  <a:pt x="45" y="31"/>
                </a:lnTo>
                <a:lnTo>
                  <a:pt x="45" y="25"/>
                </a:lnTo>
                <a:lnTo>
                  <a:pt x="62" y="25"/>
                </a:lnTo>
                <a:close/>
                <a:moveTo>
                  <a:pt x="54" y="39"/>
                </a:moveTo>
                <a:lnTo>
                  <a:pt x="45" y="39"/>
                </a:lnTo>
                <a:lnTo>
                  <a:pt x="45" y="31"/>
                </a:lnTo>
                <a:lnTo>
                  <a:pt x="54" y="31"/>
                </a:lnTo>
                <a:lnTo>
                  <a:pt x="54" y="39"/>
                </a:lnTo>
                <a:close/>
                <a:moveTo>
                  <a:pt x="54" y="23"/>
                </a:moveTo>
                <a:lnTo>
                  <a:pt x="68" y="23"/>
                </a:lnTo>
                <a:lnTo>
                  <a:pt x="68" y="39"/>
                </a:lnTo>
                <a:lnTo>
                  <a:pt x="54" y="39"/>
                </a:lnTo>
                <a:lnTo>
                  <a:pt x="54" y="23"/>
                </a:lnTo>
                <a:close/>
                <a:moveTo>
                  <a:pt x="68" y="23"/>
                </a:moveTo>
                <a:lnTo>
                  <a:pt x="75" y="23"/>
                </a:lnTo>
                <a:lnTo>
                  <a:pt x="75" y="31"/>
                </a:lnTo>
                <a:lnTo>
                  <a:pt x="68" y="31"/>
                </a:lnTo>
                <a:lnTo>
                  <a:pt x="68" y="23"/>
                </a:lnTo>
                <a:close/>
                <a:moveTo>
                  <a:pt x="75" y="31"/>
                </a:moveTo>
                <a:lnTo>
                  <a:pt x="75" y="37"/>
                </a:lnTo>
                <a:lnTo>
                  <a:pt x="58" y="37"/>
                </a:lnTo>
                <a:lnTo>
                  <a:pt x="58" y="31"/>
                </a:lnTo>
                <a:lnTo>
                  <a:pt x="75" y="31"/>
                </a:lnTo>
                <a:close/>
                <a:moveTo>
                  <a:pt x="68" y="45"/>
                </a:moveTo>
                <a:lnTo>
                  <a:pt x="58" y="45"/>
                </a:lnTo>
                <a:lnTo>
                  <a:pt x="58" y="37"/>
                </a:lnTo>
                <a:lnTo>
                  <a:pt x="68" y="37"/>
                </a:lnTo>
                <a:lnTo>
                  <a:pt x="68" y="45"/>
                </a:lnTo>
                <a:close/>
                <a:moveTo>
                  <a:pt x="68" y="29"/>
                </a:moveTo>
                <a:lnTo>
                  <a:pt x="81" y="29"/>
                </a:lnTo>
                <a:lnTo>
                  <a:pt x="81" y="45"/>
                </a:lnTo>
                <a:lnTo>
                  <a:pt x="68" y="45"/>
                </a:lnTo>
                <a:lnTo>
                  <a:pt x="68" y="29"/>
                </a:lnTo>
                <a:close/>
                <a:moveTo>
                  <a:pt x="81" y="29"/>
                </a:moveTo>
                <a:lnTo>
                  <a:pt x="106" y="29"/>
                </a:lnTo>
                <a:lnTo>
                  <a:pt x="106" y="45"/>
                </a:lnTo>
                <a:lnTo>
                  <a:pt x="81" y="45"/>
                </a:lnTo>
                <a:lnTo>
                  <a:pt x="81" y="29"/>
                </a:lnTo>
                <a:close/>
                <a:moveTo>
                  <a:pt x="106" y="29"/>
                </a:moveTo>
                <a:lnTo>
                  <a:pt x="114" y="29"/>
                </a:lnTo>
                <a:lnTo>
                  <a:pt x="114" y="37"/>
                </a:lnTo>
                <a:lnTo>
                  <a:pt x="106" y="37"/>
                </a:lnTo>
                <a:lnTo>
                  <a:pt x="106" y="29"/>
                </a:lnTo>
                <a:close/>
                <a:moveTo>
                  <a:pt x="114" y="37"/>
                </a:moveTo>
                <a:lnTo>
                  <a:pt x="114" y="43"/>
                </a:lnTo>
                <a:lnTo>
                  <a:pt x="98" y="43"/>
                </a:lnTo>
                <a:lnTo>
                  <a:pt x="98" y="37"/>
                </a:lnTo>
                <a:lnTo>
                  <a:pt x="114" y="37"/>
                </a:lnTo>
                <a:close/>
                <a:moveTo>
                  <a:pt x="106" y="50"/>
                </a:moveTo>
                <a:lnTo>
                  <a:pt x="98" y="50"/>
                </a:lnTo>
                <a:lnTo>
                  <a:pt x="98" y="43"/>
                </a:lnTo>
                <a:lnTo>
                  <a:pt x="106" y="43"/>
                </a:lnTo>
                <a:lnTo>
                  <a:pt x="106" y="50"/>
                </a:lnTo>
                <a:close/>
                <a:moveTo>
                  <a:pt x="106" y="35"/>
                </a:moveTo>
                <a:lnTo>
                  <a:pt x="114" y="35"/>
                </a:lnTo>
                <a:lnTo>
                  <a:pt x="114" y="50"/>
                </a:lnTo>
                <a:lnTo>
                  <a:pt x="106" y="50"/>
                </a:lnTo>
                <a:lnTo>
                  <a:pt x="106" y="35"/>
                </a:lnTo>
                <a:close/>
                <a:moveTo>
                  <a:pt x="114" y="35"/>
                </a:moveTo>
                <a:lnTo>
                  <a:pt x="121" y="35"/>
                </a:lnTo>
                <a:lnTo>
                  <a:pt x="121" y="43"/>
                </a:lnTo>
                <a:lnTo>
                  <a:pt x="114" y="43"/>
                </a:lnTo>
                <a:lnTo>
                  <a:pt x="114" y="35"/>
                </a:lnTo>
                <a:close/>
                <a:moveTo>
                  <a:pt x="121" y="43"/>
                </a:moveTo>
                <a:lnTo>
                  <a:pt x="121" y="48"/>
                </a:lnTo>
                <a:lnTo>
                  <a:pt x="104" y="48"/>
                </a:lnTo>
                <a:lnTo>
                  <a:pt x="104" y="43"/>
                </a:lnTo>
                <a:lnTo>
                  <a:pt x="121" y="43"/>
                </a:lnTo>
                <a:close/>
                <a:moveTo>
                  <a:pt x="121" y="48"/>
                </a:moveTo>
                <a:lnTo>
                  <a:pt x="121" y="52"/>
                </a:lnTo>
                <a:lnTo>
                  <a:pt x="104" y="52"/>
                </a:lnTo>
                <a:lnTo>
                  <a:pt x="104" y="48"/>
                </a:lnTo>
                <a:lnTo>
                  <a:pt x="121" y="48"/>
                </a:lnTo>
                <a:close/>
                <a:moveTo>
                  <a:pt x="114" y="60"/>
                </a:moveTo>
                <a:lnTo>
                  <a:pt x="104" y="60"/>
                </a:lnTo>
                <a:lnTo>
                  <a:pt x="104" y="52"/>
                </a:lnTo>
                <a:lnTo>
                  <a:pt x="114" y="52"/>
                </a:lnTo>
                <a:lnTo>
                  <a:pt x="114" y="60"/>
                </a:lnTo>
                <a:close/>
                <a:moveTo>
                  <a:pt x="114" y="46"/>
                </a:moveTo>
                <a:lnTo>
                  <a:pt x="119" y="46"/>
                </a:lnTo>
                <a:lnTo>
                  <a:pt x="119" y="60"/>
                </a:lnTo>
                <a:lnTo>
                  <a:pt x="114" y="60"/>
                </a:lnTo>
                <a:lnTo>
                  <a:pt x="114" y="46"/>
                </a:lnTo>
                <a:close/>
                <a:moveTo>
                  <a:pt x="119" y="46"/>
                </a:moveTo>
                <a:lnTo>
                  <a:pt x="127" y="46"/>
                </a:lnTo>
                <a:lnTo>
                  <a:pt x="127" y="52"/>
                </a:lnTo>
                <a:lnTo>
                  <a:pt x="119" y="52"/>
                </a:lnTo>
                <a:lnTo>
                  <a:pt x="119" y="46"/>
                </a:lnTo>
                <a:close/>
                <a:moveTo>
                  <a:pt x="127" y="52"/>
                </a:moveTo>
                <a:lnTo>
                  <a:pt x="127" y="58"/>
                </a:lnTo>
                <a:lnTo>
                  <a:pt x="112" y="58"/>
                </a:lnTo>
                <a:lnTo>
                  <a:pt x="112" y="52"/>
                </a:lnTo>
                <a:lnTo>
                  <a:pt x="127" y="52"/>
                </a:lnTo>
                <a:close/>
                <a:moveTo>
                  <a:pt x="119" y="66"/>
                </a:moveTo>
                <a:lnTo>
                  <a:pt x="112" y="66"/>
                </a:lnTo>
                <a:lnTo>
                  <a:pt x="112" y="58"/>
                </a:lnTo>
                <a:lnTo>
                  <a:pt x="119" y="58"/>
                </a:lnTo>
                <a:lnTo>
                  <a:pt x="119" y="66"/>
                </a:lnTo>
                <a:close/>
                <a:moveTo>
                  <a:pt x="119" y="50"/>
                </a:moveTo>
                <a:lnTo>
                  <a:pt x="133" y="50"/>
                </a:lnTo>
                <a:lnTo>
                  <a:pt x="133" y="66"/>
                </a:lnTo>
                <a:lnTo>
                  <a:pt x="119" y="66"/>
                </a:lnTo>
                <a:lnTo>
                  <a:pt x="119" y="50"/>
                </a:lnTo>
                <a:close/>
                <a:moveTo>
                  <a:pt x="133" y="50"/>
                </a:moveTo>
                <a:lnTo>
                  <a:pt x="141" y="50"/>
                </a:lnTo>
                <a:lnTo>
                  <a:pt x="141" y="58"/>
                </a:lnTo>
                <a:lnTo>
                  <a:pt x="133" y="58"/>
                </a:lnTo>
                <a:lnTo>
                  <a:pt x="133" y="50"/>
                </a:lnTo>
                <a:close/>
                <a:moveTo>
                  <a:pt x="141" y="58"/>
                </a:moveTo>
                <a:lnTo>
                  <a:pt x="141" y="66"/>
                </a:lnTo>
                <a:lnTo>
                  <a:pt x="125" y="66"/>
                </a:lnTo>
                <a:lnTo>
                  <a:pt x="125" y="58"/>
                </a:lnTo>
                <a:lnTo>
                  <a:pt x="141" y="58"/>
                </a:lnTo>
                <a:close/>
                <a:moveTo>
                  <a:pt x="133" y="71"/>
                </a:moveTo>
                <a:lnTo>
                  <a:pt x="125" y="71"/>
                </a:lnTo>
                <a:lnTo>
                  <a:pt x="125" y="66"/>
                </a:lnTo>
                <a:lnTo>
                  <a:pt x="133" y="66"/>
                </a:lnTo>
                <a:lnTo>
                  <a:pt x="133" y="71"/>
                </a:lnTo>
                <a:close/>
                <a:moveTo>
                  <a:pt x="133" y="58"/>
                </a:moveTo>
                <a:lnTo>
                  <a:pt x="139" y="58"/>
                </a:lnTo>
                <a:lnTo>
                  <a:pt x="139" y="71"/>
                </a:lnTo>
                <a:lnTo>
                  <a:pt x="133" y="71"/>
                </a:lnTo>
                <a:lnTo>
                  <a:pt x="133" y="58"/>
                </a:lnTo>
                <a:close/>
                <a:moveTo>
                  <a:pt x="139" y="58"/>
                </a:moveTo>
                <a:lnTo>
                  <a:pt x="148" y="58"/>
                </a:lnTo>
                <a:lnTo>
                  <a:pt x="148" y="66"/>
                </a:lnTo>
                <a:lnTo>
                  <a:pt x="139" y="66"/>
                </a:lnTo>
                <a:lnTo>
                  <a:pt x="139" y="58"/>
                </a:lnTo>
                <a:close/>
                <a:moveTo>
                  <a:pt x="148" y="66"/>
                </a:moveTo>
                <a:lnTo>
                  <a:pt x="148" y="81"/>
                </a:lnTo>
                <a:lnTo>
                  <a:pt x="131" y="81"/>
                </a:lnTo>
                <a:lnTo>
                  <a:pt x="131" y="66"/>
                </a:lnTo>
                <a:lnTo>
                  <a:pt x="148" y="66"/>
                </a:lnTo>
                <a:close/>
                <a:moveTo>
                  <a:pt x="139" y="89"/>
                </a:moveTo>
                <a:lnTo>
                  <a:pt x="131" y="89"/>
                </a:lnTo>
                <a:lnTo>
                  <a:pt x="131" y="81"/>
                </a:lnTo>
                <a:lnTo>
                  <a:pt x="139" y="81"/>
                </a:lnTo>
                <a:lnTo>
                  <a:pt x="139" y="89"/>
                </a:lnTo>
                <a:close/>
                <a:moveTo>
                  <a:pt x="139" y="73"/>
                </a:moveTo>
                <a:lnTo>
                  <a:pt x="146" y="73"/>
                </a:lnTo>
                <a:lnTo>
                  <a:pt x="146" y="89"/>
                </a:lnTo>
                <a:lnTo>
                  <a:pt x="139" y="89"/>
                </a:lnTo>
                <a:lnTo>
                  <a:pt x="139" y="73"/>
                </a:lnTo>
                <a:close/>
                <a:moveTo>
                  <a:pt x="146" y="73"/>
                </a:moveTo>
                <a:lnTo>
                  <a:pt x="154" y="73"/>
                </a:lnTo>
                <a:lnTo>
                  <a:pt x="154" y="81"/>
                </a:lnTo>
                <a:lnTo>
                  <a:pt x="146" y="81"/>
                </a:lnTo>
                <a:lnTo>
                  <a:pt x="146" y="73"/>
                </a:lnTo>
                <a:close/>
                <a:moveTo>
                  <a:pt x="154" y="81"/>
                </a:moveTo>
                <a:lnTo>
                  <a:pt x="154" y="93"/>
                </a:lnTo>
                <a:lnTo>
                  <a:pt x="139" y="93"/>
                </a:lnTo>
                <a:lnTo>
                  <a:pt x="139" y="81"/>
                </a:lnTo>
                <a:lnTo>
                  <a:pt x="154" y="81"/>
                </a:lnTo>
                <a:close/>
                <a:moveTo>
                  <a:pt x="146" y="100"/>
                </a:moveTo>
                <a:lnTo>
                  <a:pt x="139" y="100"/>
                </a:lnTo>
                <a:lnTo>
                  <a:pt x="139" y="93"/>
                </a:lnTo>
                <a:lnTo>
                  <a:pt x="146" y="93"/>
                </a:lnTo>
                <a:lnTo>
                  <a:pt x="146" y="100"/>
                </a:lnTo>
                <a:close/>
                <a:moveTo>
                  <a:pt x="146" y="85"/>
                </a:moveTo>
                <a:lnTo>
                  <a:pt x="166" y="85"/>
                </a:lnTo>
                <a:lnTo>
                  <a:pt x="166" y="100"/>
                </a:lnTo>
                <a:lnTo>
                  <a:pt x="146" y="100"/>
                </a:lnTo>
                <a:lnTo>
                  <a:pt x="146" y="85"/>
                </a:lnTo>
                <a:close/>
                <a:moveTo>
                  <a:pt x="166" y="85"/>
                </a:moveTo>
                <a:lnTo>
                  <a:pt x="173" y="85"/>
                </a:lnTo>
                <a:lnTo>
                  <a:pt x="173" y="93"/>
                </a:lnTo>
                <a:lnTo>
                  <a:pt x="166" y="93"/>
                </a:lnTo>
                <a:lnTo>
                  <a:pt x="166" y="85"/>
                </a:lnTo>
                <a:close/>
                <a:moveTo>
                  <a:pt x="173" y="93"/>
                </a:moveTo>
                <a:lnTo>
                  <a:pt x="173" y="98"/>
                </a:lnTo>
                <a:lnTo>
                  <a:pt x="158" y="98"/>
                </a:lnTo>
                <a:lnTo>
                  <a:pt x="158" y="93"/>
                </a:lnTo>
                <a:lnTo>
                  <a:pt x="173" y="93"/>
                </a:lnTo>
                <a:close/>
                <a:moveTo>
                  <a:pt x="166" y="106"/>
                </a:moveTo>
                <a:lnTo>
                  <a:pt x="158" y="106"/>
                </a:lnTo>
                <a:lnTo>
                  <a:pt x="158" y="98"/>
                </a:lnTo>
                <a:lnTo>
                  <a:pt x="166" y="98"/>
                </a:lnTo>
                <a:lnTo>
                  <a:pt x="166" y="106"/>
                </a:lnTo>
                <a:close/>
                <a:moveTo>
                  <a:pt x="166" y="91"/>
                </a:moveTo>
                <a:lnTo>
                  <a:pt x="179" y="91"/>
                </a:lnTo>
                <a:lnTo>
                  <a:pt x="179" y="106"/>
                </a:lnTo>
                <a:lnTo>
                  <a:pt x="166" y="106"/>
                </a:lnTo>
                <a:lnTo>
                  <a:pt x="166" y="91"/>
                </a:lnTo>
                <a:close/>
                <a:moveTo>
                  <a:pt x="179" y="91"/>
                </a:moveTo>
                <a:lnTo>
                  <a:pt x="187" y="91"/>
                </a:lnTo>
                <a:lnTo>
                  <a:pt x="187" y="98"/>
                </a:lnTo>
                <a:lnTo>
                  <a:pt x="179" y="98"/>
                </a:lnTo>
                <a:lnTo>
                  <a:pt x="179" y="91"/>
                </a:lnTo>
                <a:close/>
                <a:moveTo>
                  <a:pt x="187" y="98"/>
                </a:moveTo>
                <a:lnTo>
                  <a:pt x="187" y="102"/>
                </a:lnTo>
                <a:lnTo>
                  <a:pt x="171" y="102"/>
                </a:lnTo>
                <a:lnTo>
                  <a:pt x="171" y="98"/>
                </a:lnTo>
                <a:lnTo>
                  <a:pt x="187" y="98"/>
                </a:lnTo>
                <a:close/>
                <a:moveTo>
                  <a:pt x="179" y="110"/>
                </a:moveTo>
                <a:lnTo>
                  <a:pt x="171" y="110"/>
                </a:lnTo>
                <a:lnTo>
                  <a:pt x="171" y="102"/>
                </a:lnTo>
                <a:lnTo>
                  <a:pt x="179" y="102"/>
                </a:lnTo>
                <a:lnTo>
                  <a:pt x="179" y="110"/>
                </a:lnTo>
                <a:close/>
                <a:moveTo>
                  <a:pt x="179" y="96"/>
                </a:moveTo>
                <a:lnTo>
                  <a:pt x="185" y="96"/>
                </a:lnTo>
                <a:lnTo>
                  <a:pt x="185" y="110"/>
                </a:lnTo>
                <a:lnTo>
                  <a:pt x="179" y="110"/>
                </a:lnTo>
                <a:lnTo>
                  <a:pt x="179" y="96"/>
                </a:lnTo>
                <a:close/>
                <a:moveTo>
                  <a:pt x="185" y="96"/>
                </a:moveTo>
                <a:lnTo>
                  <a:pt x="194" y="96"/>
                </a:lnTo>
                <a:lnTo>
                  <a:pt x="194" y="102"/>
                </a:lnTo>
                <a:lnTo>
                  <a:pt x="185" y="102"/>
                </a:lnTo>
                <a:lnTo>
                  <a:pt x="185" y="96"/>
                </a:lnTo>
                <a:close/>
                <a:moveTo>
                  <a:pt x="194" y="102"/>
                </a:moveTo>
                <a:lnTo>
                  <a:pt x="194" y="116"/>
                </a:lnTo>
                <a:lnTo>
                  <a:pt x="177" y="116"/>
                </a:lnTo>
                <a:lnTo>
                  <a:pt x="177" y="102"/>
                </a:lnTo>
                <a:lnTo>
                  <a:pt x="194" y="102"/>
                </a:lnTo>
                <a:close/>
                <a:moveTo>
                  <a:pt x="185" y="121"/>
                </a:moveTo>
                <a:lnTo>
                  <a:pt x="177" y="121"/>
                </a:lnTo>
                <a:lnTo>
                  <a:pt x="177" y="116"/>
                </a:lnTo>
                <a:lnTo>
                  <a:pt x="185" y="116"/>
                </a:lnTo>
                <a:lnTo>
                  <a:pt x="185" y="121"/>
                </a:lnTo>
                <a:close/>
                <a:moveTo>
                  <a:pt x="185" y="108"/>
                </a:moveTo>
                <a:lnTo>
                  <a:pt x="192" y="108"/>
                </a:lnTo>
                <a:lnTo>
                  <a:pt x="192" y="121"/>
                </a:lnTo>
                <a:lnTo>
                  <a:pt x="185" y="121"/>
                </a:lnTo>
                <a:lnTo>
                  <a:pt x="185" y="108"/>
                </a:lnTo>
                <a:close/>
                <a:moveTo>
                  <a:pt x="192" y="108"/>
                </a:moveTo>
                <a:lnTo>
                  <a:pt x="200" y="108"/>
                </a:lnTo>
                <a:lnTo>
                  <a:pt x="200" y="116"/>
                </a:lnTo>
                <a:lnTo>
                  <a:pt x="192" y="116"/>
                </a:lnTo>
                <a:lnTo>
                  <a:pt x="192" y="108"/>
                </a:lnTo>
                <a:close/>
                <a:moveTo>
                  <a:pt x="200" y="116"/>
                </a:moveTo>
                <a:lnTo>
                  <a:pt x="200" y="119"/>
                </a:lnTo>
                <a:lnTo>
                  <a:pt x="185" y="119"/>
                </a:lnTo>
                <a:lnTo>
                  <a:pt x="185" y="116"/>
                </a:lnTo>
                <a:lnTo>
                  <a:pt x="200" y="116"/>
                </a:lnTo>
                <a:close/>
                <a:moveTo>
                  <a:pt x="192" y="127"/>
                </a:moveTo>
                <a:lnTo>
                  <a:pt x="185" y="127"/>
                </a:lnTo>
                <a:lnTo>
                  <a:pt x="185" y="119"/>
                </a:lnTo>
                <a:lnTo>
                  <a:pt x="192" y="119"/>
                </a:lnTo>
                <a:lnTo>
                  <a:pt x="192" y="127"/>
                </a:lnTo>
                <a:close/>
                <a:moveTo>
                  <a:pt x="192" y="112"/>
                </a:moveTo>
                <a:lnTo>
                  <a:pt x="204" y="112"/>
                </a:lnTo>
                <a:lnTo>
                  <a:pt x="204" y="127"/>
                </a:lnTo>
                <a:lnTo>
                  <a:pt x="192" y="127"/>
                </a:lnTo>
                <a:lnTo>
                  <a:pt x="192" y="112"/>
                </a:lnTo>
                <a:close/>
                <a:moveTo>
                  <a:pt x="204" y="112"/>
                </a:moveTo>
                <a:lnTo>
                  <a:pt x="214" y="112"/>
                </a:lnTo>
                <a:lnTo>
                  <a:pt x="214" y="119"/>
                </a:lnTo>
                <a:lnTo>
                  <a:pt x="204" y="119"/>
                </a:lnTo>
                <a:lnTo>
                  <a:pt x="204" y="112"/>
                </a:lnTo>
                <a:close/>
                <a:moveTo>
                  <a:pt x="214" y="119"/>
                </a:moveTo>
                <a:lnTo>
                  <a:pt x="214" y="125"/>
                </a:lnTo>
                <a:lnTo>
                  <a:pt x="196" y="125"/>
                </a:lnTo>
                <a:lnTo>
                  <a:pt x="196" y="119"/>
                </a:lnTo>
                <a:lnTo>
                  <a:pt x="214" y="119"/>
                </a:lnTo>
                <a:close/>
                <a:moveTo>
                  <a:pt x="214" y="125"/>
                </a:moveTo>
                <a:lnTo>
                  <a:pt x="214" y="137"/>
                </a:lnTo>
                <a:lnTo>
                  <a:pt x="196" y="137"/>
                </a:lnTo>
                <a:lnTo>
                  <a:pt x="196" y="125"/>
                </a:lnTo>
                <a:lnTo>
                  <a:pt x="214" y="125"/>
                </a:lnTo>
                <a:close/>
                <a:moveTo>
                  <a:pt x="204" y="144"/>
                </a:moveTo>
                <a:lnTo>
                  <a:pt x="196" y="144"/>
                </a:lnTo>
                <a:lnTo>
                  <a:pt x="196" y="137"/>
                </a:lnTo>
                <a:lnTo>
                  <a:pt x="204" y="137"/>
                </a:lnTo>
                <a:lnTo>
                  <a:pt x="204" y="144"/>
                </a:lnTo>
                <a:close/>
                <a:moveTo>
                  <a:pt x="204" y="129"/>
                </a:moveTo>
                <a:lnTo>
                  <a:pt x="212" y="129"/>
                </a:lnTo>
                <a:lnTo>
                  <a:pt x="212" y="144"/>
                </a:lnTo>
                <a:lnTo>
                  <a:pt x="204" y="144"/>
                </a:lnTo>
                <a:lnTo>
                  <a:pt x="204" y="129"/>
                </a:lnTo>
                <a:close/>
                <a:moveTo>
                  <a:pt x="212" y="129"/>
                </a:moveTo>
                <a:lnTo>
                  <a:pt x="219" y="129"/>
                </a:lnTo>
                <a:lnTo>
                  <a:pt x="219" y="137"/>
                </a:lnTo>
                <a:lnTo>
                  <a:pt x="212" y="137"/>
                </a:lnTo>
                <a:lnTo>
                  <a:pt x="212" y="129"/>
                </a:lnTo>
                <a:close/>
                <a:moveTo>
                  <a:pt x="219" y="137"/>
                </a:moveTo>
                <a:lnTo>
                  <a:pt x="219" y="142"/>
                </a:lnTo>
                <a:lnTo>
                  <a:pt x="204" y="142"/>
                </a:lnTo>
                <a:lnTo>
                  <a:pt x="204" y="137"/>
                </a:lnTo>
                <a:lnTo>
                  <a:pt x="219" y="137"/>
                </a:lnTo>
                <a:close/>
                <a:moveTo>
                  <a:pt x="212" y="150"/>
                </a:moveTo>
                <a:lnTo>
                  <a:pt x="204" y="150"/>
                </a:lnTo>
                <a:lnTo>
                  <a:pt x="204" y="142"/>
                </a:lnTo>
                <a:lnTo>
                  <a:pt x="212" y="142"/>
                </a:lnTo>
                <a:lnTo>
                  <a:pt x="212" y="150"/>
                </a:lnTo>
                <a:close/>
                <a:moveTo>
                  <a:pt x="212" y="135"/>
                </a:moveTo>
                <a:lnTo>
                  <a:pt x="217" y="135"/>
                </a:lnTo>
                <a:lnTo>
                  <a:pt x="217" y="150"/>
                </a:lnTo>
                <a:lnTo>
                  <a:pt x="212" y="150"/>
                </a:lnTo>
                <a:lnTo>
                  <a:pt x="212" y="135"/>
                </a:lnTo>
                <a:close/>
                <a:moveTo>
                  <a:pt x="217" y="135"/>
                </a:moveTo>
                <a:lnTo>
                  <a:pt x="227" y="135"/>
                </a:lnTo>
                <a:lnTo>
                  <a:pt x="227" y="142"/>
                </a:lnTo>
                <a:lnTo>
                  <a:pt x="217" y="142"/>
                </a:lnTo>
                <a:lnTo>
                  <a:pt x="217" y="135"/>
                </a:lnTo>
                <a:close/>
                <a:moveTo>
                  <a:pt x="227" y="142"/>
                </a:moveTo>
                <a:lnTo>
                  <a:pt x="227" y="148"/>
                </a:lnTo>
                <a:lnTo>
                  <a:pt x="210" y="148"/>
                </a:lnTo>
                <a:lnTo>
                  <a:pt x="210" y="142"/>
                </a:lnTo>
                <a:lnTo>
                  <a:pt x="227" y="142"/>
                </a:lnTo>
                <a:close/>
                <a:moveTo>
                  <a:pt x="227" y="148"/>
                </a:moveTo>
                <a:lnTo>
                  <a:pt x="227" y="154"/>
                </a:lnTo>
                <a:lnTo>
                  <a:pt x="210" y="154"/>
                </a:lnTo>
                <a:lnTo>
                  <a:pt x="210" y="148"/>
                </a:lnTo>
                <a:lnTo>
                  <a:pt x="227" y="148"/>
                </a:lnTo>
                <a:close/>
                <a:moveTo>
                  <a:pt x="217" y="162"/>
                </a:moveTo>
                <a:lnTo>
                  <a:pt x="210" y="162"/>
                </a:lnTo>
                <a:lnTo>
                  <a:pt x="210" y="154"/>
                </a:lnTo>
                <a:lnTo>
                  <a:pt x="217" y="154"/>
                </a:lnTo>
                <a:lnTo>
                  <a:pt x="217" y="162"/>
                </a:lnTo>
                <a:close/>
                <a:moveTo>
                  <a:pt x="217" y="146"/>
                </a:moveTo>
                <a:lnTo>
                  <a:pt x="225" y="146"/>
                </a:lnTo>
                <a:lnTo>
                  <a:pt x="225" y="162"/>
                </a:lnTo>
                <a:lnTo>
                  <a:pt x="217" y="162"/>
                </a:lnTo>
                <a:lnTo>
                  <a:pt x="217" y="146"/>
                </a:lnTo>
                <a:close/>
                <a:moveTo>
                  <a:pt x="225" y="146"/>
                </a:moveTo>
                <a:lnTo>
                  <a:pt x="233" y="146"/>
                </a:lnTo>
                <a:lnTo>
                  <a:pt x="233" y="154"/>
                </a:lnTo>
                <a:lnTo>
                  <a:pt x="225" y="154"/>
                </a:lnTo>
                <a:lnTo>
                  <a:pt x="225" y="146"/>
                </a:lnTo>
                <a:close/>
                <a:moveTo>
                  <a:pt x="233" y="154"/>
                </a:moveTo>
                <a:lnTo>
                  <a:pt x="233" y="160"/>
                </a:lnTo>
                <a:lnTo>
                  <a:pt x="217" y="160"/>
                </a:lnTo>
                <a:lnTo>
                  <a:pt x="217" y="154"/>
                </a:lnTo>
                <a:lnTo>
                  <a:pt x="233" y="154"/>
                </a:lnTo>
                <a:close/>
                <a:moveTo>
                  <a:pt x="225" y="167"/>
                </a:moveTo>
                <a:lnTo>
                  <a:pt x="217" y="167"/>
                </a:lnTo>
                <a:lnTo>
                  <a:pt x="217" y="160"/>
                </a:lnTo>
                <a:lnTo>
                  <a:pt x="225" y="160"/>
                </a:lnTo>
                <a:lnTo>
                  <a:pt x="225" y="167"/>
                </a:lnTo>
                <a:close/>
                <a:moveTo>
                  <a:pt x="225" y="152"/>
                </a:moveTo>
                <a:lnTo>
                  <a:pt x="231" y="152"/>
                </a:lnTo>
                <a:lnTo>
                  <a:pt x="231" y="167"/>
                </a:lnTo>
                <a:lnTo>
                  <a:pt x="225" y="167"/>
                </a:lnTo>
                <a:lnTo>
                  <a:pt x="225" y="152"/>
                </a:lnTo>
                <a:close/>
                <a:moveTo>
                  <a:pt x="231" y="152"/>
                </a:moveTo>
                <a:lnTo>
                  <a:pt x="240" y="152"/>
                </a:lnTo>
                <a:lnTo>
                  <a:pt x="240" y="160"/>
                </a:lnTo>
                <a:lnTo>
                  <a:pt x="231" y="160"/>
                </a:lnTo>
                <a:lnTo>
                  <a:pt x="231" y="152"/>
                </a:lnTo>
                <a:close/>
                <a:moveTo>
                  <a:pt x="240" y="160"/>
                </a:moveTo>
                <a:lnTo>
                  <a:pt x="240" y="165"/>
                </a:lnTo>
                <a:lnTo>
                  <a:pt x="223" y="165"/>
                </a:lnTo>
                <a:lnTo>
                  <a:pt x="223" y="160"/>
                </a:lnTo>
                <a:lnTo>
                  <a:pt x="240" y="160"/>
                </a:lnTo>
                <a:close/>
                <a:moveTo>
                  <a:pt x="231" y="171"/>
                </a:moveTo>
                <a:lnTo>
                  <a:pt x="223" y="171"/>
                </a:lnTo>
                <a:lnTo>
                  <a:pt x="223" y="165"/>
                </a:lnTo>
                <a:lnTo>
                  <a:pt x="231" y="165"/>
                </a:lnTo>
                <a:lnTo>
                  <a:pt x="231" y="171"/>
                </a:lnTo>
                <a:close/>
                <a:moveTo>
                  <a:pt x="231" y="158"/>
                </a:moveTo>
                <a:lnTo>
                  <a:pt x="238" y="158"/>
                </a:lnTo>
                <a:lnTo>
                  <a:pt x="238" y="171"/>
                </a:lnTo>
                <a:lnTo>
                  <a:pt x="231" y="171"/>
                </a:lnTo>
                <a:lnTo>
                  <a:pt x="231" y="158"/>
                </a:lnTo>
                <a:close/>
                <a:moveTo>
                  <a:pt x="238" y="158"/>
                </a:moveTo>
                <a:lnTo>
                  <a:pt x="246" y="158"/>
                </a:lnTo>
                <a:lnTo>
                  <a:pt x="246" y="165"/>
                </a:lnTo>
                <a:lnTo>
                  <a:pt x="238" y="165"/>
                </a:lnTo>
                <a:lnTo>
                  <a:pt x="238" y="158"/>
                </a:lnTo>
                <a:close/>
                <a:moveTo>
                  <a:pt x="246" y="165"/>
                </a:moveTo>
                <a:lnTo>
                  <a:pt x="246" y="169"/>
                </a:lnTo>
                <a:lnTo>
                  <a:pt x="231" y="169"/>
                </a:lnTo>
                <a:lnTo>
                  <a:pt x="231" y="165"/>
                </a:lnTo>
                <a:lnTo>
                  <a:pt x="246" y="165"/>
                </a:lnTo>
                <a:close/>
                <a:moveTo>
                  <a:pt x="238" y="177"/>
                </a:moveTo>
                <a:lnTo>
                  <a:pt x="231" y="177"/>
                </a:lnTo>
                <a:lnTo>
                  <a:pt x="231" y="169"/>
                </a:lnTo>
                <a:lnTo>
                  <a:pt x="238" y="169"/>
                </a:lnTo>
                <a:lnTo>
                  <a:pt x="238" y="177"/>
                </a:lnTo>
                <a:close/>
                <a:moveTo>
                  <a:pt x="238" y="162"/>
                </a:moveTo>
                <a:lnTo>
                  <a:pt x="244" y="162"/>
                </a:lnTo>
                <a:lnTo>
                  <a:pt x="244" y="177"/>
                </a:lnTo>
                <a:lnTo>
                  <a:pt x="238" y="177"/>
                </a:lnTo>
                <a:lnTo>
                  <a:pt x="238" y="162"/>
                </a:lnTo>
                <a:close/>
                <a:moveTo>
                  <a:pt x="244" y="162"/>
                </a:moveTo>
                <a:lnTo>
                  <a:pt x="252" y="162"/>
                </a:lnTo>
                <a:lnTo>
                  <a:pt x="252" y="169"/>
                </a:lnTo>
                <a:lnTo>
                  <a:pt x="244" y="169"/>
                </a:lnTo>
                <a:lnTo>
                  <a:pt x="244" y="162"/>
                </a:lnTo>
                <a:close/>
                <a:moveTo>
                  <a:pt x="252" y="169"/>
                </a:moveTo>
                <a:lnTo>
                  <a:pt x="252" y="177"/>
                </a:lnTo>
                <a:lnTo>
                  <a:pt x="237" y="177"/>
                </a:lnTo>
                <a:lnTo>
                  <a:pt x="237" y="169"/>
                </a:lnTo>
                <a:lnTo>
                  <a:pt x="252" y="169"/>
                </a:lnTo>
                <a:close/>
                <a:moveTo>
                  <a:pt x="244" y="185"/>
                </a:moveTo>
                <a:lnTo>
                  <a:pt x="237" y="185"/>
                </a:lnTo>
                <a:lnTo>
                  <a:pt x="237" y="177"/>
                </a:lnTo>
                <a:lnTo>
                  <a:pt x="244" y="177"/>
                </a:lnTo>
                <a:lnTo>
                  <a:pt x="244" y="185"/>
                </a:lnTo>
                <a:close/>
                <a:moveTo>
                  <a:pt x="244" y="169"/>
                </a:moveTo>
                <a:lnTo>
                  <a:pt x="250" y="169"/>
                </a:lnTo>
                <a:lnTo>
                  <a:pt x="250" y="185"/>
                </a:lnTo>
                <a:lnTo>
                  <a:pt x="244" y="185"/>
                </a:lnTo>
                <a:lnTo>
                  <a:pt x="244" y="169"/>
                </a:lnTo>
                <a:close/>
                <a:moveTo>
                  <a:pt x="250" y="169"/>
                </a:moveTo>
                <a:lnTo>
                  <a:pt x="260" y="169"/>
                </a:lnTo>
                <a:lnTo>
                  <a:pt x="260" y="177"/>
                </a:lnTo>
                <a:lnTo>
                  <a:pt x="250" y="177"/>
                </a:lnTo>
                <a:lnTo>
                  <a:pt x="250" y="169"/>
                </a:lnTo>
                <a:close/>
                <a:moveTo>
                  <a:pt x="260" y="177"/>
                </a:moveTo>
                <a:lnTo>
                  <a:pt x="260" y="187"/>
                </a:lnTo>
                <a:lnTo>
                  <a:pt x="242" y="187"/>
                </a:lnTo>
                <a:lnTo>
                  <a:pt x="242" y="177"/>
                </a:lnTo>
                <a:lnTo>
                  <a:pt x="260" y="177"/>
                </a:lnTo>
                <a:close/>
                <a:moveTo>
                  <a:pt x="250" y="194"/>
                </a:moveTo>
                <a:lnTo>
                  <a:pt x="242" y="194"/>
                </a:lnTo>
                <a:lnTo>
                  <a:pt x="242" y="187"/>
                </a:lnTo>
                <a:lnTo>
                  <a:pt x="250" y="187"/>
                </a:lnTo>
                <a:lnTo>
                  <a:pt x="250" y="194"/>
                </a:lnTo>
                <a:close/>
                <a:moveTo>
                  <a:pt x="250" y="179"/>
                </a:moveTo>
                <a:lnTo>
                  <a:pt x="263" y="179"/>
                </a:lnTo>
                <a:lnTo>
                  <a:pt x="263" y="194"/>
                </a:lnTo>
                <a:lnTo>
                  <a:pt x="250" y="194"/>
                </a:lnTo>
                <a:lnTo>
                  <a:pt x="250" y="179"/>
                </a:lnTo>
                <a:close/>
                <a:moveTo>
                  <a:pt x="263" y="179"/>
                </a:moveTo>
                <a:lnTo>
                  <a:pt x="271" y="179"/>
                </a:lnTo>
                <a:lnTo>
                  <a:pt x="271" y="187"/>
                </a:lnTo>
                <a:lnTo>
                  <a:pt x="263" y="187"/>
                </a:lnTo>
                <a:lnTo>
                  <a:pt x="263" y="179"/>
                </a:lnTo>
                <a:close/>
                <a:moveTo>
                  <a:pt x="271" y="187"/>
                </a:moveTo>
                <a:lnTo>
                  <a:pt x="271" y="192"/>
                </a:lnTo>
                <a:lnTo>
                  <a:pt x="256" y="192"/>
                </a:lnTo>
                <a:lnTo>
                  <a:pt x="256" y="187"/>
                </a:lnTo>
                <a:lnTo>
                  <a:pt x="271" y="187"/>
                </a:lnTo>
                <a:close/>
                <a:moveTo>
                  <a:pt x="263" y="200"/>
                </a:moveTo>
                <a:lnTo>
                  <a:pt x="256" y="200"/>
                </a:lnTo>
                <a:lnTo>
                  <a:pt x="256" y="192"/>
                </a:lnTo>
                <a:lnTo>
                  <a:pt x="263" y="192"/>
                </a:lnTo>
                <a:lnTo>
                  <a:pt x="263" y="200"/>
                </a:lnTo>
                <a:close/>
                <a:moveTo>
                  <a:pt x="263" y="185"/>
                </a:moveTo>
                <a:lnTo>
                  <a:pt x="271" y="185"/>
                </a:lnTo>
                <a:lnTo>
                  <a:pt x="271" y="200"/>
                </a:lnTo>
                <a:lnTo>
                  <a:pt x="263" y="200"/>
                </a:lnTo>
                <a:lnTo>
                  <a:pt x="263" y="185"/>
                </a:lnTo>
                <a:close/>
                <a:moveTo>
                  <a:pt x="271" y="185"/>
                </a:moveTo>
                <a:lnTo>
                  <a:pt x="279" y="185"/>
                </a:lnTo>
                <a:lnTo>
                  <a:pt x="279" y="192"/>
                </a:lnTo>
                <a:lnTo>
                  <a:pt x="271" y="192"/>
                </a:lnTo>
                <a:lnTo>
                  <a:pt x="271" y="185"/>
                </a:lnTo>
                <a:close/>
                <a:moveTo>
                  <a:pt x="279" y="192"/>
                </a:moveTo>
                <a:lnTo>
                  <a:pt x="279" y="204"/>
                </a:lnTo>
                <a:lnTo>
                  <a:pt x="263" y="204"/>
                </a:lnTo>
                <a:lnTo>
                  <a:pt x="263" y="192"/>
                </a:lnTo>
                <a:lnTo>
                  <a:pt x="279" y="192"/>
                </a:lnTo>
                <a:close/>
                <a:moveTo>
                  <a:pt x="271" y="212"/>
                </a:moveTo>
                <a:lnTo>
                  <a:pt x="263" y="212"/>
                </a:lnTo>
                <a:lnTo>
                  <a:pt x="263" y="204"/>
                </a:lnTo>
                <a:lnTo>
                  <a:pt x="271" y="204"/>
                </a:lnTo>
                <a:lnTo>
                  <a:pt x="271" y="212"/>
                </a:lnTo>
                <a:close/>
                <a:moveTo>
                  <a:pt x="271" y="196"/>
                </a:moveTo>
                <a:lnTo>
                  <a:pt x="277" y="196"/>
                </a:lnTo>
                <a:lnTo>
                  <a:pt x="277" y="212"/>
                </a:lnTo>
                <a:lnTo>
                  <a:pt x="271" y="212"/>
                </a:lnTo>
                <a:lnTo>
                  <a:pt x="271" y="196"/>
                </a:lnTo>
                <a:close/>
                <a:moveTo>
                  <a:pt x="277" y="196"/>
                </a:moveTo>
                <a:lnTo>
                  <a:pt x="285" y="196"/>
                </a:lnTo>
                <a:lnTo>
                  <a:pt x="285" y="204"/>
                </a:lnTo>
                <a:lnTo>
                  <a:pt x="277" y="204"/>
                </a:lnTo>
                <a:lnTo>
                  <a:pt x="277" y="196"/>
                </a:lnTo>
                <a:close/>
                <a:moveTo>
                  <a:pt x="285" y="204"/>
                </a:moveTo>
                <a:lnTo>
                  <a:pt x="285" y="210"/>
                </a:lnTo>
                <a:lnTo>
                  <a:pt x="269" y="210"/>
                </a:lnTo>
                <a:lnTo>
                  <a:pt x="269" y="204"/>
                </a:lnTo>
                <a:lnTo>
                  <a:pt x="285" y="204"/>
                </a:lnTo>
                <a:close/>
                <a:moveTo>
                  <a:pt x="277" y="217"/>
                </a:moveTo>
                <a:lnTo>
                  <a:pt x="269" y="217"/>
                </a:lnTo>
                <a:lnTo>
                  <a:pt x="269" y="210"/>
                </a:lnTo>
                <a:lnTo>
                  <a:pt x="277" y="210"/>
                </a:lnTo>
                <a:lnTo>
                  <a:pt x="277" y="217"/>
                </a:lnTo>
                <a:close/>
                <a:moveTo>
                  <a:pt x="277" y="202"/>
                </a:moveTo>
                <a:lnTo>
                  <a:pt x="285" y="202"/>
                </a:lnTo>
                <a:lnTo>
                  <a:pt x="285" y="217"/>
                </a:lnTo>
                <a:lnTo>
                  <a:pt x="277" y="217"/>
                </a:lnTo>
                <a:lnTo>
                  <a:pt x="277" y="202"/>
                </a:lnTo>
                <a:close/>
                <a:moveTo>
                  <a:pt x="285" y="202"/>
                </a:moveTo>
                <a:lnTo>
                  <a:pt x="292" y="202"/>
                </a:lnTo>
                <a:lnTo>
                  <a:pt x="292" y="210"/>
                </a:lnTo>
                <a:lnTo>
                  <a:pt x="285" y="210"/>
                </a:lnTo>
                <a:lnTo>
                  <a:pt x="285" y="202"/>
                </a:lnTo>
                <a:close/>
                <a:moveTo>
                  <a:pt x="292" y="210"/>
                </a:moveTo>
                <a:lnTo>
                  <a:pt x="292" y="215"/>
                </a:lnTo>
                <a:lnTo>
                  <a:pt x="277" y="215"/>
                </a:lnTo>
                <a:lnTo>
                  <a:pt x="277" y="210"/>
                </a:lnTo>
                <a:lnTo>
                  <a:pt x="292" y="210"/>
                </a:lnTo>
                <a:close/>
                <a:moveTo>
                  <a:pt x="285" y="223"/>
                </a:moveTo>
                <a:lnTo>
                  <a:pt x="277" y="223"/>
                </a:lnTo>
                <a:lnTo>
                  <a:pt x="277" y="215"/>
                </a:lnTo>
                <a:lnTo>
                  <a:pt x="285" y="215"/>
                </a:lnTo>
                <a:lnTo>
                  <a:pt x="285" y="223"/>
                </a:lnTo>
                <a:close/>
                <a:moveTo>
                  <a:pt x="285" y="208"/>
                </a:moveTo>
                <a:lnTo>
                  <a:pt x="290" y="208"/>
                </a:lnTo>
                <a:lnTo>
                  <a:pt x="290" y="223"/>
                </a:lnTo>
                <a:lnTo>
                  <a:pt x="285" y="223"/>
                </a:lnTo>
                <a:lnTo>
                  <a:pt x="285" y="208"/>
                </a:lnTo>
                <a:close/>
                <a:moveTo>
                  <a:pt x="290" y="208"/>
                </a:moveTo>
                <a:lnTo>
                  <a:pt x="298" y="208"/>
                </a:lnTo>
                <a:lnTo>
                  <a:pt x="298" y="215"/>
                </a:lnTo>
                <a:lnTo>
                  <a:pt x="290" y="215"/>
                </a:lnTo>
                <a:lnTo>
                  <a:pt x="290" y="208"/>
                </a:lnTo>
                <a:close/>
                <a:moveTo>
                  <a:pt x="298" y="215"/>
                </a:moveTo>
                <a:lnTo>
                  <a:pt x="298" y="221"/>
                </a:lnTo>
                <a:lnTo>
                  <a:pt x="283" y="221"/>
                </a:lnTo>
                <a:lnTo>
                  <a:pt x="283" y="215"/>
                </a:lnTo>
                <a:lnTo>
                  <a:pt x="298" y="215"/>
                </a:lnTo>
                <a:close/>
                <a:moveTo>
                  <a:pt x="298" y="221"/>
                </a:moveTo>
                <a:lnTo>
                  <a:pt x="298" y="231"/>
                </a:lnTo>
                <a:lnTo>
                  <a:pt x="283" y="231"/>
                </a:lnTo>
                <a:lnTo>
                  <a:pt x="283" y="221"/>
                </a:lnTo>
                <a:lnTo>
                  <a:pt x="298" y="221"/>
                </a:lnTo>
                <a:close/>
                <a:moveTo>
                  <a:pt x="290" y="238"/>
                </a:moveTo>
                <a:lnTo>
                  <a:pt x="283" y="238"/>
                </a:lnTo>
                <a:lnTo>
                  <a:pt x="283" y="231"/>
                </a:lnTo>
                <a:lnTo>
                  <a:pt x="290" y="231"/>
                </a:lnTo>
                <a:lnTo>
                  <a:pt x="290" y="238"/>
                </a:lnTo>
                <a:close/>
                <a:moveTo>
                  <a:pt x="290" y="225"/>
                </a:moveTo>
                <a:lnTo>
                  <a:pt x="296" y="225"/>
                </a:lnTo>
                <a:lnTo>
                  <a:pt x="296" y="238"/>
                </a:lnTo>
                <a:lnTo>
                  <a:pt x="290" y="238"/>
                </a:lnTo>
                <a:lnTo>
                  <a:pt x="290" y="225"/>
                </a:lnTo>
                <a:close/>
                <a:moveTo>
                  <a:pt x="296" y="225"/>
                </a:moveTo>
                <a:lnTo>
                  <a:pt x="304" y="225"/>
                </a:lnTo>
                <a:lnTo>
                  <a:pt x="304" y="231"/>
                </a:lnTo>
                <a:lnTo>
                  <a:pt x="296" y="231"/>
                </a:lnTo>
                <a:lnTo>
                  <a:pt x="296" y="225"/>
                </a:lnTo>
                <a:close/>
                <a:moveTo>
                  <a:pt x="304" y="231"/>
                </a:moveTo>
                <a:lnTo>
                  <a:pt x="304" y="236"/>
                </a:lnTo>
                <a:lnTo>
                  <a:pt x="288" y="236"/>
                </a:lnTo>
                <a:lnTo>
                  <a:pt x="288" y="231"/>
                </a:lnTo>
                <a:lnTo>
                  <a:pt x="304" y="231"/>
                </a:lnTo>
                <a:close/>
                <a:moveTo>
                  <a:pt x="296" y="244"/>
                </a:moveTo>
                <a:lnTo>
                  <a:pt x="288" y="244"/>
                </a:lnTo>
                <a:lnTo>
                  <a:pt x="288" y="236"/>
                </a:lnTo>
                <a:lnTo>
                  <a:pt x="296" y="236"/>
                </a:lnTo>
                <a:lnTo>
                  <a:pt x="296" y="244"/>
                </a:lnTo>
                <a:close/>
                <a:moveTo>
                  <a:pt x="296" y="229"/>
                </a:moveTo>
                <a:lnTo>
                  <a:pt x="317" y="229"/>
                </a:lnTo>
                <a:lnTo>
                  <a:pt x="317" y="244"/>
                </a:lnTo>
                <a:lnTo>
                  <a:pt x="296" y="244"/>
                </a:lnTo>
                <a:lnTo>
                  <a:pt x="296" y="229"/>
                </a:lnTo>
                <a:close/>
                <a:moveTo>
                  <a:pt x="317" y="229"/>
                </a:moveTo>
                <a:lnTo>
                  <a:pt x="325" y="229"/>
                </a:lnTo>
                <a:lnTo>
                  <a:pt x="325" y="236"/>
                </a:lnTo>
                <a:lnTo>
                  <a:pt x="317" y="236"/>
                </a:lnTo>
                <a:lnTo>
                  <a:pt x="317" y="229"/>
                </a:lnTo>
                <a:close/>
                <a:moveTo>
                  <a:pt x="325" y="236"/>
                </a:moveTo>
                <a:lnTo>
                  <a:pt x="325" y="242"/>
                </a:lnTo>
                <a:lnTo>
                  <a:pt x="309" y="242"/>
                </a:lnTo>
                <a:lnTo>
                  <a:pt x="309" y="236"/>
                </a:lnTo>
                <a:lnTo>
                  <a:pt x="325" y="236"/>
                </a:lnTo>
                <a:close/>
                <a:moveTo>
                  <a:pt x="317" y="250"/>
                </a:moveTo>
                <a:lnTo>
                  <a:pt x="309" y="250"/>
                </a:lnTo>
                <a:lnTo>
                  <a:pt x="309" y="242"/>
                </a:lnTo>
                <a:lnTo>
                  <a:pt x="317" y="242"/>
                </a:lnTo>
                <a:lnTo>
                  <a:pt x="317" y="250"/>
                </a:lnTo>
                <a:close/>
                <a:moveTo>
                  <a:pt x="317" y="236"/>
                </a:moveTo>
                <a:lnTo>
                  <a:pt x="323" y="236"/>
                </a:lnTo>
                <a:lnTo>
                  <a:pt x="323" y="250"/>
                </a:lnTo>
                <a:lnTo>
                  <a:pt x="317" y="250"/>
                </a:lnTo>
                <a:lnTo>
                  <a:pt x="317" y="236"/>
                </a:lnTo>
                <a:close/>
                <a:moveTo>
                  <a:pt x="323" y="236"/>
                </a:moveTo>
                <a:lnTo>
                  <a:pt x="331" y="236"/>
                </a:lnTo>
                <a:lnTo>
                  <a:pt x="331" y="242"/>
                </a:lnTo>
                <a:lnTo>
                  <a:pt x="323" y="242"/>
                </a:lnTo>
                <a:lnTo>
                  <a:pt x="323" y="236"/>
                </a:lnTo>
                <a:close/>
                <a:moveTo>
                  <a:pt x="331" y="242"/>
                </a:moveTo>
                <a:lnTo>
                  <a:pt x="331" y="254"/>
                </a:lnTo>
                <a:lnTo>
                  <a:pt x="315" y="254"/>
                </a:lnTo>
                <a:lnTo>
                  <a:pt x="315" y="242"/>
                </a:lnTo>
                <a:lnTo>
                  <a:pt x="331" y="242"/>
                </a:lnTo>
                <a:close/>
                <a:moveTo>
                  <a:pt x="323" y="261"/>
                </a:moveTo>
                <a:lnTo>
                  <a:pt x="315" y="261"/>
                </a:lnTo>
                <a:lnTo>
                  <a:pt x="315" y="254"/>
                </a:lnTo>
                <a:lnTo>
                  <a:pt x="323" y="254"/>
                </a:lnTo>
                <a:lnTo>
                  <a:pt x="323" y="261"/>
                </a:lnTo>
                <a:close/>
                <a:moveTo>
                  <a:pt x="323" y="246"/>
                </a:moveTo>
                <a:lnTo>
                  <a:pt x="331" y="246"/>
                </a:lnTo>
                <a:lnTo>
                  <a:pt x="331" y="261"/>
                </a:lnTo>
                <a:lnTo>
                  <a:pt x="323" y="261"/>
                </a:lnTo>
                <a:lnTo>
                  <a:pt x="323" y="246"/>
                </a:lnTo>
                <a:close/>
                <a:moveTo>
                  <a:pt x="331" y="246"/>
                </a:moveTo>
                <a:lnTo>
                  <a:pt x="338" y="246"/>
                </a:lnTo>
                <a:lnTo>
                  <a:pt x="338" y="254"/>
                </a:lnTo>
                <a:lnTo>
                  <a:pt x="331" y="254"/>
                </a:lnTo>
                <a:lnTo>
                  <a:pt x="331" y="246"/>
                </a:lnTo>
                <a:close/>
                <a:moveTo>
                  <a:pt x="338" y="254"/>
                </a:moveTo>
                <a:lnTo>
                  <a:pt x="338" y="265"/>
                </a:lnTo>
                <a:lnTo>
                  <a:pt x="323" y="265"/>
                </a:lnTo>
                <a:lnTo>
                  <a:pt x="323" y="254"/>
                </a:lnTo>
                <a:lnTo>
                  <a:pt x="338" y="254"/>
                </a:lnTo>
                <a:close/>
                <a:moveTo>
                  <a:pt x="331" y="273"/>
                </a:moveTo>
                <a:lnTo>
                  <a:pt x="323" y="273"/>
                </a:lnTo>
                <a:lnTo>
                  <a:pt x="323" y="265"/>
                </a:lnTo>
                <a:lnTo>
                  <a:pt x="331" y="265"/>
                </a:lnTo>
                <a:lnTo>
                  <a:pt x="331" y="273"/>
                </a:lnTo>
                <a:close/>
                <a:moveTo>
                  <a:pt x="331" y="258"/>
                </a:moveTo>
                <a:lnTo>
                  <a:pt x="336" y="258"/>
                </a:lnTo>
                <a:lnTo>
                  <a:pt x="336" y="273"/>
                </a:lnTo>
                <a:lnTo>
                  <a:pt x="331" y="273"/>
                </a:lnTo>
                <a:lnTo>
                  <a:pt x="331" y="258"/>
                </a:lnTo>
                <a:close/>
                <a:moveTo>
                  <a:pt x="336" y="258"/>
                </a:moveTo>
                <a:lnTo>
                  <a:pt x="344" y="258"/>
                </a:lnTo>
                <a:lnTo>
                  <a:pt x="344" y="265"/>
                </a:lnTo>
                <a:lnTo>
                  <a:pt x="336" y="265"/>
                </a:lnTo>
                <a:lnTo>
                  <a:pt x="336" y="258"/>
                </a:lnTo>
                <a:close/>
                <a:moveTo>
                  <a:pt x="344" y="265"/>
                </a:moveTo>
                <a:lnTo>
                  <a:pt x="344" y="277"/>
                </a:lnTo>
                <a:lnTo>
                  <a:pt x="329" y="277"/>
                </a:lnTo>
                <a:lnTo>
                  <a:pt x="329" y="265"/>
                </a:lnTo>
                <a:lnTo>
                  <a:pt x="344" y="265"/>
                </a:lnTo>
                <a:close/>
                <a:moveTo>
                  <a:pt x="344" y="277"/>
                </a:moveTo>
                <a:lnTo>
                  <a:pt x="344" y="281"/>
                </a:lnTo>
                <a:lnTo>
                  <a:pt x="329" y="281"/>
                </a:lnTo>
                <a:lnTo>
                  <a:pt x="329" y="277"/>
                </a:lnTo>
                <a:lnTo>
                  <a:pt x="344" y="277"/>
                </a:lnTo>
                <a:close/>
                <a:moveTo>
                  <a:pt x="336" y="288"/>
                </a:moveTo>
                <a:lnTo>
                  <a:pt x="329" y="288"/>
                </a:lnTo>
                <a:lnTo>
                  <a:pt x="329" y="281"/>
                </a:lnTo>
                <a:lnTo>
                  <a:pt x="336" y="281"/>
                </a:lnTo>
                <a:lnTo>
                  <a:pt x="336" y="288"/>
                </a:lnTo>
                <a:close/>
                <a:moveTo>
                  <a:pt x="336" y="275"/>
                </a:moveTo>
                <a:lnTo>
                  <a:pt x="342" y="275"/>
                </a:lnTo>
                <a:lnTo>
                  <a:pt x="342" y="288"/>
                </a:lnTo>
                <a:lnTo>
                  <a:pt x="336" y="288"/>
                </a:lnTo>
                <a:lnTo>
                  <a:pt x="336" y="275"/>
                </a:lnTo>
                <a:close/>
                <a:moveTo>
                  <a:pt x="342" y="275"/>
                </a:moveTo>
                <a:lnTo>
                  <a:pt x="350" y="275"/>
                </a:lnTo>
                <a:lnTo>
                  <a:pt x="350" y="281"/>
                </a:lnTo>
                <a:lnTo>
                  <a:pt x="342" y="281"/>
                </a:lnTo>
                <a:lnTo>
                  <a:pt x="342" y="275"/>
                </a:lnTo>
                <a:close/>
                <a:moveTo>
                  <a:pt x="350" y="281"/>
                </a:moveTo>
                <a:lnTo>
                  <a:pt x="350" y="294"/>
                </a:lnTo>
                <a:lnTo>
                  <a:pt x="334" y="294"/>
                </a:lnTo>
                <a:lnTo>
                  <a:pt x="334" y="281"/>
                </a:lnTo>
                <a:lnTo>
                  <a:pt x="350" y="281"/>
                </a:lnTo>
                <a:close/>
                <a:moveTo>
                  <a:pt x="350" y="294"/>
                </a:moveTo>
                <a:lnTo>
                  <a:pt x="350" y="298"/>
                </a:lnTo>
                <a:lnTo>
                  <a:pt x="334" y="298"/>
                </a:lnTo>
                <a:lnTo>
                  <a:pt x="334" y="294"/>
                </a:lnTo>
                <a:lnTo>
                  <a:pt x="350" y="294"/>
                </a:lnTo>
                <a:close/>
                <a:moveTo>
                  <a:pt x="342" y="306"/>
                </a:moveTo>
                <a:lnTo>
                  <a:pt x="334" y="306"/>
                </a:lnTo>
                <a:lnTo>
                  <a:pt x="334" y="298"/>
                </a:lnTo>
                <a:lnTo>
                  <a:pt x="342" y="298"/>
                </a:lnTo>
                <a:lnTo>
                  <a:pt x="342" y="306"/>
                </a:lnTo>
                <a:close/>
                <a:moveTo>
                  <a:pt x="342" y="290"/>
                </a:moveTo>
                <a:lnTo>
                  <a:pt x="350" y="290"/>
                </a:lnTo>
                <a:lnTo>
                  <a:pt x="350" y="306"/>
                </a:lnTo>
                <a:lnTo>
                  <a:pt x="342" y="306"/>
                </a:lnTo>
                <a:lnTo>
                  <a:pt x="342" y="290"/>
                </a:lnTo>
                <a:close/>
                <a:moveTo>
                  <a:pt x="350" y="290"/>
                </a:moveTo>
                <a:lnTo>
                  <a:pt x="357" y="290"/>
                </a:lnTo>
                <a:lnTo>
                  <a:pt x="357" y="298"/>
                </a:lnTo>
                <a:lnTo>
                  <a:pt x="350" y="298"/>
                </a:lnTo>
                <a:lnTo>
                  <a:pt x="350" y="290"/>
                </a:lnTo>
                <a:close/>
                <a:moveTo>
                  <a:pt x="357" y="298"/>
                </a:moveTo>
                <a:lnTo>
                  <a:pt x="357" y="315"/>
                </a:lnTo>
                <a:lnTo>
                  <a:pt x="342" y="315"/>
                </a:lnTo>
                <a:lnTo>
                  <a:pt x="342" y="298"/>
                </a:lnTo>
                <a:lnTo>
                  <a:pt x="357" y="298"/>
                </a:lnTo>
                <a:close/>
                <a:moveTo>
                  <a:pt x="357" y="315"/>
                </a:moveTo>
                <a:lnTo>
                  <a:pt x="357" y="321"/>
                </a:lnTo>
                <a:lnTo>
                  <a:pt x="342" y="321"/>
                </a:lnTo>
                <a:lnTo>
                  <a:pt x="342" y="315"/>
                </a:lnTo>
                <a:lnTo>
                  <a:pt x="357" y="315"/>
                </a:lnTo>
                <a:close/>
                <a:moveTo>
                  <a:pt x="350" y="329"/>
                </a:moveTo>
                <a:lnTo>
                  <a:pt x="342" y="329"/>
                </a:lnTo>
                <a:lnTo>
                  <a:pt x="342" y="321"/>
                </a:lnTo>
                <a:lnTo>
                  <a:pt x="350" y="321"/>
                </a:lnTo>
                <a:lnTo>
                  <a:pt x="350" y="329"/>
                </a:lnTo>
                <a:close/>
                <a:moveTo>
                  <a:pt x="350" y="313"/>
                </a:moveTo>
                <a:lnTo>
                  <a:pt x="356" y="313"/>
                </a:lnTo>
                <a:lnTo>
                  <a:pt x="356" y="329"/>
                </a:lnTo>
                <a:lnTo>
                  <a:pt x="350" y="329"/>
                </a:lnTo>
                <a:lnTo>
                  <a:pt x="350" y="313"/>
                </a:lnTo>
                <a:close/>
                <a:moveTo>
                  <a:pt x="356" y="313"/>
                </a:moveTo>
                <a:lnTo>
                  <a:pt x="363" y="313"/>
                </a:lnTo>
                <a:lnTo>
                  <a:pt x="363" y="321"/>
                </a:lnTo>
                <a:lnTo>
                  <a:pt x="356" y="321"/>
                </a:lnTo>
                <a:lnTo>
                  <a:pt x="356" y="313"/>
                </a:lnTo>
                <a:close/>
                <a:moveTo>
                  <a:pt x="363" y="321"/>
                </a:moveTo>
                <a:lnTo>
                  <a:pt x="363" y="327"/>
                </a:lnTo>
                <a:lnTo>
                  <a:pt x="348" y="327"/>
                </a:lnTo>
                <a:lnTo>
                  <a:pt x="348" y="321"/>
                </a:lnTo>
                <a:lnTo>
                  <a:pt x="363" y="321"/>
                </a:lnTo>
                <a:close/>
                <a:moveTo>
                  <a:pt x="356" y="334"/>
                </a:moveTo>
                <a:lnTo>
                  <a:pt x="348" y="334"/>
                </a:lnTo>
                <a:lnTo>
                  <a:pt x="348" y="327"/>
                </a:lnTo>
                <a:lnTo>
                  <a:pt x="356" y="327"/>
                </a:lnTo>
                <a:lnTo>
                  <a:pt x="356" y="334"/>
                </a:lnTo>
                <a:close/>
                <a:moveTo>
                  <a:pt x="356" y="319"/>
                </a:moveTo>
                <a:lnTo>
                  <a:pt x="363" y="319"/>
                </a:lnTo>
                <a:lnTo>
                  <a:pt x="363" y="334"/>
                </a:lnTo>
                <a:lnTo>
                  <a:pt x="356" y="334"/>
                </a:lnTo>
                <a:lnTo>
                  <a:pt x="356" y="319"/>
                </a:lnTo>
                <a:close/>
                <a:moveTo>
                  <a:pt x="363" y="319"/>
                </a:moveTo>
                <a:lnTo>
                  <a:pt x="371" y="319"/>
                </a:lnTo>
                <a:lnTo>
                  <a:pt x="371" y="327"/>
                </a:lnTo>
                <a:lnTo>
                  <a:pt x="363" y="327"/>
                </a:lnTo>
                <a:lnTo>
                  <a:pt x="363" y="319"/>
                </a:lnTo>
                <a:close/>
                <a:moveTo>
                  <a:pt x="371" y="327"/>
                </a:moveTo>
                <a:lnTo>
                  <a:pt x="371" y="332"/>
                </a:lnTo>
                <a:lnTo>
                  <a:pt x="356" y="332"/>
                </a:lnTo>
                <a:lnTo>
                  <a:pt x="356" y="327"/>
                </a:lnTo>
                <a:lnTo>
                  <a:pt x="371" y="327"/>
                </a:lnTo>
                <a:close/>
                <a:moveTo>
                  <a:pt x="371" y="332"/>
                </a:moveTo>
                <a:lnTo>
                  <a:pt x="371" y="344"/>
                </a:lnTo>
                <a:lnTo>
                  <a:pt x="356" y="344"/>
                </a:lnTo>
                <a:lnTo>
                  <a:pt x="356" y="332"/>
                </a:lnTo>
                <a:lnTo>
                  <a:pt x="371" y="332"/>
                </a:lnTo>
                <a:close/>
                <a:moveTo>
                  <a:pt x="363" y="350"/>
                </a:moveTo>
                <a:lnTo>
                  <a:pt x="356" y="350"/>
                </a:lnTo>
                <a:lnTo>
                  <a:pt x="356" y="344"/>
                </a:lnTo>
                <a:lnTo>
                  <a:pt x="363" y="344"/>
                </a:lnTo>
                <a:lnTo>
                  <a:pt x="363" y="350"/>
                </a:lnTo>
                <a:close/>
                <a:moveTo>
                  <a:pt x="363" y="336"/>
                </a:moveTo>
                <a:lnTo>
                  <a:pt x="369" y="336"/>
                </a:lnTo>
                <a:lnTo>
                  <a:pt x="369" y="350"/>
                </a:lnTo>
                <a:lnTo>
                  <a:pt x="363" y="350"/>
                </a:lnTo>
                <a:lnTo>
                  <a:pt x="363" y="336"/>
                </a:lnTo>
                <a:close/>
                <a:moveTo>
                  <a:pt x="369" y="336"/>
                </a:moveTo>
                <a:lnTo>
                  <a:pt x="377" y="336"/>
                </a:lnTo>
                <a:lnTo>
                  <a:pt x="377" y="344"/>
                </a:lnTo>
                <a:lnTo>
                  <a:pt x="369" y="344"/>
                </a:lnTo>
                <a:lnTo>
                  <a:pt x="369" y="336"/>
                </a:lnTo>
                <a:close/>
                <a:moveTo>
                  <a:pt x="377" y="344"/>
                </a:moveTo>
                <a:lnTo>
                  <a:pt x="377" y="348"/>
                </a:lnTo>
                <a:lnTo>
                  <a:pt x="361" y="348"/>
                </a:lnTo>
                <a:lnTo>
                  <a:pt x="361" y="344"/>
                </a:lnTo>
                <a:lnTo>
                  <a:pt x="377" y="344"/>
                </a:lnTo>
                <a:close/>
                <a:moveTo>
                  <a:pt x="369" y="355"/>
                </a:moveTo>
                <a:lnTo>
                  <a:pt x="361" y="355"/>
                </a:lnTo>
                <a:lnTo>
                  <a:pt x="361" y="348"/>
                </a:lnTo>
                <a:lnTo>
                  <a:pt x="369" y="348"/>
                </a:lnTo>
                <a:lnTo>
                  <a:pt x="369" y="355"/>
                </a:lnTo>
                <a:close/>
                <a:moveTo>
                  <a:pt x="369" y="340"/>
                </a:moveTo>
                <a:lnTo>
                  <a:pt x="377" y="340"/>
                </a:lnTo>
                <a:lnTo>
                  <a:pt x="377" y="355"/>
                </a:lnTo>
                <a:lnTo>
                  <a:pt x="369" y="355"/>
                </a:lnTo>
                <a:lnTo>
                  <a:pt x="369" y="340"/>
                </a:lnTo>
                <a:close/>
                <a:moveTo>
                  <a:pt x="377" y="340"/>
                </a:moveTo>
                <a:lnTo>
                  <a:pt x="384" y="340"/>
                </a:lnTo>
                <a:lnTo>
                  <a:pt x="384" y="348"/>
                </a:lnTo>
                <a:lnTo>
                  <a:pt x="377" y="348"/>
                </a:lnTo>
                <a:lnTo>
                  <a:pt x="377" y="340"/>
                </a:lnTo>
                <a:close/>
                <a:moveTo>
                  <a:pt x="384" y="348"/>
                </a:moveTo>
                <a:lnTo>
                  <a:pt x="384" y="355"/>
                </a:lnTo>
                <a:lnTo>
                  <a:pt x="367" y="355"/>
                </a:lnTo>
                <a:lnTo>
                  <a:pt x="367" y="348"/>
                </a:lnTo>
                <a:lnTo>
                  <a:pt x="384" y="348"/>
                </a:lnTo>
                <a:close/>
                <a:moveTo>
                  <a:pt x="377" y="363"/>
                </a:moveTo>
                <a:lnTo>
                  <a:pt x="367" y="363"/>
                </a:lnTo>
                <a:lnTo>
                  <a:pt x="367" y="355"/>
                </a:lnTo>
                <a:lnTo>
                  <a:pt x="377" y="355"/>
                </a:lnTo>
                <a:lnTo>
                  <a:pt x="377" y="363"/>
                </a:lnTo>
                <a:close/>
                <a:moveTo>
                  <a:pt x="377" y="348"/>
                </a:moveTo>
                <a:lnTo>
                  <a:pt x="382" y="348"/>
                </a:lnTo>
                <a:lnTo>
                  <a:pt x="382" y="363"/>
                </a:lnTo>
                <a:lnTo>
                  <a:pt x="377" y="363"/>
                </a:lnTo>
                <a:lnTo>
                  <a:pt x="377" y="348"/>
                </a:lnTo>
                <a:close/>
                <a:moveTo>
                  <a:pt x="382" y="348"/>
                </a:moveTo>
                <a:lnTo>
                  <a:pt x="390" y="348"/>
                </a:lnTo>
                <a:lnTo>
                  <a:pt x="390" y="355"/>
                </a:lnTo>
                <a:lnTo>
                  <a:pt x="382" y="355"/>
                </a:lnTo>
                <a:lnTo>
                  <a:pt x="382" y="348"/>
                </a:lnTo>
                <a:close/>
                <a:moveTo>
                  <a:pt x="390" y="355"/>
                </a:moveTo>
                <a:lnTo>
                  <a:pt x="390" y="365"/>
                </a:lnTo>
                <a:lnTo>
                  <a:pt x="375" y="365"/>
                </a:lnTo>
                <a:lnTo>
                  <a:pt x="375" y="355"/>
                </a:lnTo>
                <a:lnTo>
                  <a:pt x="390" y="355"/>
                </a:lnTo>
                <a:close/>
                <a:moveTo>
                  <a:pt x="390" y="365"/>
                </a:moveTo>
                <a:lnTo>
                  <a:pt x="390" y="371"/>
                </a:lnTo>
                <a:lnTo>
                  <a:pt x="375" y="371"/>
                </a:lnTo>
                <a:lnTo>
                  <a:pt x="375" y="365"/>
                </a:lnTo>
                <a:lnTo>
                  <a:pt x="390" y="365"/>
                </a:lnTo>
                <a:close/>
                <a:moveTo>
                  <a:pt x="382" y="378"/>
                </a:moveTo>
                <a:lnTo>
                  <a:pt x="375" y="378"/>
                </a:lnTo>
                <a:lnTo>
                  <a:pt x="375" y="371"/>
                </a:lnTo>
                <a:lnTo>
                  <a:pt x="382" y="371"/>
                </a:lnTo>
                <a:lnTo>
                  <a:pt x="382" y="378"/>
                </a:lnTo>
                <a:close/>
                <a:moveTo>
                  <a:pt x="382" y="363"/>
                </a:moveTo>
                <a:lnTo>
                  <a:pt x="388" y="363"/>
                </a:lnTo>
                <a:lnTo>
                  <a:pt x="388" y="378"/>
                </a:lnTo>
                <a:lnTo>
                  <a:pt x="382" y="378"/>
                </a:lnTo>
                <a:lnTo>
                  <a:pt x="382" y="363"/>
                </a:lnTo>
                <a:close/>
                <a:moveTo>
                  <a:pt x="388" y="363"/>
                </a:moveTo>
                <a:lnTo>
                  <a:pt x="396" y="363"/>
                </a:lnTo>
                <a:lnTo>
                  <a:pt x="396" y="371"/>
                </a:lnTo>
                <a:lnTo>
                  <a:pt x="388" y="371"/>
                </a:lnTo>
                <a:lnTo>
                  <a:pt x="388" y="363"/>
                </a:lnTo>
                <a:close/>
                <a:moveTo>
                  <a:pt x="396" y="371"/>
                </a:moveTo>
                <a:lnTo>
                  <a:pt x="396" y="377"/>
                </a:lnTo>
                <a:lnTo>
                  <a:pt x="380" y="377"/>
                </a:lnTo>
                <a:lnTo>
                  <a:pt x="380" y="371"/>
                </a:lnTo>
                <a:lnTo>
                  <a:pt x="396" y="371"/>
                </a:lnTo>
                <a:close/>
                <a:moveTo>
                  <a:pt x="388" y="384"/>
                </a:moveTo>
                <a:lnTo>
                  <a:pt x="380" y="384"/>
                </a:lnTo>
                <a:lnTo>
                  <a:pt x="380" y="377"/>
                </a:lnTo>
                <a:lnTo>
                  <a:pt x="388" y="377"/>
                </a:lnTo>
                <a:lnTo>
                  <a:pt x="388" y="384"/>
                </a:lnTo>
                <a:close/>
                <a:moveTo>
                  <a:pt x="388" y="369"/>
                </a:moveTo>
                <a:lnTo>
                  <a:pt x="415" y="369"/>
                </a:lnTo>
                <a:lnTo>
                  <a:pt x="415" y="384"/>
                </a:lnTo>
                <a:lnTo>
                  <a:pt x="388" y="384"/>
                </a:lnTo>
                <a:lnTo>
                  <a:pt x="388" y="369"/>
                </a:lnTo>
                <a:close/>
                <a:moveTo>
                  <a:pt x="415" y="369"/>
                </a:moveTo>
                <a:lnTo>
                  <a:pt x="423" y="369"/>
                </a:lnTo>
                <a:lnTo>
                  <a:pt x="423" y="377"/>
                </a:lnTo>
                <a:lnTo>
                  <a:pt x="415" y="377"/>
                </a:lnTo>
                <a:lnTo>
                  <a:pt x="415" y="369"/>
                </a:lnTo>
                <a:close/>
                <a:moveTo>
                  <a:pt x="423" y="377"/>
                </a:moveTo>
                <a:lnTo>
                  <a:pt x="423" y="382"/>
                </a:lnTo>
                <a:lnTo>
                  <a:pt x="407" y="382"/>
                </a:lnTo>
                <a:lnTo>
                  <a:pt x="407" y="377"/>
                </a:lnTo>
                <a:lnTo>
                  <a:pt x="423" y="377"/>
                </a:lnTo>
                <a:close/>
                <a:moveTo>
                  <a:pt x="423" y="382"/>
                </a:moveTo>
                <a:lnTo>
                  <a:pt x="423" y="388"/>
                </a:lnTo>
                <a:lnTo>
                  <a:pt x="407" y="388"/>
                </a:lnTo>
                <a:lnTo>
                  <a:pt x="407" y="382"/>
                </a:lnTo>
                <a:lnTo>
                  <a:pt x="423" y="382"/>
                </a:lnTo>
                <a:close/>
                <a:moveTo>
                  <a:pt x="415" y="396"/>
                </a:moveTo>
                <a:lnTo>
                  <a:pt x="407" y="396"/>
                </a:lnTo>
                <a:lnTo>
                  <a:pt x="407" y="388"/>
                </a:lnTo>
                <a:lnTo>
                  <a:pt x="415" y="388"/>
                </a:lnTo>
                <a:lnTo>
                  <a:pt x="415" y="396"/>
                </a:lnTo>
                <a:close/>
                <a:moveTo>
                  <a:pt x="415" y="380"/>
                </a:moveTo>
                <a:lnTo>
                  <a:pt x="423" y="380"/>
                </a:lnTo>
                <a:lnTo>
                  <a:pt x="423" y="396"/>
                </a:lnTo>
                <a:lnTo>
                  <a:pt x="415" y="396"/>
                </a:lnTo>
                <a:lnTo>
                  <a:pt x="415" y="380"/>
                </a:lnTo>
                <a:close/>
                <a:moveTo>
                  <a:pt x="423" y="380"/>
                </a:moveTo>
                <a:lnTo>
                  <a:pt x="430" y="380"/>
                </a:lnTo>
                <a:lnTo>
                  <a:pt x="430" y="388"/>
                </a:lnTo>
                <a:lnTo>
                  <a:pt x="423" y="388"/>
                </a:lnTo>
                <a:lnTo>
                  <a:pt x="423" y="380"/>
                </a:lnTo>
                <a:close/>
                <a:moveTo>
                  <a:pt x="430" y="388"/>
                </a:moveTo>
                <a:lnTo>
                  <a:pt x="430" y="394"/>
                </a:lnTo>
                <a:lnTo>
                  <a:pt x="413" y="394"/>
                </a:lnTo>
                <a:lnTo>
                  <a:pt x="413" y="388"/>
                </a:lnTo>
                <a:lnTo>
                  <a:pt x="430" y="388"/>
                </a:lnTo>
                <a:close/>
                <a:moveTo>
                  <a:pt x="423" y="400"/>
                </a:moveTo>
                <a:lnTo>
                  <a:pt x="413" y="400"/>
                </a:lnTo>
                <a:lnTo>
                  <a:pt x="413" y="394"/>
                </a:lnTo>
                <a:lnTo>
                  <a:pt x="423" y="394"/>
                </a:lnTo>
                <a:lnTo>
                  <a:pt x="423" y="400"/>
                </a:lnTo>
                <a:close/>
                <a:moveTo>
                  <a:pt x="423" y="386"/>
                </a:moveTo>
                <a:lnTo>
                  <a:pt x="428" y="386"/>
                </a:lnTo>
                <a:lnTo>
                  <a:pt x="428" y="400"/>
                </a:lnTo>
                <a:lnTo>
                  <a:pt x="423" y="400"/>
                </a:lnTo>
                <a:lnTo>
                  <a:pt x="423" y="386"/>
                </a:lnTo>
                <a:close/>
                <a:moveTo>
                  <a:pt x="428" y="386"/>
                </a:moveTo>
                <a:lnTo>
                  <a:pt x="436" y="386"/>
                </a:lnTo>
                <a:lnTo>
                  <a:pt x="436" y="394"/>
                </a:lnTo>
                <a:lnTo>
                  <a:pt x="428" y="394"/>
                </a:lnTo>
                <a:lnTo>
                  <a:pt x="428" y="386"/>
                </a:lnTo>
                <a:close/>
                <a:moveTo>
                  <a:pt x="436" y="394"/>
                </a:moveTo>
                <a:lnTo>
                  <a:pt x="436" y="415"/>
                </a:lnTo>
                <a:lnTo>
                  <a:pt x="421" y="415"/>
                </a:lnTo>
                <a:lnTo>
                  <a:pt x="421" y="394"/>
                </a:lnTo>
                <a:lnTo>
                  <a:pt x="436" y="394"/>
                </a:lnTo>
                <a:close/>
                <a:moveTo>
                  <a:pt x="428" y="423"/>
                </a:moveTo>
                <a:lnTo>
                  <a:pt x="421" y="423"/>
                </a:lnTo>
                <a:lnTo>
                  <a:pt x="421" y="415"/>
                </a:lnTo>
                <a:lnTo>
                  <a:pt x="428" y="415"/>
                </a:lnTo>
                <a:lnTo>
                  <a:pt x="428" y="423"/>
                </a:lnTo>
                <a:close/>
                <a:moveTo>
                  <a:pt x="428" y="407"/>
                </a:moveTo>
                <a:lnTo>
                  <a:pt x="442" y="407"/>
                </a:lnTo>
                <a:lnTo>
                  <a:pt x="442" y="423"/>
                </a:lnTo>
                <a:lnTo>
                  <a:pt x="428" y="423"/>
                </a:lnTo>
                <a:lnTo>
                  <a:pt x="428" y="407"/>
                </a:lnTo>
                <a:close/>
                <a:moveTo>
                  <a:pt x="442" y="407"/>
                </a:moveTo>
                <a:lnTo>
                  <a:pt x="450" y="407"/>
                </a:lnTo>
                <a:lnTo>
                  <a:pt x="450" y="415"/>
                </a:lnTo>
                <a:lnTo>
                  <a:pt x="442" y="415"/>
                </a:lnTo>
                <a:lnTo>
                  <a:pt x="442" y="407"/>
                </a:lnTo>
                <a:close/>
                <a:moveTo>
                  <a:pt x="450" y="415"/>
                </a:moveTo>
                <a:lnTo>
                  <a:pt x="450" y="426"/>
                </a:lnTo>
                <a:lnTo>
                  <a:pt x="432" y="426"/>
                </a:lnTo>
                <a:lnTo>
                  <a:pt x="432" y="415"/>
                </a:lnTo>
                <a:lnTo>
                  <a:pt x="450" y="415"/>
                </a:lnTo>
                <a:close/>
                <a:moveTo>
                  <a:pt x="442" y="434"/>
                </a:moveTo>
                <a:lnTo>
                  <a:pt x="432" y="434"/>
                </a:lnTo>
                <a:lnTo>
                  <a:pt x="432" y="426"/>
                </a:lnTo>
                <a:lnTo>
                  <a:pt x="442" y="426"/>
                </a:lnTo>
                <a:lnTo>
                  <a:pt x="442" y="434"/>
                </a:lnTo>
                <a:close/>
                <a:moveTo>
                  <a:pt x="442" y="419"/>
                </a:moveTo>
                <a:lnTo>
                  <a:pt x="448" y="419"/>
                </a:lnTo>
                <a:lnTo>
                  <a:pt x="448" y="434"/>
                </a:lnTo>
                <a:lnTo>
                  <a:pt x="442" y="434"/>
                </a:lnTo>
                <a:lnTo>
                  <a:pt x="442" y="419"/>
                </a:lnTo>
                <a:close/>
                <a:moveTo>
                  <a:pt x="448" y="419"/>
                </a:moveTo>
                <a:lnTo>
                  <a:pt x="455" y="419"/>
                </a:lnTo>
                <a:lnTo>
                  <a:pt x="455" y="426"/>
                </a:lnTo>
                <a:lnTo>
                  <a:pt x="448" y="426"/>
                </a:lnTo>
                <a:lnTo>
                  <a:pt x="448" y="419"/>
                </a:lnTo>
                <a:close/>
                <a:moveTo>
                  <a:pt x="455" y="426"/>
                </a:moveTo>
                <a:lnTo>
                  <a:pt x="455" y="432"/>
                </a:lnTo>
                <a:lnTo>
                  <a:pt x="440" y="432"/>
                </a:lnTo>
                <a:lnTo>
                  <a:pt x="440" y="426"/>
                </a:lnTo>
                <a:lnTo>
                  <a:pt x="455" y="426"/>
                </a:lnTo>
                <a:close/>
                <a:moveTo>
                  <a:pt x="455" y="432"/>
                </a:moveTo>
                <a:lnTo>
                  <a:pt x="455" y="438"/>
                </a:lnTo>
                <a:lnTo>
                  <a:pt x="440" y="438"/>
                </a:lnTo>
                <a:lnTo>
                  <a:pt x="440" y="432"/>
                </a:lnTo>
                <a:lnTo>
                  <a:pt x="455" y="432"/>
                </a:lnTo>
                <a:close/>
                <a:moveTo>
                  <a:pt x="448" y="446"/>
                </a:moveTo>
                <a:lnTo>
                  <a:pt x="440" y="446"/>
                </a:lnTo>
                <a:lnTo>
                  <a:pt x="440" y="438"/>
                </a:lnTo>
                <a:lnTo>
                  <a:pt x="448" y="438"/>
                </a:lnTo>
                <a:lnTo>
                  <a:pt x="448" y="446"/>
                </a:lnTo>
                <a:close/>
                <a:moveTo>
                  <a:pt x="448" y="430"/>
                </a:moveTo>
                <a:lnTo>
                  <a:pt x="469" y="430"/>
                </a:lnTo>
                <a:lnTo>
                  <a:pt x="469" y="446"/>
                </a:lnTo>
                <a:lnTo>
                  <a:pt x="448" y="446"/>
                </a:lnTo>
                <a:lnTo>
                  <a:pt x="448" y="430"/>
                </a:lnTo>
                <a:close/>
                <a:moveTo>
                  <a:pt x="469" y="430"/>
                </a:moveTo>
                <a:lnTo>
                  <a:pt x="476" y="430"/>
                </a:lnTo>
                <a:lnTo>
                  <a:pt x="476" y="438"/>
                </a:lnTo>
                <a:lnTo>
                  <a:pt x="469" y="438"/>
                </a:lnTo>
                <a:lnTo>
                  <a:pt x="469" y="430"/>
                </a:lnTo>
                <a:close/>
                <a:moveTo>
                  <a:pt x="476" y="438"/>
                </a:moveTo>
                <a:lnTo>
                  <a:pt x="476" y="444"/>
                </a:lnTo>
                <a:lnTo>
                  <a:pt x="459" y="444"/>
                </a:lnTo>
                <a:lnTo>
                  <a:pt x="459" y="438"/>
                </a:lnTo>
                <a:lnTo>
                  <a:pt x="476" y="438"/>
                </a:lnTo>
                <a:close/>
                <a:moveTo>
                  <a:pt x="476" y="444"/>
                </a:moveTo>
                <a:lnTo>
                  <a:pt x="476" y="455"/>
                </a:lnTo>
                <a:lnTo>
                  <a:pt x="459" y="455"/>
                </a:lnTo>
                <a:lnTo>
                  <a:pt x="459" y="444"/>
                </a:lnTo>
                <a:lnTo>
                  <a:pt x="476" y="444"/>
                </a:lnTo>
                <a:close/>
                <a:moveTo>
                  <a:pt x="469" y="463"/>
                </a:moveTo>
                <a:lnTo>
                  <a:pt x="459" y="463"/>
                </a:lnTo>
                <a:lnTo>
                  <a:pt x="459" y="455"/>
                </a:lnTo>
                <a:lnTo>
                  <a:pt x="469" y="455"/>
                </a:lnTo>
                <a:lnTo>
                  <a:pt x="469" y="463"/>
                </a:lnTo>
                <a:close/>
                <a:moveTo>
                  <a:pt x="469" y="448"/>
                </a:moveTo>
                <a:lnTo>
                  <a:pt x="475" y="448"/>
                </a:lnTo>
                <a:lnTo>
                  <a:pt x="475" y="463"/>
                </a:lnTo>
                <a:lnTo>
                  <a:pt x="469" y="463"/>
                </a:lnTo>
                <a:lnTo>
                  <a:pt x="469" y="448"/>
                </a:lnTo>
                <a:close/>
                <a:moveTo>
                  <a:pt x="475" y="448"/>
                </a:moveTo>
                <a:lnTo>
                  <a:pt x="482" y="448"/>
                </a:lnTo>
                <a:lnTo>
                  <a:pt x="482" y="455"/>
                </a:lnTo>
                <a:lnTo>
                  <a:pt x="475" y="455"/>
                </a:lnTo>
                <a:lnTo>
                  <a:pt x="475" y="448"/>
                </a:lnTo>
                <a:close/>
                <a:moveTo>
                  <a:pt x="482" y="455"/>
                </a:moveTo>
                <a:lnTo>
                  <a:pt x="482" y="459"/>
                </a:lnTo>
                <a:lnTo>
                  <a:pt x="467" y="459"/>
                </a:lnTo>
                <a:lnTo>
                  <a:pt x="467" y="455"/>
                </a:lnTo>
                <a:lnTo>
                  <a:pt x="482" y="455"/>
                </a:lnTo>
                <a:close/>
                <a:moveTo>
                  <a:pt x="482" y="459"/>
                </a:moveTo>
                <a:lnTo>
                  <a:pt x="482" y="467"/>
                </a:lnTo>
                <a:lnTo>
                  <a:pt x="467" y="467"/>
                </a:lnTo>
                <a:lnTo>
                  <a:pt x="467" y="459"/>
                </a:lnTo>
                <a:lnTo>
                  <a:pt x="482" y="459"/>
                </a:lnTo>
                <a:close/>
                <a:moveTo>
                  <a:pt x="475" y="474"/>
                </a:moveTo>
                <a:lnTo>
                  <a:pt x="467" y="474"/>
                </a:lnTo>
                <a:lnTo>
                  <a:pt x="467" y="467"/>
                </a:lnTo>
                <a:lnTo>
                  <a:pt x="475" y="467"/>
                </a:lnTo>
                <a:lnTo>
                  <a:pt x="475" y="474"/>
                </a:lnTo>
                <a:close/>
                <a:moveTo>
                  <a:pt x="475" y="459"/>
                </a:moveTo>
                <a:lnTo>
                  <a:pt x="482" y="459"/>
                </a:lnTo>
                <a:lnTo>
                  <a:pt x="482" y="474"/>
                </a:lnTo>
                <a:lnTo>
                  <a:pt x="475" y="474"/>
                </a:lnTo>
                <a:lnTo>
                  <a:pt x="475" y="459"/>
                </a:lnTo>
                <a:close/>
                <a:moveTo>
                  <a:pt x="482" y="459"/>
                </a:moveTo>
                <a:lnTo>
                  <a:pt x="490" y="459"/>
                </a:lnTo>
                <a:lnTo>
                  <a:pt x="490" y="467"/>
                </a:lnTo>
                <a:lnTo>
                  <a:pt x="482" y="467"/>
                </a:lnTo>
                <a:lnTo>
                  <a:pt x="482" y="459"/>
                </a:lnTo>
                <a:close/>
                <a:moveTo>
                  <a:pt x="490" y="467"/>
                </a:moveTo>
                <a:lnTo>
                  <a:pt x="490" y="472"/>
                </a:lnTo>
                <a:lnTo>
                  <a:pt x="473" y="472"/>
                </a:lnTo>
                <a:lnTo>
                  <a:pt x="473" y="467"/>
                </a:lnTo>
                <a:lnTo>
                  <a:pt x="490" y="467"/>
                </a:lnTo>
                <a:close/>
                <a:moveTo>
                  <a:pt x="482" y="478"/>
                </a:moveTo>
                <a:lnTo>
                  <a:pt x="473" y="478"/>
                </a:lnTo>
                <a:lnTo>
                  <a:pt x="473" y="472"/>
                </a:lnTo>
                <a:lnTo>
                  <a:pt x="482" y="472"/>
                </a:lnTo>
                <a:lnTo>
                  <a:pt x="482" y="478"/>
                </a:lnTo>
                <a:close/>
                <a:moveTo>
                  <a:pt x="482" y="465"/>
                </a:moveTo>
                <a:lnTo>
                  <a:pt x="488" y="465"/>
                </a:lnTo>
                <a:lnTo>
                  <a:pt x="488" y="478"/>
                </a:lnTo>
                <a:lnTo>
                  <a:pt x="482" y="478"/>
                </a:lnTo>
                <a:lnTo>
                  <a:pt x="482" y="465"/>
                </a:lnTo>
                <a:close/>
                <a:moveTo>
                  <a:pt x="488" y="465"/>
                </a:moveTo>
                <a:lnTo>
                  <a:pt x="496" y="465"/>
                </a:lnTo>
                <a:lnTo>
                  <a:pt x="496" y="472"/>
                </a:lnTo>
                <a:lnTo>
                  <a:pt x="488" y="472"/>
                </a:lnTo>
                <a:lnTo>
                  <a:pt x="488" y="465"/>
                </a:lnTo>
                <a:close/>
                <a:moveTo>
                  <a:pt x="496" y="472"/>
                </a:moveTo>
                <a:lnTo>
                  <a:pt x="496" y="476"/>
                </a:lnTo>
                <a:lnTo>
                  <a:pt x="478" y="476"/>
                </a:lnTo>
                <a:lnTo>
                  <a:pt x="478" y="472"/>
                </a:lnTo>
                <a:lnTo>
                  <a:pt x="496" y="472"/>
                </a:lnTo>
                <a:close/>
                <a:moveTo>
                  <a:pt x="488" y="484"/>
                </a:moveTo>
                <a:lnTo>
                  <a:pt x="478" y="484"/>
                </a:lnTo>
                <a:lnTo>
                  <a:pt x="478" y="476"/>
                </a:lnTo>
                <a:lnTo>
                  <a:pt x="488" y="476"/>
                </a:lnTo>
                <a:lnTo>
                  <a:pt x="488" y="484"/>
                </a:lnTo>
                <a:close/>
                <a:moveTo>
                  <a:pt x="488" y="469"/>
                </a:moveTo>
                <a:lnTo>
                  <a:pt x="494" y="469"/>
                </a:lnTo>
                <a:lnTo>
                  <a:pt x="494" y="484"/>
                </a:lnTo>
                <a:lnTo>
                  <a:pt x="488" y="484"/>
                </a:lnTo>
                <a:lnTo>
                  <a:pt x="488" y="469"/>
                </a:lnTo>
                <a:close/>
                <a:moveTo>
                  <a:pt x="494" y="469"/>
                </a:moveTo>
                <a:lnTo>
                  <a:pt x="501" y="469"/>
                </a:lnTo>
                <a:lnTo>
                  <a:pt x="501" y="476"/>
                </a:lnTo>
                <a:lnTo>
                  <a:pt x="494" y="476"/>
                </a:lnTo>
                <a:lnTo>
                  <a:pt x="494" y="469"/>
                </a:lnTo>
                <a:close/>
                <a:moveTo>
                  <a:pt x="501" y="476"/>
                </a:moveTo>
                <a:lnTo>
                  <a:pt x="501" y="482"/>
                </a:lnTo>
                <a:lnTo>
                  <a:pt x="486" y="482"/>
                </a:lnTo>
                <a:lnTo>
                  <a:pt x="486" y="476"/>
                </a:lnTo>
                <a:lnTo>
                  <a:pt x="501" y="476"/>
                </a:lnTo>
                <a:close/>
                <a:moveTo>
                  <a:pt x="494" y="490"/>
                </a:moveTo>
                <a:lnTo>
                  <a:pt x="486" y="490"/>
                </a:lnTo>
                <a:lnTo>
                  <a:pt x="486" y="482"/>
                </a:lnTo>
                <a:lnTo>
                  <a:pt x="494" y="482"/>
                </a:lnTo>
                <a:lnTo>
                  <a:pt x="494" y="490"/>
                </a:lnTo>
                <a:close/>
                <a:moveTo>
                  <a:pt x="494" y="474"/>
                </a:moveTo>
                <a:lnTo>
                  <a:pt x="499" y="474"/>
                </a:lnTo>
                <a:lnTo>
                  <a:pt x="499" y="490"/>
                </a:lnTo>
                <a:lnTo>
                  <a:pt x="494" y="490"/>
                </a:lnTo>
                <a:lnTo>
                  <a:pt x="494" y="474"/>
                </a:lnTo>
                <a:close/>
                <a:moveTo>
                  <a:pt x="499" y="474"/>
                </a:moveTo>
                <a:lnTo>
                  <a:pt x="509" y="474"/>
                </a:lnTo>
                <a:lnTo>
                  <a:pt x="509" y="482"/>
                </a:lnTo>
                <a:lnTo>
                  <a:pt x="499" y="482"/>
                </a:lnTo>
                <a:lnTo>
                  <a:pt x="499" y="474"/>
                </a:lnTo>
                <a:close/>
                <a:moveTo>
                  <a:pt x="509" y="482"/>
                </a:moveTo>
                <a:lnTo>
                  <a:pt x="509" y="488"/>
                </a:lnTo>
                <a:lnTo>
                  <a:pt x="492" y="488"/>
                </a:lnTo>
                <a:lnTo>
                  <a:pt x="492" y="482"/>
                </a:lnTo>
                <a:lnTo>
                  <a:pt x="509" y="482"/>
                </a:lnTo>
                <a:close/>
                <a:moveTo>
                  <a:pt x="499" y="496"/>
                </a:moveTo>
                <a:lnTo>
                  <a:pt x="492" y="496"/>
                </a:lnTo>
                <a:lnTo>
                  <a:pt x="492" y="488"/>
                </a:lnTo>
                <a:lnTo>
                  <a:pt x="499" y="488"/>
                </a:lnTo>
                <a:lnTo>
                  <a:pt x="499" y="496"/>
                </a:lnTo>
                <a:close/>
                <a:moveTo>
                  <a:pt x="499" y="480"/>
                </a:moveTo>
                <a:lnTo>
                  <a:pt x="540" y="480"/>
                </a:lnTo>
                <a:lnTo>
                  <a:pt x="540" y="496"/>
                </a:lnTo>
                <a:lnTo>
                  <a:pt x="499" y="496"/>
                </a:lnTo>
                <a:lnTo>
                  <a:pt x="499" y="480"/>
                </a:lnTo>
                <a:close/>
                <a:moveTo>
                  <a:pt x="540" y="480"/>
                </a:moveTo>
                <a:lnTo>
                  <a:pt x="547" y="480"/>
                </a:lnTo>
                <a:lnTo>
                  <a:pt x="547" y="488"/>
                </a:lnTo>
                <a:lnTo>
                  <a:pt x="540" y="488"/>
                </a:lnTo>
                <a:lnTo>
                  <a:pt x="540" y="480"/>
                </a:lnTo>
                <a:close/>
                <a:moveTo>
                  <a:pt x="547" y="488"/>
                </a:moveTo>
                <a:lnTo>
                  <a:pt x="547" y="505"/>
                </a:lnTo>
                <a:lnTo>
                  <a:pt x="532" y="505"/>
                </a:lnTo>
                <a:lnTo>
                  <a:pt x="532" y="488"/>
                </a:lnTo>
                <a:lnTo>
                  <a:pt x="547" y="488"/>
                </a:lnTo>
                <a:close/>
                <a:moveTo>
                  <a:pt x="540" y="513"/>
                </a:moveTo>
                <a:lnTo>
                  <a:pt x="532" y="513"/>
                </a:lnTo>
                <a:lnTo>
                  <a:pt x="532" y="505"/>
                </a:lnTo>
                <a:lnTo>
                  <a:pt x="540" y="505"/>
                </a:lnTo>
                <a:lnTo>
                  <a:pt x="540" y="513"/>
                </a:lnTo>
                <a:close/>
                <a:moveTo>
                  <a:pt x="540" y="497"/>
                </a:moveTo>
                <a:lnTo>
                  <a:pt x="546" y="497"/>
                </a:lnTo>
                <a:lnTo>
                  <a:pt x="546" y="513"/>
                </a:lnTo>
                <a:lnTo>
                  <a:pt x="540" y="513"/>
                </a:lnTo>
                <a:lnTo>
                  <a:pt x="540" y="497"/>
                </a:lnTo>
                <a:close/>
                <a:moveTo>
                  <a:pt x="546" y="497"/>
                </a:moveTo>
                <a:lnTo>
                  <a:pt x="555" y="497"/>
                </a:lnTo>
                <a:lnTo>
                  <a:pt x="555" y="505"/>
                </a:lnTo>
                <a:lnTo>
                  <a:pt x="546" y="505"/>
                </a:lnTo>
                <a:lnTo>
                  <a:pt x="546" y="497"/>
                </a:lnTo>
                <a:close/>
                <a:moveTo>
                  <a:pt x="555" y="505"/>
                </a:moveTo>
                <a:lnTo>
                  <a:pt x="555" y="511"/>
                </a:lnTo>
                <a:lnTo>
                  <a:pt x="538" y="511"/>
                </a:lnTo>
                <a:lnTo>
                  <a:pt x="538" y="505"/>
                </a:lnTo>
                <a:lnTo>
                  <a:pt x="555" y="505"/>
                </a:lnTo>
                <a:close/>
                <a:moveTo>
                  <a:pt x="546" y="519"/>
                </a:moveTo>
                <a:lnTo>
                  <a:pt x="538" y="519"/>
                </a:lnTo>
                <a:lnTo>
                  <a:pt x="538" y="511"/>
                </a:lnTo>
                <a:lnTo>
                  <a:pt x="546" y="511"/>
                </a:lnTo>
                <a:lnTo>
                  <a:pt x="546" y="519"/>
                </a:lnTo>
                <a:close/>
                <a:moveTo>
                  <a:pt x="546" y="503"/>
                </a:moveTo>
                <a:lnTo>
                  <a:pt x="553" y="503"/>
                </a:lnTo>
                <a:lnTo>
                  <a:pt x="553" y="519"/>
                </a:lnTo>
                <a:lnTo>
                  <a:pt x="546" y="519"/>
                </a:lnTo>
                <a:lnTo>
                  <a:pt x="546" y="503"/>
                </a:lnTo>
                <a:close/>
                <a:moveTo>
                  <a:pt x="553" y="503"/>
                </a:moveTo>
                <a:lnTo>
                  <a:pt x="561" y="503"/>
                </a:lnTo>
                <a:lnTo>
                  <a:pt x="561" y="511"/>
                </a:lnTo>
                <a:lnTo>
                  <a:pt x="553" y="511"/>
                </a:lnTo>
                <a:lnTo>
                  <a:pt x="553" y="503"/>
                </a:lnTo>
                <a:close/>
                <a:moveTo>
                  <a:pt x="561" y="511"/>
                </a:moveTo>
                <a:lnTo>
                  <a:pt x="561" y="517"/>
                </a:lnTo>
                <a:lnTo>
                  <a:pt x="546" y="517"/>
                </a:lnTo>
                <a:lnTo>
                  <a:pt x="546" y="511"/>
                </a:lnTo>
                <a:lnTo>
                  <a:pt x="561" y="511"/>
                </a:lnTo>
                <a:close/>
                <a:moveTo>
                  <a:pt x="561" y="517"/>
                </a:moveTo>
                <a:lnTo>
                  <a:pt x="561" y="522"/>
                </a:lnTo>
                <a:lnTo>
                  <a:pt x="546" y="522"/>
                </a:lnTo>
                <a:lnTo>
                  <a:pt x="546" y="517"/>
                </a:lnTo>
                <a:lnTo>
                  <a:pt x="561" y="517"/>
                </a:lnTo>
                <a:close/>
                <a:moveTo>
                  <a:pt x="553" y="528"/>
                </a:moveTo>
                <a:lnTo>
                  <a:pt x="546" y="528"/>
                </a:lnTo>
                <a:lnTo>
                  <a:pt x="546" y="522"/>
                </a:lnTo>
                <a:lnTo>
                  <a:pt x="553" y="522"/>
                </a:lnTo>
                <a:lnTo>
                  <a:pt x="553" y="528"/>
                </a:lnTo>
                <a:close/>
                <a:moveTo>
                  <a:pt x="553" y="515"/>
                </a:moveTo>
                <a:lnTo>
                  <a:pt x="572" y="515"/>
                </a:lnTo>
                <a:lnTo>
                  <a:pt x="572" y="528"/>
                </a:lnTo>
                <a:lnTo>
                  <a:pt x="553" y="528"/>
                </a:lnTo>
                <a:lnTo>
                  <a:pt x="553" y="515"/>
                </a:lnTo>
                <a:close/>
                <a:moveTo>
                  <a:pt x="572" y="515"/>
                </a:moveTo>
                <a:lnTo>
                  <a:pt x="582" y="515"/>
                </a:lnTo>
                <a:lnTo>
                  <a:pt x="582" y="522"/>
                </a:lnTo>
                <a:lnTo>
                  <a:pt x="572" y="522"/>
                </a:lnTo>
                <a:lnTo>
                  <a:pt x="572" y="515"/>
                </a:lnTo>
                <a:close/>
                <a:moveTo>
                  <a:pt x="582" y="522"/>
                </a:moveTo>
                <a:lnTo>
                  <a:pt x="582" y="526"/>
                </a:lnTo>
                <a:lnTo>
                  <a:pt x="565" y="526"/>
                </a:lnTo>
                <a:lnTo>
                  <a:pt x="565" y="522"/>
                </a:lnTo>
                <a:lnTo>
                  <a:pt x="582" y="522"/>
                </a:lnTo>
                <a:close/>
                <a:moveTo>
                  <a:pt x="572" y="534"/>
                </a:moveTo>
                <a:lnTo>
                  <a:pt x="565" y="534"/>
                </a:lnTo>
                <a:lnTo>
                  <a:pt x="565" y="526"/>
                </a:lnTo>
                <a:lnTo>
                  <a:pt x="572" y="526"/>
                </a:lnTo>
                <a:lnTo>
                  <a:pt x="572" y="534"/>
                </a:lnTo>
                <a:close/>
                <a:moveTo>
                  <a:pt x="572" y="519"/>
                </a:moveTo>
                <a:lnTo>
                  <a:pt x="578" y="519"/>
                </a:lnTo>
                <a:lnTo>
                  <a:pt x="578" y="534"/>
                </a:lnTo>
                <a:lnTo>
                  <a:pt x="572" y="534"/>
                </a:lnTo>
                <a:lnTo>
                  <a:pt x="572" y="519"/>
                </a:lnTo>
                <a:close/>
                <a:moveTo>
                  <a:pt x="578" y="519"/>
                </a:moveTo>
                <a:lnTo>
                  <a:pt x="588" y="519"/>
                </a:lnTo>
                <a:lnTo>
                  <a:pt x="588" y="526"/>
                </a:lnTo>
                <a:lnTo>
                  <a:pt x="578" y="526"/>
                </a:lnTo>
                <a:lnTo>
                  <a:pt x="578" y="519"/>
                </a:lnTo>
                <a:close/>
                <a:moveTo>
                  <a:pt x="588" y="526"/>
                </a:moveTo>
                <a:lnTo>
                  <a:pt x="588" y="538"/>
                </a:lnTo>
                <a:lnTo>
                  <a:pt x="570" y="538"/>
                </a:lnTo>
                <a:lnTo>
                  <a:pt x="570" y="526"/>
                </a:lnTo>
                <a:lnTo>
                  <a:pt x="588" y="526"/>
                </a:lnTo>
                <a:close/>
                <a:moveTo>
                  <a:pt x="588" y="538"/>
                </a:moveTo>
                <a:lnTo>
                  <a:pt x="588" y="543"/>
                </a:lnTo>
                <a:lnTo>
                  <a:pt x="570" y="543"/>
                </a:lnTo>
                <a:lnTo>
                  <a:pt x="570" y="538"/>
                </a:lnTo>
                <a:lnTo>
                  <a:pt x="588" y="538"/>
                </a:lnTo>
                <a:close/>
                <a:moveTo>
                  <a:pt x="578" y="551"/>
                </a:moveTo>
                <a:lnTo>
                  <a:pt x="570" y="551"/>
                </a:lnTo>
                <a:lnTo>
                  <a:pt x="570" y="543"/>
                </a:lnTo>
                <a:lnTo>
                  <a:pt x="578" y="543"/>
                </a:lnTo>
                <a:lnTo>
                  <a:pt x="578" y="551"/>
                </a:lnTo>
                <a:close/>
                <a:moveTo>
                  <a:pt x="578" y="536"/>
                </a:moveTo>
                <a:lnTo>
                  <a:pt x="586" y="536"/>
                </a:lnTo>
                <a:lnTo>
                  <a:pt x="586" y="551"/>
                </a:lnTo>
                <a:lnTo>
                  <a:pt x="578" y="551"/>
                </a:lnTo>
                <a:lnTo>
                  <a:pt x="578" y="536"/>
                </a:lnTo>
                <a:close/>
                <a:moveTo>
                  <a:pt x="586" y="536"/>
                </a:moveTo>
                <a:lnTo>
                  <a:pt x="594" y="536"/>
                </a:lnTo>
                <a:lnTo>
                  <a:pt x="594" y="543"/>
                </a:lnTo>
                <a:lnTo>
                  <a:pt x="586" y="543"/>
                </a:lnTo>
                <a:lnTo>
                  <a:pt x="586" y="536"/>
                </a:lnTo>
                <a:close/>
                <a:moveTo>
                  <a:pt x="594" y="543"/>
                </a:moveTo>
                <a:lnTo>
                  <a:pt x="594" y="549"/>
                </a:lnTo>
                <a:lnTo>
                  <a:pt x="578" y="549"/>
                </a:lnTo>
                <a:lnTo>
                  <a:pt x="578" y="543"/>
                </a:lnTo>
                <a:lnTo>
                  <a:pt x="594" y="543"/>
                </a:lnTo>
                <a:close/>
                <a:moveTo>
                  <a:pt x="586" y="557"/>
                </a:moveTo>
                <a:lnTo>
                  <a:pt x="578" y="557"/>
                </a:lnTo>
                <a:lnTo>
                  <a:pt x="578" y="549"/>
                </a:lnTo>
                <a:lnTo>
                  <a:pt x="586" y="549"/>
                </a:lnTo>
                <a:lnTo>
                  <a:pt x="586" y="557"/>
                </a:lnTo>
                <a:close/>
                <a:moveTo>
                  <a:pt x="586" y="542"/>
                </a:moveTo>
                <a:lnTo>
                  <a:pt x="592" y="542"/>
                </a:lnTo>
                <a:lnTo>
                  <a:pt x="592" y="557"/>
                </a:lnTo>
                <a:lnTo>
                  <a:pt x="586" y="557"/>
                </a:lnTo>
                <a:lnTo>
                  <a:pt x="586" y="542"/>
                </a:lnTo>
                <a:close/>
                <a:moveTo>
                  <a:pt x="592" y="542"/>
                </a:moveTo>
                <a:lnTo>
                  <a:pt x="601" y="542"/>
                </a:lnTo>
                <a:lnTo>
                  <a:pt x="601" y="549"/>
                </a:lnTo>
                <a:lnTo>
                  <a:pt x="592" y="549"/>
                </a:lnTo>
                <a:lnTo>
                  <a:pt x="592" y="542"/>
                </a:lnTo>
                <a:close/>
                <a:moveTo>
                  <a:pt x="601" y="549"/>
                </a:moveTo>
                <a:lnTo>
                  <a:pt x="601" y="561"/>
                </a:lnTo>
                <a:lnTo>
                  <a:pt x="584" y="561"/>
                </a:lnTo>
                <a:lnTo>
                  <a:pt x="584" y="549"/>
                </a:lnTo>
                <a:lnTo>
                  <a:pt x="601" y="549"/>
                </a:lnTo>
                <a:close/>
                <a:moveTo>
                  <a:pt x="601" y="561"/>
                </a:moveTo>
                <a:lnTo>
                  <a:pt x="601" y="572"/>
                </a:lnTo>
                <a:lnTo>
                  <a:pt x="584" y="572"/>
                </a:lnTo>
                <a:lnTo>
                  <a:pt x="584" y="561"/>
                </a:lnTo>
                <a:lnTo>
                  <a:pt x="601" y="561"/>
                </a:lnTo>
                <a:close/>
                <a:moveTo>
                  <a:pt x="592" y="578"/>
                </a:moveTo>
                <a:lnTo>
                  <a:pt x="584" y="578"/>
                </a:lnTo>
                <a:lnTo>
                  <a:pt x="584" y="572"/>
                </a:lnTo>
                <a:lnTo>
                  <a:pt x="592" y="572"/>
                </a:lnTo>
                <a:lnTo>
                  <a:pt x="592" y="578"/>
                </a:lnTo>
                <a:close/>
                <a:moveTo>
                  <a:pt x="592" y="565"/>
                </a:moveTo>
                <a:lnTo>
                  <a:pt x="599" y="565"/>
                </a:lnTo>
                <a:lnTo>
                  <a:pt x="599" y="578"/>
                </a:lnTo>
                <a:lnTo>
                  <a:pt x="592" y="578"/>
                </a:lnTo>
                <a:lnTo>
                  <a:pt x="592" y="565"/>
                </a:lnTo>
                <a:close/>
                <a:moveTo>
                  <a:pt x="599" y="565"/>
                </a:moveTo>
                <a:lnTo>
                  <a:pt x="607" y="565"/>
                </a:lnTo>
                <a:lnTo>
                  <a:pt x="607" y="572"/>
                </a:lnTo>
                <a:lnTo>
                  <a:pt x="599" y="572"/>
                </a:lnTo>
                <a:lnTo>
                  <a:pt x="599" y="565"/>
                </a:lnTo>
                <a:close/>
                <a:moveTo>
                  <a:pt x="607" y="572"/>
                </a:moveTo>
                <a:lnTo>
                  <a:pt x="607" y="578"/>
                </a:lnTo>
                <a:lnTo>
                  <a:pt x="592" y="578"/>
                </a:lnTo>
                <a:lnTo>
                  <a:pt x="592" y="572"/>
                </a:lnTo>
                <a:lnTo>
                  <a:pt x="607" y="572"/>
                </a:lnTo>
                <a:close/>
                <a:moveTo>
                  <a:pt x="607" y="578"/>
                </a:moveTo>
                <a:lnTo>
                  <a:pt x="607" y="584"/>
                </a:lnTo>
                <a:lnTo>
                  <a:pt x="592" y="584"/>
                </a:lnTo>
                <a:lnTo>
                  <a:pt x="592" y="578"/>
                </a:lnTo>
                <a:lnTo>
                  <a:pt x="607" y="578"/>
                </a:lnTo>
                <a:close/>
                <a:moveTo>
                  <a:pt x="599" y="591"/>
                </a:moveTo>
                <a:lnTo>
                  <a:pt x="592" y="591"/>
                </a:lnTo>
                <a:lnTo>
                  <a:pt x="592" y="584"/>
                </a:lnTo>
                <a:lnTo>
                  <a:pt x="599" y="584"/>
                </a:lnTo>
                <a:lnTo>
                  <a:pt x="599" y="591"/>
                </a:lnTo>
                <a:close/>
                <a:moveTo>
                  <a:pt x="599" y="576"/>
                </a:moveTo>
                <a:lnTo>
                  <a:pt x="605" y="576"/>
                </a:lnTo>
                <a:lnTo>
                  <a:pt x="605" y="591"/>
                </a:lnTo>
                <a:lnTo>
                  <a:pt x="599" y="591"/>
                </a:lnTo>
                <a:lnTo>
                  <a:pt x="599" y="576"/>
                </a:lnTo>
                <a:close/>
                <a:moveTo>
                  <a:pt x="605" y="576"/>
                </a:moveTo>
                <a:lnTo>
                  <a:pt x="615" y="576"/>
                </a:lnTo>
                <a:lnTo>
                  <a:pt x="615" y="584"/>
                </a:lnTo>
                <a:lnTo>
                  <a:pt x="605" y="584"/>
                </a:lnTo>
                <a:lnTo>
                  <a:pt x="605" y="576"/>
                </a:lnTo>
                <a:close/>
                <a:moveTo>
                  <a:pt x="615" y="584"/>
                </a:moveTo>
                <a:lnTo>
                  <a:pt x="615" y="588"/>
                </a:lnTo>
                <a:lnTo>
                  <a:pt x="597" y="588"/>
                </a:lnTo>
                <a:lnTo>
                  <a:pt x="597" y="584"/>
                </a:lnTo>
                <a:lnTo>
                  <a:pt x="615" y="584"/>
                </a:lnTo>
                <a:close/>
                <a:moveTo>
                  <a:pt x="605" y="595"/>
                </a:moveTo>
                <a:lnTo>
                  <a:pt x="597" y="595"/>
                </a:lnTo>
                <a:lnTo>
                  <a:pt x="597" y="588"/>
                </a:lnTo>
                <a:lnTo>
                  <a:pt x="605" y="588"/>
                </a:lnTo>
                <a:lnTo>
                  <a:pt x="605" y="595"/>
                </a:lnTo>
                <a:close/>
                <a:moveTo>
                  <a:pt x="605" y="582"/>
                </a:moveTo>
                <a:lnTo>
                  <a:pt x="626" y="582"/>
                </a:lnTo>
                <a:lnTo>
                  <a:pt x="626" y="595"/>
                </a:lnTo>
                <a:lnTo>
                  <a:pt x="605" y="595"/>
                </a:lnTo>
                <a:lnTo>
                  <a:pt x="605" y="582"/>
                </a:lnTo>
                <a:close/>
                <a:moveTo>
                  <a:pt x="626" y="582"/>
                </a:moveTo>
                <a:lnTo>
                  <a:pt x="634" y="582"/>
                </a:lnTo>
                <a:lnTo>
                  <a:pt x="634" y="588"/>
                </a:lnTo>
                <a:lnTo>
                  <a:pt x="626" y="588"/>
                </a:lnTo>
                <a:lnTo>
                  <a:pt x="626" y="582"/>
                </a:lnTo>
                <a:close/>
                <a:moveTo>
                  <a:pt x="634" y="588"/>
                </a:moveTo>
                <a:lnTo>
                  <a:pt x="634" y="605"/>
                </a:lnTo>
                <a:lnTo>
                  <a:pt x="618" y="605"/>
                </a:lnTo>
                <a:lnTo>
                  <a:pt x="618" y="588"/>
                </a:lnTo>
                <a:lnTo>
                  <a:pt x="634" y="588"/>
                </a:lnTo>
                <a:close/>
                <a:moveTo>
                  <a:pt x="626" y="613"/>
                </a:moveTo>
                <a:lnTo>
                  <a:pt x="618" y="613"/>
                </a:lnTo>
                <a:lnTo>
                  <a:pt x="618" y="605"/>
                </a:lnTo>
                <a:lnTo>
                  <a:pt x="626" y="605"/>
                </a:lnTo>
                <a:lnTo>
                  <a:pt x="626" y="613"/>
                </a:lnTo>
                <a:close/>
                <a:moveTo>
                  <a:pt x="626" y="597"/>
                </a:moveTo>
                <a:lnTo>
                  <a:pt x="632" y="597"/>
                </a:lnTo>
                <a:lnTo>
                  <a:pt x="632" y="613"/>
                </a:lnTo>
                <a:lnTo>
                  <a:pt x="626" y="613"/>
                </a:lnTo>
                <a:lnTo>
                  <a:pt x="626" y="597"/>
                </a:lnTo>
                <a:close/>
                <a:moveTo>
                  <a:pt x="632" y="597"/>
                </a:moveTo>
                <a:lnTo>
                  <a:pt x="640" y="597"/>
                </a:lnTo>
                <a:lnTo>
                  <a:pt x="640" y="605"/>
                </a:lnTo>
                <a:lnTo>
                  <a:pt x="632" y="605"/>
                </a:lnTo>
                <a:lnTo>
                  <a:pt x="632" y="597"/>
                </a:lnTo>
                <a:close/>
                <a:moveTo>
                  <a:pt x="640" y="605"/>
                </a:moveTo>
                <a:lnTo>
                  <a:pt x="640" y="616"/>
                </a:lnTo>
                <a:lnTo>
                  <a:pt x="624" y="616"/>
                </a:lnTo>
                <a:lnTo>
                  <a:pt x="624" y="605"/>
                </a:lnTo>
                <a:lnTo>
                  <a:pt x="640" y="605"/>
                </a:lnTo>
                <a:close/>
                <a:moveTo>
                  <a:pt x="632" y="624"/>
                </a:moveTo>
                <a:lnTo>
                  <a:pt x="624" y="624"/>
                </a:lnTo>
                <a:lnTo>
                  <a:pt x="624" y="616"/>
                </a:lnTo>
                <a:lnTo>
                  <a:pt x="632" y="616"/>
                </a:lnTo>
                <a:lnTo>
                  <a:pt x="632" y="624"/>
                </a:lnTo>
                <a:close/>
                <a:moveTo>
                  <a:pt x="632" y="609"/>
                </a:moveTo>
                <a:lnTo>
                  <a:pt x="638" y="609"/>
                </a:lnTo>
                <a:lnTo>
                  <a:pt x="638" y="624"/>
                </a:lnTo>
                <a:lnTo>
                  <a:pt x="632" y="624"/>
                </a:lnTo>
                <a:lnTo>
                  <a:pt x="632" y="609"/>
                </a:lnTo>
                <a:close/>
                <a:moveTo>
                  <a:pt x="638" y="609"/>
                </a:moveTo>
                <a:lnTo>
                  <a:pt x="645" y="609"/>
                </a:lnTo>
                <a:lnTo>
                  <a:pt x="645" y="616"/>
                </a:lnTo>
                <a:lnTo>
                  <a:pt x="638" y="616"/>
                </a:lnTo>
                <a:lnTo>
                  <a:pt x="638" y="609"/>
                </a:lnTo>
                <a:close/>
                <a:moveTo>
                  <a:pt x="645" y="616"/>
                </a:moveTo>
                <a:lnTo>
                  <a:pt x="645" y="634"/>
                </a:lnTo>
                <a:lnTo>
                  <a:pt x="630" y="634"/>
                </a:lnTo>
                <a:lnTo>
                  <a:pt x="630" y="616"/>
                </a:lnTo>
                <a:lnTo>
                  <a:pt x="645" y="616"/>
                </a:lnTo>
                <a:close/>
                <a:moveTo>
                  <a:pt x="638" y="641"/>
                </a:moveTo>
                <a:lnTo>
                  <a:pt x="630" y="641"/>
                </a:lnTo>
                <a:lnTo>
                  <a:pt x="630" y="634"/>
                </a:lnTo>
                <a:lnTo>
                  <a:pt x="638" y="634"/>
                </a:lnTo>
                <a:lnTo>
                  <a:pt x="638" y="641"/>
                </a:lnTo>
                <a:close/>
                <a:moveTo>
                  <a:pt x="638" y="626"/>
                </a:moveTo>
                <a:lnTo>
                  <a:pt x="645" y="626"/>
                </a:lnTo>
                <a:lnTo>
                  <a:pt x="645" y="641"/>
                </a:lnTo>
                <a:lnTo>
                  <a:pt x="638" y="641"/>
                </a:lnTo>
                <a:lnTo>
                  <a:pt x="638" y="626"/>
                </a:lnTo>
                <a:close/>
                <a:moveTo>
                  <a:pt x="645" y="626"/>
                </a:moveTo>
                <a:lnTo>
                  <a:pt x="653" y="626"/>
                </a:lnTo>
                <a:lnTo>
                  <a:pt x="653" y="634"/>
                </a:lnTo>
                <a:lnTo>
                  <a:pt x="645" y="634"/>
                </a:lnTo>
                <a:lnTo>
                  <a:pt x="645" y="626"/>
                </a:lnTo>
                <a:close/>
                <a:moveTo>
                  <a:pt x="653" y="634"/>
                </a:moveTo>
                <a:lnTo>
                  <a:pt x="653" y="637"/>
                </a:lnTo>
                <a:lnTo>
                  <a:pt x="638" y="637"/>
                </a:lnTo>
                <a:lnTo>
                  <a:pt x="638" y="634"/>
                </a:lnTo>
                <a:lnTo>
                  <a:pt x="653" y="634"/>
                </a:lnTo>
                <a:close/>
                <a:moveTo>
                  <a:pt x="653" y="637"/>
                </a:moveTo>
                <a:lnTo>
                  <a:pt x="653" y="645"/>
                </a:lnTo>
                <a:lnTo>
                  <a:pt x="638" y="645"/>
                </a:lnTo>
                <a:lnTo>
                  <a:pt x="638" y="637"/>
                </a:lnTo>
                <a:lnTo>
                  <a:pt x="653" y="637"/>
                </a:lnTo>
                <a:close/>
                <a:moveTo>
                  <a:pt x="645" y="653"/>
                </a:moveTo>
                <a:lnTo>
                  <a:pt x="638" y="653"/>
                </a:lnTo>
                <a:lnTo>
                  <a:pt x="638" y="645"/>
                </a:lnTo>
                <a:lnTo>
                  <a:pt x="645" y="645"/>
                </a:lnTo>
                <a:lnTo>
                  <a:pt x="645" y="653"/>
                </a:lnTo>
                <a:close/>
                <a:moveTo>
                  <a:pt x="645" y="637"/>
                </a:moveTo>
                <a:lnTo>
                  <a:pt x="651" y="637"/>
                </a:lnTo>
                <a:lnTo>
                  <a:pt x="651" y="653"/>
                </a:lnTo>
                <a:lnTo>
                  <a:pt x="645" y="653"/>
                </a:lnTo>
                <a:lnTo>
                  <a:pt x="645" y="637"/>
                </a:lnTo>
                <a:close/>
                <a:moveTo>
                  <a:pt x="651" y="637"/>
                </a:moveTo>
                <a:lnTo>
                  <a:pt x="659" y="637"/>
                </a:lnTo>
                <a:lnTo>
                  <a:pt x="659" y="645"/>
                </a:lnTo>
                <a:lnTo>
                  <a:pt x="651" y="645"/>
                </a:lnTo>
                <a:lnTo>
                  <a:pt x="651" y="637"/>
                </a:lnTo>
                <a:close/>
                <a:moveTo>
                  <a:pt x="659" y="645"/>
                </a:moveTo>
                <a:lnTo>
                  <a:pt x="659" y="651"/>
                </a:lnTo>
                <a:lnTo>
                  <a:pt x="643" y="651"/>
                </a:lnTo>
                <a:lnTo>
                  <a:pt x="643" y="645"/>
                </a:lnTo>
                <a:lnTo>
                  <a:pt x="659" y="645"/>
                </a:lnTo>
                <a:close/>
                <a:moveTo>
                  <a:pt x="651" y="657"/>
                </a:moveTo>
                <a:lnTo>
                  <a:pt x="643" y="657"/>
                </a:lnTo>
                <a:lnTo>
                  <a:pt x="643" y="651"/>
                </a:lnTo>
                <a:lnTo>
                  <a:pt x="651" y="651"/>
                </a:lnTo>
                <a:lnTo>
                  <a:pt x="651" y="657"/>
                </a:lnTo>
                <a:close/>
                <a:moveTo>
                  <a:pt x="651" y="643"/>
                </a:moveTo>
                <a:lnTo>
                  <a:pt x="659" y="643"/>
                </a:lnTo>
                <a:lnTo>
                  <a:pt x="659" y="657"/>
                </a:lnTo>
                <a:lnTo>
                  <a:pt x="651" y="657"/>
                </a:lnTo>
                <a:lnTo>
                  <a:pt x="651" y="643"/>
                </a:lnTo>
                <a:close/>
                <a:moveTo>
                  <a:pt x="659" y="643"/>
                </a:moveTo>
                <a:lnTo>
                  <a:pt x="666" y="643"/>
                </a:lnTo>
                <a:lnTo>
                  <a:pt x="666" y="651"/>
                </a:lnTo>
                <a:lnTo>
                  <a:pt x="659" y="651"/>
                </a:lnTo>
                <a:lnTo>
                  <a:pt x="659" y="643"/>
                </a:lnTo>
                <a:close/>
                <a:moveTo>
                  <a:pt x="666" y="651"/>
                </a:moveTo>
                <a:lnTo>
                  <a:pt x="666" y="655"/>
                </a:lnTo>
                <a:lnTo>
                  <a:pt x="651" y="655"/>
                </a:lnTo>
                <a:lnTo>
                  <a:pt x="651" y="651"/>
                </a:lnTo>
                <a:lnTo>
                  <a:pt x="666" y="651"/>
                </a:lnTo>
                <a:close/>
                <a:moveTo>
                  <a:pt x="666" y="655"/>
                </a:moveTo>
                <a:lnTo>
                  <a:pt x="666" y="661"/>
                </a:lnTo>
                <a:lnTo>
                  <a:pt x="651" y="661"/>
                </a:lnTo>
                <a:lnTo>
                  <a:pt x="651" y="655"/>
                </a:lnTo>
                <a:lnTo>
                  <a:pt x="666" y="655"/>
                </a:lnTo>
                <a:close/>
                <a:moveTo>
                  <a:pt x="659" y="668"/>
                </a:moveTo>
                <a:lnTo>
                  <a:pt x="651" y="668"/>
                </a:lnTo>
                <a:lnTo>
                  <a:pt x="651" y="661"/>
                </a:lnTo>
                <a:lnTo>
                  <a:pt x="659" y="661"/>
                </a:lnTo>
                <a:lnTo>
                  <a:pt x="659" y="668"/>
                </a:lnTo>
                <a:close/>
                <a:moveTo>
                  <a:pt x="659" y="653"/>
                </a:moveTo>
                <a:lnTo>
                  <a:pt x="665" y="653"/>
                </a:lnTo>
                <a:lnTo>
                  <a:pt x="665" y="668"/>
                </a:lnTo>
                <a:lnTo>
                  <a:pt x="659" y="668"/>
                </a:lnTo>
                <a:lnTo>
                  <a:pt x="659" y="653"/>
                </a:lnTo>
                <a:close/>
                <a:moveTo>
                  <a:pt x="665" y="653"/>
                </a:moveTo>
                <a:lnTo>
                  <a:pt x="672" y="653"/>
                </a:lnTo>
                <a:lnTo>
                  <a:pt x="672" y="661"/>
                </a:lnTo>
                <a:lnTo>
                  <a:pt x="665" y="661"/>
                </a:lnTo>
                <a:lnTo>
                  <a:pt x="665" y="653"/>
                </a:lnTo>
                <a:close/>
                <a:moveTo>
                  <a:pt x="672" y="661"/>
                </a:moveTo>
                <a:lnTo>
                  <a:pt x="672" y="666"/>
                </a:lnTo>
                <a:lnTo>
                  <a:pt x="657" y="666"/>
                </a:lnTo>
                <a:lnTo>
                  <a:pt x="657" y="661"/>
                </a:lnTo>
                <a:lnTo>
                  <a:pt x="672" y="661"/>
                </a:lnTo>
                <a:close/>
                <a:moveTo>
                  <a:pt x="665" y="674"/>
                </a:moveTo>
                <a:lnTo>
                  <a:pt x="657" y="674"/>
                </a:lnTo>
                <a:lnTo>
                  <a:pt x="657" y="666"/>
                </a:lnTo>
                <a:lnTo>
                  <a:pt x="665" y="666"/>
                </a:lnTo>
                <a:lnTo>
                  <a:pt x="665" y="674"/>
                </a:lnTo>
                <a:close/>
                <a:moveTo>
                  <a:pt x="665" y="659"/>
                </a:moveTo>
                <a:lnTo>
                  <a:pt x="672" y="659"/>
                </a:lnTo>
                <a:lnTo>
                  <a:pt x="672" y="674"/>
                </a:lnTo>
                <a:lnTo>
                  <a:pt x="665" y="674"/>
                </a:lnTo>
                <a:lnTo>
                  <a:pt x="665" y="659"/>
                </a:lnTo>
                <a:close/>
                <a:moveTo>
                  <a:pt x="672" y="659"/>
                </a:moveTo>
                <a:lnTo>
                  <a:pt x="680" y="659"/>
                </a:lnTo>
                <a:lnTo>
                  <a:pt x="680" y="666"/>
                </a:lnTo>
                <a:lnTo>
                  <a:pt x="672" y="666"/>
                </a:lnTo>
                <a:lnTo>
                  <a:pt x="672" y="659"/>
                </a:lnTo>
                <a:close/>
                <a:moveTo>
                  <a:pt x="680" y="666"/>
                </a:moveTo>
                <a:lnTo>
                  <a:pt x="680" y="672"/>
                </a:lnTo>
                <a:lnTo>
                  <a:pt x="665" y="672"/>
                </a:lnTo>
                <a:lnTo>
                  <a:pt x="665" y="666"/>
                </a:lnTo>
                <a:lnTo>
                  <a:pt x="680" y="666"/>
                </a:lnTo>
                <a:close/>
                <a:moveTo>
                  <a:pt x="672" y="680"/>
                </a:moveTo>
                <a:lnTo>
                  <a:pt x="665" y="680"/>
                </a:lnTo>
                <a:lnTo>
                  <a:pt x="665" y="672"/>
                </a:lnTo>
                <a:lnTo>
                  <a:pt x="672" y="672"/>
                </a:lnTo>
                <a:lnTo>
                  <a:pt x="672" y="680"/>
                </a:lnTo>
                <a:close/>
                <a:moveTo>
                  <a:pt x="672" y="664"/>
                </a:moveTo>
                <a:lnTo>
                  <a:pt x="678" y="664"/>
                </a:lnTo>
                <a:lnTo>
                  <a:pt x="678" y="680"/>
                </a:lnTo>
                <a:lnTo>
                  <a:pt x="672" y="680"/>
                </a:lnTo>
                <a:lnTo>
                  <a:pt x="672" y="664"/>
                </a:lnTo>
                <a:close/>
                <a:moveTo>
                  <a:pt x="678" y="664"/>
                </a:moveTo>
                <a:lnTo>
                  <a:pt x="686" y="664"/>
                </a:lnTo>
                <a:lnTo>
                  <a:pt x="686" y="672"/>
                </a:lnTo>
                <a:lnTo>
                  <a:pt x="678" y="672"/>
                </a:lnTo>
                <a:lnTo>
                  <a:pt x="678" y="664"/>
                </a:lnTo>
                <a:close/>
                <a:moveTo>
                  <a:pt x="686" y="672"/>
                </a:moveTo>
                <a:lnTo>
                  <a:pt x="686" y="684"/>
                </a:lnTo>
                <a:lnTo>
                  <a:pt x="670" y="684"/>
                </a:lnTo>
                <a:lnTo>
                  <a:pt x="670" y="672"/>
                </a:lnTo>
                <a:lnTo>
                  <a:pt x="686" y="672"/>
                </a:lnTo>
                <a:close/>
                <a:moveTo>
                  <a:pt x="686" y="684"/>
                </a:moveTo>
                <a:lnTo>
                  <a:pt x="686" y="695"/>
                </a:lnTo>
                <a:lnTo>
                  <a:pt x="670" y="695"/>
                </a:lnTo>
                <a:lnTo>
                  <a:pt x="670" y="684"/>
                </a:lnTo>
                <a:lnTo>
                  <a:pt x="686" y="684"/>
                </a:lnTo>
                <a:close/>
                <a:moveTo>
                  <a:pt x="678" y="703"/>
                </a:moveTo>
                <a:lnTo>
                  <a:pt x="670" y="703"/>
                </a:lnTo>
                <a:lnTo>
                  <a:pt x="670" y="695"/>
                </a:lnTo>
                <a:lnTo>
                  <a:pt x="678" y="695"/>
                </a:lnTo>
                <a:lnTo>
                  <a:pt x="678" y="703"/>
                </a:lnTo>
                <a:close/>
                <a:moveTo>
                  <a:pt x="678" y="687"/>
                </a:moveTo>
                <a:lnTo>
                  <a:pt x="697" y="687"/>
                </a:lnTo>
                <a:lnTo>
                  <a:pt x="697" y="703"/>
                </a:lnTo>
                <a:lnTo>
                  <a:pt x="678" y="703"/>
                </a:lnTo>
                <a:lnTo>
                  <a:pt x="678" y="687"/>
                </a:lnTo>
                <a:close/>
                <a:moveTo>
                  <a:pt x="697" y="687"/>
                </a:moveTo>
                <a:lnTo>
                  <a:pt x="705" y="687"/>
                </a:lnTo>
                <a:lnTo>
                  <a:pt x="705" y="695"/>
                </a:lnTo>
                <a:lnTo>
                  <a:pt x="697" y="695"/>
                </a:lnTo>
                <a:lnTo>
                  <a:pt x="697" y="687"/>
                </a:lnTo>
                <a:close/>
                <a:moveTo>
                  <a:pt x="705" y="695"/>
                </a:moveTo>
                <a:lnTo>
                  <a:pt x="705" y="701"/>
                </a:lnTo>
                <a:lnTo>
                  <a:pt x="689" y="701"/>
                </a:lnTo>
                <a:lnTo>
                  <a:pt x="689" y="695"/>
                </a:lnTo>
                <a:lnTo>
                  <a:pt x="705" y="695"/>
                </a:lnTo>
                <a:close/>
                <a:moveTo>
                  <a:pt x="705" y="701"/>
                </a:moveTo>
                <a:lnTo>
                  <a:pt x="705" y="705"/>
                </a:lnTo>
                <a:lnTo>
                  <a:pt x="689" y="705"/>
                </a:lnTo>
                <a:lnTo>
                  <a:pt x="689" y="701"/>
                </a:lnTo>
                <a:lnTo>
                  <a:pt x="705" y="701"/>
                </a:lnTo>
                <a:close/>
                <a:moveTo>
                  <a:pt x="697" y="712"/>
                </a:moveTo>
                <a:lnTo>
                  <a:pt x="689" y="712"/>
                </a:lnTo>
                <a:lnTo>
                  <a:pt x="689" y="705"/>
                </a:lnTo>
                <a:lnTo>
                  <a:pt x="697" y="705"/>
                </a:lnTo>
                <a:lnTo>
                  <a:pt x="697" y="712"/>
                </a:lnTo>
                <a:close/>
                <a:moveTo>
                  <a:pt x="697" y="697"/>
                </a:moveTo>
                <a:lnTo>
                  <a:pt x="705" y="697"/>
                </a:lnTo>
                <a:lnTo>
                  <a:pt x="705" y="712"/>
                </a:lnTo>
                <a:lnTo>
                  <a:pt x="697" y="712"/>
                </a:lnTo>
                <a:lnTo>
                  <a:pt x="697" y="697"/>
                </a:lnTo>
                <a:close/>
                <a:moveTo>
                  <a:pt x="705" y="697"/>
                </a:moveTo>
                <a:lnTo>
                  <a:pt x="712" y="697"/>
                </a:lnTo>
                <a:lnTo>
                  <a:pt x="712" y="705"/>
                </a:lnTo>
                <a:lnTo>
                  <a:pt x="705" y="705"/>
                </a:lnTo>
                <a:lnTo>
                  <a:pt x="705" y="697"/>
                </a:lnTo>
                <a:close/>
                <a:moveTo>
                  <a:pt x="712" y="705"/>
                </a:moveTo>
                <a:lnTo>
                  <a:pt x="712" y="712"/>
                </a:lnTo>
                <a:lnTo>
                  <a:pt x="697" y="712"/>
                </a:lnTo>
                <a:lnTo>
                  <a:pt x="697" y="705"/>
                </a:lnTo>
                <a:lnTo>
                  <a:pt x="712" y="705"/>
                </a:lnTo>
                <a:close/>
                <a:moveTo>
                  <a:pt x="712" y="712"/>
                </a:moveTo>
                <a:lnTo>
                  <a:pt x="712" y="722"/>
                </a:lnTo>
                <a:lnTo>
                  <a:pt x="697" y="722"/>
                </a:lnTo>
                <a:lnTo>
                  <a:pt x="697" y="712"/>
                </a:lnTo>
                <a:lnTo>
                  <a:pt x="712" y="712"/>
                </a:lnTo>
                <a:close/>
                <a:moveTo>
                  <a:pt x="705" y="730"/>
                </a:moveTo>
                <a:lnTo>
                  <a:pt x="697" y="730"/>
                </a:lnTo>
                <a:lnTo>
                  <a:pt x="697" y="722"/>
                </a:lnTo>
                <a:lnTo>
                  <a:pt x="705" y="722"/>
                </a:lnTo>
                <a:lnTo>
                  <a:pt x="705" y="730"/>
                </a:lnTo>
                <a:close/>
                <a:moveTo>
                  <a:pt x="705" y="714"/>
                </a:moveTo>
                <a:lnTo>
                  <a:pt x="711" y="714"/>
                </a:lnTo>
                <a:lnTo>
                  <a:pt x="711" y="730"/>
                </a:lnTo>
                <a:lnTo>
                  <a:pt x="705" y="730"/>
                </a:lnTo>
                <a:lnTo>
                  <a:pt x="705" y="714"/>
                </a:lnTo>
                <a:close/>
                <a:moveTo>
                  <a:pt x="711" y="714"/>
                </a:moveTo>
                <a:lnTo>
                  <a:pt x="718" y="714"/>
                </a:lnTo>
                <a:lnTo>
                  <a:pt x="718" y="722"/>
                </a:lnTo>
                <a:lnTo>
                  <a:pt x="711" y="722"/>
                </a:lnTo>
                <a:lnTo>
                  <a:pt x="711" y="714"/>
                </a:lnTo>
                <a:close/>
                <a:moveTo>
                  <a:pt x="718" y="722"/>
                </a:moveTo>
                <a:lnTo>
                  <a:pt x="718" y="733"/>
                </a:lnTo>
                <a:lnTo>
                  <a:pt x="703" y="733"/>
                </a:lnTo>
                <a:lnTo>
                  <a:pt x="703" y="722"/>
                </a:lnTo>
                <a:lnTo>
                  <a:pt x="718" y="722"/>
                </a:lnTo>
                <a:close/>
                <a:moveTo>
                  <a:pt x="711" y="741"/>
                </a:moveTo>
                <a:lnTo>
                  <a:pt x="703" y="741"/>
                </a:lnTo>
                <a:lnTo>
                  <a:pt x="703" y="733"/>
                </a:lnTo>
                <a:lnTo>
                  <a:pt x="711" y="733"/>
                </a:lnTo>
                <a:lnTo>
                  <a:pt x="711" y="741"/>
                </a:lnTo>
                <a:close/>
                <a:moveTo>
                  <a:pt x="711" y="726"/>
                </a:moveTo>
                <a:lnTo>
                  <a:pt x="718" y="726"/>
                </a:lnTo>
                <a:lnTo>
                  <a:pt x="718" y="741"/>
                </a:lnTo>
                <a:lnTo>
                  <a:pt x="711" y="741"/>
                </a:lnTo>
                <a:lnTo>
                  <a:pt x="711" y="726"/>
                </a:lnTo>
                <a:close/>
                <a:moveTo>
                  <a:pt x="718" y="726"/>
                </a:moveTo>
                <a:lnTo>
                  <a:pt x="726" y="726"/>
                </a:lnTo>
                <a:lnTo>
                  <a:pt x="726" y="733"/>
                </a:lnTo>
                <a:lnTo>
                  <a:pt x="718" y="733"/>
                </a:lnTo>
                <a:lnTo>
                  <a:pt x="718" y="726"/>
                </a:lnTo>
                <a:close/>
                <a:moveTo>
                  <a:pt x="726" y="733"/>
                </a:moveTo>
                <a:lnTo>
                  <a:pt x="726" y="739"/>
                </a:lnTo>
                <a:lnTo>
                  <a:pt x="711" y="739"/>
                </a:lnTo>
                <a:lnTo>
                  <a:pt x="711" y="733"/>
                </a:lnTo>
                <a:lnTo>
                  <a:pt x="726" y="733"/>
                </a:lnTo>
                <a:close/>
                <a:moveTo>
                  <a:pt x="726" y="739"/>
                </a:moveTo>
                <a:lnTo>
                  <a:pt x="726" y="751"/>
                </a:lnTo>
                <a:lnTo>
                  <a:pt x="711" y="751"/>
                </a:lnTo>
                <a:lnTo>
                  <a:pt x="711" y="739"/>
                </a:lnTo>
                <a:lnTo>
                  <a:pt x="726" y="739"/>
                </a:lnTo>
                <a:close/>
                <a:moveTo>
                  <a:pt x="718" y="756"/>
                </a:moveTo>
                <a:lnTo>
                  <a:pt x="711" y="756"/>
                </a:lnTo>
                <a:lnTo>
                  <a:pt x="711" y="751"/>
                </a:lnTo>
                <a:lnTo>
                  <a:pt x="718" y="751"/>
                </a:lnTo>
                <a:lnTo>
                  <a:pt x="718" y="756"/>
                </a:lnTo>
                <a:close/>
                <a:moveTo>
                  <a:pt x="718" y="743"/>
                </a:moveTo>
                <a:lnTo>
                  <a:pt x="724" y="743"/>
                </a:lnTo>
                <a:lnTo>
                  <a:pt x="724" y="756"/>
                </a:lnTo>
                <a:lnTo>
                  <a:pt x="718" y="756"/>
                </a:lnTo>
                <a:lnTo>
                  <a:pt x="718" y="743"/>
                </a:lnTo>
                <a:close/>
                <a:moveTo>
                  <a:pt x="724" y="743"/>
                </a:moveTo>
                <a:lnTo>
                  <a:pt x="732" y="743"/>
                </a:lnTo>
                <a:lnTo>
                  <a:pt x="732" y="751"/>
                </a:lnTo>
                <a:lnTo>
                  <a:pt x="724" y="751"/>
                </a:lnTo>
                <a:lnTo>
                  <a:pt x="724" y="743"/>
                </a:lnTo>
                <a:close/>
                <a:moveTo>
                  <a:pt x="732" y="751"/>
                </a:moveTo>
                <a:lnTo>
                  <a:pt x="732" y="756"/>
                </a:lnTo>
                <a:lnTo>
                  <a:pt x="716" y="756"/>
                </a:lnTo>
                <a:lnTo>
                  <a:pt x="716" y="751"/>
                </a:lnTo>
                <a:lnTo>
                  <a:pt x="732" y="751"/>
                </a:lnTo>
                <a:close/>
                <a:moveTo>
                  <a:pt x="724" y="764"/>
                </a:moveTo>
                <a:lnTo>
                  <a:pt x="716" y="764"/>
                </a:lnTo>
                <a:lnTo>
                  <a:pt x="716" y="756"/>
                </a:lnTo>
                <a:lnTo>
                  <a:pt x="724" y="756"/>
                </a:lnTo>
                <a:lnTo>
                  <a:pt x="724" y="764"/>
                </a:lnTo>
                <a:close/>
                <a:moveTo>
                  <a:pt x="724" y="749"/>
                </a:moveTo>
                <a:lnTo>
                  <a:pt x="730" y="749"/>
                </a:lnTo>
                <a:lnTo>
                  <a:pt x="730" y="764"/>
                </a:lnTo>
                <a:lnTo>
                  <a:pt x="724" y="764"/>
                </a:lnTo>
                <a:lnTo>
                  <a:pt x="724" y="749"/>
                </a:lnTo>
                <a:close/>
                <a:moveTo>
                  <a:pt x="730" y="749"/>
                </a:moveTo>
                <a:lnTo>
                  <a:pt x="737" y="749"/>
                </a:lnTo>
                <a:lnTo>
                  <a:pt x="737" y="756"/>
                </a:lnTo>
                <a:lnTo>
                  <a:pt x="730" y="756"/>
                </a:lnTo>
                <a:lnTo>
                  <a:pt x="730" y="749"/>
                </a:lnTo>
                <a:close/>
                <a:moveTo>
                  <a:pt x="737" y="756"/>
                </a:moveTo>
                <a:lnTo>
                  <a:pt x="737" y="762"/>
                </a:lnTo>
                <a:lnTo>
                  <a:pt x="722" y="762"/>
                </a:lnTo>
                <a:lnTo>
                  <a:pt x="722" y="756"/>
                </a:lnTo>
                <a:lnTo>
                  <a:pt x="737" y="756"/>
                </a:lnTo>
                <a:close/>
                <a:moveTo>
                  <a:pt x="730" y="770"/>
                </a:moveTo>
                <a:lnTo>
                  <a:pt x="722" y="770"/>
                </a:lnTo>
                <a:lnTo>
                  <a:pt x="722" y="762"/>
                </a:lnTo>
                <a:lnTo>
                  <a:pt x="730" y="762"/>
                </a:lnTo>
                <a:lnTo>
                  <a:pt x="730" y="770"/>
                </a:lnTo>
                <a:close/>
                <a:moveTo>
                  <a:pt x="730" y="755"/>
                </a:moveTo>
                <a:lnTo>
                  <a:pt x="737" y="755"/>
                </a:lnTo>
                <a:lnTo>
                  <a:pt x="737" y="770"/>
                </a:lnTo>
                <a:lnTo>
                  <a:pt x="730" y="770"/>
                </a:lnTo>
                <a:lnTo>
                  <a:pt x="730" y="755"/>
                </a:lnTo>
                <a:close/>
                <a:moveTo>
                  <a:pt x="737" y="755"/>
                </a:moveTo>
                <a:lnTo>
                  <a:pt x="745" y="755"/>
                </a:lnTo>
                <a:lnTo>
                  <a:pt x="745" y="762"/>
                </a:lnTo>
                <a:lnTo>
                  <a:pt x="737" y="762"/>
                </a:lnTo>
                <a:lnTo>
                  <a:pt x="737" y="755"/>
                </a:lnTo>
                <a:close/>
                <a:moveTo>
                  <a:pt x="745" y="762"/>
                </a:moveTo>
                <a:lnTo>
                  <a:pt x="745" y="766"/>
                </a:lnTo>
                <a:lnTo>
                  <a:pt x="728" y="766"/>
                </a:lnTo>
                <a:lnTo>
                  <a:pt x="728" y="762"/>
                </a:lnTo>
                <a:lnTo>
                  <a:pt x="745" y="762"/>
                </a:lnTo>
                <a:close/>
                <a:moveTo>
                  <a:pt x="737" y="774"/>
                </a:moveTo>
                <a:lnTo>
                  <a:pt x="728" y="774"/>
                </a:lnTo>
                <a:lnTo>
                  <a:pt x="728" y="766"/>
                </a:lnTo>
                <a:lnTo>
                  <a:pt x="737" y="766"/>
                </a:lnTo>
                <a:lnTo>
                  <a:pt x="737" y="774"/>
                </a:lnTo>
                <a:close/>
                <a:moveTo>
                  <a:pt x="737" y="760"/>
                </a:moveTo>
                <a:lnTo>
                  <a:pt x="751" y="760"/>
                </a:lnTo>
                <a:lnTo>
                  <a:pt x="751" y="774"/>
                </a:lnTo>
                <a:lnTo>
                  <a:pt x="737" y="774"/>
                </a:lnTo>
                <a:lnTo>
                  <a:pt x="737" y="760"/>
                </a:lnTo>
                <a:close/>
                <a:moveTo>
                  <a:pt x="751" y="760"/>
                </a:moveTo>
                <a:lnTo>
                  <a:pt x="759" y="760"/>
                </a:lnTo>
                <a:lnTo>
                  <a:pt x="759" y="766"/>
                </a:lnTo>
                <a:lnTo>
                  <a:pt x="751" y="766"/>
                </a:lnTo>
                <a:lnTo>
                  <a:pt x="751" y="760"/>
                </a:lnTo>
                <a:close/>
                <a:moveTo>
                  <a:pt x="759" y="766"/>
                </a:moveTo>
                <a:lnTo>
                  <a:pt x="759" y="772"/>
                </a:lnTo>
                <a:lnTo>
                  <a:pt x="741" y="772"/>
                </a:lnTo>
                <a:lnTo>
                  <a:pt x="741" y="766"/>
                </a:lnTo>
                <a:lnTo>
                  <a:pt x="759" y="766"/>
                </a:lnTo>
                <a:close/>
                <a:moveTo>
                  <a:pt x="751" y="779"/>
                </a:moveTo>
                <a:lnTo>
                  <a:pt x="741" y="779"/>
                </a:lnTo>
                <a:lnTo>
                  <a:pt x="741" y="772"/>
                </a:lnTo>
                <a:lnTo>
                  <a:pt x="751" y="772"/>
                </a:lnTo>
                <a:lnTo>
                  <a:pt x="751" y="779"/>
                </a:lnTo>
                <a:close/>
                <a:moveTo>
                  <a:pt x="751" y="764"/>
                </a:moveTo>
                <a:lnTo>
                  <a:pt x="757" y="764"/>
                </a:lnTo>
                <a:lnTo>
                  <a:pt x="757" y="779"/>
                </a:lnTo>
                <a:lnTo>
                  <a:pt x="751" y="779"/>
                </a:lnTo>
                <a:lnTo>
                  <a:pt x="751" y="764"/>
                </a:lnTo>
                <a:close/>
                <a:moveTo>
                  <a:pt x="757" y="764"/>
                </a:moveTo>
                <a:lnTo>
                  <a:pt x="764" y="764"/>
                </a:lnTo>
                <a:lnTo>
                  <a:pt x="764" y="772"/>
                </a:lnTo>
                <a:lnTo>
                  <a:pt x="757" y="772"/>
                </a:lnTo>
                <a:lnTo>
                  <a:pt x="757" y="764"/>
                </a:lnTo>
                <a:close/>
                <a:moveTo>
                  <a:pt x="764" y="772"/>
                </a:moveTo>
                <a:lnTo>
                  <a:pt x="764" y="778"/>
                </a:lnTo>
                <a:lnTo>
                  <a:pt x="749" y="778"/>
                </a:lnTo>
                <a:lnTo>
                  <a:pt x="749" y="772"/>
                </a:lnTo>
                <a:lnTo>
                  <a:pt x="764" y="772"/>
                </a:lnTo>
                <a:close/>
                <a:moveTo>
                  <a:pt x="757" y="785"/>
                </a:moveTo>
                <a:lnTo>
                  <a:pt x="749" y="785"/>
                </a:lnTo>
                <a:lnTo>
                  <a:pt x="749" y="778"/>
                </a:lnTo>
                <a:lnTo>
                  <a:pt x="757" y="778"/>
                </a:lnTo>
                <a:lnTo>
                  <a:pt x="757" y="785"/>
                </a:lnTo>
                <a:close/>
                <a:moveTo>
                  <a:pt x="757" y="772"/>
                </a:moveTo>
                <a:lnTo>
                  <a:pt x="764" y="772"/>
                </a:lnTo>
                <a:lnTo>
                  <a:pt x="764" y="785"/>
                </a:lnTo>
                <a:lnTo>
                  <a:pt x="757" y="785"/>
                </a:lnTo>
                <a:lnTo>
                  <a:pt x="757" y="772"/>
                </a:lnTo>
                <a:close/>
                <a:moveTo>
                  <a:pt x="764" y="772"/>
                </a:moveTo>
                <a:lnTo>
                  <a:pt x="772" y="772"/>
                </a:lnTo>
                <a:lnTo>
                  <a:pt x="772" y="778"/>
                </a:lnTo>
                <a:lnTo>
                  <a:pt x="764" y="778"/>
                </a:lnTo>
                <a:lnTo>
                  <a:pt x="764" y="772"/>
                </a:lnTo>
                <a:close/>
                <a:moveTo>
                  <a:pt x="772" y="778"/>
                </a:moveTo>
                <a:lnTo>
                  <a:pt x="772" y="789"/>
                </a:lnTo>
                <a:lnTo>
                  <a:pt x="755" y="789"/>
                </a:lnTo>
                <a:lnTo>
                  <a:pt x="755" y="778"/>
                </a:lnTo>
                <a:lnTo>
                  <a:pt x="772" y="778"/>
                </a:lnTo>
                <a:close/>
                <a:moveTo>
                  <a:pt x="764" y="797"/>
                </a:moveTo>
                <a:lnTo>
                  <a:pt x="755" y="797"/>
                </a:lnTo>
                <a:lnTo>
                  <a:pt x="755" y="789"/>
                </a:lnTo>
                <a:lnTo>
                  <a:pt x="764" y="789"/>
                </a:lnTo>
                <a:lnTo>
                  <a:pt x="764" y="797"/>
                </a:lnTo>
                <a:close/>
                <a:moveTo>
                  <a:pt x="764" y="781"/>
                </a:moveTo>
                <a:lnTo>
                  <a:pt x="776" y="781"/>
                </a:lnTo>
                <a:lnTo>
                  <a:pt x="776" y="797"/>
                </a:lnTo>
                <a:lnTo>
                  <a:pt x="764" y="797"/>
                </a:lnTo>
                <a:lnTo>
                  <a:pt x="764" y="781"/>
                </a:lnTo>
                <a:close/>
                <a:moveTo>
                  <a:pt x="776" y="781"/>
                </a:moveTo>
                <a:lnTo>
                  <a:pt x="783" y="781"/>
                </a:lnTo>
                <a:lnTo>
                  <a:pt x="783" y="789"/>
                </a:lnTo>
                <a:lnTo>
                  <a:pt x="776" y="789"/>
                </a:lnTo>
                <a:lnTo>
                  <a:pt x="776" y="781"/>
                </a:lnTo>
                <a:close/>
                <a:moveTo>
                  <a:pt x="783" y="789"/>
                </a:moveTo>
                <a:lnTo>
                  <a:pt x="783" y="795"/>
                </a:lnTo>
                <a:lnTo>
                  <a:pt x="768" y="795"/>
                </a:lnTo>
                <a:lnTo>
                  <a:pt x="768" y="789"/>
                </a:lnTo>
                <a:lnTo>
                  <a:pt x="783" y="789"/>
                </a:lnTo>
                <a:close/>
                <a:moveTo>
                  <a:pt x="776" y="803"/>
                </a:moveTo>
                <a:lnTo>
                  <a:pt x="768" y="803"/>
                </a:lnTo>
                <a:lnTo>
                  <a:pt x="768" y="795"/>
                </a:lnTo>
                <a:lnTo>
                  <a:pt x="776" y="795"/>
                </a:lnTo>
                <a:lnTo>
                  <a:pt x="776" y="803"/>
                </a:lnTo>
                <a:close/>
                <a:moveTo>
                  <a:pt x="776" y="787"/>
                </a:moveTo>
                <a:lnTo>
                  <a:pt x="789" y="787"/>
                </a:lnTo>
                <a:lnTo>
                  <a:pt x="789" y="803"/>
                </a:lnTo>
                <a:lnTo>
                  <a:pt x="776" y="803"/>
                </a:lnTo>
                <a:lnTo>
                  <a:pt x="776" y="787"/>
                </a:lnTo>
                <a:close/>
                <a:moveTo>
                  <a:pt x="789" y="787"/>
                </a:moveTo>
                <a:lnTo>
                  <a:pt x="797" y="787"/>
                </a:lnTo>
                <a:lnTo>
                  <a:pt x="797" y="795"/>
                </a:lnTo>
                <a:lnTo>
                  <a:pt x="789" y="795"/>
                </a:lnTo>
                <a:lnTo>
                  <a:pt x="789" y="787"/>
                </a:lnTo>
                <a:close/>
                <a:moveTo>
                  <a:pt x="797" y="795"/>
                </a:moveTo>
                <a:lnTo>
                  <a:pt x="797" y="801"/>
                </a:lnTo>
                <a:lnTo>
                  <a:pt x="782" y="801"/>
                </a:lnTo>
                <a:lnTo>
                  <a:pt x="782" y="795"/>
                </a:lnTo>
                <a:lnTo>
                  <a:pt x="797" y="795"/>
                </a:lnTo>
                <a:close/>
                <a:moveTo>
                  <a:pt x="797" y="801"/>
                </a:moveTo>
                <a:lnTo>
                  <a:pt x="797" y="812"/>
                </a:lnTo>
                <a:lnTo>
                  <a:pt x="782" y="812"/>
                </a:lnTo>
                <a:lnTo>
                  <a:pt x="782" y="801"/>
                </a:lnTo>
                <a:lnTo>
                  <a:pt x="797" y="801"/>
                </a:lnTo>
                <a:close/>
                <a:moveTo>
                  <a:pt x="789" y="820"/>
                </a:moveTo>
                <a:lnTo>
                  <a:pt x="782" y="820"/>
                </a:lnTo>
                <a:lnTo>
                  <a:pt x="782" y="812"/>
                </a:lnTo>
                <a:lnTo>
                  <a:pt x="789" y="812"/>
                </a:lnTo>
                <a:lnTo>
                  <a:pt x="789" y="820"/>
                </a:lnTo>
                <a:close/>
                <a:moveTo>
                  <a:pt x="789" y="804"/>
                </a:moveTo>
                <a:lnTo>
                  <a:pt x="797" y="804"/>
                </a:lnTo>
                <a:lnTo>
                  <a:pt x="797" y="820"/>
                </a:lnTo>
                <a:lnTo>
                  <a:pt x="789" y="820"/>
                </a:lnTo>
                <a:lnTo>
                  <a:pt x="789" y="804"/>
                </a:lnTo>
                <a:close/>
                <a:moveTo>
                  <a:pt x="797" y="804"/>
                </a:moveTo>
                <a:lnTo>
                  <a:pt x="805" y="804"/>
                </a:lnTo>
                <a:lnTo>
                  <a:pt x="805" y="812"/>
                </a:lnTo>
                <a:lnTo>
                  <a:pt x="797" y="812"/>
                </a:lnTo>
                <a:lnTo>
                  <a:pt x="797" y="804"/>
                </a:lnTo>
                <a:close/>
                <a:moveTo>
                  <a:pt x="805" y="812"/>
                </a:moveTo>
                <a:lnTo>
                  <a:pt x="805" y="824"/>
                </a:lnTo>
                <a:lnTo>
                  <a:pt x="787" y="824"/>
                </a:lnTo>
                <a:lnTo>
                  <a:pt x="787" y="812"/>
                </a:lnTo>
                <a:lnTo>
                  <a:pt x="805" y="812"/>
                </a:lnTo>
                <a:close/>
                <a:moveTo>
                  <a:pt x="797" y="831"/>
                </a:moveTo>
                <a:lnTo>
                  <a:pt x="787" y="831"/>
                </a:lnTo>
                <a:lnTo>
                  <a:pt x="787" y="824"/>
                </a:lnTo>
                <a:lnTo>
                  <a:pt x="797" y="824"/>
                </a:lnTo>
                <a:lnTo>
                  <a:pt x="797" y="831"/>
                </a:lnTo>
                <a:close/>
                <a:moveTo>
                  <a:pt x="797" y="816"/>
                </a:moveTo>
                <a:lnTo>
                  <a:pt x="803" y="816"/>
                </a:lnTo>
                <a:lnTo>
                  <a:pt x="803" y="831"/>
                </a:lnTo>
                <a:lnTo>
                  <a:pt x="797" y="831"/>
                </a:lnTo>
                <a:lnTo>
                  <a:pt x="797" y="816"/>
                </a:lnTo>
                <a:close/>
                <a:moveTo>
                  <a:pt x="803" y="816"/>
                </a:moveTo>
                <a:lnTo>
                  <a:pt x="810" y="816"/>
                </a:lnTo>
                <a:lnTo>
                  <a:pt x="810" y="824"/>
                </a:lnTo>
                <a:lnTo>
                  <a:pt x="803" y="824"/>
                </a:lnTo>
                <a:lnTo>
                  <a:pt x="803" y="816"/>
                </a:lnTo>
                <a:close/>
                <a:moveTo>
                  <a:pt x="810" y="824"/>
                </a:moveTo>
                <a:lnTo>
                  <a:pt x="810" y="829"/>
                </a:lnTo>
                <a:lnTo>
                  <a:pt x="795" y="829"/>
                </a:lnTo>
                <a:lnTo>
                  <a:pt x="795" y="824"/>
                </a:lnTo>
                <a:lnTo>
                  <a:pt x="810" y="824"/>
                </a:lnTo>
                <a:close/>
                <a:moveTo>
                  <a:pt x="810" y="829"/>
                </a:moveTo>
                <a:lnTo>
                  <a:pt x="810" y="839"/>
                </a:lnTo>
                <a:lnTo>
                  <a:pt x="795" y="839"/>
                </a:lnTo>
                <a:lnTo>
                  <a:pt x="795" y="829"/>
                </a:lnTo>
                <a:lnTo>
                  <a:pt x="810" y="829"/>
                </a:lnTo>
                <a:close/>
                <a:moveTo>
                  <a:pt x="803" y="847"/>
                </a:moveTo>
                <a:lnTo>
                  <a:pt x="795" y="847"/>
                </a:lnTo>
                <a:lnTo>
                  <a:pt x="795" y="839"/>
                </a:lnTo>
                <a:lnTo>
                  <a:pt x="803" y="839"/>
                </a:lnTo>
                <a:lnTo>
                  <a:pt x="803" y="847"/>
                </a:lnTo>
                <a:close/>
                <a:moveTo>
                  <a:pt x="803" y="831"/>
                </a:moveTo>
                <a:lnTo>
                  <a:pt x="810" y="831"/>
                </a:lnTo>
                <a:lnTo>
                  <a:pt x="810" y="847"/>
                </a:lnTo>
                <a:lnTo>
                  <a:pt x="803" y="847"/>
                </a:lnTo>
                <a:lnTo>
                  <a:pt x="803" y="831"/>
                </a:lnTo>
                <a:close/>
                <a:moveTo>
                  <a:pt x="810" y="831"/>
                </a:moveTo>
                <a:lnTo>
                  <a:pt x="818" y="831"/>
                </a:lnTo>
                <a:lnTo>
                  <a:pt x="818" y="839"/>
                </a:lnTo>
                <a:lnTo>
                  <a:pt x="810" y="839"/>
                </a:lnTo>
                <a:lnTo>
                  <a:pt x="810" y="831"/>
                </a:lnTo>
                <a:close/>
                <a:moveTo>
                  <a:pt x="818" y="839"/>
                </a:moveTo>
                <a:lnTo>
                  <a:pt x="818" y="845"/>
                </a:lnTo>
                <a:lnTo>
                  <a:pt x="801" y="845"/>
                </a:lnTo>
                <a:lnTo>
                  <a:pt x="801" y="839"/>
                </a:lnTo>
                <a:lnTo>
                  <a:pt x="818" y="839"/>
                </a:lnTo>
                <a:close/>
                <a:moveTo>
                  <a:pt x="810" y="852"/>
                </a:moveTo>
                <a:lnTo>
                  <a:pt x="801" y="852"/>
                </a:lnTo>
                <a:lnTo>
                  <a:pt x="801" y="845"/>
                </a:lnTo>
                <a:lnTo>
                  <a:pt x="810" y="845"/>
                </a:lnTo>
                <a:lnTo>
                  <a:pt x="810" y="852"/>
                </a:lnTo>
                <a:close/>
                <a:moveTo>
                  <a:pt x="810" y="837"/>
                </a:moveTo>
                <a:lnTo>
                  <a:pt x="822" y="837"/>
                </a:lnTo>
                <a:lnTo>
                  <a:pt x="822" y="852"/>
                </a:lnTo>
                <a:lnTo>
                  <a:pt x="810" y="852"/>
                </a:lnTo>
                <a:lnTo>
                  <a:pt x="810" y="837"/>
                </a:lnTo>
                <a:close/>
                <a:moveTo>
                  <a:pt x="822" y="837"/>
                </a:moveTo>
                <a:lnTo>
                  <a:pt x="830" y="837"/>
                </a:lnTo>
                <a:lnTo>
                  <a:pt x="830" y="845"/>
                </a:lnTo>
                <a:lnTo>
                  <a:pt x="822" y="845"/>
                </a:lnTo>
                <a:lnTo>
                  <a:pt x="822" y="837"/>
                </a:lnTo>
                <a:close/>
                <a:moveTo>
                  <a:pt x="830" y="845"/>
                </a:moveTo>
                <a:lnTo>
                  <a:pt x="830" y="850"/>
                </a:lnTo>
                <a:lnTo>
                  <a:pt x="814" y="850"/>
                </a:lnTo>
                <a:lnTo>
                  <a:pt x="814" y="845"/>
                </a:lnTo>
                <a:lnTo>
                  <a:pt x="830" y="845"/>
                </a:lnTo>
                <a:close/>
                <a:moveTo>
                  <a:pt x="830" y="850"/>
                </a:moveTo>
                <a:lnTo>
                  <a:pt x="830" y="856"/>
                </a:lnTo>
                <a:lnTo>
                  <a:pt x="814" y="856"/>
                </a:lnTo>
                <a:lnTo>
                  <a:pt x="814" y="850"/>
                </a:lnTo>
                <a:lnTo>
                  <a:pt x="830" y="850"/>
                </a:lnTo>
                <a:close/>
                <a:moveTo>
                  <a:pt x="822" y="864"/>
                </a:moveTo>
                <a:lnTo>
                  <a:pt x="814" y="864"/>
                </a:lnTo>
                <a:lnTo>
                  <a:pt x="814" y="856"/>
                </a:lnTo>
                <a:lnTo>
                  <a:pt x="822" y="856"/>
                </a:lnTo>
                <a:lnTo>
                  <a:pt x="822" y="864"/>
                </a:lnTo>
                <a:close/>
                <a:moveTo>
                  <a:pt x="822" y="849"/>
                </a:moveTo>
                <a:lnTo>
                  <a:pt x="830" y="849"/>
                </a:lnTo>
                <a:lnTo>
                  <a:pt x="830" y="864"/>
                </a:lnTo>
                <a:lnTo>
                  <a:pt x="822" y="864"/>
                </a:lnTo>
                <a:lnTo>
                  <a:pt x="822" y="849"/>
                </a:lnTo>
                <a:close/>
                <a:moveTo>
                  <a:pt x="830" y="849"/>
                </a:moveTo>
                <a:lnTo>
                  <a:pt x="837" y="849"/>
                </a:lnTo>
                <a:lnTo>
                  <a:pt x="837" y="856"/>
                </a:lnTo>
                <a:lnTo>
                  <a:pt x="830" y="856"/>
                </a:lnTo>
                <a:lnTo>
                  <a:pt x="830" y="849"/>
                </a:lnTo>
                <a:close/>
                <a:moveTo>
                  <a:pt x="837" y="856"/>
                </a:moveTo>
                <a:lnTo>
                  <a:pt x="837" y="862"/>
                </a:lnTo>
                <a:lnTo>
                  <a:pt x="820" y="862"/>
                </a:lnTo>
                <a:lnTo>
                  <a:pt x="820" y="856"/>
                </a:lnTo>
                <a:lnTo>
                  <a:pt x="837" y="856"/>
                </a:lnTo>
                <a:close/>
                <a:moveTo>
                  <a:pt x="830" y="870"/>
                </a:moveTo>
                <a:lnTo>
                  <a:pt x="820" y="870"/>
                </a:lnTo>
                <a:lnTo>
                  <a:pt x="820" y="862"/>
                </a:lnTo>
                <a:lnTo>
                  <a:pt x="830" y="862"/>
                </a:lnTo>
                <a:lnTo>
                  <a:pt x="830" y="870"/>
                </a:lnTo>
                <a:close/>
                <a:moveTo>
                  <a:pt x="830" y="854"/>
                </a:moveTo>
                <a:lnTo>
                  <a:pt x="835" y="854"/>
                </a:lnTo>
                <a:lnTo>
                  <a:pt x="835" y="870"/>
                </a:lnTo>
                <a:lnTo>
                  <a:pt x="830" y="870"/>
                </a:lnTo>
                <a:lnTo>
                  <a:pt x="830" y="854"/>
                </a:lnTo>
                <a:close/>
                <a:moveTo>
                  <a:pt x="835" y="854"/>
                </a:moveTo>
                <a:lnTo>
                  <a:pt x="843" y="854"/>
                </a:lnTo>
                <a:lnTo>
                  <a:pt x="843" y="862"/>
                </a:lnTo>
                <a:lnTo>
                  <a:pt x="835" y="862"/>
                </a:lnTo>
                <a:lnTo>
                  <a:pt x="835" y="854"/>
                </a:lnTo>
                <a:close/>
                <a:moveTo>
                  <a:pt x="843" y="862"/>
                </a:moveTo>
                <a:lnTo>
                  <a:pt x="843" y="868"/>
                </a:lnTo>
                <a:lnTo>
                  <a:pt x="828" y="868"/>
                </a:lnTo>
                <a:lnTo>
                  <a:pt x="828" y="862"/>
                </a:lnTo>
                <a:lnTo>
                  <a:pt x="843" y="862"/>
                </a:lnTo>
                <a:close/>
                <a:moveTo>
                  <a:pt x="843" y="868"/>
                </a:moveTo>
                <a:lnTo>
                  <a:pt x="843" y="874"/>
                </a:lnTo>
                <a:lnTo>
                  <a:pt x="828" y="874"/>
                </a:lnTo>
                <a:lnTo>
                  <a:pt x="828" y="868"/>
                </a:lnTo>
                <a:lnTo>
                  <a:pt x="843" y="868"/>
                </a:lnTo>
                <a:close/>
                <a:moveTo>
                  <a:pt x="835" y="881"/>
                </a:moveTo>
                <a:lnTo>
                  <a:pt x="828" y="881"/>
                </a:lnTo>
                <a:lnTo>
                  <a:pt x="828" y="874"/>
                </a:lnTo>
                <a:lnTo>
                  <a:pt x="835" y="874"/>
                </a:lnTo>
                <a:lnTo>
                  <a:pt x="835" y="881"/>
                </a:lnTo>
                <a:close/>
                <a:moveTo>
                  <a:pt x="835" y="866"/>
                </a:moveTo>
                <a:lnTo>
                  <a:pt x="843" y="866"/>
                </a:lnTo>
                <a:lnTo>
                  <a:pt x="843" y="881"/>
                </a:lnTo>
                <a:lnTo>
                  <a:pt x="835" y="881"/>
                </a:lnTo>
                <a:lnTo>
                  <a:pt x="835" y="866"/>
                </a:lnTo>
                <a:close/>
                <a:moveTo>
                  <a:pt x="843" y="866"/>
                </a:moveTo>
                <a:lnTo>
                  <a:pt x="851" y="866"/>
                </a:lnTo>
                <a:lnTo>
                  <a:pt x="851" y="874"/>
                </a:lnTo>
                <a:lnTo>
                  <a:pt x="843" y="874"/>
                </a:lnTo>
                <a:lnTo>
                  <a:pt x="843" y="866"/>
                </a:lnTo>
                <a:close/>
                <a:moveTo>
                  <a:pt x="851" y="874"/>
                </a:moveTo>
                <a:lnTo>
                  <a:pt x="851" y="883"/>
                </a:lnTo>
                <a:lnTo>
                  <a:pt x="833" y="883"/>
                </a:lnTo>
                <a:lnTo>
                  <a:pt x="833" y="874"/>
                </a:lnTo>
                <a:lnTo>
                  <a:pt x="851" y="874"/>
                </a:lnTo>
                <a:close/>
                <a:moveTo>
                  <a:pt x="851" y="883"/>
                </a:moveTo>
                <a:lnTo>
                  <a:pt x="851" y="891"/>
                </a:lnTo>
                <a:lnTo>
                  <a:pt x="833" y="891"/>
                </a:lnTo>
                <a:lnTo>
                  <a:pt x="833" y="883"/>
                </a:lnTo>
                <a:lnTo>
                  <a:pt x="851" y="883"/>
                </a:lnTo>
                <a:close/>
                <a:moveTo>
                  <a:pt x="843" y="897"/>
                </a:moveTo>
                <a:lnTo>
                  <a:pt x="833" y="897"/>
                </a:lnTo>
                <a:lnTo>
                  <a:pt x="833" y="891"/>
                </a:lnTo>
                <a:lnTo>
                  <a:pt x="843" y="891"/>
                </a:lnTo>
                <a:lnTo>
                  <a:pt x="843" y="897"/>
                </a:lnTo>
                <a:close/>
                <a:moveTo>
                  <a:pt x="843" y="883"/>
                </a:moveTo>
                <a:lnTo>
                  <a:pt x="855" y="883"/>
                </a:lnTo>
                <a:lnTo>
                  <a:pt x="855" y="897"/>
                </a:lnTo>
                <a:lnTo>
                  <a:pt x="843" y="897"/>
                </a:lnTo>
                <a:lnTo>
                  <a:pt x="843" y="883"/>
                </a:lnTo>
                <a:close/>
                <a:moveTo>
                  <a:pt x="855" y="883"/>
                </a:moveTo>
                <a:lnTo>
                  <a:pt x="864" y="883"/>
                </a:lnTo>
                <a:lnTo>
                  <a:pt x="864" y="891"/>
                </a:lnTo>
                <a:lnTo>
                  <a:pt x="855" y="891"/>
                </a:lnTo>
                <a:lnTo>
                  <a:pt x="855" y="883"/>
                </a:lnTo>
                <a:close/>
                <a:moveTo>
                  <a:pt x="864" y="891"/>
                </a:moveTo>
                <a:lnTo>
                  <a:pt x="864" y="900"/>
                </a:lnTo>
                <a:lnTo>
                  <a:pt x="847" y="900"/>
                </a:lnTo>
                <a:lnTo>
                  <a:pt x="847" y="891"/>
                </a:lnTo>
                <a:lnTo>
                  <a:pt x="864" y="891"/>
                </a:lnTo>
                <a:close/>
                <a:moveTo>
                  <a:pt x="855" y="908"/>
                </a:moveTo>
                <a:lnTo>
                  <a:pt x="847" y="908"/>
                </a:lnTo>
                <a:lnTo>
                  <a:pt x="847" y="900"/>
                </a:lnTo>
                <a:lnTo>
                  <a:pt x="855" y="900"/>
                </a:lnTo>
                <a:lnTo>
                  <a:pt x="855" y="908"/>
                </a:lnTo>
                <a:close/>
                <a:moveTo>
                  <a:pt x="855" y="893"/>
                </a:moveTo>
                <a:lnTo>
                  <a:pt x="862" y="893"/>
                </a:lnTo>
                <a:lnTo>
                  <a:pt x="862" y="908"/>
                </a:lnTo>
                <a:lnTo>
                  <a:pt x="855" y="908"/>
                </a:lnTo>
                <a:lnTo>
                  <a:pt x="855" y="893"/>
                </a:lnTo>
                <a:close/>
                <a:moveTo>
                  <a:pt x="862" y="893"/>
                </a:moveTo>
                <a:lnTo>
                  <a:pt x="870" y="893"/>
                </a:lnTo>
                <a:lnTo>
                  <a:pt x="870" y="900"/>
                </a:lnTo>
                <a:lnTo>
                  <a:pt x="862" y="900"/>
                </a:lnTo>
                <a:lnTo>
                  <a:pt x="862" y="893"/>
                </a:lnTo>
                <a:close/>
                <a:moveTo>
                  <a:pt x="870" y="900"/>
                </a:moveTo>
                <a:lnTo>
                  <a:pt x="870" y="906"/>
                </a:lnTo>
                <a:lnTo>
                  <a:pt x="855" y="906"/>
                </a:lnTo>
                <a:lnTo>
                  <a:pt x="855" y="900"/>
                </a:lnTo>
                <a:lnTo>
                  <a:pt x="870" y="900"/>
                </a:lnTo>
                <a:close/>
                <a:moveTo>
                  <a:pt x="862" y="914"/>
                </a:moveTo>
                <a:lnTo>
                  <a:pt x="855" y="914"/>
                </a:lnTo>
                <a:lnTo>
                  <a:pt x="855" y="906"/>
                </a:lnTo>
                <a:lnTo>
                  <a:pt x="862" y="906"/>
                </a:lnTo>
                <a:lnTo>
                  <a:pt x="862" y="914"/>
                </a:lnTo>
                <a:close/>
                <a:moveTo>
                  <a:pt x="862" y="898"/>
                </a:moveTo>
                <a:lnTo>
                  <a:pt x="868" y="898"/>
                </a:lnTo>
                <a:lnTo>
                  <a:pt x="868" y="914"/>
                </a:lnTo>
                <a:lnTo>
                  <a:pt x="862" y="914"/>
                </a:lnTo>
                <a:lnTo>
                  <a:pt x="862" y="898"/>
                </a:lnTo>
                <a:close/>
                <a:moveTo>
                  <a:pt x="868" y="898"/>
                </a:moveTo>
                <a:lnTo>
                  <a:pt x="876" y="898"/>
                </a:lnTo>
                <a:lnTo>
                  <a:pt x="876" y="906"/>
                </a:lnTo>
                <a:lnTo>
                  <a:pt x="868" y="906"/>
                </a:lnTo>
                <a:lnTo>
                  <a:pt x="868" y="898"/>
                </a:lnTo>
                <a:close/>
                <a:moveTo>
                  <a:pt x="876" y="906"/>
                </a:moveTo>
                <a:lnTo>
                  <a:pt x="876" y="912"/>
                </a:lnTo>
                <a:lnTo>
                  <a:pt x="860" y="912"/>
                </a:lnTo>
                <a:lnTo>
                  <a:pt x="860" y="906"/>
                </a:lnTo>
                <a:lnTo>
                  <a:pt x="876" y="906"/>
                </a:lnTo>
                <a:close/>
                <a:moveTo>
                  <a:pt x="868" y="920"/>
                </a:moveTo>
                <a:lnTo>
                  <a:pt x="860" y="920"/>
                </a:lnTo>
                <a:lnTo>
                  <a:pt x="860" y="912"/>
                </a:lnTo>
                <a:lnTo>
                  <a:pt x="868" y="912"/>
                </a:lnTo>
                <a:lnTo>
                  <a:pt x="868" y="920"/>
                </a:lnTo>
                <a:close/>
                <a:moveTo>
                  <a:pt x="868" y="904"/>
                </a:moveTo>
                <a:lnTo>
                  <a:pt x="874" y="904"/>
                </a:lnTo>
                <a:lnTo>
                  <a:pt x="874" y="920"/>
                </a:lnTo>
                <a:lnTo>
                  <a:pt x="868" y="920"/>
                </a:lnTo>
                <a:lnTo>
                  <a:pt x="868" y="904"/>
                </a:lnTo>
                <a:close/>
                <a:moveTo>
                  <a:pt x="874" y="904"/>
                </a:moveTo>
                <a:lnTo>
                  <a:pt x="883" y="904"/>
                </a:lnTo>
                <a:lnTo>
                  <a:pt x="883" y="912"/>
                </a:lnTo>
                <a:lnTo>
                  <a:pt x="874" y="912"/>
                </a:lnTo>
                <a:lnTo>
                  <a:pt x="874" y="904"/>
                </a:lnTo>
                <a:close/>
                <a:moveTo>
                  <a:pt x="883" y="912"/>
                </a:moveTo>
                <a:lnTo>
                  <a:pt x="883" y="923"/>
                </a:lnTo>
                <a:lnTo>
                  <a:pt x="866" y="923"/>
                </a:lnTo>
                <a:lnTo>
                  <a:pt x="866" y="912"/>
                </a:lnTo>
                <a:lnTo>
                  <a:pt x="883" y="912"/>
                </a:lnTo>
                <a:close/>
                <a:moveTo>
                  <a:pt x="874" y="931"/>
                </a:moveTo>
                <a:lnTo>
                  <a:pt x="866" y="931"/>
                </a:lnTo>
                <a:lnTo>
                  <a:pt x="866" y="923"/>
                </a:lnTo>
                <a:lnTo>
                  <a:pt x="874" y="923"/>
                </a:lnTo>
                <a:lnTo>
                  <a:pt x="874" y="931"/>
                </a:lnTo>
                <a:close/>
                <a:moveTo>
                  <a:pt x="874" y="916"/>
                </a:moveTo>
                <a:lnTo>
                  <a:pt x="887" y="916"/>
                </a:lnTo>
                <a:lnTo>
                  <a:pt x="887" y="931"/>
                </a:lnTo>
                <a:lnTo>
                  <a:pt x="874" y="931"/>
                </a:lnTo>
                <a:lnTo>
                  <a:pt x="874" y="916"/>
                </a:lnTo>
                <a:close/>
                <a:moveTo>
                  <a:pt x="887" y="916"/>
                </a:moveTo>
                <a:lnTo>
                  <a:pt x="897" y="916"/>
                </a:lnTo>
                <a:lnTo>
                  <a:pt x="897" y="923"/>
                </a:lnTo>
                <a:lnTo>
                  <a:pt x="887" y="923"/>
                </a:lnTo>
                <a:lnTo>
                  <a:pt x="887" y="916"/>
                </a:lnTo>
                <a:close/>
                <a:moveTo>
                  <a:pt x="897" y="923"/>
                </a:moveTo>
                <a:lnTo>
                  <a:pt x="897" y="935"/>
                </a:lnTo>
                <a:lnTo>
                  <a:pt x="879" y="935"/>
                </a:lnTo>
                <a:lnTo>
                  <a:pt x="879" y="923"/>
                </a:lnTo>
                <a:lnTo>
                  <a:pt x="897" y="923"/>
                </a:lnTo>
                <a:close/>
                <a:moveTo>
                  <a:pt x="887" y="943"/>
                </a:moveTo>
                <a:lnTo>
                  <a:pt x="879" y="943"/>
                </a:lnTo>
                <a:lnTo>
                  <a:pt x="879" y="935"/>
                </a:lnTo>
                <a:lnTo>
                  <a:pt x="887" y="935"/>
                </a:lnTo>
                <a:lnTo>
                  <a:pt x="887" y="943"/>
                </a:lnTo>
                <a:close/>
                <a:moveTo>
                  <a:pt x="887" y="927"/>
                </a:moveTo>
                <a:lnTo>
                  <a:pt x="901" y="927"/>
                </a:lnTo>
                <a:lnTo>
                  <a:pt x="901" y="943"/>
                </a:lnTo>
                <a:lnTo>
                  <a:pt x="887" y="943"/>
                </a:lnTo>
                <a:lnTo>
                  <a:pt x="887" y="927"/>
                </a:lnTo>
                <a:close/>
                <a:moveTo>
                  <a:pt x="901" y="927"/>
                </a:moveTo>
                <a:lnTo>
                  <a:pt x="910" y="927"/>
                </a:lnTo>
                <a:lnTo>
                  <a:pt x="910" y="935"/>
                </a:lnTo>
                <a:lnTo>
                  <a:pt x="901" y="935"/>
                </a:lnTo>
                <a:lnTo>
                  <a:pt x="901" y="927"/>
                </a:lnTo>
                <a:close/>
                <a:moveTo>
                  <a:pt x="910" y="935"/>
                </a:moveTo>
                <a:lnTo>
                  <a:pt x="910" y="941"/>
                </a:lnTo>
                <a:lnTo>
                  <a:pt x="893" y="941"/>
                </a:lnTo>
                <a:lnTo>
                  <a:pt x="893" y="935"/>
                </a:lnTo>
                <a:lnTo>
                  <a:pt x="910" y="935"/>
                </a:lnTo>
                <a:close/>
                <a:moveTo>
                  <a:pt x="901" y="948"/>
                </a:moveTo>
                <a:lnTo>
                  <a:pt x="893" y="948"/>
                </a:lnTo>
                <a:lnTo>
                  <a:pt x="893" y="941"/>
                </a:lnTo>
                <a:lnTo>
                  <a:pt x="901" y="941"/>
                </a:lnTo>
                <a:lnTo>
                  <a:pt x="901" y="948"/>
                </a:lnTo>
                <a:close/>
                <a:moveTo>
                  <a:pt x="901" y="933"/>
                </a:moveTo>
                <a:lnTo>
                  <a:pt x="908" y="933"/>
                </a:lnTo>
                <a:lnTo>
                  <a:pt x="908" y="948"/>
                </a:lnTo>
                <a:lnTo>
                  <a:pt x="901" y="948"/>
                </a:lnTo>
                <a:lnTo>
                  <a:pt x="901" y="933"/>
                </a:lnTo>
                <a:close/>
                <a:moveTo>
                  <a:pt x="908" y="933"/>
                </a:moveTo>
                <a:lnTo>
                  <a:pt x="916" y="933"/>
                </a:lnTo>
                <a:lnTo>
                  <a:pt x="916" y="941"/>
                </a:lnTo>
                <a:lnTo>
                  <a:pt x="908" y="941"/>
                </a:lnTo>
                <a:lnTo>
                  <a:pt x="908" y="933"/>
                </a:lnTo>
                <a:close/>
                <a:moveTo>
                  <a:pt x="916" y="941"/>
                </a:moveTo>
                <a:lnTo>
                  <a:pt x="916" y="945"/>
                </a:lnTo>
                <a:lnTo>
                  <a:pt x="901" y="945"/>
                </a:lnTo>
                <a:lnTo>
                  <a:pt x="901" y="941"/>
                </a:lnTo>
                <a:lnTo>
                  <a:pt x="916" y="941"/>
                </a:lnTo>
                <a:close/>
                <a:moveTo>
                  <a:pt x="908" y="952"/>
                </a:moveTo>
                <a:lnTo>
                  <a:pt x="901" y="952"/>
                </a:lnTo>
                <a:lnTo>
                  <a:pt x="901" y="945"/>
                </a:lnTo>
                <a:lnTo>
                  <a:pt x="908" y="945"/>
                </a:lnTo>
                <a:lnTo>
                  <a:pt x="908" y="952"/>
                </a:lnTo>
                <a:close/>
                <a:moveTo>
                  <a:pt x="908" y="939"/>
                </a:moveTo>
                <a:lnTo>
                  <a:pt x="914" y="939"/>
                </a:lnTo>
                <a:lnTo>
                  <a:pt x="914" y="952"/>
                </a:lnTo>
                <a:lnTo>
                  <a:pt x="908" y="952"/>
                </a:lnTo>
                <a:lnTo>
                  <a:pt x="908" y="939"/>
                </a:lnTo>
                <a:close/>
                <a:moveTo>
                  <a:pt x="914" y="939"/>
                </a:moveTo>
                <a:lnTo>
                  <a:pt x="924" y="939"/>
                </a:lnTo>
                <a:lnTo>
                  <a:pt x="924" y="945"/>
                </a:lnTo>
                <a:lnTo>
                  <a:pt x="914" y="945"/>
                </a:lnTo>
                <a:lnTo>
                  <a:pt x="914" y="939"/>
                </a:lnTo>
                <a:close/>
                <a:moveTo>
                  <a:pt x="924" y="945"/>
                </a:moveTo>
                <a:lnTo>
                  <a:pt x="924" y="956"/>
                </a:lnTo>
                <a:lnTo>
                  <a:pt x="906" y="956"/>
                </a:lnTo>
                <a:lnTo>
                  <a:pt x="906" y="945"/>
                </a:lnTo>
                <a:lnTo>
                  <a:pt x="924" y="945"/>
                </a:lnTo>
                <a:close/>
                <a:moveTo>
                  <a:pt x="924" y="956"/>
                </a:moveTo>
                <a:lnTo>
                  <a:pt x="924" y="962"/>
                </a:lnTo>
                <a:lnTo>
                  <a:pt x="906" y="962"/>
                </a:lnTo>
                <a:lnTo>
                  <a:pt x="906" y="956"/>
                </a:lnTo>
                <a:lnTo>
                  <a:pt x="924" y="956"/>
                </a:lnTo>
                <a:close/>
                <a:moveTo>
                  <a:pt x="914" y="969"/>
                </a:moveTo>
                <a:lnTo>
                  <a:pt x="906" y="969"/>
                </a:lnTo>
                <a:lnTo>
                  <a:pt x="906" y="962"/>
                </a:lnTo>
                <a:lnTo>
                  <a:pt x="914" y="962"/>
                </a:lnTo>
                <a:lnTo>
                  <a:pt x="914" y="969"/>
                </a:lnTo>
                <a:close/>
                <a:moveTo>
                  <a:pt x="914" y="954"/>
                </a:moveTo>
                <a:lnTo>
                  <a:pt x="941" y="954"/>
                </a:lnTo>
                <a:lnTo>
                  <a:pt x="941" y="969"/>
                </a:lnTo>
                <a:lnTo>
                  <a:pt x="914" y="969"/>
                </a:lnTo>
                <a:lnTo>
                  <a:pt x="914" y="954"/>
                </a:lnTo>
                <a:close/>
                <a:moveTo>
                  <a:pt x="941" y="954"/>
                </a:moveTo>
                <a:lnTo>
                  <a:pt x="949" y="954"/>
                </a:lnTo>
                <a:lnTo>
                  <a:pt x="949" y="962"/>
                </a:lnTo>
                <a:lnTo>
                  <a:pt x="941" y="962"/>
                </a:lnTo>
                <a:lnTo>
                  <a:pt x="941" y="954"/>
                </a:lnTo>
                <a:close/>
                <a:moveTo>
                  <a:pt x="949" y="962"/>
                </a:moveTo>
                <a:lnTo>
                  <a:pt x="949" y="968"/>
                </a:lnTo>
                <a:lnTo>
                  <a:pt x="933" y="968"/>
                </a:lnTo>
                <a:lnTo>
                  <a:pt x="933" y="962"/>
                </a:lnTo>
                <a:lnTo>
                  <a:pt x="949" y="962"/>
                </a:lnTo>
                <a:close/>
                <a:moveTo>
                  <a:pt x="949" y="968"/>
                </a:moveTo>
                <a:lnTo>
                  <a:pt x="949" y="973"/>
                </a:lnTo>
                <a:lnTo>
                  <a:pt x="933" y="973"/>
                </a:lnTo>
                <a:lnTo>
                  <a:pt x="933" y="968"/>
                </a:lnTo>
                <a:lnTo>
                  <a:pt x="949" y="968"/>
                </a:lnTo>
                <a:close/>
                <a:moveTo>
                  <a:pt x="941" y="981"/>
                </a:moveTo>
                <a:lnTo>
                  <a:pt x="933" y="981"/>
                </a:lnTo>
                <a:lnTo>
                  <a:pt x="933" y="973"/>
                </a:lnTo>
                <a:lnTo>
                  <a:pt x="941" y="973"/>
                </a:lnTo>
                <a:lnTo>
                  <a:pt x="941" y="981"/>
                </a:lnTo>
                <a:close/>
                <a:moveTo>
                  <a:pt x="941" y="966"/>
                </a:moveTo>
                <a:lnTo>
                  <a:pt x="947" y="966"/>
                </a:lnTo>
                <a:lnTo>
                  <a:pt x="947" y="981"/>
                </a:lnTo>
                <a:lnTo>
                  <a:pt x="941" y="981"/>
                </a:lnTo>
                <a:lnTo>
                  <a:pt x="941" y="966"/>
                </a:lnTo>
                <a:close/>
                <a:moveTo>
                  <a:pt x="947" y="966"/>
                </a:moveTo>
                <a:lnTo>
                  <a:pt x="956" y="966"/>
                </a:lnTo>
                <a:lnTo>
                  <a:pt x="956" y="973"/>
                </a:lnTo>
                <a:lnTo>
                  <a:pt x="947" y="973"/>
                </a:lnTo>
                <a:lnTo>
                  <a:pt x="947" y="966"/>
                </a:lnTo>
                <a:close/>
                <a:moveTo>
                  <a:pt x="956" y="973"/>
                </a:moveTo>
                <a:lnTo>
                  <a:pt x="956" y="979"/>
                </a:lnTo>
                <a:lnTo>
                  <a:pt x="939" y="979"/>
                </a:lnTo>
                <a:lnTo>
                  <a:pt x="939" y="973"/>
                </a:lnTo>
                <a:lnTo>
                  <a:pt x="956" y="973"/>
                </a:lnTo>
                <a:close/>
                <a:moveTo>
                  <a:pt x="947" y="987"/>
                </a:moveTo>
                <a:lnTo>
                  <a:pt x="939" y="987"/>
                </a:lnTo>
                <a:lnTo>
                  <a:pt x="939" y="979"/>
                </a:lnTo>
                <a:lnTo>
                  <a:pt x="947" y="979"/>
                </a:lnTo>
                <a:lnTo>
                  <a:pt x="947" y="987"/>
                </a:lnTo>
                <a:close/>
                <a:moveTo>
                  <a:pt x="947" y="971"/>
                </a:moveTo>
                <a:lnTo>
                  <a:pt x="954" y="971"/>
                </a:lnTo>
                <a:lnTo>
                  <a:pt x="954" y="987"/>
                </a:lnTo>
                <a:lnTo>
                  <a:pt x="947" y="987"/>
                </a:lnTo>
                <a:lnTo>
                  <a:pt x="947" y="971"/>
                </a:lnTo>
                <a:close/>
                <a:moveTo>
                  <a:pt x="954" y="971"/>
                </a:moveTo>
                <a:lnTo>
                  <a:pt x="962" y="971"/>
                </a:lnTo>
                <a:lnTo>
                  <a:pt x="962" y="979"/>
                </a:lnTo>
                <a:lnTo>
                  <a:pt x="954" y="979"/>
                </a:lnTo>
                <a:lnTo>
                  <a:pt x="954" y="971"/>
                </a:lnTo>
                <a:close/>
                <a:moveTo>
                  <a:pt x="962" y="979"/>
                </a:moveTo>
                <a:lnTo>
                  <a:pt x="962" y="991"/>
                </a:lnTo>
                <a:lnTo>
                  <a:pt x="947" y="991"/>
                </a:lnTo>
                <a:lnTo>
                  <a:pt x="947" y="979"/>
                </a:lnTo>
                <a:lnTo>
                  <a:pt x="962" y="979"/>
                </a:lnTo>
                <a:close/>
                <a:moveTo>
                  <a:pt x="962" y="991"/>
                </a:moveTo>
                <a:lnTo>
                  <a:pt x="962" y="1002"/>
                </a:lnTo>
                <a:lnTo>
                  <a:pt x="947" y="1002"/>
                </a:lnTo>
                <a:lnTo>
                  <a:pt x="947" y="991"/>
                </a:lnTo>
                <a:lnTo>
                  <a:pt x="962" y="991"/>
                </a:lnTo>
                <a:close/>
                <a:moveTo>
                  <a:pt x="954" y="1010"/>
                </a:moveTo>
                <a:lnTo>
                  <a:pt x="947" y="1010"/>
                </a:lnTo>
                <a:lnTo>
                  <a:pt x="947" y="1002"/>
                </a:lnTo>
                <a:lnTo>
                  <a:pt x="954" y="1002"/>
                </a:lnTo>
                <a:lnTo>
                  <a:pt x="954" y="1010"/>
                </a:lnTo>
                <a:close/>
                <a:moveTo>
                  <a:pt x="954" y="994"/>
                </a:moveTo>
                <a:lnTo>
                  <a:pt x="960" y="994"/>
                </a:lnTo>
                <a:lnTo>
                  <a:pt x="960" y="1010"/>
                </a:lnTo>
                <a:lnTo>
                  <a:pt x="954" y="1010"/>
                </a:lnTo>
                <a:lnTo>
                  <a:pt x="954" y="994"/>
                </a:lnTo>
                <a:close/>
                <a:moveTo>
                  <a:pt x="960" y="994"/>
                </a:moveTo>
                <a:lnTo>
                  <a:pt x="970" y="994"/>
                </a:lnTo>
                <a:lnTo>
                  <a:pt x="970" y="1002"/>
                </a:lnTo>
                <a:lnTo>
                  <a:pt x="960" y="1002"/>
                </a:lnTo>
                <a:lnTo>
                  <a:pt x="960" y="994"/>
                </a:lnTo>
                <a:close/>
                <a:moveTo>
                  <a:pt x="970" y="1002"/>
                </a:moveTo>
                <a:lnTo>
                  <a:pt x="970" y="1017"/>
                </a:lnTo>
                <a:lnTo>
                  <a:pt x="952" y="1017"/>
                </a:lnTo>
                <a:lnTo>
                  <a:pt x="952" y="1002"/>
                </a:lnTo>
                <a:lnTo>
                  <a:pt x="970" y="1002"/>
                </a:lnTo>
                <a:close/>
                <a:moveTo>
                  <a:pt x="970" y="1017"/>
                </a:moveTo>
                <a:lnTo>
                  <a:pt x="970" y="1023"/>
                </a:lnTo>
                <a:lnTo>
                  <a:pt x="952" y="1023"/>
                </a:lnTo>
                <a:lnTo>
                  <a:pt x="952" y="1017"/>
                </a:lnTo>
                <a:lnTo>
                  <a:pt x="970" y="1017"/>
                </a:lnTo>
                <a:close/>
                <a:moveTo>
                  <a:pt x="960" y="1031"/>
                </a:moveTo>
                <a:lnTo>
                  <a:pt x="952" y="1031"/>
                </a:lnTo>
                <a:lnTo>
                  <a:pt x="952" y="1023"/>
                </a:lnTo>
                <a:lnTo>
                  <a:pt x="960" y="1023"/>
                </a:lnTo>
                <a:lnTo>
                  <a:pt x="960" y="1031"/>
                </a:lnTo>
                <a:close/>
                <a:moveTo>
                  <a:pt x="960" y="1016"/>
                </a:moveTo>
                <a:lnTo>
                  <a:pt x="966" y="1016"/>
                </a:lnTo>
                <a:lnTo>
                  <a:pt x="966" y="1031"/>
                </a:lnTo>
                <a:lnTo>
                  <a:pt x="960" y="1031"/>
                </a:lnTo>
                <a:lnTo>
                  <a:pt x="960" y="1016"/>
                </a:lnTo>
                <a:close/>
                <a:moveTo>
                  <a:pt x="966" y="1016"/>
                </a:moveTo>
                <a:lnTo>
                  <a:pt x="973" y="1016"/>
                </a:lnTo>
                <a:lnTo>
                  <a:pt x="973" y="1023"/>
                </a:lnTo>
                <a:lnTo>
                  <a:pt x="966" y="1023"/>
                </a:lnTo>
                <a:lnTo>
                  <a:pt x="966" y="1016"/>
                </a:lnTo>
                <a:close/>
                <a:moveTo>
                  <a:pt x="973" y="1023"/>
                </a:moveTo>
                <a:lnTo>
                  <a:pt x="973" y="1029"/>
                </a:lnTo>
                <a:lnTo>
                  <a:pt x="958" y="1029"/>
                </a:lnTo>
                <a:lnTo>
                  <a:pt x="958" y="1023"/>
                </a:lnTo>
                <a:lnTo>
                  <a:pt x="973" y="1023"/>
                </a:lnTo>
                <a:close/>
                <a:moveTo>
                  <a:pt x="966" y="1037"/>
                </a:moveTo>
                <a:lnTo>
                  <a:pt x="958" y="1037"/>
                </a:lnTo>
                <a:lnTo>
                  <a:pt x="958" y="1029"/>
                </a:lnTo>
                <a:lnTo>
                  <a:pt x="966" y="1029"/>
                </a:lnTo>
                <a:lnTo>
                  <a:pt x="966" y="1037"/>
                </a:lnTo>
                <a:close/>
                <a:moveTo>
                  <a:pt x="966" y="1021"/>
                </a:moveTo>
                <a:lnTo>
                  <a:pt x="979" y="1021"/>
                </a:lnTo>
                <a:lnTo>
                  <a:pt x="979" y="1037"/>
                </a:lnTo>
                <a:lnTo>
                  <a:pt x="966" y="1037"/>
                </a:lnTo>
                <a:lnTo>
                  <a:pt x="966" y="1021"/>
                </a:lnTo>
                <a:close/>
                <a:moveTo>
                  <a:pt x="979" y="1021"/>
                </a:moveTo>
                <a:lnTo>
                  <a:pt x="987" y="1021"/>
                </a:lnTo>
                <a:lnTo>
                  <a:pt x="987" y="1029"/>
                </a:lnTo>
                <a:lnTo>
                  <a:pt x="979" y="1029"/>
                </a:lnTo>
                <a:lnTo>
                  <a:pt x="979" y="1021"/>
                </a:lnTo>
                <a:close/>
                <a:moveTo>
                  <a:pt x="987" y="1029"/>
                </a:moveTo>
                <a:lnTo>
                  <a:pt x="987" y="1040"/>
                </a:lnTo>
                <a:lnTo>
                  <a:pt x="972" y="1040"/>
                </a:lnTo>
                <a:lnTo>
                  <a:pt x="972" y="1029"/>
                </a:lnTo>
                <a:lnTo>
                  <a:pt x="987" y="1029"/>
                </a:lnTo>
                <a:close/>
                <a:moveTo>
                  <a:pt x="979" y="1048"/>
                </a:moveTo>
                <a:lnTo>
                  <a:pt x="972" y="1048"/>
                </a:lnTo>
                <a:lnTo>
                  <a:pt x="972" y="1040"/>
                </a:lnTo>
                <a:lnTo>
                  <a:pt x="979" y="1040"/>
                </a:lnTo>
                <a:lnTo>
                  <a:pt x="979" y="1048"/>
                </a:lnTo>
                <a:close/>
                <a:moveTo>
                  <a:pt x="979" y="1033"/>
                </a:moveTo>
                <a:lnTo>
                  <a:pt x="1000" y="1033"/>
                </a:lnTo>
                <a:lnTo>
                  <a:pt x="1000" y="1048"/>
                </a:lnTo>
                <a:lnTo>
                  <a:pt x="979" y="1048"/>
                </a:lnTo>
                <a:lnTo>
                  <a:pt x="979" y="1033"/>
                </a:lnTo>
                <a:close/>
                <a:moveTo>
                  <a:pt x="1000" y="1033"/>
                </a:moveTo>
                <a:lnTo>
                  <a:pt x="1008" y="1033"/>
                </a:lnTo>
                <a:lnTo>
                  <a:pt x="1008" y="1040"/>
                </a:lnTo>
                <a:lnTo>
                  <a:pt x="1000" y="1040"/>
                </a:lnTo>
                <a:lnTo>
                  <a:pt x="1000" y="1033"/>
                </a:lnTo>
                <a:close/>
                <a:moveTo>
                  <a:pt x="1008" y="1040"/>
                </a:moveTo>
                <a:lnTo>
                  <a:pt x="1008" y="1046"/>
                </a:lnTo>
                <a:lnTo>
                  <a:pt x="993" y="1046"/>
                </a:lnTo>
                <a:lnTo>
                  <a:pt x="993" y="1040"/>
                </a:lnTo>
                <a:lnTo>
                  <a:pt x="1008" y="1040"/>
                </a:lnTo>
                <a:close/>
                <a:moveTo>
                  <a:pt x="1000" y="1054"/>
                </a:moveTo>
                <a:lnTo>
                  <a:pt x="993" y="1054"/>
                </a:lnTo>
                <a:lnTo>
                  <a:pt x="993" y="1046"/>
                </a:lnTo>
                <a:lnTo>
                  <a:pt x="1000" y="1046"/>
                </a:lnTo>
                <a:lnTo>
                  <a:pt x="1000" y="1054"/>
                </a:lnTo>
                <a:close/>
                <a:moveTo>
                  <a:pt x="1000" y="1039"/>
                </a:moveTo>
                <a:lnTo>
                  <a:pt x="1020" y="1039"/>
                </a:lnTo>
                <a:lnTo>
                  <a:pt x="1020" y="1054"/>
                </a:lnTo>
                <a:lnTo>
                  <a:pt x="1000" y="1054"/>
                </a:lnTo>
                <a:lnTo>
                  <a:pt x="1000" y="1039"/>
                </a:lnTo>
                <a:close/>
                <a:moveTo>
                  <a:pt x="1020" y="1039"/>
                </a:moveTo>
                <a:lnTo>
                  <a:pt x="1027" y="1039"/>
                </a:lnTo>
                <a:lnTo>
                  <a:pt x="1027" y="1046"/>
                </a:lnTo>
                <a:lnTo>
                  <a:pt x="1020" y="1046"/>
                </a:lnTo>
                <a:lnTo>
                  <a:pt x="1020" y="1039"/>
                </a:lnTo>
                <a:close/>
                <a:moveTo>
                  <a:pt x="1027" y="1046"/>
                </a:moveTo>
                <a:lnTo>
                  <a:pt x="1027" y="1052"/>
                </a:lnTo>
                <a:lnTo>
                  <a:pt x="1012" y="1052"/>
                </a:lnTo>
                <a:lnTo>
                  <a:pt x="1012" y="1046"/>
                </a:lnTo>
                <a:lnTo>
                  <a:pt x="1027" y="1046"/>
                </a:lnTo>
                <a:close/>
                <a:moveTo>
                  <a:pt x="1020" y="1060"/>
                </a:moveTo>
                <a:lnTo>
                  <a:pt x="1012" y="1060"/>
                </a:lnTo>
                <a:lnTo>
                  <a:pt x="1012" y="1052"/>
                </a:lnTo>
                <a:lnTo>
                  <a:pt x="1020" y="1052"/>
                </a:lnTo>
                <a:lnTo>
                  <a:pt x="1020" y="1060"/>
                </a:lnTo>
                <a:close/>
                <a:moveTo>
                  <a:pt x="1020" y="1044"/>
                </a:moveTo>
                <a:lnTo>
                  <a:pt x="1033" y="1044"/>
                </a:lnTo>
                <a:lnTo>
                  <a:pt x="1033" y="1060"/>
                </a:lnTo>
                <a:lnTo>
                  <a:pt x="1020" y="1060"/>
                </a:lnTo>
                <a:lnTo>
                  <a:pt x="1020" y="1044"/>
                </a:lnTo>
                <a:close/>
                <a:moveTo>
                  <a:pt x="1033" y="1044"/>
                </a:moveTo>
                <a:lnTo>
                  <a:pt x="1041" y="1044"/>
                </a:lnTo>
                <a:lnTo>
                  <a:pt x="1041" y="1052"/>
                </a:lnTo>
                <a:lnTo>
                  <a:pt x="1033" y="1052"/>
                </a:lnTo>
                <a:lnTo>
                  <a:pt x="1033" y="1044"/>
                </a:lnTo>
                <a:close/>
                <a:moveTo>
                  <a:pt x="1041" y="1052"/>
                </a:moveTo>
                <a:lnTo>
                  <a:pt x="1041" y="1069"/>
                </a:lnTo>
                <a:lnTo>
                  <a:pt x="1025" y="1069"/>
                </a:lnTo>
                <a:lnTo>
                  <a:pt x="1025" y="1052"/>
                </a:lnTo>
                <a:lnTo>
                  <a:pt x="1041" y="1052"/>
                </a:lnTo>
                <a:close/>
                <a:moveTo>
                  <a:pt x="1033" y="1075"/>
                </a:moveTo>
                <a:lnTo>
                  <a:pt x="1025" y="1075"/>
                </a:lnTo>
                <a:lnTo>
                  <a:pt x="1025" y="1069"/>
                </a:lnTo>
                <a:lnTo>
                  <a:pt x="1033" y="1069"/>
                </a:lnTo>
                <a:lnTo>
                  <a:pt x="1033" y="1075"/>
                </a:lnTo>
                <a:close/>
                <a:moveTo>
                  <a:pt x="1033" y="1062"/>
                </a:moveTo>
                <a:lnTo>
                  <a:pt x="1039" y="1062"/>
                </a:lnTo>
                <a:lnTo>
                  <a:pt x="1039" y="1075"/>
                </a:lnTo>
                <a:lnTo>
                  <a:pt x="1033" y="1075"/>
                </a:lnTo>
                <a:lnTo>
                  <a:pt x="1033" y="1062"/>
                </a:lnTo>
                <a:close/>
                <a:moveTo>
                  <a:pt x="1039" y="1062"/>
                </a:moveTo>
                <a:lnTo>
                  <a:pt x="1046" y="1062"/>
                </a:lnTo>
                <a:lnTo>
                  <a:pt x="1046" y="1069"/>
                </a:lnTo>
                <a:lnTo>
                  <a:pt x="1039" y="1069"/>
                </a:lnTo>
                <a:lnTo>
                  <a:pt x="1039" y="1062"/>
                </a:lnTo>
                <a:close/>
                <a:moveTo>
                  <a:pt x="1046" y="1069"/>
                </a:moveTo>
                <a:lnTo>
                  <a:pt x="1046" y="1079"/>
                </a:lnTo>
                <a:lnTo>
                  <a:pt x="1031" y="1079"/>
                </a:lnTo>
                <a:lnTo>
                  <a:pt x="1031" y="1069"/>
                </a:lnTo>
                <a:lnTo>
                  <a:pt x="1046" y="1069"/>
                </a:lnTo>
                <a:close/>
                <a:moveTo>
                  <a:pt x="1039" y="1087"/>
                </a:moveTo>
                <a:lnTo>
                  <a:pt x="1031" y="1087"/>
                </a:lnTo>
                <a:lnTo>
                  <a:pt x="1031" y="1079"/>
                </a:lnTo>
                <a:lnTo>
                  <a:pt x="1039" y="1079"/>
                </a:lnTo>
                <a:lnTo>
                  <a:pt x="1039" y="1087"/>
                </a:lnTo>
                <a:close/>
                <a:moveTo>
                  <a:pt x="1039" y="1071"/>
                </a:moveTo>
                <a:lnTo>
                  <a:pt x="1066" y="1071"/>
                </a:lnTo>
                <a:lnTo>
                  <a:pt x="1066" y="1087"/>
                </a:lnTo>
                <a:lnTo>
                  <a:pt x="1039" y="1087"/>
                </a:lnTo>
                <a:lnTo>
                  <a:pt x="1039" y="1071"/>
                </a:lnTo>
                <a:close/>
                <a:moveTo>
                  <a:pt x="1066" y="1071"/>
                </a:moveTo>
                <a:lnTo>
                  <a:pt x="1073" y="1071"/>
                </a:lnTo>
                <a:lnTo>
                  <a:pt x="1073" y="1079"/>
                </a:lnTo>
                <a:lnTo>
                  <a:pt x="1066" y="1079"/>
                </a:lnTo>
                <a:lnTo>
                  <a:pt x="1066" y="1071"/>
                </a:lnTo>
                <a:close/>
                <a:moveTo>
                  <a:pt x="1073" y="1079"/>
                </a:moveTo>
                <a:lnTo>
                  <a:pt x="1073" y="1090"/>
                </a:lnTo>
                <a:lnTo>
                  <a:pt x="1058" y="1090"/>
                </a:lnTo>
                <a:lnTo>
                  <a:pt x="1058" y="1079"/>
                </a:lnTo>
                <a:lnTo>
                  <a:pt x="1073" y="1079"/>
                </a:lnTo>
                <a:close/>
                <a:moveTo>
                  <a:pt x="1066" y="1098"/>
                </a:moveTo>
                <a:lnTo>
                  <a:pt x="1058" y="1098"/>
                </a:lnTo>
                <a:lnTo>
                  <a:pt x="1058" y="1090"/>
                </a:lnTo>
                <a:lnTo>
                  <a:pt x="1066" y="1090"/>
                </a:lnTo>
                <a:lnTo>
                  <a:pt x="1066" y="1098"/>
                </a:lnTo>
                <a:close/>
                <a:moveTo>
                  <a:pt x="1066" y="1083"/>
                </a:moveTo>
                <a:lnTo>
                  <a:pt x="1079" y="1083"/>
                </a:lnTo>
                <a:lnTo>
                  <a:pt x="1079" y="1098"/>
                </a:lnTo>
                <a:lnTo>
                  <a:pt x="1066" y="1098"/>
                </a:lnTo>
                <a:lnTo>
                  <a:pt x="1066" y="1083"/>
                </a:lnTo>
                <a:close/>
                <a:moveTo>
                  <a:pt x="1079" y="1083"/>
                </a:moveTo>
                <a:lnTo>
                  <a:pt x="1087" y="1083"/>
                </a:lnTo>
                <a:lnTo>
                  <a:pt x="1087" y="1090"/>
                </a:lnTo>
                <a:lnTo>
                  <a:pt x="1079" y="1090"/>
                </a:lnTo>
                <a:lnTo>
                  <a:pt x="1079" y="1083"/>
                </a:lnTo>
                <a:close/>
                <a:moveTo>
                  <a:pt x="1087" y="1090"/>
                </a:moveTo>
                <a:lnTo>
                  <a:pt x="1087" y="1096"/>
                </a:lnTo>
                <a:lnTo>
                  <a:pt x="1071" y="1096"/>
                </a:lnTo>
                <a:lnTo>
                  <a:pt x="1071" y="1090"/>
                </a:lnTo>
                <a:lnTo>
                  <a:pt x="1087" y="1090"/>
                </a:lnTo>
                <a:close/>
                <a:moveTo>
                  <a:pt x="1087" y="1096"/>
                </a:moveTo>
                <a:lnTo>
                  <a:pt x="1087" y="1102"/>
                </a:lnTo>
                <a:lnTo>
                  <a:pt x="1071" y="1102"/>
                </a:lnTo>
                <a:lnTo>
                  <a:pt x="1071" y="1096"/>
                </a:lnTo>
                <a:lnTo>
                  <a:pt x="1087" y="1096"/>
                </a:lnTo>
                <a:close/>
                <a:moveTo>
                  <a:pt x="1079" y="1110"/>
                </a:moveTo>
                <a:lnTo>
                  <a:pt x="1071" y="1110"/>
                </a:lnTo>
                <a:lnTo>
                  <a:pt x="1071" y="1102"/>
                </a:lnTo>
                <a:lnTo>
                  <a:pt x="1079" y="1102"/>
                </a:lnTo>
                <a:lnTo>
                  <a:pt x="1079" y="1110"/>
                </a:lnTo>
                <a:close/>
                <a:moveTo>
                  <a:pt x="1079" y="1094"/>
                </a:moveTo>
                <a:lnTo>
                  <a:pt x="1085" y="1094"/>
                </a:lnTo>
                <a:lnTo>
                  <a:pt x="1085" y="1110"/>
                </a:lnTo>
                <a:lnTo>
                  <a:pt x="1079" y="1110"/>
                </a:lnTo>
                <a:lnTo>
                  <a:pt x="1079" y="1094"/>
                </a:lnTo>
                <a:close/>
                <a:moveTo>
                  <a:pt x="1085" y="1094"/>
                </a:moveTo>
                <a:lnTo>
                  <a:pt x="1092" y="1094"/>
                </a:lnTo>
                <a:lnTo>
                  <a:pt x="1092" y="1102"/>
                </a:lnTo>
                <a:lnTo>
                  <a:pt x="1085" y="1102"/>
                </a:lnTo>
                <a:lnTo>
                  <a:pt x="1085" y="1094"/>
                </a:lnTo>
                <a:close/>
                <a:moveTo>
                  <a:pt x="1092" y="1102"/>
                </a:moveTo>
                <a:lnTo>
                  <a:pt x="1092" y="1113"/>
                </a:lnTo>
                <a:lnTo>
                  <a:pt x="1077" y="1113"/>
                </a:lnTo>
                <a:lnTo>
                  <a:pt x="1077" y="1102"/>
                </a:lnTo>
                <a:lnTo>
                  <a:pt x="1092" y="1102"/>
                </a:lnTo>
                <a:close/>
                <a:moveTo>
                  <a:pt x="1085" y="1121"/>
                </a:moveTo>
                <a:lnTo>
                  <a:pt x="1077" y="1121"/>
                </a:lnTo>
                <a:lnTo>
                  <a:pt x="1077" y="1113"/>
                </a:lnTo>
                <a:lnTo>
                  <a:pt x="1085" y="1113"/>
                </a:lnTo>
                <a:lnTo>
                  <a:pt x="1085" y="1121"/>
                </a:lnTo>
                <a:close/>
                <a:moveTo>
                  <a:pt x="1085" y="1106"/>
                </a:moveTo>
                <a:lnTo>
                  <a:pt x="1092" y="1106"/>
                </a:lnTo>
                <a:lnTo>
                  <a:pt x="1092" y="1121"/>
                </a:lnTo>
                <a:lnTo>
                  <a:pt x="1085" y="1121"/>
                </a:lnTo>
                <a:lnTo>
                  <a:pt x="1085" y="1106"/>
                </a:lnTo>
                <a:close/>
                <a:moveTo>
                  <a:pt x="1092" y="1106"/>
                </a:moveTo>
                <a:lnTo>
                  <a:pt x="1100" y="1106"/>
                </a:lnTo>
                <a:lnTo>
                  <a:pt x="1100" y="1113"/>
                </a:lnTo>
                <a:lnTo>
                  <a:pt x="1092" y="1113"/>
                </a:lnTo>
                <a:lnTo>
                  <a:pt x="1092" y="1106"/>
                </a:lnTo>
                <a:close/>
                <a:moveTo>
                  <a:pt x="1100" y="1113"/>
                </a:moveTo>
                <a:lnTo>
                  <a:pt x="1100" y="1119"/>
                </a:lnTo>
                <a:lnTo>
                  <a:pt x="1083" y="1119"/>
                </a:lnTo>
                <a:lnTo>
                  <a:pt x="1083" y="1113"/>
                </a:lnTo>
                <a:lnTo>
                  <a:pt x="1100" y="1113"/>
                </a:lnTo>
                <a:close/>
                <a:moveTo>
                  <a:pt x="1092" y="1127"/>
                </a:moveTo>
                <a:lnTo>
                  <a:pt x="1083" y="1127"/>
                </a:lnTo>
                <a:lnTo>
                  <a:pt x="1083" y="1119"/>
                </a:lnTo>
                <a:lnTo>
                  <a:pt x="1092" y="1119"/>
                </a:lnTo>
                <a:lnTo>
                  <a:pt x="1092" y="1127"/>
                </a:lnTo>
                <a:close/>
                <a:moveTo>
                  <a:pt x="1092" y="1111"/>
                </a:moveTo>
                <a:lnTo>
                  <a:pt x="1106" y="1111"/>
                </a:lnTo>
                <a:lnTo>
                  <a:pt x="1106" y="1127"/>
                </a:lnTo>
                <a:lnTo>
                  <a:pt x="1092" y="1127"/>
                </a:lnTo>
                <a:lnTo>
                  <a:pt x="1092" y="1111"/>
                </a:lnTo>
                <a:close/>
                <a:moveTo>
                  <a:pt x="1106" y="1111"/>
                </a:moveTo>
                <a:lnTo>
                  <a:pt x="1114" y="1111"/>
                </a:lnTo>
                <a:lnTo>
                  <a:pt x="1114" y="1119"/>
                </a:lnTo>
                <a:lnTo>
                  <a:pt x="1106" y="1119"/>
                </a:lnTo>
                <a:lnTo>
                  <a:pt x="1106" y="1111"/>
                </a:lnTo>
                <a:close/>
                <a:moveTo>
                  <a:pt x="1114" y="1119"/>
                </a:moveTo>
                <a:lnTo>
                  <a:pt x="1114" y="1134"/>
                </a:lnTo>
                <a:lnTo>
                  <a:pt x="1096" y="1134"/>
                </a:lnTo>
                <a:lnTo>
                  <a:pt x="1096" y="1119"/>
                </a:lnTo>
                <a:lnTo>
                  <a:pt x="1114" y="1119"/>
                </a:lnTo>
                <a:close/>
                <a:moveTo>
                  <a:pt x="1114" y="1134"/>
                </a:moveTo>
                <a:lnTo>
                  <a:pt x="1114" y="1140"/>
                </a:lnTo>
                <a:lnTo>
                  <a:pt x="1096" y="1140"/>
                </a:lnTo>
                <a:lnTo>
                  <a:pt x="1096" y="1134"/>
                </a:lnTo>
                <a:lnTo>
                  <a:pt x="1114" y="1134"/>
                </a:lnTo>
                <a:close/>
                <a:moveTo>
                  <a:pt x="1106" y="1148"/>
                </a:moveTo>
                <a:lnTo>
                  <a:pt x="1096" y="1148"/>
                </a:lnTo>
                <a:lnTo>
                  <a:pt x="1096" y="1140"/>
                </a:lnTo>
                <a:lnTo>
                  <a:pt x="1106" y="1140"/>
                </a:lnTo>
                <a:lnTo>
                  <a:pt x="1106" y="1148"/>
                </a:lnTo>
                <a:close/>
                <a:moveTo>
                  <a:pt x="1106" y="1133"/>
                </a:moveTo>
                <a:lnTo>
                  <a:pt x="1117" y="1133"/>
                </a:lnTo>
                <a:lnTo>
                  <a:pt x="1117" y="1148"/>
                </a:lnTo>
                <a:lnTo>
                  <a:pt x="1106" y="1148"/>
                </a:lnTo>
                <a:lnTo>
                  <a:pt x="1106" y="1133"/>
                </a:lnTo>
                <a:close/>
                <a:moveTo>
                  <a:pt x="1117" y="1133"/>
                </a:moveTo>
                <a:lnTo>
                  <a:pt x="1125" y="1133"/>
                </a:lnTo>
                <a:lnTo>
                  <a:pt x="1125" y="1140"/>
                </a:lnTo>
                <a:lnTo>
                  <a:pt x="1117" y="1140"/>
                </a:lnTo>
                <a:lnTo>
                  <a:pt x="1117" y="1133"/>
                </a:lnTo>
                <a:close/>
                <a:moveTo>
                  <a:pt x="1125" y="1140"/>
                </a:moveTo>
                <a:lnTo>
                  <a:pt x="1125" y="1158"/>
                </a:lnTo>
                <a:lnTo>
                  <a:pt x="1110" y="1158"/>
                </a:lnTo>
                <a:lnTo>
                  <a:pt x="1110" y="1140"/>
                </a:lnTo>
                <a:lnTo>
                  <a:pt x="1125" y="1140"/>
                </a:lnTo>
                <a:close/>
                <a:moveTo>
                  <a:pt x="1117" y="1165"/>
                </a:moveTo>
                <a:lnTo>
                  <a:pt x="1110" y="1165"/>
                </a:lnTo>
                <a:lnTo>
                  <a:pt x="1110" y="1158"/>
                </a:lnTo>
                <a:lnTo>
                  <a:pt x="1117" y="1158"/>
                </a:lnTo>
                <a:lnTo>
                  <a:pt x="1117" y="1165"/>
                </a:lnTo>
                <a:close/>
                <a:moveTo>
                  <a:pt x="1117" y="1150"/>
                </a:moveTo>
                <a:lnTo>
                  <a:pt x="1158" y="1150"/>
                </a:lnTo>
                <a:lnTo>
                  <a:pt x="1158" y="1165"/>
                </a:lnTo>
                <a:lnTo>
                  <a:pt x="1117" y="1165"/>
                </a:lnTo>
                <a:lnTo>
                  <a:pt x="1117" y="1150"/>
                </a:lnTo>
                <a:close/>
                <a:moveTo>
                  <a:pt x="1158" y="1150"/>
                </a:moveTo>
                <a:lnTo>
                  <a:pt x="1165" y="1150"/>
                </a:lnTo>
                <a:lnTo>
                  <a:pt x="1165" y="1158"/>
                </a:lnTo>
                <a:lnTo>
                  <a:pt x="1158" y="1158"/>
                </a:lnTo>
                <a:lnTo>
                  <a:pt x="1158" y="1150"/>
                </a:lnTo>
                <a:close/>
                <a:moveTo>
                  <a:pt x="1165" y="1158"/>
                </a:moveTo>
                <a:lnTo>
                  <a:pt x="1165" y="1163"/>
                </a:lnTo>
                <a:lnTo>
                  <a:pt x="1148" y="1163"/>
                </a:lnTo>
                <a:lnTo>
                  <a:pt x="1148" y="1158"/>
                </a:lnTo>
                <a:lnTo>
                  <a:pt x="1165" y="1158"/>
                </a:lnTo>
                <a:close/>
                <a:moveTo>
                  <a:pt x="1158" y="1171"/>
                </a:moveTo>
                <a:lnTo>
                  <a:pt x="1148" y="1171"/>
                </a:lnTo>
                <a:lnTo>
                  <a:pt x="1148" y="1163"/>
                </a:lnTo>
                <a:lnTo>
                  <a:pt x="1158" y="1163"/>
                </a:lnTo>
                <a:lnTo>
                  <a:pt x="1158" y="1171"/>
                </a:lnTo>
                <a:close/>
                <a:moveTo>
                  <a:pt x="1158" y="1156"/>
                </a:moveTo>
                <a:lnTo>
                  <a:pt x="1177" y="1156"/>
                </a:lnTo>
                <a:lnTo>
                  <a:pt x="1177" y="1171"/>
                </a:lnTo>
                <a:lnTo>
                  <a:pt x="1158" y="1171"/>
                </a:lnTo>
                <a:lnTo>
                  <a:pt x="1158" y="1156"/>
                </a:lnTo>
                <a:close/>
                <a:moveTo>
                  <a:pt x="1177" y="1156"/>
                </a:moveTo>
                <a:lnTo>
                  <a:pt x="1185" y="1156"/>
                </a:lnTo>
                <a:lnTo>
                  <a:pt x="1185" y="1163"/>
                </a:lnTo>
                <a:lnTo>
                  <a:pt x="1177" y="1163"/>
                </a:lnTo>
                <a:lnTo>
                  <a:pt x="1177" y="1156"/>
                </a:lnTo>
                <a:close/>
                <a:moveTo>
                  <a:pt x="1185" y="1163"/>
                </a:moveTo>
                <a:lnTo>
                  <a:pt x="1185" y="1169"/>
                </a:lnTo>
                <a:lnTo>
                  <a:pt x="1169" y="1169"/>
                </a:lnTo>
                <a:lnTo>
                  <a:pt x="1169" y="1163"/>
                </a:lnTo>
                <a:lnTo>
                  <a:pt x="1185" y="1163"/>
                </a:lnTo>
                <a:close/>
                <a:moveTo>
                  <a:pt x="1177" y="1177"/>
                </a:moveTo>
                <a:lnTo>
                  <a:pt x="1169" y="1177"/>
                </a:lnTo>
                <a:lnTo>
                  <a:pt x="1169" y="1169"/>
                </a:lnTo>
                <a:lnTo>
                  <a:pt x="1177" y="1169"/>
                </a:lnTo>
                <a:lnTo>
                  <a:pt x="1177" y="1177"/>
                </a:lnTo>
                <a:close/>
                <a:moveTo>
                  <a:pt x="1177" y="1161"/>
                </a:moveTo>
                <a:lnTo>
                  <a:pt x="1198" y="1161"/>
                </a:lnTo>
                <a:lnTo>
                  <a:pt x="1198" y="1177"/>
                </a:lnTo>
                <a:lnTo>
                  <a:pt x="1177" y="1177"/>
                </a:lnTo>
                <a:lnTo>
                  <a:pt x="1177" y="1161"/>
                </a:lnTo>
                <a:close/>
                <a:moveTo>
                  <a:pt x="1198" y="1161"/>
                </a:moveTo>
                <a:lnTo>
                  <a:pt x="1206" y="1161"/>
                </a:lnTo>
                <a:lnTo>
                  <a:pt x="1206" y="1169"/>
                </a:lnTo>
                <a:lnTo>
                  <a:pt x="1198" y="1169"/>
                </a:lnTo>
                <a:lnTo>
                  <a:pt x="1198" y="1161"/>
                </a:lnTo>
                <a:close/>
                <a:moveTo>
                  <a:pt x="1206" y="1169"/>
                </a:moveTo>
                <a:lnTo>
                  <a:pt x="1206" y="1181"/>
                </a:lnTo>
                <a:lnTo>
                  <a:pt x="1188" y="1181"/>
                </a:lnTo>
                <a:lnTo>
                  <a:pt x="1188" y="1169"/>
                </a:lnTo>
                <a:lnTo>
                  <a:pt x="1206" y="1169"/>
                </a:lnTo>
                <a:close/>
                <a:moveTo>
                  <a:pt x="1198" y="1188"/>
                </a:moveTo>
                <a:lnTo>
                  <a:pt x="1188" y="1188"/>
                </a:lnTo>
                <a:lnTo>
                  <a:pt x="1188" y="1181"/>
                </a:lnTo>
                <a:lnTo>
                  <a:pt x="1198" y="1181"/>
                </a:lnTo>
                <a:lnTo>
                  <a:pt x="1198" y="1188"/>
                </a:lnTo>
                <a:close/>
                <a:moveTo>
                  <a:pt x="1198" y="1173"/>
                </a:moveTo>
                <a:lnTo>
                  <a:pt x="1210" y="1173"/>
                </a:lnTo>
                <a:lnTo>
                  <a:pt x="1210" y="1188"/>
                </a:lnTo>
                <a:lnTo>
                  <a:pt x="1198" y="1188"/>
                </a:lnTo>
                <a:lnTo>
                  <a:pt x="1198" y="1173"/>
                </a:lnTo>
                <a:close/>
                <a:moveTo>
                  <a:pt x="1210" y="1173"/>
                </a:moveTo>
                <a:lnTo>
                  <a:pt x="1217" y="1173"/>
                </a:lnTo>
                <a:lnTo>
                  <a:pt x="1217" y="1181"/>
                </a:lnTo>
                <a:lnTo>
                  <a:pt x="1210" y="1181"/>
                </a:lnTo>
                <a:lnTo>
                  <a:pt x="1210" y="1173"/>
                </a:lnTo>
                <a:close/>
                <a:moveTo>
                  <a:pt x="1217" y="1181"/>
                </a:moveTo>
                <a:lnTo>
                  <a:pt x="1217" y="1186"/>
                </a:lnTo>
                <a:lnTo>
                  <a:pt x="1202" y="1186"/>
                </a:lnTo>
                <a:lnTo>
                  <a:pt x="1202" y="1181"/>
                </a:lnTo>
                <a:lnTo>
                  <a:pt x="1217" y="1181"/>
                </a:lnTo>
                <a:close/>
                <a:moveTo>
                  <a:pt x="1210" y="1192"/>
                </a:moveTo>
                <a:lnTo>
                  <a:pt x="1202" y="1192"/>
                </a:lnTo>
                <a:lnTo>
                  <a:pt x="1202" y="1186"/>
                </a:lnTo>
                <a:lnTo>
                  <a:pt x="1210" y="1186"/>
                </a:lnTo>
                <a:lnTo>
                  <a:pt x="1210" y="1192"/>
                </a:lnTo>
                <a:close/>
                <a:moveTo>
                  <a:pt x="1210" y="1179"/>
                </a:moveTo>
                <a:lnTo>
                  <a:pt x="1215" y="1179"/>
                </a:lnTo>
                <a:lnTo>
                  <a:pt x="1215" y="1192"/>
                </a:lnTo>
                <a:lnTo>
                  <a:pt x="1210" y="1192"/>
                </a:lnTo>
                <a:lnTo>
                  <a:pt x="1210" y="1179"/>
                </a:lnTo>
                <a:close/>
                <a:moveTo>
                  <a:pt x="1215" y="1179"/>
                </a:moveTo>
                <a:lnTo>
                  <a:pt x="1225" y="1179"/>
                </a:lnTo>
                <a:lnTo>
                  <a:pt x="1225" y="1186"/>
                </a:lnTo>
                <a:lnTo>
                  <a:pt x="1215" y="1186"/>
                </a:lnTo>
                <a:lnTo>
                  <a:pt x="1215" y="1179"/>
                </a:lnTo>
                <a:close/>
                <a:moveTo>
                  <a:pt x="1225" y="1186"/>
                </a:moveTo>
                <a:lnTo>
                  <a:pt x="1225" y="1196"/>
                </a:lnTo>
                <a:lnTo>
                  <a:pt x="1208" y="1196"/>
                </a:lnTo>
                <a:lnTo>
                  <a:pt x="1208" y="1186"/>
                </a:lnTo>
                <a:lnTo>
                  <a:pt x="1225" y="1186"/>
                </a:lnTo>
                <a:close/>
                <a:moveTo>
                  <a:pt x="1215" y="1204"/>
                </a:moveTo>
                <a:lnTo>
                  <a:pt x="1208" y="1204"/>
                </a:lnTo>
                <a:lnTo>
                  <a:pt x="1208" y="1196"/>
                </a:lnTo>
                <a:lnTo>
                  <a:pt x="1215" y="1196"/>
                </a:lnTo>
                <a:lnTo>
                  <a:pt x="1215" y="1204"/>
                </a:lnTo>
                <a:close/>
                <a:moveTo>
                  <a:pt x="1215" y="1188"/>
                </a:moveTo>
                <a:lnTo>
                  <a:pt x="1242" y="1188"/>
                </a:lnTo>
                <a:lnTo>
                  <a:pt x="1242" y="1204"/>
                </a:lnTo>
                <a:lnTo>
                  <a:pt x="1215" y="1204"/>
                </a:lnTo>
                <a:lnTo>
                  <a:pt x="1215" y="1188"/>
                </a:lnTo>
                <a:close/>
                <a:moveTo>
                  <a:pt x="1242" y="1188"/>
                </a:moveTo>
                <a:lnTo>
                  <a:pt x="1252" y="1188"/>
                </a:lnTo>
                <a:lnTo>
                  <a:pt x="1252" y="1196"/>
                </a:lnTo>
                <a:lnTo>
                  <a:pt x="1242" y="1196"/>
                </a:lnTo>
                <a:lnTo>
                  <a:pt x="1242" y="1188"/>
                </a:lnTo>
                <a:close/>
                <a:moveTo>
                  <a:pt x="1252" y="1196"/>
                </a:moveTo>
                <a:lnTo>
                  <a:pt x="1252" y="1207"/>
                </a:lnTo>
                <a:lnTo>
                  <a:pt x="1234" y="1207"/>
                </a:lnTo>
                <a:lnTo>
                  <a:pt x="1234" y="1196"/>
                </a:lnTo>
                <a:lnTo>
                  <a:pt x="1252" y="1196"/>
                </a:lnTo>
                <a:close/>
                <a:moveTo>
                  <a:pt x="1242" y="1215"/>
                </a:moveTo>
                <a:lnTo>
                  <a:pt x="1234" y="1215"/>
                </a:lnTo>
                <a:lnTo>
                  <a:pt x="1234" y="1207"/>
                </a:lnTo>
                <a:lnTo>
                  <a:pt x="1242" y="1207"/>
                </a:lnTo>
                <a:lnTo>
                  <a:pt x="1242" y="1215"/>
                </a:lnTo>
                <a:close/>
                <a:moveTo>
                  <a:pt x="1242" y="1200"/>
                </a:moveTo>
                <a:lnTo>
                  <a:pt x="1256" y="1200"/>
                </a:lnTo>
                <a:lnTo>
                  <a:pt x="1256" y="1215"/>
                </a:lnTo>
                <a:lnTo>
                  <a:pt x="1242" y="1215"/>
                </a:lnTo>
                <a:lnTo>
                  <a:pt x="1242" y="1200"/>
                </a:lnTo>
                <a:close/>
                <a:moveTo>
                  <a:pt x="1256" y="1200"/>
                </a:moveTo>
                <a:lnTo>
                  <a:pt x="1263" y="1200"/>
                </a:lnTo>
                <a:lnTo>
                  <a:pt x="1263" y="1207"/>
                </a:lnTo>
                <a:lnTo>
                  <a:pt x="1256" y="1207"/>
                </a:lnTo>
                <a:lnTo>
                  <a:pt x="1256" y="1200"/>
                </a:lnTo>
                <a:close/>
                <a:moveTo>
                  <a:pt x="1263" y="1207"/>
                </a:moveTo>
                <a:lnTo>
                  <a:pt x="1263" y="1213"/>
                </a:lnTo>
                <a:lnTo>
                  <a:pt x="1248" y="1213"/>
                </a:lnTo>
                <a:lnTo>
                  <a:pt x="1248" y="1207"/>
                </a:lnTo>
                <a:lnTo>
                  <a:pt x="1263" y="1207"/>
                </a:lnTo>
                <a:close/>
                <a:moveTo>
                  <a:pt x="1256" y="1221"/>
                </a:moveTo>
                <a:lnTo>
                  <a:pt x="1248" y="1221"/>
                </a:lnTo>
                <a:lnTo>
                  <a:pt x="1248" y="1213"/>
                </a:lnTo>
                <a:lnTo>
                  <a:pt x="1256" y="1213"/>
                </a:lnTo>
                <a:lnTo>
                  <a:pt x="1256" y="1221"/>
                </a:lnTo>
                <a:close/>
                <a:moveTo>
                  <a:pt x="1256" y="1205"/>
                </a:moveTo>
                <a:lnTo>
                  <a:pt x="1269" y="1205"/>
                </a:lnTo>
                <a:lnTo>
                  <a:pt x="1269" y="1221"/>
                </a:lnTo>
                <a:lnTo>
                  <a:pt x="1256" y="1221"/>
                </a:lnTo>
                <a:lnTo>
                  <a:pt x="1256" y="1205"/>
                </a:lnTo>
                <a:close/>
                <a:moveTo>
                  <a:pt x="1269" y="1205"/>
                </a:moveTo>
                <a:lnTo>
                  <a:pt x="1277" y="1205"/>
                </a:lnTo>
                <a:lnTo>
                  <a:pt x="1277" y="1213"/>
                </a:lnTo>
                <a:lnTo>
                  <a:pt x="1269" y="1213"/>
                </a:lnTo>
                <a:lnTo>
                  <a:pt x="1269" y="1205"/>
                </a:lnTo>
                <a:close/>
                <a:moveTo>
                  <a:pt x="1277" y="1213"/>
                </a:moveTo>
                <a:lnTo>
                  <a:pt x="1277" y="1230"/>
                </a:lnTo>
                <a:lnTo>
                  <a:pt x="1261" y="1230"/>
                </a:lnTo>
                <a:lnTo>
                  <a:pt x="1261" y="1213"/>
                </a:lnTo>
                <a:lnTo>
                  <a:pt x="1277" y="1213"/>
                </a:lnTo>
                <a:close/>
                <a:moveTo>
                  <a:pt x="1269" y="1238"/>
                </a:moveTo>
                <a:lnTo>
                  <a:pt x="1261" y="1238"/>
                </a:lnTo>
                <a:lnTo>
                  <a:pt x="1261" y="1230"/>
                </a:lnTo>
                <a:lnTo>
                  <a:pt x="1269" y="1230"/>
                </a:lnTo>
                <a:lnTo>
                  <a:pt x="1269" y="1238"/>
                </a:lnTo>
                <a:close/>
                <a:moveTo>
                  <a:pt x="1269" y="1223"/>
                </a:moveTo>
                <a:lnTo>
                  <a:pt x="1296" y="1223"/>
                </a:lnTo>
                <a:lnTo>
                  <a:pt x="1296" y="1238"/>
                </a:lnTo>
                <a:lnTo>
                  <a:pt x="1269" y="1238"/>
                </a:lnTo>
                <a:lnTo>
                  <a:pt x="1269" y="1223"/>
                </a:lnTo>
                <a:close/>
                <a:moveTo>
                  <a:pt x="1296" y="1223"/>
                </a:moveTo>
                <a:lnTo>
                  <a:pt x="1304" y="1223"/>
                </a:lnTo>
                <a:lnTo>
                  <a:pt x="1304" y="1230"/>
                </a:lnTo>
                <a:lnTo>
                  <a:pt x="1296" y="1230"/>
                </a:lnTo>
                <a:lnTo>
                  <a:pt x="1296" y="1223"/>
                </a:lnTo>
                <a:close/>
                <a:moveTo>
                  <a:pt x="1304" y="1230"/>
                </a:moveTo>
                <a:lnTo>
                  <a:pt x="1304" y="1240"/>
                </a:lnTo>
                <a:lnTo>
                  <a:pt x="1288" y="1240"/>
                </a:lnTo>
                <a:lnTo>
                  <a:pt x="1288" y="1230"/>
                </a:lnTo>
                <a:lnTo>
                  <a:pt x="1304" y="1230"/>
                </a:lnTo>
                <a:close/>
                <a:moveTo>
                  <a:pt x="1296" y="1248"/>
                </a:moveTo>
                <a:lnTo>
                  <a:pt x="1288" y="1248"/>
                </a:lnTo>
                <a:lnTo>
                  <a:pt x="1288" y="1240"/>
                </a:lnTo>
                <a:lnTo>
                  <a:pt x="1296" y="1240"/>
                </a:lnTo>
                <a:lnTo>
                  <a:pt x="1296" y="1248"/>
                </a:lnTo>
                <a:close/>
                <a:moveTo>
                  <a:pt x="1296" y="1232"/>
                </a:moveTo>
                <a:lnTo>
                  <a:pt x="1302" y="1232"/>
                </a:lnTo>
                <a:lnTo>
                  <a:pt x="1302" y="1248"/>
                </a:lnTo>
                <a:lnTo>
                  <a:pt x="1296" y="1248"/>
                </a:lnTo>
                <a:lnTo>
                  <a:pt x="1296" y="1232"/>
                </a:lnTo>
                <a:close/>
                <a:moveTo>
                  <a:pt x="1302" y="1232"/>
                </a:moveTo>
                <a:lnTo>
                  <a:pt x="1309" y="1232"/>
                </a:lnTo>
                <a:lnTo>
                  <a:pt x="1309" y="1240"/>
                </a:lnTo>
                <a:lnTo>
                  <a:pt x="1302" y="1240"/>
                </a:lnTo>
                <a:lnTo>
                  <a:pt x="1302" y="1232"/>
                </a:lnTo>
                <a:close/>
                <a:moveTo>
                  <a:pt x="1309" y="1240"/>
                </a:moveTo>
                <a:lnTo>
                  <a:pt x="1309" y="1252"/>
                </a:lnTo>
                <a:lnTo>
                  <a:pt x="1294" y="1252"/>
                </a:lnTo>
                <a:lnTo>
                  <a:pt x="1294" y="1240"/>
                </a:lnTo>
                <a:lnTo>
                  <a:pt x="1309" y="1240"/>
                </a:lnTo>
                <a:close/>
                <a:moveTo>
                  <a:pt x="1302" y="1259"/>
                </a:moveTo>
                <a:lnTo>
                  <a:pt x="1294" y="1259"/>
                </a:lnTo>
                <a:lnTo>
                  <a:pt x="1294" y="1252"/>
                </a:lnTo>
                <a:lnTo>
                  <a:pt x="1302" y="1252"/>
                </a:lnTo>
                <a:lnTo>
                  <a:pt x="1302" y="1259"/>
                </a:lnTo>
                <a:close/>
                <a:moveTo>
                  <a:pt x="1302" y="1244"/>
                </a:moveTo>
                <a:lnTo>
                  <a:pt x="1315" y="1244"/>
                </a:lnTo>
                <a:lnTo>
                  <a:pt x="1315" y="1259"/>
                </a:lnTo>
                <a:lnTo>
                  <a:pt x="1302" y="1259"/>
                </a:lnTo>
                <a:lnTo>
                  <a:pt x="1302" y="1244"/>
                </a:lnTo>
                <a:close/>
                <a:moveTo>
                  <a:pt x="1315" y="1244"/>
                </a:moveTo>
                <a:lnTo>
                  <a:pt x="1323" y="1244"/>
                </a:lnTo>
                <a:lnTo>
                  <a:pt x="1323" y="1252"/>
                </a:lnTo>
                <a:lnTo>
                  <a:pt x="1315" y="1252"/>
                </a:lnTo>
                <a:lnTo>
                  <a:pt x="1315" y="1244"/>
                </a:lnTo>
                <a:close/>
                <a:moveTo>
                  <a:pt x="1323" y="1252"/>
                </a:moveTo>
                <a:lnTo>
                  <a:pt x="1323" y="1257"/>
                </a:lnTo>
                <a:lnTo>
                  <a:pt x="1307" y="1257"/>
                </a:lnTo>
                <a:lnTo>
                  <a:pt x="1307" y="1252"/>
                </a:lnTo>
                <a:lnTo>
                  <a:pt x="1323" y="1252"/>
                </a:lnTo>
                <a:close/>
                <a:moveTo>
                  <a:pt x="1315" y="1265"/>
                </a:moveTo>
                <a:lnTo>
                  <a:pt x="1307" y="1265"/>
                </a:lnTo>
                <a:lnTo>
                  <a:pt x="1307" y="1257"/>
                </a:lnTo>
                <a:lnTo>
                  <a:pt x="1315" y="1257"/>
                </a:lnTo>
                <a:lnTo>
                  <a:pt x="1315" y="1265"/>
                </a:lnTo>
                <a:close/>
                <a:moveTo>
                  <a:pt x="1315" y="1250"/>
                </a:moveTo>
                <a:lnTo>
                  <a:pt x="1321" y="1250"/>
                </a:lnTo>
                <a:lnTo>
                  <a:pt x="1321" y="1265"/>
                </a:lnTo>
                <a:lnTo>
                  <a:pt x="1315" y="1265"/>
                </a:lnTo>
                <a:lnTo>
                  <a:pt x="1315" y="1250"/>
                </a:lnTo>
                <a:close/>
                <a:moveTo>
                  <a:pt x="1321" y="1250"/>
                </a:moveTo>
                <a:lnTo>
                  <a:pt x="1329" y="1250"/>
                </a:lnTo>
                <a:lnTo>
                  <a:pt x="1329" y="1257"/>
                </a:lnTo>
                <a:lnTo>
                  <a:pt x="1321" y="1257"/>
                </a:lnTo>
                <a:lnTo>
                  <a:pt x="1321" y="1250"/>
                </a:lnTo>
                <a:close/>
                <a:moveTo>
                  <a:pt x="1329" y="1257"/>
                </a:moveTo>
                <a:lnTo>
                  <a:pt x="1329" y="1286"/>
                </a:lnTo>
                <a:lnTo>
                  <a:pt x="1313" y="1286"/>
                </a:lnTo>
                <a:lnTo>
                  <a:pt x="1313" y="1257"/>
                </a:lnTo>
                <a:lnTo>
                  <a:pt x="1329" y="1257"/>
                </a:lnTo>
                <a:close/>
                <a:moveTo>
                  <a:pt x="1321" y="1292"/>
                </a:moveTo>
                <a:lnTo>
                  <a:pt x="1313" y="1292"/>
                </a:lnTo>
                <a:lnTo>
                  <a:pt x="1313" y="1286"/>
                </a:lnTo>
                <a:lnTo>
                  <a:pt x="1321" y="1286"/>
                </a:lnTo>
                <a:lnTo>
                  <a:pt x="1321" y="1292"/>
                </a:lnTo>
                <a:close/>
                <a:moveTo>
                  <a:pt x="1321" y="1278"/>
                </a:moveTo>
                <a:lnTo>
                  <a:pt x="1353" y="1278"/>
                </a:lnTo>
                <a:lnTo>
                  <a:pt x="1353" y="1292"/>
                </a:lnTo>
                <a:lnTo>
                  <a:pt x="1321" y="1292"/>
                </a:lnTo>
                <a:lnTo>
                  <a:pt x="1321" y="1278"/>
                </a:lnTo>
                <a:close/>
                <a:moveTo>
                  <a:pt x="1353" y="1278"/>
                </a:moveTo>
                <a:lnTo>
                  <a:pt x="1361" y="1278"/>
                </a:lnTo>
                <a:lnTo>
                  <a:pt x="1361" y="1286"/>
                </a:lnTo>
                <a:lnTo>
                  <a:pt x="1353" y="1286"/>
                </a:lnTo>
                <a:lnTo>
                  <a:pt x="1353" y="1278"/>
                </a:lnTo>
                <a:close/>
                <a:moveTo>
                  <a:pt x="1361" y="1286"/>
                </a:moveTo>
                <a:lnTo>
                  <a:pt x="1361" y="1298"/>
                </a:lnTo>
                <a:lnTo>
                  <a:pt x="1346" y="1298"/>
                </a:lnTo>
                <a:lnTo>
                  <a:pt x="1346" y="1286"/>
                </a:lnTo>
                <a:lnTo>
                  <a:pt x="1361" y="1286"/>
                </a:lnTo>
                <a:close/>
                <a:moveTo>
                  <a:pt x="1353" y="1305"/>
                </a:moveTo>
                <a:lnTo>
                  <a:pt x="1346" y="1305"/>
                </a:lnTo>
                <a:lnTo>
                  <a:pt x="1346" y="1298"/>
                </a:lnTo>
                <a:lnTo>
                  <a:pt x="1353" y="1298"/>
                </a:lnTo>
                <a:lnTo>
                  <a:pt x="1353" y="1305"/>
                </a:lnTo>
                <a:close/>
                <a:moveTo>
                  <a:pt x="1353" y="1290"/>
                </a:moveTo>
                <a:lnTo>
                  <a:pt x="1375" y="1290"/>
                </a:lnTo>
                <a:lnTo>
                  <a:pt x="1375" y="1305"/>
                </a:lnTo>
                <a:lnTo>
                  <a:pt x="1353" y="1305"/>
                </a:lnTo>
                <a:lnTo>
                  <a:pt x="1353" y="1290"/>
                </a:lnTo>
                <a:close/>
                <a:moveTo>
                  <a:pt x="1375" y="1290"/>
                </a:moveTo>
                <a:lnTo>
                  <a:pt x="1382" y="1290"/>
                </a:lnTo>
                <a:lnTo>
                  <a:pt x="1382" y="1298"/>
                </a:lnTo>
                <a:lnTo>
                  <a:pt x="1375" y="1298"/>
                </a:lnTo>
                <a:lnTo>
                  <a:pt x="1375" y="1290"/>
                </a:lnTo>
                <a:close/>
                <a:moveTo>
                  <a:pt x="1382" y="1298"/>
                </a:moveTo>
                <a:lnTo>
                  <a:pt x="1382" y="1307"/>
                </a:lnTo>
                <a:lnTo>
                  <a:pt x="1367" y="1307"/>
                </a:lnTo>
                <a:lnTo>
                  <a:pt x="1367" y="1298"/>
                </a:lnTo>
                <a:lnTo>
                  <a:pt x="1382" y="1298"/>
                </a:lnTo>
                <a:close/>
                <a:moveTo>
                  <a:pt x="1382" y="1307"/>
                </a:moveTo>
                <a:lnTo>
                  <a:pt x="1382" y="1319"/>
                </a:lnTo>
                <a:lnTo>
                  <a:pt x="1367" y="1319"/>
                </a:lnTo>
                <a:lnTo>
                  <a:pt x="1367" y="1307"/>
                </a:lnTo>
                <a:lnTo>
                  <a:pt x="1382" y="1307"/>
                </a:lnTo>
                <a:close/>
                <a:moveTo>
                  <a:pt x="1375" y="1326"/>
                </a:moveTo>
                <a:lnTo>
                  <a:pt x="1367" y="1326"/>
                </a:lnTo>
                <a:lnTo>
                  <a:pt x="1367" y="1319"/>
                </a:lnTo>
                <a:lnTo>
                  <a:pt x="1375" y="1319"/>
                </a:lnTo>
                <a:lnTo>
                  <a:pt x="1375" y="1326"/>
                </a:lnTo>
                <a:close/>
                <a:moveTo>
                  <a:pt x="1375" y="1311"/>
                </a:moveTo>
                <a:lnTo>
                  <a:pt x="1388" y="1311"/>
                </a:lnTo>
                <a:lnTo>
                  <a:pt x="1388" y="1326"/>
                </a:lnTo>
                <a:lnTo>
                  <a:pt x="1375" y="1326"/>
                </a:lnTo>
                <a:lnTo>
                  <a:pt x="1375" y="1311"/>
                </a:lnTo>
                <a:close/>
                <a:moveTo>
                  <a:pt x="1388" y="1311"/>
                </a:moveTo>
                <a:lnTo>
                  <a:pt x="1396" y="1311"/>
                </a:lnTo>
                <a:lnTo>
                  <a:pt x="1396" y="1319"/>
                </a:lnTo>
                <a:lnTo>
                  <a:pt x="1388" y="1319"/>
                </a:lnTo>
                <a:lnTo>
                  <a:pt x="1388" y="1311"/>
                </a:lnTo>
                <a:close/>
                <a:moveTo>
                  <a:pt x="1396" y="1319"/>
                </a:moveTo>
                <a:lnTo>
                  <a:pt x="1396" y="1324"/>
                </a:lnTo>
                <a:lnTo>
                  <a:pt x="1380" y="1324"/>
                </a:lnTo>
                <a:lnTo>
                  <a:pt x="1380" y="1319"/>
                </a:lnTo>
                <a:lnTo>
                  <a:pt x="1396" y="1319"/>
                </a:lnTo>
                <a:close/>
                <a:moveTo>
                  <a:pt x="1388" y="1332"/>
                </a:moveTo>
                <a:lnTo>
                  <a:pt x="1380" y="1332"/>
                </a:lnTo>
                <a:lnTo>
                  <a:pt x="1380" y="1324"/>
                </a:lnTo>
                <a:lnTo>
                  <a:pt x="1388" y="1324"/>
                </a:lnTo>
                <a:lnTo>
                  <a:pt x="1388" y="1332"/>
                </a:lnTo>
                <a:close/>
                <a:moveTo>
                  <a:pt x="1388" y="1317"/>
                </a:moveTo>
                <a:lnTo>
                  <a:pt x="1440" y="1317"/>
                </a:lnTo>
                <a:lnTo>
                  <a:pt x="1440" y="1332"/>
                </a:lnTo>
                <a:lnTo>
                  <a:pt x="1388" y="1332"/>
                </a:lnTo>
                <a:lnTo>
                  <a:pt x="1388" y="1317"/>
                </a:lnTo>
                <a:close/>
                <a:moveTo>
                  <a:pt x="1440" y="1317"/>
                </a:moveTo>
                <a:lnTo>
                  <a:pt x="1448" y="1317"/>
                </a:lnTo>
                <a:lnTo>
                  <a:pt x="1448" y="1324"/>
                </a:lnTo>
                <a:lnTo>
                  <a:pt x="1440" y="1324"/>
                </a:lnTo>
                <a:lnTo>
                  <a:pt x="1440" y="1317"/>
                </a:lnTo>
                <a:close/>
                <a:moveTo>
                  <a:pt x="1448" y="1324"/>
                </a:moveTo>
                <a:lnTo>
                  <a:pt x="1448" y="1336"/>
                </a:lnTo>
                <a:lnTo>
                  <a:pt x="1432" y="1336"/>
                </a:lnTo>
                <a:lnTo>
                  <a:pt x="1432" y="1324"/>
                </a:lnTo>
                <a:lnTo>
                  <a:pt x="1448" y="1324"/>
                </a:lnTo>
                <a:close/>
                <a:moveTo>
                  <a:pt x="1440" y="1344"/>
                </a:moveTo>
                <a:lnTo>
                  <a:pt x="1432" y="1344"/>
                </a:lnTo>
                <a:lnTo>
                  <a:pt x="1432" y="1336"/>
                </a:lnTo>
                <a:lnTo>
                  <a:pt x="1440" y="1336"/>
                </a:lnTo>
                <a:lnTo>
                  <a:pt x="1440" y="1344"/>
                </a:lnTo>
                <a:close/>
                <a:moveTo>
                  <a:pt x="1440" y="1328"/>
                </a:moveTo>
                <a:lnTo>
                  <a:pt x="1472" y="1328"/>
                </a:lnTo>
                <a:lnTo>
                  <a:pt x="1472" y="1344"/>
                </a:lnTo>
                <a:lnTo>
                  <a:pt x="1440" y="1344"/>
                </a:lnTo>
                <a:lnTo>
                  <a:pt x="1440" y="1328"/>
                </a:lnTo>
                <a:close/>
                <a:moveTo>
                  <a:pt x="1472" y="1328"/>
                </a:moveTo>
                <a:lnTo>
                  <a:pt x="1480" y="1328"/>
                </a:lnTo>
                <a:lnTo>
                  <a:pt x="1480" y="1336"/>
                </a:lnTo>
                <a:lnTo>
                  <a:pt x="1472" y="1336"/>
                </a:lnTo>
                <a:lnTo>
                  <a:pt x="1472" y="1328"/>
                </a:lnTo>
                <a:close/>
                <a:moveTo>
                  <a:pt x="1480" y="1336"/>
                </a:moveTo>
                <a:lnTo>
                  <a:pt x="1480" y="1347"/>
                </a:lnTo>
                <a:lnTo>
                  <a:pt x="1465" y="1347"/>
                </a:lnTo>
                <a:lnTo>
                  <a:pt x="1465" y="1336"/>
                </a:lnTo>
                <a:lnTo>
                  <a:pt x="1480" y="1336"/>
                </a:lnTo>
                <a:close/>
                <a:moveTo>
                  <a:pt x="1472" y="1355"/>
                </a:moveTo>
                <a:lnTo>
                  <a:pt x="1465" y="1355"/>
                </a:lnTo>
                <a:lnTo>
                  <a:pt x="1465" y="1347"/>
                </a:lnTo>
                <a:lnTo>
                  <a:pt x="1472" y="1347"/>
                </a:lnTo>
                <a:lnTo>
                  <a:pt x="1472" y="1355"/>
                </a:lnTo>
                <a:close/>
                <a:moveTo>
                  <a:pt x="1472" y="1340"/>
                </a:moveTo>
                <a:lnTo>
                  <a:pt x="1505" y="1340"/>
                </a:lnTo>
                <a:lnTo>
                  <a:pt x="1505" y="1355"/>
                </a:lnTo>
                <a:lnTo>
                  <a:pt x="1472" y="1355"/>
                </a:lnTo>
                <a:lnTo>
                  <a:pt x="1472" y="1340"/>
                </a:lnTo>
                <a:close/>
                <a:moveTo>
                  <a:pt x="1505" y="1340"/>
                </a:moveTo>
                <a:lnTo>
                  <a:pt x="1513" y="1340"/>
                </a:lnTo>
                <a:lnTo>
                  <a:pt x="1513" y="1347"/>
                </a:lnTo>
                <a:lnTo>
                  <a:pt x="1505" y="1347"/>
                </a:lnTo>
                <a:lnTo>
                  <a:pt x="1505" y="1340"/>
                </a:lnTo>
                <a:close/>
                <a:moveTo>
                  <a:pt x="1513" y="1347"/>
                </a:moveTo>
                <a:lnTo>
                  <a:pt x="1513" y="1359"/>
                </a:lnTo>
                <a:lnTo>
                  <a:pt x="1497" y="1359"/>
                </a:lnTo>
                <a:lnTo>
                  <a:pt x="1497" y="1347"/>
                </a:lnTo>
                <a:lnTo>
                  <a:pt x="1513" y="1347"/>
                </a:lnTo>
                <a:close/>
                <a:moveTo>
                  <a:pt x="1505" y="1367"/>
                </a:moveTo>
                <a:lnTo>
                  <a:pt x="1497" y="1367"/>
                </a:lnTo>
                <a:lnTo>
                  <a:pt x="1497" y="1359"/>
                </a:lnTo>
                <a:lnTo>
                  <a:pt x="1505" y="1359"/>
                </a:lnTo>
                <a:lnTo>
                  <a:pt x="1505" y="1367"/>
                </a:lnTo>
                <a:close/>
                <a:moveTo>
                  <a:pt x="1505" y="1351"/>
                </a:moveTo>
                <a:lnTo>
                  <a:pt x="1526" y="1351"/>
                </a:lnTo>
                <a:lnTo>
                  <a:pt x="1526" y="1367"/>
                </a:lnTo>
                <a:lnTo>
                  <a:pt x="1505" y="1367"/>
                </a:lnTo>
                <a:lnTo>
                  <a:pt x="1505" y="1351"/>
                </a:lnTo>
                <a:close/>
                <a:moveTo>
                  <a:pt x="1526" y="1351"/>
                </a:moveTo>
                <a:lnTo>
                  <a:pt x="1534" y="1351"/>
                </a:lnTo>
                <a:lnTo>
                  <a:pt x="1534" y="1359"/>
                </a:lnTo>
                <a:lnTo>
                  <a:pt x="1526" y="1359"/>
                </a:lnTo>
                <a:lnTo>
                  <a:pt x="1526" y="1351"/>
                </a:lnTo>
                <a:close/>
                <a:moveTo>
                  <a:pt x="1534" y="1359"/>
                </a:moveTo>
                <a:lnTo>
                  <a:pt x="1534" y="1369"/>
                </a:lnTo>
                <a:lnTo>
                  <a:pt x="1517" y="1369"/>
                </a:lnTo>
                <a:lnTo>
                  <a:pt x="1517" y="1359"/>
                </a:lnTo>
                <a:lnTo>
                  <a:pt x="1534" y="1359"/>
                </a:lnTo>
                <a:close/>
                <a:moveTo>
                  <a:pt x="1526" y="1376"/>
                </a:moveTo>
                <a:lnTo>
                  <a:pt x="1517" y="1376"/>
                </a:lnTo>
                <a:lnTo>
                  <a:pt x="1517" y="1369"/>
                </a:lnTo>
                <a:lnTo>
                  <a:pt x="1526" y="1369"/>
                </a:lnTo>
                <a:lnTo>
                  <a:pt x="1526" y="1376"/>
                </a:lnTo>
                <a:close/>
                <a:moveTo>
                  <a:pt x="1526" y="1361"/>
                </a:moveTo>
                <a:lnTo>
                  <a:pt x="1540" y="1361"/>
                </a:lnTo>
                <a:lnTo>
                  <a:pt x="1540" y="1376"/>
                </a:lnTo>
                <a:lnTo>
                  <a:pt x="1526" y="1376"/>
                </a:lnTo>
                <a:lnTo>
                  <a:pt x="1526" y="1361"/>
                </a:lnTo>
                <a:close/>
                <a:moveTo>
                  <a:pt x="1540" y="1361"/>
                </a:moveTo>
                <a:lnTo>
                  <a:pt x="1547" y="1361"/>
                </a:lnTo>
                <a:lnTo>
                  <a:pt x="1547" y="1369"/>
                </a:lnTo>
                <a:lnTo>
                  <a:pt x="1540" y="1369"/>
                </a:lnTo>
                <a:lnTo>
                  <a:pt x="1540" y="1361"/>
                </a:lnTo>
                <a:close/>
                <a:moveTo>
                  <a:pt x="1547" y="1369"/>
                </a:moveTo>
                <a:lnTo>
                  <a:pt x="1547" y="1380"/>
                </a:lnTo>
                <a:lnTo>
                  <a:pt x="1530" y="1380"/>
                </a:lnTo>
                <a:lnTo>
                  <a:pt x="1530" y="1369"/>
                </a:lnTo>
                <a:lnTo>
                  <a:pt x="1547" y="1369"/>
                </a:lnTo>
                <a:close/>
                <a:moveTo>
                  <a:pt x="1547" y="1380"/>
                </a:moveTo>
                <a:lnTo>
                  <a:pt x="1547" y="1392"/>
                </a:lnTo>
                <a:lnTo>
                  <a:pt x="1530" y="1392"/>
                </a:lnTo>
                <a:lnTo>
                  <a:pt x="1530" y="1380"/>
                </a:lnTo>
                <a:lnTo>
                  <a:pt x="1547" y="1380"/>
                </a:lnTo>
                <a:close/>
                <a:moveTo>
                  <a:pt x="1540" y="1399"/>
                </a:moveTo>
                <a:lnTo>
                  <a:pt x="1530" y="1399"/>
                </a:lnTo>
                <a:lnTo>
                  <a:pt x="1530" y="1392"/>
                </a:lnTo>
                <a:lnTo>
                  <a:pt x="1540" y="1392"/>
                </a:lnTo>
                <a:lnTo>
                  <a:pt x="1540" y="1399"/>
                </a:lnTo>
                <a:close/>
                <a:moveTo>
                  <a:pt x="1540" y="1384"/>
                </a:moveTo>
                <a:lnTo>
                  <a:pt x="1545" y="1384"/>
                </a:lnTo>
                <a:lnTo>
                  <a:pt x="1545" y="1399"/>
                </a:lnTo>
                <a:lnTo>
                  <a:pt x="1540" y="1399"/>
                </a:lnTo>
                <a:lnTo>
                  <a:pt x="1540" y="1384"/>
                </a:lnTo>
                <a:close/>
                <a:moveTo>
                  <a:pt x="1545" y="1384"/>
                </a:moveTo>
                <a:lnTo>
                  <a:pt x="1553" y="1384"/>
                </a:lnTo>
                <a:lnTo>
                  <a:pt x="1553" y="1392"/>
                </a:lnTo>
                <a:lnTo>
                  <a:pt x="1545" y="1392"/>
                </a:lnTo>
                <a:lnTo>
                  <a:pt x="1545" y="1384"/>
                </a:lnTo>
                <a:close/>
                <a:moveTo>
                  <a:pt x="1553" y="1392"/>
                </a:moveTo>
                <a:lnTo>
                  <a:pt x="1553" y="1409"/>
                </a:lnTo>
                <a:lnTo>
                  <a:pt x="1536" y="1409"/>
                </a:lnTo>
                <a:lnTo>
                  <a:pt x="1536" y="1392"/>
                </a:lnTo>
                <a:lnTo>
                  <a:pt x="1553" y="1392"/>
                </a:lnTo>
                <a:close/>
                <a:moveTo>
                  <a:pt x="1545" y="1417"/>
                </a:moveTo>
                <a:lnTo>
                  <a:pt x="1536" y="1417"/>
                </a:lnTo>
                <a:lnTo>
                  <a:pt x="1536" y="1409"/>
                </a:lnTo>
                <a:lnTo>
                  <a:pt x="1545" y="1409"/>
                </a:lnTo>
                <a:lnTo>
                  <a:pt x="1545" y="1417"/>
                </a:lnTo>
                <a:close/>
                <a:moveTo>
                  <a:pt x="1545" y="1401"/>
                </a:moveTo>
                <a:lnTo>
                  <a:pt x="1565" y="1401"/>
                </a:lnTo>
                <a:lnTo>
                  <a:pt x="1565" y="1417"/>
                </a:lnTo>
                <a:lnTo>
                  <a:pt x="1545" y="1417"/>
                </a:lnTo>
                <a:lnTo>
                  <a:pt x="1545" y="1401"/>
                </a:lnTo>
                <a:close/>
                <a:moveTo>
                  <a:pt x="1565" y="1401"/>
                </a:moveTo>
                <a:lnTo>
                  <a:pt x="1572" y="1401"/>
                </a:lnTo>
                <a:lnTo>
                  <a:pt x="1572" y="1409"/>
                </a:lnTo>
                <a:lnTo>
                  <a:pt x="1565" y="1409"/>
                </a:lnTo>
                <a:lnTo>
                  <a:pt x="1565" y="1401"/>
                </a:lnTo>
                <a:close/>
                <a:moveTo>
                  <a:pt x="1572" y="1409"/>
                </a:moveTo>
                <a:lnTo>
                  <a:pt x="1572" y="1418"/>
                </a:lnTo>
                <a:lnTo>
                  <a:pt x="1557" y="1418"/>
                </a:lnTo>
                <a:lnTo>
                  <a:pt x="1557" y="1409"/>
                </a:lnTo>
                <a:lnTo>
                  <a:pt x="1572" y="1409"/>
                </a:lnTo>
                <a:close/>
                <a:moveTo>
                  <a:pt x="1565" y="1426"/>
                </a:moveTo>
                <a:lnTo>
                  <a:pt x="1557" y="1426"/>
                </a:lnTo>
                <a:lnTo>
                  <a:pt x="1557" y="1418"/>
                </a:lnTo>
                <a:lnTo>
                  <a:pt x="1565" y="1418"/>
                </a:lnTo>
                <a:lnTo>
                  <a:pt x="1565" y="1426"/>
                </a:lnTo>
                <a:close/>
                <a:moveTo>
                  <a:pt x="1565" y="1411"/>
                </a:moveTo>
                <a:lnTo>
                  <a:pt x="1611" y="1411"/>
                </a:lnTo>
                <a:lnTo>
                  <a:pt x="1611" y="1426"/>
                </a:lnTo>
                <a:lnTo>
                  <a:pt x="1565" y="1426"/>
                </a:lnTo>
                <a:lnTo>
                  <a:pt x="1565" y="1411"/>
                </a:lnTo>
                <a:close/>
                <a:moveTo>
                  <a:pt x="1611" y="1411"/>
                </a:moveTo>
                <a:lnTo>
                  <a:pt x="1618" y="1411"/>
                </a:lnTo>
                <a:lnTo>
                  <a:pt x="1618" y="1418"/>
                </a:lnTo>
                <a:lnTo>
                  <a:pt x="1611" y="1418"/>
                </a:lnTo>
                <a:lnTo>
                  <a:pt x="1611" y="1411"/>
                </a:lnTo>
                <a:close/>
                <a:moveTo>
                  <a:pt x="1618" y="1418"/>
                </a:moveTo>
                <a:lnTo>
                  <a:pt x="1618" y="1430"/>
                </a:lnTo>
                <a:lnTo>
                  <a:pt x="1603" y="1430"/>
                </a:lnTo>
                <a:lnTo>
                  <a:pt x="1603" y="1418"/>
                </a:lnTo>
                <a:lnTo>
                  <a:pt x="1618" y="1418"/>
                </a:lnTo>
                <a:close/>
                <a:moveTo>
                  <a:pt x="1611" y="1438"/>
                </a:moveTo>
                <a:lnTo>
                  <a:pt x="1603" y="1438"/>
                </a:lnTo>
                <a:lnTo>
                  <a:pt x="1603" y="1430"/>
                </a:lnTo>
                <a:lnTo>
                  <a:pt x="1611" y="1430"/>
                </a:lnTo>
                <a:lnTo>
                  <a:pt x="1611" y="1438"/>
                </a:lnTo>
                <a:close/>
                <a:moveTo>
                  <a:pt x="1611" y="1422"/>
                </a:moveTo>
                <a:lnTo>
                  <a:pt x="1649" y="1422"/>
                </a:lnTo>
                <a:lnTo>
                  <a:pt x="1649" y="1438"/>
                </a:lnTo>
                <a:lnTo>
                  <a:pt x="1611" y="1438"/>
                </a:lnTo>
                <a:lnTo>
                  <a:pt x="1611" y="1422"/>
                </a:lnTo>
                <a:close/>
                <a:moveTo>
                  <a:pt x="1649" y="1422"/>
                </a:moveTo>
                <a:lnTo>
                  <a:pt x="1659" y="1422"/>
                </a:lnTo>
                <a:lnTo>
                  <a:pt x="1659" y="1430"/>
                </a:lnTo>
                <a:lnTo>
                  <a:pt x="1649" y="1430"/>
                </a:lnTo>
                <a:lnTo>
                  <a:pt x="1649" y="1422"/>
                </a:lnTo>
                <a:close/>
                <a:moveTo>
                  <a:pt x="1659" y="1430"/>
                </a:moveTo>
                <a:lnTo>
                  <a:pt x="1659" y="1453"/>
                </a:lnTo>
                <a:lnTo>
                  <a:pt x="1641" y="1453"/>
                </a:lnTo>
                <a:lnTo>
                  <a:pt x="1641" y="1430"/>
                </a:lnTo>
                <a:lnTo>
                  <a:pt x="1659" y="1430"/>
                </a:lnTo>
                <a:close/>
                <a:moveTo>
                  <a:pt x="1649" y="1461"/>
                </a:moveTo>
                <a:lnTo>
                  <a:pt x="1641" y="1461"/>
                </a:lnTo>
                <a:lnTo>
                  <a:pt x="1641" y="1453"/>
                </a:lnTo>
                <a:lnTo>
                  <a:pt x="1649" y="1453"/>
                </a:lnTo>
                <a:lnTo>
                  <a:pt x="1649" y="1461"/>
                </a:lnTo>
                <a:close/>
                <a:moveTo>
                  <a:pt x="1649" y="1445"/>
                </a:moveTo>
                <a:lnTo>
                  <a:pt x="1703" y="1445"/>
                </a:lnTo>
                <a:lnTo>
                  <a:pt x="1703" y="1461"/>
                </a:lnTo>
                <a:lnTo>
                  <a:pt x="1649" y="1461"/>
                </a:lnTo>
                <a:lnTo>
                  <a:pt x="1649" y="1445"/>
                </a:lnTo>
                <a:close/>
                <a:moveTo>
                  <a:pt x="1703" y="1445"/>
                </a:moveTo>
                <a:lnTo>
                  <a:pt x="1710" y="1445"/>
                </a:lnTo>
                <a:lnTo>
                  <a:pt x="1710" y="1453"/>
                </a:lnTo>
                <a:lnTo>
                  <a:pt x="1703" y="1453"/>
                </a:lnTo>
                <a:lnTo>
                  <a:pt x="1703" y="1445"/>
                </a:lnTo>
                <a:close/>
                <a:moveTo>
                  <a:pt x="1710" y="1453"/>
                </a:moveTo>
                <a:lnTo>
                  <a:pt x="1710" y="1470"/>
                </a:lnTo>
                <a:lnTo>
                  <a:pt x="1695" y="1470"/>
                </a:lnTo>
                <a:lnTo>
                  <a:pt x="1695" y="1453"/>
                </a:lnTo>
                <a:lnTo>
                  <a:pt x="1710" y="1453"/>
                </a:lnTo>
                <a:close/>
                <a:moveTo>
                  <a:pt x="1710" y="1470"/>
                </a:moveTo>
                <a:lnTo>
                  <a:pt x="1710" y="1480"/>
                </a:lnTo>
                <a:lnTo>
                  <a:pt x="1695" y="1480"/>
                </a:lnTo>
                <a:lnTo>
                  <a:pt x="1695" y="1470"/>
                </a:lnTo>
                <a:lnTo>
                  <a:pt x="1710" y="1470"/>
                </a:lnTo>
                <a:close/>
                <a:moveTo>
                  <a:pt x="1703" y="1488"/>
                </a:moveTo>
                <a:lnTo>
                  <a:pt x="1695" y="1488"/>
                </a:lnTo>
                <a:lnTo>
                  <a:pt x="1695" y="1480"/>
                </a:lnTo>
                <a:lnTo>
                  <a:pt x="1703" y="1480"/>
                </a:lnTo>
                <a:lnTo>
                  <a:pt x="1703" y="1488"/>
                </a:lnTo>
                <a:close/>
                <a:moveTo>
                  <a:pt x="1703" y="1474"/>
                </a:moveTo>
                <a:lnTo>
                  <a:pt x="1735" y="1474"/>
                </a:lnTo>
                <a:lnTo>
                  <a:pt x="1735" y="1488"/>
                </a:lnTo>
                <a:lnTo>
                  <a:pt x="1703" y="1488"/>
                </a:lnTo>
                <a:lnTo>
                  <a:pt x="1703" y="1474"/>
                </a:lnTo>
                <a:close/>
                <a:moveTo>
                  <a:pt x="1735" y="1474"/>
                </a:moveTo>
                <a:lnTo>
                  <a:pt x="1743" y="1474"/>
                </a:lnTo>
                <a:lnTo>
                  <a:pt x="1743" y="1480"/>
                </a:lnTo>
                <a:lnTo>
                  <a:pt x="1735" y="1480"/>
                </a:lnTo>
                <a:lnTo>
                  <a:pt x="1735" y="1474"/>
                </a:lnTo>
                <a:close/>
                <a:moveTo>
                  <a:pt x="1743" y="1480"/>
                </a:moveTo>
                <a:lnTo>
                  <a:pt x="1743" y="1491"/>
                </a:lnTo>
                <a:lnTo>
                  <a:pt x="1728" y="1491"/>
                </a:lnTo>
                <a:lnTo>
                  <a:pt x="1728" y="1480"/>
                </a:lnTo>
                <a:lnTo>
                  <a:pt x="1743" y="1480"/>
                </a:lnTo>
                <a:close/>
                <a:moveTo>
                  <a:pt x="1735" y="1499"/>
                </a:moveTo>
                <a:lnTo>
                  <a:pt x="1728" y="1499"/>
                </a:lnTo>
                <a:lnTo>
                  <a:pt x="1728" y="1491"/>
                </a:lnTo>
                <a:lnTo>
                  <a:pt x="1735" y="1491"/>
                </a:lnTo>
                <a:lnTo>
                  <a:pt x="1735" y="1499"/>
                </a:lnTo>
                <a:close/>
                <a:moveTo>
                  <a:pt x="1735" y="1486"/>
                </a:moveTo>
                <a:lnTo>
                  <a:pt x="1768" y="1486"/>
                </a:lnTo>
                <a:lnTo>
                  <a:pt x="1768" y="1499"/>
                </a:lnTo>
                <a:lnTo>
                  <a:pt x="1735" y="1499"/>
                </a:lnTo>
                <a:lnTo>
                  <a:pt x="1735" y="1486"/>
                </a:lnTo>
                <a:close/>
                <a:moveTo>
                  <a:pt x="1768" y="1486"/>
                </a:moveTo>
                <a:lnTo>
                  <a:pt x="1776" y="1486"/>
                </a:lnTo>
                <a:lnTo>
                  <a:pt x="1776" y="1491"/>
                </a:lnTo>
                <a:lnTo>
                  <a:pt x="1768" y="1491"/>
                </a:lnTo>
                <a:lnTo>
                  <a:pt x="1768" y="1486"/>
                </a:lnTo>
                <a:close/>
                <a:moveTo>
                  <a:pt x="1776" y="1491"/>
                </a:moveTo>
                <a:lnTo>
                  <a:pt x="1776" y="1509"/>
                </a:lnTo>
                <a:lnTo>
                  <a:pt x="1760" y="1509"/>
                </a:lnTo>
                <a:lnTo>
                  <a:pt x="1760" y="1491"/>
                </a:lnTo>
                <a:lnTo>
                  <a:pt x="1776" y="1491"/>
                </a:lnTo>
                <a:close/>
                <a:moveTo>
                  <a:pt x="1768" y="1516"/>
                </a:moveTo>
                <a:lnTo>
                  <a:pt x="1760" y="1516"/>
                </a:lnTo>
                <a:lnTo>
                  <a:pt x="1760" y="1509"/>
                </a:lnTo>
                <a:lnTo>
                  <a:pt x="1768" y="1509"/>
                </a:lnTo>
                <a:lnTo>
                  <a:pt x="1768" y="1516"/>
                </a:lnTo>
                <a:close/>
                <a:moveTo>
                  <a:pt x="1768" y="1501"/>
                </a:moveTo>
                <a:lnTo>
                  <a:pt x="1776" y="1501"/>
                </a:lnTo>
                <a:lnTo>
                  <a:pt x="1776" y="1516"/>
                </a:lnTo>
                <a:lnTo>
                  <a:pt x="1768" y="1516"/>
                </a:lnTo>
                <a:lnTo>
                  <a:pt x="1768" y="1501"/>
                </a:lnTo>
                <a:close/>
                <a:moveTo>
                  <a:pt x="1776" y="1501"/>
                </a:moveTo>
                <a:lnTo>
                  <a:pt x="1783" y="1501"/>
                </a:lnTo>
                <a:lnTo>
                  <a:pt x="1783" y="1509"/>
                </a:lnTo>
                <a:lnTo>
                  <a:pt x="1776" y="1509"/>
                </a:lnTo>
                <a:lnTo>
                  <a:pt x="1776" y="1501"/>
                </a:lnTo>
                <a:close/>
                <a:moveTo>
                  <a:pt x="1783" y="1509"/>
                </a:moveTo>
                <a:lnTo>
                  <a:pt x="1783" y="1520"/>
                </a:lnTo>
                <a:lnTo>
                  <a:pt x="1768" y="1520"/>
                </a:lnTo>
                <a:lnTo>
                  <a:pt x="1768" y="1509"/>
                </a:lnTo>
                <a:lnTo>
                  <a:pt x="1783" y="1509"/>
                </a:lnTo>
                <a:close/>
                <a:moveTo>
                  <a:pt x="1776" y="1528"/>
                </a:moveTo>
                <a:lnTo>
                  <a:pt x="1768" y="1528"/>
                </a:lnTo>
                <a:lnTo>
                  <a:pt x="1768" y="1520"/>
                </a:lnTo>
                <a:lnTo>
                  <a:pt x="1776" y="1520"/>
                </a:lnTo>
                <a:lnTo>
                  <a:pt x="1776" y="1528"/>
                </a:lnTo>
                <a:close/>
                <a:moveTo>
                  <a:pt x="1776" y="1513"/>
                </a:moveTo>
                <a:lnTo>
                  <a:pt x="1795" y="1513"/>
                </a:lnTo>
                <a:lnTo>
                  <a:pt x="1795" y="1528"/>
                </a:lnTo>
                <a:lnTo>
                  <a:pt x="1776" y="1528"/>
                </a:lnTo>
                <a:lnTo>
                  <a:pt x="1776" y="1513"/>
                </a:lnTo>
                <a:close/>
                <a:moveTo>
                  <a:pt x="1795" y="1513"/>
                </a:moveTo>
                <a:lnTo>
                  <a:pt x="1803" y="1513"/>
                </a:lnTo>
                <a:lnTo>
                  <a:pt x="1803" y="1520"/>
                </a:lnTo>
                <a:lnTo>
                  <a:pt x="1795" y="1520"/>
                </a:lnTo>
                <a:lnTo>
                  <a:pt x="1795" y="1513"/>
                </a:lnTo>
                <a:close/>
                <a:moveTo>
                  <a:pt x="1803" y="1520"/>
                </a:moveTo>
                <a:lnTo>
                  <a:pt x="1803" y="1530"/>
                </a:lnTo>
                <a:lnTo>
                  <a:pt x="1785" y="1530"/>
                </a:lnTo>
                <a:lnTo>
                  <a:pt x="1785" y="1520"/>
                </a:lnTo>
                <a:lnTo>
                  <a:pt x="1803" y="1520"/>
                </a:lnTo>
                <a:close/>
                <a:moveTo>
                  <a:pt x="1795" y="1537"/>
                </a:moveTo>
                <a:lnTo>
                  <a:pt x="1785" y="1537"/>
                </a:lnTo>
                <a:lnTo>
                  <a:pt x="1785" y="1530"/>
                </a:lnTo>
                <a:lnTo>
                  <a:pt x="1795" y="1530"/>
                </a:lnTo>
                <a:lnTo>
                  <a:pt x="1795" y="1537"/>
                </a:lnTo>
                <a:close/>
                <a:moveTo>
                  <a:pt x="1795" y="1524"/>
                </a:moveTo>
                <a:lnTo>
                  <a:pt x="1808" y="1524"/>
                </a:lnTo>
                <a:lnTo>
                  <a:pt x="1808" y="1537"/>
                </a:lnTo>
                <a:lnTo>
                  <a:pt x="1795" y="1537"/>
                </a:lnTo>
                <a:lnTo>
                  <a:pt x="1795" y="1524"/>
                </a:lnTo>
                <a:close/>
                <a:moveTo>
                  <a:pt x="1808" y="1524"/>
                </a:moveTo>
                <a:lnTo>
                  <a:pt x="1816" y="1524"/>
                </a:lnTo>
                <a:lnTo>
                  <a:pt x="1816" y="1530"/>
                </a:lnTo>
                <a:lnTo>
                  <a:pt x="1808" y="1530"/>
                </a:lnTo>
                <a:lnTo>
                  <a:pt x="1808" y="1524"/>
                </a:lnTo>
                <a:close/>
                <a:moveTo>
                  <a:pt x="1816" y="1530"/>
                </a:moveTo>
                <a:lnTo>
                  <a:pt x="1816" y="1547"/>
                </a:lnTo>
                <a:lnTo>
                  <a:pt x="1799" y="1547"/>
                </a:lnTo>
                <a:lnTo>
                  <a:pt x="1799" y="1530"/>
                </a:lnTo>
                <a:lnTo>
                  <a:pt x="1816" y="1530"/>
                </a:lnTo>
                <a:close/>
                <a:moveTo>
                  <a:pt x="1808" y="1555"/>
                </a:moveTo>
                <a:lnTo>
                  <a:pt x="1799" y="1555"/>
                </a:lnTo>
                <a:lnTo>
                  <a:pt x="1799" y="1547"/>
                </a:lnTo>
                <a:lnTo>
                  <a:pt x="1808" y="1547"/>
                </a:lnTo>
                <a:lnTo>
                  <a:pt x="1808" y="1555"/>
                </a:lnTo>
                <a:close/>
                <a:moveTo>
                  <a:pt x="1808" y="1539"/>
                </a:moveTo>
                <a:lnTo>
                  <a:pt x="1860" y="1539"/>
                </a:lnTo>
                <a:lnTo>
                  <a:pt x="1860" y="1555"/>
                </a:lnTo>
                <a:lnTo>
                  <a:pt x="1808" y="1555"/>
                </a:lnTo>
                <a:lnTo>
                  <a:pt x="1808" y="1539"/>
                </a:lnTo>
                <a:close/>
                <a:moveTo>
                  <a:pt x="1860" y="1539"/>
                </a:moveTo>
                <a:lnTo>
                  <a:pt x="1868" y="1539"/>
                </a:lnTo>
                <a:lnTo>
                  <a:pt x="1868" y="1547"/>
                </a:lnTo>
                <a:lnTo>
                  <a:pt x="1860" y="1547"/>
                </a:lnTo>
                <a:lnTo>
                  <a:pt x="1860" y="1539"/>
                </a:lnTo>
                <a:close/>
                <a:moveTo>
                  <a:pt x="1868" y="1547"/>
                </a:moveTo>
                <a:lnTo>
                  <a:pt x="1868" y="1559"/>
                </a:lnTo>
                <a:lnTo>
                  <a:pt x="1852" y="1559"/>
                </a:lnTo>
                <a:lnTo>
                  <a:pt x="1852" y="1547"/>
                </a:lnTo>
                <a:lnTo>
                  <a:pt x="1868" y="1547"/>
                </a:lnTo>
                <a:close/>
                <a:moveTo>
                  <a:pt x="1860" y="1566"/>
                </a:moveTo>
                <a:lnTo>
                  <a:pt x="1852" y="1566"/>
                </a:lnTo>
                <a:lnTo>
                  <a:pt x="1852" y="1559"/>
                </a:lnTo>
                <a:lnTo>
                  <a:pt x="1860" y="1559"/>
                </a:lnTo>
                <a:lnTo>
                  <a:pt x="1860" y="1566"/>
                </a:lnTo>
                <a:close/>
                <a:moveTo>
                  <a:pt x="1860" y="1551"/>
                </a:moveTo>
                <a:lnTo>
                  <a:pt x="1925" y="1551"/>
                </a:lnTo>
                <a:lnTo>
                  <a:pt x="1925" y="1566"/>
                </a:lnTo>
                <a:lnTo>
                  <a:pt x="1860" y="1566"/>
                </a:lnTo>
                <a:lnTo>
                  <a:pt x="1860" y="1551"/>
                </a:lnTo>
                <a:close/>
                <a:moveTo>
                  <a:pt x="1925" y="1551"/>
                </a:moveTo>
                <a:lnTo>
                  <a:pt x="1935" y="1551"/>
                </a:lnTo>
                <a:lnTo>
                  <a:pt x="1935" y="1559"/>
                </a:lnTo>
                <a:lnTo>
                  <a:pt x="1925" y="1559"/>
                </a:lnTo>
                <a:lnTo>
                  <a:pt x="1925" y="1551"/>
                </a:lnTo>
                <a:close/>
                <a:moveTo>
                  <a:pt x="1935" y="1559"/>
                </a:moveTo>
                <a:lnTo>
                  <a:pt x="1935" y="1576"/>
                </a:lnTo>
                <a:lnTo>
                  <a:pt x="1918" y="1576"/>
                </a:lnTo>
                <a:lnTo>
                  <a:pt x="1918" y="1559"/>
                </a:lnTo>
                <a:lnTo>
                  <a:pt x="1935" y="1559"/>
                </a:lnTo>
                <a:close/>
                <a:moveTo>
                  <a:pt x="1925" y="1584"/>
                </a:moveTo>
                <a:lnTo>
                  <a:pt x="1918" y="1584"/>
                </a:lnTo>
                <a:lnTo>
                  <a:pt x="1918" y="1576"/>
                </a:lnTo>
                <a:lnTo>
                  <a:pt x="1925" y="1576"/>
                </a:lnTo>
                <a:lnTo>
                  <a:pt x="1925" y="1584"/>
                </a:lnTo>
                <a:close/>
                <a:moveTo>
                  <a:pt x="1925" y="1568"/>
                </a:moveTo>
                <a:lnTo>
                  <a:pt x="1966" y="1568"/>
                </a:lnTo>
                <a:lnTo>
                  <a:pt x="1966" y="1584"/>
                </a:lnTo>
                <a:lnTo>
                  <a:pt x="1925" y="1584"/>
                </a:lnTo>
                <a:lnTo>
                  <a:pt x="1925" y="1568"/>
                </a:lnTo>
                <a:close/>
                <a:moveTo>
                  <a:pt x="1966" y="1568"/>
                </a:moveTo>
                <a:lnTo>
                  <a:pt x="1973" y="1568"/>
                </a:lnTo>
                <a:lnTo>
                  <a:pt x="1973" y="1576"/>
                </a:lnTo>
                <a:lnTo>
                  <a:pt x="1966" y="1576"/>
                </a:lnTo>
                <a:lnTo>
                  <a:pt x="1966" y="1568"/>
                </a:lnTo>
                <a:close/>
                <a:moveTo>
                  <a:pt x="1973" y="1576"/>
                </a:moveTo>
                <a:lnTo>
                  <a:pt x="1973" y="1593"/>
                </a:lnTo>
                <a:lnTo>
                  <a:pt x="1958" y="1593"/>
                </a:lnTo>
                <a:lnTo>
                  <a:pt x="1958" y="1576"/>
                </a:lnTo>
                <a:lnTo>
                  <a:pt x="1973" y="1576"/>
                </a:lnTo>
                <a:close/>
                <a:moveTo>
                  <a:pt x="1973" y="1593"/>
                </a:moveTo>
                <a:lnTo>
                  <a:pt x="1973" y="1608"/>
                </a:lnTo>
                <a:lnTo>
                  <a:pt x="1958" y="1608"/>
                </a:lnTo>
                <a:lnTo>
                  <a:pt x="1958" y="1593"/>
                </a:lnTo>
                <a:lnTo>
                  <a:pt x="1973" y="1593"/>
                </a:lnTo>
                <a:close/>
                <a:moveTo>
                  <a:pt x="1966" y="1616"/>
                </a:moveTo>
                <a:lnTo>
                  <a:pt x="1958" y="1616"/>
                </a:lnTo>
                <a:lnTo>
                  <a:pt x="1958" y="1608"/>
                </a:lnTo>
                <a:lnTo>
                  <a:pt x="1966" y="1608"/>
                </a:lnTo>
                <a:lnTo>
                  <a:pt x="1966" y="1616"/>
                </a:lnTo>
                <a:close/>
                <a:moveTo>
                  <a:pt x="1966" y="1601"/>
                </a:moveTo>
                <a:lnTo>
                  <a:pt x="1998" y="1601"/>
                </a:lnTo>
                <a:lnTo>
                  <a:pt x="1998" y="1616"/>
                </a:lnTo>
                <a:lnTo>
                  <a:pt x="1966" y="1616"/>
                </a:lnTo>
                <a:lnTo>
                  <a:pt x="1966" y="1601"/>
                </a:lnTo>
                <a:close/>
                <a:moveTo>
                  <a:pt x="1998" y="1601"/>
                </a:moveTo>
                <a:lnTo>
                  <a:pt x="2006" y="1601"/>
                </a:lnTo>
                <a:lnTo>
                  <a:pt x="2006" y="1608"/>
                </a:lnTo>
                <a:lnTo>
                  <a:pt x="1998" y="1608"/>
                </a:lnTo>
                <a:lnTo>
                  <a:pt x="1998" y="1601"/>
                </a:lnTo>
                <a:close/>
                <a:moveTo>
                  <a:pt x="2006" y="1608"/>
                </a:moveTo>
                <a:lnTo>
                  <a:pt x="2006" y="1626"/>
                </a:lnTo>
                <a:lnTo>
                  <a:pt x="1991" y="1626"/>
                </a:lnTo>
                <a:lnTo>
                  <a:pt x="1991" y="1608"/>
                </a:lnTo>
                <a:lnTo>
                  <a:pt x="2006" y="1608"/>
                </a:lnTo>
                <a:close/>
                <a:moveTo>
                  <a:pt x="1998" y="1633"/>
                </a:moveTo>
                <a:lnTo>
                  <a:pt x="1991" y="1633"/>
                </a:lnTo>
                <a:lnTo>
                  <a:pt x="1991" y="1626"/>
                </a:lnTo>
                <a:lnTo>
                  <a:pt x="1998" y="1626"/>
                </a:lnTo>
                <a:lnTo>
                  <a:pt x="1998" y="1633"/>
                </a:lnTo>
                <a:close/>
                <a:moveTo>
                  <a:pt x="1998" y="1618"/>
                </a:moveTo>
                <a:lnTo>
                  <a:pt x="2117" y="1618"/>
                </a:lnTo>
                <a:lnTo>
                  <a:pt x="2117" y="1633"/>
                </a:lnTo>
                <a:lnTo>
                  <a:pt x="1998" y="1633"/>
                </a:lnTo>
                <a:lnTo>
                  <a:pt x="1998" y="1618"/>
                </a:lnTo>
                <a:close/>
                <a:moveTo>
                  <a:pt x="2117" y="1618"/>
                </a:moveTo>
                <a:lnTo>
                  <a:pt x="2125" y="1618"/>
                </a:lnTo>
                <a:lnTo>
                  <a:pt x="2125" y="1626"/>
                </a:lnTo>
                <a:lnTo>
                  <a:pt x="2117" y="1626"/>
                </a:lnTo>
                <a:lnTo>
                  <a:pt x="2117" y="1618"/>
                </a:lnTo>
                <a:close/>
                <a:moveTo>
                  <a:pt x="2125" y="1626"/>
                </a:moveTo>
                <a:lnTo>
                  <a:pt x="2125" y="1649"/>
                </a:lnTo>
                <a:lnTo>
                  <a:pt x="2110" y="1649"/>
                </a:lnTo>
                <a:lnTo>
                  <a:pt x="2110" y="1626"/>
                </a:lnTo>
                <a:lnTo>
                  <a:pt x="2125" y="1626"/>
                </a:lnTo>
                <a:close/>
                <a:moveTo>
                  <a:pt x="2117" y="1656"/>
                </a:moveTo>
                <a:lnTo>
                  <a:pt x="2110" y="1656"/>
                </a:lnTo>
                <a:lnTo>
                  <a:pt x="2110" y="1649"/>
                </a:lnTo>
                <a:lnTo>
                  <a:pt x="2117" y="1649"/>
                </a:lnTo>
                <a:lnTo>
                  <a:pt x="2117" y="1656"/>
                </a:lnTo>
                <a:close/>
                <a:moveTo>
                  <a:pt x="2117" y="1641"/>
                </a:moveTo>
                <a:lnTo>
                  <a:pt x="2150" y="1641"/>
                </a:lnTo>
                <a:lnTo>
                  <a:pt x="2150" y="1656"/>
                </a:lnTo>
                <a:lnTo>
                  <a:pt x="2117" y="1656"/>
                </a:lnTo>
                <a:lnTo>
                  <a:pt x="2117" y="1641"/>
                </a:lnTo>
                <a:close/>
                <a:moveTo>
                  <a:pt x="2150" y="1641"/>
                </a:moveTo>
                <a:lnTo>
                  <a:pt x="2158" y="1641"/>
                </a:lnTo>
                <a:lnTo>
                  <a:pt x="2158" y="1649"/>
                </a:lnTo>
                <a:lnTo>
                  <a:pt x="2150" y="1649"/>
                </a:lnTo>
                <a:lnTo>
                  <a:pt x="2150" y="1641"/>
                </a:lnTo>
                <a:close/>
                <a:moveTo>
                  <a:pt x="2158" y="1649"/>
                </a:moveTo>
                <a:lnTo>
                  <a:pt x="2158" y="1676"/>
                </a:lnTo>
                <a:lnTo>
                  <a:pt x="2140" y="1676"/>
                </a:lnTo>
                <a:lnTo>
                  <a:pt x="2140" y="1649"/>
                </a:lnTo>
                <a:lnTo>
                  <a:pt x="2158" y="1649"/>
                </a:lnTo>
                <a:close/>
                <a:moveTo>
                  <a:pt x="2150" y="1683"/>
                </a:moveTo>
                <a:lnTo>
                  <a:pt x="2140" y="1683"/>
                </a:lnTo>
                <a:lnTo>
                  <a:pt x="2140" y="1676"/>
                </a:lnTo>
                <a:lnTo>
                  <a:pt x="2150" y="1676"/>
                </a:lnTo>
                <a:lnTo>
                  <a:pt x="2150" y="1683"/>
                </a:lnTo>
                <a:close/>
                <a:moveTo>
                  <a:pt x="2150" y="1668"/>
                </a:moveTo>
                <a:lnTo>
                  <a:pt x="2183" y="1668"/>
                </a:lnTo>
                <a:lnTo>
                  <a:pt x="2183" y="1683"/>
                </a:lnTo>
                <a:lnTo>
                  <a:pt x="2150" y="1683"/>
                </a:lnTo>
                <a:lnTo>
                  <a:pt x="2150" y="1668"/>
                </a:lnTo>
                <a:close/>
                <a:moveTo>
                  <a:pt x="2183" y="1668"/>
                </a:moveTo>
                <a:lnTo>
                  <a:pt x="2190" y="1668"/>
                </a:lnTo>
                <a:lnTo>
                  <a:pt x="2190" y="1676"/>
                </a:lnTo>
                <a:lnTo>
                  <a:pt x="2183" y="1676"/>
                </a:lnTo>
                <a:lnTo>
                  <a:pt x="2183" y="1668"/>
                </a:lnTo>
                <a:close/>
                <a:moveTo>
                  <a:pt x="2190" y="1676"/>
                </a:moveTo>
                <a:lnTo>
                  <a:pt x="2190" y="1708"/>
                </a:lnTo>
                <a:lnTo>
                  <a:pt x="2173" y="1708"/>
                </a:lnTo>
                <a:lnTo>
                  <a:pt x="2173" y="1676"/>
                </a:lnTo>
                <a:lnTo>
                  <a:pt x="2190" y="1676"/>
                </a:lnTo>
                <a:close/>
                <a:moveTo>
                  <a:pt x="2183" y="1716"/>
                </a:moveTo>
                <a:lnTo>
                  <a:pt x="2173" y="1716"/>
                </a:lnTo>
                <a:lnTo>
                  <a:pt x="2173" y="1708"/>
                </a:lnTo>
                <a:lnTo>
                  <a:pt x="2183" y="1708"/>
                </a:lnTo>
                <a:lnTo>
                  <a:pt x="2183" y="1716"/>
                </a:lnTo>
                <a:close/>
                <a:moveTo>
                  <a:pt x="2183" y="1702"/>
                </a:moveTo>
                <a:lnTo>
                  <a:pt x="2326" y="1702"/>
                </a:lnTo>
                <a:lnTo>
                  <a:pt x="2326" y="1716"/>
                </a:lnTo>
                <a:lnTo>
                  <a:pt x="2183" y="1716"/>
                </a:lnTo>
                <a:lnTo>
                  <a:pt x="2183" y="1702"/>
                </a:lnTo>
                <a:close/>
                <a:moveTo>
                  <a:pt x="2326" y="1702"/>
                </a:moveTo>
                <a:lnTo>
                  <a:pt x="2334" y="1702"/>
                </a:lnTo>
                <a:lnTo>
                  <a:pt x="2334" y="1708"/>
                </a:lnTo>
                <a:lnTo>
                  <a:pt x="2326" y="1708"/>
                </a:lnTo>
                <a:lnTo>
                  <a:pt x="2326" y="1702"/>
                </a:lnTo>
                <a:close/>
                <a:moveTo>
                  <a:pt x="2334" y="1708"/>
                </a:moveTo>
                <a:lnTo>
                  <a:pt x="2334" y="1737"/>
                </a:lnTo>
                <a:lnTo>
                  <a:pt x="2319" y="1737"/>
                </a:lnTo>
                <a:lnTo>
                  <a:pt x="2319" y="1708"/>
                </a:lnTo>
                <a:lnTo>
                  <a:pt x="2334" y="1708"/>
                </a:lnTo>
                <a:close/>
                <a:moveTo>
                  <a:pt x="2326" y="1745"/>
                </a:moveTo>
                <a:lnTo>
                  <a:pt x="2319" y="1745"/>
                </a:lnTo>
                <a:lnTo>
                  <a:pt x="2319" y="1737"/>
                </a:lnTo>
                <a:lnTo>
                  <a:pt x="2326" y="1737"/>
                </a:lnTo>
                <a:lnTo>
                  <a:pt x="2326" y="1745"/>
                </a:lnTo>
                <a:close/>
                <a:moveTo>
                  <a:pt x="2326" y="1729"/>
                </a:moveTo>
                <a:lnTo>
                  <a:pt x="2411" y="1729"/>
                </a:lnTo>
                <a:lnTo>
                  <a:pt x="2411" y="1745"/>
                </a:lnTo>
                <a:lnTo>
                  <a:pt x="2326" y="1745"/>
                </a:lnTo>
                <a:lnTo>
                  <a:pt x="2326" y="1729"/>
                </a:lnTo>
                <a:close/>
                <a:moveTo>
                  <a:pt x="2411" y="1729"/>
                </a:moveTo>
                <a:lnTo>
                  <a:pt x="2419" y="1729"/>
                </a:lnTo>
                <a:lnTo>
                  <a:pt x="2419" y="1737"/>
                </a:lnTo>
                <a:lnTo>
                  <a:pt x="2411" y="1737"/>
                </a:lnTo>
                <a:lnTo>
                  <a:pt x="2411" y="1729"/>
                </a:lnTo>
                <a:close/>
                <a:moveTo>
                  <a:pt x="2419" y="1737"/>
                </a:moveTo>
                <a:lnTo>
                  <a:pt x="2419" y="1775"/>
                </a:lnTo>
                <a:lnTo>
                  <a:pt x="2403" y="1775"/>
                </a:lnTo>
                <a:lnTo>
                  <a:pt x="2403" y="1737"/>
                </a:lnTo>
                <a:lnTo>
                  <a:pt x="2419" y="1737"/>
                </a:lnTo>
                <a:close/>
                <a:moveTo>
                  <a:pt x="2411" y="1783"/>
                </a:moveTo>
                <a:lnTo>
                  <a:pt x="2403" y="1783"/>
                </a:lnTo>
                <a:lnTo>
                  <a:pt x="2403" y="1775"/>
                </a:lnTo>
                <a:lnTo>
                  <a:pt x="2411" y="1775"/>
                </a:lnTo>
                <a:lnTo>
                  <a:pt x="2411" y="1783"/>
                </a:lnTo>
                <a:close/>
                <a:moveTo>
                  <a:pt x="2411" y="1768"/>
                </a:moveTo>
                <a:lnTo>
                  <a:pt x="2465" y="1768"/>
                </a:lnTo>
                <a:lnTo>
                  <a:pt x="2465" y="1783"/>
                </a:lnTo>
                <a:lnTo>
                  <a:pt x="2411" y="1783"/>
                </a:lnTo>
                <a:lnTo>
                  <a:pt x="2411" y="1768"/>
                </a:lnTo>
                <a:close/>
                <a:moveTo>
                  <a:pt x="2465" y="1768"/>
                </a:moveTo>
                <a:lnTo>
                  <a:pt x="2472" y="1768"/>
                </a:lnTo>
                <a:lnTo>
                  <a:pt x="2472" y="1775"/>
                </a:lnTo>
                <a:lnTo>
                  <a:pt x="2465" y="1775"/>
                </a:lnTo>
                <a:lnTo>
                  <a:pt x="2465" y="1768"/>
                </a:lnTo>
                <a:close/>
                <a:moveTo>
                  <a:pt x="2472" y="1775"/>
                </a:moveTo>
                <a:lnTo>
                  <a:pt x="2472" y="1816"/>
                </a:lnTo>
                <a:lnTo>
                  <a:pt x="2457" y="1816"/>
                </a:lnTo>
                <a:lnTo>
                  <a:pt x="2457" y="1775"/>
                </a:lnTo>
                <a:lnTo>
                  <a:pt x="2472" y="1775"/>
                </a:lnTo>
                <a:close/>
                <a:moveTo>
                  <a:pt x="2465" y="1823"/>
                </a:moveTo>
                <a:lnTo>
                  <a:pt x="2457" y="1823"/>
                </a:lnTo>
                <a:lnTo>
                  <a:pt x="2457" y="1816"/>
                </a:lnTo>
                <a:lnTo>
                  <a:pt x="2465" y="1816"/>
                </a:lnTo>
                <a:lnTo>
                  <a:pt x="2465" y="1823"/>
                </a:lnTo>
                <a:close/>
                <a:moveTo>
                  <a:pt x="2465" y="1808"/>
                </a:moveTo>
                <a:lnTo>
                  <a:pt x="2845" y="1808"/>
                </a:lnTo>
                <a:lnTo>
                  <a:pt x="2845" y="1823"/>
                </a:lnTo>
                <a:lnTo>
                  <a:pt x="2465" y="1823"/>
                </a:lnTo>
                <a:lnTo>
                  <a:pt x="2465" y="1808"/>
                </a:lnTo>
                <a:close/>
                <a:moveTo>
                  <a:pt x="2845" y="1808"/>
                </a:moveTo>
                <a:lnTo>
                  <a:pt x="2852" y="1808"/>
                </a:lnTo>
                <a:lnTo>
                  <a:pt x="2852" y="1816"/>
                </a:lnTo>
                <a:lnTo>
                  <a:pt x="2845" y="1816"/>
                </a:lnTo>
                <a:lnTo>
                  <a:pt x="2845" y="1808"/>
                </a:lnTo>
                <a:close/>
                <a:moveTo>
                  <a:pt x="2852" y="1816"/>
                </a:moveTo>
                <a:lnTo>
                  <a:pt x="2852" y="1887"/>
                </a:lnTo>
                <a:lnTo>
                  <a:pt x="2837" y="1887"/>
                </a:lnTo>
                <a:lnTo>
                  <a:pt x="2837" y="1816"/>
                </a:lnTo>
                <a:lnTo>
                  <a:pt x="2852" y="1816"/>
                </a:lnTo>
                <a:close/>
                <a:moveTo>
                  <a:pt x="2845" y="1894"/>
                </a:moveTo>
                <a:lnTo>
                  <a:pt x="2837" y="1894"/>
                </a:lnTo>
                <a:lnTo>
                  <a:pt x="2837" y="1887"/>
                </a:lnTo>
                <a:lnTo>
                  <a:pt x="2845" y="1887"/>
                </a:lnTo>
                <a:lnTo>
                  <a:pt x="2845" y="1894"/>
                </a:lnTo>
                <a:close/>
                <a:moveTo>
                  <a:pt x="2845" y="1881"/>
                </a:moveTo>
                <a:lnTo>
                  <a:pt x="3956" y="1881"/>
                </a:lnTo>
                <a:lnTo>
                  <a:pt x="3956" y="1894"/>
                </a:lnTo>
                <a:lnTo>
                  <a:pt x="2845" y="1894"/>
                </a:lnTo>
                <a:lnTo>
                  <a:pt x="2845" y="18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06400" y="2055960"/>
            <a:ext cx="6154920" cy="3328920"/>
          </a:xfrm>
          <a:custGeom>
            <a:avLst/>
            <a:gdLst/>
            <a:ahLst/>
            <a:rect l="l" t="t" r="r" b="b"/>
            <a:pathLst>
              <a:path w="3877" h="2097">
                <a:moveTo>
                  <a:pt x="0" y="0"/>
                </a:moveTo>
                <a:lnTo>
                  <a:pt x="14" y="0"/>
                </a:lnTo>
                <a:lnTo>
                  <a:pt x="14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14" y="0"/>
                </a:moveTo>
                <a:lnTo>
                  <a:pt x="21" y="0"/>
                </a:lnTo>
                <a:lnTo>
                  <a:pt x="21" y="5"/>
                </a:lnTo>
                <a:lnTo>
                  <a:pt x="14" y="5"/>
                </a:lnTo>
                <a:lnTo>
                  <a:pt x="14" y="0"/>
                </a:lnTo>
                <a:close/>
                <a:moveTo>
                  <a:pt x="21" y="5"/>
                </a:moveTo>
                <a:lnTo>
                  <a:pt x="21" y="11"/>
                </a:lnTo>
                <a:lnTo>
                  <a:pt x="4" y="11"/>
                </a:lnTo>
                <a:lnTo>
                  <a:pt x="4" y="5"/>
                </a:lnTo>
                <a:lnTo>
                  <a:pt x="21" y="5"/>
                </a:lnTo>
                <a:close/>
                <a:moveTo>
                  <a:pt x="14" y="19"/>
                </a:moveTo>
                <a:lnTo>
                  <a:pt x="4" y="19"/>
                </a:lnTo>
                <a:lnTo>
                  <a:pt x="4" y="11"/>
                </a:lnTo>
                <a:lnTo>
                  <a:pt x="14" y="11"/>
                </a:lnTo>
                <a:lnTo>
                  <a:pt x="14" y="19"/>
                </a:lnTo>
                <a:close/>
                <a:moveTo>
                  <a:pt x="14" y="3"/>
                </a:moveTo>
                <a:lnTo>
                  <a:pt x="27" y="3"/>
                </a:lnTo>
                <a:lnTo>
                  <a:pt x="27" y="19"/>
                </a:lnTo>
                <a:lnTo>
                  <a:pt x="14" y="19"/>
                </a:lnTo>
                <a:lnTo>
                  <a:pt x="14" y="3"/>
                </a:lnTo>
                <a:close/>
                <a:moveTo>
                  <a:pt x="27" y="3"/>
                </a:moveTo>
                <a:lnTo>
                  <a:pt x="35" y="3"/>
                </a:lnTo>
                <a:lnTo>
                  <a:pt x="35" y="11"/>
                </a:lnTo>
                <a:lnTo>
                  <a:pt x="27" y="11"/>
                </a:lnTo>
                <a:lnTo>
                  <a:pt x="27" y="3"/>
                </a:lnTo>
                <a:close/>
                <a:moveTo>
                  <a:pt x="35" y="11"/>
                </a:moveTo>
                <a:lnTo>
                  <a:pt x="35" y="17"/>
                </a:lnTo>
                <a:lnTo>
                  <a:pt x="17" y="17"/>
                </a:lnTo>
                <a:lnTo>
                  <a:pt x="17" y="11"/>
                </a:lnTo>
                <a:lnTo>
                  <a:pt x="35" y="11"/>
                </a:lnTo>
                <a:close/>
                <a:moveTo>
                  <a:pt x="35" y="17"/>
                </a:moveTo>
                <a:lnTo>
                  <a:pt x="35" y="23"/>
                </a:lnTo>
                <a:lnTo>
                  <a:pt x="17" y="23"/>
                </a:lnTo>
                <a:lnTo>
                  <a:pt x="17" y="17"/>
                </a:lnTo>
                <a:lnTo>
                  <a:pt x="35" y="17"/>
                </a:lnTo>
                <a:close/>
                <a:moveTo>
                  <a:pt x="27" y="30"/>
                </a:moveTo>
                <a:lnTo>
                  <a:pt x="17" y="30"/>
                </a:lnTo>
                <a:lnTo>
                  <a:pt x="17" y="23"/>
                </a:lnTo>
                <a:lnTo>
                  <a:pt x="27" y="23"/>
                </a:lnTo>
                <a:lnTo>
                  <a:pt x="27" y="30"/>
                </a:lnTo>
                <a:close/>
                <a:moveTo>
                  <a:pt x="27" y="15"/>
                </a:moveTo>
                <a:lnTo>
                  <a:pt x="33" y="15"/>
                </a:lnTo>
                <a:lnTo>
                  <a:pt x="33" y="30"/>
                </a:lnTo>
                <a:lnTo>
                  <a:pt x="27" y="30"/>
                </a:lnTo>
                <a:lnTo>
                  <a:pt x="27" y="15"/>
                </a:lnTo>
                <a:close/>
                <a:moveTo>
                  <a:pt x="33" y="15"/>
                </a:moveTo>
                <a:lnTo>
                  <a:pt x="40" y="15"/>
                </a:lnTo>
                <a:lnTo>
                  <a:pt x="40" y="23"/>
                </a:lnTo>
                <a:lnTo>
                  <a:pt x="33" y="23"/>
                </a:lnTo>
                <a:lnTo>
                  <a:pt x="33" y="15"/>
                </a:lnTo>
                <a:close/>
                <a:moveTo>
                  <a:pt x="40" y="23"/>
                </a:moveTo>
                <a:lnTo>
                  <a:pt x="40" y="28"/>
                </a:lnTo>
                <a:lnTo>
                  <a:pt x="25" y="28"/>
                </a:lnTo>
                <a:lnTo>
                  <a:pt x="25" y="23"/>
                </a:lnTo>
                <a:lnTo>
                  <a:pt x="40" y="23"/>
                </a:lnTo>
                <a:close/>
                <a:moveTo>
                  <a:pt x="33" y="36"/>
                </a:moveTo>
                <a:lnTo>
                  <a:pt x="25" y="36"/>
                </a:lnTo>
                <a:lnTo>
                  <a:pt x="25" y="28"/>
                </a:lnTo>
                <a:lnTo>
                  <a:pt x="33" y="28"/>
                </a:lnTo>
                <a:lnTo>
                  <a:pt x="33" y="36"/>
                </a:lnTo>
                <a:close/>
                <a:moveTo>
                  <a:pt x="33" y="21"/>
                </a:moveTo>
                <a:lnTo>
                  <a:pt x="40" y="21"/>
                </a:lnTo>
                <a:lnTo>
                  <a:pt x="40" y="36"/>
                </a:lnTo>
                <a:lnTo>
                  <a:pt x="33" y="36"/>
                </a:lnTo>
                <a:lnTo>
                  <a:pt x="33" y="21"/>
                </a:lnTo>
                <a:close/>
                <a:moveTo>
                  <a:pt x="40" y="21"/>
                </a:moveTo>
                <a:lnTo>
                  <a:pt x="48" y="21"/>
                </a:lnTo>
                <a:lnTo>
                  <a:pt x="48" y="28"/>
                </a:lnTo>
                <a:lnTo>
                  <a:pt x="40" y="28"/>
                </a:lnTo>
                <a:lnTo>
                  <a:pt x="40" y="21"/>
                </a:lnTo>
                <a:close/>
                <a:moveTo>
                  <a:pt x="48" y="28"/>
                </a:moveTo>
                <a:lnTo>
                  <a:pt x="48" y="34"/>
                </a:lnTo>
                <a:lnTo>
                  <a:pt x="31" y="34"/>
                </a:lnTo>
                <a:lnTo>
                  <a:pt x="31" y="28"/>
                </a:lnTo>
                <a:lnTo>
                  <a:pt x="48" y="28"/>
                </a:lnTo>
                <a:close/>
                <a:moveTo>
                  <a:pt x="40" y="42"/>
                </a:moveTo>
                <a:lnTo>
                  <a:pt x="31" y="42"/>
                </a:lnTo>
                <a:lnTo>
                  <a:pt x="31" y="34"/>
                </a:lnTo>
                <a:lnTo>
                  <a:pt x="40" y="34"/>
                </a:lnTo>
                <a:lnTo>
                  <a:pt x="40" y="42"/>
                </a:lnTo>
                <a:close/>
                <a:moveTo>
                  <a:pt x="40" y="26"/>
                </a:moveTo>
                <a:lnTo>
                  <a:pt x="46" y="26"/>
                </a:lnTo>
                <a:lnTo>
                  <a:pt x="46" y="42"/>
                </a:lnTo>
                <a:lnTo>
                  <a:pt x="40" y="42"/>
                </a:lnTo>
                <a:lnTo>
                  <a:pt x="40" y="26"/>
                </a:lnTo>
                <a:close/>
                <a:moveTo>
                  <a:pt x="46" y="26"/>
                </a:moveTo>
                <a:lnTo>
                  <a:pt x="54" y="26"/>
                </a:lnTo>
                <a:lnTo>
                  <a:pt x="54" y="34"/>
                </a:lnTo>
                <a:lnTo>
                  <a:pt x="46" y="34"/>
                </a:lnTo>
                <a:lnTo>
                  <a:pt x="46" y="26"/>
                </a:lnTo>
                <a:close/>
                <a:moveTo>
                  <a:pt x="54" y="34"/>
                </a:moveTo>
                <a:lnTo>
                  <a:pt x="54" y="40"/>
                </a:lnTo>
                <a:lnTo>
                  <a:pt x="37" y="40"/>
                </a:lnTo>
                <a:lnTo>
                  <a:pt x="37" y="34"/>
                </a:lnTo>
                <a:lnTo>
                  <a:pt x="54" y="34"/>
                </a:lnTo>
                <a:close/>
                <a:moveTo>
                  <a:pt x="46" y="48"/>
                </a:moveTo>
                <a:lnTo>
                  <a:pt x="37" y="48"/>
                </a:lnTo>
                <a:lnTo>
                  <a:pt x="37" y="40"/>
                </a:lnTo>
                <a:lnTo>
                  <a:pt x="46" y="40"/>
                </a:lnTo>
                <a:lnTo>
                  <a:pt x="46" y="48"/>
                </a:lnTo>
                <a:close/>
                <a:moveTo>
                  <a:pt x="46" y="32"/>
                </a:moveTo>
                <a:lnTo>
                  <a:pt x="52" y="32"/>
                </a:lnTo>
                <a:lnTo>
                  <a:pt x="52" y="48"/>
                </a:lnTo>
                <a:lnTo>
                  <a:pt x="46" y="48"/>
                </a:lnTo>
                <a:lnTo>
                  <a:pt x="46" y="32"/>
                </a:lnTo>
                <a:close/>
                <a:moveTo>
                  <a:pt x="52" y="32"/>
                </a:moveTo>
                <a:lnTo>
                  <a:pt x="60" y="32"/>
                </a:lnTo>
                <a:lnTo>
                  <a:pt x="60" y="40"/>
                </a:lnTo>
                <a:lnTo>
                  <a:pt x="52" y="40"/>
                </a:lnTo>
                <a:lnTo>
                  <a:pt x="52" y="32"/>
                </a:lnTo>
                <a:close/>
                <a:moveTo>
                  <a:pt x="60" y="40"/>
                </a:moveTo>
                <a:lnTo>
                  <a:pt x="60" y="46"/>
                </a:lnTo>
                <a:lnTo>
                  <a:pt x="44" y="46"/>
                </a:lnTo>
                <a:lnTo>
                  <a:pt x="44" y="40"/>
                </a:lnTo>
                <a:lnTo>
                  <a:pt x="60" y="40"/>
                </a:lnTo>
                <a:close/>
                <a:moveTo>
                  <a:pt x="52" y="53"/>
                </a:moveTo>
                <a:lnTo>
                  <a:pt x="44" y="53"/>
                </a:lnTo>
                <a:lnTo>
                  <a:pt x="44" y="46"/>
                </a:lnTo>
                <a:lnTo>
                  <a:pt x="52" y="46"/>
                </a:lnTo>
                <a:lnTo>
                  <a:pt x="52" y="53"/>
                </a:lnTo>
                <a:close/>
                <a:moveTo>
                  <a:pt x="52" y="38"/>
                </a:moveTo>
                <a:lnTo>
                  <a:pt x="65" y="38"/>
                </a:lnTo>
                <a:lnTo>
                  <a:pt x="65" y="53"/>
                </a:lnTo>
                <a:lnTo>
                  <a:pt x="52" y="53"/>
                </a:lnTo>
                <a:lnTo>
                  <a:pt x="52" y="38"/>
                </a:lnTo>
                <a:close/>
                <a:moveTo>
                  <a:pt x="65" y="38"/>
                </a:moveTo>
                <a:lnTo>
                  <a:pt x="73" y="38"/>
                </a:lnTo>
                <a:lnTo>
                  <a:pt x="73" y="46"/>
                </a:lnTo>
                <a:lnTo>
                  <a:pt x="65" y="46"/>
                </a:lnTo>
                <a:lnTo>
                  <a:pt x="65" y="38"/>
                </a:lnTo>
                <a:close/>
                <a:moveTo>
                  <a:pt x="73" y="46"/>
                </a:moveTo>
                <a:lnTo>
                  <a:pt x="73" y="55"/>
                </a:lnTo>
                <a:lnTo>
                  <a:pt x="58" y="55"/>
                </a:lnTo>
                <a:lnTo>
                  <a:pt x="58" y="46"/>
                </a:lnTo>
                <a:lnTo>
                  <a:pt x="73" y="46"/>
                </a:lnTo>
                <a:close/>
                <a:moveTo>
                  <a:pt x="65" y="63"/>
                </a:moveTo>
                <a:lnTo>
                  <a:pt x="58" y="63"/>
                </a:lnTo>
                <a:lnTo>
                  <a:pt x="58" y="55"/>
                </a:lnTo>
                <a:lnTo>
                  <a:pt x="65" y="55"/>
                </a:lnTo>
                <a:lnTo>
                  <a:pt x="65" y="63"/>
                </a:lnTo>
                <a:close/>
                <a:moveTo>
                  <a:pt x="65" y="49"/>
                </a:moveTo>
                <a:lnTo>
                  <a:pt x="73" y="49"/>
                </a:lnTo>
                <a:lnTo>
                  <a:pt x="73" y="63"/>
                </a:lnTo>
                <a:lnTo>
                  <a:pt x="65" y="63"/>
                </a:lnTo>
                <a:lnTo>
                  <a:pt x="65" y="49"/>
                </a:lnTo>
                <a:close/>
                <a:moveTo>
                  <a:pt x="73" y="49"/>
                </a:moveTo>
                <a:lnTo>
                  <a:pt x="81" y="49"/>
                </a:lnTo>
                <a:lnTo>
                  <a:pt x="81" y="55"/>
                </a:lnTo>
                <a:lnTo>
                  <a:pt x="73" y="55"/>
                </a:lnTo>
                <a:lnTo>
                  <a:pt x="73" y="49"/>
                </a:lnTo>
                <a:close/>
                <a:moveTo>
                  <a:pt x="81" y="55"/>
                </a:moveTo>
                <a:lnTo>
                  <a:pt x="81" y="61"/>
                </a:lnTo>
                <a:lnTo>
                  <a:pt x="64" y="61"/>
                </a:lnTo>
                <a:lnTo>
                  <a:pt x="64" y="55"/>
                </a:lnTo>
                <a:lnTo>
                  <a:pt x="81" y="55"/>
                </a:lnTo>
                <a:close/>
                <a:moveTo>
                  <a:pt x="73" y="69"/>
                </a:moveTo>
                <a:lnTo>
                  <a:pt x="64" y="69"/>
                </a:lnTo>
                <a:lnTo>
                  <a:pt x="64" y="61"/>
                </a:lnTo>
                <a:lnTo>
                  <a:pt x="73" y="61"/>
                </a:lnTo>
                <a:lnTo>
                  <a:pt x="73" y="69"/>
                </a:lnTo>
                <a:close/>
                <a:moveTo>
                  <a:pt x="73" y="53"/>
                </a:moveTo>
                <a:lnTo>
                  <a:pt x="79" y="53"/>
                </a:lnTo>
                <a:lnTo>
                  <a:pt x="79" y="69"/>
                </a:lnTo>
                <a:lnTo>
                  <a:pt x="73" y="69"/>
                </a:lnTo>
                <a:lnTo>
                  <a:pt x="73" y="53"/>
                </a:lnTo>
                <a:close/>
                <a:moveTo>
                  <a:pt x="79" y="53"/>
                </a:moveTo>
                <a:lnTo>
                  <a:pt x="87" y="53"/>
                </a:lnTo>
                <a:lnTo>
                  <a:pt x="87" y="61"/>
                </a:lnTo>
                <a:lnTo>
                  <a:pt x="79" y="61"/>
                </a:lnTo>
                <a:lnTo>
                  <a:pt x="79" y="53"/>
                </a:lnTo>
                <a:close/>
                <a:moveTo>
                  <a:pt x="87" y="61"/>
                </a:moveTo>
                <a:lnTo>
                  <a:pt x="87" y="69"/>
                </a:lnTo>
                <a:lnTo>
                  <a:pt x="71" y="69"/>
                </a:lnTo>
                <a:lnTo>
                  <a:pt x="71" y="61"/>
                </a:lnTo>
                <a:lnTo>
                  <a:pt x="87" y="61"/>
                </a:lnTo>
                <a:close/>
                <a:moveTo>
                  <a:pt x="79" y="74"/>
                </a:moveTo>
                <a:lnTo>
                  <a:pt x="71" y="74"/>
                </a:lnTo>
                <a:lnTo>
                  <a:pt x="71" y="69"/>
                </a:lnTo>
                <a:lnTo>
                  <a:pt x="79" y="69"/>
                </a:lnTo>
                <a:lnTo>
                  <a:pt x="79" y="74"/>
                </a:lnTo>
                <a:close/>
                <a:moveTo>
                  <a:pt x="79" y="61"/>
                </a:moveTo>
                <a:lnTo>
                  <a:pt x="92" y="61"/>
                </a:lnTo>
                <a:lnTo>
                  <a:pt x="92" y="74"/>
                </a:lnTo>
                <a:lnTo>
                  <a:pt x="79" y="74"/>
                </a:lnTo>
                <a:lnTo>
                  <a:pt x="79" y="61"/>
                </a:lnTo>
                <a:close/>
                <a:moveTo>
                  <a:pt x="92" y="61"/>
                </a:moveTo>
                <a:lnTo>
                  <a:pt x="100" y="61"/>
                </a:lnTo>
                <a:lnTo>
                  <a:pt x="100" y="69"/>
                </a:lnTo>
                <a:lnTo>
                  <a:pt x="92" y="69"/>
                </a:lnTo>
                <a:lnTo>
                  <a:pt x="92" y="61"/>
                </a:lnTo>
                <a:close/>
                <a:moveTo>
                  <a:pt x="100" y="69"/>
                </a:moveTo>
                <a:lnTo>
                  <a:pt x="100" y="73"/>
                </a:lnTo>
                <a:lnTo>
                  <a:pt x="83" y="73"/>
                </a:lnTo>
                <a:lnTo>
                  <a:pt x="83" y="69"/>
                </a:lnTo>
                <a:lnTo>
                  <a:pt x="100" y="69"/>
                </a:lnTo>
                <a:close/>
                <a:moveTo>
                  <a:pt x="92" y="80"/>
                </a:moveTo>
                <a:lnTo>
                  <a:pt x="83" y="80"/>
                </a:lnTo>
                <a:lnTo>
                  <a:pt x="83" y="73"/>
                </a:lnTo>
                <a:lnTo>
                  <a:pt x="92" y="73"/>
                </a:lnTo>
                <a:lnTo>
                  <a:pt x="92" y="80"/>
                </a:lnTo>
                <a:close/>
                <a:moveTo>
                  <a:pt x="92" y="65"/>
                </a:moveTo>
                <a:lnTo>
                  <a:pt x="106" y="65"/>
                </a:lnTo>
                <a:lnTo>
                  <a:pt x="106" y="80"/>
                </a:lnTo>
                <a:lnTo>
                  <a:pt x="92" y="80"/>
                </a:lnTo>
                <a:lnTo>
                  <a:pt x="92" y="65"/>
                </a:lnTo>
                <a:close/>
                <a:moveTo>
                  <a:pt x="106" y="65"/>
                </a:moveTo>
                <a:lnTo>
                  <a:pt x="113" y="65"/>
                </a:lnTo>
                <a:lnTo>
                  <a:pt x="113" y="73"/>
                </a:lnTo>
                <a:lnTo>
                  <a:pt x="106" y="73"/>
                </a:lnTo>
                <a:lnTo>
                  <a:pt x="106" y="65"/>
                </a:lnTo>
                <a:close/>
                <a:moveTo>
                  <a:pt x="113" y="73"/>
                </a:moveTo>
                <a:lnTo>
                  <a:pt x="113" y="78"/>
                </a:lnTo>
                <a:lnTo>
                  <a:pt x="96" y="78"/>
                </a:lnTo>
                <a:lnTo>
                  <a:pt x="96" y="73"/>
                </a:lnTo>
                <a:lnTo>
                  <a:pt x="113" y="73"/>
                </a:lnTo>
                <a:close/>
                <a:moveTo>
                  <a:pt x="106" y="86"/>
                </a:moveTo>
                <a:lnTo>
                  <a:pt x="96" y="86"/>
                </a:lnTo>
                <a:lnTo>
                  <a:pt x="96" y="78"/>
                </a:lnTo>
                <a:lnTo>
                  <a:pt x="106" y="78"/>
                </a:lnTo>
                <a:lnTo>
                  <a:pt x="106" y="86"/>
                </a:lnTo>
                <a:close/>
                <a:moveTo>
                  <a:pt x="106" y="71"/>
                </a:moveTo>
                <a:lnTo>
                  <a:pt x="119" y="71"/>
                </a:lnTo>
                <a:lnTo>
                  <a:pt x="119" y="86"/>
                </a:lnTo>
                <a:lnTo>
                  <a:pt x="106" y="86"/>
                </a:lnTo>
                <a:lnTo>
                  <a:pt x="106" y="71"/>
                </a:lnTo>
                <a:close/>
                <a:moveTo>
                  <a:pt x="119" y="71"/>
                </a:moveTo>
                <a:lnTo>
                  <a:pt x="127" y="71"/>
                </a:lnTo>
                <a:lnTo>
                  <a:pt x="127" y="78"/>
                </a:lnTo>
                <a:lnTo>
                  <a:pt x="119" y="78"/>
                </a:lnTo>
                <a:lnTo>
                  <a:pt x="119" y="71"/>
                </a:lnTo>
                <a:close/>
                <a:moveTo>
                  <a:pt x="127" y="78"/>
                </a:moveTo>
                <a:lnTo>
                  <a:pt x="127" y="84"/>
                </a:lnTo>
                <a:lnTo>
                  <a:pt x="110" y="84"/>
                </a:lnTo>
                <a:lnTo>
                  <a:pt x="110" y="78"/>
                </a:lnTo>
                <a:lnTo>
                  <a:pt x="127" y="78"/>
                </a:lnTo>
                <a:close/>
                <a:moveTo>
                  <a:pt x="127" y="84"/>
                </a:moveTo>
                <a:lnTo>
                  <a:pt x="127" y="96"/>
                </a:lnTo>
                <a:lnTo>
                  <a:pt x="110" y="96"/>
                </a:lnTo>
                <a:lnTo>
                  <a:pt x="110" y="84"/>
                </a:lnTo>
                <a:lnTo>
                  <a:pt x="127" y="84"/>
                </a:lnTo>
                <a:close/>
                <a:moveTo>
                  <a:pt x="119" y="103"/>
                </a:moveTo>
                <a:lnTo>
                  <a:pt x="110" y="103"/>
                </a:lnTo>
                <a:lnTo>
                  <a:pt x="110" y="96"/>
                </a:lnTo>
                <a:lnTo>
                  <a:pt x="119" y="96"/>
                </a:lnTo>
                <a:lnTo>
                  <a:pt x="119" y="103"/>
                </a:lnTo>
                <a:close/>
                <a:moveTo>
                  <a:pt x="119" y="88"/>
                </a:moveTo>
                <a:lnTo>
                  <a:pt x="131" y="88"/>
                </a:lnTo>
                <a:lnTo>
                  <a:pt x="131" y="103"/>
                </a:lnTo>
                <a:lnTo>
                  <a:pt x="119" y="103"/>
                </a:lnTo>
                <a:lnTo>
                  <a:pt x="119" y="88"/>
                </a:lnTo>
                <a:close/>
                <a:moveTo>
                  <a:pt x="131" y="88"/>
                </a:moveTo>
                <a:lnTo>
                  <a:pt x="140" y="88"/>
                </a:lnTo>
                <a:lnTo>
                  <a:pt x="140" y="96"/>
                </a:lnTo>
                <a:lnTo>
                  <a:pt x="131" y="96"/>
                </a:lnTo>
                <a:lnTo>
                  <a:pt x="131" y="88"/>
                </a:lnTo>
                <a:close/>
                <a:moveTo>
                  <a:pt x="140" y="96"/>
                </a:moveTo>
                <a:lnTo>
                  <a:pt x="140" y="101"/>
                </a:lnTo>
                <a:lnTo>
                  <a:pt x="123" y="101"/>
                </a:lnTo>
                <a:lnTo>
                  <a:pt x="123" y="96"/>
                </a:lnTo>
                <a:lnTo>
                  <a:pt x="140" y="96"/>
                </a:lnTo>
                <a:close/>
                <a:moveTo>
                  <a:pt x="131" y="109"/>
                </a:moveTo>
                <a:lnTo>
                  <a:pt x="123" y="109"/>
                </a:lnTo>
                <a:lnTo>
                  <a:pt x="123" y="101"/>
                </a:lnTo>
                <a:lnTo>
                  <a:pt x="131" y="101"/>
                </a:lnTo>
                <a:lnTo>
                  <a:pt x="131" y="109"/>
                </a:lnTo>
                <a:close/>
                <a:moveTo>
                  <a:pt x="131" y="94"/>
                </a:moveTo>
                <a:lnTo>
                  <a:pt x="138" y="94"/>
                </a:lnTo>
                <a:lnTo>
                  <a:pt x="138" y="109"/>
                </a:lnTo>
                <a:lnTo>
                  <a:pt x="131" y="109"/>
                </a:lnTo>
                <a:lnTo>
                  <a:pt x="131" y="94"/>
                </a:lnTo>
                <a:close/>
                <a:moveTo>
                  <a:pt x="138" y="94"/>
                </a:moveTo>
                <a:lnTo>
                  <a:pt x="146" y="94"/>
                </a:lnTo>
                <a:lnTo>
                  <a:pt x="146" y="101"/>
                </a:lnTo>
                <a:lnTo>
                  <a:pt x="138" y="101"/>
                </a:lnTo>
                <a:lnTo>
                  <a:pt x="138" y="94"/>
                </a:lnTo>
                <a:close/>
                <a:moveTo>
                  <a:pt x="146" y="101"/>
                </a:moveTo>
                <a:lnTo>
                  <a:pt x="146" y="105"/>
                </a:lnTo>
                <a:lnTo>
                  <a:pt x="131" y="105"/>
                </a:lnTo>
                <a:lnTo>
                  <a:pt x="131" y="101"/>
                </a:lnTo>
                <a:lnTo>
                  <a:pt x="146" y="101"/>
                </a:lnTo>
                <a:close/>
                <a:moveTo>
                  <a:pt x="138" y="113"/>
                </a:moveTo>
                <a:lnTo>
                  <a:pt x="131" y="113"/>
                </a:lnTo>
                <a:lnTo>
                  <a:pt x="131" y="105"/>
                </a:lnTo>
                <a:lnTo>
                  <a:pt x="138" y="105"/>
                </a:lnTo>
                <a:lnTo>
                  <a:pt x="138" y="113"/>
                </a:lnTo>
                <a:close/>
                <a:moveTo>
                  <a:pt x="138" y="99"/>
                </a:moveTo>
                <a:lnTo>
                  <a:pt x="150" y="99"/>
                </a:lnTo>
                <a:lnTo>
                  <a:pt x="150" y="113"/>
                </a:lnTo>
                <a:lnTo>
                  <a:pt x="138" y="113"/>
                </a:lnTo>
                <a:lnTo>
                  <a:pt x="138" y="99"/>
                </a:lnTo>
                <a:close/>
                <a:moveTo>
                  <a:pt x="150" y="99"/>
                </a:moveTo>
                <a:lnTo>
                  <a:pt x="159" y="99"/>
                </a:lnTo>
                <a:lnTo>
                  <a:pt x="159" y="105"/>
                </a:lnTo>
                <a:lnTo>
                  <a:pt x="150" y="105"/>
                </a:lnTo>
                <a:lnTo>
                  <a:pt x="150" y="99"/>
                </a:lnTo>
                <a:close/>
                <a:moveTo>
                  <a:pt x="159" y="105"/>
                </a:moveTo>
                <a:lnTo>
                  <a:pt x="159" y="113"/>
                </a:lnTo>
                <a:lnTo>
                  <a:pt x="142" y="113"/>
                </a:lnTo>
                <a:lnTo>
                  <a:pt x="142" y="105"/>
                </a:lnTo>
                <a:lnTo>
                  <a:pt x="159" y="105"/>
                </a:lnTo>
                <a:close/>
                <a:moveTo>
                  <a:pt x="150" y="120"/>
                </a:moveTo>
                <a:lnTo>
                  <a:pt x="142" y="120"/>
                </a:lnTo>
                <a:lnTo>
                  <a:pt x="142" y="113"/>
                </a:lnTo>
                <a:lnTo>
                  <a:pt x="150" y="113"/>
                </a:lnTo>
                <a:lnTo>
                  <a:pt x="150" y="120"/>
                </a:lnTo>
                <a:close/>
                <a:moveTo>
                  <a:pt x="150" y="105"/>
                </a:moveTo>
                <a:lnTo>
                  <a:pt x="158" y="105"/>
                </a:lnTo>
                <a:lnTo>
                  <a:pt x="158" y="120"/>
                </a:lnTo>
                <a:lnTo>
                  <a:pt x="150" y="120"/>
                </a:lnTo>
                <a:lnTo>
                  <a:pt x="150" y="105"/>
                </a:lnTo>
                <a:close/>
                <a:moveTo>
                  <a:pt x="158" y="105"/>
                </a:moveTo>
                <a:lnTo>
                  <a:pt x="165" y="105"/>
                </a:lnTo>
                <a:lnTo>
                  <a:pt x="165" y="113"/>
                </a:lnTo>
                <a:lnTo>
                  <a:pt x="158" y="113"/>
                </a:lnTo>
                <a:lnTo>
                  <a:pt x="158" y="105"/>
                </a:lnTo>
                <a:close/>
                <a:moveTo>
                  <a:pt x="165" y="113"/>
                </a:moveTo>
                <a:lnTo>
                  <a:pt x="165" y="119"/>
                </a:lnTo>
                <a:lnTo>
                  <a:pt x="150" y="119"/>
                </a:lnTo>
                <a:lnTo>
                  <a:pt x="150" y="113"/>
                </a:lnTo>
                <a:lnTo>
                  <a:pt x="165" y="113"/>
                </a:lnTo>
                <a:close/>
                <a:moveTo>
                  <a:pt x="158" y="124"/>
                </a:moveTo>
                <a:lnTo>
                  <a:pt x="150" y="124"/>
                </a:lnTo>
                <a:lnTo>
                  <a:pt x="150" y="119"/>
                </a:lnTo>
                <a:lnTo>
                  <a:pt x="158" y="119"/>
                </a:lnTo>
                <a:lnTo>
                  <a:pt x="158" y="124"/>
                </a:lnTo>
                <a:close/>
                <a:moveTo>
                  <a:pt x="158" y="111"/>
                </a:moveTo>
                <a:lnTo>
                  <a:pt x="177" y="111"/>
                </a:lnTo>
                <a:lnTo>
                  <a:pt x="177" y="124"/>
                </a:lnTo>
                <a:lnTo>
                  <a:pt x="158" y="124"/>
                </a:lnTo>
                <a:lnTo>
                  <a:pt x="158" y="111"/>
                </a:lnTo>
                <a:close/>
                <a:moveTo>
                  <a:pt x="177" y="111"/>
                </a:moveTo>
                <a:lnTo>
                  <a:pt x="186" y="111"/>
                </a:lnTo>
                <a:lnTo>
                  <a:pt x="186" y="119"/>
                </a:lnTo>
                <a:lnTo>
                  <a:pt x="177" y="119"/>
                </a:lnTo>
                <a:lnTo>
                  <a:pt x="177" y="111"/>
                </a:lnTo>
                <a:close/>
                <a:moveTo>
                  <a:pt x="186" y="119"/>
                </a:moveTo>
                <a:lnTo>
                  <a:pt x="186" y="128"/>
                </a:lnTo>
                <a:lnTo>
                  <a:pt x="169" y="128"/>
                </a:lnTo>
                <a:lnTo>
                  <a:pt x="169" y="119"/>
                </a:lnTo>
                <a:lnTo>
                  <a:pt x="186" y="119"/>
                </a:lnTo>
                <a:close/>
                <a:moveTo>
                  <a:pt x="177" y="136"/>
                </a:moveTo>
                <a:lnTo>
                  <a:pt x="169" y="136"/>
                </a:lnTo>
                <a:lnTo>
                  <a:pt x="169" y="128"/>
                </a:lnTo>
                <a:lnTo>
                  <a:pt x="177" y="128"/>
                </a:lnTo>
                <a:lnTo>
                  <a:pt x="177" y="136"/>
                </a:lnTo>
                <a:close/>
                <a:moveTo>
                  <a:pt x="177" y="120"/>
                </a:moveTo>
                <a:lnTo>
                  <a:pt x="184" y="120"/>
                </a:lnTo>
                <a:lnTo>
                  <a:pt x="184" y="136"/>
                </a:lnTo>
                <a:lnTo>
                  <a:pt x="177" y="136"/>
                </a:lnTo>
                <a:lnTo>
                  <a:pt x="177" y="120"/>
                </a:lnTo>
                <a:close/>
                <a:moveTo>
                  <a:pt x="184" y="120"/>
                </a:moveTo>
                <a:lnTo>
                  <a:pt x="192" y="120"/>
                </a:lnTo>
                <a:lnTo>
                  <a:pt x="192" y="128"/>
                </a:lnTo>
                <a:lnTo>
                  <a:pt x="184" y="128"/>
                </a:lnTo>
                <a:lnTo>
                  <a:pt x="184" y="120"/>
                </a:lnTo>
                <a:close/>
                <a:moveTo>
                  <a:pt x="192" y="128"/>
                </a:moveTo>
                <a:lnTo>
                  <a:pt x="192" y="140"/>
                </a:lnTo>
                <a:lnTo>
                  <a:pt x="177" y="140"/>
                </a:lnTo>
                <a:lnTo>
                  <a:pt x="177" y="128"/>
                </a:lnTo>
                <a:lnTo>
                  <a:pt x="192" y="128"/>
                </a:lnTo>
                <a:close/>
                <a:moveTo>
                  <a:pt x="184" y="147"/>
                </a:moveTo>
                <a:lnTo>
                  <a:pt x="177" y="147"/>
                </a:lnTo>
                <a:lnTo>
                  <a:pt x="177" y="140"/>
                </a:lnTo>
                <a:lnTo>
                  <a:pt x="184" y="140"/>
                </a:lnTo>
                <a:lnTo>
                  <a:pt x="184" y="147"/>
                </a:lnTo>
                <a:close/>
                <a:moveTo>
                  <a:pt x="184" y="132"/>
                </a:moveTo>
                <a:lnTo>
                  <a:pt x="204" y="132"/>
                </a:lnTo>
                <a:lnTo>
                  <a:pt x="204" y="147"/>
                </a:lnTo>
                <a:lnTo>
                  <a:pt x="184" y="147"/>
                </a:lnTo>
                <a:lnTo>
                  <a:pt x="184" y="132"/>
                </a:lnTo>
                <a:close/>
                <a:moveTo>
                  <a:pt x="204" y="132"/>
                </a:moveTo>
                <a:lnTo>
                  <a:pt x="211" y="132"/>
                </a:lnTo>
                <a:lnTo>
                  <a:pt x="211" y="140"/>
                </a:lnTo>
                <a:lnTo>
                  <a:pt x="204" y="140"/>
                </a:lnTo>
                <a:lnTo>
                  <a:pt x="204" y="132"/>
                </a:lnTo>
                <a:close/>
                <a:moveTo>
                  <a:pt x="211" y="140"/>
                </a:moveTo>
                <a:lnTo>
                  <a:pt x="211" y="145"/>
                </a:lnTo>
                <a:lnTo>
                  <a:pt x="196" y="145"/>
                </a:lnTo>
                <a:lnTo>
                  <a:pt x="196" y="140"/>
                </a:lnTo>
                <a:lnTo>
                  <a:pt x="211" y="140"/>
                </a:lnTo>
                <a:close/>
                <a:moveTo>
                  <a:pt x="204" y="153"/>
                </a:moveTo>
                <a:lnTo>
                  <a:pt x="196" y="153"/>
                </a:lnTo>
                <a:lnTo>
                  <a:pt x="196" y="145"/>
                </a:lnTo>
                <a:lnTo>
                  <a:pt x="204" y="145"/>
                </a:lnTo>
                <a:lnTo>
                  <a:pt x="204" y="153"/>
                </a:lnTo>
                <a:close/>
                <a:moveTo>
                  <a:pt x="204" y="138"/>
                </a:moveTo>
                <a:lnTo>
                  <a:pt x="209" y="138"/>
                </a:lnTo>
                <a:lnTo>
                  <a:pt x="209" y="153"/>
                </a:lnTo>
                <a:lnTo>
                  <a:pt x="204" y="153"/>
                </a:lnTo>
                <a:lnTo>
                  <a:pt x="204" y="138"/>
                </a:lnTo>
                <a:close/>
                <a:moveTo>
                  <a:pt x="209" y="138"/>
                </a:moveTo>
                <a:lnTo>
                  <a:pt x="219" y="138"/>
                </a:lnTo>
                <a:lnTo>
                  <a:pt x="219" y="145"/>
                </a:lnTo>
                <a:lnTo>
                  <a:pt x="209" y="145"/>
                </a:lnTo>
                <a:lnTo>
                  <a:pt x="209" y="138"/>
                </a:lnTo>
                <a:close/>
                <a:moveTo>
                  <a:pt x="219" y="145"/>
                </a:moveTo>
                <a:lnTo>
                  <a:pt x="219" y="151"/>
                </a:lnTo>
                <a:lnTo>
                  <a:pt x="202" y="151"/>
                </a:lnTo>
                <a:lnTo>
                  <a:pt x="202" y="145"/>
                </a:lnTo>
                <a:lnTo>
                  <a:pt x="219" y="145"/>
                </a:lnTo>
                <a:close/>
                <a:moveTo>
                  <a:pt x="209" y="159"/>
                </a:moveTo>
                <a:lnTo>
                  <a:pt x="202" y="159"/>
                </a:lnTo>
                <a:lnTo>
                  <a:pt x="202" y="151"/>
                </a:lnTo>
                <a:lnTo>
                  <a:pt x="209" y="151"/>
                </a:lnTo>
                <a:lnTo>
                  <a:pt x="209" y="159"/>
                </a:lnTo>
                <a:close/>
                <a:moveTo>
                  <a:pt x="209" y="144"/>
                </a:moveTo>
                <a:lnTo>
                  <a:pt x="223" y="144"/>
                </a:lnTo>
                <a:lnTo>
                  <a:pt x="223" y="159"/>
                </a:lnTo>
                <a:lnTo>
                  <a:pt x="209" y="159"/>
                </a:lnTo>
                <a:lnTo>
                  <a:pt x="209" y="144"/>
                </a:lnTo>
                <a:close/>
                <a:moveTo>
                  <a:pt x="223" y="144"/>
                </a:moveTo>
                <a:lnTo>
                  <a:pt x="242" y="144"/>
                </a:lnTo>
                <a:lnTo>
                  <a:pt x="242" y="159"/>
                </a:lnTo>
                <a:lnTo>
                  <a:pt x="223" y="159"/>
                </a:lnTo>
                <a:lnTo>
                  <a:pt x="223" y="144"/>
                </a:lnTo>
                <a:close/>
                <a:moveTo>
                  <a:pt x="242" y="144"/>
                </a:moveTo>
                <a:lnTo>
                  <a:pt x="252" y="144"/>
                </a:lnTo>
                <a:lnTo>
                  <a:pt x="252" y="151"/>
                </a:lnTo>
                <a:lnTo>
                  <a:pt x="242" y="151"/>
                </a:lnTo>
                <a:lnTo>
                  <a:pt x="242" y="144"/>
                </a:lnTo>
                <a:close/>
                <a:moveTo>
                  <a:pt x="252" y="151"/>
                </a:moveTo>
                <a:lnTo>
                  <a:pt x="252" y="157"/>
                </a:lnTo>
                <a:lnTo>
                  <a:pt x="234" y="157"/>
                </a:lnTo>
                <a:lnTo>
                  <a:pt x="234" y="151"/>
                </a:lnTo>
                <a:lnTo>
                  <a:pt x="252" y="151"/>
                </a:lnTo>
                <a:close/>
                <a:moveTo>
                  <a:pt x="242" y="165"/>
                </a:moveTo>
                <a:lnTo>
                  <a:pt x="234" y="165"/>
                </a:lnTo>
                <a:lnTo>
                  <a:pt x="234" y="157"/>
                </a:lnTo>
                <a:lnTo>
                  <a:pt x="242" y="157"/>
                </a:lnTo>
                <a:lnTo>
                  <a:pt x="242" y="165"/>
                </a:lnTo>
                <a:close/>
                <a:moveTo>
                  <a:pt x="242" y="149"/>
                </a:moveTo>
                <a:lnTo>
                  <a:pt x="255" y="149"/>
                </a:lnTo>
                <a:lnTo>
                  <a:pt x="255" y="165"/>
                </a:lnTo>
                <a:lnTo>
                  <a:pt x="242" y="165"/>
                </a:lnTo>
                <a:lnTo>
                  <a:pt x="242" y="149"/>
                </a:lnTo>
                <a:close/>
                <a:moveTo>
                  <a:pt x="255" y="149"/>
                </a:moveTo>
                <a:lnTo>
                  <a:pt x="263" y="149"/>
                </a:lnTo>
                <a:lnTo>
                  <a:pt x="263" y="157"/>
                </a:lnTo>
                <a:lnTo>
                  <a:pt x="255" y="157"/>
                </a:lnTo>
                <a:lnTo>
                  <a:pt x="255" y="149"/>
                </a:lnTo>
                <a:close/>
                <a:moveTo>
                  <a:pt x="263" y="157"/>
                </a:moveTo>
                <a:lnTo>
                  <a:pt x="263" y="168"/>
                </a:lnTo>
                <a:lnTo>
                  <a:pt x="248" y="168"/>
                </a:lnTo>
                <a:lnTo>
                  <a:pt x="248" y="157"/>
                </a:lnTo>
                <a:lnTo>
                  <a:pt x="263" y="157"/>
                </a:lnTo>
                <a:close/>
                <a:moveTo>
                  <a:pt x="255" y="174"/>
                </a:moveTo>
                <a:lnTo>
                  <a:pt x="248" y="174"/>
                </a:lnTo>
                <a:lnTo>
                  <a:pt x="248" y="168"/>
                </a:lnTo>
                <a:lnTo>
                  <a:pt x="255" y="168"/>
                </a:lnTo>
                <a:lnTo>
                  <a:pt x="255" y="174"/>
                </a:lnTo>
                <a:close/>
                <a:moveTo>
                  <a:pt x="255" y="161"/>
                </a:moveTo>
                <a:lnTo>
                  <a:pt x="263" y="161"/>
                </a:lnTo>
                <a:lnTo>
                  <a:pt x="263" y="174"/>
                </a:lnTo>
                <a:lnTo>
                  <a:pt x="255" y="174"/>
                </a:lnTo>
                <a:lnTo>
                  <a:pt x="255" y="161"/>
                </a:lnTo>
                <a:close/>
                <a:moveTo>
                  <a:pt x="263" y="161"/>
                </a:moveTo>
                <a:lnTo>
                  <a:pt x="271" y="161"/>
                </a:lnTo>
                <a:lnTo>
                  <a:pt x="271" y="168"/>
                </a:lnTo>
                <a:lnTo>
                  <a:pt x="263" y="168"/>
                </a:lnTo>
                <a:lnTo>
                  <a:pt x="263" y="161"/>
                </a:lnTo>
                <a:close/>
                <a:moveTo>
                  <a:pt x="271" y="168"/>
                </a:moveTo>
                <a:lnTo>
                  <a:pt x="271" y="172"/>
                </a:lnTo>
                <a:lnTo>
                  <a:pt x="255" y="172"/>
                </a:lnTo>
                <a:lnTo>
                  <a:pt x="255" y="168"/>
                </a:lnTo>
                <a:lnTo>
                  <a:pt x="271" y="168"/>
                </a:lnTo>
                <a:close/>
                <a:moveTo>
                  <a:pt x="263" y="180"/>
                </a:moveTo>
                <a:lnTo>
                  <a:pt x="255" y="180"/>
                </a:lnTo>
                <a:lnTo>
                  <a:pt x="255" y="172"/>
                </a:lnTo>
                <a:lnTo>
                  <a:pt x="263" y="172"/>
                </a:lnTo>
                <a:lnTo>
                  <a:pt x="263" y="180"/>
                </a:lnTo>
                <a:close/>
                <a:moveTo>
                  <a:pt x="263" y="165"/>
                </a:moveTo>
                <a:lnTo>
                  <a:pt x="269" y="165"/>
                </a:lnTo>
                <a:lnTo>
                  <a:pt x="269" y="180"/>
                </a:lnTo>
                <a:lnTo>
                  <a:pt x="263" y="180"/>
                </a:lnTo>
                <a:lnTo>
                  <a:pt x="263" y="165"/>
                </a:lnTo>
                <a:close/>
                <a:moveTo>
                  <a:pt x="269" y="165"/>
                </a:moveTo>
                <a:lnTo>
                  <a:pt x="277" y="165"/>
                </a:lnTo>
                <a:lnTo>
                  <a:pt x="277" y="172"/>
                </a:lnTo>
                <a:lnTo>
                  <a:pt x="269" y="172"/>
                </a:lnTo>
                <a:lnTo>
                  <a:pt x="269" y="165"/>
                </a:lnTo>
                <a:close/>
                <a:moveTo>
                  <a:pt x="277" y="172"/>
                </a:moveTo>
                <a:lnTo>
                  <a:pt x="277" y="180"/>
                </a:lnTo>
                <a:lnTo>
                  <a:pt x="261" y="180"/>
                </a:lnTo>
                <a:lnTo>
                  <a:pt x="261" y="172"/>
                </a:lnTo>
                <a:lnTo>
                  <a:pt x="277" y="172"/>
                </a:lnTo>
                <a:close/>
                <a:moveTo>
                  <a:pt x="277" y="180"/>
                </a:moveTo>
                <a:lnTo>
                  <a:pt x="277" y="184"/>
                </a:lnTo>
                <a:lnTo>
                  <a:pt x="261" y="184"/>
                </a:lnTo>
                <a:lnTo>
                  <a:pt x="261" y="180"/>
                </a:lnTo>
                <a:lnTo>
                  <a:pt x="277" y="180"/>
                </a:lnTo>
                <a:close/>
                <a:moveTo>
                  <a:pt x="269" y="191"/>
                </a:moveTo>
                <a:lnTo>
                  <a:pt x="261" y="191"/>
                </a:lnTo>
                <a:lnTo>
                  <a:pt x="261" y="184"/>
                </a:lnTo>
                <a:lnTo>
                  <a:pt x="269" y="184"/>
                </a:lnTo>
                <a:lnTo>
                  <a:pt x="269" y="191"/>
                </a:lnTo>
                <a:close/>
                <a:moveTo>
                  <a:pt x="269" y="178"/>
                </a:moveTo>
                <a:lnTo>
                  <a:pt x="277" y="178"/>
                </a:lnTo>
                <a:lnTo>
                  <a:pt x="277" y="191"/>
                </a:lnTo>
                <a:lnTo>
                  <a:pt x="269" y="191"/>
                </a:lnTo>
                <a:lnTo>
                  <a:pt x="269" y="178"/>
                </a:lnTo>
                <a:close/>
                <a:moveTo>
                  <a:pt x="277" y="178"/>
                </a:moveTo>
                <a:lnTo>
                  <a:pt x="284" y="178"/>
                </a:lnTo>
                <a:lnTo>
                  <a:pt x="284" y="184"/>
                </a:lnTo>
                <a:lnTo>
                  <a:pt x="277" y="184"/>
                </a:lnTo>
                <a:lnTo>
                  <a:pt x="277" y="178"/>
                </a:lnTo>
                <a:close/>
                <a:moveTo>
                  <a:pt x="284" y="184"/>
                </a:moveTo>
                <a:lnTo>
                  <a:pt x="284" y="190"/>
                </a:lnTo>
                <a:lnTo>
                  <a:pt x="269" y="190"/>
                </a:lnTo>
                <a:lnTo>
                  <a:pt x="269" y="184"/>
                </a:lnTo>
                <a:lnTo>
                  <a:pt x="284" y="184"/>
                </a:lnTo>
                <a:close/>
                <a:moveTo>
                  <a:pt x="277" y="197"/>
                </a:moveTo>
                <a:lnTo>
                  <a:pt x="269" y="197"/>
                </a:lnTo>
                <a:lnTo>
                  <a:pt x="269" y="190"/>
                </a:lnTo>
                <a:lnTo>
                  <a:pt x="277" y="190"/>
                </a:lnTo>
                <a:lnTo>
                  <a:pt x="277" y="197"/>
                </a:lnTo>
                <a:close/>
                <a:moveTo>
                  <a:pt x="277" y="182"/>
                </a:moveTo>
                <a:lnTo>
                  <a:pt x="309" y="182"/>
                </a:lnTo>
                <a:lnTo>
                  <a:pt x="309" y="197"/>
                </a:lnTo>
                <a:lnTo>
                  <a:pt x="277" y="197"/>
                </a:lnTo>
                <a:lnTo>
                  <a:pt x="277" y="182"/>
                </a:lnTo>
                <a:close/>
                <a:moveTo>
                  <a:pt x="309" y="182"/>
                </a:moveTo>
                <a:lnTo>
                  <a:pt x="317" y="182"/>
                </a:lnTo>
                <a:lnTo>
                  <a:pt x="317" y="190"/>
                </a:lnTo>
                <a:lnTo>
                  <a:pt x="309" y="190"/>
                </a:lnTo>
                <a:lnTo>
                  <a:pt x="309" y="182"/>
                </a:lnTo>
                <a:close/>
                <a:moveTo>
                  <a:pt x="317" y="190"/>
                </a:moveTo>
                <a:lnTo>
                  <a:pt x="317" y="201"/>
                </a:lnTo>
                <a:lnTo>
                  <a:pt x="301" y="201"/>
                </a:lnTo>
                <a:lnTo>
                  <a:pt x="301" y="190"/>
                </a:lnTo>
                <a:lnTo>
                  <a:pt x="317" y="190"/>
                </a:lnTo>
                <a:close/>
                <a:moveTo>
                  <a:pt x="309" y="209"/>
                </a:moveTo>
                <a:lnTo>
                  <a:pt x="301" y="209"/>
                </a:lnTo>
                <a:lnTo>
                  <a:pt x="301" y="201"/>
                </a:lnTo>
                <a:lnTo>
                  <a:pt x="309" y="201"/>
                </a:lnTo>
                <a:lnTo>
                  <a:pt x="309" y="209"/>
                </a:lnTo>
                <a:close/>
                <a:moveTo>
                  <a:pt x="309" y="193"/>
                </a:moveTo>
                <a:lnTo>
                  <a:pt x="323" y="193"/>
                </a:lnTo>
                <a:lnTo>
                  <a:pt x="323" y="209"/>
                </a:lnTo>
                <a:lnTo>
                  <a:pt x="309" y="209"/>
                </a:lnTo>
                <a:lnTo>
                  <a:pt x="309" y="193"/>
                </a:lnTo>
                <a:close/>
                <a:moveTo>
                  <a:pt x="323" y="193"/>
                </a:moveTo>
                <a:lnTo>
                  <a:pt x="330" y="193"/>
                </a:lnTo>
                <a:lnTo>
                  <a:pt x="330" y="201"/>
                </a:lnTo>
                <a:lnTo>
                  <a:pt x="323" y="201"/>
                </a:lnTo>
                <a:lnTo>
                  <a:pt x="323" y="193"/>
                </a:lnTo>
                <a:close/>
                <a:moveTo>
                  <a:pt x="330" y="201"/>
                </a:moveTo>
                <a:lnTo>
                  <a:pt x="330" y="213"/>
                </a:lnTo>
                <a:lnTo>
                  <a:pt x="315" y="213"/>
                </a:lnTo>
                <a:lnTo>
                  <a:pt x="315" y="201"/>
                </a:lnTo>
                <a:lnTo>
                  <a:pt x="330" y="201"/>
                </a:lnTo>
                <a:close/>
                <a:moveTo>
                  <a:pt x="323" y="220"/>
                </a:moveTo>
                <a:lnTo>
                  <a:pt x="315" y="220"/>
                </a:lnTo>
                <a:lnTo>
                  <a:pt x="315" y="213"/>
                </a:lnTo>
                <a:lnTo>
                  <a:pt x="323" y="213"/>
                </a:lnTo>
                <a:lnTo>
                  <a:pt x="323" y="220"/>
                </a:lnTo>
                <a:close/>
                <a:moveTo>
                  <a:pt x="323" y="205"/>
                </a:moveTo>
                <a:lnTo>
                  <a:pt x="328" y="205"/>
                </a:lnTo>
                <a:lnTo>
                  <a:pt x="328" y="220"/>
                </a:lnTo>
                <a:lnTo>
                  <a:pt x="323" y="220"/>
                </a:lnTo>
                <a:lnTo>
                  <a:pt x="323" y="205"/>
                </a:lnTo>
                <a:close/>
                <a:moveTo>
                  <a:pt x="328" y="205"/>
                </a:moveTo>
                <a:lnTo>
                  <a:pt x="336" y="205"/>
                </a:lnTo>
                <a:lnTo>
                  <a:pt x="336" y="213"/>
                </a:lnTo>
                <a:lnTo>
                  <a:pt x="328" y="213"/>
                </a:lnTo>
                <a:lnTo>
                  <a:pt x="328" y="205"/>
                </a:lnTo>
                <a:close/>
                <a:moveTo>
                  <a:pt x="336" y="213"/>
                </a:moveTo>
                <a:lnTo>
                  <a:pt x="336" y="218"/>
                </a:lnTo>
                <a:lnTo>
                  <a:pt x="321" y="218"/>
                </a:lnTo>
                <a:lnTo>
                  <a:pt x="321" y="213"/>
                </a:lnTo>
                <a:lnTo>
                  <a:pt x="336" y="213"/>
                </a:lnTo>
                <a:close/>
                <a:moveTo>
                  <a:pt x="328" y="226"/>
                </a:moveTo>
                <a:lnTo>
                  <a:pt x="321" y="226"/>
                </a:lnTo>
                <a:lnTo>
                  <a:pt x="321" y="218"/>
                </a:lnTo>
                <a:lnTo>
                  <a:pt x="328" y="218"/>
                </a:lnTo>
                <a:lnTo>
                  <a:pt x="328" y="226"/>
                </a:lnTo>
                <a:close/>
                <a:moveTo>
                  <a:pt x="328" y="211"/>
                </a:moveTo>
                <a:lnTo>
                  <a:pt x="334" y="211"/>
                </a:lnTo>
                <a:lnTo>
                  <a:pt x="334" y="226"/>
                </a:lnTo>
                <a:lnTo>
                  <a:pt x="328" y="226"/>
                </a:lnTo>
                <a:lnTo>
                  <a:pt x="328" y="211"/>
                </a:lnTo>
                <a:close/>
                <a:moveTo>
                  <a:pt x="334" y="211"/>
                </a:moveTo>
                <a:lnTo>
                  <a:pt x="342" y="211"/>
                </a:lnTo>
                <a:lnTo>
                  <a:pt x="342" y="218"/>
                </a:lnTo>
                <a:lnTo>
                  <a:pt x="334" y="218"/>
                </a:lnTo>
                <a:lnTo>
                  <a:pt x="334" y="211"/>
                </a:lnTo>
                <a:close/>
                <a:moveTo>
                  <a:pt x="342" y="218"/>
                </a:moveTo>
                <a:lnTo>
                  <a:pt x="342" y="224"/>
                </a:lnTo>
                <a:lnTo>
                  <a:pt x="326" y="224"/>
                </a:lnTo>
                <a:lnTo>
                  <a:pt x="326" y="218"/>
                </a:lnTo>
                <a:lnTo>
                  <a:pt x="342" y="218"/>
                </a:lnTo>
                <a:close/>
                <a:moveTo>
                  <a:pt x="334" y="232"/>
                </a:moveTo>
                <a:lnTo>
                  <a:pt x="326" y="232"/>
                </a:lnTo>
                <a:lnTo>
                  <a:pt x="326" y="224"/>
                </a:lnTo>
                <a:lnTo>
                  <a:pt x="334" y="224"/>
                </a:lnTo>
                <a:lnTo>
                  <a:pt x="334" y="232"/>
                </a:lnTo>
                <a:close/>
                <a:moveTo>
                  <a:pt x="334" y="216"/>
                </a:moveTo>
                <a:lnTo>
                  <a:pt x="342" y="216"/>
                </a:lnTo>
                <a:lnTo>
                  <a:pt x="342" y="232"/>
                </a:lnTo>
                <a:lnTo>
                  <a:pt x="334" y="232"/>
                </a:lnTo>
                <a:lnTo>
                  <a:pt x="334" y="216"/>
                </a:lnTo>
                <a:close/>
                <a:moveTo>
                  <a:pt x="342" y="216"/>
                </a:moveTo>
                <a:lnTo>
                  <a:pt x="349" y="216"/>
                </a:lnTo>
                <a:lnTo>
                  <a:pt x="349" y="224"/>
                </a:lnTo>
                <a:lnTo>
                  <a:pt x="342" y="224"/>
                </a:lnTo>
                <a:lnTo>
                  <a:pt x="342" y="216"/>
                </a:lnTo>
                <a:close/>
                <a:moveTo>
                  <a:pt x="349" y="224"/>
                </a:moveTo>
                <a:lnTo>
                  <a:pt x="349" y="230"/>
                </a:lnTo>
                <a:lnTo>
                  <a:pt x="334" y="230"/>
                </a:lnTo>
                <a:lnTo>
                  <a:pt x="334" y="224"/>
                </a:lnTo>
                <a:lnTo>
                  <a:pt x="349" y="224"/>
                </a:lnTo>
                <a:close/>
                <a:moveTo>
                  <a:pt x="349" y="230"/>
                </a:moveTo>
                <a:lnTo>
                  <a:pt x="349" y="234"/>
                </a:lnTo>
                <a:lnTo>
                  <a:pt x="334" y="234"/>
                </a:lnTo>
                <a:lnTo>
                  <a:pt x="334" y="230"/>
                </a:lnTo>
                <a:lnTo>
                  <a:pt x="349" y="230"/>
                </a:lnTo>
                <a:close/>
                <a:moveTo>
                  <a:pt x="342" y="241"/>
                </a:moveTo>
                <a:lnTo>
                  <a:pt x="334" y="241"/>
                </a:lnTo>
                <a:lnTo>
                  <a:pt x="334" y="234"/>
                </a:lnTo>
                <a:lnTo>
                  <a:pt x="342" y="234"/>
                </a:lnTo>
                <a:lnTo>
                  <a:pt x="342" y="241"/>
                </a:lnTo>
                <a:close/>
                <a:moveTo>
                  <a:pt x="342" y="228"/>
                </a:moveTo>
                <a:lnTo>
                  <a:pt x="348" y="228"/>
                </a:lnTo>
                <a:lnTo>
                  <a:pt x="348" y="241"/>
                </a:lnTo>
                <a:lnTo>
                  <a:pt x="342" y="241"/>
                </a:lnTo>
                <a:lnTo>
                  <a:pt x="342" y="228"/>
                </a:lnTo>
                <a:close/>
                <a:moveTo>
                  <a:pt x="348" y="228"/>
                </a:moveTo>
                <a:lnTo>
                  <a:pt x="355" y="228"/>
                </a:lnTo>
                <a:lnTo>
                  <a:pt x="355" y="234"/>
                </a:lnTo>
                <a:lnTo>
                  <a:pt x="348" y="234"/>
                </a:lnTo>
                <a:lnTo>
                  <a:pt x="348" y="228"/>
                </a:lnTo>
                <a:close/>
                <a:moveTo>
                  <a:pt x="355" y="234"/>
                </a:moveTo>
                <a:lnTo>
                  <a:pt x="355" y="239"/>
                </a:lnTo>
                <a:lnTo>
                  <a:pt x="340" y="239"/>
                </a:lnTo>
                <a:lnTo>
                  <a:pt x="340" y="234"/>
                </a:lnTo>
                <a:lnTo>
                  <a:pt x="355" y="234"/>
                </a:lnTo>
                <a:close/>
                <a:moveTo>
                  <a:pt x="348" y="247"/>
                </a:moveTo>
                <a:lnTo>
                  <a:pt x="340" y="247"/>
                </a:lnTo>
                <a:lnTo>
                  <a:pt x="340" y="239"/>
                </a:lnTo>
                <a:lnTo>
                  <a:pt x="348" y="239"/>
                </a:lnTo>
                <a:lnTo>
                  <a:pt x="348" y="247"/>
                </a:lnTo>
                <a:close/>
                <a:moveTo>
                  <a:pt x="348" y="232"/>
                </a:moveTo>
                <a:lnTo>
                  <a:pt x="355" y="232"/>
                </a:lnTo>
                <a:lnTo>
                  <a:pt x="355" y="247"/>
                </a:lnTo>
                <a:lnTo>
                  <a:pt x="348" y="247"/>
                </a:lnTo>
                <a:lnTo>
                  <a:pt x="348" y="232"/>
                </a:lnTo>
                <a:close/>
                <a:moveTo>
                  <a:pt x="355" y="232"/>
                </a:moveTo>
                <a:lnTo>
                  <a:pt x="363" y="232"/>
                </a:lnTo>
                <a:lnTo>
                  <a:pt x="363" y="239"/>
                </a:lnTo>
                <a:lnTo>
                  <a:pt x="355" y="239"/>
                </a:lnTo>
                <a:lnTo>
                  <a:pt x="355" y="232"/>
                </a:lnTo>
                <a:close/>
                <a:moveTo>
                  <a:pt x="363" y="239"/>
                </a:moveTo>
                <a:lnTo>
                  <a:pt x="363" y="245"/>
                </a:lnTo>
                <a:lnTo>
                  <a:pt x="348" y="245"/>
                </a:lnTo>
                <a:lnTo>
                  <a:pt x="348" y="239"/>
                </a:lnTo>
                <a:lnTo>
                  <a:pt x="363" y="239"/>
                </a:lnTo>
                <a:close/>
                <a:moveTo>
                  <a:pt x="363" y="245"/>
                </a:moveTo>
                <a:lnTo>
                  <a:pt x="363" y="251"/>
                </a:lnTo>
                <a:lnTo>
                  <a:pt x="348" y="251"/>
                </a:lnTo>
                <a:lnTo>
                  <a:pt x="348" y="245"/>
                </a:lnTo>
                <a:lnTo>
                  <a:pt x="363" y="245"/>
                </a:lnTo>
                <a:close/>
                <a:moveTo>
                  <a:pt x="355" y="259"/>
                </a:moveTo>
                <a:lnTo>
                  <a:pt x="348" y="259"/>
                </a:lnTo>
                <a:lnTo>
                  <a:pt x="348" y="251"/>
                </a:lnTo>
                <a:lnTo>
                  <a:pt x="355" y="251"/>
                </a:lnTo>
                <a:lnTo>
                  <a:pt x="355" y="259"/>
                </a:lnTo>
                <a:close/>
                <a:moveTo>
                  <a:pt x="355" y="243"/>
                </a:moveTo>
                <a:lnTo>
                  <a:pt x="361" y="243"/>
                </a:lnTo>
                <a:lnTo>
                  <a:pt x="361" y="259"/>
                </a:lnTo>
                <a:lnTo>
                  <a:pt x="355" y="259"/>
                </a:lnTo>
                <a:lnTo>
                  <a:pt x="355" y="243"/>
                </a:lnTo>
                <a:close/>
                <a:moveTo>
                  <a:pt x="361" y="243"/>
                </a:moveTo>
                <a:lnTo>
                  <a:pt x="369" y="243"/>
                </a:lnTo>
                <a:lnTo>
                  <a:pt x="369" y="251"/>
                </a:lnTo>
                <a:lnTo>
                  <a:pt x="361" y="251"/>
                </a:lnTo>
                <a:lnTo>
                  <a:pt x="361" y="243"/>
                </a:lnTo>
                <a:close/>
                <a:moveTo>
                  <a:pt x="369" y="251"/>
                </a:moveTo>
                <a:lnTo>
                  <a:pt x="369" y="257"/>
                </a:lnTo>
                <a:lnTo>
                  <a:pt x="353" y="257"/>
                </a:lnTo>
                <a:lnTo>
                  <a:pt x="353" y="251"/>
                </a:lnTo>
                <a:lnTo>
                  <a:pt x="369" y="251"/>
                </a:lnTo>
                <a:close/>
                <a:moveTo>
                  <a:pt x="361" y="264"/>
                </a:moveTo>
                <a:lnTo>
                  <a:pt x="353" y="264"/>
                </a:lnTo>
                <a:lnTo>
                  <a:pt x="353" y="257"/>
                </a:lnTo>
                <a:lnTo>
                  <a:pt x="361" y="257"/>
                </a:lnTo>
                <a:lnTo>
                  <a:pt x="361" y="264"/>
                </a:lnTo>
                <a:close/>
                <a:moveTo>
                  <a:pt x="361" y="249"/>
                </a:moveTo>
                <a:lnTo>
                  <a:pt x="369" y="249"/>
                </a:lnTo>
                <a:lnTo>
                  <a:pt x="369" y="264"/>
                </a:lnTo>
                <a:lnTo>
                  <a:pt x="361" y="264"/>
                </a:lnTo>
                <a:lnTo>
                  <a:pt x="361" y="249"/>
                </a:lnTo>
                <a:close/>
                <a:moveTo>
                  <a:pt x="369" y="249"/>
                </a:moveTo>
                <a:lnTo>
                  <a:pt x="376" y="249"/>
                </a:lnTo>
                <a:lnTo>
                  <a:pt x="376" y="257"/>
                </a:lnTo>
                <a:lnTo>
                  <a:pt x="369" y="257"/>
                </a:lnTo>
                <a:lnTo>
                  <a:pt x="369" y="249"/>
                </a:lnTo>
                <a:close/>
                <a:moveTo>
                  <a:pt x="376" y="257"/>
                </a:moveTo>
                <a:lnTo>
                  <a:pt x="376" y="262"/>
                </a:lnTo>
                <a:lnTo>
                  <a:pt x="359" y="262"/>
                </a:lnTo>
                <a:lnTo>
                  <a:pt x="359" y="257"/>
                </a:lnTo>
                <a:lnTo>
                  <a:pt x="376" y="257"/>
                </a:lnTo>
                <a:close/>
                <a:moveTo>
                  <a:pt x="369" y="270"/>
                </a:moveTo>
                <a:lnTo>
                  <a:pt x="359" y="270"/>
                </a:lnTo>
                <a:lnTo>
                  <a:pt x="359" y="262"/>
                </a:lnTo>
                <a:lnTo>
                  <a:pt x="369" y="262"/>
                </a:lnTo>
                <a:lnTo>
                  <a:pt x="369" y="270"/>
                </a:lnTo>
                <a:close/>
                <a:moveTo>
                  <a:pt x="369" y="255"/>
                </a:moveTo>
                <a:lnTo>
                  <a:pt x="374" y="255"/>
                </a:lnTo>
                <a:lnTo>
                  <a:pt x="374" y="270"/>
                </a:lnTo>
                <a:lnTo>
                  <a:pt x="369" y="270"/>
                </a:lnTo>
                <a:lnTo>
                  <a:pt x="369" y="255"/>
                </a:lnTo>
                <a:close/>
                <a:moveTo>
                  <a:pt x="374" y="255"/>
                </a:moveTo>
                <a:lnTo>
                  <a:pt x="382" y="255"/>
                </a:lnTo>
                <a:lnTo>
                  <a:pt x="382" y="262"/>
                </a:lnTo>
                <a:lnTo>
                  <a:pt x="374" y="262"/>
                </a:lnTo>
                <a:lnTo>
                  <a:pt x="374" y="255"/>
                </a:lnTo>
                <a:close/>
                <a:moveTo>
                  <a:pt x="382" y="262"/>
                </a:moveTo>
                <a:lnTo>
                  <a:pt x="382" y="268"/>
                </a:lnTo>
                <a:lnTo>
                  <a:pt x="367" y="268"/>
                </a:lnTo>
                <a:lnTo>
                  <a:pt x="367" y="262"/>
                </a:lnTo>
                <a:lnTo>
                  <a:pt x="382" y="262"/>
                </a:lnTo>
                <a:close/>
                <a:moveTo>
                  <a:pt x="382" y="268"/>
                </a:moveTo>
                <a:lnTo>
                  <a:pt x="382" y="274"/>
                </a:lnTo>
                <a:lnTo>
                  <a:pt x="367" y="274"/>
                </a:lnTo>
                <a:lnTo>
                  <a:pt x="367" y="268"/>
                </a:lnTo>
                <a:lnTo>
                  <a:pt x="382" y="268"/>
                </a:lnTo>
                <a:close/>
                <a:moveTo>
                  <a:pt x="374" y="282"/>
                </a:moveTo>
                <a:lnTo>
                  <a:pt x="367" y="282"/>
                </a:lnTo>
                <a:lnTo>
                  <a:pt x="367" y="274"/>
                </a:lnTo>
                <a:lnTo>
                  <a:pt x="374" y="274"/>
                </a:lnTo>
                <a:lnTo>
                  <a:pt x="374" y="282"/>
                </a:lnTo>
                <a:close/>
                <a:moveTo>
                  <a:pt x="374" y="266"/>
                </a:moveTo>
                <a:lnTo>
                  <a:pt x="380" y="266"/>
                </a:lnTo>
                <a:lnTo>
                  <a:pt x="380" y="282"/>
                </a:lnTo>
                <a:lnTo>
                  <a:pt x="374" y="282"/>
                </a:lnTo>
                <a:lnTo>
                  <a:pt x="374" y="266"/>
                </a:lnTo>
                <a:close/>
                <a:moveTo>
                  <a:pt x="380" y="266"/>
                </a:moveTo>
                <a:lnTo>
                  <a:pt x="388" y="266"/>
                </a:lnTo>
                <a:lnTo>
                  <a:pt x="388" y="274"/>
                </a:lnTo>
                <a:lnTo>
                  <a:pt x="380" y="274"/>
                </a:lnTo>
                <a:lnTo>
                  <a:pt x="380" y="266"/>
                </a:lnTo>
                <a:close/>
                <a:moveTo>
                  <a:pt x="388" y="274"/>
                </a:moveTo>
                <a:lnTo>
                  <a:pt x="388" y="280"/>
                </a:lnTo>
                <a:lnTo>
                  <a:pt x="372" y="280"/>
                </a:lnTo>
                <a:lnTo>
                  <a:pt x="372" y="274"/>
                </a:lnTo>
                <a:lnTo>
                  <a:pt x="388" y="274"/>
                </a:lnTo>
                <a:close/>
                <a:moveTo>
                  <a:pt x="380" y="287"/>
                </a:moveTo>
                <a:lnTo>
                  <a:pt x="372" y="287"/>
                </a:lnTo>
                <a:lnTo>
                  <a:pt x="372" y="280"/>
                </a:lnTo>
                <a:lnTo>
                  <a:pt x="380" y="280"/>
                </a:lnTo>
                <a:lnTo>
                  <a:pt x="380" y="287"/>
                </a:lnTo>
                <a:close/>
                <a:moveTo>
                  <a:pt x="380" y="272"/>
                </a:moveTo>
                <a:lnTo>
                  <a:pt x="394" y="272"/>
                </a:lnTo>
                <a:lnTo>
                  <a:pt x="394" y="287"/>
                </a:lnTo>
                <a:lnTo>
                  <a:pt x="380" y="287"/>
                </a:lnTo>
                <a:lnTo>
                  <a:pt x="380" y="272"/>
                </a:lnTo>
                <a:close/>
                <a:moveTo>
                  <a:pt x="394" y="272"/>
                </a:moveTo>
                <a:lnTo>
                  <a:pt x="401" y="272"/>
                </a:lnTo>
                <a:lnTo>
                  <a:pt x="401" y="280"/>
                </a:lnTo>
                <a:lnTo>
                  <a:pt x="394" y="280"/>
                </a:lnTo>
                <a:lnTo>
                  <a:pt x="394" y="272"/>
                </a:lnTo>
                <a:close/>
                <a:moveTo>
                  <a:pt x="401" y="280"/>
                </a:moveTo>
                <a:lnTo>
                  <a:pt x="401" y="291"/>
                </a:lnTo>
                <a:lnTo>
                  <a:pt x="386" y="291"/>
                </a:lnTo>
                <a:lnTo>
                  <a:pt x="386" y="280"/>
                </a:lnTo>
                <a:lnTo>
                  <a:pt x="401" y="280"/>
                </a:lnTo>
                <a:close/>
                <a:moveTo>
                  <a:pt x="401" y="291"/>
                </a:moveTo>
                <a:lnTo>
                  <a:pt x="401" y="297"/>
                </a:lnTo>
                <a:lnTo>
                  <a:pt x="386" y="297"/>
                </a:lnTo>
                <a:lnTo>
                  <a:pt x="386" y="291"/>
                </a:lnTo>
                <a:lnTo>
                  <a:pt x="401" y="291"/>
                </a:lnTo>
                <a:close/>
                <a:moveTo>
                  <a:pt x="394" y="303"/>
                </a:moveTo>
                <a:lnTo>
                  <a:pt x="386" y="303"/>
                </a:lnTo>
                <a:lnTo>
                  <a:pt x="386" y="297"/>
                </a:lnTo>
                <a:lnTo>
                  <a:pt x="394" y="297"/>
                </a:lnTo>
                <a:lnTo>
                  <a:pt x="394" y="303"/>
                </a:lnTo>
                <a:close/>
                <a:moveTo>
                  <a:pt x="394" y="289"/>
                </a:moveTo>
                <a:lnTo>
                  <a:pt x="434" y="289"/>
                </a:lnTo>
                <a:lnTo>
                  <a:pt x="434" y="303"/>
                </a:lnTo>
                <a:lnTo>
                  <a:pt x="394" y="303"/>
                </a:lnTo>
                <a:lnTo>
                  <a:pt x="394" y="289"/>
                </a:lnTo>
                <a:close/>
                <a:moveTo>
                  <a:pt x="434" y="289"/>
                </a:moveTo>
                <a:lnTo>
                  <a:pt x="442" y="289"/>
                </a:lnTo>
                <a:lnTo>
                  <a:pt x="442" y="297"/>
                </a:lnTo>
                <a:lnTo>
                  <a:pt x="434" y="297"/>
                </a:lnTo>
                <a:lnTo>
                  <a:pt x="434" y="289"/>
                </a:lnTo>
                <a:close/>
                <a:moveTo>
                  <a:pt x="442" y="297"/>
                </a:moveTo>
                <a:lnTo>
                  <a:pt x="442" y="301"/>
                </a:lnTo>
                <a:lnTo>
                  <a:pt x="424" y="301"/>
                </a:lnTo>
                <a:lnTo>
                  <a:pt x="424" y="297"/>
                </a:lnTo>
                <a:lnTo>
                  <a:pt x="442" y="297"/>
                </a:lnTo>
                <a:close/>
                <a:moveTo>
                  <a:pt x="434" y="309"/>
                </a:moveTo>
                <a:lnTo>
                  <a:pt x="424" y="309"/>
                </a:lnTo>
                <a:lnTo>
                  <a:pt x="424" y="301"/>
                </a:lnTo>
                <a:lnTo>
                  <a:pt x="434" y="301"/>
                </a:lnTo>
                <a:lnTo>
                  <a:pt x="434" y="309"/>
                </a:lnTo>
                <a:close/>
                <a:moveTo>
                  <a:pt x="434" y="293"/>
                </a:moveTo>
                <a:lnTo>
                  <a:pt x="447" y="293"/>
                </a:lnTo>
                <a:lnTo>
                  <a:pt x="447" y="309"/>
                </a:lnTo>
                <a:lnTo>
                  <a:pt x="434" y="309"/>
                </a:lnTo>
                <a:lnTo>
                  <a:pt x="434" y="293"/>
                </a:lnTo>
                <a:close/>
                <a:moveTo>
                  <a:pt x="447" y="293"/>
                </a:moveTo>
                <a:lnTo>
                  <a:pt x="455" y="293"/>
                </a:lnTo>
                <a:lnTo>
                  <a:pt x="455" y="301"/>
                </a:lnTo>
                <a:lnTo>
                  <a:pt x="447" y="301"/>
                </a:lnTo>
                <a:lnTo>
                  <a:pt x="447" y="293"/>
                </a:lnTo>
                <a:close/>
                <a:moveTo>
                  <a:pt x="455" y="301"/>
                </a:moveTo>
                <a:lnTo>
                  <a:pt x="455" y="307"/>
                </a:lnTo>
                <a:lnTo>
                  <a:pt x="438" y="307"/>
                </a:lnTo>
                <a:lnTo>
                  <a:pt x="438" y="301"/>
                </a:lnTo>
                <a:lnTo>
                  <a:pt x="455" y="301"/>
                </a:lnTo>
                <a:close/>
                <a:moveTo>
                  <a:pt x="447" y="314"/>
                </a:moveTo>
                <a:lnTo>
                  <a:pt x="438" y="314"/>
                </a:lnTo>
                <a:lnTo>
                  <a:pt x="438" y="307"/>
                </a:lnTo>
                <a:lnTo>
                  <a:pt x="447" y="307"/>
                </a:lnTo>
                <a:lnTo>
                  <a:pt x="447" y="314"/>
                </a:lnTo>
                <a:close/>
                <a:moveTo>
                  <a:pt x="447" y="299"/>
                </a:moveTo>
                <a:lnTo>
                  <a:pt x="453" y="299"/>
                </a:lnTo>
                <a:lnTo>
                  <a:pt x="453" y="314"/>
                </a:lnTo>
                <a:lnTo>
                  <a:pt x="447" y="314"/>
                </a:lnTo>
                <a:lnTo>
                  <a:pt x="447" y="299"/>
                </a:lnTo>
                <a:close/>
                <a:moveTo>
                  <a:pt x="453" y="299"/>
                </a:moveTo>
                <a:lnTo>
                  <a:pt x="461" y="299"/>
                </a:lnTo>
                <a:lnTo>
                  <a:pt x="461" y="307"/>
                </a:lnTo>
                <a:lnTo>
                  <a:pt x="453" y="307"/>
                </a:lnTo>
                <a:lnTo>
                  <a:pt x="453" y="299"/>
                </a:lnTo>
                <a:close/>
                <a:moveTo>
                  <a:pt x="461" y="307"/>
                </a:moveTo>
                <a:lnTo>
                  <a:pt x="461" y="318"/>
                </a:lnTo>
                <a:lnTo>
                  <a:pt x="445" y="318"/>
                </a:lnTo>
                <a:lnTo>
                  <a:pt x="445" y="307"/>
                </a:lnTo>
                <a:lnTo>
                  <a:pt x="461" y="307"/>
                </a:lnTo>
                <a:close/>
                <a:moveTo>
                  <a:pt x="453" y="326"/>
                </a:moveTo>
                <a:lnTo>
                  <a:pt x="445" y="326"/>
                </a:lnTo>
                <a:lnTo>
                  <a:pt x="445" y="318"/>
                </a:lnTo>
                <a:lnTo>
                  <a:pt x="453" y="318"/>
                </a:lnTo>
                <a:lnTo>
                  <a:pt x="453" y="326"/>
                </a:lnTo>
                <a:close/>
                <a:moveTo>
                  <a:pt x="453" y="310"/>
                </a:moveTo>
                <a:lnTo>
                  <a:pt x="467" y="310"/>
                </a:lnTo>
                <a:lnTo>
                  <a:pt x="467" y="326"/>
                </a:lnTo>
                <a:lnTo>
                  <a:pt x="453" y="326"/>
                </a:lnTo>
                <a:lnTo>
                  <a:pt x="453" y="310"/>
                </a:lnTo>
                <a:close/>
                <a:moveTo>
                  <a:pt x="467" y="310"/>
                </a:moveTo>
                <a:lnTo>
                  <a:pt x="474" y="310"/>
                </a:lnTo>
                <a:lnTo>
                  <a:pt x="474" y="318"/>
                </a:lnTo>
                <a:lnTo>
                  <a:pt x="467" y="318"/>
                </a:lnTo>
                <a:lnTo>
                  <a:pt x="467" y="310"/>
                </a:lnTo>
                <a:close/>
                <a:moveTo>
                  <a:pt x="474" y="318"/>
                </a:moveTo>
                <a:lnTo>
                  <a:pt x="474" y="324"/>
                </a:lnTo>
                <a:lnTo>
                  <a:pt x="459" y="324"/>
                </a:lnTo>
                <a:lnTo>
                  <a:pt x="459" y="318"/>
                </a:lnTo>
                <a:lnTo>
                  <a:pt x="474" y="318"/>
                </a:lnTo>
                <a:close/>
                <a:moveTo>
                  <a:pt x="474" y="324"/>
                </a:moveTo>
                <a:lnTo>
                  <a:pt x="474" y="330"/>
                </a:lnTo>
                <a:lnTo>
                  <a:pt x="459" y="330"/>
                </a:lnTo>
                <a:lnTo>
                  <a:pt x="459" y="324"/>
                </a:lnTo>
                <a:lnTo>
                  <a:pt x="474" y="324"/>
                </a:lnTo>
                <a:close/>
                <a:moveTo>
                  <a:pt x="467" y="337"/>
                </a:moveTo>
                <a:lnTo>
                  <a:pt x="459" y="337"/>
                </a:lnTo>
                <a:lnTo>
                  <a:pt x="459" y="330"/>
                </a:lnTo>
                <a:lnTo>
                  <a:pt x="467" y="330"/>
                </a:lnTo>
                <a:lnTo>
                  <a:pt x="467" y="337"/>
                </a:lnTo>
                <a:close/>
                <a:moveTo>
                  <a:pt x="467" y="322"/>
                </a:moveTo>
                <a:lnTo>
                  <a:pt x="474" y="322"/>
                </a:lnTo>
                <a:lnTo>
                  <a:pt x="474" y="337"/>
                </a:lnTo>
                <a:lnTo>
                  <a:pt x="467" y="337"/>
                </a:lnTo>
                <a:lnTo>
                  <a:pt x="467" y="322"/>
                </a:lnTo>
                <a:close/>
                <a:moveTo>
                  <a:pt x="474" y="322"/>
                </a:moveTo>
                <a:lnTo>
                  <a:pt x="482" y="322"/>
                </a:lnTo>
                <a:lnTo>
                  <a:pt x="482" y="330"/>
                </a:lnTo>
                <a:lnTo>
                  <a:pt x="474" y="330"/>
                </a:lnTo>
                <a:lnTo>
                  <a:pt x="474" y="322"/>
                </a:lnTo>
                <a:close/>
                <a:moveTo>
                  <a:pt x="482" y="330"/>
                </a:moveTo>
                <a:lnTo>
                  <a:pt x="482" y="335"/>
                </a:lnTo>
                <a:lnTo>
                  <a:pt x="465" y="335"/>
                </a:lnTo>
                <a:lnTo>
                  <a:pt x="465" y="330"/>
                </a:lnTo>
                <a:lnTo>
                  <a:pt x="482" y="330"/>
                </a:lnTo>
                <a:close/>
                <a:moveTo>
                  <a:pt x="474" y="343"/>
                </a:moveTo>
                <a:lnTo>
                  <a:pt x="465" y="343"/>
                </a:lnTo>
                <a:lnTo>
                  <a:pt x="465" y="335"/>
                </a:lnTo>
                <a:lnTo>
                  <a:pt x="474" y="335"/>
                </a:lnTo>
                <a:lnTo>
                  <a:pt x="474" y="343"/>
                </a:lnTo>
                <a:close/>
                <a:moveTo>
                  <a:pt x="474" y="328"/>
                </a:moveTo>
                <a:lnTo>
                  <a:pt x="486" y="328"/>
                </a:lnTo>
                <a:lnTo>
                  <a:pt x="486" y="343"/>
                </a:lnTo>
                <a:lnTo>
                  <a:pt x="474" y="343"/>
                </a:lnTo>
                <a:lnTo>
                  <a:pt x="474" y="328"/>
                </a:lnTo>
                <a:close/>
                <a:moveTo>
                  <a:pt x="486" y="328"/>
                </a:moveTo>
                <a:lnTo>
                  <a:pt x="493" y="328"/>
                </a:lnTo>
                <a:lnTo>
                  <a:pt x="493" y="335"/>
                </a:lnTo>
                <a:lnTo>
                  <a:pt x="486" y="335"/>
                </a:lnTo>
                <a:lnTo>
                  <a:pt x="486" y="328"/>
                </a:lnTo>
                <a:close/>
                <a:moveTo>
                  <a:pt x="493" y="335"/>
                </a:moveTo>
                <a:lnTo>
                  <a:pt x="493" y="341"/>
                </a:lnTo>
                <a:lnTo>
                  <a:pt x="478" y="341"/>
                </a:lnTo>
                <a:lnTo>
                  <a:pt x="478" y="335"/>
                </a:lnTo>
                <a:lnTo>
                  <a:pt x="493" y="335"/>
                </a:lnTo>
                <a:close/>
                <a:moveTo>
                  <a:pt x="493" y="341"/>
                </a:moveTo>
                <a:lnTo>
                  <a:pt x="493" y="347"/>
                </a:lnTo>
                <a:lnTo>
                  <a:pt x="478" y="347"/>
                </a:lnTo>
                <a:lnTo>
                  <a:pt x="478" y="341"/>
                </a:lnTo>
                <a:lnTo>
                  <a:pt x="493" y="341"/>
                </a:lnTo>
                <a:close/>
                <a:moveTo>
                  <a:pt x="486" y="353"/>
                </a:moveTo>
                <a:lnTo>
                  <a:pt x="478" y="353"/>
                </a:lnTo>
                <a:lnTo>
                  <a:pt x="478" y="347"/>
                </a:lnTo>
                <a:lnTo>
                  <a:pt x="486" y="347"/>
                </a:lnTo>
                <a:lnTo>
                  <a:pt x="486" y="353"/>
                </a:lnTo>
                <a:close/>
                <a:moveTo>
                  <a:pt x="486" y="339"/>
                </a:moveTo>
                <a:lnTo>
                  <a:pt x="491" y="339"/>
                </a:lnTo>
                <a:lnTo>
                  <a:pt x="491" y="353"/>
                </a:lnTo>
                <a:lnTo>
                  <a:pt x="486" y="353"/>
                </a:lnTo>
                <a:lnTo>
                  <a:pt x="486" y="339"/>
                </a:lnTo>
                <a:close/>
                <a:moveTo>
                  <a:pt x="491" y="339"/>
                </a:moveTo>
                <a:lnTo>
                  <a:pt x="501" y="339"/>
                </a:lnTo>
                <a:lnTo>
                  <a:pt x="501" y="347"/>
                </a:lnTo>
                <a:lnTo>
                  <a:pt x="491" y="347"/>
                </a:lnTo>
                <a:lnTo>
                  <a:pt x="491" y="339"/>
                </a:lnTo>
                <a:close/>
                <a:moveTo>
                  <a:pt x="501" y="347"/>
                </a:moveTo>
                <a:lnTo>
                  <a:pt x="501" y="351"/>
                </a:lnTo>
                <a:lnTo>
                  <a:pt x="484" y="351"/>
                </a:lnTo>
                <a:lnTo>
                  <a:pt x="484" y="347"/>
                </a:lnTo>
                <a:lnTo>
                  <a:pt x="501" y="347"/>
                </a:lnTo>
                <a:close/>
                <a:moveTo>
                  <a:pt x="491" y="358"/>
                </a:moveTo>
                <a:lnTo>
                  <a:pt x="484" y="358"/>
                </a:lnTo>
                <a:lnTo>
                  <a:pt x="484" y="351"/>
                </a:lnTo>
                <a:lnTo>
                  <a:pt x="491" y="351"/>
                </a:lnTo>
                <a:lnTo>
                  <a:pt x="491" y="358"/>
                </a:lnTo>
                <a:close/>
                <a:moveTo>
                  <a:pt x="491" y="343"/>
                </a:moveTo>
                <a:lnTo>
                  <a:pt x="505" y="343"/>
                </a:lnTo>
                <a:lnTo>
                  <a:pt x="505" y="358"/>
                </a:lnTo>
                <a:lnTo>
                  <a:pt x="491" y="358"/>
                </a:lnTo>
                <a:lnTo>
                  <a:pt x="491" y="343"/>
                </a:lnTo>
                <a:close/>
                <a:moveTo>
                  <a:pt x="505" y="343"/>
                </a:moveTo>
                <a:lnTo>
                  <a:pt x="514" y="343"/>
                </a:lnTo>
                <a:lnTo>
                  <a:pt x="514" y="351"/>
                </a:lnTo>
                <a:lnTo>
                  <a:pt x="505" y="351"/>
                </a:lnTo>
                <a:lnTo>
                  <a:pt x="505" y="343"/>
                </a:lnTo>
                <a:close/>
                <a:moveTo>
                  <a:pt x="514" y="351"/>
                </a:moveTo>
                <a:lnTo>
                  <a:pt x="514" y="358"/>
                </a:lnTo>
                <a:lnTo>
                  <a:pt x="497" y="358"/>
                </a:lnTo>
                <a:lnTo>
                  <a:pt x="497" y="351"/>
                </a:lnTo>
                <a:lnTo>
                  <a:pt x="514" y="351"/>
                </a:lnTo>
                <a:close/>
                <a:moveTo>
                  <a:pt x="505" y="366"/>
                </a:moveTo>
                <a:lnTo>
                  <a:pt x="497" y="366"/>
                </a:lnTo>
                <a:lnTo>
                  <a:pt x="497" y="358"/>
                </a:lnTo>
                <a:lnTo>
                  <a:pt x="505" y="358"/>
                </a:lnTo>
                <a:lnTo>
                  <a:pt x="505" y="366"/>
                </a:lnTo>
                <a:close/>
                <a:moveTo>
                  <a:pt x="505" y="351"/>
                </a:moveTo>
                <a:lnTo>
                  <a:pt x="532" y="351"/>
                </a:lnTo>
                <a:lnTo>
                  <a:pt x="532" y="366"/>
                </a:lnTo>
                <a:lnTo>
                  <a:pt x="505" y="366"/>
                </a:lnTo>
                <a:lnTo>
                  <a:pt x="505" y="351"/>
                </a:lnTo>
                <a:close/>
                <a:moveTo>
                  <a:pt x="532" y="351"/>
                </a:moveTo>
                <a:lnTo>
                  <a:pt x="539" y="351"/>
                </a:lnTo>
                <a:lnTo>
                  <a:pt x="539" y="358"/>
                </a:lnTo>
                <a:lnTo>
                  <a:pt x="532" y="358"/>
                </a:lnTo>
                <a:lnTo>
                  <a:pt x="532" y="351"/>
                </a:lnTo>
                <a:close/>
                <a:moveTo>
                  <a:pt x="539" y="358"/>
                </a:moveTo>
                <a:lnTo>
                  <a:pt x="539" y="362"/>
                </a:lnTo>
                <a:lnTo>
                  <a:pt x="524" y="362"/>
                </a:lnTo>
                <a:lnTo>
                  <a:pt x="524" y="358"/>
                </a:lnTo>
                <a:lnTo>
                  <a:pt x="539" y="358"/>
                </a:lnTo>
                <a:close/>
                <a:moveTo>
                  <a:pt x="539" y="362"/>
                </a:moveTo>
                <a:lnTo>
                  <a:pt x="539" y="368"/>
                </a:lnTo>
                <a:lnTo>
                  <a:pt x="524" y="368"/>
                </a:lnTo>
                <a:lnTo>
                  <a:pt x="524" y="362"/>
                </a:lnTo>
                <a:lnTo>
                  <a:pt x="539" y="362"/>
                </a:lnTo>
                <a:close/>
                <a:moveTo>
                  <a:pt x="532" y="376"/>
                </a:moveTo>
                <a:lnTo>
                  <a:pt x="524" y="376"/>
                </a:lnTo>
                <a:lnTo>
                  <a:pt x="524" y="368"/>
                </a:lnTo>
                <a:lnTo>
                  <a:pt x="532" y="368"/>
                </a:lnTo>
                <a:lnTo>
                  <a:pt x="532" y="376"/>
                </a:lnTo>
                <a:close/>
                <a:moveTo>
                  <a:pt x="532" y="360"/>
                </a:moveTo>
                <a:lnTo>
                  <a:pt x="551" y="360"/>
                </a:lnTo>
                <a:lnTo>
                  <a:pt x="551" y="376"/>
                </a:lnTo>
                <a:lnTo>
                  <a:pt x="532" y="376"/>
                </a:lnTo>
                <a:lnTo>
                  <a:pt x="532" y="360"/>
                </a:lnTo>
                <a:close/>
                <a:moveTo>
                  <a:pt x="551" y="360"/>
                </a:moveTo>
                <a:lnTo>
                  <a:pt x="561" y="360"/>
                </a:lnTo>
                <a:lnTo>
                  <a:pt x="561" y="368"/>
                </a:lnTo>
                <a:lnTo>
                  <a:pt x="551" y="368"/>
                </a:lnTo>
                <a:lnTo>
                  <a:pt x="551" y="360"/>
                </a:lnTo>
                <a:close/>
                <a:moveTo>
                  <a:pt x="561" y="368"/>
                </a:moveTo>
                <a:lnTo>
                  <a:pt x="561" y="374"/>
                </a:lnTo>
                <a:lnTo>
                  <a:pt x="543" y="374"/>
                </a:lnTo>
                <a:lnTo>
                  <a:pt x="543" y="368"/>
                </a:lnTo>
                <a:lnTo>
                  <a:pt x="561" y="368"/>
                </a:lnTo>
                <a:close/>
                <a:moveTo>
                  <a:pt x="551" y="381"/>
                </a:moveTo>
                <a:lnTo>
                  <a:pt x="543" y="381"/>
                </a:lnTo>
                <a:lnTo>
                  <a:pt x="543" y="374"/>
                </a:lnTo>
                <a:lnTo>
                  <a:pt x="551" y="374"/>
                </a:lnTo>
                <a:lnTo>
                  <a:pt x="551" y="381"/>
                </a:lnTo>
                <a:close/>
                <a:moveTo>
                  <a:pt x="551" y="366"/>
                </a:moveTo>
                <a:lnTo>
                  <a:pt x="559" y="366"/>
                </a:lnTo>
                <a:lnTo>
                  <a:pt x="559" y="381"/>
                </a:lnTo>
                <a:lnTo>
                  <a:pt x="551" y="381"/>
                </a:lnTo>
                <a:lnTo>
                  <a:pt x="551" y="366"/>
                </a:lnTo>
                <a:close/>
                <a:moveTo>
                  <a:pt x="559" y="366"/>
                </a:moveTo>
                <a:lnTo>
                  <a:pt x="566" y="366"/>
                </a:lnTo>
                <a:lnTo>
                  <a:pt x="566" y="374"/>
                </a:lnTo>
                <a:lnTo>
                  <a:pt x="559" y="374"/>
                </a:lnTo>
                <a:lnTo>
                  <a:pt x="559" y="366"/>
                </a:lnTo>
                <a:close/>
                <a:moveTo>
                  <a:pt x="566" y="374"/>
                </a:moveTo>
                <a:lnTo>
                  <a:pt x="566" y="380"/>
                </a:lnTo>
                <a:lnTo>
                  <a:pt x="551" y="380"/>
                </a:lnTo>
                <a:lnTo>
                  <a:pt x="551" y="374"/>
                </a:lnTo>
                <a:lnTo>
                  <a:pt x="566" y="374"/>
                </a:lnTo>
                <a:close/>
                <a:moveTo>
                  <a:pt x="559" y="387"/>
                </a:moveTo>
                <a:lnTo>
                  <a:pt x="551" y="387"/>
                </a:lnTo>
                <a:lnTo>
                  <a:pt x="551" y="380"/>
                </a:lnTo>
                <a:lnTo>
                  <a:pt x="559" y="380"/>
                </a:lnTo>
                <a:lnTo>
                  <a:pt x="559" y="387"/>
                </a:lnTo>
                <a:close/>
                <a:moveTo>
                  <a:pt x="559" y="372"/>
                </a:moveTo>
                <a:lnTo>
                  <a:pt x="572" y="372"/>
                </a:lnTo>
                <a:lnTo>
                  <a:pt x="572" y="387"/>
                </a:lnTo>
                <a:lnTo>
                  <a:pt x="559" y="387"/>
                </a:lnTo>
                <a:lnTo>
                  <a:pt x="559" y="372"/>
                </a:lnTo>
                <a:close/>
                <a:moveTo>
                  <a:pt x="572" y="372"/>
                </a:moveTo>
                <a:lnTo>
                  <a:pt x="580" y="372"/>
                </a:lnTo>
                <a:lnTo>
                  <a:pt x="580" y="380"/>
                </a:lnTo>
                <a:lnTo>
                  <a:pt x="572" y="380"/>
                </a:lnTo>
                <a:lnTo>
                  <a:pt x="572" y="372"/>
                </a:lnTo>
                <a:close/>
                <a:moveTo>
                  <a:pt x="580" y="380"/>
                </a:moveTo>
                <a:lnTo>
                  <a:pt x="580" y="385"/>
                </a:lnTo>
                <a:lnTo>
                  <a:pt x="564" y="385"/>
                </a:lnTo>
                <a:lnTo>
                  <a:pt x="564" y="380"/>
                </a:lnTo>
                <a:lnTo>
                  <a:pt x="580" y="380"/>
                </a:lnTo>
                <a:close/>
                <a:moveTo>
                  <a:pt x="572" y="393"/>
                </a:moveTo>
                <a:lnTo>
                  <a:pt x="564" y="393"/>
                </a:lnTo>
                <a:lnTo>
                  <a:pt x="564" y="385"/>
                </a:lnTo>
                <a:lnTo>
                  <a:pt x="572" y="385"/>
                </a:lnTo>
                <a:lnTo>
                  <a:pt x="572" y="393"/>
                </a:lnTo>
                <a:close/>
                <a:moveTo>
                  <a:pt x="572" y="378"/>
                </a:moveTo>
                <a:lnTo>
                  <a:pt x="578" y="378"/>
                </a:lnTo>
                <a:lnTo>
                  <a:pt x="578" y="393"/>
                </a:lnTo>
                <a:lnTo>
                  <a:pt x="572" y="393"/>
                </a:lnTo>
                <a:lnTo>
                  <a:pt x="572" y="378"/>
                </a:lnTo>
                <a:close/>
                <a:moveTo>
                  <a:pt x="578" y="378"/>
                </a:moveTo>
                <a:lnTo>
                  <a:pt x="586" y="378"/>
                </a:lnTo>
                <a:lnTo>
                  <a:pt x="586" y="385"/>
                </a:lnTo>
                <a:lnTo>
                  <a:pt x="578" y="385"/>
                </a:lnTo>
                <a:lnTo>
                  <a:pt x="578" y="378"/>
                </a:lnTo>
                <a:close/>
                <a:moveTo>
                  <a:pt x="586" y="385"/>
                </a:moveTo>
                <a:lnTo>
                  <a:pt x="586" y="397"/>
                </a:lnTo>
                <a:lnTo>
                  <a:pt x="570" y="397"/>
                </a:lnTo>
                <a:lnTo>
                  <a:pt x="570" y="385"/>
                </a:lnTo>
                <a:lnTo>
                  <a:pt x="586" y="385"/>
                </a:lnTo>
                <a:close/>
                <a:moveTo>
                  <a:pt x="578" y="403"/>
                </a:moveTo>
                <a:lnTo>
                  <a:pt x="570" y="403"/>
                </a:lnTo>
                <a:lnTo>
                  <a:pt x="570" y="397"/>
                </a:lnTo>
                <a:lnTo>
                  <a:pt x="578" y="397"/>
                </a:lnTo>
                <a:lnTo>
                  <a:pt x="578" y="403"/>
                </a:lnTo>
                <a:close/>
                <a:moveTo>
                  <a:pt x="578" y="389"/>
                </a:moveTo>
                <a:lnTo>
                  <a:pt x="591" y="389"/>
                </a:lnTo>
                <a:lnTo>
                  <a:pt x="591" y="403"/>
                </a:lnTo>
                <a:lnTo>
                  <a:pt x="578" y="403"/>
                </a:lnTo>
                <a:lnTo>
                  <a:pt x="578" y="389"/>
                </a:lnTo>
                <a:close/>
                <a:moveTo>
                  <a:pt x="591" y="389"/>
                </a:moveTo>
                <a:lnTo>
                  <a:pt x="599" y="389"/>
                </a:lnTo>
                <a:lnTo>
                  <a:pt x="599" y="397"/>
                </a:lnTo>
                <a:lnTo>
                  <a:pt x="591" y="397"/>
                </a:lnTo>
                <a:lnTo>
                  <a:pt x="591" y="389"/>
                </a:lnTo>
                <a:close/>
                <a:moveTo>
                  <a:pt x="599" y="397"/>
                </a:moveTo>
                <a:lnTo>
                  <a:pt x="599" y="403"/>
                </a:lnTo>
                <a:lnTo>
                  <a:pt x="584" y="403"/>
                </a:lnTo>
                <a:lnTo>
                  <a:pt x="584" y="397"/>
                </a:lnTo>
                <a:lnTo>
                  <a:pt x="599" y="397"/>
                </a:lnTo>
                <a:close/>
                <a:moveTo>
                  <a:pt x="599" y="403"/>
                </a:moveTo>
                <a:lnTo>
                  <a:pt x="599" y="408"/>
                </a:lnTo>
                <a:lnTo>
                  <a:pt x="584" y="408"/>
                </a:lnTo>
                <a:lnTo>
                  <a:pt x="584" y="403"/>
                </a:lnTo>
                <a:lnTo>
                  <a:pt x="599" y="403"/>
                </a:lnTo>
                <a:close/>
                <a:moveTo>
                  <a:pt x="591" y="416"/>
                </a:moveTo>
                <a:lnTo>
                  <a:pt x="584" y="416"/>
                </a:lnTo>
                <a:lnTo>
                  <a:pt x="584" y="408"/>
                </a:lnTo>
                <a:lnTo>
                  <a:pt x="591" y="408"/>
                </a:lnTo>
                <a:lnTo>
                  <a:pt x="591" y="416"/>
                </a:lnTo>
                <a:close/>
                <a:moveTo>
                  <a:pt x="591" y="401"/>
                </a:moveTo>
                <a:lnTo>
                  <a:pt x="618" y="401"/>
                </a:lnTo>
                <a:lnTo>
                  <a:pt x="618" y="416"/>
                </a:lnTo>
                <a:lnTo>
                  <a:pt x="591" y="416"/>
                </a:lnTo>
                <a:lnTo>
                  <a:pt x="591" y="401"/>
                </a:lnTo>
                <a:close/>
                <a:moveTo>
                  <a:pt x="618" y="401"/>
                </a:moveTo>
                <a:lnTo>
                  <a:pt x="626" y="401"/>
                </a:lnTo>
                <a:lnTo>
                  <a:pt x="626" y="408"/>
                </a:lnTo>
                <a:lnTo>
                  <a:pt x="618" y="408"/>
                </a:lnTo>
                <a:lnTo>
                  <a:pt x="618" y="401"/>
                </a:lnTo>
                <a:close/>
                <a:moveTo>
                  <a:pt x="626" y="408"/>
                </a:moveTo>
                <a:lnTo>
                  <a:pt x="626" y="418"/>
                </a:lnTo>
                <a:lnTo>
                  <a:pt x="610" y="418"/>
                </a:lnTo>
                <a:lnTo>
                  <a:pt x="610" y="408"/>
                </a:lnTo>
                <a:lnTo>
                  <a:pt x="626" y="408"/>
                </a:lnTo>
                <a:close/>
                <a:moveTo>
                  <a:pt x="618" y="426"/>
                </a:moveTo>
                <a:lnTo>
                  <a:pt x="610" y="426"/>
                </a:lnTo>
                <a:lnTo>
                  <a:pt x="610" y="418"/>
                </a:lnTo>
                <a:lnTo>
                  <a:pt x="618" y="418"/>
                </a:lnTo>
                <a:lnTo>
                  <a:pt x="618" y="426"/>
                </a:lnTo>
                <a:close/>
                <a:moveTo>
                  <a:pt x="618" y="410"/>
                </a:moveTo>
                <a:lnTo>
                  <a:pt x="624" y="410"/>
                </a:lnTo>
                <a:lnTo>
                  <a:pt x="624" y="426"/>
                </a:lnTo>
                <a:lnTo>
                  <a:pt x="618" y="426"/>
                </a:lnTo>
                <a:lnTo>
                  <a:pt x="618" y="410"/>
                </a:lnTo>
                <a:close/>
                <a:moveTo>
                  <a:pt x="624" y="410"/>
                </a:moveTo>
                <a:lnTo>
                  <a:pt x="632" y="410"/>
                </a:lnTo>
                <a:lnTo>
                  <a:pt x="632" y="418"/>
                </a:lnTo>
                <a:lnTo>
                  <a:pt x="624" y="418"/>
                </a:lnTo>
                <a:lnTo>
                  <a:pt x="624" y="410"/>
                </a:lnTo>
                <a:close/>
                <a:moveTo>
                  <a:pt x="632" y="418"/>
                </a:moveTo>
                <a:lnTo>
                  <a:pt x="632" y="424"/>
                </a:lnTo>
                <a:lnTo>
                  <a:pt x="616" y="424"/>
                </a:lnTo>
                <a:lnTo>
                  <a:pt x="616" y="418"/>
                </a:lnTo>
                <a:lnTo>
                  <a:pt x="632" y="418"/>
                </a:lnTo>
                <a:close/>
                <a:moveTo>
                  <a:pt x="632" y="424"/>
                </a:moveTo>
                <a:lnTo>
                  <a:pt x="632" y="429"/>
                </a:lnTo>
                <a:lnTo>
                  <a:pt x="616" y="429"/>
                </a:lnTo>
                <a:lnTo>
                  <a:pt x="616" y="424"/>
                </a:lnTo>
                <a:lnTo>
                  <a:pt x="632" y="424"/>
                </a:lnTo>
                <a:close/>
                <a:moveTo>
                  <a:pt x="624" y="437"/>
                </a:moveTo>
                <a:lnTo>
                  <a:pt x="616" y="437"/>
                </a:lnTo>
                <a:lnTo>
                  <a:pt x="616" y="429"/>
                </a:lnTo>
                <a:lnTo>
                  <a:pt x="624" y="429"/>
                </a:lnTo>
                <a:lnTo>
                  <a:pt x="624" y="437"/>
                </a:lnTo>
                <a:close/>
                <a:moveTo>
                  <a:pt x="624" y="422"/>
                </a:moveTo>
                <a:lnTo>
                  <a:pt x="630" y="422"/>
                </a:lnTo>
                <a:lnTo>
                  <a:pt x="630" y="437"/>
                </a:lnTo>
                <a:lnTo>
                  <a:pt x="624" y="437"/>
                </a:lnTo>
                <a:lnTo>
                  <a:pt x="624" y="422"/>
                </a:lnTo>
                <a:close/>
                <a:moveTo>
                  <a:pt x="630" y="422"/>
                </a:moveTo>
                <a:lnTo>
                  <a:pt x="637" y="422"/>
                </a:lnTo>
                <a:lnTo>
                  <a:pt x="637" y="429"/>
                </a:lnTo>
                <a:lnTo>
                  <a:pt x="630" y="429"/>
                </a:lnTo>
                <a:lnTo>
                  <a:pt x="630" y="422"/>
                </a:lnTo>
                <a:close/>
                <a:moveTo>
                  <a:pt x="637" y="429"/>
                </a:moveTo>
                <a:lnTo>
                  <a:pt x="637" y="435"/>
                </a:lnTo>
                <a:lnTo>
                  <a:pt x="622" y="435"/>
                </a:lnTo>
                <a:lnTo>
                  <a:pt x="622" y="429"/>
                </a:lnTo>
                <a:lnTo>
                  <a:pt x="637" y="429"/>
                </a:lnTo>
                <a:close/>
                <a:moveTo>
                  <a:pt x="637" y="435"/>
                </a:moveTo>
                <a:lnTo>
                  <a:pt x="637" y="441"/>
                </a:lnTo>
                <a:lnTo>
                  <a:pt x="622" y="441"/>
                </a:lnTo>
                <a:lnTo>
                  <a:pt x="622" y="435"/>
                </a:lnTo>
                <a:lnTo>
                  <a:pt x="637" y="435"/>
                </a:lnTo>
                <a:close/>
                <a:moveTo>
                  <a:pt x="630" y="449"/>
                </a:moveTo>
                <a:lnTo>
                  <a:pt x="622" y="449"/>
                </a:lnTo>
                <a:lnTo>
                  <a:pt x="622" y="441"/>
                </a:lnTo>
                <a:lnTo>
                  <a:pt x="630" y="441"/>
                </a:lnTo>
                <a:lnTo>
                  <a:pt x="630" y="449"/>
                </a:lnTo>
                <a:close/>
                <a:moveTo>
                  <a:pt x="630" y="433"/>
                </a:moveTo>
                <a:lnTo>
                  <a:pt x="637" y="433"/>
                </a:lnTo>
                <a:lnTo>
                  <a:pt x="637" y="449"/>
                </a:lnTo>
                <a:lnTo>
                  <a:pt x="630" y="449"/>
                </a:lnTo>
                <a:lnTo>
                  <a:pt x="630" y="433"/>
                </a:lnTo>
                <a:close/>
                <a:moveTo>
                  <a:pt x="637" y="433"/>
                </a:moveTo>
                <a:lnTo>
                  <a:pt x="645" y="433"/>
                </a:lnTo>
                <a:lnTo>
                  <a:pt x="645" y="441"/>
                </a:lnTo>
                <a:lnTo>
                  <a:pt x="637" y="441"/>
                </a:lnTo>
                <a:lnTo>
                  <a:pt x="637" y="433"/>
                </a:lnTo>
                <a:close/>
                <a:moveTo>
                  <a:pt x="645" y="441"/>
                </a:moveTo>
                <a:lnTo>
                  <a:pt x="645" y="447"/>
                </a:lnTo>
                <a:lnTo>
                  <a:pt x="630" y="447"/>
                </a:lnTo>
                <a:lnTo>
                  <a:pt x="630" y="441"/>
                </a:lnTo>
                <a:lnTo>
                  <a:pt x="645" y="441"/>
                </a:lnTo>
                <a:close/>
                <a:moveTo>
                  <a:pt x="637" y="454"/>
                </a:moveTo>
                <a:lnTo>
                  <a:pt x="630" y="454"/>
                </a:lnTo>
                <a:lnTo>
                  <a:pt x="630" y="447"/>
                </a:lnTo>
                <a:lnTo>
                  <a:pt x="637" y="447"/>
                </a:lnTo>
                <a:lnTo>
                  <a:pt x="637" y="454"/>
                </a:lnTo>
                <a:close/>
                <a:moveTo>
                  <a:pt x="637" y="439"/>
                </a:moveTo>
                <a:lnTo>
                  <a:pt x="651" y="439"/>
                </a:lnTo>
                <a:lnTo>
                  <a:pt x="651" y="454"/>
                </a:lnTo>
                <a:lnTo>
                  <a:pt x="637" y="454"/>
                </a:lnTo>
                <a:lnTo>
                  <a:pt x="637" y="439"/>
                </a:lnTo>
                <a:close/>
                <a:moveTo>
                  <a:pt x="651" y="439"/>
                </a:moveTo>
                <a:lnTo>
                  <a:pt x="658" y="439"/>
                </a:lnTo>
                <a:lnTo>
                  <a:pt x="658" y="447"/>
                </a:lnTo>
                <a:lnTo>
                  <a:pt x="651" y="447"/>
                </a:lnTo>
                <a:lnTo>
                  <a:pt x="651" y="439"/>
                </a:lnTo>
                <a:close/>
                <a:moveTo>
                  <a:pt x="658" y="447"/>
                </a:moveTo>
                <a:lnTo>
                  <a:pt x="658" y="452"/>
                </a:lnTo>
                <a:lnTo>
                  <a:pt x="643" y="452"/>
                </a:lnTo>
                <a:lnTo>
                  <a:pt x="643" y="447"/>
                </a:lnTo>
                <a:lnTo>
                  <a:pt x="658" y="447"/>
                </a:lnTo>
                <a:close/>
                <a:moveTo>
                  <a:pt x="651" y="460"/>
                </a:moveTo>
                <a:lnTo>
                  <a:pt x="643" y="460"/>
                </a:lnTo>
                <a:lnTo>
                  <a:pt x="643" y="452"/>
                </a:lnTo>
                <a:lnTo>
                  <a:pt x="651" y="452"/>
                </a:lnTo>
                <a:lnTo>
                  <a:pt x="651" y="460"/>
                </a:lnTo>
                <a:close/>
                <a:moveTo>
                  <a:pt x="651" y="445"/>
                </a:moveTo>
                <a:lnTo>
                  <a:pt x="657" y="445"/>
                </a:lnTo>
                <a:lnTo>
                  <a:pt x="657" y="460"/>
                </a:lnTo>
                <a:lnTo>
                  <a:pt x="651" y="460"/>
                </a:lnTo>
                <a:lnTo>
                  <a:pt x="651" y="445"/>
                </a:lnTo>
                <a:close/>
                <a:moveTo>
                  <a:pt x="657" y="445"/>
                </a:moveTo>
                <a:lnTo>
                  <a:pt x="664" y="445"/>
                </a:lnTo>
                <a:lnTo>
                  <a:pt x="664" y="452"/>
                </a:lnTo>
                <a:lnTo>
                  <a:pt x="657" y="452"/>
                </a:lnTo>
                <a:lnTo>
                  <a:pt x="657" y="445"/>
                </a:lnTo>
                <a:close/>
                <a:moveTo>
                  <a:pt x="664" y="452"/>
                </a:moveTo>
                <a:lnTo>
                  <a:pt x="664" y="458"/>
                </a:lnTo>
                <a:lnTo>
                  <a:pt x="649" y="458"/>
                </a:lnTo>
                <a:lnTo>
                  <a:pt x="649" y="452"/>
                </a:lnTo>
                <a:lnTo>
                  <a:pt x="664" y="452"/>
                </a:lnTo>
                <a:close/>
                <a:moveTo>
                  <a:pt x="664" y="458"/>
                </a:moveTo>
                <a:lnTo>
                  <a:pt x="664" y="462"/>
                </a:lnTo>
                <a:lnTo>
                  <a:pt x="649" y="462"/>
                </a:lnTo>
                <a:lnTo>
                  <a:pt x="649" y="458"/>
                </a:lnTo>
                <a:lnTo>
                  <a:pt x="664" y="458"/>
                </a:lnTo>
                <a:close/>
                <a:moveTo>
                  <a:pt x="657" y="470"/>
                </a:moveTo>
                <a:lnTo>
                  <a:pt x="649" y="470"/>
                </a:lnTo>
                <a:lnTo>
                  <a:pt x="649" y="462"/>
                </a:lnTo>
                <a:lnTo>
                  <a:pt x="657" y="462"/>
                </a:lnTo>
                <a:lnTo>
                  <a:pt x="657" y="470"/>
                </a:lnTo>
                <a:close/>
                <a:moveTo>
                  <a:pt x="657" y="456"/>
                </a:moveTo>
                <a:lnTo>
                  <a:pt x="664" y="456"/>
                </a:lnTo>
                <a:lnTo>
                  <a:pt x="664" y="470"/>
                </a:lnTo>
                <a:lnTo>
                  <a:pt x="657" y="470"/>
                </a:lnTo>
                <a:lnTo>
                  <a:pt x="657" y="456"/>
                </a:lnTo>
                <a:close/>
                <a:moveTo>
                  <a:pt x="664" y="456"/>
                </a:moveTo>
                <a:lnTo>
                  <a:pt x="672" y="456"/>
                </a:lnTo>
                <a:lnTo>
                  <a:pt x="672" y="462"/>
                </a:lnTo>
                <a:lnTo>
                  <a:pt x="664" y="462"/>
                </a:lnTo>
                <a:lnTo>
                  <a:pt x="664" y="456"/>
                </a:lnTo>
                <a:close/>
                <a:moveTo>
                  <a:pt x="672" y="462"/>
                </a:moveTo>
                <a:lnTo>
                  <a:pt x="672" y="470"/>
                </a:lnTo>
                <a:lnTo>
                  <a:pt x="657" y="470"/>
                </a:lnTo>
                <a:lnTo>
                  <a:pt x="657" y="462"/>
                </a:lnTo>
                <a:lnTo>
                  <a:pt x="672" y="462"/>
                </a:lnTo>
                <a:close/>
                <a:moveTo>
                  <a:pt x="672" y="470"/>
                </a:moveTo>
                <a:lnTo>
                  <a:pt x="672" y="475"/>
                </a:lnTo>
                <a:lnTo>
                  <a:pt x="657" y="475"/>
                </a:lnTo>
                <a:lnTo>
                  <a:pt x="657" y="470"/>
                </a:lnTo>
                <a:lnTo>
                  <a:pt x="672" y="470"/>
                </a:lnTo>
                <a:close/>
                <a:moveTo>
                  <a:pt x="664" y="481"/>
                </a:moveTo>
                <a:lnTo>
                  <a:pt x="657" y="481"/>
                </a:lnTo>
                <a:lnTo>
                  <a:pt x="657" y="475"/>
                </a:lnTo>
                <a:lnTo>
                  <a:pt x="664" y="475"/>
                </a:lnTo>
                <a:lnTo>
                  <a:pt x="664" y="481"/>
                </a:lnTo>
                <a:close/>
                <a:moveTo>
                  <a:pt x="664" y="468"/>
                </a:moveTo>
                <a:lnTo>
                  <a:pt x="670" y="468"/>
                </a:lnTo>
                <a:lnTo>
                  <a:pt x="670" y="481"/>
                </a:lnTo>
                <a:lnTo>
                  <a:pt x="664" y="481"/>
                </a:lnTo>
                <a:lnTo>
                  <a:pt x="664" y="468"/>
                </a:lnTo>
                <a:close/>
                <a:moveTo>
                  <a:pt x="670" y="468"/>
                </a:moveTo>
                <a:lnTo>
                  <a:pt x="678" y="468"/>
                </a:lnTo>
                <a:lnTo>
                  <a:pt x="678" y="475"/>
                </a:lnTo>
                <a:lnTo>
                  <a:pt x="670" y="475"/>
                </a:lnTo>
                <a:lnTo>
                  <a:pt x="670" y="468"/>
                </a:lnTo>
                <a:close/>
                <a:moveTo>
                  <a:pt x="678" y="475"/>
                </a:moveTo>
                <a:lnTo>
                  <a:pt x="678" y="479"/>
                </a:lnTo>
                <a:lnTo>
                  <a:pt x="662" y="479"/>
                </a:lnTo>
                <a:lnTo>
                  <a:pt x="662" y="475"/>
                </a:lnTo>
                <a:lnTo>
                  <a:pt x="678" y="475"/>
                </a:lnTo>
                <a:close/>
                <a:moveTo>
                  <a:pt x="670" y="487"/>
                </a:moveTo>
                <a:lnTo>
                  <a:pt x="662" y="487"/>
                </a:lnTo>
                <a:lnTo>
                  <a:pt x="662" y="479"/>
                </a:lnTo>
                <a:lnTo>
                  <a:pt x="670" y="479"/>
                </a:lnTo>
                <a:lnTo>
                  <a:pt x="670" y="487"/>
                </a:lnTo>
                <a:close/>
                <a:moveTo>
                  <a:pt x="670" y="472"/>
                </a:moveTo>
                <a:lnTo>
                  <a:pt x="676" y="472"/>
                </a:lnTo>
                <a:lnTo>
                  <a:pt x="676" y="487"/>
                </a:lnTo>
                <a:lnTo>
                  <a:pt x="670" y="487"/>
                </a:lnTo>
                <a:lnTo>
                  <a:pt x="670" y="472"/>
                </a:lnTo>
                <a:close/>
                <a:moveTo>
                  <a:pt x="676" y="472"/>
                </a:moveTo>
                <a:lnTo>
                  <a:pt x="683" y="472"/>
                </a:lnTo>
                <a:lnTo>
                  <a:pt x="683" y="479"/>
                </a:lnTo>
                <a:lnTo>
                  <a:pt x="676" y="479"/>
                </a:lnTo>
                <a:lnTo>
                  <a:pt x="676" y="472"/>
                </a:lnTo>
                <a:close/>
                <a:moveTo>
                  <a:pt x="683" y="479"/>
                </a:moveTo>
                <a:lnTo>
                  <a:pt x="683" y="485"/>
                </a:lnTo>
                <a:lnTo>
                  <a:pt x="668" y="485"/>
                </a:lnTo>
                <a:lnTo>
                  <a:pt x="668" y="479"/>
                </a:lnTo>
                <a:lnTo>
                  <a:pt x="683" y="479"/>
                </a:lnTo>
                <a:close/>
                <a:moveTo>
                  <a:pt x="676" y="493"/>
                </a:moveTo>
                <a:lnTo>
                  <a:pt x="668" y="493"/>
                </a:lnTo>
                <a:lnTo>
                  <a:pt x="668" y="485"/>
                </a:lnTo>
                <a:lnTo>
                  <a:pt x="676" y="485"/>
                </a:lnTo>
                <a:lnTo>
                  <a:pt x="676" y="493"/>
                </a:lnTo>
                <a:close/>
                <a:moveTo>
                  <a:pt x="676" y="477"/>
                </a:moveTo>
                <a:lnTo>
                  <a:pt x="683" y="477"/>
                </a:lnTo>
                <a:lnTo>
                  <a:pt x="683" y="493"/>
                </a:lnTo>
                <a:lnTo>
                  <a:pt x="676" y="493"/>
                </a:lnTo>
                <a:lnTo>
                  <a:pt x="676" y="477"/>
                </a:lnTo>
                <a:close/>
                <a:moveTo>
                  <a:pt x="683" y="477"/>
                </a:moveTo>
                <a:lnTo>
                  <a:pt x="691" y="477"/>
                </a:lnTo>
                <a:lnTo>
                  <a:pt x="691" y="485"/>
                </a:lnTo>
                <a:lnTo>
                  <a:pt x="683" y="485"/>
                </a:lnTo>
                <a:lnTo>
                  <a:pt x="683" y="477"/>
                </a:lnTo>
                <a:close/>
                <a:moveTo>
                  <a:pt x="691" y="485"/>
                </a:moveTo>
                <a:lnTo>
                  <a:pt x="691" y="497"/>
                </a:lnTo>
                <a:lnTo>
                  <a:pt x="676" y="497"/>
                </a:lnTo>
                <a:lnTo>
                  <a:pt x="676" y="485"/>
                </a:lnTo>
                <a:lnTo>
                  <a:pt x="691" y="485"/>
                </a:lnTo>
                <a:close/>
                <a:moveTo>
                  <a:pt x="683" y="504"/>
                </a:moveTo>
                <a:lnTo>
                  <a:pt x="676" y="504"/>
                </a:lnTo>
                <a:lnTo>
                  <a:pt x="676" y="497"/>
                </a:lnTo>
                <a:lnTo>
                  <a:pt x="683" y="497"/>
                </a:lnTo>
                <a:lnTo>
                  <a:pt x="683" y="504"/>
                </a:lnTo>
                <a:close/>
                <a:moveTo>
                  <a:pt x="683" y="489"/>
                </a:moveTo>
                <a:lnTo>
                  <a:pt x="689" y="489"/>
                </a:lnTo>
                <a:lnTo>
                  <a:pt x="689" y="504"/>
                </a:lnTo>
                <a:lnTo>
                  <a:pt x="683" y="504"/>
                </a:lnTo>
                <a:lnTo>
                  <a:pt x="683" y="489"/>
                </a:lnTo>
                <a:close/>
                <a:moveTo>
                  <a:pt x="689" y="489"/>
                </a:moveTo>
                <a:lnTo>
                  <a:pt x="697" y="489"/>
                </a:lnTo>
                <a:lnTo>
                  <a:pt x="697" y="497"/>
                </a:lnTo>
                <a:lnTo>
                  <a:pt x="689" y="497"/>
                </a:lnTo>
                <a:lnTo>
                  <a:pt x="689" y="489"/>
                </a:lnTo>
                <a:close/>
                <a:moveTo>
                  <a:pt x="697" y="497"/>
                </a:moveTo>
                <a:lnTo>
                  <a:pt x="697" y="502"/>
                </a:lnTo>
                <a:lnTo>
                  <a:pt x="681" y="502"/>
                </a:lnTo>
                <a:lnTo>
                  <a:pt x="681" y="497"/>
                </a:lnTo>
                <a:lnTo>
                  <a:pt x="697" y="497"/>
                </a:lnTo>
                <a:close/>
                <a:moveTo>
                  <a:pt x="697" y="502"/>
                </a:moveTo>
                <a:lnTo>
                  <a:pt x="697" y="508"/>
                </a:lnTo>
                <a:lnTo>
                  <a:pt x="681" y="508"/>
                </a:lnTo>
                <a:lnTo>
                  <a:pt x="681" y="502"/>
                </a:lnTo>
                <a:lnTo>
                  <a:pt x="697" y="502"/>
                </a:lnTo>
                <a:close/>
                <a:moveTo>
                  <a:pt x="689" y="516"/>
                </a:moveTo>
                <a:lnTo>
                  <a:pt x="681" y="516"/>
                </a:lnTo>
                <a:lnTo>
                  <a:pt x="681" y="508"/>
                </a:lnTo>
                <a:lnTo>
                  <a:pt x="689" y="508"/>
                </a:lnTo>
                <a:lnTo>
                  <a:pt x="689" y="516"/>
                </a:lnTo>
                <a:close/>
                <a:moveTo>
                  <a:pt x="689" y="500"/>
                </a:moveTo>
                <a:lnTo>
                  <a:pt x="697" y="500"/>
                </a:lnTo>
                <a:lnTo>
                  <a:pt x="697" y="516"/>
                </a:lnTo>
                <a:lnTo>
                  <a:pt x="689" y="516"/>
                </a:lnTo>
                <a:lnTo>
                  <a:pt x="689" y="500"/>
                </a:lnTo>
                <a:close/>
                <a:moveTo>
                  <a:pt x="697" y="500"/>
                </a:moveTo>
                <a:lnTo>
                  <a:pt x="704" y="500"/>
                </a:lnTo>
                <a:lnTo>
                  <a:pt x="704" y="508"/>
                </a:lnTo>
                <a:lnTo>
                  <a:pt x="697" y="508"/>
                </a:lnTo>
                <a:lnTo>
                  <a:pt x="697" y="500"/>
                </a:lnTo>
                <a:close/>
                <a:moveTo>
                  <a:pt x="704" y="508"/>
                </a:moveTo>
                <a:lnTo>
                  <a:pt x="704" y="514"/>
                </a:lnTo>
                <a:lnTo>
                  <a:pt x="689" y="514"/>
                </a:lnTo>
                <a:lnTo>
                  <a:pt x="689" y="508"/>
                </a:lnTo>
                <a:lnTo>
                  <a:pt x="704" y="508"/>
                </a:lnTo>
                <a:close/>
                <a:moveTo>
                  <a:pt x="704" y="514"/>
                </a:moveTo>
                <a:lnTo>
                  <a:pt x="704" y="525"/>
                </a:lnTo>
                <a:lnTo>
                  <a:pt x="689" y="525"/>
                </a:lnTo>
                <a:lnTo>
                  <a:pt x="689" y="514"/>
                </a:lnTo>
                <a:lnTo>
                  <a:pt x="704" y="514"/>
                </a:lnTo>
                <a:close/>
                <a:moveTo>
                  <a:pt x="697" y="531"/>
                </a:moveTo>
                <a:lnTo>
                  <a:pt x="689" y="531"/>
                </a:lnTo>
                <a:lnTo>
                  <a:pt x="689" y="525"/>
                </a:lnTo>
                <a:lnTo>
                  <a:pt x="697" y="525"/>
                </a:lnTo>
                <a:lnTo>
                  <a:pt x="697" y="531"/>
                </a:lnTo>
                <a:close/>
                <a:moveTo>
                  <a:pt x="697" y="518"/>
                </a:moveTo>
                <a:lnTo>
                  <a:pt x="703" y="518"/>
                </a:lnTo>
                <a:lnTo>
                  <a:pt x="703" y="531"/>
                </a:lnTo>
                <a:lnTo>
                  <a:pt x="697" y="531"/>
                </a:lnTo>
                <a:lnTo>
                  <a:pt x="697" y="518"/>
                </a:lnTo>
                <a:close/>
                <a:moveTo>
                  <a:pt x="703" y="518"/>
                </a:moveTo>
                <a:lnTo>
                  <a:pt x="710" y="518"/>
                </a:lnTo>
                <a:lnTo>
                  <a:pt x="710" y="525"/>
                </a:lnTo>
                <a:lnTo>
                  <a:pt x="703" y="525"/>
                </a:lnTo>
                <a:lnTo>
                  <a:pt x="703" y="518"/>
                </a:lnTo>
                <a:close/>
                <a:moveTo>
                  <a:pt x="710" y="525"/>
                </a:moveTo>
                <a:lnTo>
                  <a:pt x="710" y="537"/>
                </a:lnTo>
                <a:lnTo>
                  <a:pt x="695" y="537"/>
                </a:lnTo>
                <a:lnTo>
                  <a:pt x="695" y="525"/>
                </a:lnTo>
                <a:lnTo>
                  <a:pt x="710" y="525"/>
                </a:lnTo>
                <a:close/>
                <a:moveTo>
                  <a:pt x="710" y="537"/>
                </a:moveTo>
                <a:lnTo>
                  <a:pt x="710" y="546"/>
                </a:lnTo>
                <a:lnTo>
                  <a:pt x="695" y="546"/>
                </a:lnTo>
                <a:lnTo>
                  <a:pt x="695" y="537"/>
                </a:lnTo>
                <a:lnTo>
                  <a:pt x="710" y="537"/>
                </a:lnTo>
                <a:close/>
                <a:moveTo>
                  <a:pt x="703" y="554"/>
                </a:moveTo>
                <a:lnTo>
                  <a:pt x="695" y="554"/>
                </a:lnTo>
                <a:lnTo>
                  <a:pt x="695" y="546"/>
                </a:lnTo>
                <a:lnTo>
                  <a:pt x="703" y="546"/>
                </a:lnTo>
                <a:lnTo>
                  <a:pt x="703" y="554"/>
                </a:lnTo>
                <a:close/>
                <a:moveTo>
                  <a:pt x="703" y="539"/>
                </a:moveTo>
                <a:lnTo>
                  <a:pt x="716" y="539"/>
                </a:lnTo>
                <a:lnTo>
                  <a:pt x="716" y="554"/>
                </a:lnTo>
                <a:lnTo>
                  <a:pt x="703" y="554"/>
                </a:lnTo>
                <a:lnTo>
                  <a:pt x="703" y="539"/>
                </a:lnTo>
                <a:close/>
                <a:moveTo>
                  <a:pt x="716" y="539"/>
                </a:moveTo>
                <a:lnTo>
                  <a:pt x="724" y="539"/>
                </a:lnTo>
                <a:lnTo>
                  <a:pt x="724" y="546"/>
                </a:lnTo>
                <a:lnTo>
                  <a:pt x="716" y="546"/>
                </a:lnTo>
                <a:lnTo>
                  <a:pt x="716" y="539"/>
                </a:lnTo>
                <a:close/>
                <a:moveTo>
                  <a:pt x="724" y="546"/>
                </a:moveTo>
                <a:lnTo>
                  <a:pt x="724" y="558"/>
                </a:lnTo>
                <a:lnTo>
                  <a:pt x="708" y="558"/>
                </a:lnTo>
                <a:lnTo>
                  <a:pt x="708" y="546"/>
                </a:lnTo>
                <a:lnTo>
                  <a:pt x="724" y="546"/>
                </a:lnTo>
                <a:close/>
                <a:moveTo>
                  <a:pt x="724" y="558"/>
                </a:moveTo>
                <a:lnTo>
                  <a:pt x="724" y="564"/>
                </a:lnTo>
                <a:lnTo>
                  <a:pt x="708" y="564"/>
                </a:lnTo>
                <a:lnTo>
                  <a:pt x="708" y="558"/>
                </a:lnTo>
                <a:lnTo>
                  <a:pt x="724" y="558"/>
                </a:lnTo>
                <a:close/>
                <a:moveTo>
                  <a:pt x="716" y="571"/>
                </a:moveTo>
                <a:lnTo>
                  <a:pt x="708" y="571"/>
                </a:lnTo>
                <a:lnTo>
                  <a:pt x="708" y="564"/>
                </a:lnTo>
                <a:lnTo>
                  <a:pt x="716" y="564"/>
                </a:lnTo>
                <a:lnTo>
                  <a:pt x="716" y="571"/>
                </a:lnTo>
                <a:close/>
                <a:moveTo>
                  <a:pt x="716" y="556"/>
                </a:moveTo>
                <a:lnTo>
                  <a:pt x="722" y="556"/>
                </a:lnTo>
                <a:lnTo>
                  <a:pt x="722" y="571"/>
                </a:lnTo>
                <a:lnTo>
                  <a:pt x="716" y="571"/>
                </a:lnTo>
                <a:lnTo>
                  <a:pt x="716" y="556"/>
                </a:lnTo>
                <a:close/>
                <a:moveTo>
                  <a:pt x="722" y="556"/>
                </a:moveTo>
                <a:lnTo>
                  <a:pt x="729" y="556"/>
                </a:lnTo>
                <a:lnTo>
                  <a:pt x="729" y="564"/>
                </a:lnTo>
                <a:lnTo>
                  <a:pt x="722" y="564"/>
                </a:lnTo>
                <a:lnTo>
                  <a:pt x="722" y="556"/>
                </a:lnTo>
                <a:close/>
                <a:moveTo>
                  <a:pt x="729" y="564"/>
                </a:moveTo>
                <a:lnTo>
                  <a:pt x="729" y="569"/>
                </a:lnTo>
                <a:lnTo>
                  <a:pt x="714" y="569"/>
                </a:lnTo>
                <a:lnTo>
                  <a:pt x="714" y="564"/>
                </a:lnTo>
                <a:lnTo>
                  <a:pt x="729" y="564"/>
                </a:lnTo>
                <a:close/>
                <a:moveTo>
                  <a:pt x="722" y="577"/>
                </a:moveTo>
                <a:lnTo>
                  <a:pt x="714" y="577"/>
                </a:lnTo>
                <a:lnTo>
                  <a:pt x="714" y="569"/>
                </a:lnTo>
                <a:lnTo>
                  <a:pt x="722" y="569"/>
                </a:lnTo>
                <a:lnTo>
                  <a:pt x="722" y="577"/>
                </a:lnTo>
                <a:close/>
                <a:moveTo>
                  <a:pt x="722" y="562"/>
                </a:moveTo>
                <a:lnTo>
                  <a:pt x="729" y="562"/>
                </a:lnTo>
                <a:lnTo>
                  <a:pt x="729" y="577"/>
                </a:lnTo>
                <a:lnTo>
                  <a:pt x="722" y="577"/>
                </a:lnTo>
                <a:lnTo>
                  <a:pt x="722" y="562"/>
                </a:lnTo>
                <a:close/>
                <a:moveTo>
                  <a:pt x="729" y="562"/>
                </a:moveTo>
                <a:lnTo>
                  <a:pt x="737" y="562"/>
                </a:lnTo>
                <a:lnTo>
                  <a:pt x="737" y="569"/>
                </a:lnTo>
                <a:lnTo>
                  <a:pt x="729" y="569"/>
                </a:lnTo>
                <a:lnTo>
                  <a:pt x="729" y="562"/>
                </a:lnTo>
                <a:close/>
                <a:moveTo>
                  <a:pt x="737" y="569"/>
                </a:moveTo>
                <a:lnTo>
                  <a:pt x="737" y="575"/>
                </a:lnTo>
                <a:lnTo>
                  <a:pt x="720" y="575"/>
                </a:lnTo>
                <a:lnTo>
                  <a:pt x="720" y="569"/>
                </a:lnTo>
                <a:lnTo>
                  <a:pt x="737" y="569"/>
                </a:lnTo>
                <a:close/>
                <a:moveTo>
                  <a:pt x="729" y="581"/>
                </a:moveTo>
                <a:lnTo>
                  <a:pt x="720" y="581"/>
                </a:lnTo>
                <a:lnTo>
                  <a:pt x="720" y="575"/>
                </a:lnTo>
                <a:lnTo>
                  <a:pt x="729" y="575"/>
                </a:lnTo>
                <a:lnTo>
                  <a:pt x="729" y="581"/>
                </a:lnTo>
                <a:close/>
                <a:moveTo>
                  <a:pt x="729" y="568"/>
                </a:moveTo>
                <a:lnTo>
                  <a:pt x="749" y="568"/>
                </a:lnTo>
                <a:lnTo>
                  <a:pt x="749" y="581"/>
                </a:lnTo>
                <a:lnTo>
                  <a:pt x="729" y="581"/>
                </a:lnTo>
                <a:lnTo>
                  <a:pt x="729" y="568"/>
                </a:lnTo>
                <a:close/>
                <a:moveTo>
                  <a:pt x="749" y="568"/>
                </a:moveTo>
                <a:lnTo>
                  <a:pt x="756" y="568"/>
                </a:lnTo>
                <a:lnTo>
                  <a:pt x="756" y="575"/>
                </a:lnTo>
                <a:lnTo>
                  <a:pt x="749" y="575"/>
                </a:lnTo>
                <a:lnTo>
                  <a:pt x="749" y="568"/>
                </a:lnTo>
                <a:close/>
                <a:moveTo>
                  <a:pt x="756" y="575"/>
                </a:moveTo>
                <a:lnTo>
                  <a:pt x="756" y="591"/>
                </a:lnTo>
                <a:lnTo>
                  <a:pt x="741" y="591"/>
                </a:lnTo>
                <a:lnTo>
                  <a:pt x="741" y="575"/>
                </a:lnTo>
                <a:lnTo>
                  <a:pt x="756" y="575"/>
                </a:lnTo>
                <a:close/>
                <a:moveTo>
                  <a:pt x="749" y="598"/>
                </a:moveTo>
                <a:lnTo>
                  <a:pt x="741" y="598"/>
                </a:lnTo>
                <a:lnTo>
                  <a:pt x="741" y="591"/>
                </a:lnTo>
                <a:lnTo>
                  <a:pt x="749" y="591"/>
                </a:lnTo>
                <a:lnTo>
                  <a:pt x="749" y="598"/>
                </a:lnTo>
                <a:close/>
                <a:moveTo>
                  <a:pt x="749" y="585"/>
                </a:moveTo>
                <a:lnTo>
                  <a:pt x="756" y="585"/>
                </a:lnTo>
                <a:lnTo>
                  <a:pt x="756" y="598"/>
                </a:lnTo>
                <a:lnTo>
                  <a:pt x="749" y="598"/>
                </a:lnTo>
                <a:lnTo>
                  <a:pt x="749" y="585"/>
                </a:lnTo>
                <a:close/>
                <a:moveTo>
                  <a:pt x="756" y="585"/>
                </a:moveTo>
                <a:lnTo>
                  <a:pt x="764" y="585"/>
                </a:lnTo>
                <a:lnTo>
                  <a:pt x="764" y="591"/>
                </a:lnTo>
                <a:lnTo>
                  <a:pt x="756" y="591"/>
                </a:lnTo>
                <a:lnTo>
                  <a:pt x="756" y="585"/>
                </a:lnTo>
                <a:close/>
                <a:moveTo>
                  <a:pt x="764" y="591"/>
                </a:moveTo>
                <a:lnTo>
                  <a:pt x="764" y="596"/>
                </a:lnTo>
                <a:lnTo>
                  <a:pt x="747" y="596"/>
                </a:lnTo>
                <a:lnTo>
                  <a:pt x="747" y="591"/>
                </a:lnTo>
                <a:lnTo>
                  <a:pt x="764" y="591"/>
                </a:lnTo>
                <a:close/>
                <a:moveTo>
                  <a:pt x="756" y="604"/>
                </a:moveTo>
                <a:lnTo>
                  <a:pt x="747" y="604"/>
                </a:lnTo>
                <a:lnTo>
                  <a:pt x="747" y="596"/>
                </a:lnTo>
                <a:lnTo>
                  <a:pt x="756" y="596"/>
                </a:lnTo>
                <a:lnTo>
                  <a:pt x="756" y="604"/>
                </a:lnTo>
                <a:close/>
                <a:moveTo>
                  <a:pt x="756" y="589"/>
                </a:moveTo>
                <a:lnTo>
                  <a:pt x="768" y="589"/>
                </a:lnTo>
                <a:lnTo>
                  <a:pt x="768" y="604"/>
                </a:lnTo>
                <a:lnTo>
                  <a:pt x="756" y="604"/>
                </a:lnTo>
                <a:lnTo>
                  <a:pt x="756" y="589"/>
                </a:lnTo>
                <a:close/>
                <a:moveTo>
                  <a:pt x="768" y="589"/>
                </a:moveTo>
                <a:lnTo>
                  <a:pt x="775" y="589"/>
                </a:lnTo>
                <a:lnTo>
                  <a:pt x="775" y="596"/>
                </a:lnTo>
                <a:lnTo>
                  <a:pt x="768" y="596"/>
                </a:lnTo>
                <a:lnTo>
                  <a:pt x="768" y="589"/>
                </a:lnTo>
                <a:close/>
                <a:moveTo>
                  <a:pt x="775" y="596"/>
                </a:moveTo>
                <a:lnTo>
                  <a:pt x="775" y="602"/>
                </a:lnTo>
                <a:lnTo>
                  <a:pt x="760" y="602"/>
                </a:lnTo>
                <a:lnTo>
                  <a:pt x="760" y="596"/>
                </a:lnTo>
                <a:lnTo>
                  <a:pt x="775" y="596"/>
                </a:lnTo>
                <a:close/>
                <a:moveTo>
                  <a:pt x="768" y="610"/>
                </a:moveTo>
                <a:lnTo>
                  <a:pt x="760" y="610"/>
                </a:lnTo>
                <a:lnTo>
                  <a:pt x="760" y="602"/>
                </a:lnTo>
                <a:lnTo>
                  <a:pt x="768" y="602"/>
                </a:lnTo>
                <a:lnTo>
                  <a:pt x="768" y="610"/>
                </a:lnTo>
                <a:close/>
                <a:moveTo>
                  <a:pt x="768" y="596"/>
                </a:moveTo>
                <a:lnTo>
                  <a:pt x="775" y="596"/>
                </a:lnTo>
                <a:lnTo>
                  <a:pt x="775" y="610"/>
                </a:lnTo>
                <a:lnTo>
                  <a:pt x="768" y="610"/>
                </a:lnTo>
                <a:lnTo>
                  <a:pt x="768" y="596"/>
                </a:lnTo>
                <a:close/>
                <a:moveTo>
                  <a:pt x="775" y="596"/>
                </a:moveTo>
                <a:lnTo>
                  <a:pt x="783" y="596"/>
                </a:lnTo>
                <a:lnTo>
                  <a:pt x="783" y="602"/>
                </a:lnTo>
                <a:lnTo>
                  <a:pt x="775" y="602"/>
                </a:lnTo>
                <a:lnTo>
                  <a:pt x="775" y="596"/>
                </a:lnTo>
                <a:close/>
                <a:moveTo>
                  <a:pt x="783" y="602"/>
                </a:moveTo>
                <a:lnTo>
                  <a:pt x="783" y="614"/>
                </a:lnTo>
                <a:lnTo>
                  <a:pt x="766" y="614"/>
                </a:lnTo>
                <a:lnTo>
                  <a:pt x="766" y="602"/>
                </a:lnTo>
                <a:lnTo>
                  <a:pt x="783" y="602"/>
                </a:lnTo>
                <a:close/>
                <a:moveTo>
                  <a:pt x="775" y="621"/>
                </a:moveTo>
                <a:lnTo>
                  <a:pt x="766" y="621"/>
                </a:lnTo>
                <a:lnTo>
                  <a:pt x="766" y="614"/>
                </a:lnTo>
                <a:lnTo>
                  <a:pt x="775" y="614"/>
                </a:lnTo>
                <a:lnTo>
                  <a:pt x="775" y="621"/>
                </a:lnTo>
                <a:close/>
                <a:moveTo>
                  <a:pt x="775" y="606"/>
                </a:moveTo>
                <a:lnTo>
                  <a:pt x="781" y="606"/>
                </a:lnTo>
                <a:lnTo>
                  <a:pt x="781" y="621"/>
                </a:lnTo>
                <a:lnTo>
                  <a:pt x="775" y="621"/>
                </a:lnTo>
                <a:lnTo>
                  <a:pt x="775" y="606"/>
                </a:lnTo>
                <a:close/>
                <a:moveTo>
                  <a:pt x="781" y="606"/>
                </a:moveTo>
                <a:lnTo>
                  <a:pt x="789" y="606"/>
                </a:lnTo>
                <a:lnTo>
                  <a:pt x="789" y="614"/>
                </a:lnTo>
                <a:lnTo>
                  <a:pt x="781" y="614"/>
                </a:lnTo>
                <a:lnTo>
                  <a:pt x="781" y="606"/>
                </a:lnTo>
                <a:close/>
                <a:moveTo>
                  <a:pt x="789" y="614"/>
                </a:moveTo>
                <a:lnTo>
                  <a:pt x="789" y="619"/>
                </a:lnTo>
                <a:lnTo>
                  <a:pt x="774" y="619"/>
                </a:lnTo>
                <a:lnTo>
                  <a:pt x="774" y="614"/>
                </a:lnTo>
                <a:lnTo>
                  <a:pt x="789" y="614"/>
                </a:lnTo>
                <a:close/>
                <a:moveTo>
                  <a:pt x="781" y="627"/>
                </a:moveTo>
                <a:lnTo>
                  <a:pt x="774" y="627"/>
                </a:lnTo>
                <a:lnTo>
                  <a:pt x="774" y="619"/>
                </a:lnTo>
                <a:lnTo>
                  <a:pt x="781" y="619"/>
                </a:lnTo>
                <a:lnTo>
                  <a:pt x="781" y="627"/>
                </a:lnTo>
                <a:close/>
                <a:moveTo>
                  <a:pt x="781" y="612"/>
                </a:moveTo>
                <a:lnTo>
                  <a:pt x="789" y="612"/>
                </a:lnTo>
                <a:lnTo>
                  <a:pt x="789" y="627"/>
                </a:lnTo>
                <a:lnTo>
                  <a:pt x="781" y="627"/>
                </a:lnTo>
                <a:lnTo>
                  <a:pt x="781" y="612"/>
                </a:lnTo>
                <a:close/>
                <a:moveTo>
                  <a:pt x="789" y="612"/>
                </a:moveTo>
                <a:lnTo>
                  <a:pt x="797" y="612"/>
                </a:lnTo>
                <a:lnTo>
                  <a:pt x="797" y="619"/>
                </a:lnTo>
                <a:lnTo>
                  <a:pt x="789" y="619"/>
                </a:lnTo>
                <a:lnTo>
                  <a:pt x="789" y="612"/>
                </a:lnTo>
                <a:close/>
                <a:moveTo>
                  <a:pt x="797" y="619"/>
                </a:moveTo>
                <a:lnTo>
                  <a:pt x="797" y="625"/>
                </a:lnTo>
                <a:lnTo>
                  <a:pt x="779" y="625"/>
                </a:lnTo>
                <a:lnTo>
                  <a:pt x="779" y="619"/>
                </a:lnTo>
                <a:lnTo>
                  <a:pt x="797" y="619"/>
                </a:lnTo>
                <a:close/>
                <a:moveTo>
                  <a:pt x="789" y="633"/>
                </a:moveTo>
                <a:lnTo>
                  <a:pt x="779" y="633"/>
                </a:lnTo>
                <a:lnTo>
                  <a:pt x="779" y="625"/>
                </a:lnTo>
                <a:lnTo>
                  <a:pt x="789" y="625"/>
                </a:lnTo>
                <a:lnTo>
                  <a:pt x="789" y="633"/>
                </a:lnTo>
                <a:close/>
                <a:moveTo>
                  <a:pt x="789" y="617"/>
                </a:moveTo>
                <a:lnTo>
                  <a:pt x="802" y="617"/>
                </a:lnTo>
                <a:lnTo>
                  <a:pt x="802" y="633"/>
                </a:lnTo>
                <a:lnTo>
                  <a:pt x="789" y="633"/>
                </a:lnTo>
                <a:lnTo>
                  <a:pt x="789" y="617"/>
                </a:lnTo>
                <a:close/>
                <a:moveTo>
                  <a:pt x="802" y="617"/>
                </a:moveTo>
                <a:lnTo>
                  <a:pt x="810" y="617"/>
                </a:lnTo>
                <a:lnTo>
                  <a:pt x="810" y="625"/>
                </a:lnTo>
                <a:lnTo>
                  <a:pt x="802" y="625"/>
                </a:lnTo>
                <a:lnTo>
                  <a:pt x="802" y="617"/>
                </a:lnTo>
                <a:close/>
                <a:moveTo>
                  <a:pt x="810" y="625"/>
                </a:moveTo>
                <a:lnTo>
                  <a:pt x="810" y="631"/>
                </a:lnTo>
                <a:lnTo>
                  <a:pt x="793" y="631"/>
                </a:lnTo>
                <a:lnTo>
                  <a:pt x="793" y="625"/>
                </a:lnTo>
                <a:lnTo>
                  <a:pt x="810" y="625"/>
                </a:lnTo>
                <a:close/>
                <a:moveTo>
                  <a:pt x="802" y="639"/>
                </a:moveTo>
                <a:lnTo>
                  <a:pt x="793" y="639"/>
                </a:lnTo>
                <a:lnTo>
                  <a:pt x="793" y="631"/>
                </a:lnTo>
                <a:lnTo>
                  <a:pt x="802" y="631"/>
                </a:lnTo>
                <a:lnTo>
                  <a:pt x="802" y="639"/>
                </a:lnTo>
                <a:close/>
                <a:moveTo>
                  <a:pt x="802" y="623"/>
                </a:moveTo>
                <a:lnTo>
                  <a:pt x="808" y="623"/>
                </a:lnTo>
                <a:lnTo>
                  <a:pt x="808" y="639"/>
                </a:lnTo>
                <a:lnTo>
                  <a:pt x="802" y="639"/>
                </a:lnTo>
                <a:lnTo>
                  <a:pt x="802" y="623"/>
                </a:lnTo>
                <a:close/>
                <a:moveTo>
                  <a:pt x="808" y="623"/>
                </a:moveTo>
                <a:lnTo>
                  <a:pt x="816" y="623"/>
                </a:lnTo>
                <a:lnTo>
                  <a:pt x="816" y="631"/>
                </a:lnTo>
                <a:lnTo>
                  <a:pt x="808" y="631"/>
                </a:lnTo>
                <a:lnTo>
                  <a:pt x="808" y="623"/>
                </a:lnTo>
                <a:close/>
                <a:moveTo>
                  <a:pt x="816" y="631"/>
                </a:moveTo>
                <a:lnTo>
                  <a:pt x="816" y="637"/>
                </a:lnTo>
                <a:lnTo>
                  <a:pt x="800" y="637"/>
                </a:lnTo>
                <a:lnTo>
                  <a:pt x="800" y="631"/>
                </a:lnTo>
                <a:lnTo>
                  <a:pt x="816" y="631"/>
                </a:lnTo>
                <a:close/>
                <a:moveTo>
                  <a:pt x="816" y="637"/>
                </a:moveTo>
                <a:lnTo>
                  <a:pt x="816" y="640"/>
                </a:lnTo>
                <a:lnTo>
                  <a:pt x="800" y="640"/>
                </a:lnTo>
                <a:lnTo>
                  <a:pt x="800" y="637"/>
                </a:lnTo>
                <a:lnTo>
                  <a:pt x="816" y="637"/>
                </a:lnTo>
                <a:close/>
                <a:moveTo>
                  <a:pt x="808" y="648"/>
                </a:moveTo>
                <a:lnTo>
                  <a:pt x="800" y="648"/>
                </a:lnTo>
                <a:lnTo>
                  <a:pt x="800" y="640"/>
                </a:lnTo>
                <a:lnTo>
                  <a:pt x="808" y="640"/>
                </a:lnTo>
                <a:lnTo>
                  <a:pt x="808" y="648"/>
                </a:lnTo>
                <a:close/>
                <a:moveTo>
                  <a:pt x="808" y="635"/>
                </a:moveTo>
                <a:lnTo>
                  <a:pt x="814" y="635"/>
                </a:lnTo>
                <a:lnTo>
                  <a:pt x="814" y="648"/>
                </a:lnTo>
                <a:lnTo>
                  <a:pt x="808" y="648"/>
                </a:lnTo>
                <a:lnTo>
                  <a:pt x="808" y="635"/>
                </a:lnTo>
                <a:close/>
                <a:moveTo>
                  <a:pt x="814" y="635"/>
                </a:moveTo>
                <a:lnTo>
                  <a:pt x="822" y="635"/>
                </a:lnTo>
                <a:lnTo>
                  <a:pt x="822" y="640"/>
                </a:lnTo>
                <a:lnTo>
                  <a:pt x="814" y="640"/>
                </a:lnTo>
                <a:lnTo>
                  <a:pt x="814" y="635"/>
                </a:lnTo>
                <a:close/>
                <a:moveTo>
                  <a:pt x="822" y="640"/>
                </a:moveTo>
                <a:lnTo>
                  <a:pt x="822" y="654"/>
                </a:lnTo>
                <a:lnTo>
                  <a:pt x="806" y="654"/>
                </a:lnTo>
                <a:lnTo>
                  <a:pt x="806" y="640"/>
                </a:lnTo>
                <a:lnTo>
                  <a:pt x="822" y="640"/>
                </a:lnTo>
                <a:close/>
                <a:moveTo>
                  <a:pt x="814" y="660"/>
                </a:moveTo>
                <a:lnTo>
                  <a:pt x="806" y="660"/>
                </a:lnTo>
                <a:lnTo>
                  <a:pt x="806" y="654"/>
                </a:lnTo>
                <a:lnTo>
                  <a:pt x="814" y="654"/>
                </a:lnTo>
                <a:lnTo>
                  <a:pt x="814" y="660"/>
                </a:lnTo>
                <a:close/>
                <a:moveTo>
                  <a:pt x="814" y="646"/>
                </a:moveTo>
                <a:lnTo>
                  <a:pt x="854" y="646"/>
                </a:lnTo>
                <a:lnTo>
                  <a:pt x="854" y="660"/>
                </a:lnTo>
                <a:lnTo>
                  <a:pt x="814" y="660"/>
                </a:lnTo>
                <a:lnTo>
                  <a:pt x="814" y="646"/>
                </a:lnTo>
                <a:close/>
                <a:moveTo>
                  <a:pt x="854" y="646"/>
                </a:moveTo>
                <a:lnTo>
                  <a:pt x="862" y="646"/>
                </a:lnTo>
                <a:lnTo>
                  <a:pt x="862" y="654"/>
                </a:lnTo>
                <a:lnTo>
                  <a:pt x="854" y="654"/>
                </a:lnTo>
                <a:lnTo>
                  <a:pt x="854" y="646"/>
                </a:lnTo>
                <a:close/>
                <a:moveTo>
                  <a:pt x="862" y="654"/>
                </a:moveTo>
                <a:lnTo>
                  <a:pt x="862" y="658"/>
                </a:lnTo>
                <a:lnTo>
                  <a:pt x="847" y="658"/>
                </a:lnTo>
                <a:lnTo>
                  <a:pt x="847" y="654"/>
                </a:lnTo>
                <a:lnTo>
                  <a:pt x="862" y="654"/>
                </a:lnTo>
                <a:close/>
                <a:moveTo>
                  <a:pt x="862" y="658"/>
                </a:moveTo>
                <a:lnTo>
                  <a:pt x="862" y="669"/>
                </a:lnTo>
                <a:lnTo>
                  <a:pt x="847" y="669"/>
                </a:lnTo>
                <a:lnTo>
                  <a:pt x="847" y="658"/>
                </a:lnTo>
                <a:lnTo>
                  <a:pt x="862" y="658"/>
                </a:lnTo>
                <a:close/>
                <a:moveTo>
                  <a:pt x="854" y="677"/>
                </a:moveTo>
                <a:lnTo>
                  <a:pt x="847" y="677"/>
                </a:lnTo>
                <a:lnTo>
                  <a:pt x="847" y="669"/>
                </a:lnTo>
                <a:lnTo>
                  <a:pt x="854" y="669"/>
                </a:lnTo>
                <a:lnTo>
                  <a:pt x="854" y="677"/>
                </a:lnTo>
                <a:close/>
                <a:moveTo>
                  <a:pt x="854" y="662"/>
                </a:moveTo>
                <a:lnTo>
                  <a:pt x="860" y="662"/>
                </a:lnTo>
                <a:lnTo>
                  <a:pt x="860" y="677"/>
                </a:lnTo>
                <a:lnTo>
                  <a:pt x="854" y="677"/>
                </a:lnTo>
                <a:lnTo>
                  <a:pt x="854" y="662"/>
                </a:lnTo>
                <a:close/>
                <a:moveTo>
                  <a:pt x="860" y="662"/>
                </a:moveTo>
                <a:lnTo>
                  <a:pt x="870" y="662"/>
                </a:lnTo>
                <a:lnTo>
                  <a:pt x="870" y="669"/>
                </a:lnTo>
                <a:lnTo>
                  <a:pt x="860" y="669"/>
                </a:lnTo>
                <a:lnTo>
                  <a:pt x="860" y="662"/>
                </a:lnTo>
                <a:close/>
                <a:moveTo>
                  <a:pt x="870" y="669"/>
                </a:moveTo>
                <a:lnTo>
                  <a:pt x="870" y="681"/>
                </a:lnTo>
                <a:lnTo>
                  <a:pt x="852" y="681"/>
                </a:lnTo>
                <a:lnTo>
                  <a:pt x="852" y="669"/>
                </a:lnTo>
                <a:lnTo>
                  <a:pt x="870" y="669"/>
                </a:lnTo>
                <a:close/>
                <a:moveTo>
                  <a:pt x="860" y="688"/>
                </a:moveTo>
                <a:lnTo>
                  <a:pt x="852" y="688"/>
                </a:lnTo>
                <a:lnTo>
                  <a:pt x="852" y="681"/>
                </a:lnTo>
                <a:lnTo>
                  <a:pt x="860" y="681"/>
                </a:lnTo>
                <a:lnTo>
                  <a:pt x="860" y="688"/>
                </a:lnTo>
                <a:close/>
                <a:moveTo>
                  <a:pt x="860" y="673"/>
                </a:moveTo>
                <a:lnTo>
                  <a:pt x="866" y="673"/>
                </a:lnTo>
                <a:lnTo>
                  <a:pt x="866" y="688"/>
                </a:lnTo>
                <a:lnTo>
                  <a:pt x="860" y="688"/>
                </a:lnTo>
                <a:lnTo>
                  <a:pt x="860" y="673"/>
                </a:lnTo>
                <a:close/>
                <a:moveTo>
                  <a:pt x="866" y="673"/>
                </a:moveTo>
                <a:lnTo>
                  <a:pt x="875" y="673"/>
                </a:lnTo>
                <a:lnTo>
                  <a:pt x="875" y="681"/>
                </a:lnTo>
                <a:lnTo>
                  <a:pt x="866" y="681"/>
                </a:lnTo>
                <a:lnTo>
                  <a:pt x="866" y="673"/>
                </a:lnTo>
                <a:close/>
                <a:moveTo>
                  <a:pt x="875" y="681"/>
                </a:moveTo>
                <a:lnTo>
                  <a:pt x="875" y="687"/>
                </a:lnTo>
                <a:lnTo>
                  <a:pt x="858" y="687"/>
                </a:lnTo>
                <a:lnTo>
                  <a:pt x="858" y="681"/>
                </a:lnTo>
                <a:lnTo>
                  <a:pt x="875" y="681"/>
                </a:lnTo>
                <a:close/>
                <a:moveTo>
                  <a:pt x="866" y="694"/>
                </a:moveTo>
                <a:lnTo>
                  <a:pt x="858" y="694"/>
                </a:lnTo>
                <a:lnTo>
                  <a:pt x="858" y="687"/>
                </a:lnTo>
                <a:lnTo>
                  <a:pt x="866" y="687"/>
                </a:lnTo>
                <a:lnTo>
                  <a:pt x="866" y="694"/>
                </a:lnTo>
                <a:close/>
                <a:moveTo>
                  <a:pt x="866" y="679"/>
                </a:moveTo>
                <a:lnTo>
                  <a:pt x="887" y="679"/>
                </a:lnTo>
                <a:lnTo>
                  <a:pt x="887" y="694"/>
                </a:lnTo>
                <a:lnTo>
                  <a:pt x="866" y="694"/>
                </a:lnTo>
                <a:lnTo>
                  <a:pt x="866" y="679"/>
                </a:lnTo>
                <a:close/>
                <a:moveTo>
                  <a:pt x="887" y="679"/>
                </a:moveTo>
                <a:lnTo>
                  <a:pt x="894" y="679"/>
                </a:lnTo>
                <a:lnTo>
                  <a:pt x="894" y="687"/>
                </a:lnTo>
                <a:lnTo>
                  <a:pt x="887" y="687"/>
                </a:lnTo>
                <a:lnTo>
                  <a:pt x="887" y="679"/>
                </a:lnTo>
                <a:close/>
                <a:moveTo>
                  <a:pt x="894" y="687"/>
                </a:moveTo>
                <a:lnTo>
                  <a:pt x="894" y="692"/>
                </a:lnTo>
                <a:lnTo>
                  <a:pt x="879" y="692"/>
                </a:lnTo>
                <a:lnTo>
                  <a:pt x="879" y="687"/>
                </a:lnTo>
                <a:lnTo>
                  <a:pt x="894" y="687"/>
                </a:lnTo>
                <a:close/>
                <a:moveTo>
                  <a:pt x="887" y="700"/>
                </a:moveTo>
                <a:lnTo>
                  <a:pt x="879" y="700"/>
                </a:lnTo>
                <a:lnTo>
                  <a:pt x="879" y="692"/>
                </a:lnTo>
                <a:lnTo>
                  <a:pt x="887" y="692"/>
                </a:lnTo>
                <a:lnTo>
                  <a:pt x="887" y="700"/>
                </a:lnTo>
                <a:close/>
                <a:moveTo>
                  <a:pt x="887" y="685"/>
                </a:moveTo>
                <a:lnTo>
                  <a:pt x="893" y="685"/>
                </a:lnTo>
                <a:lnTo>
                  <a:pt x="893" y="700"/>
                </a:lnTo>
                <a:lnTo>
                  <a:pt x="887" y="700"/>
                </a:lnTo>
                <a:lnTo>
                  <a:pt x="887" y="685"/>
                </a:lnTo>
                <a:close/>
                <a:moveTo>
                  <a:pt x="893" y="685"/>
                </a:moveTo>
                <a:lnTo>
                  <a:pt x="902" y="685"/>
                </a:lnTo>
                <a:lnTo>
                  <a:pt x="902" y="692"/>
                </a:lnTo>
                <a:lnTo>
                  <a:pt x="893" y="692"/>
                </a:lnTo>
                <a:lnTo>
                  <a:pt x="893" y="685"/>
                </a:lnTo>
                <a:close/>
                <a:moveTo>
                  <a:pt x="902" y="692"/>
                </a:moveTo>
                <a:lnTo>
                  <a:pt x="902" y="704"/>
                </a:lnTo>
                <a:lnTo>
                  <a:pt x="885" y="704"/>
                </a:lnTo>
                <a:lnTo>
                  <a:pt x="885" y="692"/>
                </a:lnTo>
                <a:lnTo>
                  <a:pt x="902" y="692"/>
                </a:lnTo>
                <a:close/>
                <a:moveTo>
                  <a:pt x="902" y="704"/>
                </a:moveTo>
                <a:lnTo>
                  <a:pt x="902" y="715"/>
                </a:lnTo>
                <a:lnTo>
                  <a:pt x="885" y="715"/>
                </a:lnTo>
                <a:lnTo>
                  <a:pt x="885" y="704"/>
                </a:lnTo>
                <a:lnTo>
                  <a:pt x="902" y="704"/>
                </a:lnTo>
                <a:close/>
                <a:moveTo>
                  <a:pt x="893" y="721"/>
                </a:moveTo>
                <a:lnTo>
                  <a:pt x="885" y="721"/>
                </a:lnTo>
                <a:lnTo>
                  <a:pt x="885" y="715"/>
                </a:lnTo>
                <a:lnTo>
                  <a:pt x="893" y="715"/>
                </a:lnTo>
                <a:lnTo>
                  <a:pt x="893" y="721"/>
                </a:lnTo>
                <a:close/>
                <a:moveTo>
                  <a:pt x="893" y="708"/>
                </a:moveTo>
                <a:lnTo>
                  <a:pt x="912" y="708"/>
                </a:lnTo>
                <a:lnTo>
                  <a:pt x="912" y="721"/>
                </a:lnTo>
                <a:lnTo>
                  <a:pt x="893" y="721"/>
                </a:lnTo>
                <a:lnTo>
                  <a:pt x="893" y="708"/>
                </a:lnTo>
                <a:close/>
                <a:moveTo>
                  <a:pt x="912" y="708"/>
                </a:moveTo>
                <a:lnTo>
                  <a:pt x="921" y="708"/>
                </a:lnTo>
                <a:lnTo>
                  <a:pt x="921" y="715"/>
                </a:lnTo>
                <a:lnTo>
                  <a:pt x="912" y="715"/>
                </a:lnTo>
                <a:lnTo>
                  <a:pt x="912" y="708"/>
                </a:lnTo>
                <a:close/>
                <a:moveTo>
                  <a:pt x="921" y="715"/>
                </a:moveTo>
                <a:lnTo>
                  <a:pt x="921" y="719"/>
                </a:lnTo>
                <a:lnTo>
                  <a:pt x="904" y="719"/>
                </a:lnTo>
                <a:lnTo>
                  <a:pt x="904" y="715"/>
                </a:lnTo>
                <a:lnTo>
                  <a:pt x="921" y="715"/>
                </a:lnTo>
                <a:close/>
                <a:moveTo>
                  <a:pt x="912" y="727"/>
                </a:moveTo>
                <a:lnTo>
                  <a:pt x="904" y="727"/>
                </a:lnTo>
                <a:lnTo>
                  <a:pt x="904" y="719"/>
                </a:lnTo>
                <a:lnTo>
                  <a:pt x="912" y="719"/>
                </a:lnTo>
                <a:lnTo>
                  <a:pt x="912" y="727"/>
                </a:lnTo>
                <a:close/>
                <a:moveTo>
                  <a:pt x="912" y="713"/>
                </a:moveTo>
                <a:lnTo>
                  <a:pt x="919" y="713"/>
                </a:lnTo>
                <a:lnTo>
                  <a:pt x="919" y="727"/>
                </a:lnTo>
                <a:lnTo>
                  <a:pt x="912" y="727"/>
                </a:lnTo>
                <a:lnTo>
                  <a:pt x="912" y="713"/>
                </a:lnTo>
                <a:close/>
                <a:moveTo>
                  <a:pt x="919" y="713"/>
                </a:moveTo>
                <a:lnTo>
                  <a:pt x="927" y="713"/>
                </a:lnTo>
                <a:lnTo>
                  <a:pt x="927" y="719"/>
                </a:lnTo>
                <a:lnTo>
                  <a:pt x="919" y="719"/>
                </a:lnTo>
                <a:lnTo>
                  <a:pt x="919" y="713"/>
                </a:lnTo>
                <a:close/>
                <a:moveTo>
                  <a:pt x="927" y="719"/>
                </a:moveTo>
                <a:lnTo>
                  <a:pt x="927" y="725"/>
                </a:lnTo>
                <a:lnTo>
                  <a:pt x="912" y="725"/>
                </a:lnTo>
                <a:lnTo>
                  <a:pt x="912" y="719"/>
                </a:lnTo>
                <a:lnTo>
                  <a:pt x="927" y="719"/>
                </a:lnTo>
                <a:close/>
                <a:moveTo>
                  <a:pt x="919" y="733"/>
                </a:moveTo>
                <a:lnTo>
                  <a:pt x="912" y="733"/>
                </a:lnTo>
                <a:lnTo>
                  <a:pt x="912" y="725"/>
                </a:lnTo>
                <a:lnTo>
                  <a:pt x="919" y="725"/>
                </a:lnTo>
                <a:lnTo>
                  <a:pt x="919" y="733"/>
                </a:lnTo>
                <a:close/>
                <a:moveTo>
                  <a:pt x="919" y="717"/>
                </a:moveTo>
                <a:lnTo>
                  <a:pt x="925" y="717"/>
                </a:lnTo>
                <a:lnTo>
                  <a:pt x="925" y="733"/>
                </a:lnTo>
                <a:lnTo>
                  <a:pt x="919" y="733"/>
                </a:lnTo>
                <a:lnTo>
                  <a:pt x="919" y="717"/>
                </a:lnTo>
                <a:close/>
                <a:moveTo>
                  <a:pt x="925" y="717"/>
                </a:moveTo>
                <a:lnTo>
                  <a:pt x="935" y="717"/>
                </a:lnTo>
                <a:lnTo>
                  <a:pt x="935" y="725"/>
                </a:lnTo>
                <a:lnTo>
                  <a:pt x="925" y="725"/>
                </a:lnTo>
                <a:lnTo>
                  <a:pt x="925" y="717"/>
                </a:lnTo>
                <a:close/>
                <a:moveTo>
                  <a:pt x="935" y="725"/>
                </a:moveTo>
                <a:lnTo>
                  <a:pt x="935" y="731"/>
                </a:lnTo>
                <a:lnTo>
                  <a:pt x="918" y="731"/>
                </a:lnTo>
                <a:lnTo>
                  <a:pt x="918" y="725"/>
                </a:lnTo>
                <a:lnTo>
                  <a:pt x="935" y="725"/>
                </a:lnTo>
                <a:close/>
                <a:moveTo>
                  <a:pt x="925" y="738"/>
                </a:moveTo>
                <a:lnTo>
                  <a:pt x="918" y="738"/>
                </a:lnTo>
                <a:lnTo>
                  <a:pt x="918" y="731"/>
                </a:lnTo>
                <a:lnTo>
                  <a:pt x="925" y="731"/>
                </a:lnTo>
                <a:lnTo>
                  <a:pt x="925" y="738"/>
                </a:lnTo>
                <a:close/>
                <a:moveTo>
                  <a:pt x="925" y="723"/>
                </a:moveTo>
                <a:lnTo>
                  <a:pt x="939" y="723"/>
                </a:lnTo>
                <a:lnTo>
                  <a:pt x="939" y="738"/>
                </a:lnTo>
                <a:lnTo>
                  <a:pt x="925" y="738"/>
                </a:lnTo>
                <a:lnTo>
                  <a:pt x="925" y="723"/>
                </a:lnTo>
                <a:close/>
                <a:moveTo>
                  <a:pt x="939" y="723"/>
                </a:moveTo>
                <a:lnTo>
                  <a:pt x="948" y="723"/>
                </a:lnTo>
                <a:lnTo>
                  <a:pt x="948" y="731"/>
                </a:lnTo>
                <a:lnTo>
                  <a:pt x="939" y="731"/>
                </a:lnTo>
                <a:lnTo>
                  <a:pt x="939" y="723"/>
                </a:lnTo>
                <a:close/>
                <a:moveTo>
                  <a:pt x="948" y="731"/>
                </a:moveTo>
                <a:lnTo>
                  <a:pt x="948" y="736"/>
                </a:lnTo>
                <a:lnTo>
                  <a:pt x="931" y="736"/>
                </a:lnTo>
                <a:lnTo>
                  <a:pt x="931" y="731"/>
                </a:lnTo>
                <a:lnTo>
                  <a:pt x="948" y="731"/>
                </a:lnTo>
                <a:close/>
                <a:moveTo>
                  <a:pt x="939" y="744"/>
                </a:moveTo>
                <a:lnTo>
                  <a:pt x="931" y="744"/>
                </a:lnTo>
                <a:lnTo>
                  <a:pt x="931" y="736"/>
                </a:lnTo>
                <a:lnTo>
                  <a:pt x="939" y="736"/>
                </a:lnTo>
                <a:lnTo>
                  <a:pt x="939" y="744"/>
                </a:lnTo>
                <a:close/>
                <a:moveTo>
                  <a:pt x="939" y="729"/>
                </a:moveTo>
                <a:lnTo>
                  <a:pt x="946" y="729"/>
                </a:lnTo>
                <a:lnTo>
                  <a:pt x="946" y="744"/>
                </a:lnTo>
                <a:lnTo>
                  <a:pt x="939" y="744"/>
                </a:lnTo>
                <a:lnTo>
                  <a:pt x="939" y="729"/>
                </a:lnTo>
                <a:close/>
                <a:moveTo>
                  <a:pt x="946" y="729"/>
                </a:moveTo>
                <a:lnTo>
                  <a:pt x="954" y="729"/>
                </a:lnTo>
                <a:lnTo>
                  <a:pt x="954" y="736"/>
                </a:lnTo>
                <a:lnTo>
                  <a:pt x="946" y="736"/>
                </a:lnTo>
                <a:lnTo>
                  <a:pt x="946" y="729"/>
                </a:lnTo>
                <a:close/>
                <a:moveTo>
                  <a:pt x="954" y="736"/>
                </a:moveTo>
                <a:lnTo>
                  <a:pt x="954" y="748"/>
                </a:lnTo>
                <a:lnTo>
                  <a:pt x="939" y="748"/>
                </a:lnTo>
                <a:lnTo>
                  <a:pt x="939" y="736"/>
                </a:lnTo>
                <a:lnTo>
                  <a:pt x="954" y="736"/>
                </a:lnTo>
                <a:close/>
                <a:moveTo>
                  <a:pt x="954" y="748"/>
                </a:moveTo>
                <a:lnTo>
                  <a:pt x="954" y="765"/>
                </a:lnTo>
                <a:lnTo>
                  <a:pt x="939" y="765"/>
                </a:lnTo>
                <a:lnTo>
                  <a:pt x="939" y="748"/>
                </a:lnTo>
                <a:lnTo>
                  <a:pt x="954" y="748"/>
                </a:lnTo>
                <a:close/>
                <a:moveTo>
                  <a:pt x="946" y="773"/>
                </a:moveTo>
                <a:lnTo>
                  <a:pt x="939" y="773"/>
                </a:lnTo>
                <a:lnTo>
                  <a:pt x="939" y="765"/>
                </a:lnTo>
                <a:lnTo>
                  <a:pt x="946" y="765"/>
                </a:lnTo>
                <a:lnTo>
                  <a:pt x="946" y="773"/>
                </a:lnTo>
                <a:close/>
                <a:moveTo>
                  <a:pt x="946" y="758"/>
                </a:moveTo>
                <a:lnTo>
                  <a:pt x="952" y="758"/>
                </a:lnTo>
                <a:lnTo>
                  <a:pt x="952" y="773"/>
                </a:lnTo>
                <a:lnTo>
                  <a:pt x="946" y="773"/>
                </a:lnTo>
                <a:lnTo>
                  <a:pt x="946" y="758"/>
                </a:lnTo>
                <a:close/>
                <a:moveTo>
                  <a:pt x="952" y="758"/>
                </a:moveTo>
                <a:lnTo>
                  <a:pt x="962" y="758"/>
                </a:lnTo>
                <a:lnTo>
                  <a:pt x="962" y="765"/>
                </a:lnTo>
                <a:lnTo>
                  <a:pt x="952" y="765"/>
                </a:lnTo>
                <a:lnTo>
                  <a:pt x="952" y="758"/>
                </a:lnTo>
                <a:close/>
                <a:moveTo>
                  <a:pt x="962" y="765"/>
                </a:moveTo>
                <a:lnTo>
                  <a:pt x="962" y="775"/>
                </a:lnTo>
                <a:lnTo>
                  <a:pt x="944" y="775"/>
                </a:lnTo>
                <a:lnTo>
                  <a:pt x="944" y="765"/>
                </a:lnTo>
                <a:lnTo>
                  <a:pt x="962" y="765"/>
                </a:lnTo>
                <a:close/>
                <a:moveTo>
                  <a:pt x="962" y="775"/>
                </a:moveTo>
                <a:lnTo>
                  <a:pt x="962" y="786"/>
                </a:lnTo>
                <a:lnTo>
                  <a:pt x="944" y="786"/>
                </a:lnTo>
                <a:lnTo>
                  <a:pt x="944" y="775"/>
                </a:lnTo>
                <a:lnTo>
                  <a:pt x="962" y="775"/>
                </a:lnTo>
                <a:close/>
                <a:moveTo>
                  <a:pt x="952" y="794"/>
                </a:moveTo>
                <a:lnTo>
                  <a:pt x="944" y="794"/>
                </a:lnTo>
                <a:lnTo>
                  <a:pt x="944" y="786"/>
                </a:lnTo>
                <a:lnTo>
                  <a:pt x="952" y="786"/>
                </a:lnTo>
                <a:lnTo>
                  <a:pt x="952" y="794"/>
                </a:lnTo>
                <a:close/>
                <a:moveTo>
                  <a:pt x="952" y="779"/>
                </a:moveTo>
                <a:lnTo>
                  <a:pt x="958" y="779"/>
                </a:lnTo>
                <a:lnTo>
                  <a:pt x="958" y="794"/>
                </a:lnTo>
                <a:lnTo>
                  <a:pt x="952" y="794"/>
                </a:lnTo>
                <a:lnTo>
                  <a:pt x="952" y="779"/>
                </a:lnTo>
                <a:close/>
                <a:moveTo>
                  <a:pt x="958" y="779"/>
                </a:moveTo>
                <a:lnTo>
                  <a:pt x="965" y="779"/>
                </a:lnTo>
                <a:lnTo>
                  <a:pt x="965" y="786"/>
                </a:lnTo>
                <a:lnTo>
                  <a:pt x="958" y="786"/>
                </a:lnTo>
                <a:lnTo>
                  <a:pt x="958" y="779"/>
                </a:lnTo>
                <a:close/>
                <a:moveTo>
                  <a:pt x="965" y="786"/>
                </a:moveTo>
                <a:lnTo>
                  <a:pt x="965" y="792"/>
                </a:lnTo>
                <a:lnTo>
                  <a:pt x="950" y="792"/>
                </a:lnTo>
                <a:lnTo>
                  <a:pt x="950" y="786"/>
                </a:lnTo>
                <a:lnTo>
                  <a:pt x="965" y="786"/>
                </a:lnTo>
                <a:close/>
                <a:moveTo>
                  <a:pt x="965" y="792"/>
                </a:moveTo>
                <a:lnTo>
                  <a:pt x="965" y="809"/>
                </a:lnTo>
                <a:lnTo>
                  <a:pt x="950" y="809"/>
                </a:lnTo>
                <a:lnTo>
                  <a:pt x="950" y="792"/>
                </a:lnTo>
                <a:lnTo>
                  <a:pt x="965" y="792"/>
                </a:lnTo>
                <a:close/>
                <a:moveTo>
                  <a:pt x="958" y="817"/>
                </a:moveTo>
                <a:lnTo>
                  <a:pt x="950" y="817"/>
                </a:lnTo>
                <a:lnTo>
                  <a:pt x="950" y="809"/>
                </a:lnTo>
                <a:lnTo>
                  <a:pt x="958" y="809"/>
                </a:lnTo>
                <a:lnTo>
                  <a:pt x="958" y="817"/>
                </a:lnTo>
                <a:close/>
                <a:moveTo>
                  <a:pt x="958" y="802"/>
                </a:moveTo>
                <a:lnTo>
                  <a:pt x="965" y="802"/>
                </a:lnTo>
                <a:lnTo>
                  <a:pt x="965" y="817"/>
                </a:lnTo>
                <a:lnTo>
                  <a:pt x="958" y="817"/>
                </a:lnTo>
                <a:lnTo>
                  <a:pt x="958" y="802"/>
                </a:lnTo>
                <a:close/>
                <a:moveTo>
                  <a:pt x="965" y="802"/>
                </a:moveTo>
                <a:lnTo>
                  <a:pt x="973" y="802"/>
                </a:lnTo>
                <a:lnTo>
                  <a:pt x="973" y="809"/>
                </a:lnTo>
                <a:lnTo>
                  <a:pt x="965" y="809"/>
                </a:lnTo>
                <a:lnTo>
                  <a:pt x="965" y="802"/>
                </a:lnTo>
                <a:close/>
                <a:moveTo>
                  <a:pt x="973" y="809"/>
                </a:moveTo>
                <a:lnTo>
                  <a:pt x="973" y="815"/>
                </a:lnTo>
                <a:lnTo>
                  <a:pt x="958" y="815"/>
                </a:lnTo>
                <a:lnTo>
                  <a:pt x="958" y="809"/>
                </a:lnTo>
                <a:lnTo>
                  <a:pt x="973" y="809"/>
                </a:lnTo>
                <a:close/>
                <a:moveTo>
                  <a:pt x="965" y="823"/>
                </a:moveTo>
                <a:lnTo>
                  <a:pt x="958" y="823"/>
                </a:lnTo>
                <a:lnTo>
                  <a:pt x="958" y="815"/>
                </a:lnTo>
                <a:lnTo>
                  <a:pt x="965" y="815"/>
                </a:lnTo>
                <a:lnTo>
                  <a:pt x="965" y="823"/>
                </a:lnTo>
                <a:close/>
                <a:moveTo>
                  <a:pt x="965" y="807"/>
                </a:moveTo>
                <a:lnTo>
                  <a:pt x="971" y="807"/>
                </a:lnTo>
                <a:lnTo>
                  <a:pt x="971" y="823"/>
                </a:lnTo>
                <a:lnTo>
                  <a:pt x="965" y="823"/>
                </a:lnTo>
                <a:lnTo>
                  <a:pt x="965" y="807"/>
                </a:lnTo>
                <a:close/>
                <a:moveTo>
                  <a:pt x="971" y="807"/>
                </a:moveTo>
                <a:lnTo>
                  <a:pt x="979" y="807"/>
                </a:lnTo>
                <a:lnTo>
                  <a:pt x="979" y="815"/>
                </a:lnTo>
                <a:lnTo>
                  <a:pt x="971" y="815"/>
                </a:lnTo>
                <a:lnTo>
                  <a:pt x="971" y="807"/>
                </a:lnTo>
                <a:close/>
                <a:moveTo>
                  <a:pt x="979" y="815"/>
                </a:moveTo>
                <a:lnTo>
                  <a:pt x="979" y="819"/>
                </a:lnTo>
                <a:lnTo>
                  <a:pt x="964" y="819"/>
                </a:lnTo>
                <a:lnTo>
                  <a:pt x="964" y="815"/>
                </a:lnTo>
                <a:lnTo>
                  <a:pt x="979" y="815"/>
                </a:lnTo>
                <a:close/>
                <a:moveTo>
                  <a:pt x="971" y="827"/>
                </a:moveTo>
                <a:lnTo>
                  <a:pt x="964" y="827"/>
                </a:lnTo>
                <a:lnTo>
                  <a:pt x="964" y="819"/>
                </a:lnTo>
                <a:lnTo>
                  <a:pt x="971" y="819"/>
                </a:lnTo>
                <a:lnTo>
                  <a:pt x="971" y="827"/>
                </a:lnTo>
                <a:close/>
                <a:moveTo>
                  <a:pt x="971" y="813"/>
                </a:moveTo>
                <a:lnTo>
                  <a:pt x="979" y="813"/>
                </a:lnTo>
                <a:lnTo>
                  <a:pt x="979" y="827"/>
                </a:lnTo>
                <a:lnTo>
                  <a:pt x="971" y="827"/>
                </a:lnTo>
                <a:lnTo>
                  <a:pt x="971" y="813"/>
                </a:lnTo>
                <a:close/>
                <a:moveTo>
                  <a:pt x="979" y="813"/>
                </a:moveTo>
                <a:lnTo>
                  <a:pt x="987" y="813"/>
                </a:lnTo>
                <a:lnTo>
                  <a:pt x="987" y="819"/>
                </a:lnTo>
                <a:lnTo>
                  <a:pt x="979" y="819"/>
                </a:lnTo>
                <a:lnTo>
                  <a:pt x="979" y="813"/>
                </a:lnTo>
                <a:close/>
                <a:moveTo>
                  <a:pt x="987" y="819"/>
                </a:moveTo>
                <a:lnTo>
                  <a:pt x="987" y="832"/>
                </a:lnTo>
                <a:lnTo>
                  <a:pt x="971" y="832"/>
                </a:lnTo>
                <a:lnTo>
                  <a:pt x="971" y="819"/>
                </a:lnTo>
                <a:lnTo>
                  <a:pt x="987" y="819"/>
                </a:lnTo>
                <a:close/>
                <a:moveTo>
                  <a:pt x="979" y="838"/>
                </a:moveTo>
                <a:lnTo>
                  <a:pt x="971" y="838"/>
                </a:lnTo>
                <a:lnTo>
                  <a:pt x="971" y="832"/>
                </a:lnTo>
                <a:lnTo>
                  <a:pt x="979" y="832"/>
                </a:lnTo>
                <a:lnTo>
                  <a:pt x="979" y="838"/>
                </a:lnTo>
                <a:close/>
                <a:moveTo>
                  <a:pt x="979" y="825"/>
                </a:moveTo>
                <a:lnTo>
                  <a:pt x="1012" y="825"/>
                </a:lnTo>
                <a:lnTo>
                  <a:pt x="1012" y="838"/>
                </a:lnTo>
                <a:lnTo>
                  <a:pt x="979" y="838"/>
                </a:lnTo>
                <a:lnTo>
                  <a:pt x="979" y="825"/>
                </a:lnTo>
                <a:close/>
                <a:moveTo>
                  <a:pt x="1012" y="825"/>
                </a:moveTo>
                <a:lnTo>
                  <a:pt x="1019" y="825"/>
                </a:lnTo>
                <a:lnTo>
                  <a:pt x="1019" y="832"/>
                </a:lnTo>
                <a:lnTo>
                  <a:pt x="1012" y="832"/>
                </a:lnTo>
                <a:lnTo>
                  <a:pt x="1012" y="825"/>
                </a:lnTo>
                <a:close/>
                <a:moveTo>
                  <a:pt x="1019" y="832"/>
                </a:moveTo>
                <a:lnTo>
                  <a:pt x="1019" y="836"/>
                </a:lnTo>
                <a:lnTo>
                  <a:pt x="1004" y="836"/>
                </a:lnTo>
                <a:lnTo>
                  <a:pt x="1004" y="832"/>
                </a:lnTo>
                <a:lnTo>
                  <a:pt x="1019" y="832"/>
                </a:lnTo>
                <a:close/>
                <a:moveTo>
                  <a:pt x="1012" y="844"/>
                </a:moveTo>
                <a:lnTo>
                  <a:pt x="1004" y="844"/>
                </a:lnTo>
                <a:lnTo>
                  <a:pt x="1004" y="836"/>
                </a:lnTo>
                <a:lnTo>
                  <a:pt x="1012" y="836"/>
                </a:lnTo>
                <a:lnTo>
                  <a:pt x="1012" y="844"/>
                </a:lnTo>
                <a:close/>
                <a:moveTo>
                  <a:pt x="1012" y="829"/>
                </a:moveTo>
                <a:lnTo>
                  <a:pt x="1017" y="829"/>
                </a:lnTo>
                <a:lnTo>
                  <a:pt x="1017" y="844"/>
                </a:lnTo>
                <a:lnTo>
                  <a:pt x="1012" y="844"/>
                </a:lnTo>
                <a:lnTo>
                  <a:pt x="1012" y="829"/>
                </a:lnTo>
                <a:close/>
                <a:moveTo>
                  <a:pt x="1017" y="829"/>
                </a:moveTo>
                <a:lnTo>
                  <a:pt x="1025" y="829"/>
                </a:lnTo>
                <a:lnTo>
                  <a:pt x="1025" y="836"/>
                </a:lnTo>
                <a:lnTo>
                  <a:pt x="1017" y="836"/>
                </a:lnTo>
                <a:lnTo>
                  <a:pt x="1017" y="829"/>
                </a:lnTo>
                <a:close/>
                <a:moveTo>
                  <a:pt x="1025" y="836"/>
                </a:moveTo>
                <a:lnTo>
                  <a:pt x="1025" y="853"/>
                </a:lnTo>
                <a:lnTo>
                  <a:pt x="1010" y="853"/>
                </a:lnTo>
                <a:lnTo>
                  <a:pt x="1010" y="836"/>
                </a:lnTo>
                <a:lnTo>
                  <a:pt x="1025" y="836"/>
                </a:lnTo>
                <a:close/>
                <a:moveTo>
                  <a:pt x="1017" y="861"/>
                </a:moveTo>
                <a:lnTo>
                  <a:pt x="1010" y="861"/>
                </a:lnTo>
                <a:lnTo>
                  <a:pt x="1010" y="853"/>
                </a:lnTo>
                <a:lnTo>
                  <a:pt x="1017" y="853"/>
                </a:lnTo>
                <a:lnTo>
                  <a:pt x="1017" y="861"/>
                </a:lnTo>
                <a:close/>
                <a:moveTo>
                  <a:pt x="1017" y="846"/>
                </a:moveTo>
                <a:lnTo>
                  <a:pt x="1031" y="846"/>
                </a:lnTo>
                <a:lnTo>
                  <a:pt x="1031" y="861"/>
                </a:lnTo>
                <a:lnTo>
                  <a:pt x="1017" y="861"/>
                </a:lnTo>
                <a:lnTo>
                  <a:pt x="1017" y="846"/>
                </a:lnTo>
                <a:close/>
                <a:moveTo>
                  <a:pt x="1031" y="846"/>
                </a:moveTo>
                <a:lnTo>
                  <a:pt x="1038" y="846"/>
                </a:lnTo>
                <a:lnTo>
                  <a:pt x="1038" y="853"/>
                </a:lnTo>
                <a:lnTo>
                  <a:pt x="1031" y="853"/>
                </a:lnTo>
                <a:lnTo>
                  <a:pt x="1031" y="846"/>
                </a:lnTo>
                <a:close/>
                <a:moveTo>
                  <a:pt x="1038" y="853"/>
                </a:moveTo>
                <a:lnTo>
                  <a:pt x="1038" y="859"/>
                </a:lnTo>
                <a:lnTo>
                  <a:pt x="1023" y="859"/>
                </a:lnTo>
                <a:lnTo>
                  <a:pt x="1023" y="853"/>
                </a:lnTo>
                <a:lnTo>
                  <a:pt x="1038" y="853"/>
                </a:lnTo>
                <a:close/>
                <a:moveTo>
                  <a:pt x="1031" y="867"/>
                </a:moveTo>
                <a:lnTo>
                  <a:pt x="1023" y="867"/>
                </a:lnTo>
                <a:lnTo>
                  <a:pt x="1023" y="859"/>
                </a:lnTo>
                <a:lnTo>
                  <a:pt x="1031" y="859"/>
                </a:lnTo>
                <a:lnTo>
                  <a:pt x="1031" y="867"/>
                </a:lnTo>
                <a:close/>
                <a:moveTo>
                  <a:pt x="1031" y="852"/>
                </a:moveTo>
                <a:lnTo>
                  <a:pt x="1038" y="852"/>
                </a:lnTo>
                <a:lnTo>
                  <a:pt x="1038" y="867"/>
                </a:lnTo>
                <a:lnTo>
                  <a:pt x="1031" y="867"/>
                </a:lnTo>
                <a:lnTo>
                  <a:pt x="1031" y="852"/>
                </a:lnTo>
                <a:close/>
                <a:moveTo>
                  <a:pt x="1038" y="852"/>
                </a:moveTo>
                <a:lnTo>
                  <a:pt x="1046" y="852"/>
                </a:lnTo>
                <a:lnTo>
                  <a:pt x="1046" y="859"/>
                </a:lnTo>
                <a:lnTo>
                  <a:pt x="1038" y="859"/>
                </a:lnTo>
                <a:lnTo>
                  <a:pt x="1038" y="852"/>
                </a:lnTo>
                <a:close/>
                <a:moveTo>
                  <a:pt x="1046" y="859"/>
                </a:moveTo>
                <a:lnTo>
                  <a:pt x="1046" y="877"/>
                </a:lnTo>
                <a:lnTo>
                  <a:pt x="1031" y="877"/>
                </a:lnTo>
                <a:lnTo>
                  <a:pt x="1031" y="859"/>
                </a:lnTo>
                <a:lnTo>
                  <a:pt x="1046" y="859"/>
                </a:lnTo>
                <a:close/>
                <a:moveTo>
                  <a:pt x="1038" y="884"/>
                </a:moveTo>
                <a:lnTo>
                  <a:pt x="1031" y="884"/>
                </a:lnTo>
                <a:lnTo>
                  <a:pt x="1031" y="877"/>
                </a:lnTo>
                <a:lnTo>
                  <a:pt x="1038" y="877"/>
                </a:lnTo>
                <a:lnTo>
                  <a:pt x="1038" y="884"/>
                </a:lnTo>
                <a:close/>
                <a:moveTo>
                  <a:pt x="1038" y="869"/>
                </a:moveTo>
                <a:lnTo>
                  <a:pt x="1052" y="869"/>
                </a:lnTo>
                <a:lnTo>
                  <a:pt x="1052" y="884"/>
                </a:lnTo>
                <a:lnTo>
                  <a:pt x="1038" y="884"/>
                </a:lnTo>
                <a:lnTo>
                  <a:pt x="1038" y="869"/>
                </a:lnTo>
                <a:close/>
                <a:moveTo>
                  <a:pt x="1052" y="869"/>
                </a:moveTo>
                <a:lnTo>
                  <a:pt x="1060" y="869"/>
                </a:lnTo>
                <a:lnTo>
                  <a:pt x="1060" y="877"/>
                </a:lnTo>
                <a:lnTo>
                  <a:pt x="1052" y="877"/>
                </a:lnTo>
                <a:lnTo>
                  <a:pt x="1052" y="869"/>
                </a:lnTo>
                <a:close/>
                <a:moveTo>
                  <a:pt x="1060" y="877"/>
                </a:moveTo>
                <a:lnTo>
                  <a:pt x="1060" y="882"/>
                </a:lnTo>
                <a:lnTo>
                  <a:pt x="1044" y="882"/>
                </a:lnTo>
                <a:lnTo>
                  <a:pt x="1044" y="877"/>
                </a:lnTo>
                <a:lnTo>
                  <a:pt x="1060" y="877"/>
                </a:lnTo>
                <a:close/>
                <a:moveTo>
                  <a:pt x="1052" y="888"/>
                </a:moveTo>
                <a:lnTo>
                  <a:pt x="1044" y="888"/>
                </a:lnTo>
                <a:lnTo>
                  <a:pt x="1044" y="882"/>
                </a:lnTo>
                <a:lnTo>
                  <a:pt x="1052" y="882"/>
                </a:lnTo>
                <a:lnTo>
                  <a:pt x="1052" y="888"/>
                </a:lnTo>
                <a:close/>
                <a:moveTo>
                  <a:pt x="1052" y="875"/>
                </a:moveTo>
                <a:lnTo>
                  <a:pt x="1071" y="875"/>
                </a:lnTo>
                <a:lnTo>
                  <a:pt x="1071" y="888"/>
                </a:lnTo>
                <a:lnTo>
                  <a:pt x="1052" y="888"/>
                </a:lnTo>
                <a:lnTo>
                  <a:pt x="1052" y="875"/>
                </a:lnTo>
                <a:close/>
                <a:moveTo>
                  <a:pt x="1071" y="875"/>
                </a:moveTo>
                <a:lnTo>
                  <a:pt x="1079" y="875"/>
                </a:lnTo>
                <a:lnTo>
                  <a:pt x="1079" y="882"/>
                </a:lnTo>
                <a:lnTo>
                  <a:pt x="1071" y="882"/>
                </a:lnTo>
                <a:lnTo>
                  <a:pt x="1071" y="875"/>
                </a:lnTo>
                <a:close/>
                <a:moveTo>
                  <a:pt x="1079" y="882"/>
                </a:moveTo>
                <a:lnTo>
                  <a:pt x="1079" y="886"/>
                </a:lnTo>
                <a:lnTo>
                  <a:pt x="1063" y="886"/>
                </a:lnTo>
                <a:lnTo>
                  <a:pt x="1063" y="882"/>
                </a:lnTo>
                <a:lnTo>
                  <a:pt x="1079" y="882"/>
                </a:lnTo>
                <a:close/>
                <a:moveTo>
                  <a:pt x="1079" y="886"/>
                </a:moveTo>
                <a:lnTo>
                  <a:pt x="1079" y="898"/>
                </a:lnTo>
                <a:lnTo>
                  <a:pt x="1063" y="898"/>
                </a:lnTo>
                <a:lnTo>
                  <a:pt x="1063" y="886"/>
                </a:lnTo>
                <a:lnTo>
                  <a:pt x="1079" y="886"/>
                </a:lnTo>
                <a:close/>
                <a:moveTo>
                  <a:pt x="1071" y="905"/>
                </a:moveTo>
                <a:lnTo>
                  <a:pt x="1063" y="905"/>
                </a:lnTo>
                <a:lnTo>
                  <a:pt x="1063" y="898"/>
                </a:lnTo>
                <a:lnTo>
                  <a:pt x="1071" y="898"/>
                </a:lnTo>
                <a:lnTo>
                  <a:pt x="1071" y="905"/>
                </a:lnTo>
                <a:close/>
                <a:moveTo>
                  <a:pt x="1071" y="892"/>
                </a:moveTo>
                <a:lnTo>
                  <a:pt x="1077" y="892"/>
                </a:lnTo>
                <a:lnTo>
                  <a:pt x="1077" y="905"/>
                </a:lnTo>
                <a:lnTo>
                  <a:pt x="1071" y="905"/>
                </a:lnTo>
                <a:lnTo>
                  <a:pt x="1071" y="892"/>
                </a:lnTo>
                <a:close/>
                <a:moveTo>
                  <a:pt x="1077" y="892"/>
                </a:moveTo>
                <a:lnTo>
                  <a:pt x="1084" y="892"/>
                </a:lnTo>
                <a:lnTo>
                  <a:pt x="1084" y="898"/>
                </a:lnTo>
                <a:lnTo>
                  <a:pt x="1077" y="898"/>
                </a:lnTo>
                <a:lnTo>
                  <a:pt x="1077" y="892"/>
                </a:lnTo>
                <a:close/>
                <a:moveTo>
                  <a:pt x="1084" y="898"/>
                </a:moveTo>
                <a:lnTo>
                  <a:pt x="1084" y="903"/>
                </a:lnTo>
                <a:lnTo>
                  <a:pt x="1069" y="903"/>
                </a:lnTo>
                <a:lnTo>
                  <a:pt x="1069" y="898"/>
                </a:lnTo>
                <a:lnTo>
                  <a:pt x="1084" y="898"/>
                </a:lnTo>
                <a:close/>
                <a:moveTo>
                  <a:pt x="1084" y="903"/>
                </a:moveTo>
                <a:lnTo>
                  <a:pt x="1084" y="926"/>
                </a:lnTo>
                <a:lnTo>
                  <a:pt x="1069" y="926"/>
                </a:lnTo>
                <a:lnTo>
                  <a:pt x="1069" y="903"/>
                </a:lnTo>
                <a:lnTo>
                  <a:pt x="1084" y="903"/>
                </a:lnTo>
                <a:close/>
                <a:moveTo>
                  <a:pt x="1077" y="934"/>
                </a:moveTo>
                <a:lnTo>
                  <a:pt x="1069" y="934"/>
                </a:lnTo>
                <a:lnTo>
                  <a:pt x="1069" y="926"/>
                </a:lnTo>
                <a:lnTo>
                  <a:pt x="1077" y="926"/>
                </a:lnTo>
                <a:lnTo>
                  <a:pt x="1077" y="934"/>
                </a:lnTo>
                <a:close/>
                <a:moveTo>
                  <a:pt x="1077" y="919"/>
                </a:moveTo>
                <a:lnTo>
                  <a:pt x="1090" y="919"/>
                </a:lnTo>
                <a:lnTo>
                  <a:pt x="1090" y="934"/>
                </a:lnTo>
                <a:lnTo>
                  <a:pt x="1077" y="934"/>
                </a:lnTo>
                <a:lnTo>
                  <a:pt x="1077" y="919"/>
                </a:lnTo>
                <a:close/>
                <a:moveTo>
                  <a:pt x="1090" y="919"/>
                </a:moveTo>
                <a:lnTo>
                  <a:pt x="1098" y="919"/>
                </a:lnTo>
                <a:lnTo>
                  <a:pt x="1098" y="926"/>
                </a:lnTo>
                <a:lnTo>
                  <a:pt x="1090" y="926"/>
                </a:lnTo>
                <a:lnTo>
                  <a:pt x="1090" y="919"/>
                </a:lnTo>
                <a:close/>
                <a:moveTo>
                  <a:pt x="1098" y="926"/>
                </a:moveTo>
                <a:lnTo>
                  <a:pt x="1098" y="932"/>
                </a:lnTo>
                <a:lnTo>
                  <a:pt x="1083" y="932"/>
                </a:lnTo>
                <a:lnTo>
                  <a:pt x="1083" y="926"/>
                </a:lnTo>
                <a:lnTo>
                  <a:pt x="1098" y="926"/>
                </a:lnTo>
                <a:close/>
                <a:moveTo>
                  <a:pt x="1090" y="938"/>
                </a:moveTo>
                <a:lnTo>
                  <a:pt x="1083" y="938"/>
                </a:lnTo>
                <a:lnTo>
                  <a:pt x="1083" y="932"/>
                </a:lnTo>
                <a:lnTo>
                  <a:pt x="1090" y="932"/>
                </a:lnTo>
                <a:lnTo>
                  <a:pt x="1090" y="938"/>
                </a:lnTo>
                <a:close/>
                <a:moveTo>
                  <a:pt x="1090" y="924"/>
                </a:moveTo>
                <a:lnTo>
                  <a:pt x="1098" y="924"/>
                </a:lnTo>
                <a:lnTo>
                  <a:pt x="1098" y="938"/>
                </a:lnTo>
                <a:lnTo>
                  <a:pt x="1090" y="938"/>
                </a:lnTo>
                <a:lnTo>
                  <a:pt x="1090" y="924"/>
                </a:lnTo>
                <a:close/>
                <a:moveTo>
                  <a:pt x="1098" y="924"/>
                </a:moveTo>
                <a:lnTo>
                  <a:pt x="1106" y="924"/>
                </a:lnTo>
                <a:lnTo>
                  <a:pt x="1106" y="932"/>
                </a:lnTo>
                <a:lnTo>
                  <a:pt x="1098" y="932"/>
                </a:lnTo>
                <a:lnTo>
                  <a:pt x="1098" y="924"/>
                </a:lnTo>
                <a:close/>
                <a:moveTo>
                  <a:pt x="1106" y="932"/>
                </a:moveTo>
                <a:lnTo>
                  <a:pt x="1106" y="948"/>
                </a:lnTo>
                <a:lnTo>
                  <a:pt x="1088" y="948"/>
                </a:lnTo>
                <a:lnTo>
                  <a:pt x="1088" y="932"/>
                </a:lnTo>
                <a:lnTo>
                  <a:pt x="1106" y="932"/>
                </a:lnTo>
                <a:close/>
                <a:moveTo>
                  <a:pt x="1098" y="955"/>
                </a:moveTo>
                <a:lnTo>
                  <a:pt x="1088" y="955"/>
                </a:lnTo>
                <a:lnTo>
                  <a:pt x="1088" y="948"/>
                </a:lnTo>
                <a:lnTo>
                  <a:pt x="1098" y="948"/>
                </a:lnTo>
                <a:lnTo>
                  <a:pt x="1098" y="955"/>
                </a:lnTo>
                <a:close/>
                <a:moveTo>
                  <a:pt x="1098" y="942"/>
                </a:moveTo>
                <a:lnTo>
                  <a:pt x="1104" y="942"/>
                </a:lnTo>
                <a:lnTo>
                  <a:pt x="1104" y="955"/>
                </a:lnTo>
                <a:lnTo>
                  <a:pt x="1098" y="955"/>
                </a:lnTo>
                <a:lnTo>
                  <a:pt x="1098" y="942"/>
                </a:lnTo>
                <a:close/>
                <a:moveTo>
                  <a:pt x="1104" y="942"/>
                </a:moveTo>
                <a:lnTo>
                  <a:pt x="1111" y="942"/>
                </a:lnTo>
                <a:lnTo>
                  <a:pt x="1111" y="948"/>
                </a:lnTo>
                <a:lnTo>
                  <a:pt x="1104" y="948"/>
                </a:lnTo>
                <a:lnTo>
                  <a:pt x="1104" y="942"/>
                </a:lnTo>
                <a:close/>
                <a:moveTo>
                  <a:pt x="1111" y="948"/>
                </a:moveTo>
                <a:lnTo>
                  <a:pt x="1111" y="953"/>
                </a:lnTo>
                <a:lnTo>
                  <a:pt x="1094" y="953"/>
                </a:lnTo>
                <a:lnTo>
                  <a:pt x="1094" y="948"/>
                </a:lnTo>
                <a:lnTo>
                  <a:pt x="1111" y="948"/>
                </a:lnTo>
                <a:close/>
                <a:moveTo>
                  <a:pt x="1104" y="961"/>
                </a:moveTo>
                <a:lnTo>
                  <a:pt x="1094" y="961"/>
                </a:lnTo>
                <a:lnTo>
                  <a:pt x="1094" y="953"/>
                </a:lnTo>
                <a:lnTo>
                  <a:pt x="1104" y="953"/>
                </a:lnTo>
                <a:lnTo>
                  <a:pt x="1104" y="961"/>
                </a:lnTo>
                <a:close/>
                <a:moveTo>
                  <a:pt x="1104" y="946"/>
                </a:moveTo>
                <a:lnTo>
                  <a:pt x="1109" y="946"/>
                </a:lnTo>
                <a:lnTo>
                  <a:pt x="1109" y="961"/>
                </a:lnTo>
                <a:lnTo>
                  <a:pt x="1104" y="961"/>
                </a:lnTo>
                <a:lnTo>
                  <a:pt x="1104" y="946"/>
                </a:lnTo>
                <a:close/>
                <a:moveTo>
                  <a:pt x="1109" y="946"/>
                </a:moveTo>
                <a:lnTo>
                  <a:pt x="1117" y="946"/>
                </a:lnTo>
                <a:lnTo>
                  <a:pt x="1117" y="953"/>
                </a:lnTo>
                <a:lnTo>
                  <a:pt x="1109" y="953"/>
                </a:lnTo>
                <a:lnTo>
                  <a:pt x="1109" y="946"/>
                </a:lnTo>
                <a:close/>
                <a:moveTo>
                  <a:pt x="1117" y="953"/>
                </a:moveTo>
                <a:lnTo>
                  <a:pt x="1117" y="965"/>
                </a:lnTo>
                <a:lnTo>
                  <a:pt x="1102" y="965"/>
                </a:lnTo>
                <a:lnTo>
                  <a:pt x="1102" y="953"/>
                </a:lnTo>
                <a:lnTo>
                  <a:pt x="1117" y="953"/>
                </a:lnTo>
                <a:close/>
                <a:moveTo>
                  <a:pt x="1109" y="972"/>
                </a:moveTo>
                <a:lnTo>
                  <a:pt x="1102" y="972"/>
                </a:lnTo>
                <a:lnTo>
                  <a:pt x="1102" y="965"/>
                </a:lnTo>
                <a:lnTo>
                  <a:pt x="1109" y="965"/>
                </a:lnTo>
                <a:lnTo>
                  <a:pt x="1109" y="972"/>
                </a:lnTo>
                <a:close/>
                <a:moveTo>
                  <a:pt x="1109" y="957"/>
                </a:moveTo>
                <a:lnTo>
                  <a:pt x="1131" y="957"/>
                </a:lnTo>
                <a:lnTo>
                  <a:pt x="1131" y="972"/>
                </a:lnTo>
                <a:lnTo>
                  <a:pt x="1109" y="972"/>
                </a:lnTo>
                <a:lnTo>
                  <a:pt x="1109" y="957"/>
                </a:lnTo>
                <a:close/>
                <a:moveTo>
                  <a:pt x="1131" y="957"/>
                </a:moveTo>
                <a:lnTo>
                  <a:pt x="1138" y="957"/>
                </a:lnTo>
                <a:lnTo>
                  <a:pt x="1138" y="965"/>
                </a:lnTo>
                <a:lnTo>
                  <a:pt x="1131" y="965"/>
                </a:lnTo>
                <a:lnTo>
                  <a:pt x="1131" y="957"/>
                </a:lnTo>
                <a:close/>
                <a:moveTo>
                  <a:pt x="1138" y="965"/>
                </a:moveTo>
                <a:lnTo>
                  <a:pt x="1138" y="971"/>
                </a:lnTo>
                <a:lnTo>
                  <a:pt x="1121" y="971"/>
                </a:lnTo>
                <a:lnTo>
                  <a:pt x="1121" y="965"/>
                </a:lnTo>
                <a:lnTo>
                  <a:pt x="1138" y="965"/>
                </a:lnTo>
                <a:close/>
                <a:moveTo>
                  <a:pt x="1131" y="978"/>
                </a:moveTo>
                <a:lnTo>
                  <a:pt x="1121" y="978"/>
                </a:lnTo>
                <a:lnTo>
                  <a:pt x="1121" y="971"/>
                </a:lnTo>
                <a:lnTo>
                  <a:pt x="1131" y="971"/>
                </a:lnTo>
                <a:lnTo>
                  <a:pt x="1131" y="978"/>
                </a:lnTo>
                <a:close/>
                <a:moveTo>
                  <a:pt x="1131" y="963"/>
                </a:moveTo>
                <a:lnTo>
                  <a:pt x="1136" y="963"/>
                </a:lnTo>
                <a:lnTo>
                  <a:pt x="1136" y="978"/>
                </a:lnTo>
                <a:lnTo>
                  <a:pt x="1131" y="978"/>
                </a:lnTo>
                <a:lnTo>
                  <a:pt x="1131" y="963"/>
                </a:lnTo>
                <a:close/>
                <a:moveTo>
                  <a:pt x="1136" y="963"/>
                </a:moveTo>
                <a:lnTo>
                  <a:pt x="1144" y="963"/>
                </a:lnTo>
                <a:lnTo>
                  <a:pt x="1144" y="971"/>
                </a:lnTo>
                <a:lnTo>
                  <a:pt x="1136" y="971"/>
                </a:lnTo>
                <a:lnTo>
                  <a:pt x="1136" y="963"/>
                </a:lnTo>
                <a:close/>
                <a:moveTo>
                  <a:pt x="1144" y="971"/>
                </a:moveTo>
                <a:lnTo>
                  <a:pt x="1144" y="982"/>
                </a:lnTo>
                <a:lnTo>
                  <a:pt x="1129" y="982"/>
                </a:lnTo>
                <a:lnTo>
                  <a:pt x="1129" y="971"/>
                </a:lnTo>
                <a:lnTo>
                  <a:pt x="1144" y="971"/>
                </a:lnTo>
                <a:close/>
                <a:moveTo>
                  <a:pt x="1136" y="990"/>
                </a:moveTo>
                <a:lnTo>
                  <a:pt x="1129" y="990"/>
                </a:lnTo>
                <a:lnTo>
                  <a:pt x="1129" y="982"/>
                </a:lnTo>
                <a:lnTo>
                  <a:pt x="1136" y="982"/>
                </a:lnTo>
                <a:lnTo>
                  <a:pt x="1136" y="990"/>
                </a:lnTo>
                <a:close/>
                <a:moveTo>
                  <a:pt x="1136" y="974"/>
                </a:moveTo>
                <a:lnTo>
                  <a:pt x="1150" y="974"/>
                </a:lnTo>
                <a:lnTo>
                  <a:pt x="1150" y="990"/>
                </a:lnTo>
                <a:lnTo>
                  <a:pt x="1136" y="990"/>
                </a:lnTo>
                <a:lnTo>
                  <a:pt x="1136" y="974"/>
                </a:lnTo>
                <a:close/>
                <a:moveTo>
                  <a:pt x="1150" y="974"/>
                </a:moveTo>
                <a:lnTo>
                  <a:pt x="1157" y="974"/>
                </a:lnTo>
                <a:lnTo>
                  <a:pt x="1157" y="982"/>
                </a:lnTo>
                <a:lnTo>
                  <a:pt x="1150" y="982"/>
                </a:lnTo>
                <a:lnTo>
                  <a:pt x="1150" y="974"/>
                </a:lnTo>
                <a:close/>
                <a:moveTo>
                  <a:pt x="1157" y="982"/>
                </a:moveTo>
                <a:lnTo>
                  <a:pt x="1157" y="988"/>
                </a:lnTo>
                <a:lnTo>
                  <a:pt x="1142" y="988"/>
                </a:lnTo>
                <a:lnTo>
                  <a:pt x="1142" y="982"/>
                </a:lnTo>
                <a:lnTo>
                  <a:pt x="1157" y="982"/>
                </a:lnTo>
                <a:close/>
                <a:moveTo>
                  <a:pt x="1150" y="995"/>
                </a:moveTo>
                <a:lnTo>
                  <a:pt x="1142" y="995"/>
                </a:lnTo>
                <a:lnTo>
                  <a:pt x="1142" y="988"/>
                </a:lnTo>
                <a:lnTo>
                  <a:pt x="1150" y="988"/>
                </a:lnTo>
                <a:lnTo>
                  <a:pt x="1150" y="995"/>
                </a:lnTo>
                <a:close/>
                <a:moveTo>
                  <a:pt x="1150" y="980"/>
                </a:moveTo>
                <a:lnTo>
                  <a:pt x="1163" y="980"/>
                </a:lnTo>
                <a:lnTo>
                  <a:pt x="1163" y="995"/>
                </a:lnTo>
                <a:lnTo>
                  <a:pt x="1150" y="995"/>
                </a:lnTo>
                <a:lnTo>
                  <a:pt x="1150" y="980"/>
                </a:lnTo>
                <a:close/>
                <a:moveTo>
                  <a:pt x="1163" y="980"/>
                </a:moveTo>
                <a:lnTo>
                  <a:pt x="1171" y="980"/>
                </a:lnTo>
                <a:lnTo>
                  <a:pt x="1171" y="988"/>
                </a:lnTo>
                <a:lnTo>
                  <a:pt x="1163" y="988"/>
                </a:lnTo>
                <a:lnTo>
                  <a:pt x="1163" y="980"/>
                </a:lnTo>
                <a:close/>
                <a:moveTo>
                  <a:pt x="1171" y="988"/>
                </a:moveTo>
                <a:lnTo>
                  <a:pt x="1171" y="994"/>
                </a:lnTo>
                <a:lnTo>
                  <a:pt x="1154" y="994"/>
                </a:lnTo>
                <a:lnTo>
                  <a:pt x="1154" y="988"/>
                </a:lnTo>
                <a:lnTo>
                  <a:pt x="1171" y="988"/>
                </a:lnTo>
                <a:close/>
                <a:moveTo>
                  <a:pt x="1163" y="1001"/>
                </a:moveTo>
                <a:lnTo>
                  <a:pt x="1154" y="1001"/>
                </a:lnTo>
                <a:lnTo>
                  <a:pt x="1154" y="994"/>
                </a:lnTo>
                <a:lnTo>
                  <a:pt x="1163" y="994"/>
                </a:lnTo>
                <a:lnTo>
                  <a:pt x="1163" y="1001"/>
                </a:lnTo>
                <a:close/>
                <a:moveTo>
                  <a:pt x="1163" y="986"/>
                </a:moveTo>
                <a:lnTo>
                  <a:pt x="1169" y="986"/>
                </a:lnTo>
                <a:lnTo>
                  <a:pt x="1169" y="1001"/>
                </a:lnTo>
                <a:lnTo>
                  <a:pt x="1163" y="1001"/>
                </a:lnTo>
                <a:lnTo>
                  <a:pt x="1163" y="986"/>
                </a:lnTo>
                <a:close/>
                <a:moveTo>
                  <a:pt x="1169" y="986"/>
                </a:moveTo>
                <a:lnTo>
                  <a:pt x="1177" y="986"/>
                </a:lnTo>
                <a:lnTo>
                  <a:pt x="1177" y="994"/>
                </a:lnTo>
                <a:lnTo>
                  <a:pt x="1169" y="994"/>
                </a:lnTo>
                <a:lnTo>
                  <a:pt x="1169" y="986"/>
                </a:lnTo>
                <a:close/>
                <a:moveTo>
                  <a:pt x="1177" y="994"/>
                </a:moveTo>
                <a:lnTo>
                  <a:pt x="1177" y="1005"/>
                </a:lnTo>
                <a:lnTo>
                  <a:pt x="1161" y="1005"/>
                </a:lnTo>
                <a:lnTo>
                  <a:pt x="1161" y="994"/>
                </a:lnTo>
                <a:lnTo>
                  <a:pt x="1177" y="994"/>
                </a:lnTo>
                <a:close/>
                <a:moveTo>
                  <a:pt x="1169" y="1013"/>
                </a:moveTo>
                <a:lnTo>
                  <a:pt x="1161" y="1013"/>
                </a:lnTo>
                <a:lnTo>
                  <a:pt x="1161" y="1005"/>
                </a:lnTo>
                <a:lnTo>
                  <a:pt x="1169" y="1005"/>
                </a:lnTo>
                <a:lnTo>
                  <a:pt x="1169" y="1013"/>
                </a:lnTo>
                <a:close/>
                <a:moveTo>
                  <a:pt x="1169" y="997"/>
                </a:moveTo>
                <a:lnTo>
                  <a:pt x="1177" y="997"/>
                </a:lnTo>
                <a:lnTo>
                  <a:pt x="1177" y="1013"/>
                </a:lnTo>
                <a:lnTo>
                  <a:pt x="1169" y="1013"/>
                </a:lnTo>
                <a:lnTo>
                  <a:pt x="1169" y="997"/>
                </a:lnTo>
                <a:close/>
                <a:moveTo>
                  <a:pt x="1177" y="997"/>
                </a:moveTo>
                <a:lnTo>
                  <a:pt x="1184" y="997"/>
                </a:lnTo>
                <a:lnTo>
                  <a:pt x="1184" y="1005"/>
                </a:lnTo>
                <a:lnTo>
                  <a:pt x="1177" y="1005"/>
                </a:lnTo>
                <a:lnTo>
                  <a:pt x="1177" y="997"/>
                </a:lnTo>
                <a:close/>
                <a:moveTo>
                  <a:pt x="1184" y="1005"/>
                </a:moveTo>
                <a:lnTo>
                  <a:pt x="1184" y="1011"/>
                </a:lnTo>
                <a:lnTo>
                  <a:pt x="1167" y="1011"/>
                </a:lnTo>
                <a:lnTo>
                  <a:pt x="1167" y="1005"/>
                </a:lnTo>
                <a:lnTo>
                  <a:pt x="1184" y="1005"/>
                </a:lnTo>
                <a:close/>
                <a:moveTo>
                  <a:pt x="1177" y="1017"/>
                </a:moveTo>
                <a:lnTo>
                  <a:pt x="1167" y="1017"/>
                </a:lnTo>
                <a:lnTo>
                  <a:pt x="1167" y="1011"/>
                </a:lnTo>
                <a:lnTo>
                  <a:pt x="1177" y="1011"/>
                </a:lnTo>
                <a:lnTo>
                  <a:pt x="1177" y="1017"/>
                </a:lnTo>
                <a:close/>
                <a:moveTo>
                  <a:pt x="1177" y="1003"/>
                </a:moveTo>
                <a:lnTo>
                  <a:pt x="1207" y="1003"/>
                </a:lnTo>
                <a:lnTo>
                  <a:pt x="1207" y="1017"/>
                </a:lnTo>
                <a:lnTo>
                  <a:pt x="1177" y="1017"/>
                </a:lnTo>
                <a:lnTo>
                  <a:pt x="1177" y="1003"/>
                </a:lnTo>
                <a:close/>
                <a:moveTo>
                  <a:pt x="1207" y="1003"/>
                </a:moveTo>
                <a:lnTo>
                  <a:pt x="1217" y="1003"/>
                </a:lnTo>
                <a:lnTo>
                  <a:pt x="1217" y="1011"/>
                </a:lnTo>
                <a:lnTo>
                  <a:pt x="1207" y="1011"/>
                </a:lnTo>
                <a:lnTo>
                  <a:pt x="1207" y="1003"/>
                </a:lnTo>
                <a:close/>
                <a:moveTo>
                  <a:pt x="1217" y="1011"/>
                </a:moveTo>
                <a:lnTo>
                  <a:pt x="1217" y="1020"/>
                </a:lnTo>
                <a:lnTo>
                  <a:pt x="1200" y="1020"/>
                </a:lnTo>
                <a:lnTo>
                  <a:pt x="1200" y="1011"/>
                </a:lnTo>
                <a:lnTo>
                  <a:pt x="1217" y="1011"/>
                </a:lnTo>
                <a:close/>
                <a:moveTo>
                  <a:pt x="1207" y="1028"/>
                </a:moveTo>
                <a:lnTo>
                  <a:pt x="1200" y="1028"/>
                </a:lnTo>
                <a:lnTo>
                  <a:pt x="1200" y="1020"/>
                </a:lnTo>
                <a:lnTo>
                  <a:pt x="1207" y="1020"/>
                </a:lnTo>
                <a:lnTo>
                  <a:pt x="1207" y="1028"/>
                </a:lnTo>
                <a:close/>
                <a:moveTo>
                  <a:pt x="1207" y="1013"/>
                </a:moveTo>
                <a:lnTo>
                  <a:pt x="1221" y="1013"/>
                </a:lnTo>
                <a:lnTo>
                  <a:pt x="1221" y="1028"/>
                </a:lnTo>
                <a:lnTo>
                  <a:pt x="1207" y="1028"/>
                </a:lnTo>
                <a:lnTo>
                  <a:pt x="1207" y="1013"/>
                </a:lnTo>
                <a:close/>
                <a:moveTo>
                  <a:pt x="1221" y="1013"/>
                </a:moveTo>
                <a:lnTo>
                  <a:pt x="1230" y="1013"/>
                </a:lnTo>
                <a:lnTo>
                  <a:pt x="1230" y="1020"/>
                </a:lnTo>
                <a:lnTo>
                  <a:pt x="1221" y="1020"/>
                </a:lnTo>
                <a:lnTo>
                  <a:pt x="1221" y="1013"/>
                </a:lnTo>
                <a:close/>
                <a:moveTo>
                  <a:pt x="1230" y="1020"/>
                </a:moveTo>
                <a:lnTo>
                  <a:pt x="1230" y="1026"/>
                </a:lnTo>
                <a:lnTo>
                  <a:pt x="1213" y="1026"/>
                </a:lnTo>
                <a:lnTo>
                  <a:pt x="1213" y="1020"/>
                </a:lnTo>
                <a:lnTo>
                  <a:pt x="1230" y="1020"/>
                </a:lnTo>
                <a:close/>
                <a:moveTo>
                  <a:pt x="1230" y="1026"/>
                </a:moveTo>
                <a:lnTo>
                  <a:pt x="1230" y="1038"/>
                </a:lnTo>
                <a:lnTo>
                  <a:pt x="1213" y="1038"/>
                </a:lnTo>
                <a:lnTo>
                  <a:pt x="1213" y="1026"/>
                </a:lnTo>
                <a:lnTo>
                  <a:pt x="1230" y="1026"/>
                </a:lnTo>
                <a:close/>
                <a:moveTo>
                  <a:pt x="1221" y="1045"/>
                </a:moveTo>
                <a:lnTo>
                  <a:pt x="1213" y="1045"/>
                </a:lnTo>
                <a:lnTo>
                  <a:pt x="1213" y="1038"/>
                </a:lnTo>
                <a:lnTo>
                  <a:pt x="1221" y="1038"/>
                </a:lnTo>
                <a:lnTo>
                  <a:pt x="1221" y="1045"/>
                </a:lnTo>
                <a:close/>
                <a:moveTo>
                  <a:pt x="1221" y="1030"/>
                </a:moveTo>
                <a:lnTo>
                  <a:pt x="1234" y="1030"/>
                </a:lnTo>
                <a:lnTo>
                  <a:pt x="1234" y="1045"/>
                </a:lnTo>
                <a:lnTo>
                  <a:pt x="1221" y="1045"/>
                </a:lnTo>
                <a:lnTo>
                  <a:pt x="1221" y="1030"/>
                </a:lnTo>
                <a:close/>
                <a:moveTo>
                  <a:pt x="1234" y="1030"/>
                </a:moveTo>
                <a:lnTo>
                  <a:pt x="1244" y="1030"/>
                </a:lnTo>
                <a:lnTo>
                  <a:pt x="1244" y="1038"/>
                </a:lnTo>
                <a:lnTo>
                  <a:pt x="1234" y="1038"/>
                </a:lnTo>
                <a:lnTo>
                  <a:pt x="1234" y="1030"/>
                </a:lnTo>
                <a:close/>
                <a:moveTo>
                  <a:pt x="1244" y="1038"/>
                </a:moveTo>
                <a:lnTo>
                  <a:pt x="1244" y="1043"/>
                </a:lnTo>
                <a:lnTo>
                  <a:pt x="1226" y="1043"/>
                </a:lnTo>
                <a:lnTo>
                  <a:pt x="1226" y="1038"/>
                </a:lnTo>
                <a:lnTo>
                  <a:pt x="1244" y="1038"/>
                </a:lnTo>
                <a:close/>
                <a:moveTo>
                  <a:pt x="1234" y="1051"/>
                </a:moveTo>
                <a:lnTo>
                  <a:pt x="1226" y="1051"/>
                </a:lnTo>
                <a:lnTo>
                  <a:pt x="1226" y="1043"/>
                </a:lnTo>
                <a:lnTo>
                  <a:pt x="1234" y="1043"/>
                </a:lnTo>
                <a:lnTo>
                  <a:pt x="1234" y="1051"/>
                </a:lnTo>
                <a:close/>
                <a:moveTo>
                  <a:pt x="1234" y="1036"/>
                </a:moveTo>
                <a:lnTo>
                  <a:pt x="1253" y="1036"/>
                </a:lnTo>
                <a:lnTo>
                  <a:pt x="1253" y="1051"/>
                </a:lnTo>
                <a:lnTo>
                  <a:pt x="1234" y="1051"/>
                </a:lnTo>
                <a:lnTo>
                  <a:pt x="1234" y="1036"/>
                </a:lnTo>
                <a:close/>
                <a:moveTo>
                  <a:pt x="1253" y="1036"/>
                </a:moveTo>
                <a:lnTo>
                  <a:pt x="1263" y="1036"/>
                </a:lnTo>
                <a:lnTo>
                  <a:pt x="1263" y="1043"/>
                </a:lnTo>
                <a:lnTo>
                  <a:pt x="1253" y="1043"/>
                </a:lnTo>
                <a:lnTo>
                  <a:pt x="1253" y="1036"/>
                </a:lnTo>
                <a:close/>
                <a:moveTo>
                  <a:pt x="1263" y="1043"/>
                </a:moveTo>
                <a:lnTo>
                  <a:pt x="1263" y="1055"/>
                </a:lnTo>
                <a:lnTo>
                  <a:pt x="1246" y="1055"/>
                </a:lnTo>
                <a:lnTo>
                  <a:pt x="1246" y="1043"/>
                </a:lnTo>
                <a:lnTo>
                  <a:pt x="1263" y="1043"/>
                </a:lnTo>
                <a:close/>
                <a:moveTo>
                  <a:pt x="1253" y="1063"/>
                </a:moveTo>
                <a:lnTo>
                  <a:pt x="1246" y="1063"/>
                </a:lnTo>
                <a:lnTo>
                  <a:pt x="1246" y="1055"/>
                </a:lnTo>
                <a:lnTo>
                  <a:pt x="1253" y="1055"/>
                </a:lnTo>
                <a:lnTo>
                  <a:pt x="1253" y="1063"/>
                </a:lnTo>
                <a:close/>
                <a:moveTo>
                  <a:pt x="1253" y="1047"/>
                </a:moveTo>
                <a:lnTo>
                  <a:pt x="1280" y="1047"/>
                </a:lnTo>
                <a:lnTo>
                  <a:pt x="1280" y="1063"/>
                </a:lnTo>
                <a:lnTo>
                  <a:pt x="1253" y="1063"/>
                </a:lnTo>
                <a:lnTo>
                  <a:pt x="1253" y="1047"/>
                </a:lnTo>
                <a:close/>
                <a:moveTo>
                  <a:pt x="1280" y="1047"/>
                </a:moveTo>
                <a:lnTo>
                  <a:pt x="1290" y="1047"/>
                </a:lnTo>
                <a:lnTo>
                  <a:pt x="1290" y="1055"/>
                </a:lnTo>
                <a:lnTo>
                  <a:pt x="1280" y="1055"/>
                </a:lnTo>
                <a:lnTo>
                  <a:pt x="1280" y="1047"/>
                </a:lnTo>
                <a:close/>
                <a:moveTo>
                  <a:pt x="1290" y="1055"/>
                </a:moveTo>
                <a:lnTo>
                  <a:pt x="1290" y="1065"/>
                </a:lnTo>
                <a:lnTo>
                  <a:pt x="1273" y="1065"/>
                </a:lnTo>
                <a:lnTo>
                  <a:pt x="1273" y="1055"/>
                </a:lnTo>
                <a:lnTo>
                  <a:pt x="1290" y="1055"/>
                </a:lnTo>
                <a:close/>
                <a:moveTo>
                  <a:pt x="1280" y="1072"/>
                </a:moveTo>
                <a:lnTo>
                  <a:pt x="1273" y="1072"/>
                </a:lnTo>
                <a:lnTo>
                  <a:pt x="1273" y="1065"/>
                </a:lnTo>
                <a:lnTo>
                  <a:pt x="1280" y="1065"/>
                </a:lnTo>
                <a:lnTo>
                  <a:pt x="1280" y="1072"/>
                </a:lnTo>
                <a:close/>
                <a:moveTo>
                  <a:pt x="1280" y="1057"/>
                </a:moveTo>
                <a:lnTo>
                  <a:pt x="1288" y="1057"/>
                </a:lnTo>
                <a:lnTo>
                  <a:pt x="1288" y="1072"/>
                </a:lnTo>
                <a:lnTo>
                  <a:pt x="1280" y="1072"/>
                </a:lnTo>
                <a:lnTo>
                  <a:pt x="1280" y="1057"/>
                </a:lnTo>
                <a:close/>
                <a:moveTo>
                  <a:pt x="1288" y="1057"/>
                </a:moveTo>
                <a:lnTo>
                  <a:pt x="1296" y="1057"/>
                </a:lnTo>
                <a:lnTo>
                  <a:pt x="1296" y="1065"/>
                </a:lnTo>
                <a:lnTo>
                  <a:pt x="1288" y="1065"/>
                </a:lnTo>
                <a:lnTo>
                  <a:pt x="1288" y="1057"/>
                </a:lnTo>
                <a:close/>
                <a:moveTo>
                  <a:pt x="1296" y="1065"/>
                </a:moveTo>
                <a:lnTo>
                  <a:pt x="1296" y="1082"/>
                </a:lnTo>
                <a:lnTo>
                  <a:pt x="1280" y="1082"/>
                </a:lnTo>
                <a:lnTo>
                  <a:pt x="1280" y="1065"/>
                </a:lnTo>
                <a:lnTo>
                  <a:pt x="1296" y="1065"/>
                </a:lnTo>
                <a:close/>
                <a:moveTo>
                  <a:pt x="1288" y="1090"/>
                </a:moveTo>
                <a:lnTo>
                  <a:pt x="1280" y="1090"/>
                </a:lnTo>
                <a:lnTo>
                  <a:pt x="1280" y="1082"/>
                </a:lnTo>
                <a:lnTo>
                  <a:pt x="1288" y="1082"/>
                </a:lnTo>
                <a:lnTo>
                  <a:pt x="1288" y="1090"/>
                </a:lnTo>
                <a:close/>
                <a:moveTo>
                  <a:pt x="1288" y="1074"/>
                </a:moveTo>
                <a:lnTo>
                  <a:pt x="1294" y="1074"/>
                </a:lnTo>
                <a:lnTo>
                  <a:pt x="1294" y="1090"/>
                </a:lnTo>
                <a:lnTo>
                  <a:pt x="1288" y="1090"/>
                </a:lnTo>
                <a:lnTo>
                  <a:pt x="1288" y="1074"/>
                </a:lnTo>
                <a:close/>
                <a:moveTo>
                  <a:pt x="1294" y="1074"/>
                </a:moveTo>
                <a:lnTo>
                  <a:pt x="1303" y="1074"/>
                </a:lnTo>
                <a:lnTo>
                  <a:pt x="1303" y="1082"/>
                </a:lnTo>
                <a:lnTo>
                  <a:pt x="1294" y="1082"/>
                </a:lnTo>
                <a:lnTo>
                  <a:pt x="1294" y="1074"/>
                </a:lnTo>
                <a:close/>
                <a:moveTo>
                  <a:pt x="1303" y="1082"/>
                </a:moveTo>
                <a:lnTo>
                  <a:pt x="1303" y="1088"/>
                </a:lnTo>
                <a:lnTo>
                  <a:pt x="1286" y="1088"/>
                </a:lnTo>
                <a:lnTo>
                  <a:pt x="1286" y="1082"/>
                </a:lnTo>
                <a:lnTo>
                  <a:pt x="1303" y="1082"/>
                </a:lnTo>
                <a:close/>
                <a:moveTo>
                  <a:pt x="1294" y="1095"/>
                </a:moveTo>
                <a:lnTo>
                  <a:pt x="1286" y="1095"/>
                </a:lnTo>
                <a:lnTo>
                  <a:pt x="1286" y="1088"/>
                </a:lnTo>
                <a:lnTo>
                  <a:pt x="1294" y="1088"/>
                </a:lnTo>
                <a:lnTo>
                  <a:pt x="1294" y="1095"/>
                </a:lnTo>
                <a:close/>
                <a:moveTo>
                  <a:pt x="1294" y="1080"/>
                </a:moveTo>
                <a:lnTo>
                  <a:pt x="1299" y="1080"/>
                </a:lnTo>
                <a:lnTo>
                  <a:pt x="1299" y="1095"/>
                </a:lnTo>
                <a:lnTo>
                  <a:pt x="1294" y="1095"/>
                </a:lnTo>
                <a:lnTo>
                  <a:pt x="1294" y="1080"/>
                </a:lnTo>
                <a:close/>
                <a:moveTo>
                  <a:pt x="1299" y="1080"/>
                </a:moveTo>
                <a:lnTo>
                  <a:pt x="1309" y="1080"/>
                </a:lnTo>
                <a:lnTo>
                  <a:pt x="1309" y="1088"/>
                </a:lnTo>
                <a:lnTo>
                  <a:pt x="1299" y="1088"/>
                </a:lnTo>
                <a:lnTo>
                  <a:pt x="1299" y="1080"/>
                </a:lnTo>
                <a:close/>
                <a:moveTo>
                  <a:pt x="1309" y="1088"/>
                </a:moveTo>
                <a:lnTo>
                  <a:pt x="1309" y="1111"/>
                </a:lnTo>
                <a:lnTo>
                  <a:pt x="1292" y="1111"/>
                </a:lnTo>
                <a:lnTo>
                  <a:pt x="1292" y="1088"/>
                </a:lnTo>
                <a:lnTo>
                  <a:pt x="1309" y="1088"/>
                </a:lnTo>
                <a:close/>
                <a:moveTo>
                  <a:pt x="1299" y="1116"/>
                </a:moveTo>
                <a:lnTo>
                  <a:pt x="1292" y="1116"/>
                </a:lnTo>
                <a:lnTo>
                  <a:pt x="1292" y="1111"/>
                </a:lnTo>
                <a:lnTo>
                  <a:pt x="1299" y="1111"/>
                </a:lnTo>
                <a:lnTo>
                  <a:pt x="1299" y="1116"/>
                </a:lnTo>
                <a:close/>
                <a:moveTo>
                  <a:pt x="1299" y="1103"/>
                </a:moveTo>
                <a:lnTo>
                  <a:pt x="1313" y="1103"/>
                </a:lnTo>
                <a:lnTo>
                  <a:pt x="1313" y="1116"/>
                </a:lnTo>
                <a:lnTo>
                  <a:pt x="1299" y="1116"/>
                </a:lnTo>
                <a:lnTo>
                  <a:pt x="1299" y="1103"/>
                </a:lnTo>
                <a:close/>
                <a:moveTo>
                  <a:pt x="1313" y="1103"/>
                </a:moveTo>
                <a:lnTo>
                  <a:pt x="1321" y="1103"/>
                </a:lnTo>
                <a:lnTo>
                  <a:pt x="1321" y="1111"/>
                </a:lnTo>
                <a:lnTo>
                  <a:pt x="1313" y="1111"/>
                </a:lnTo>
                <a:lnTo>
                  <a:pt x="1313" y="1103"/>
                </a:lnTo>
                <a:close/>
                <a:moveTo>
                  <a:pt x="1321" y="1111"/>
                </a:moveTo>
                <a:lnTo>
                  <a:pt x="1321" y="1116"/>
                </a:lnTo>
                <a:lnTo>
                  <a:pt x="1305" y="1116"/>
                </a:lnTo>
                <a:lnTo>
                  <a:pt x="1305" y="1111"/>
                </a:lnTo>
                <a:lnTo>
                  <a:pt x="1321" y="1111"/>
                </a:lnTo>
                <a:close/>
                <a:moveTo>
                  <a:pt x="1313" y="1124"/>
                </a:moveTo>
                <a:lnTo>
                  <a:pt x="1305" y="1124"/>
                </a:lnTo>
                <a:lnTo>
                  <a:pt x="1305" y="1116"/>
                </a:lnTo>
                <a:lnTo>
                  <a:pt x="1313" y="1116"/>
                </a:lnTo>
                <a:lnTo>
                  <a:pt x="1313" y="1124"/>
                </a:lnTo>
                <a:close/>
                <a:moveTo>
                  <a:pt x="1313" y="1109"/>
                </a:moveTo>
                <a:lnTo>
                  <a:pt x="1321" y="1109"/>
                </a:lnTo>
                <a:lnTo>
                  <a:pt x="1321" y="1124"/>
                </a:lnTo>
                <a:lnTo>
                  <a:pt x="1313" y="1124"/>
                </a:lnTo>
                <a:lnTo>
                  <a:pt x="1313" y="1109"/>
                </a:lnTo>
                <a:close/>
                <a:moveTo>
                  <a:pt x="1321" y="1109"/>
                </a:moveTo>
                <a:lnTo>
                  <a:pt x="1328" y="1109"/>
                </a:lnTo>
                <a:lnTo>
                  <a:pt x="1328" y="1116"/>
                </a:lnTo>
                <a:lnTo>
                  <a:pt x="1321" y="1116"/>
                </a:lnTo>
                <a:lnTo>
                  <a:pt x="1321" y="1109"/>
                </a:lnTo>
                <a:close/>
                <a:moveTo>
                  <a:pt x="1328" y="1116"/>
                </a:moveTo>
                <a:lnTo>
                  <a:pt x="1328" y="1137"/>
                </a:lnTo>
                <a:lnTo>
                  <a:pt x="1313" y="1137"/>
                </a:lnTo>
                <a:lnTo>
                  <a:pt x="1313" y="1116"/>
                </a:lnTo>
                <a:lnTo>
                  <a:pt x="1328" y="1116"/>
                </a:lnTo>
                <a:close/>
                <a:moveTo>
                  <a:pt x="1321" y="1145"/>
                </a:moveTo>
                <a:lnTo>
                  <a:pt x="1313" y="1145"/>
                </a:lnTo>
                <a:lnTo>
                  <a:pt x="1313" y="1137"/>
                </a:lnTo>
                <a:lnTo>
                  <a:pt x="1321" y="1137"/>
                </a:lnTo>
                <a:lnTo>
                  <a:pt x="1321" y="1145"/>
                </a:lnTo>
                <a:close/>
                <a:moveTo>
                  <a:pt x="1321" y="1132"/>
                </a:moveTo>
                <a:lnTo>
                  <a:pt x="1326" y="1132"/>
                </a:lnTo>
                <a:lnTo>
                  <a:pt x="1326" y="1145"/>
                </a:lnTo>
                <a:lnTo>
                  <a:pt x="1321" y="1145"/>
                </a:lnTo>
                <a:lnTo>
                  <a:pt x="1321" y="1132"/>
                </a:lnTo>
                <a:close/>
                <a:moveTo>
                  <a:pt x="1326" y="1132"/>
                </a:moveTo>
                <a:lnTo>
                  <a:pt x="1334" y="1132"/>
                </a:lnTo>
                <a:lnTo>
                  <a:pt x="1334" y="1137"/>
                </a:lnTo>
                <a:lnTo>
                  <a:pt x="1326" y="1137"/>
                </a:lnTo>
                <a:lnTo>
                  <a:pt x="1326" y="1132"/>
                </a:lnTo>
                <a:close/>
                <a:moveTo>
                  <a:pt x="1334" y="1137"/>
                </a:moveTo>
                <a:lnTo>
                  <a:pt x="1334" y="1143"/>
                </a:lnTo>
                <a:lnTo>
                  <a:pt x="1319" y="1143"/>
                </a:lnTo>
                <a:lnTo>
                  <a:pt x="1319" y="1137"/>
                </a:lnTo>
                <a:lnTo>
                  <a:pt x="1334" y="1137"/>
                </a:lnTo>
                <a:close/>
                <a:moveTo>
                  <a:pt x="1326" y="1151"/>
                </a:moveTo>
                <a:lnTo>
                  <a:pt x="1319" y="1151"/>
                </a:lnTo>
                <a:lnTo>
                  <a:pt x="1319" y="1143"/>
                </a:lnTo>
                <a:lnTo>
                  <a:pt x="1326" y="1143"/>
                </a:lnTo>
                <a:lnTo>
                  <a:pt x="1326" y="1151"/>
                </a:lnTo>
                <a:close/>
                <a:moveTo>
                  <a:pt x="1326" y="1136"/>
                </a:moveTo>
                <a:lnTo>
                  <a:pt x="1334" y="1136"/>
                </a:lnTo>
                <a:lnTo>
                  <a:pt x="1334" y="1151"/>
                </a:lnTo>
                <a:lnTo>
                  <a:pt x="1326" y="1151"/>
                </a:lnTo>
                <a:lnTo>
                  <a:pt x="1326" y="1136"/>
                </a:lnTo>
                <a:close/>
                <a:moveTo>
                  <a:pt x="1334" y="1136"/>
                </a:moveTo>
                <a:lnTo>
                  <a:pt x="1342" y="1136"/>
                </a:lnTo>
                <a:lnTo>
                  <a:pt x="1342" y="1143"/>
                </a:lnTo>
                <a:lnTo>
                  <a:pt x="1334" y="1143"/>
                </a:lnTo>
                <a:lnTo>
                  <a:pt x="1334" y="1136"/>
                </a:lnTo>
                <a:close/>
                <a:moveTo>
                  <a:pt x="1342" y="1143"/>
                </a:moveTo>
                <a:lnTo>
                  <a:pt x="1342" y="1155"/>
                </a:lnTo>
                <a:lnTo>
                  <a:pt x="1326" y="1155"/>
                </a:lnTo>
                <a:lnTo>
                  <a:pt x="1326" y="1143"/>
                </a:lnTo>
                <a:lnTo>
                  <a:pt x="1342" y="1143"/>
                </a:lnTo>
                <a:close/>
                <a:moveTo>
                  <a:pt x="1334" y="1162"/>
                </a:moveTo>
                <a:lnTo>
                  <a:pt x="1326" y="1162"/>
                </a:lnTo>
                <a:lnTo>
                  <a:pt x="1326" y="1155"/>
                </a:lnTo>
                <a:lnTo>
                  <a:pt x="1334" y="1155"/>
                </a:lnTo>
                <a:lnTo>
                  <a:pt x="1334" y="1162"/>
                </a:lnTo>
                <a:close/>
                <a:moveTo>
                  <a:pt x="1334" y="1147"/>
                </a:moveTo>
                <a:lnTo>
                  <a:pt x="1367" y="1147"/>
                </a:lnTo>
                <a:lnTo>
                  <a:pt x="1367" y="1162"/>
                </a:lnTo>
                <a:lnTo>
                  <a:pt x="1334" y="1162"/>
                </a:lnTo>
                <a:lnTo>
                  <a:pt x="1334" y="1147"/>
                </a:lnTo>
                <a:close/>
                <a:moveTo>
                  <a:pt x="1367" y="1147"/>
                </a:moveTo>
                <a:lnTo>
                  <a:pt x="1374" y="1147"/>
                </a:lnTo>
                <a:lnTo>
                  <a:pt x="1374" y="1155"/>
                </a:lnTo>
                <a:lnTo>
                  <a:pt x="1367" y="1155"/>
                </a:lnTo>
                <a:lnTo>
                  <a:pt x="1367" y="1147"/>
                </a:lnTo>
                <a:close/>
                <a:moveTo>
                  <a:pt x="1374" y="1155"/>
                </a:moveTo>
                <a:lnTo>
                  <a:pt x="1374" y="1166"/>
                </a:lnTo>
                <a:lnTo>
                  <a:pt x="1359" y="1166"/>
                </a:lnTo>
                <a:lnTo>
                  <a:pt x="1359" y="1155"/>
                </a:lnTo>
                <a:lnTo>
                  <a:pt x="1374" y="1155"/>
                </a:lnTo>
                <a:close/>
                <a:moveTo>
                  <a:pt x="1367" y="1174"/>
                </a:moveTo>
                <a:lnTo>
                  <a:pt x="1359" y="1174"/>
                </a:lnTo>
                <a:lnTo>
                  <a:pt x="1359" y="1166"/>
                </a:lnTo>
                <a:lnTo>
                  <a:pt x="1367" y="1166"/>
                </a:lnTo>
                <a:lnTo>
                  <a:pt x="1367" y="1174"/>
                </a:lnTo>
                <a:close/>
                <a:moveTo>
                  <a:pt x="1367" y="1159"/>
                </a:moveTo>
                <a:lnTo>
                  <a:pt x="1399" y="1159"/>
                </a:lnTo>
                <a:lnTo>
                  <a:pt x="1399" y="1174"/>
                </a:lnTo>
                <a:lnTo>
                  <a:pt x="1367" y="1174"/>
                </a:lnTo>
                <a:lnTo>
                  <a:pt x="1367" y="1159"/>
                </a:lnTo>
                <a:close/>
                <a:moveTo>
                  <a:pt x="1399" y="1159"/>
                </a:moveTo>
                <a:lnTo>
                  <a:pt x="1407" y="1159"/>
                </a:lnTo>
                <a:lnTo>
                  <a:pt x="1407" y="1166"/>
                </a:lnTo>
                <a:lnTo>
                  <a:pt x="1399" y="1166"/>
                </a:lnTo>
                <a:lnTo>
                  <a:pt x="1399" y="1159"/>
                </a:lnTo>
                <a:close/>
                <a:moveTo>
                  <a:pt x="1407" y="1166"/>
                </a:moveTo>
                <a:lnTo>
                  <a:pt x="1407" y="1176"/>
                </a:lnTo>
                <a:lnTo>
                  <a:pt x="1392" y="1176"/>
                </a:lnTo>
                <a:lnTo>
                  <a:pt x="1392" y="1166"/>
                </a:lnTo>
                <a:lnTo>
                  <a:pt x="1407" y="1166"/>
                </a:lnTo>
                <a:close/>
                <a:moveTo>
                  <a:pt x="1399" y="1184"/>
                </a:moveTo>
                <a:lnTo>
                  <a:pt x="1392" y="1184"/>
                </a:lnTo>
                <a:lnTo>
                  <a:pt x="1392" y="1176"/>
                </a:lnTo>
                <a:lnTo>
                  <a:pt x="1399" y="1176"/>
                </a:lnTo>
                <a:lnTo>
                  <a:pt x="1399" y="1184"/>
                </a:lnTo>
                <a:close/>
                <a:moveTo>
                  <a:pt x="1399" y="1170"/>
                </a:moveTo>
                <a:lnTo>
                  <a:pt x="1405" y="1170"/>
                </a:lnTo>
                <a:lnTo>
                  <a:pt x="1405" y="1184"/>
                </a:lnTo>
                <a:lnTo>
                  <a:pt x="1399" y="1184"/>
                </a:lnTo>
                <a:lnTo>
                  <a:pt x="1399" y="1170"/>
                </a:lnTo>
                <a:close/>
                <a:moveTo>
                  <a:pt x="1405" y="1170"/>
                </a:moveTo>
                <a:lnTo>
                  <a:pt x="1413" y="1170"/>
                </a:lnTo>
                <a:lnTo>
                  <a:pt x="1413" y="1176"/>
                </a:lnTo>
                <a:lnTo>
                  <a:pt x="1405" y="1176"/>
                </a:lnTo>
                <a:lnTo>
                  <a:pt x="1405" y="1170"/>
                </a:lnTo>
                <a:close/>
                <a:moveTo>
                  <a:pt x="1413" y="1176"/>
                </a:moveTo>
                <a:lnTo>
                  <a:pt x="1413" y="1189"/>
                </a:lnTo>
                <a:lnTo>
                  <a:pt x="1397" y="1189"/>
                </a:lnTo>
                <a:lnTo>
                  <a:pt x="1397" y="1176"/>
                </a:lnTo>
                <a:lnTo>
                  <a:pt x="1413" y="1176"/>
                </a:lnTo>
                <a:close/>
                <a:moveTo>
                  <a:pt x="1405" y="1195"/>
                </a:moveTo>
                <a:lnTo>
                  <a:pt x="1397" y="1195"/>
                </a:lnTo>
                <a:lnTo>
                  <a:pt x="1397" y="1189"/>
                </a:lnTo>
                <a:lnTo>
                  <a:pt x="1405" y="1189"/>
                </a:lnTo>
                <a:lnTo>
                  <a:pt x="1405" y="1195"/>
                </a:lnTo>
                <a:close/>
                <a:moveTo>
                  <a:pt x="1405" y="1182"/>
                </a:moveTo>
                <a:lnTo>
                  <a:pt x="1413" y="1182"/>
                </a:lnTo>
                <a:lnTo>
                  <a:pt x="1413" y="1195"/>
                </a:lnTo>
                <a:lnTo>
                  <a:pt x="1405" y="1195"/>
                </a:lnTo>
                <a:lnTo>
                  <a:pt x="1405" y="1182"/>
                </a:lnTo>
                <a:close/>
                <a:moveTo>
                  <a:pt x="1413" y="1182"/>
                </a:moveTo>
                <a:lnTo>
                  <a:pt x="1420" y="1182"/>
                </a:lnTo>
                <a:lnTo>
                  <a:pt x="1420" y="1189"/>
                </a:lnTo>
                <a:lnTo>
                  <a:pt x="1413" y="1189"/>
                </a:lnTo>
                <a:lnTo>
                  <a:pt x="1413" y="1182"/>
                </a:lnTo>
                <a:close/>
                <a:moveTo>
                  <a:pt x="1420" y="1189"/>
                </a:moveTo>
                <a:lnTo>
                  <a:pt x="1420" y="1193"/>
                </a:lnTo>
                <a:lnTo>
                  <a:pt x="1405" y="1193"/>
                </a:lnTo>
                <a:lnTo>
                  <a:pt x="1405" y="1189"/>
                </a:lnTo>
                <a:lnTo>
                  <a:pt x="1420" y="1189"/>
                </a:lnTo>
                <a:close/>
                <a:moveTo>
                  <a:pt x="1413" y="1201"/>
                </a:moveTo>
                <a:lnTo>
                  <a:pt x="1405" y="1201"/>
                </a:lnTo>
                <a:lnTo>
                  <a:pt x="1405" y="1193"/>
                </a:lnTo>
                <a:lnTo>
                  <a:pt x="1413" y="1193"/>
                </a:lnTo>
                <a:lnTo>
                  <a:pt x="1413" y="1201"/>
                </a:lnTo>
                <a:close/>
                <a:moveTo>
                  <a:pt x="1413" y="1185"/>
                </a:moveTo>
                <a:lnTo>
                  <a:pt x="1440" y="1185"/>
                </a:lnTo>
                <a:lnTo>
                  <a:pt x="1440" y="1201"/>
                </a:lnTo>
                <a:lnTo>
                  <a:pt x="1413" y="1201"/>
                </a:lnTo>
                <a:lnTo>
                  <a:pt x="1413" y="1185"/>
                </a:lnTo>
                <a:close/>
                <a:moveTo>
                  <a:pt x="1440" y="1185"/>
                </a:moveTo>
                <a:lnTo>
                  <a:pt x="1447" y="1185"/>
                </a:lnTo>
                <a:lnTo>
                  <a:pt x="1447" y="1193"/>
                </a:lnTo>
                <a:lnTo>
                  <a:pt x="1440" y="1193"/>
                </a:lnTo>
                <a:lnTo>
                  <a:pt x="1440" y="1185"/>
                </a:lnTo>
                <a:close/>
                <a:moveTo>
                  <a:pt x="1447" y="1193"/>
                </a:moveTo>
                <a:lnTo>
                  <a:pt x="1447" y="1205"/>
                </a:lnTo>
                <a:lnTo>
                  <a:pt x="1430" y="1205"/>
                </a:lnTo>
                <a:lnTo>
                  <a:pt x="1430" y="1193"/>
                </a:lnTo>
                <a:lnTo>
                  <a:pt x="1447" y="1193"/>
                </a:lnTo>
                <a:close/>
                <a:moveTo>
                  <a:pt x="1440" y="1212"/>
                </a:moveTo>
                <a:lnTo>
                  <a:pt x="1430" y="1212"/>
                </a:lnTo>
                <a:lnTo>
                  <a:pt x="1430" y="1205"/>
                </a:lnTo>
                <a:lnTo>
                  <a:pt x="1440" y="1205"/>
                </a:lnTo>
                <a:lnTo>
                  <a:pt x="1440" y="1212"/>
                </a:lnTo>
                <a:close/>
                <a:moveTo>
                  <a:pt x="1440" y="1197"/>
                </a:moveTo>
                <a:lnTo>
                  <a:pt x="1478" y="1197"/>
                </a:lnTo>
                <a:lnTo>
                  <a:pt x="1478" y="1212"/>
                </a:lnTo>
                <a:lnTo>
                  <a:pt x="1440" y="1212"/>
                </a:lnTo>
                <a:lnTo>
                  <a:pt x="1440" y="1197"/>
                </a:lnTo>
                <a:close/>
                <a:moveTo>
                  <a:pt x="1478" y="1197"/>
                </a:moveTo>
                <a:lnTo>
                  <a:pt x="1486" y="1197"/>
                </a:lnTo>
                <a:lnTo>
                  <a:pt x="1486" y="1205"/>
                </a:lnTo>
                <a:lnTo>
                  <a:pt x="1478" y="1205"/>
                </a:lnTo>
                <a:lnTo>
                  <a:pt x="1478" y="1197"/>
                </a:lnTo>
                <a:close/>
                <a:moveTo>
                  <a:pt x="1486" y="1205"/>
                </a:moveTo>
                <a:lnTo>
                  <a:pt x="1486" y="1216"/>
                </a:lnTo>
                <a:lnTo>
                  <a:pt x="1470" y="1216"/>
                </a:lnTo>
                <a:lnTo>
                  <a:pt x="1470" y="1205"/>
                </a:lnTo>
                <a:lnTo>
                  <a:pt x="1486" y="1205"/>
                </a:lnTo>
                <a:close/>
                <a:moveTo>
                  <a:pt x="1478" y="1224"/>
                </a:moveTo>
                <a:lnTo>
                  <a:pt x="1470" y="1224"/>
                </a:lnTo>
                <a:lnTo>
                  <a:pt x="1470" y="1216"/>
                </a:lnTo>
                <a:lnTo>
                  <a:pt x="1478" y="1216"/>
                </a:lnTo>
                <a:lnTo>
                  <a:pt x="1478" y="1224"/>
                </a:lnTo>
                <a:close/>
                <a:moveTo>
                  <a:pt x="1478" y="1208"/>
                </a:moveTo>
                <a:lnTo>
                  <a:pt x="1486" y="1208"/>
                </a:lnTo>
                <a:lnTo>
                  <a:pt x="1486" y="1224"/>
                </a:lnTo>
                <a:lnTo>
                  <a:pt x="1478" y="1224"/>
                </a:lnTo>
                <a:lnTo>
                  <a:pt x="1478" y="1208"/>
                </a:lnTo>
                <a:close/>
                <a:moveTo>
                  <a:pt x="1486" y="1208"/>
                </a:moveTo>
                <a:lnTo>
                  <a:pt x="1493" y="1208"/>
                </a:lnTo>
                <a:lnTo>
                  <a:pt x="1493" y="1216"/>
                </a:lnTo>
                <a:lnTo>
                  <a:pt x="1486" y="1216"/>
                </a:lnTo>
                <a:lnTo>
                  <a:pt x="1486" y="1208"/>
                </a:lnTo>
                <a:close/>
                <a:moveTo>
                  <a:pt x="1493" y="1216"/>
                </a:moveTo>
                <a:lnTo>
                  <a:pt x="1493" y="1228"/>
                </a:lnTo>
                <a:lnTo>
                  <a:pt x="1476" y="1228"/>
                </a:lnTo>
                <a:lnTo>
                  <a:pt x="1476" y="1216"/>
                </a:lnTo>
                <a:lnTo>
                  <a:pt x="1493" y="1216"/>
                </a:lnTo>
                <a:close/>
                <a:moveTo>
                  <a:pt x="1486" y="1235"/>
                </a:moveTo>
                <a:lnTo>
                  <a:pt x="1476" y="1235"/>
                </a:lnTo>
                <a:lnTo>
                  <a:pt x="1476" y="1228"/>
                </a:lnTo>
                <a:lnTo>
                  <a:pt x="1486" y="1228"/>
                </a:lnTo>
                <a:lnTo>
                  <a:pt x="1486" y="1235"/>
                </a:lnTo>
                <a:close/>
                <a:moveTo>
                  <a:pt x="1486" y="1220"/>
                </a:moveTo>
                <a:lnTo>
                  <a:pt x="1505" y="1220"/>
                </a:lnTo>
                <a:lnTo>
                  <a:pt x="1505" y="1235"/>
                </a:lnTo>
                <a:lnTo>
                  <a:pt x="1486" y="1235"/>
                </a:lnTo>
                <a:lnTo>
                  <a:pt x="1486" y="1220"/>
                </a:lnTo>
                <a:close/>
                <a:moveTo>
                  <a:pt x="1505" y="1220"/>
                </a:moveTo>
                <a:lnTo>
                  <a:pt x="1512" y="1220"/>
                </a:lnTo>
                <a:lnTo>
                  <a:pt x="1512" y="1228"/>
                </a:lnTo>
                <a:lnTo>
                  <a:pt x="1505" y="1228"/>
                </a:lnTo>
                <a:lnTo>
                  <a:pt x="1505" y="1220"/>
                </a:lnTo>
                <a:close/>
                <a:moveTo>
                  <a:pt x="1512" y="1228"/>
                </a:moveTo>
                <a:lnTo>
                  <a:pt x="1512" y="1255"/>
                </a:lnTo>
                <a:lnTo>
                  <a:pt x="1495" y="1255"/>
                </a:lnTo>
                <a:lnTo>
                  <a:pt x="1495" y="1228"/>
                </a:lnTo>
                <a:lnTo>
                  <a:pt x="1512" y="1228"/>
                </a:lnTo>
                <a:close/>
                <a:moveTo>
                  <a:pt x="1505" y="1262"/>
                </a:moveTo>
                <a:lnTo>
                  <a:pt x="1495" y="1262"/>
                </a:lnTo>
                <a:lnTo>
                  <a:pt x="1495" y="1255"/>
                </a:lnTo>
                <a:lnTo>
                  <a:pt x="1505" y="1255"/>
                </a:lnTo>
                <a:lnTo>
                  <a:pt x="1505" y="1262"/>
                </a:lnTo>
                <a:close/>
                <a:moveTo>
                  <a:pt x="1505" y="1247"/>
                </a:moveTo>
                <a:lnTo>
                  <a:pt x="1518" y="1247"/>
                </a:lnTo>
                <a:lnTo>
                  <a:pt x="1518" y="1262"/>
                </a:lnTo>
                <a:lnTo>
                  <a:pt x="1505" y="1262"/>
                </a:lnTo>
                <a:lnTo>
                  <a:pt x="1505" y="1247"/>
                </a:lnTo>
                <a:close/>
                <a:moveTo>
                  <a:pt x="1518" y="1247"/>
                </a:moveTo>
                <a:lnTo>
                  <a:pt x="1526" y="1247"/>
                </a:lnTo>
                <a:lnTo>
                  <a:pt x="1526" y="1255"/>
                </a:lnTo>
                <a:lnTo>
                  <a:pt x="1518" y="1255"/>
                </a:lnTo>
                <a:lnTo>
                  <a:pt x="1518" y="1247"/>
                </a:lnTo>
                <a:close/>
                <a:moveTo>
                  <a:pt x="1526" y="1255"/>
                </a:moveTo>
                <a:lnTo>
                  <a:pt x="1526" y="1266"/>
                </a:lnTo>
                <a:lnTo>
                  <a:pt x="1509" y="1266"/>
                </a:lnTo>
                <a:lnTo>
                  <a:pt x="1509" y="1255"/>
                </a:lnTo>
                <a:lnTo>
                  <a:pt x="1526" y="1255"/>
                </a:lnTo>
                <a:close/>
                <a:moveTo>
                  <a:pt x="1518" y="1274"/>
                </a:moveTo>
                <a:lnTo>
                  <a:pt x="1509" y="1274"/>
                </a:lnTo>
                <a:lnTo>
                  <a:pt x="1509" y="1266"/>
                </a:lnTo>
                <a:lnTo>
                  <a:pt x="1518" y="1266"/>
                </a:lnTo>
                <a:lnTo>
                  <a:pt x="1518" y="1274"/>
                </a:lnTo>
                <a:close/>
                <a:moveTo>
                  <a:pt x="1518" y="1258"/>
                </a:moveTo>
                <a:lnTo>
                  <a:pt x="1524" y="1258"/>
                </a:lnTo>
                <a:lnTo>
                  <a:pt x="1524" y="1274"/>
                </a:lnTo>
                <a:lnTo>
                  <a:pt x="1518" y="1274"/>
                </a:lnTo>
                <a:lnTo>
                  <a:pt x="1518" y="1258"/>
                </a:lnTo>
                <a:close/>
                <a:moveTo>
                  <a:pt x="1524" y="1258"/>
                </a:moveTo>
                <a:lnTo>
                  <a:pt x="1532" y="1258"/>
                </a:lnTo>
                <a:lnTo>
                  <a:pt x="1532" y="1266"/>
                </a:lnTo>
                <a:lnTo>
                  <a:pt x="1524" y="1266"/>
                </a:lnTo>
                <a:lnTo>
                  <a:pt x="1524" y="1258"/>
                </a:lnTo>
                <a:close/>
                <a:moveTo>
                  <a:pt x="1532" y="1266"/>
                </a:moveTo>
                <a:lnTo>
                  <a:pt x="1532" y="1278"/>
                </a:lnTo>
                <a:lnTo>
                  <a:pt x="1516" y="1278"/>
                </a:lnTo>
                <a:lnTo>
                  <a:pt x="1516" y="1266"/>
                </a:lnTo>
                <a:lnTo>
                  <a:pt x="1532" y="1266"/>
                </a:lnTo>
                <a:close/>
                <a:moveTo>
                  <a:pt x="1524" y="1285"/>
                </a:moveTo>
                <a:lnTo>
                  <a:pt x="1516" y="1285"/>
                </a:lnTo>
                <a:lnTo>
                  <a:pt x="1516" y="1278"/>
                </a:lnTo>
                <a:lnTo>
                  <a:pt x="1524" y="1278"/>
                </a:lnTo>
                <a:lnTo>
                  <a:pt x="1524" y="1285"/>
                </a:lnTo>
                <a:close/>
                <a:moveTo>
                  <a:pt x="1524" y="1270"/>
                </a:moveTo>
                <a:lnTo>
                  <a:pt x="1532" y="1270"/>
                </a:lnTo>
                <a:lnTo>
                  <a:pt x="1532" y="1285"/>
                </a:lnTo>
                <a:lnTo>
                  <a:pt x="1524" y="1285"/>
                </a:lnTo>
                <a:lnTo>
                  <a:pt x="1524" y="1270"/>
                </a:lnTo>
                <a:close/>
                <a:moveTo>
                  <a:pt x="1532" y="1270"/>
                </a:moveTo>
                <a:lnTo>
                  <a:pt x="1539" y="1270"/>
                </a:lnTo>
                <a:lnTo>
                  <a:pt x="1539" y="1278"/>
                </a:lnTo>
                <a:lnTo>
                  <a:pt x="1532" y="1278"/>
                </a:lnTo>
                <a:lnTo>
                  <a:pt x="1532" y="1270"/>
                </a:lnTo>
                <a:close/>
                <a:moveTo>
                  <a:pt x="1539" y="1278"/>
                </a:moveTo>
                <a:lnTo>
                  <a:pt x="1539" y="1289"/>
                </a:lnTo>
                <a:lnTo>
                  <a:pt x="1522" y="1289"/>
                </a:lnTo>
                <a:lnTo>
                  <a:pt x="1522" y="1278"/>
                </a:lnTo>
                <a:lnTo>
                  <a:pt x="1539" y="1278"/>
                </a:lnTo>
                <a:close/>
                <a:moveTo>
                  <a:pt x="1532" y="1295"/>
                </a:moveTo>
                <a:lnTo>
                  <a:pt x="1522" y="1295"/>
                </a:lnTo>
                <a:lnTo>
                  <a:pt x="1522" y="1289"/>
                </a:lnTo>
                <a:lnTo>
                  <a:pt x="1532" y="1289"/>
                </a:lnTo>
                <a:lnTo>
                  <a:pt x="1532" y="1295"/>
                </a:lnTo>
                <a:close/>
                <a:moveTo>
                  <a:pt x="1532" y="1281"/>
                </a:moveTo>
                <a:lnTo>
                  <a:pt x="1537" y="1281"/>
                </a:lnTo>
                <a:lnTo>
                  <a:pt x="1537" y="1295"/>
                </a:lnTo>
                <a:lnTo>
                  <a:pt x="1532" y="1295"/>
                </a:lnTo>
                <a:lnTo>
                  <a:pt x="1532" y="1281"/>
                </a:lnTo>
                <a:close/>
                <a:moveTo>
                  <a:pt x="1537" y="1281"/>
                </a:moveTo>
                <a:lnTo>
                  <a:pt x="1545" y="1281"/>
                </a:lnTo>
                <a:lnTo>
                  <a:pt x="1545" y="1289"/>
                </a:lnTo>
                <a:lnTo>
                  <a:pt x="1537" y="1289"/>
                </a:lnTo>
                <a:lnTo>
                  <a:pt x="1537" y="1281"/>
                </a:lnTo>
                <a:close/>
                <a:moveTo>
                  <a:pt x="1545" y="1289"/>
                </a:moveTo>
                <a:lnTo>
                  <a:pt x="1545" y="1301"/>
                </a:lnTo>
                <a:lnTo>
                  <a:pt x="1528" y="1301"/>
                </a:lnTo>
                <a:lnTo>
                  <a:pt x="1528" y="1289"/>
                </a:lnTo>
                <a:lnTo>
                  <a:pt x="1545" y="1289"/>
                </a:lnTo>
                <a:close/>
                <a:moveTo>
                  <a:pt x="1537" y="1308"/>
                </a:moveTo>
                <a:lnTo>
                  <a:pt x="1528" y="1308"/>
                </a:lnTo>
                <a:lnTo>
                  <a:pt x="1528" y="1301"/>
                </a:lnTo>
                <a:lnTo>
                  <a:pt x="1537" y="1301"/>
                </a:lnTo>
                <a:lnTo>
                  <a:pt x="1537" y="1308"/>
                </a:lnTo>
                <a:close/>
                <a:moveTo>
                  <a:pt x="1537" y="1293"/>
                </a:moveTo>
                <a:lnTo>
                  <a:pt x="1543" y="1293"/>
                </a:lnTo>
                <a:lnTo>
                  <a:pt x="1543" y="1308"/>
                </a:lnTo>
                <a:lnTo>
                  <a:pt x="1537" y="1308"/>
                </a:lnTo>
                <a:lnTo>
                  <a:pt x="1537" y="1293"/>
                </a:lnTo>
                <a:close/>
                <a:moveTo>
                  <a:pt x="1543" y="1293"/>
                </a:moveTo>
                <a:lnTo>
                  <a:pt x="1551" y="1293"/>
                </a:lnTo>
                <a:lnTo>
                  <a:pt x="1551" y="1301"/>
                </a:lnTo>
                <a:lnTo>
                  <a:pt x="1543" y="1301"/>
                </a:lnTo>
                <a:lnTo>
                  <a:pt x="1543" y="1293"/>
                </a:lnTo>
                <a:close/>
                <a:moveTo>
                  <a:pt x="1551" y="1301"/>
                </a:moveTo>
                <a:lnTo>
                  <a:pt x="1551" y="1310"/>
                </a:lnTo>
                <a:lnTo>
                  <a:pt x="1535" y="1310"/>
                </a:lnTo>
                <a:lnTo>
                  <a:pt x="1535" y="1301"/>
                </a:lnTo>
                <a:lnTo>
                  <a:pt x="1551" y="1301"/>
                </a:lnTo>
                <a:close/>
                <a:moveTo>
                  <a:pt x="1543" y="1318"/>
                </a:moveTo>
                <a:lnTo>
                  <a:pt x="1535" y="1318"/>
                </a:lnTo>
                <a:lnTo>
                  <a:pt x="1535" y="1310"/>
                </a:lnTo>
                <a:lnTo>
                  <a:pt x="1543" y="1310"/>
                </a:lnTo>
                <a:lnTo>
                  <a:pt x="1543" y="1318"/>
                </a:lnTo>
                <a:close/>
                <a:moveTo>
                  <a:pt x="1543" y="1303"/>
                </a:moveTo>
                <a:lnTo>
                  <a:pt x="1557" y="1303"/>
                </a:lnTo>
                <a:lnTo>
                  <a:pt x="1557" y="1318"/>
                </a:lnTo>
                <a:lnTo>
                  <a:pt x="1543" y="1318"/>
                </a:lnTo>
                <a:lnTo>
                  <a:pt x="1543" y="1303"/>
                </a:lnTo>
                <a:close/>
                <a:moveTo>
                  <a:pt x="1557" y="1303"/>
                </a:moveTo>
                <a:lnTo>
                  <a:pt x="1564" y="1303"/>
                </a:lnTo>
                <a:lnTo>
                  <a:pt x="1564" y="1310"/>
                </a:lnTo>
                <a:lnTo>
                  <a:pt x="1557" y="1310"/>
                </a:lnTo>
                <a:lnTo>
                  <a:pt x="1557" y="1303"/>
                </a:lnTo>
                <a:close/>
                <a:moveTo>
                  <a:pt x="1564" y="1310"/>
                </a:moveTo>
                <a:lnTo>
                  <a:pt x="1564" y="1333"/>
                </a:lnTo>
                <a:lnTo>
                  <a:pt x="1549" y="1333"/>
                </a:lnTo>
                <a:lnTo>
                  <a:pt x="1549" y="1310"/>
                </a:lnTo>
                <a:lnTo>
                  <a:pt x="1564" y="1310"/>
                </a:lnTo>
                <a:close/>
                <a:moveTo>
                  <a:pt x="1557" y="1341"/>
                </a:moveTo>
                <a:lnTo>
                  <a:pt x="1549" y="1341"/>
                </a:lnTo>
                <a:lnTo>
                  <a:pt x="1549" y="1333"/>
                </a:lnTo>
                <a:lnTo>
                  <a:pt x="1557" y="1333"/>
                </a:lnTo>
                <a:lnTo>
                  <a:pt x="1557" y="1341"/>
                </a:lnTo>
                <a:close/>
                <a:moveTo>
                  <a:pt x="1557" y="1326"/>
                </a:moveTo>
                <a:lnTo>
                  <a:pt x="1595" y="1326"/>
                </a:lnTo>
                <a:lnTo>
                  <a:pt x="1595" y="1341"/>
                </a:lnTo>
                <a:lnTo>
                  <a:pt x="1557" y="1341"/>
                </a:lnTo>
                <a:lnTo>
                  <a:pt x="1557" y="1326"/>
                </a:lnTo>
                <a:close/>
                <a:moveTo>
                  <a:pt x="1595" y="1326"/>
                </a:moveTo>
                <a:lnTo>
                  <a:pt x="1605" y="1326"/>
                </a:lnTo>
                <a:lnTo>
                  <a:pt x="1605" y="1333"/>
                </a:lnTo>
                <a:lnTo>
                  <a:pt x="1595" y="1333"/>
                </a:lnTo>
                <a:lnTo>
                  <a:pt x="1595" y="1326"/>
                </a:lnTo>
                <a:close/>
                <a:moveTo>
                  <a:pt x="1605" y="1333"/>
                </a:moveTo>
                <a:lnTo>
                  <a:pt x="1605" y="1345"/>
                </a:lnTo>
                <a:lnTo>
                  <a:pt x="1587" y="1345"/>
                </a:lnTo>
                <a:lnTo>
                  <a:pt x="1587" y="1333"/>
                </a:lnTo>
                <a:lnTo>
                  <a:pt x="1605" y="1333"/>
                </a:lnTo>
                <a:close/>
                <a:moveTo>
                  <a:pt x="1595" y="1352"/>
                </a:moveTo>
                <a:lnTo>
                  <a:pt x="1587" y="1352"/>
                </a:lnTo>
                <a:lnTo>
                  <a:pt x="1587" y="1345"/>
                </a:lnTo>
                <a:lnTo>
                  <a:pt x="1595" y="1345"/>
                </a:lnTo>
                <a:lnTo>
                  <a:pt x="1595" y="1352"/>
                </a:lnTo>
                <a:close/>
                <a:moveTo>
                  <a:pt x="1595" y="1337"/>
                </a:moveTo>
                <a:lnTo>
                  <a:pt x="1608" y="1337"/>
                </a:lnTo>
                <a:lnTo>
                  <a:pt x="1608" y="1352"/>
                </a:lnTo>
                <a:lnTo>
                  <a:pt x="1595" y="1352"/>
                </a:lnTo>
                <a:lnTo>
                  <a:pt x="1595" y="1337"/>
                </a:lnTo>
                <a:close/>
                <a:moveTo>
                  <a:pt x="1608" y="1337"/>
                </a:moveTo>
                <a:lnTo>
                  <a:pt x="1618" y="1337"/>
                </a:lnTo>
                <a:lnTo>
                  <a:pt x="1618" y="1345"/>
                </a:lnTo>
                <a:lnTo>
                  <a:pt x="1608" y="1345"/>
                </a:lnTo>
                <a:lnTo>
                  <a:pt x="1608" y="1337"/>
                </a:lnTo>
                <a:close/>
                <a:moveTo>
                  <a:pt x="1618" y="1345"/>
                </a:moveTo>
                <a:lnTo>
                  <a:pt x="1618" y="1362"/>
                </a:lnTo>
                <a:lnTo>
                  <a:pt x="1601" y="1362"/>
                </a:lnTo>
                <a:lnTo>
                  <a:pt x="1601" y="1345"/>
                </a:lnTo>
                <a:lnTo>
                  <a:pt x="1618" y="1345"/>
                </a:lnTo>
                <a:close/>
                <a:moveTo>
                  <a:pt x="1608" y="1370"/>
                </a:moveTo>
                <a:lnTo>
                  <a:pt x="1601" y="1370"/>
                </a:lnTo>
                <a:lnTo>
                  <a:pt x="1601" y="1362"/>
                </a:lnTo>
                <a:lnTo>
                  <a:pt x="1608" y="1362"/>
                </a:lnTo>
                <a:lnTo>
                  <a:pt x="1608" y="1370"/>
                </a:lnTo>
                <a:close/>
                <a:moveTo>
                  <a:pt x="1608" y="1354"/>
                </a:moveTo>
                <a:lnTo>
                  <a:pt x="1654" y="1354"/>
                </a:lnTo>
                <a:lnTo>
                  <a:pt x="1654" y="1370"/>
                </a:lnTo>
                <a:lnTo>
                  <a:pt x="1608" y="1370"/>
                </a:lnTo>
                <a:lnTo>
                  <a:pt x="1608" y="1354"/>
                </a:lnTo>
                <a:close/>
                <a:moveTo>
                  <a:pt x="1654" y="1354"/>
                </a:moveTo>
                <a:lnTo>
                  <a:pt x="1664" y="1354"/>
                </a:lnTo>
                <a:lnTo>
                  <a:pt x="1664" y="1362"/>
                </a:lnTo>
                <a:lnTo>
                  <a:pt x="1654" y="1362"/>
                </a:lnTo>
                <a:lnTo>
                  <a:pt x="1654" y="1354"/>
                </a:lnTo>
                <a:close/>
                <a:moveTo>
                  <a:pt x="1664" y="1362"/>
                </a:moveTo>
                <a:lnTo>
                  <a:pt x="1664" y="1372"/>
                </a:lnTo>
                <a:lnTo>
                  <a:pt x="1647" y="1372"/>
                </a:lnTo>
                <a:lnTo>
                  <a:pt x="1647" y="1362"/>
                </a:lnTo>
                <a:lnTo>
                  <a:pt x="1664" y="1362"/>
                </a:lnTo>
                <a:close/>
                <a:moveTo>
                  <a:pt x="1654" y="1379"/>
                </a:moveTo>
                <a:lnTo>
                  <a:pt x="1647" y="1379"/>
                </a:lnTo>
                <a:lnTo>
                  <a:pt x="1647" y="1372"/>
                </a:lnTo>
                <a:lnTo>
                  <a:pt x="1654" y="1372"/>
                </a:lnTo>
                <a:lnTo>
                  <a:pt x="1654" y="1379"/>
                </a:lnTo>
                <a:close/>
                <a:moveTo>
                  <a:pt x="1654" y="1364"/>
                </a:moveTo>
                <a:lnTo>
                  <a:pt x="1676" y="1364"/>
                </a:lnTo>
                <a:lnTo>
                  <a:pt x="1676" y="1379"/>
                </a:lnTo>
                <a:lnTo>
                  <a:pt x="1654" y="1379"/>
                </a:lnTo>
                <a:lnTo>
                  <a:pt x="1654" y="1364"/>
                </a:lnTo>
                <a:close/>
                <a:moveTo>
                  <a:pt x="1676" y="1364"/>
                </a:moveTo>
                <a:lnTo>
                  <a:pt x="1683" y="1364"/>
                </a:lnTo>
                <a:lnTo>
                  <a:pt x="1683" y="1372"/>
                </a:lnTo>
                <a:lnTo>
                  <a:pt x="1676" y="1372"/>
                </a:lnTo>
                <a:lnTo>
                  <a:pt x="1676" y="1364"/>
                </a:lnTo>
                <a:close/>
                <a:moveTo>
                  <a:pt x="1683" y="1372"/>
                </a:moveTo>
                <a:lnTo>
                  <a:pt x="1683" y="1383"/>
                </a:lnTo>
                <a:lnTo>
                  <a:pt x="1668" y="1383"/>
                </a:lnTo>
                <a:lnTo>
                  <a:pt x="1668" y="1372"/>
                </a:lnTo>
                <a:lnTo>
                  <a:pt x="1683" y="1372"/>
                </a:lnTo>
                <a:close/>
                <a:moveTo>
                  <a:pt x="1676" y="1391"/>
                </a:moveTo>
                <a:lnTo>
                  <a:pt x="1668" y="1391"/>
                </a:lnTo>
                <a:lnTo>
                  <a:pt x="1668" y="1383"/>
                </a:lnTo>
                <a:lnTo>
                  <a:pt x="1676" y="1383"/>
                </a:lnTo>
                <a:lnTo>
                  <a:pt x="1676" y="1391"/>
                </a:lnTo>
                <a:close/>
                <a:moveTo>
                  <a:pt x="1676" y="1375"/>
                </a:moveTo>
                <a:lnTo>
                  <a:pt x="1681" y="1375"/>
                </a:lnTo>
                <a:lnTo>
                  <a:pt x="1681" y="1391"/>
                </a:lnTo>
                <a:lnTo>
                  <a:pt x="1676" y="1391"/>
                </a:lnTo>
                <a:lnTo>
                  <a:pt x="1676" y="1375"/>
                </a:lnTo>
                <a:close/>
                <a:moveTo>
                  <a:pt x="1681" y="1375"/>
                </a:moveTo>
                <a:lnTo>
                  <a:pt x="1689" y="1375"/>
                </a:lnTo>
                <a:lnTo>
                  <a:pt x="1689" y="1383"/>
                </a:lnTo>
                <a:lnTo>
                  <a:pt x="1681" y="1383"/>
                </a:lnTo>
                <a:lnTo>
                  <a:pt x="1681" y="1375"/>
                </a:lnTo>
                <a:close/>
                <a:moveTo>
                  <a:pt x="1689" y="1383"/>
                </a:moveTo>
                <a:lnTo>
                  <a:pt x="1689" y="1400"/>
                </a:lnTo>
                <a:lnTo>
                  <a:pt x="1674" y="1400"/>
                </a:lnTo>
                <a:lnTo>
                  <a:pt x="1674" y="1383"/>
                </a:lnTo>
                <a:lnTo>
                  <a:pt x="1689" y="1383"/>
                </a:lnTo>
                <a:close/>
                <a:moveTo>
                  <a:pt x="1681" y="1408"/>
                </a:moveTo>
                <a:lnTo>
                  <a:pt x="1674" y="1408"/>
                </a:lnTo>
                <a:lnTo>
                  <a:pt x="1674" y="1400"/>
                </a:lnTo>
                <a:lnTo>
                  <a:pt x="1681" y="1400"/>
                </a:lnTo>
                <a:lnTo>
                  <a:pt x="1681" y="1408"/>
                </a:lnTo>
                <a:close/>
                <a:moveTo>
                  <a:pt x="1681" y="1393"/>
                </a:moveTo>
                <a:lnTo>
                  <a:pt x="1754" y="1393"/>
                </a:lnTo>
                <a:lnTo>
                  <a:pt x="1754" y="1408"/>
                </a:lnTo>
                <a:lnTo>
                  <a:pt x="1681" y="1408"/>
                </a:lnTo>
                <a:lnTo>
                  <a:pt x="1681" y="1393"/>
                </a:lnTo>
                <a:close/>
                <a:moveTo>
                  <a:pt x="1754" y="1393"/>
                </a:moveTo>
                <a:lnTo>
                  <a:pt x="1762" y="1393"/>
                </a:lnTo>
                <a:lnTo>
                  <a:pt x="1762" y="1400"/>
                </a:lnTo>
                <a:lnTo>
                  <a:pt x="1754" y="1400"/>
                </a:lnTo>
                <a:lnTo>
                  <a:pt x="1754" y="1393"/>
                </a:lnTo>
                <a:close/>
                <a:moveTo>
                  <a:pt x="1762" y="1400"/>
                </a:moveTo>
                <a:lnTo>
                  <a:pt x="1762" y="1412"/>
                </a:lnTo>
                <a:lnTo>
                  <a:pt x="1747" y="1412"/>
                </a:lnTo>
                <a:lnTo>
                  <a:pt x="1747" y="1400"/>
                </a:lnTo>
                <a:lnTo>
                  <a:pt x="1762" y="1400"/>
                </a:lnTo>
                <a:close/>
                <a:moveTo>
                  <a:pt x="1754" y="1420"/>
                </a:moveTo>
                <a:lnTo>
                  <a:pt x="1747" y="1420"/>
                </a:lnTo>
                <a:lnTo>
                  <a:pt x="1747" y="1412"/>
                </a:lnTo>
                <a:lnTo>
                  <a:pt x="1754" y="1412"/>
                </a:lnTo>
                <a:lnTo>
                  <a:pt x="1754" y="1420"/>
                </a:lnTo>
                <a:close/>
                <a:moveTo>
                  <a:pt x="1754" y="1404"/>
                </a:moveTo>
                <a:lnTo>
                  <a:pt x="1768" y="1404"/>
                </a:lnTo>
                <a:lnTo>
                  <a:pt x="1768" y="1420"/>
                </a:lnTo>
                <a:lnTo>
                  <a:pt x="1754" y="1420"/>
                </a:lnTo>
                <a:lnTo>
                  <a:pt x="1754" y="1404"/>
                </a:lnTo>
                <a:close/>
                <a:moveTo>
                  <a:pt x="1768" y="1404"/>
                </a:moveTo>
                <a:lnTo>
                  <a:pt x="1775" y="1404"/>
                </a:lnTo>
                <a:lnTo>
                  <a:pt x="1775" y="1412"/>
                </a:lnTo>
                <a:lnTo>
                  <a:pt x="1768" y="1412"/>
                </a:lnTo>
                <a:lnTo>
                  <a:pt x="1768" y="1404"/>
                </a:lnTo>
                <a:close/>
                <a:moveTo>
                  <a:pt x="1775" y="1412"/>
                </a:moveTo>
                <a:lnTo>
                  <a:pt x="1775" y="1429"/>
                </a:lnTo>
                <a:lnTo>
                  <a:pt x="1760" y="1429"/>
                </a:lnTo>
                <a:lnTo>
                  <a:pt x="1760" y="1412"/>
                </a:lnTo>
                <a:lnTo>
                  <a:pt x="1775" y="1412"/>
                </a:lnTo>
                <a:close/>
                <a:moveTo>
                  <a:pt x="1768" y="1435"/>
                </a:moveTo>
                <a:lnTo>
                  <a:pt x="1760" y="1435"/>
                </a:lnTo>
                <a:lnTo>
                  <a:pt x="1760" y="1429"/>
                </a:lnTo>
                <a:lnTo>
                  <a:pt x="1768" y="1429"/>
                </a:lnTo>
                <a:lnTo>
                  <a:pt x="1768" y="1435"/>
                </a:lnTo>
                <a:close/>
                <a:moveTo>
                  <a:pt x="1768" y="1421"/>
                </a:moveTo>
                <a:lnTo>
                  <a:pt x="1873" y="1421"/>
                </a:lnTo>
                <a:lnTo>
                  <a:pt x="1873" y="1435"/>
                </a:lnTo>
                <a:lnTo>
                  <a:pt x="1768" y="1435"/>
                </a:lnTo>
                <a:lnTo>
                  <a:pt x="1768" y="1421"/>
                </a:lnTo>
                <a:close/>
                <a:moveTo>
                  <a:pt x="1873" y="1421"/>
                </a:moveTo>
                <a:lnTo>
                  <a:pt x="1881" y="1421"/>
                </a:lnTo>
                <a:lnTo>
                  <a:pt x="1881" y="1429"/>
                </a:lnTo>
                <a:lnTo>
                  <a:pt x="1873" y="1429"/>
                </a:lnTo>
                <a:lnTo>
                  <a:pt x="1873" y="1421"/>
                </a:lnTo>
                <a:close/>
                <a:moveTo>
                  <a:pt x="1881" y="1429"/>
                </a:moveTo>
                <a:lnTo>
                  <a:pt x="1881" y="1445"/>
                </a:lnTo>
                <a:lnTo>
                  <a:pt x="1864" y="1445"/>
                </a:lnTo>
                <a:lnTo>
                  <a:pt x="1864" y="1429"/>
                </a:lnTo>
                <a:lnTo>
                  <a:pt x="1881" y="1429"/>
                </a:lnTo>
                <a:close/>
                <a:moveTo>
                  <a:pt x="1873" y="1452"/>
                </a:moveTo>
                <a:lnTo>
                  <a:pt x="1864" y="1452"/>
                </a:lnTo>
                <a:lnTo>
                  <a:pt x="1864" y="1445"/>
                </a:lnTo>
                <a:lnTo>
                  <a:pt x="1873" y="1445"/>
                </a:lnTo>
                <a:lnTo>
                  <a:pt x="1873" y="1452"/>
                </a:lnTo>
                <a:close/>
                <a:moveTo>
                  <a:pt x="1873" y="1437"/>
                </a:moveTo>
                <a:lnTo>
                  <a:pt x="1931" y="1437"/>
                </a:lnTo>
                <a:lnTo>
                  <a:pt x="1931" y="1452"/>
                </a:lnTo>
                <a:lnTo>
                  <a:pt x="1873" y="1452"/>
                </a:lnTo>
                <a:lnTo>
                  <a:pt x="1873" y="1437"/>
                </a:lnTo>
                <a:close/>
                <a:moveTo>
                  <a:pt x="1931" y="1437"/>
                </a:moveTo>
                <a:lnTo>
                  <a:pt x="1938" y="1437"/>
                </a:lnTo>
                <a:lnTo>
                  <a:pt x="1938" y="1445"/>
                </a:lnTo>
                <a:lnTo>
                  <a:pt x="1931" y="1445"/>
                </a:lnTo>
                <a:lnTo>
                  <a:pt x="1931" y="1437"/>
                </a:lnTo>
                <a:close/>
                <a:moveTo>
                  <a:pt x="1938" y="1445"/>
                </a:moveTo>
                <a:lnTo>
                  <a:pt x="1938" y="1462"/>
                </a:lnTo>
                <a:lnTo>
                  <a:pt x="1923" y="1462"/>
                </a:lnTo>
                <a:lnTo>
                  <a:pt x="1923" y="1445"/>
                </a:lnTo>
                <a:lnTo>
                  <a:pt x="1938" y="1445"/>
                </a:lnTo>
                <a:close/>
                <a:moveTo>
                  <a:pt x="1931" y="1469"/>
                </a:moveTo>
                <a:lnTo>
                  <a:pt x="1923" y="1469"/>
                </a:lnTo>
                <a:lnTo>
                  <a:pt x="1923" y="1462"/>
                </a:lnTo>
                <a:lnTo>
                  <a:pt x="1931" y="1462"/>
                </a:lnTo>
                <a:lnTo>
                  <a:pt x="1931" y="1469"/>
                </a:lnTo>
                <a:close/>
                <a:moveTo>
                  <a:pt x="1931" y="1454"/>
                </a:moveTo>
                <a:lnTo>
                  <a:pt x="1937" y="1454"/>
                </a:lnTo>
                <a:lnTo>
                  <a:pt x="1937" y="1469"/>
                </a:lnTo>
                <a:lnTo>
                  <a:pt x="1931" y="1469"/>
                </a:lnTo>
                <a:lnTo>
                  <a:pt x="1931" y="1454"/>
                </a:lnTo>
                <a:close/>
                <a:moveTo>
                  <a:pt x="1937" y="1454"/>
                </a:moveTo>
                <a:lnTo>
                  <a:pt x="1946" y="1454"/>
                </a:lnTo>
                <a:lnTo>
                  <a:pt x="1946" y="1462"/>
                </a:lnTo>
                <a:lnTo>
                  <a:pt x="1937" y="1462"/>
                </a:lnTo>
                <a:lnTo>
                  <a:pt x="1937" y="1454"/>
                </a:lnTo>
                <a:close/>
                <a:moveTo>
                  <a:pt x="1946" y="1462"/>
                </a:moveTo>
                <a:lnTo>
                  <a:pt x="1946" y="1479"/>
                </a:lnTo>
                <a:lnTo>
                  <a:pt x="1929" y="1479"/>
                </a:lnTo>
                <a:lnTo>
                  <a:pt x="1929" y="1462"/>
                </a:lnTo>
                <a:lnTo>
                  <a:pt x="1946" y="1462"/>
                </a:lnTo>
                <a:close/>
                <a:moveTo>
                  <a:pt x="1937" y="1487"/>
                </a:moveTo>
                <a:lnTo>
                  <a:pt x="1929" y="1487"/>
                </a:lnTo>
                <a:lnTo>
                  <a:pt x="1929" y="1479"/>
                </a:lnTo>
                <a:lnTo>
                  <a:pt x="1937" y="1479"/>
                </a:lnTo>
                <a:lnTo>
                  <a:pt x="1937" y="1487"/>
                </a:lnTo>
                <a:close/>
                <a:moveTo>
                  <a:pt x="1937" y="1471"/>
                </a:moveTo>
                <a:lnTo>
                  <a:pt x="1963" y="1471"/>
                </a:lnTo>
                <a:lnTo>
                  <a:pt x="1963" y="1487"/>
                </a:lnTo>
                <a:lnTo>
                  <a:pt x="1937" y="1487"/>
                </a:lnTo>
                <a:lnTo>
                  <a:pt x="1937" y="1471"/>
                </a:lnTo>
                <a:close/>
                <a:moveTo>
                  <a:pt x="1963" y="1471"/>
                </a:moveTo>
                <a:lnTo>
                  <a:pt x="1973" y="1471"/>
                </a:lnTo>
                <a:lnTo>
                  <a:pt x="1973" y="1479"/>
                </a:lnTo>
                <a:lnTo>
                  <a:pt x="1963" y="1479"/>
                </a:lnTo>
                <a:lnTo>
                  <a:pt x="1963" y="1471"/>
                </a:lnTo>
                <a:close/>
                <a:moveTo>
                  <a:pt x="1973" y="1479"/>
                </a:moveTo>
                <a:lnTo>
                  <a:pt x="1973" y="1500"/>
                </a:lnTo>
                <a:lnTo>
                  <a:pt x="1956" y="1500"/>
                </a:lnTo>
                <a:lnTo>
                  <a:pt x="1956" y="1479"/>
                </a:lnTo>
                <a:lnTo>
                  <a:pt x="1973" y="1479"/>
                </a:lnTo>
                <a:close/>
                <a:moveTo>
                  <a:pt x="1963" y="1508"/>
                </a:moveTo>
                <a:lnTo>
                  <a:pt x="1956" y="1508"/>
                </a:lnTo>
                <a:lnTo>
                  <a:pt x="1956" y="1500"/>
                </a:lnTo>
                <a:lnTo>
                  <a:pt x="1963" y="1500"/>
                </a:lnTo>
                <a:lnTo>
                  <a:pt x="1963" y="1508"/>
                </a:lnTo>
                <a:close/>
                <a:moveTo>
                  <a:pt x="1963" y="1492"/>
                </a:moveTo>
                <a:lnTo>
                  <a:pt x="1977" y="1492"/>
                </a:lnTo>
                <a:lnTo>
                  <a:pt x="1977" y="1508"/>
                </a:lnTo>
                <a:lnTo>
                  <a:pt x="1963" y="1508"/>
                </a:lnTo>
                <a:lnTo>
                  <a:pt x="1963" y="1492"/>
                </a:lnTo>
                <a:close/>
                <a:moveTo>
                  <a:pt x="1977" y="1492"/>
                </a:moveTo>
                <a:lnTo>
                  <a:pt x="1985" y="1492"/>
                </a:lnTo>
                <a:lnTo>
                  <a:pt x="1985" y="1500"/>
                </a:lnTo>
                <a:lnTo>
                  <a:pt x="1977" y="1500"/>
                </a:lnTo>
                <a:lnTo>
                  <a:pt x="1977" y="1492"/>
                </a:lnTo>
                <a:close/>
                <a:moveTo>
                  <a:pt x="1985" y="1500"/>
                </a:moveTo>
                <a:lnTo>
                  <a:pt x="1985" y="1517"/>
                </a:lnTo>
                <a:lnTo>
                  <a:pt x="1969" y="1517"/>
                </a:lnTo>
                <a:lnTo>
                  <a:pt x="1969" y="1500"/>
                </a:lnTo>
                <a:lnTo>
                  <a:pt x="1985" y="1500"/>
                </a:lnTo>
                <a:close/>
                <a:moveTo>
                  <a:pt x="1977" y="1525"/>
                </a:moveTo>
                <a:lnTo>
                  <a:pt x="1969" y="1525"/>
                </a:lnTo>
                <a:lnTo>
                  <a:pt x="1969" y="1517"/>
                </a:lnTo>
                <a:lnTo>
                  <a:pt x="1977" y="1517"/>
                </a:lnTo>
                <a:lnTo>
                  <a:pt x="1977" y="1525"/>
                </a:lnTo>
                <a:close/>
                <a:moveTo>
                  <a:pt x="1977" y="1510"/>
                </a:moveTo>
                <a:lnTo>
                  <a:pt x="2096" y="1510"/>
                </a:lnTo>
                <a:lnTo>
                  <a:pt x="2096" y="1525"/>
                </a:lnTo>
                <a:lnTo>
                  <a:pt x="1977" y="1525"/>
                </a:lnTo>
                <a:lnTo>
                  <a:pt x="1977" y="1510"/>
                </a:lnTo>
                <a:close/>
                <a:moveTo>
                  <a:pt x="2096" y="1510"/>
                </a:moveTo>
                <a:lnTo>
                  <a:pt x="2104" y="1510"/>
                </a:lnTo>
                <a:lnTo>
                  <a:pt x="2104" y="1517"/>
                </a:lnTo>
                <a:lnTo>
                  <a:pt x="2096" y="1517"/>
                </a:lnTo>
                <a:lnTo>
                  <a:pt x="2096" y="1510"/>
                </a:lnTo>
                <a:close/>
                <a:moveTo>
                  <a:pt x="2104" y="1517"/>
                </a:moveTo>
                <a:lnTo>
                  <a:pt x="2104" y="1562"/>
                </a:lnTo>
                <a:lnTo>
                  <a:pt x="2088" y="1562"/>
                </a:lnTo>
                <a:lnTo>
                  <a:pt x="2088" y="1517"/>
                </a:lnTo>
                <a:lnTo>
                  <a:pt x="2104" y="1517"/>
                </a:lnTo>
                <a:close/>
                <a:moveTo>
                  <a:pt x="2096" y="1569"/>
                </a:moveTo>
                <a:lnTo>
                  <a:pt x="2088" y="1569"/>
                </a:lnTo>
                <a:lnTo>
                  <a:pt x="2088" y="1562"/>
                </a:lnTo>
                <a:lnTo>
                  <a:pt x="2096" y="1562"/>
                </a:lnTo>
                <a:lnTo>
                  <a:pt x="2096" y="1569"/>
                </a:lnTo>
                <a:close/>
                <a:moveTo>
                  <a:pt x="2096" y="1554"/>
                </a:moveTo>
                <a:lnTo>
                  <a:pt x="2134" y="1554"/>
                </a:lnTo>
                <a:lnTo>
                  <a:pt x="2134" y="1569"/>
                </a:lnTo>
                <a:lnTo>
                  <a:pt x="2096" y="1569"/>
                </a:lnTo>
                <a:lnTo>
                  <a:pt x="2096" y="1554"/>
                </a:lnTo>
                <a:close/>
                <a:moveTo>
                  <a:pt x="2134" y="1554"/>
                </a:moveTo>
                <a:lnTo>
                  <a:pt x="2142" y="1554"/>
                </a:lnTo>
                <a:lnTo>
                  <a:pt x="2142" y="1562"/>
                </a:lnTo>
                <a:lnTo>
                  <a:pt x="2134" y="1562"/>
                </a:lnTo>
                <a:lnTo>
                  <a:pt x="2134" y="1554"/>
                </a:lnTo>
                <a:close/>
                <a:moveTo>
                  <a:pt x="2142" y="1562"/>
                </a:moveTo>
                <a:lnTo>
                  <a:pt x="2142" y="1585"/>
                </a:lnTo>
                <a:lnTo>
                  <a:pt x="2127" y="1585"/>
                </a:lnTo>
                <a:lnTo>
                  <a:pt x="2127" y="1562"/>
                </a:lnTo>
                <a:lnTo>
                  <a:pt x="2142" y="1562"/>
                </a:lnTo>
                <a:close/>
                <a:moveTo>
                  <a:pt x="2134" y="1592"/>
                </a:moveTo>
                <a:lnTo>
                  <a:pt x="2127" y="1592"/>
                </a:lnTo>
                <a:lnTo>
                  <a:pt x="2127" y="1585"/>
                </a:lnTo>
                <a:lnTo>
                  <a:pt x="2134" y="1585"/>
                </a:lnTo>
                <a:lnTo>
                  <a:pt x="2134" y="1592"/>
                </a:lnTo>
                <a:close/>
                <a:moveTo>
                  <a:pt x="2134" y="1577"/>
                </a:moveTo>
                <a:lnTo>
                  <a:pt x="2180" y="1577"/>
                </a:lnTo>
                <a:lnTo>
                  <a:pt x="2180" y="1592"/>
                </a:lnTo>
                <a:lnTo>
                  <a:pt x="2134" y="1592"/>
                </a:lnTo>
                <a:lnTo>
                  <a:pt x="2134" y="1577"/>
                </a:lnTo>
                <a:close/>
                <a:moveTo>
                  <a:pt x="2180" y="1577"/>
                </a:moveTo>
                <a:lnTo>
                  <a:pt x="2188" y="1577"/>
                </a:lnTo>
                <a:lnTo>
                  <a:pt x="2188" y="1585"/>
                </a:lnTo>
                <a:lnTo>
                  <a:pt x="2180" y="1585"/>
                </a:lnTo>
                <a:lnTo>
                  <a:pt x="2180" y="1577"/>
                </a:lnTo>
                <a:close/>
                <a:moveTo>
                  <a:pt x="2188" y="1585"/>
                </a:moveTo>
                <a:lnTo>
                  <a:pt x="2188" y="1608"/>
                </a:lnTo>
                <a:lnTo>
                  <a:pt x="2173" y="1608"/>
                </a:lnTo>
                <a:lnTo>
                  <a:pt x="2173" y="1585"/>
                </a:lnTo>
                <a:lnTo>
                  <a:pt x="2188" y="1585"/>
                </a:lnTo>
                <a:close/>
                <a:moveTo>
                  <a:pt x="2180" y="1613"/>
                </a:moveTo>
                <a:lnTo>
                  <a:pt x="2173" y="1613"/>
                </a:lnTo>
                <a:lnTo>
                  <a:pt x="2173" y="1608"/>
                </a:lnTo>
                <a:lnTo>
                  <a:pt x="2180" y="1608"/>
                </a:lnTo>
                <a:lnTo>
                  <a:pt x="2180" y="1613"/>
                </a:lnTo>
                <a:close/>
                <a:moveTo>
                  <a:pt x="2180" y="1600"/>
                </a:moveTo>
                <a:lnTo>
                  <a:pt x="2221" y="1600"/>
                </a:lnTo>
                <a:lnTo>
                  <a:pt x="2221" y="1613"/>
                </a:lnTo>
                <a:lnTo>
                  <a:pt x="2180" y="1613"/>
                </a:lnTo>
                <a:lnTo>
                  <a:pt x="2180" y="1600"/>
                </a:lnTo>
                <a:close/>
                <a:moveTo>
                  <a:pt x="2221" y="1600"/>
                </a:moveTo>
                <a:lnTo>
                  <a:pt x="2228" y="1600"/>
                </a:lnTo>
                <a:lnTo>
                  <a:pt x="2228" y="1608"/>
                </a:lnTo>
                <a:lnTo>
                  <a:pt x="2221" y="1608"/>
                </a:lnTo>
                <a:lnTo>
                  <a:pt x="2221" y="1600"/>
                </a:lnTo>
                <a:close/>
                <a:moveTo>
                  <a:pt x="2228" y="1608"/>
                </a:moveTo>
                <a:lnTo>
                  <a:pt x="2228" y="1634"/>
                </a:lnTo>
                <a:lnTo>
                  <a:pt x="2211" y="1634"/>
                </a:lnTo>
                <a:lnTo>
                  <a:pt x="2211" y="1608"/>
                </a:lnTo>
                <a:lnTo>
                  <a:pt x="2228" y="1608"/>
                </a:lnTo>
                <a:close/>
                <a:moveTo>
                  <a:pt x="2221" y="1642"/>
                </a:moveTo>
                <a:lnTo>
                  <a:pt x="2211" y="1642"/>
                </a:lnTo>
                <a:lnTo>
                  <a:pt x="2211" y="1634"/>
                </a:lnTo>
                <a:lnTo>
                  <a:pt x="2221" y="1634"/>
                </a:lnTo>
                <a:lnTo>
                  <a:pt x="2221" y="1642"/>
                </a:lnTo>
                <a:close/>
                <a:moveTo>
                  <a:pt x="2221" y="1627"/>
                </a:moveTo>
                <a:lnTo>
                  <a:pt x="2562" y="1627"/>
                </a:lnTo>
                <a:lnTo>
                  <a:pt x="2562" y="1642"/>
                </a:lnTo>
                <a:lnTo>
                  <a:pt x="2221" y="1642"/>
                </a:lnTo>
                <a:lnTo>
                  <a:pt x="2221" y="1627"/>
                </a:lnTo>
                <a:close/>
                <a:moveTo>
                  <a:pt x="2562" y="1627"/>
                </a:moveTo>
                <a:lnTo>
                  <a:pt x="2570" y="1627"/>
                </a:lnTo>
                <a:lnTo>
                  <a:pt x="2570" y="1634"/>
                </a:lnTo>
                <a:lnTo>
                  <a:pt x="2562" y="1634"/>
                </a:lnTo>
                <a:lnTo>
                  <a:pt x="2562" y="1627"/>
                </a:lnTo>
                <a:close/>
                <a:moveTo>
                  <a:pt x="2570" y="1634"/>
                </a:moveTo>
                <a:lnTo>
                  <a:pt x="2570" y="1673"/>
                </a:lnTo>
                <a:lnTo>
                  <a:pt x="2553" y="1673"/>
                </a:lnTo>
                <a:lnTo>
                  <a:pt x="2553" y="1634"/>
                </a:lnTo>
                <a:lnTo>
                  <a:pt x="2570" y="1634"/>
                </a:lnTo>
                <a:close/>
                <a:moveTo>
                  <a:pt x="2562" y="1681"/>
                </a:moveTo>
                <a:lnTo>
                  <a:pt x="2553" y="1681"/>
                </a:lnTo>
                <a:lnTo>
                  <a:pt x="2553" y="1673"/>
                </a:lnTo>
                <a:lnTo>
                  <a:pt x="2562" y="1673"/>
                </a:lnTo>
                <a:lnTo>
                  <a:pt x="2562" y="1681"/>
                </a:lnTo>
                <a:close/>
                <a:moveTo>
                  <a:pt x="2562" y="1667"/>
                </a:moveTo>
                <a:lnTo>
                  <a:pt x="3048" y="1667"/>
                </a:lnTo>
                <a:lnTo>
                  <a:pt x="3048" y="1681"/>
                </a:lnTo>
                <a:lnTo>
                  <a:pt x="2562" y="1681"/>
                </a:lnTo>
                <a:lnTo>
                  <a:pt x="2562" y="1667"/>
                </a:lnTo>
                <a:close/>
                <a:moveTo>
                  <a:pt x="3048" y="1667"/>
                </a:moveTo>
                <a:lnTo>
                  <a:pt x="3055" y="1667"/>
                </a:lnTo>
                <a:lnTo>
                  <a:pt x="3055" y="1673"/>
                </a:lnTo>
                <a:lnTo>
                  <a:pt x="3048" y="1673"/>
                </a:lnTo>
                <a:lnTo>
                  <a:pt x="3048" y="1667"/>
                </a:lnTo>
                <a:close/>
                <a:moveTo>
                  <a:pt x="3055" y="1673"/>
                </a:moveTo>
                <a:lnTo>
                  <a:pt x="3055" y="1711"/>
                </a:lnTo>
                <a:lnTo>
                  <a:pt x="3040" y="1711"/>
                </a:lnTo>
                <a:lnTo>
                  <a:pt x="3040" y="1673"/>
                </a:lnTo>
                <a:lnTo>
                  <a:pt x="3055" y="1673"/>
                </a:lnTo>
                <a:close/>
                <a:moveTo>
                  <a:pt x="3048" y="1719"/>
                </a:moveTo>
                <a:lnTo>
                  <a:pt x="3040" y="1719"/>
                </a:lnTo>
                <a:lnTo>
                  <a:pt x="3040" y="1711"/>
                </a:lnTo>
                <a:lnTo>
                  <a:pt x="3048" y="1711"/>
                </a:lnTo>
                <a:lnTo>
                  <a:pt x="3048" y="1719"/>
                </a:lnTo>
                <a:close/>
                <a:moveTo>
                  <a:pt x="3048" y="1705"/>
                </a:moveTo>
                <a:lnTo>
                  <a:pt x="3297" y="1705"/>
                </a:lnTo>
                <a:lnTo>
                  <a:pt x="3297" y="1719"/>
                </a:lnTo>
                <a:lnTo>
                  <a:pt x="3048" y="1719"/>
                </a:lnTo>
                <a:lnTo>
                  <a:pt x="3048" y="1705"/>
                </a:lnTo>
                <a:close/>
                <a:moveTo>
                  <a:pt x="3297" y="1705"/>
                </a:moveTo>
                <a:lnTo>
                  <a:pt x="3305" y="1705"/>
                </a:lnTo>
                <a:lnTo>
                  <a:pt x="3305" y="1711"/>
                </a:lnTo>
                <a:lnTo>
                  <a:pt x="3297" y="1711"/>
                </a:lnTo>
                <a:lnTo>
                  <a:pt x="3297" y="1705"/>
                </a:lnTo>
                <a:close/>
                <a:moveTo>
                  <a:pt x="3305" y="1711"/>
                </a:moveTo>
                <a:lnTo>
                  <a:pt x="3305" y="1763"/>
                </a:lnTo>
                <a:lnTo>
                  <a:pt x="3290" y="1763"/>
                </a:lnTo>
                <a:lnTo>
                  <a:pt x="3290" y="1711"/>
                </a:lnTo>
                <a:lnTo>
                  <a:pt x="3305" y="1711"/>
                </a:lnTo>
                <a:close/>
                <a:moveTo>
                  <a:pt x="3297" y="1771"/>
                </a:moveTo>
                <a:lnTo>
                  <a:pt x="3290" y="1771"/>
                </a:lnTo>
                <a:lnTo>
                  <a:pt x="3290" y="1763"/>
                </a:lnTo>
                <a:lnTo>
                  <a:pt x="3297" y="1763"/>
                </a:lnTo>
                <a:lnTo>
                  <a:pt x="3297" y="1771"/>
                </a:lnTo>
                <a:close/>
                <a:moveTo>
                  <a:pt x="3297" y="1755"/>
                </a:moveTo>
                <a:lnTo>
                  <a:pt x="3382" y="1755"/>
                </a:lnTo>
                <a:lnTo>
                  <a:pt x="3382" y="1771"/>
                </a:lnTo>
                <a:lnTo>
                  <a:pt x="3297" y="1771"/>
                </a:lnTo>
                <a:lnTo>
                  <a:pt x="3297" y="1755"/>
                </a:lnTo>
                <a:close/>
                <a:moveTo>
                  <a:pt x="3382" y="1755"/>
                </a:moveTo>
                <a:lnTo>
                  <a:pt x="3391" y="1755"/>
                </a:lnTo>
                <a:lnTo>
                  <a:pt x="3391" y="1763"/>
                </a:lnTo>
                <a:lnTo>
                  <a:pt x="3382" y="1763"/>
                </a:lnTo>
                <a:lnTo>
                  <a:pt x="3382" y="1755"/>
                </a:lnTo>
                <a:close/>
                <a:moveTo>
                  <a:pt x="3391" y="1763"/>
                </a:moveTo>
                <a:lnTo>
                  <a:pt x="3391" y="1819"/>
                </a:lnTo>
                <a:lnTo>
                  <a:pt x="3374" y="1819"/>
                </a:lnTo>
                <a:lnTo>
                  <a:pt x="3374" y="1763"/>
                </a:lnTo>
                <a:lnTo>
                  <a:pt x="3391" y="1763"/>
                </a:lnTo>
                <a:close/>
                <a:moveTo>
                  <a:pt x="3382" y="1826"/>
                </a:moveTo>
                <a:lnTo>
                  <a:pt x="3374" y="1826"/>
                </a:lnTo>
                <a:lnTo>
                  <a:pt x="3374" y="1819"/>
                </a:lnTo>
                <a:lnTo>
                  <a:pt x="3382" y="1819"/>
                </a:lnTo>
                <a:lnTo>
                  <a:pt x="3382" y="1826"/>
                </a:lnTo>
                <a:close/>
                <a:moveTo>
                  <a:pt x="3382" y="1811"/>
                </a:moveTo>
                <a:lnTo>
                  <a:pt x="3560" y="1811"/>
                </a:lnTo>
                <a:lnTo>
                  <a:pt x="3560" y="1826"/>
                </a:lnTo>
                <a:lnTo>
                  <a:pt x="3382" y="1826"/>
                </a:lnTo>
                <a:lnTo>
                  <a:pt x="3382" y="1811"/>
                </a:lnTo>
                <a:close/>
                <a:moveTo>
                  <a:pt x="3560" y="1811"/>
                </a:moveTo>
                <a:lnTo>
                  <a:pt x="3568" y="1811"/>
                </a:lnTo>
                <a:lnTo>
                  <a:pt x="3568" y="1819"/>
                </a:lnTo>
                <a:lnTo>
                  <a:pt x="3560" y="1819"/>
                </a:lnTo>
                <a:lnTo>
                  <a:pt x="3560" y="1811"/>
                </a:lnTo>
                <a:close/>
                <a:moveTo>
                  <a:pt x="3568" y="1819"/>
                </a:moveTo>
                <a:lnTo>
                  <a:pt x="3568" y="1913"/>
                </a:lnTo>
                <a:lnTo>
                  <a:pt x="3551" y="1913"/>
                </a:lnTo>
                <a:lnTo>
                  <a:pt x="3551" y="1819"/>
                </a:lnTo>
                <a:lnTo>
                  <a:pt x="3568" y="1819"/>
                </a:lnTo>
                <a:close/>
                <a:moveTo>
                  <a:pt x="3560" y="1920"/>
                </a:moveTo>
                <a:lnTo>
                  <a:pt x="3551" y="1920"/>
                </a:lnTo>
                <a:lnTo>
                  <a:pt x="3551" y="1913"/>
                </a:lnTo>
                <a:lnTo>
                  <a:pt x="3560" y="1913"/>
                </a:lnTo>
                <a:lnTo>
                  <a:pt x="3560" y="1920"/>
                </a:lnTo>
                <a:close/>
                <a:moveTo>
                  <a:pt x="3560" y="1905"/>
                </a:moveTo>
                <a:lnTo>
                  <a:pt x="3869" y="1905"/>
                </a:lnTo>
                <a:lnTo>
                  <a:pt x="3869" y="1920"/>
                </a:lnTo>
                <a:lnTo>
                  <a:pt x="3560" y="1920"/>
                </a:lnTo>
                <a:lnTo>
                  <a:pt x="3560" y="1905"/>
                </a:lnTo>
                <a:close/>
                <a:moveTo>
                  <a:pt x="3869" y="1905"/>
                </a:moveTo>
                <a:lnTo>
                  <a:pt x="3877" y="1905"/>
                </a:lnTo>
                <a:lnTo>
                  <a:pt x="3877" y="1913"/>
                </a:lnTo>
                <a:lnTo>
                  <a:pt x="3869" y="1913"/>
                </a:lnTo>
                <a:lnTo>
                  <a:pt x="3869" y="1905"/>
                </a:lnTo>
                <a:close/>
                <a:moveTo>
                  <a:pt x="3877" y="1913"/>
                </a:moveTo>
                <a:lnTo>
                  <a:pt x="3877" y="2097"/>
                </a:lnTo>
                <a:lnTo>
                  <a:pt x="3861" y="2097"/>
                </a:lnTo>
                <a:lnTo>
                  <a:pt x="3861" y="1913"/>
                </a:lnTo>
                <a:lnTo>
                  <a:pt x="3877" y="19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92360" y="2066760"/>
            <a:ext cx="6521400" cy="3333960"/>
          </a:xfrm>
          <a:custGeom>
            <a:avLst/>
            <a:gdLst/>
            <a:ahLst/>
            <a:rect l="l" t="t" r="r" b="b"/>
            <a:pathLst>
              <a:path w="4108" h="2100">
                <a:moveTo>
                  <a:pt x="17" y="0"/>
                </a:moveTo>
                <a:lnTo>
                  <a:pt x="17" y="2092"/>
                </a:lnTo>
                <a:lnTo>
                  <a:pt x="0" y="2092"/>
                </a:lnTo>
                <a:lnTo>
                  <a:pt x="0" y="0"/>
                </a:lnTo>
                <a:lnTo>
                  <a:pt x="17" y="0"/>
                </a:lnTo>
                <a:close/>
                <a:moveTo>
                  <a:pt x="9" y="2100"/>
                </a:moveTo>
                <a:lnTo>
                  <a:pt x="0" y="2100"/>
                </a:lnTo>
                <a:lnTo>
                  <a:pt x="0" y="2092"/>
                </a:lnTo>
                <a:lnTo>
                  <a:pt x="9" y="2092"/>
                </a:lnTo>
                <a:lnTo>
                  <a:pt x="9" y="2100"/>
                </a:lnTo>
                <a:close/>
                <a:moveTo>
                  <a:pt x="9" y="2084"/>
                </a:moveTo>
                <a:lnTo>
                  <a:pt x="4108" y="2084"/>
                </a:lnTo>
                <a:lnTo>
                  <a:pt x="4108" y="2100"/>
                </a:lnTo>
                <a:lnTo>
                  <a:pt x="9" y="2100"/>
                </a:lnTo>
                <a:lnTo>
                  <a:pt x="9" y="208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16040" y="2055960"/>
            <a:ext cx="103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16040" y="2712960"/>
            <a:ext cx="903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16040" y="3371760"/>
            <a:ext cx="90360" cy="2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16040" y="4032360"/>
            <a:ext cx="903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16040" y="4689360"/>
            <a:ext cx="90360" cy="25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16040" y="5375160"/>
            <a:ext cx="90360" cy="25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92360" y="5388120"/>
            <a:ext cx="2700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44920" y="5388120"/>
            <a:ext cx="2520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98920" y="5388120"/>
            <a:ext cx="2376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49680" y="5388120"/>
            <a:ext cx="2700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02240" y="5388120"/>
            <a:ext cx="2556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56240" y="5388120"/>
            <a:ext cx="2376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07360" y="5388120"/>
            <a:ext cx="27000" cy="9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064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827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590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350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113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876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1636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399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3162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3922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685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448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208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971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734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4940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25720" y="3706920"/>
            <a:ext cx="493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02040" y="3706920"/>
            <a:ext cx="489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78000" y="3706920"/>
            <a:ext cx="4788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54320" y="3706920"/>
            <a:ext cx="475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30640" y="3706920"/>
            <a:ext cx="475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306600" y="3706920"/>
            <a:ext cx="4788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82920" y="3706920"/>
            <a:ext cx="475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59240" y="3706920"/>
            <a:ext cx="4752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35200" y="3706920"/>
            <a:ext cx="4788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11520" y="3706920"/>
            <a:ext cx="50760" cy="23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87840" y="370692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7"/>
                </a:moveTo>
                <a:lnTo>
                  <a:pt x="7" y="0"/>
                </a:lnTo>
                <a:lnTo>
                  <a:pt x="0" y="0"/>
                </a:lnTo>
                <a:lnTo>
                  <a:pt x="0" y="15"/>
                </a:lnTo>
                <a:lnTo>
                  <a:pt x="7" y="15"/>
                </a:lnTo>
                <a:lnTo>
                  <a:pt x="15" y="7"/>
                </a:lnTo>
                <a:lnTo>
                  <a:pt x="15" y="7"/>
                </a:lnTo>
                <a:lnTo>
                  <a:pt x="15" y="0"/>
                </a:lnTo>
                <a:lnTo>
                  <a:pt x="7" y="0"/>
                </a:lnTo>
                <a:lnTo>
                  <a:pt x="15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87840" y="3718080"/>
            <a:ext cx="23760" cy="39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87840" y="378288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87840" y="385920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87840" y="393552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87840" y="401148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87840" y="40863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687840" y="41623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87840" y="423864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687840" y="43149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687840" y="43909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87840" y="446724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687840" y="45435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87840" y="46195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687840" y="469584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687840" y="47721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87840" y="48481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87840" y="492444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687840" y="50007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687840" y="50767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87840" y="515304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687840" y="52293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87840" y="53053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687840" y="5381640"/>
            <a:ext cx="23760" cy="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97240" y="372744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97240" y="38037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97240" y="38797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97240" y="395604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297240" y="4032360"/>
            <a:ext cx="23760" cy="5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97240" y="410832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97240" y="4184640"/>
            <a:ext cx="23760" cy="5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97240" y="426096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97240" y="433692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97240" y="441324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97240" y="448956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97240" y="4565520"/>
            <a:ext cx="23760" cy="5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297240" y="4645080"/>
            <a:ext cx="23760" cy="47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97240" y="4721400"/>
            <a:ext cx="23760" cy="47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97240" y="4797360"/>
            <a:ext cx="23760" cy="47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97240" y="4873680"/>
            <a:ext cx="23760" cy="47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97240" y="4950000"/>
            <a:ext cx="23760" cy="47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97240" y="5024520"/>
            <a:ext cx="23760" cy="48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97240" y="5100480"/>
            <a:ext cx="23760" cy="49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97240" y="5176800"/>
            <a:ext cx="23760" cy="49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97240" y="5253120"/>
            <a:ext cx="23760" cy="48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97240" y="5329080"/>
            <a:ext cx="23760" cy="49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" y="1219320"/>
            <a:ext cx="779004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64480" y="642636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andler A, NEJM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68360" y="146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 (EMR 62202-046)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rst-line NSCLC IIIb/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8360" y="3976560"/>
            <a:ext cx="822960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type: Randomized phase III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tion: EGFR-expressing NSCLC IIIb/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sion: No previous chem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ry endpoint: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endpoints: Survival rate at 1 and 2 years, PFS after 6 and 12 months, response rate, safety, Q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size: 1,100 in 170 centers in EU, Latin America,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051440" y="1871640"/>
            <a:ext cx="1885680" cy="7023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splatin + 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137040" y="2103480"/>
            <a:ext cx="8254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51440" y="2709720"/>
            <a:ext cx="1885680" cy="10681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splatin + Vinorelbine 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tuxim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15200" y="2408400"/>
            <a:ext cx="1312920" cy="3668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4000" y="2232000"/>
            <a:ext cx="2495520" cy="702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IIb/IV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FR-exp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37040" y="2560680"/>
            <a:ext cx="8254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20960" y="2421000"/>
            <a:ext cx="30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2637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012000" y="197316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=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2000" y="298116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=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6520" y="1336680"/>
            <a:ext cx="84582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ccec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71400" y="24120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: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verall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488360" y="5237280"/>
            <a:ext cx="11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9280" y="5438880"/>
            <a:ext cx="730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301760"/>
                <a:tab algn="ctr" pos="2387520"/>
                <a:tab algn="ctr" pos="3473280"/>
                <a:tab algn="ctr" pos="4559400"/>
                <a:tab algn="ctr" pos="5645160"/>
                <a:tab algn="ct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Patients at ri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301760"/>
                <a:tab algn="ctr" pos="2387520"/>
                <a:tab algn="ctr" pos="3473280"/>
                <a:tab algn="ctr" pos="4559400"/>
                <a:tab algn="ctr" pos="5645160"/>
                <a:tab algn="ct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CT + Cetuximab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557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383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251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155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53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301760"/>
                <a:tab algn="ctr" pos="2387520"/>
                <a:tab algn="ctr" pos="3473280"/>
                <a:tab algn="ctr" pos="4559400"/>
                <a:tab algn="ctr" pos="5645160"/>
                <a:tab algn="ct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CT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568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383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225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134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48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1" lang="en-GB" sz="900" spc="-1" strike="noStrike">
                <a:solidFill>
                  <a:srgbClr val="ffffff"/>
                </a:solidFill>
                <a:latin typeface="Lucida Sans"/>
                <a:ea typeface="MS PGothic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-1355040" y="2936160"/>
            <a:ext cx="41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Overall Survival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24360" y="6400800"/>
            <a:ext cx="3276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p-value = stratified log-rank test (2-s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117440" y="981000"/>
            <a:ext cx="6363000" cy="448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0" name=""/>
          <p:cNvGraphicFramePr/>
          <p:nvPr/>
        </p:nvGraphicFramePr>
        <p:xfrm>
          <a:off x="3557520" y="976320"/>
          <a:ext cx="5114880" cy="1892160"/>
        </p:xfrm>
        <a:graphic>
          <a:graphicData uri="http://schemas.openxmlformats.org/drawingml/2006/table">
            <a:tbl>
              <a:tblPr/>
              <a:tblGrid>
                <a:gridCol w="2024280"/>
                <a:gridCol w="1654200"/>
                <a:gridCol w="143640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year surv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80000"/>
                        </a:lnSpc>
                        <a:buClr>
                          <a:srgbClr val="e57800"/>
                        </a:buClr>
                        <a:buFont typeface="Arial"/>
                        <a:buChar char="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+ Cetuxima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55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7800"/>
                          </a:solidFill>
                          <a:latin typeface="Arial"/>
                        </a:rPr>
                        <a:t>11.3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7800"/>
                          </a:solidFill>
                          <a:latin typeface="Arial"/>
                        </a:rPr>
                        <a:t>4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80000"/>
                        </a:lnSpc>
                        <a:buClr>
                          <a:srgbClr val="99ccff"/>
                        </a:buClr>
                        <a:buFont typeface="Arial"/>
                        <a:buChar char="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5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bdfff"/>
                          </a:solidFill>
                          <a:latin typeface="Arial"/>
                        </a:rPr>
                        <a:t>10.1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bdfff"/>
                          </a:solidFill>
                          <a:latin typeface="Arial"/>
                        </a:rPr>
                        <a:t>4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=0.871 (95% CI 0.762–0.996), p=0.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Response Rate with “Biological Triple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50920" y="1341360"/>
          <a:ext cx="8642160" cy="5243760"/>
        </p:xfrm>
        <a:graphic>
          <a:graphicData uri="http://schemas.openxmlformats.org/drawingml/2006/table">
            <a:tbl>
              <a:tblPr/>
              <a:tblGrid>
                <a:gridCol w="1992240"/>
                <a:gridCol w="5641920"/>
                <a:gridCol w="10080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-Vinorelb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-Vinorelbine + Cetuxim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MS 0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platin-Tax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platin-Taxane + Cetuxim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G 45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platin-Paclitax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platin-Paclitaxel-Bevacizum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-Gemcitab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-Gemcitabine-Bevacizum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3" name=""/>
          <p:cNvSpPr/>
          <p:nvPr/>
        </p:nvSpPr>
        <p:spPr>
          <a:xfrm>
            <a:off x="236520" y="1984320"/>
            <a:ext cx="84582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ccec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6520" y="6593040"/>
            <a:ext cx="845820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ccec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RGETED THERAPY CONCOMITANTLY WITH RADI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44480" y="407340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74160" cy="57927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401400" y="257040"/>
            <a:ext cx="82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etuximab + Radiotherapy in H&amp;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1680" y="6380280"/>
            <a:ext cx="225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onner et al. NEJM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44480" y="83664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RGETED THERAPY AS MAINTENANCE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44480" y="3784680"/>
            <a:ext cx="779004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MODALITY APPROACHES IN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1666800"/>
                <a:gridCol w="3281400"/>
                <a:gridCol w="328140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doses of each mod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ential smaller RT 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ter tolerability/decrease tox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radiosensitizing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-insensitive disease continues to grow pre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ential synergy with 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d local tox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of suboptimal dosing of each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ystemic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-RT cyto-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ential smaller RT 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dose chemo might sterilie micro-metastatic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ential synergy with 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-insensitive disease continues to grow pre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d tox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/R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. anti-tumor effect up-fr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ential synergy with 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intense therapy given early so may be easier for patients to tol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d tox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vant full-dose CT after multi-modality therapy might be diffic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515880" y="1913040"/>
            <a:ext cx="809460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5880" y="673740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Gefitinib as Maintenance Therapy after Concurrent Chemoradiation: SWOG 0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4"/>
          <p:cNvPicPr/>
          <p:nvPr/>
        </p:nvPicPr>
        <p:blipFill>
          <a:blip r:embed="rId1"/>
          <a:stretch/>
        </p:blipFill>
        <p:spPr>
          <a:xfrm>
            <a:off x="1332000" y="1855800"/>
            <a:ext cx="6804000" cy="45259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611280" y="1484280"/>
            <a:ext cx="778968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SWOG 0023: Overall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056360" cy="45259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6249240" y="630720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Kelly et al. JC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4480" y="119700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chemoradiation is the standard therapy for unresectable locally-advanced NS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motherapy given before (induction) or after (consolidation) CT/RT is not recommended in clinical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ation of targeted agents with standard therapies represents a promising strategy at the present not recommended outside clinical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44480" y="1268280"/>
            <a:ext cx="779004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04040" y="658008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S -Median survival months, 2 yr- 2 year survival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5308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full 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85000" y="5772240"/>
            <a:ext cx="1357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9880" y="5772240"/>
            <a:ext cx="1635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8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54440" y="5772240"/>
            <a:ext cx="1495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87760" y="5772240"/>
            <a:ext cx="1123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5762520"/>
            <a:ext cx="2323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uber`06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Cb x2 / TCb x2-wkly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85000" y="5186520"/>
            <a:ext cx="13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49880" y="5065560"/>
            <a:ext cx="1635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4440" y="5065560"/>
            <a:ext cx="14954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2.9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87760" y="5065560"/>
            <a:ext cx="1123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970520"/>
            <a:ext cx="1868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Zatloukal `0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Vi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9880" y="4176720"/>
            <a:ext cx="163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4280" y="4178160"/>
            <a:ext cx="146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7760" y="4176720"/>
            <a:ext cx="1123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4880" y="4178160"/>
            <a:ext cx="228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Belani `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Cbx2/TCbx2- wklyx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5000" y="3591000"/>
            <a:ext cx="135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880" y="3444840"/>
            <a:ext cx="1635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4440" y="3444840"/>
            <a:ext cx="149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82800" y="3444840"/>
            <a:ext cx="112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3040" y="3386160"/>
            <a:ext cx="2058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urnel`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Vix3 / PEx2-PVix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5000" y="2970360"/>
            <a:ext cx="13572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0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49880" y="2811600"/>
            <a:ext cx="1635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54440" y="2811600"/>
            <a:ext cx="1495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87760" y="2811600"/>
            <a:ext cx="112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811600"/>
            <a:ext cx="1868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urran`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Vb 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85000" y="2286000"/>
            <a:ext cx="13572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9880" y="2143080"/>
            <a:ext cx="1635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54440" y="2143080"/>
            <a:ext cx="1495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87760" y="2143080"/>
            <a:ext cx="11239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S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y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946160"/>
            <a:ext cx="1868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uruse`99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VdP X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85000" y="1503360"/>
            <a:ext cx="1357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68960" y="1503360"/>
            <a:ext cx="1635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7640" y="1503360"/>
            <a:ext cx="149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qu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87760" y="1484280"/>
            <a:ext cx="1276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503360"/>
            <a:ext cx="186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503360"/>
            <a:ext cx="7480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811600"/>
            <a:ext cx="74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444840"/>
            <a:ext cx="74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106880"/>
            <a:ext cx="748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4898880"/>
            <a:ext cx="748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91240"/>
            <a:ext cx="748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6554880"/>
            <a:ext cx="7485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503360"/>
            <a:ext cx="0" cy="513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5800" y="1522440"/>
            <a:ext cx="0" cy="513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88040" y="1522440"/>
            <a:ext cx="19080" cy="514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1514520"/>
            <a:ext cx="0" cy="513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42200" y="1522440"/>
            <a:ext cx="0" cy="513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1554120"/>
            <a:ext cx="0" cy="513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048040"/>
            <a:ext cx="748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6280" y="4405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urrent vs sequential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hemoradiotherapy in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6"/>
          <p:cNvSpPr/>
          <p:nvPr/>
        </p:nvSpPr>
        <p:spPr>
          <a:xfrm>
            <a:off x="1424160" y="1881360"/>
            <a:ext cx="91800" cy="824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417680" y="1860480"/>
            <a:ext cx="0" cy="385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1391760" y="565452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1391760" y="491004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1391760" y="416088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1391760" y="341640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H="1">
            <a:off x="1391760" y="266868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391760" y="1920960"/>
            <a:ext cx="2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 rot="16200000">
            <a:off x="-1214280" y="3682800"/>
            <a:ext cx="392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urvival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175400" y="556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057680" y="48164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057680" y="40687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057680" y="332280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057680" y="25779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936360" y="1828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1410840" y="5719680"/>
            <a:ext cx="4125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146988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27484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307980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388620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469116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5495760" y="5718240"/>
            <a:ext cx="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1427040" y="6107040"/>
            <a:ext cx="410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me from Randomization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1405800" y="577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2208960" y="577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3017160" y="577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3818880" y="577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4626720" y="577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5304600" y="5773680"/>
            <a:ext cx="38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Comic Sans MS"/>
              </a:rPr>
              <a:t>≥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3153240" y="40384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3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3959640" y="4478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5577480" y="480384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5"/>
          <p:cNvSpPr/>
          <p:nvPr/>
        </p:nvSpPr>
        <p:spPr>
          <a:xfrm>
            <a:off x="1427040" y="195732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1428840" y="1887480"/>
            <a:ext cx="81000" cy="69840"/>
          </a:xfrm>
          <a:prstGeom prst="rect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7"/>
          <p:cNvSpPr/>
          <p:nvPr/>
        </p:nvSpPr>
        <p:spPr>
          <a:xfrm>
            <a:off x="2235240" y="3392640"/>
            <a:ext cx="0" cy="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2235240" y="3319560"/>
            <a:ext cx="77760" cy="73080"/>
          </a:xfrm>
          <a:prstGeom prst="rect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9"/>
          <p:cNvSpPr/>
          <p:nvPr/>
        </p:nvSpPr>
        <p:spPr>
          <a:xfrm>
            <a:off x="3040200" y="4362480"/>
            <a:ext cx="0" cy="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3040200" y="4289400"/>
            <a:ext cx="79200" cy="73080"/>
          </a:xfrm>
          <a:prstGeom prst="rect">
            <a:avLst/>
          </a:prstGeom>
          <a:solidFill>
            <a:srgbClr val="ff000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1"/>
          <p:cNvSpPr/>
          <p:nvPr/>
        </p:nvSpPr>
        <p:spPr>
          <a:xfrm>
            <a:off x="3844800" y="4803840"/>
            <a:ext cx="0" cy="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3844800" y="4730760"/>
            <a:ext cx="79560" cy="73080"/>
          </a:xfrm>
          <a:prstGeom prst="rect">
            <a:avLst/>
          </a:prstGeom>
          <a:solidFill>
            <a:srgbClr val="ff000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3"/>
          <p:cNvSpPr/>
          <p:nvPr/>
        </p:nvSpPr>
        <p:spPr>
          <a:xfrm>
            <a:off x="4651200" y="5005440"/>
            <a:ext cx="0" cy="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4651200" y="4933800"/>
            <a:ext cx="79560" cy="71640"/>
          </a:xfrm>
          <a:prstGeom prst="rect">
            <a:avLst/>
          </a:prstGeom>
          <a:solidFill>
            <a:srgbClr val="ff000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5"/>
          <p:cNvSpPr/>
          <p:nvPr/>
        </p:nvSpPr>
        <p:spPr>
          <a:xfrm>
            <a:off x="5454720" y="5127480"/>
            <a:ext cx="0" cy="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454720" y="5056200"/>
            <a:ext cx="81000" cy="71280"/>
          </a:xfrm>
          <a:prstGeom prst="rect">
            <a:avLst/>
          </a:prstGeom>
          <a:solidFill>
            <a:srgbClr val="ff000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7"/>
          <p:cNvSpPr/>
          <p:nvPr/>
        </p:nvSpPr>
        <p:spPr>
          <a:xfrm>
            <a:off x="1469880" y="1920960"/>
            <a:ext cx="804960" cy="14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8"/>
          <p:cNvSpPr/>
          <p:nvPr/>
        </p:nvSpPr>
        <p:spPr>
          <a:xfrm>
            <a:off x="2274840" y="3354480"/>
            <a:ext cx="804960" cy="9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9"/>
          <p:cNvSpPr/>
          <p:nvPr/>
        </p:nvSpPr>
        <p:spPr>
          <a:xfrm>
            <a:off x="3079800" y="4325760"/>
            <a:ext cx="806400" cy="44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0"/>
          <p:cNvSpPr/>
          <p:nvPr/>
        </p:nvSpPr>
        <p:spPr>
          <a:xfrm>
            <a:off x="3886200" y="4767120"/>
            <a:ext cx="804960" cy="20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1"/>
          <p:cNvSpPr/>
          <p:nvPr/>
        </p:nvSpPr>
        <p:spPr>
          <a:xfrm>
            <a:off x="4691160" y="4967280"/>
            <a:ext cx="804600" cy="123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2"/>
          <p:cNvSpPr/>
          <p:nvPr/>
        </p:nvSpPr>
        <p:spPr>
          <a:xfrm>
            <a:off x="2534040" y="45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3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3"/>
          <p:cNvSpPr/>
          <p:nvPr/>
        </p:nvSpPr>
        <p:spPr>
          <a:xfrm>
            <a:off x="3340440" y="50166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5515560" y="529596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5"/>
          <p:cNvSpPr/>
          <p:nvPr/>
        </p:nvSpPr>
        <p:spPr>
          <a:xfrm>
            <a:off x="1469880" y="188136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7"/>
          <p:cNvSpPr/>
          <p:nvPr/>
        </p:nvSpPr>
        <p:spPr>
          <a:xfrm>
            <a:off x="2274840" y="3378240"/>
            <a:ext cx="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8"/>
          <p:cNvSpPr/>
          <p:nvPr/>
        </p:nvSpPr>
        <p:spPr>
          <a:xfrm>
            <a:off x="2227320" y="3378240"/>
            <a:ext cx="93600" cy="8100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9"/>
          <p:cNvSpPr/>
          <p:nvPr/>
        </p:nvSpPr>
        <p:spPr>
          <a:xfrm>
            <a:off x="3079800" y="4484520"/>
            <a:ext cx="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3033720" y="4484520"/>
            <a:ext cx="92160" cy="8100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1"/>
          <p:cNvSpPr/>
          <p:nvPr/>
        </p:nvSpPr>
        <p:spPr>
          <a:xfrm>
            <a:off x="3886200" y="4938840"/>
            <a:ext cx="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3838680" y="4938840"/>
            <a:ext cx="93600" cy="8100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91160" y="5135400"/>
            <a:ext cx="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4"/>
          <p:cNvSpPr/>
          <p:nvPr/>
        </p:nvSpPr>
        <p:spPr>
          <a:xfrm>
            <a:off x="4646520" y="5135400"/>
            <a:ext cx="90720" cy="860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5"/>
          <p:cNvSpPr/>
          <p:nvPr/>
        </p:nvSpPr>
        <p:spPr>
          <a:xfrm>
            <a:off x="5495760" y="5219640"/>
            <a:ext cx="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6"/>
          <p:cNvSpPr/>
          <p:nvPr/>
        </p:nvSpPr>
        <p:spPr>
          <a:xfrm>
            <a:off x="5448240" y="5219640"/>
            <a:ext cx="93600" cy="824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7"/>
          <p:cNvSpPr/>
          <p:nvPr/>
        </p:nvSpPr>
        <p:spPr>
          <a:xfrm>
            <a:off x="1469880" y="1920960"/>
            <a:ext cx="804960" cy="149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8"/>
          <p:cNvSpPr/>
          <p:nvPr/>
        </p:nvSpPr>
        <p:spPr>
          <a:xfrm>
            <a:off x="2274840" y="3419640"/>
            <a:ext cx="804960" cy="1106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9"/>
          <p:cNvSpPr/>
          <p:nvPr/>
        </p:nvSpPr>
        <p:spPr>
          <a:xfrm>
            <a:off x="3079800" y="4525920"/>
            <a:ext cx="806400" cy="452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0"/>
          <p:cNvSpPr/>
          <p:nvPr/>
        </p:nvSpPr>
        <p:spPr>
          <a:xfrm>
            <a:off x="3886200" y="4978440"/>
            <a:ext cx="804960" cy="198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1"/>
          <p:cNvSpPr/>
          <p:nvPr/>
        </p:nvSpPr>
        <p:spPr>
          <a:xfrm>
            <a:off x="4691160" y="5176800"/>
            <a:ext cx="804600" cy="824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3"/>
          <p:cNvSpPr/>
          <p:nvPr/>
        </p:nvSpPr>
        <p:spPr>
          <a:xfrm>
            <a:off x="4906800" y="2674800"/>
            <a:ext cx="3851280" cy="192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Absolute benefit in OS with concomitant 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t 2 years: 5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t 3 years: 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t 5 years: 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4"/>
          <p:cNvSpPr/>
          <p:nvPr/>
        </p:nvSpPr>
        <p:spPr>
          <a:xfrm>
            <a:off x="4710240" y="22604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R=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0.84 [0.74;0.95]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p=0.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5"/>
          <p:cNvSpPr/>
          <p:nvPr/>
        </p:nvSpPr>
        <p:spPr>
          <a:xfrm>
            <a:off x="6840720" y="4924440"/>
            <a:ext cx="146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T + conc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6"/>
          <p:cNvSpPr/>
          <p:nvPr/>
        </p:nvSpPr>
        <p:spPr>
          <a:xfrm>
            <a:off x="6836400" y="5234040"/>
            <a:ext cx="132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T + seq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7"/>
          <p:cNvSpPr/>
          <p:nvPr/>
        </p:nvSpPr>
        <p:spPr>
          <a:xfrm>
            <a:off x="5937120" y="5075280"/>
            <a:ext cx="1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9"/>
          <p:cNvSpPr/>
          <p:nvPr/>
        </p:nvSpPr>
        <p:spPr>
          <a:xfrm>
            <a:off x="6107040" y="5075280"/>
            <a:ext cx="1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0"/>
          <p:cNvSpPr/>
          <p:nvPr/>
        </p:nvSpPr>
        <p:spPr>
          <a:xfrm>
            <a:off x="6218280" y="5000760"/>
            <a:ext cx="74520" cy="74520"/>
          </a:xfrm>
          <a:prstGeom prst="rect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1"/>
          <p:cNvSpPr/>
          <p:nvPr/>
        </p:nvSpPr>
        <p:spPr>
          <a:xfrm>
            <a:off x="6276960" y="5037120"/>
            <a:ext cx="1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6651720" y="5000760"/>
            <a:ext cx="74520" cy="74520"/>
          </a:xfrm>
          <a:prstGeom prst="rect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3"/>
          <p:cNvSpPr/>
          <p:nvPr/>
        </p:nvSpPr>
        <p:spPr>
          <a:xfrm>
            <a:off x="6229440" y="5035680"/>
            <a:ext cx="423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4"/>
          <p:cNvSpPr/>
          <p:nvPr/>
        </p:nvSpPr>
        <p:spPr>
          <a:xfrm>
            <a:off x="6207120" y="5297400"/>
            <a:ext cx="85680" cy="842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5"/>
          <p:cNvSpPr/>
          <p:nvPr/>
        </p:nvSpPr>
        <p:spPr>
          <a:xfrm>
            <a:off x="6711840" y="5297400"/>
            <a:ext cx="84240" cy="842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6"/>
          <p:cNvSpPr/>
          <p:nvPr/>
        </p:nvSpPr>
        <p:spPr>
          <a:xfrm>
            <a:off x="6272280" y="5297400"/>
            <a:ext cx="84240" cy="8424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7"/>
          <p:cNvSpPr/>
          <p:nvPr/>
        </p:nvSpPr>
        <p:spPr>
          <a:xfrm>
            <a:off x="6300720" y="5346720"/>
            <a:ext cx="4240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0"/>
          <p:cNvSpPr/>
          <p:nvPr/>
        </p:nvSpPr>
        <p:spPr>
          <a:xfrm>
            <a:off x="5242320" y="6553080"/>
            <a:ext cx="39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Auperin A, J Thor Oncol 2007;2 (suppl 4): s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SCLC collaborative group meta-analysis sequential vs concomitant overall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5880" y="162864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resectable stage III NSCL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d CT and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lusions based on phase III t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quential Platinum CT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T reduces distant metastasis rate and improves overall survival compared to RT alon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NSCLC Collab Group Br Med J 1995, Dillman  1996, Le  Chevalier 199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Sause et al Chest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 CT + RT improves both locoregional control and overall survival compared to RT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chaake-Koning et al  N Eng J Med 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Rowell and O`Rourke 2004. www.thecochranelibrary.com  The Cochrane Database of Systematic Re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  CT + RT improves overall survival compared to sequential CT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T , but is more tox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Rowell and O`Rourke 2004. www.thecochranelibrary.com The Cochrane Database of Systematic Re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5880" y="162864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How could we improve resul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uction CT followed by concomitant CT/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CT/RT followed by consolidation 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geted therap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ion therapy as single agent in selected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ion therapy in combination with a standard doublet – “Biological Tripl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ly with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880" y="1557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T followed by CT/RT versus CT/RT: CALGB 39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175280" cy="2765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0" t="0" r="663" b="0"/>
          <a:stretch/>
        </p:blipFill>
        <p:spPr>
          <a:xfrm>
            <a:off x="4716360" y="2421000"/>
            <a:ext cx="4211640" cy="2795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525720" y="6548400"/>
            <a:ext cx="26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ffff00"/>
                </a:solidFill>
                <a:latin typeface="Arial"/>
              </a:rPr>
              <a:t>Vokes</a:t>
            </a:r>
            <a:r>
              <a:rPr b="0" i="1" lang="en-GB" sz="1400" spc="-1" strike="noStrike">
                <a:solidFill>
                  <a:srgbClr val="ffff00"/>
                </a:solidFill>
                <a:latin typeface="Arial"/>
              </a:rPr>
              <a:t> et al. </a:t>
            </a:r>
            <a:r>
              <a:rPr b="0" i="1" lang="nl-BE" sz="1400" spc="-1" strike="noStrike">
                <a:solidFill>
                  <a:srgbClr val="ffff00"/>
                </a:solidFill>
                <a:latin typeface="Arial"/>
              </a:rPr>
              <a:t>J Clin Oncol 2002</a:t>
            </a:r>
            <a:r>
              <a:rPr b="0" i="1" lang="en-GB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880" y="1557360"/>
            <a:ext cx="809460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T followed by CT/RT versus CT/RT: No difference in survival in recent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ction TCb x 2 then std RT or RT/rs T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14 pts. Ms 14.1 vs.18.7 mos.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Huber et al J Clin Oncol 2006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ction TCb x 2 then con TCb/RT or CTRT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66 pts.Ms 14 vs 12 mos. 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Vokes et al  J Clin Oncol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ction  PVi x 2 then std RT or RT/rs Cb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84 pts. Ms 11  vs 14 mos .NS loc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Gervais et al ASCO 2005 abs 7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ction  PG x 2 then con TP/RT or CTRT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4 pts MS 12.6 mos vs 18.2 mos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Kim et al J Thor 2007 s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ction TP x 2 then std RT or RT/wkl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51 pts MS 13.1 mos vs 15.1 mos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iseo J Thor Oncol 2008 abst 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880" y="1413000"/>
            <a:ext cx="8094600" cy="75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44:31Z</dcterms:created>
  <dc:creator> </dc:creator>
  <dc:description/>
  <dc:language>en-US</dc:language>
  <cp:lastModifiedBy>Capuzzo</cp:lastModifiedBy>
  <dcterms:modified xsi:type="dcterms:W3CDTF">2009-09-11T07:33:02Z</dcterms:modified>
  <cp:revision>136</cp:revision>
  <dc:subject/>
  <dc:title>CASE REPORT: HER2 MUTATION AND RESPONSE TO TRASTUZUMAB THERAPY</dc:title>
</cp:coreProperties>
</file>