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91813" cy="7559675"/>
  <p:notesSz cx="6846888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539-F62C-4DF1-AB61-F0B1F768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960" y="466164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302-CC91-40E4-821A-911C85A7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6624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6C9-898A-4901-BF7F-D4055B83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04268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496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864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04268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FED-5540-42E6-BB02-6ACE4592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2185-F8DC-440B-B595-958B1BB0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6D82-1C71-4AB4-9CD1-A96C4DBD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5D4C-1633-4D38-B083-35204179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E516-96B3-4304-A43B-F39368B7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E220-4DC8-423D-9E9C-93BE2CEB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960" y="77616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F269-B916-45E7-B3EA-C811CBEB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5D5F-AF74-480C-ABF9-EA1434F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137-EDD8-4116-9481-CFC905C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624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045D-5D76-4708-990D-D3634B3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F1D9-100F-43F6-8DE2-19CE8406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960" y="466164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82CD-3B56-4A8C-9D5B-1149BFE1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624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66B9-2173-4535-A0F0-7231739D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268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96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864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268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5BE6-5CE6-4330-BE28-FC84201B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CE3-821C-4D9F-A62A-C7D778F5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7C9-855F-497F-B814-F9077208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49B-5F53-4C70-B04B-07E20900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4960" y="77616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33F-669B-49B9-98C6-0AF55733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352-F376-420A-8D18-4B5A5BE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6624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841-D251-4D0E-BFBF-6DD66FA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C57-A59B-4D27-B11C-E00CDAE0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11160" y="-7920"/>
            <a:ext cx="10715760" cy="1147680"/>
          </a:xfrm>
          <a:custGeom>
            <a:avLst/>
            <a:gdLst>
              <a:gd name="textAreaLeft" fmla="*/ 0 w 10715760"/>
              <a:gd name="textAreaRight" fmla="*/ 10716120 w 1071576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5124600" y="-7920"/>
            <a:ext cx="5568840" cy="703080"/>
          </a:xfrm>
          <a:custGeom>
            <a:avLst/>
            <a:gdLst>
              <a:gd name="textAreaLeft" fmla="*/ 0 w 5568840"/>
              <a:gd name="textAreaRight" fmla="*/ 5568840 w 556884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8640" indent="-28080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42920" indent="-280800">
              <a:spcBef>
                <a:spcPts val="7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55760" indent="-239760">
              <a:spcBef>
                <a:spcPts val="7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68600" indent="-239760">
              <a:spcBef>
                <a:spcPts val="7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68600" indent="-239760">
              <a:spcBef>
                <a:spcPts val="75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68600" indent="-239760">
              <a:spcBef>
                <a:spcPts val="75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  <a:defRPr b="0" lang="en-US" sz="14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0" lang="en-US" sz="14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19400" y="7008840"/>
            <a:ext cx="39211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267840" y="7008840"/>
            <a:ext cx="89064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  <a:defRPr b="0" lang="en-GB" sz="14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fld id="{289B41D3-D329-4B46-BB2C-7BDAECAFCF3A}" type="slidenum">
              <a:rPr b="0" lang="en-GB" sz="14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22320" y="223920"/>
            <a:ext cx="10736640" cy="714240"/>
            <a:chOff x="-22320" y="223920"/>
            <a:chExt cx="10736640" cy="71424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22320" y="223920"/>
              <a:ext cx="10712160" cy="714240"/>
              <a:chOff x="-22320" y="223920"/>
              <a:chExt cx="10712160" cy="71424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6851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1960" y="539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135000"/>
                    <a:tab algn="l" pos="270000"/>
                    <a:tab algn="l" pos="404640"/>
                    <a:tab algn="l" pos="539640"/>
                    <a:tab algn="l" pos="674640"/>
                    <a:tab algn="l" pos="809640"/>
                    <a:tab algn="l" pos="944640"/>
                    <a:tab algn="l" pos="1079640"/>
                    <a:tab algn="l" pos="1214280"/>
                    <a:tab algn="l" pos="1349280"/>
                    <a:tab algn="l" pos="1484280"/>
                    <a:tab algn="l" pos="1619280"/>
                    <a:tab algn="l" pos="1754280"/>
                    <a:tab algn="l" pos="1889280"/>
                    <a:tab algn="l" pos="2023920"/>
                    <a:tab algn="l" pos="2158920"/>
                    <a:tab algn="l" pos="2293920"/>
                    <a:tab algn="l" pos="2428920"/>
                    <a:tab algn="l" pos="2563920"/>
                    <a:tab algn="l" pos="269892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22320" y="275400"/>
              <a:ext cx="10736640" cy="618480"/>
              <a:chOff x="-22320" y="275400"/>
              <a:chExt cx="10736640" cy="61848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600" y="275400"/>
                <a:ext cx="10717920" cy="61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1960" y="588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135000"/>
                    <a:tab algn="l" pos="270000"/>
                    <a:tab algn="l" pos="404640"/>
                    <a:tab algn="l" pos="539640"/>
                    <a:tab algn="l" pos="674640"/>
                    <a:tab algn="l" pos="809640"/>
                    <a:tab algn="l" pos="944640"/>
                    <a:tab algn="l" pos="1079640"/>
                    <a:tab algn="l" pos="1214280"/>
                    <a:tab algn="l" pos="1349280"/>
                    <a:tab algn="l" pos="1484280"/>
                    <a:tab algn="l" pos="1619280"/>
                    <a:tab algn="l" pos="1754280"/>
                    <a:tab algn="l" pos="1889280"/>
                    <a:tab algn="l" pos="2023920"/>
                    <a:tab algn="l" pos="2158920"/>
                    <a:tab algn="l" pos="2293920"/>
                    <a:tab algn="l" pos="2428920"/>
                    <a:tab algn="l" pos="2563920"/>
                    <a:tab algn="l" pos="269892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itaglia e arrotonda singolo angolo rettangolo 13"/>
          <p:cNvSpPr/>
          <p:nvPr/>
        </p:nvSpPr>
        <p:spPr>
          <a:xfrm flipV="1" rot="420000">
            <a:off x="3701880" y="1222200"/>
            <a:ext cx="6148440" cy="4535640"/>
          </a:xfrm>
          <a:custGeom>
            <a:avLst/>
            <a:gdLst/>
            <a:ahLst/>
            <a:rect l="l" t="t" r="r" b="b"/>
            <a:pathLst>
              <a:path w="6148388" h="4535488">
                <a:moveTo>
                  <a:pt x="0" y="0"/>
                </a:moveTo>
                <a:lnTo>
                  <a:pt x="5983024" y="0"/>
                </a:lnTo>
                <a:lnTo>
                  <a:pt x="6148388" y="165364"/>
                </a:lnTo>
                <a:lnTo>
                  <a:pt x="6148388" y="4535488"/>
                </a:lnTo>
                <a:lnTo>
                  <a:pt x="0" y="453548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iangolo rettangolo 14"/>
          <p:cNvSpPr/>
          <p:nvPr/>
        </p:nvSpPr>
        <p:spPr>
          <a:xfrm flipV="1" rot="420000">
            <a:off x="9360000" y="5907960"/>
            <a:ext cx="182520" cy="1717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3240" bIns="32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igura a mano libera 15"/>
          <p:cNvSpPr/>
          <p:nvPr/>
        </p:nvSpPr>
        <p:spPr>
          <a:xfrm flipV="1">
            <a:off x="-10800" y="6412320"/>
            <a:ext cx="10715760" cy="1148040"/>
          </a:xfrm>
          <a:custGeom>
            <a:avLst/>
            <a:gdLst>
              <a:gd name="textAreaLeft" fmla="*/ 0 w 10715760"/>
              <a:gd name="textAreaRight" fmla="*/ 10716120 w 10715760"/>
              <a:gd name="textAreaTop" fmla="*/ -360 h 1148040"/>
              <a:gd name="textAreaBottom" fmla="*/ 1148040 h 1148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igura a mano libera 16"/>
          <p:cNvSpPr/>
          <p:nvPr/>
        </p:nvSpPr>
        <p:spPr>
          <a:xfrm flipV="1">
            <a:off x="5124600" y="6858000"/>
            <a:ext cx="5568840" cy="703440"/>
          </a:xfrm>
          <a:custGeom>
            <a:avLst/>
            <a:gdLst>
              <a:gd name="textAreaLeft" fmla="*/ 0 w 5568840"/>
              <a:gd name="textAreaRight" fmla="*/ 5568840 w 5568840"/>
              <a:gd name="textAreaTop" fmla="*/ 360 h 703440"/>
              <a:gd name="textAreaBottom" fmla="*/ 704160 h 7034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8640" indent="-28080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42920" indent="-280800">
              <a:spcBef>
                <a:spcPts val="7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55760" indent="-239760">
              <a:spcBef>
                <a:spcPts val="7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68600" indent="-239760">
              <a:spcBef>
                <a:spcPts val="7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68600" indent="-239760">
              <a:spcBef>
                <a:spcPts val="75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68600" indent="-239760">
              <a:spcBef>
                <a:spcPts val="75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  <a:defRPr b="0" lang="en-US" sz="14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0" lang="en-US" sz="14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19400" y="7008840"/>
            <a:ext cx="39211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9445680" y="7008840"/>
            <a:ext cx="7128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  <a:defRPr b="0" lang="en-GB" sz="14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fld id="{1FA57B85-9251-4D54-9A55-9780227F406C}" type="slidenum">
              <a:rPr b="0" lang="en-GB" sz="14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"/>
          <p:cNvSpPr/>
          <p:nvPr/>
        </p:nvSpPr>
        <p:spPr>
          <a:xfrm>
            <a:off x="1631880" y="1065240"/>
            <a:ext cx="717552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103320"/>
                <a:tab algn="l" pos="380880"/>
                <a:tab algn="l" pos="657360"/>
                <a:tab algn="l" pos="934920"/>
                <a:tab algn="l" pos="1212840"/>
                <a:tab algn="l" pos="1490760"/>
                <a:tab algn="l" pos="1768320"/>
                <a:tab algn="l" pos="2044800"/>
                <a:tab algn="l" pos="2322360"/>
                <a:tab algn="l" pos="2600280"/>
                <a:tab algn="l" pos="2878200"/>
                <a:tab algn="l" pos="3156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477120"/>
                <a:tab algn="l" pos="6611760"/>
                <a:tab algn="l" pos="674676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à “G. D’Annunzi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3320" indent="-103320" algn="ctr">
              <a:lnSpc>
                <a:spcPct val="100000"/>
              </a:lnSpc>
              <a:tabLst>
                <a:tab algn="l" pos="0"/>
                <a:tab algn="l" pos="103320"/>
                <a:tab algn="l" pos="380880"/>
                <a:tab algn="l" pos="657360"/>
                <a:tab algn="l" pos="934920"/>
                <a:tab algn="l" pos="1212840"/>
                <a:tab algn="l" pos="1490760"/>
                <a:tab algn="l" pos="1768320"/>
                <a:tab algn="l" pos="2044800"/>
                <a:tab algn="l" pos="2322360"/>
                <a:tab algn="l" pos="2600280"/>
                <a:tab algn="l" pos="2878200"/>
                <a:tab algn="l" pos="3156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477120"/>
                <a:tab algn="l" pos="6611760"/>
                <a:tab algn="l" pos="674676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oltà di Medicina e Chirurgia-Scuola di Specializzazione in Radioterap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3320" indent="-103320" algn="ctr">
              <a:lnSpc>
                <a:spcPct val="100000"/>
              </a:lnSpc>
              <a:tabLst>
                <a:tab algn="l" pos="0"/>
                <a:tab algn="l" pos="103320"/>
                <a:tab algn="l" pos="380880"/>
                <a:tab algn="l" pos="657360"/>
                <a:tab algn="l" pos="934920"/>
                <a:tab algn="l" pos="1212840"/>
                <a:tab algn="l" pos="1490760"/>
                <a:tab algn="l" pos="1768320"/>
                <a:tab algn="l" pos="2044800"/>
                <a:tab algn="l" pos="2322360"/>
                <a:tab algn="l" pos="2600280"/>
                <a:tab algn="l" pos="2878200"/>
                <a:tab algn="l" pos="3156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477120"/>
                <a:tab algn="l" pos="6611760"/>
                <a:tab algn="l" pos="674676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. Giampiero Ausili Cèfa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74680" y="2422440"/>
            <a:ext cx="97790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DIFFUSION-WEIGHTED  MR  IMAGING IN RECTAL CANCER  AT  3.0T M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OULD  IT  PREDICT  RESPONSE  TO NEOADJUVANT  RADIO-CHEMOTHERAPY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31800" y="3924360"/>
            <a:ext cx="9550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611760"/>
                <a:tab algn="l" pos="674676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</a:tabLst>
            </a:pPr>
            <a:r>
              <a:rPr b="1" lang="en-GB" sz="1600" spc="-1" strike="noStrike" u="sng">
                <a:solidFill>
                  <a:srgbClr val="bbe0e3"/>
                </a:solidFill>
                <a:uFillTx/>
                <a:latin typeface="Times New Roman"/>
              </a:rPr>
              <a:t>S. ADORISIO</a:t>
            </a:r>
            <a:r>
              <a:rPr b="1" lang="en-GB" sz="1600" spc="-1" strike="noStrike">
                <a:solidFill>
                  <a:srgbClr val="bbe0e3"/>
                </a:solidFill>
                <a:latin typeface="Times New Roman"/>
              </a:rPr>
              <a:t>; V. BORZILLO;  A. FILIPPONE; D. GENOVESI; G. AUSILI CEFA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9936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38"/>
          <p:cNvSpPr/>
          <p:nvPr/>
        </p:nvSpPr>
        <p:spPr>
          <a:xfrm>
            <a:off x="9358200" y="71280"/>
            <a:ext cx="1292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TOPIC 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N° 9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876920"/>
            <a:ext cx="10693440" cy="1094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</a:tabLst>
            </a:pPr>
            <a:r>
              <a:rPr b="1" lang="en-GB" sz="1600" spc="-1" strike="noStrike" u="sng">
                <a:solidFill>
                  <a:srgbClr val="66ff33"/>
                </a:solidFill>
                <a:uFillTx/>
                <a:latin typeface="Times New Roman"/>
              </a:rPr>
              <a:t>INTRODUCTION  AND  PURPOSE</a:t>
            </a:r>
            <a:r>
              <a:rPr b="1" lang="en-GB" sz="1600" spc="-1" strike="noStrike">
                <a:solidFill>
                  <a:srgbClr val="66ff33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aim of study was to evaluate the added value of  diffusion-weighted imaging (DWI) in predicting the complete response (CR) to neoadjuvant  Radio-Chemotherapy (CRT) for locally advanced Rectal Cancer (LAR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1"/>
          <p:cNvSpPr/>
          <p:nvPr/>
        </p:nvSpPr>
        <p:spPr>
          <a:xfrm>
            <a:off x="0" y="1065240"/>
            <a:ext cx="106934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lang="en-GB" sz="1600" spc="-1" strike="noStrike" u="sng">
                <a:solidFill>
                  <a:srgbClr val="66ff33"/>
                </a:solidFill>
                <a:uFillTx/>
                <a:latin typeface="Times New Roman"/>
              </a:rPr>
              <a:t>MATERIALS AND METHODS</a:t>
            </a:r>
            <a:r>
              <a:rPr b="1" lang="en-GB" sz="1600" spc="-1" strike="noStrike">
                <a:solidFill>
                  <a:srgbClr val="66ff33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 patients with LARC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rolled in the study             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 currently evaluat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patients underwent preoperative Radiotherapy 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dose  of  50.4- 55 Gy ,1.8 Gy daily, +/- boost in 25-28 fractions) associated with concomitant Chemotherapy fluoropirimidine and platinum bas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gery was performed  6–8 weeks  after  the  completion  of  radio-chemotherap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0T  conventional  MRI  plus  DWI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-values 0, 1000 s/mm2), performed before CRT and surgery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compared with  the  histopathologic  response  scored  by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rd Tumor Regression Grade system (TR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 Analysis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 performed by comparing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 MRI  plus  DWI  images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CRT  and Post-CR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 Analysis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assessed by measurement  of  ADC values (x10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3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m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sec) in MRI  DWI pre-CRT and post-CRT  (ADC: Apparent Diffusion Coeffici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Connettore 2 3"/>
          <p:cNvCxnSpPr/>
          <p:nvPr/>
        </p:nvCxnSpPr>
        <p:spPr>
          <a:xfrm>
            <a:off x="4203720" y="1922040"/>
            <a:ext cx="357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"/>
          <p:cNvPicPr/>
          <p:nvPr/>
        </p:nvPicPr>
        <p:blipFill>
          <a:blip r:embed="rId1"/>
          <a:srcRect l="26876" t="30469" r="38126" b="35939"/>
          <a:stretch/>
        </p:blipFill>
        <p:spPr>
          <a:xfrm>
            <a:off x="125280" y="2136600"/>
            <a:ext cx="3409920" cy="1946520"/>
          </a:xfrm>
          <a:prstGeom prst="rect">
            <a:avLst/>
          </a:prstGeom>
          <a:ln w="9360">
            <a:solidFill>
              <a:srgbClr val="ccff33"/>
            </a:solidFill>
            <a:miter/>
          </a:ln>
        </p:spPr>
      </p:pic>
      <p:pic>
        <p:nvPicPr>
          <p:cNvPr id="104" name="Picture 14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918480" y="2136600"/>
            <a:ext cx="3514680" cy="197820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5"/>
          <p:cNvSpPr/>
          <p:nvPr/>
        </p:nvSpPr>
        <p:spPr>
          <a:xfrm>
            <a:off x="1703520" y="306540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376" h="404">
                <a:moveTo>
                  <a:pt x="62" y="119"/>
                </a:moveTo>
                <a:cubicBezTo>
                  <a:pt x="47" y="116"/>
                  <a:pt x="29" y="119"/>
                  <a:pt x="16" y="110"/>
                </a:cubicBezTo>
                <a:cubicBezTo>
                  <a:pt x="0" y="99"/>
                  <a:pt x="7" y="66"/>
                  <a:pt x="16" y="55"/>
                </a:cubicBezTo>
                <a:cubicBezTo>
                  <a:pt x="32" y="36"/>
                  <a:pt x="66" y="17"/>
                  <a:pt x="89" y="9"/>
                </a:cubicBezTo>
                <a:cubicBezTo>
                  <a:pt x="111" y="14"/>
                  <a:pt x="131" y="31"/>
                  <a:pt x="153" y="27"/>
                </a:cubicBezTo>
                <a:cubicBezTo>
                  <a:pt x="164" y="25"/>
                  <a:pt x="170" y="11"/>
                  <a:pt x="181" y="9"/>
                </a:cubicBezTo>
                <a:cubicBezTo>
                  <a:pt x="211" y="2"/>
                  <a:pt x="242" y="3"/>
                  <a:pt x="272" y="0"/>
                </a:cubicBezTo>
                <a:cubicBezTo>
                  <a:pt x="275" y="12"/>
                  <a:pt x="271" y="30"/>
                  <a:pt x="281" y="37"/>
                </a:cubicBezTo>
                <a:cubicBezTo>
                  <a:pt x="296" y="48"/>
                  <a:pt x="333" y="28"/>
                  <a:pt x="336" y="46"/>
                </a:cubicBezTo>
                <a:cubicBezTo>
                  <a:pt x="373" y="243"/>
                  <a:pt x="376" y="231"/>
                  <a:pt x="309" y="302"/>
                </a:cubicBezTo>
                <a:cubicBezTo>
                  <a:pt x="297" y="399"/>
                  <a:pt x="315" y="404"/>
                  <a:pt x="245" y="357"/>
                </a:cubicBezTo>
                <a:cubicBezTo>
                  <a:pt x="231" y="317"/>
                  <a:pt x="209" y="312"/>
                  <a:pt x="171" y="293"/>
                </a:cubicBezTo>
                <a:cubicBezTo>
                  <a:pt x="159" y="257"/>
                  <a:pt x="168" y="236"/>
                  <a:pt x="181" y="201"/>
                </a:cubicBezTo>
                <a:cubicBezTo>
                  <a:pt x="184" y="210"/>
                  <a:pt x="181" y="226"/>
                  <a:pt x="190" y="229"/>
                </a:cubicBezTo>
                <a:cubicBezTo>
                  <a:pt x="244" y="244"/>
                  <a:pt x="263" y="214"/>
                  <a:pt x="235" y="174"/>
                </a:cubicBezTo>
                <a:cubicBezTo>
                  <a:pt x="230" y="166"/>
                  <a:pt x="217" y="168"/>
                  <a:pt x="208" y="165"/>
                </a:cubicBezTo>
                <a:cubicBezTo>
                  <a:pt x="175" y="142"/>
                  <a:pt x="174" y="128"/>
                  <a:pt x="162" y="91"/>
                </a:cubicBezTo>
                <a:cubicBezTo>
                  <a:pt x="150" y="97"/>
                  <a:pt x="139" y="105"/>
                  <a:pt x="126" y="110"/>
                </a:cubicBezTo>
                <a:cubicBezTo>
                  <a:pt x="108" y="117"/>
                  <a:pt x="71" y="128"/>
                  <a:pt x="71" y="128"/>
                </a:cubicBezTo>
                <a:cubicBezTo>
                  <a:pt x="37" y="117"/>
                  <a:pt x="33" y="119"/>
                  <a:pt x="62" y="119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3680" bIns="13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6"/>
          <p:cNvSpPr/>
          <p:nvPr/>
        </p:nvSpPr>
        <p:spPr>
          <a:xfrm>
            <a:off x="8632800" y="3065400"/>
            <a:ext cx="214200" cy="2142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32" h="256">
                <a:moveTo>
                  <a:pt x="205" y="256"/>
                </a:moveTo>
                <a:cubicBezTo>
                  <a:pt x="178" y="231"/>
                  <a:pt x="146" y="212"/>
                  <a:pt x="122" y="183"/>
                </a:cubicBezTo>
                <a:cubicBezTo>
                  <a:pt x="59" y="106"/>
                  <a:pt x="144" y="198"/>
                  <a:pt x="86" y="137"/>
                </a:cubicBezTo>
                <a:cubicBezTo>
                  <a:pt x="74" y="102"/>
                  <a:pt x="66" y="95"/>
                  <a:pt x="31" y="83"/>
                </a:cubicBezTo>
                <a:cubicBezTo>
                  <a:pt x="0" y="50"/>
                  <a:pt x="18" y="44"/>
                  <a:pt x="40" y="9"/>
                </a:cubicBezTo>
                <a:cubicBezTo>
                  <a:pt x="49" y="12"/>
                  <a:pt x="58" y="21"/>
                  <a:pt x="67" y="19"/>
                </a:cubicBezTo>
                <a:cubicBezTo>
                  <a:pt x="76" y="17"/>
                  <a:pt x="77" y="0"/>
                  <a:pt x="86" y="0"/>
                </a:cubicBezTo>
                <a:cubicBezTo>
                  <a:pt x="105" y="0"/>
                  <a:pt x="141" y="19"/>
                  <a:pt x="141" y="19"/>
                </a:cubicBezTo>
                <a:cubicBezTo>
                  <a:pt x="144" y="28"/>
                  <a:pt x="144" y="39"/>
                  <a:pt x="150" y="46"/>
                </a:cubicBezTo>
                <a:cubicBezTo>
                  <a:pt x="157" y="54"/>
                  <a:pt x="172" y="55"/>
                  <a:pt x="177" y="64"/>
                </a:cubicBezTo>
                <a:cubicBezTo>
                  <a:pt x="203" y="110"/>
                  <a:pt x="171" y="163"/>
                  <a:pt x="232" y="183"/>
                </a:cubicBezTo>
                <a:cubicBezTo>
                  <a:pt x="229" y="201"/>
                  <a:pt x="232" y="222"/>
                  <a:pt x="223" y="238"/>
                </a:cubicBezTo>
                <a:cubicBezTo>
                  <a:pt x="218" y="246"/>
                  <a:pt x="202" y="240"/>
                  <a:pt x="195" y="247"/>
                </a:cubicBezTo>
                <a:cubicBezTo>
                  <a:pt x="192" y="250"/>
                  <a:pt x="202" y="253"/>
                  <a:pt x="205" y="256"/>
                </a:cubicBez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3680" bIns="13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42920" y="2136600"/>
            <a:ext cx="1631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103560"/>
                <a:tab algn="l" pos="3238560"/>
                <a:tab algn="l" pos="3373560"/>
                <a:tab algn="l" pos="3508200"/>
                <a:tab algn="l" pos="3643200"/>
                <a:tab algn="l" pos="3778200"/>
                <a:tab algn="l" pos="3913200"/>
                <a:tab algn="l" pos="4048200"/>
                <a:tab algn="l" pos="4183200"/>
                <a:tab algn="l" pos="4317840"/>
                <a:tab algn="l" pos="4452840"/>
                <a:tab algn="l" pos="4587840"/>
                <a:tab algn="l" pos="4722840"/>
                <a:tab algn="l" pos="4857840"/>
                <a:tab algn="l" pos="4992840"/>
                <a:tab algn="l" pos="5127480"/>
                <a:tab algn="l" pos="5262480"/>
                <a:tab algn="l" pos="5397480"/>
                <a:tab algn="l" pos="5532480"/>
                <a:tab algn="l" pos="566748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Constantia"/>
                <a:ea typeface="Times New Roman"/>
              </a:rPr>
              <a:t>Pre-CRT</a:t>
            </a:r>
            <a:r>
              <a:rPr b="1" i="1" lang="en-GB" sz="16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103560"/>
                <a:tab algn="l" pos="3238560"/>
                <a:tab algn="l" pos="3373560"/>
                <a:tab algn="l" pos="3508200"/>
                <a:tab algn="l" pos="3643200"/>
                <a:tab algn="l" pos="3778200"/>
                <a:tab algn="l" pos="3913200"/>
                <a:tab algn="l" pos="4048200"/>
                <a:tab algn="l" pos="4183200"/>
                <a:tab algn="l" pos="4317840"/>
                <a:tab algn="l" pos="4452840"/>
                <a:tab algn="l" pos="4587840"/>
                <a:tab algn="l" pos="4722840"/>
                <a:tab algn="l" pos="4857840"/>
                <a:tab algn="l" pos="4992840"/>
                <a:tab algn="l" pos="5127480"/>
                <a:tab algn="l" pos="5262480"/>
                <a:tab algn="l" pos="5397480"/>
                <a:tab algn="l" pos="5532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3"/>
          <p:cNvSpPr/>
          <p:nvPr/>
        </p:nvSpPr>
        <p:spPr>
          <a:xfrm>
            <a:off x="4275000" y="3852720"/>
            <a:ext cx="1428840" cy="393840"/>
          </a:xfrm>
          <a:prstGeom prst="rightArrow">
            <a:avLst>
              <a:gd name="adj1" fmla="val 50000"/>
              <a:gd name="adj2" fmla="val 431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32"/>
          <p:cNvSpPr/>
          <p:nvPr/>
        </p:nvSpPr>
        <p:spPr>
          <a:xfrm>
            <a:off x="4254480" y="3355920"/>
            <a:ext cx="1469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alibri"/>
              </a:rPr>
              <a:t>6-8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alibri"/>
              </a:rPr>
              <a:t>after C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Immagine5"/>
          <p:cNvPicPr/>
          <p:nvPr/>
        </p:nvPicPr>
        <p:blipFill>
          <a:blip r:embed="rId3"/>
          <a:stretch/>
        </p:blipFill>
        <p:spPr>
          <a:xfrm>
            <a:off x="131760" y="4138560"/>
            <a:ext cx="3429000" cy="206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cautillo diffusione post 3"/>
          <p:cNvPicPr/>
          <p:nvPr/>
        </p:nvPicPr>
        <p:blipFill>
          <a:blip r:embed="rId4"/>
          <a:srcRect l="29562" t="33595" r="37532" b="31984"/>
          <a:stretch/>
        </p:blipFill>
        <p:spPr>
          <a:xfrm>
            <a:off x="6918480" y="4138560"/>
            <a:ext cx="3500280" cy="1928880"/>
          </a:xfrm>
          <a:prstGeom prst="rect">
            <a:avLst/>
          </a:prstGeom>
          <a:ln w="9360">
            <a:solidFill>
              <a:srgbClr val="ccff33"/>
            </a:solidFill>
            <a:miter/>
          </a:ln>
        </p:spPr>
      </p:pic>
      <p:cxnSp>
        <p:nvCxnSpPr>
          <p:cNvPr id="112" name="Connettore 2 41"/>
          <p:cNvCxnSpPr/>
          <p:nvPr/>
        </p:nvCxnSpPr>
        <p:spPr>
          <a:xfrm flipH="1">
            <a:off x="8918280" y="5209200"/>
            <a:ext cx="218160" cy="6084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13" name="Connettore 2 42"/>
          <p:cNvCxnSpPr/>
          <p:nvPr/>
        </p:nvCxnSpPr>
        <p:spPr>
          <a:xfrm flipH="1">
            <a:off x="8846280" y="5066280"/>
            <a:ext cx="221400" cy="6084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14" name="Text Box 18"/>
          <p:cNvSpPr/>
          <p:nvPr/>
        </p:nvSpPr>
        <p:spPr>
          <a:xfrm>
            <a:off x="6918480" y="2136600"/>
            <a:ext cx="1436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103560"/>
                <a:tab algn="l" pos="3238560"/>
                <a:tab algn="l" pos="3373560"/>
                <a:tab algn="l" pos="3508200"/>
                <a:tab algn="l" pos="3643200"/>
                <a:tab algn="l" pos="3778200"/>
                <a:tab algn="l" pos="3913200"/>
                <a:tab algn="l" pos="4048200"/>
                <a:tab algn="l" pos="4183200"/>
                <a:tab algn="l" pos="4317840"/>
                <a:tab algn="l" pos="4452840"/>
                <a:tab algn="l" pos="4587840"/>
                <a:tab algn="l" pos="4722840"/>
                <a:tab algn="l" pos="4857840"/>
                <a:tab algn="l" pos="4992840"/>
                <a:tab algn="l" pos="5127480"/>
                <a:tab algn="l" pos="5262480"/>
                <a:tab algn="l" pos="5397480"/>
                <a:tab algn="l" pos="5532480"/>
                <a:tab algn="l" pos="5667480"/>
              </a:tabLst>
            </a:pPr>
            <a:r>
              <a:rPr b="1" i="1" lang="en-GB" sz="1400" spc="-1" strike="noStrike">
                <a:solidFill>
                  <a:srgbClr val="ffff00"/>
                </a:solidFill>
                <a:latin typeface="Constantia"/>
              </a:rPr>
              <a:t>Post-C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77"/>
          <p:cNvSpPr/>
          <p:nvPr/>
        </p:nvSpPr>
        <p:spPr>
          <a:xfrm>
            <a:off x="2777760" y="4138560"/>
            <a:ext cx="744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DWI MRI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78"/>
          <p:cNvSpPr/>
          <p:nvPr/>
        </p:nvSpPr>
        <p:spPr>
          <a:xfrm>
            <a:off x="2347920" y="2136600"/>
            <a:ext cx="1214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 MR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79"/>
          <p:cNvSpPr/>
          <p:nvPr/>
        </p:nvSpPr>
        <p:spPr>
          <a:xfrm>
            <a:off x="9205920" y="2136600"/>
            <a:ext cx="1214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 MR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3"/>
          <p:cNvSpPr/>
          <p:nvPr/>
        </p:nvSpPr>
        <p:spPr>
          <a:xfrm>
            <a:off x="1846440" y="506736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98" h="274">
                <a:moveTo>
                  <a:pt x="152" y="265"/>
                </a:moveTo>
                <a:cubicBezTo>
                  <a:pt x="173" y="201"/>
                  <a:pt x="152" y="216"/>
                  <a:pt x="198" y="201"/>
                </a:cubicBezTo>
                <a:cubicBezTo>
                  <a:pt x="195" y="167"/>
                  <a:pt x="198" y="132"/>
                  <a:pt x="188" y="100"/>
                </a:cubicBezTo>
                <a:cubicBezTo>
                  <a:pt x="185" y="90"/>
                  <a:pt x="168" y="90"/>
                  <a:pt x="161" y="82"/>
                </a:cubicBezTo>
                <a:cubicBezTo>
                  <a:pt x="155" y="75"/>
                  <a:pt x="157" y="63"/>
                  <a:pt x="152" y="55"/>
                </a:cubicBezTo>
                <a:cubicBezTo>
                  <a:pt x="150" y="52"/>
                  <a:pt x="118" y="19"/>
                  <a:pt x="115" y="18"/>
                </a:cubicBezTo>
                <a:cubicBezTo>
                  <a:pt x="98" y="10"/>
                  <a:pt x="60" y="0"/>
                  <a:pt x="60" y="0"/>
                </a:cubicBezTo>
                <a:cubicBezTo>
                  <a:pt x="45" y="3"/>
                  <a:pt x="28" y="1"/>
                  <a:pt x="15" y="9"/>
                </a:cubicBezTo>
                <a:cubicBezTo>
                  <a:pt x="6" y="15"/>
                  <a:pt x="0" y="58"/>
                  <a:pt x="15" y="64"/>
                </a:cubicBezTo>
                <a:cubicBezTo>
                  <a:pt x="44" y="75"/>
                  <a:pt x="76" y="70"/>
                  <a:pt x="106" y="73"/>
                </a:cubicBezTo>
                <a:cubicBezTo>
                  <a:pt x="113" y="137"/>
                  <a:pt x="104" y="204"/>
                  <a:pt x="124" y="265"/>
                </a:cubicBezTo>
                <a:cubicBezTo>
                  <a:pt x="127" y="274"/>
                  <a:pt x="143" y="265"/>
                  <a:pt x="152" y="265"/>
                </a:cubicBez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720" rIns="27720" tIns="13680" bIns="13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tangolo 83"/>
          <p:cNvSpPr/>
          <p:nvPr/>
        </p:nvSpPr>
        <p:spPr>
          <a:xfrm>
            <a:off x="9635760" y="4138560"/>
            <a:ext cx="744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DWI MRI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21"/>
          <p:cNvSpPr/>
          <p:nvPr/>
        </p:nvSpPr>
        <p:spPr>
          <a:xfrm>
            <a:off x="0" y="1494000"/>
            <a:ext cx="1069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 Analysis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 performed by comparing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 MRI  plus  DWI  images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CRT  and Post-CR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22"/>
          <p:cNvSpPr/>
          <p:nvPr/>
        </p:nvSpPr>
        <p:spPr>
          <a:xfrm>
            <a:off x="2060640" y="851040"/>
            <a:ext cx="50720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Qualita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9320" y="3637080"/>
          <a:ext cx="5803920" cy="2833560"/>
        </p:xfrm>
        <a:graphic>
          <a:graphicData uri="http://schemas.openxmlformats.org/drawingml/2006/table">
            <a:tbl>
              <a:tblPr/>
              <a:tblGrid>
                <a:gridCol w="1050840"/>
                <a:gridCol w="358920"/>
                <a:gridCol w="1171440"/>
                <a:gridCol w="1352520"/>
                <a:gridCol w="1077840"/>
                <a:gridCol w="792360"/>
              </a:tblGrid>
              <a:tr h="58572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 C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T C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960" rIns="3996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Δ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9960" rIns="3996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OND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39960" rIns="3996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9068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83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35000"/>
                          <a:tab algn="l" pos="270000"/>
                          <a:tab algn="l" pos="404640"/>
                          <a:tab algn="l" pos="539640"/>
                          <a:tab algn="l" pos="674640"/>
                          <a:tab algn="l" pos="809640"/>
                          <a:tab algn="l" pos="944640"/>
                          <a:tab algn="l" pos="1079640"/>
                          <a:tab algn="l" pos="1214280"/>
                          <a:tab algn="l" pos="1349280"/>
                          <a:tab algn="l" pos="1484280"/>
                          <a:tab algn="l" pos="1619280"/>
                          <a:tab algn="l" pos="1754280"/>
                          <a:tab algn="l" pos="1889280"/>
                          <a:tab algn="l" pos="2023920"/>
                          <a:tab algn="l" pos="2158920"/>
                          <a:tab algn="l" pos="2293920"/>
                          <a:tab algn="l" pos="2428920"/>
                          <a:tab algn="l" pos="2563920"/>
                          <a:tab algn="l" pos="269892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35000"/>
                          <a:tab algn="l" pos="270000"/>
                          <a:tab algn="l" pos="404640"/>
                          <a:tab algn="l" pos="539640"/>
                          <a:tab algn="l" pos="674640"/>
                          <a:tab algn="l" pos="809640"/>
                          <a:tab algn="l" pos="944640"/>
                          <a:tab algn="l" pos="1079640"/>
                          <a:tab algn="l" pos="1214280"/>
                          <a:tab algn="l" pos="1349280"/>
                          <a:tab algn="l" pos="1484280"/>
                          <a:tab algn="l" pos="1619280"/>
                          <a:tab algn="l" pos="1754280"/>
                          <a:tab algn="l" pos="1889280"/>
                          <a:tab algn="l" pos="2023920"/>
                          <a:tab algn="l" pos="2158920"/>
                          <a:tab algn="l" pos="2293920"/>
                          <a:tab algn="l" pos="2428920"/>
                          <a:tab algn="l" pos="2563920"/>
                          <a:tab algn="l" pos="269892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9960" rIns="3996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RESPOND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 rowSpan="2">
                  <a:txBody>
                    <a:bodyPr lIns="39960" rIns="3996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p = 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8572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35000"/>
                          <a:tab algn="l" pos="270000"/>
                          <a:tab algn="l" pos="404640"/>
                          <a:tab algn="l" pos="539640"/>
                          <a:tab algn="l" pos="674640"/>
                          <a:tab algn="l" pos="809640"/>
                          <a:tab algn="l" pos="944640"/>
                          <a:tab algn="l" pos="1079640"/>
                          <a:tab algn="l" pos="1214280"/>
                          <a:tab algn="l" pos="1349280"/>
                          <a:tab algn="l" pos="1484280"/>
                          <a:tab algn="l" pos="1619280"/>
                          <a:tab algn="l" pos="1754280"/>
                          <a:tab algn="l" pos="1889280"/>
                          <a:tab algn="l" pos="2023920"/>
                          <a:tab algn="l" pos="2158920"/>
                          <a:tab algn="l" pos="2293920"/>
                          <a:tab algn="l" pos="2428920"/>
                          <a:tab algn="l" pos="2563920"/>
                          <a:tab algn="l" pos="269892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35000"/>
                          <a:tab algn="l" pos="270000"/>
                          <a:tab algn="l" pos="404640"/>
                          <a:tab algn="l" pos="539640"/>
                          <a:tab algn="l" pos="674640"/>
                          <a:tab algn="l" pos="809640"/>
                          <a:tab algn="l" pos="944640"/>
                          <a:tab algn="l" pos="1079640"/>
                          <a:tab algn="l" pos="1214280"/>
                          <a:tab algn="l" pos="1349280"/>
                          <a:tab algn="l" pos="1484280"/>
                          <a:tab algn="l" pos="1619280"/>
                          <a:tab algn="l" pos="1754280"/>
                          <a:tab algn="l" pos="1889280"/>
                          <a:tab algn="l" pos="2023920"/>
                          <a:tab algn="l" pos="2158920"/>
                          <a:tab algn="l" pos="2293920"/>
                          <a:tab algn="l" pos="2428920"/>
                          <a:tab algn="l" pos="2563920"/>
                          <a:tab algn="l" pos="269892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Object 72"/>
          <p:cNvGraphicFramePr/>
          <p:nvPr/>
        </p:nvGraphicFramePr>
        <p:xfrm>
          <a:off x="5943600" y="3637080"/>
          <a:ext cx="474984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637080"/>
                    <a:ext cx="474984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CasellaDiTesto 85"/>
          <p:cNvSpPr/>
          <p:nvPr/>
        </p:nvSpPr>
        <p:spPr>
          <a:xfrm>
            <a:off x="0" y="6559560"/>
            <a:ext cx="58467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C: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 differential between  Pre-CRT ADC and Post-CRT AD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86"/>
          <p:cNvSpPr/>
          <p:nvPr/>
        </p:nvSpPr>
        <p:spPr>
          <a:xfrm>
            <a:off x="0" y="2494080"/>
            <a:ext cx="106934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17 patients (Responders): TRG grade 1-2 </a:t>
            </a:r>
            <a:r>
              <a:rPr b="1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C  5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/17 patients ( No Responders): TRG grade 3-4 </a:t>
            </a:r>
            <a:r>
              <a:rPr b="1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C  2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C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higher (58%) in Responders than No Responders (28%)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60680" y="922320"/>
            <a:ext cx="46990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Quantit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tangolo 6"/>
          <p:cNvSpPr/>
          <p:nvPr/>
        </p:nvSpPr>
        <p:spPr>
          <a:xfrm>
            <a:off x="0" y="1636560"/>
            <a:ext cx="106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 Analysis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assessed by measurement  of  ADC values (x10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3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m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sec) in MRI  DWI pre-CRT and post-CRT  (ADC: Apparent Diffusion Coeffici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1636560"/>
            <a:ext cx="106934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14040" bIns="14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I  combined  with  conventional  MR  images seems to improve significantly the  ability  of  MRI  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ct  the  CR  after preoperative  CRT  in  patients  with  L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rther studies with larger patient sample are recommended to demonstrate a definitive correlation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DCs and the T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2"/>
          <p:cNvSpPr/>
          <p:nvPr/>
        </p:nvSpPr>
        <p:spPr>
          <a:xfrm>
            <a:off x="3929760" y="922320"/>
            <a:ext cx="20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lang="en-GB" sz="1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CONCLUSIONS</a:t>
            </a:r>
            <a:r>
              <a:rPr b="1" lang="en-GB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Adorisio</dc:creator>
  <dc:description/>
  <dc:language>en-US</dc:language>
  <cp:lastModifiedBy>tecno</cp:lastModifiedBy>
  <dcterms:modified xsi:type="dcterms:W3CDTF">2010-11-14T11:35:44Z</dcterms:modified>
  <cp:revision>110</cp:revision>
  <dc:subject/>
  <dc:title>Diapositiva 1</dc:title>
</cp:coreProperties>
</file>