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31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A42F6-D8FB-4366-8FA6-9419D53125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B4C4C-F89F-4529-AD50-69E4E1A296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299A6-5CE3-4417-B4F9-F0DBD80950D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1FD2-DCE7-46A0-8809-1E1EFD669C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2AFA1-1CB1-4E1F-86EC-23693A274B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0F033-3DD7-4D8C-B56A-8B2DCEE691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1C6E-CB38-4B76-B1C2-FDD0E59CE0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0CC82-00BC-4CD7-A9CF-452B0485D5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911BD-7F02-4CBE-9E54-AF72400C1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9BFEA-D0AF-4CCA-AE81-973AA49AAB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ED14E-AAAB-40A3-BD58-87A0E2859B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BF05-7197-41B3-AEE5-CD8CE09BB1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D7A-5CA3-46C1-9BF0-50EAE5AA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BA4-4C36-42CD-85B2-183BCE5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D44-F381-42C7-90E9-53A209F2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10E-E72B-4C61-9A49-C0F77F42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2BD-3045-4C58-B5FA-CDFF96CF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E40-4022-4D0F-B1BB-E4B4F5D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F8A-AD0D-4310-9EE6-39A3FDC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05D-BE96-45BE-8EA3-38B6EECB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7B2-BA3C-4DA4-B3B6-1E58F67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287-C058-4AC1-B887-0AD08B7B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271-0D1A-4C09-81EE-B6D957A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092-4B30-4EEB-B1F7-55E96C4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341C7-5EE0-4A82-87E3-CA5CF140813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4360" y="2808360"/>
            <a:ext cx="77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332000" y="4581360"/>
            <a:ext cx="6435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nzo Corv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.C. Oncologia Radioterap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stituto Nazionale per la Ricerca sul Canc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 Università degli Studi di Gen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944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812000" y="5157720"/>
            <a:ext cx="100800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219640" y="632952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14280" y="264312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A RISPOSTA DELLE CELLULE STAMINALI TUMORALI ALLE RADIAZIONI IONIZZA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30" descr="top"/>
          <p:cNvPicPr/>
          <p:nvPr/>
        </p:nvPicPr>
        <p:blipFill>
          <a:blip r:embed="rId3"/>
          <a:stretch/>
        </p:blipFill>
        <p:spPr>
          <a:xfrm>
            <a:off x="2286000" y="214200"/>
            <a:ext cx="4545000" cy="20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CSC: ABLE TO DAMAGE REPAIR</a:t>
            </a:r>
            <a:br>
              <a:rPr sz="36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(more GSH, more DNA repair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77080" cy="4307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832200" y="632952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aionk F et al, Stem Cells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CSC: able to recruitment</a:t>
            </a:r>
            <a:br>
              <a:rPr sz="4400"/>
            </a:b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(less TGF-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, more Notch ligand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39080" cy="410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98492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43280" y="6237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aionk F et al, Stem Cells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CSC: able to fast repopu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4600" indent="0" algn="ctr">
              <a:buNone/>
              <a:tabLst>
                <a:tab algn="l" pos="0"/>
                <a:tab algn="l" pos="622440"/>
                <a:tab algn="l" pos="9907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CSC: less able to reoxygenation</a:t>
            </a:r>
            <a:br>
              <a:rPr sz="40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(in non perivascular niche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636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he five Rs of radiobiology meet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he hallmarks of cancer</a:t>
            </a:r>
            <a:br>
              <a:rPr sz="2800"/>
            </a:br>
            <a:r>
              <a:rPr b="1" lang="it-IT" sz="2400" spc="-1" strike="noStrike">
                <a:solidFill>
                  <a:srgbClr val="ffea27"/>
                </a:solidFill>
                <a:latin typeface="Arial"/>
              </a:rPr>
              <a:t>Harrington K et al, Clin Oncol 19:561-571, 2007</a:t>
            </a:r>
            <a:r>
              <a:rPr b="0" lang="it-IT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698400" y="6021360"/>
            <a:ext cx="761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1"/>
          <p:cNvSpPr/>
          <p:nvPr/>
        </p:nvSpPr>
        <p:spPr>
          <a:xfrm>
            <a:off x="1042920" y="189000"/>
            <a:ext cx="4321080" cy="424800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46">
                  <a:alpha val="83137"/>
                </a:srgbClr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3924360" y="260280"/>
            <a:ext cx="4319640" cy="424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>
                  <a:alpha val="60000"/>
                </a:srgbClr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556000" y="2421000"/>
            <a:ext cx="4319640" cy="42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59215"/>
                </a:srgbClr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1557360"/>
            <a:ext cx="2232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AGRounded BT"/>
              </a:rPr>
              <a:t>Re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859280" y="1700280"/>
            <a:ext cx="410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AGRounded BT"/>
              </a:rPr>
              <a:t>Intrinsic Radio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403280" y="260280"/>
            <a:ext cx="302436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VAGRounde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accelerated / hyper  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chemo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VAGRounde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580000" y="260280"/>
            <a:ext cx="33847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Chemo-radio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AGRounded BT"/>
              </a:rPr>
              <a:t>Escalating RT d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419640" y="4925880"/>
            <a:ext cx="3024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VAGRounde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AGRounded BT"/>
              </a:rPr>
              <a:t>Radiosensit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VAGRounde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AGRounded BT"/>
              </a:rPr>
              <a:t>Targeted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843280" y="4255920"/>
            <a:ext cx="1584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000099"/>
                </a:solidFill>
                <a:uFillTx/>
                <a:latin typeface="VAGRounded BT"/>
              </a:rPr>
              <a:t>Hypox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43280" y="2781360"/>
            <a:ext cx="3816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VAGRounded BT"/>
              </a:rPr>
              <a:t>HOW TO KILL CANCER STEM CE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003640" y="4260960"/>
            <a:ext cx="1441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000099"/>
                </a:solidFill>
                <a:uFillTx/>
                <a:latin typeface="VAGRounded BT"/>
              </a:rPr>
              <a:t>EGF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01360" y="6521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WE CAN KILL WHAT WE CAN SEE, </a:t>
            </a:r>
            <a:br>
              <a:rPr sz="3200"/>
            </a:b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IT IS OFTEN WHAT WE CANNOT SEE THAT KILLS THE PATI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0" name="Picture 9" descr="z9"/>
          <p:cNvPicPr/>
          <p:nvPr/>
        </p:nvPicPr>
        <p:blipFill>
          <a:blip r:embed="rId1"/>
          <a:stretch/>
        </p:blipFill>
        <p:spPr>
          <a:xfrm>
            <a:off x="179280" y="2492280"/>
            <a:ext cx="4464000" cy="3024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0370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788000" y="198900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WE CAN SEE 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G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MACROSCOPIC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WE ONLY PRESUME WHERE  MICROSCOP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DISEASE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CTV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AN L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ARGINS AFTER RT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FREE, CLOSE OR INVOLVED MARG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OF (CTV) P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553440" cy="4969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61920" cy="1114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408560" y="5753160"/>
            <a:ext cx="36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35600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Kock U. et al, Sem Cancer Biol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9800" cy="612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7524720" y="5516640"/>
            <a:ext cx="1314360" cy="94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7667640" y="404640"/>
            <a:ext cx="9619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linical implications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 reduction in tumor size does not imply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SCs are being eliminated from the t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n effective treatment that kill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SCs might produce little or no measu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hange in the tumor mass  but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pletely eliminate the cancer ability to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623" t="1134" r="2623" b="968"/>
          <a:stretch/>
        </p:blipFill>
        <p:spPr>
          <a:xfrm>
            <a:off x="5940360" y="4365720"/>
            <a:ext cx="2449440" cy="1944720"/>
          </a:xfrm>
          <a:prstGeom prst="rect">
            <a:avLst/>
          </a:prstGeom>
          <a:ln w="9360">
            <a:solidFill>
              <a:srgbClr val="00b000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6659640" y="6329520"/>
            <a:ext cx="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2" descr="HerceptinFab"/>
          <p:cNvPicPr/>
          <p:nvPr/>
        </p:nvPicPr>
        <p:blipFill>
          <a:blip r:embed="rId3"/>
          <a:stretch/>
        </p:blipFill>
        <p:spPr>
          <a:xfrm>
            <a:off x="3348000" y="1989000"/>
            <a:ext cx="2879640" cy="179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266400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MPLEXITY IN RADIOBIOLOGY: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FROM LABORATORY TO  CLINICAL TREATMEN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ANCER STEM CELLS IN SOLID TUMORS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3168720" cy="244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3851280" y="4869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ancer Stem Cells CD 44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n HNS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AFTER INDUCTION CHEMOTHERAP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6520" y="1844640"/>
            <a:ext cx="40370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ccumulation of treatment-resistant CSCs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oco-regional contr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aner but meaner   tum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Rosenthal et al, IJROBP 199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Concomitant </a:t>
            </a:r>
            <a:br>
              <a:rPr sz="4000"/>
            </a:b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chemo-radiotherapy (which agent?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FDG-PET and CS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apidly proliferating cancer cells  (progenitors, tran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ells) forms the bulk of tumor, rely on glycolisi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equires increased glucose 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- CSCs are mostly quiescent and metabolize glucos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xidative phosphorilation rather than glyco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reas with high number of quiescent CSCs with low/moderate  glucose uptake are not dete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y FDG-P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linical Implications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2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we should be careful about the evidence from re-evaluation of response  with CT, RM or P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ersisting tumor mass at CT/MR after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nvolved margins after radical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ersisting FDG uptake after RT(CT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End-life cancer cells or CSC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90544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0" y="549360"/>
            <a:ext cx="896472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647280"/>
            <a:ext cx="777384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DALLA RADIOTERAPIA 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a DISTRIBUZIONE OMOGENEA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DELLA DOSE  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ALL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RADIOTERAPIA a DISTRIBUZIONE ETEROGENEA DELLA D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cp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41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67984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050920" y="5084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70 Gy= TCP=90%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164360" y="9288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CP dro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down from 90% to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451640" y="3645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Boost-S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392200" y="57992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Homoge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tu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276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Heteroge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u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Arial"/>
              </a:rPr>
              <a:t>HETEROGENEOUS DOSE DISTRIBUTION and Tumor Control Probability -TC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HOT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Boost dose up to 20%-30% of the dose may improve T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Critical tissues must not be inside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6520" y="2133360"/>
            <a:ext cx="424656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COLD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 20% dose deficit in 1% of target volume reduces TCP fro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90%-100% to 4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264360" cy="597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61920" cy="1114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3348000" y="638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Kock U. et al, Sem Cancer Biol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Act locally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(Radiotherapy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Think globa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(Radiobiolo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372360" y="189000"/>
            <a:ext cx="2520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rcRect l="2623" t="1134" r="2623" b="968"/>
          <a:stretch/>
        </p:blipFill>
        <p:spPr>
          <a:xfrm>
            <a:off x="179280" y="189000"/>
            <a:ext cx="2448000" cy="1871640"/>
          </a:xfrm>
          <a:prstGeom prst="rect">
            <a:avLst/>
          </a:prstGeom>
          <a:ln w="9360">
            <a:solidFill>
              <a:srgbClr val="00b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553080" cy="597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7667640" y="5013360"/>
            <a:ext cx="1314360" cy="94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9619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 algn="ctr"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Take-home message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Complete tumor respons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o radiotherapy may mean an excellent outcome (cure) if cancer stem cells are the killed cells 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or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 poor outcome (failure) if cancer stem cells are the surviving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fluence of microenviroment fac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Take-home message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Partial tumor respons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to radiotherapy may mean a poor outcome (failure) if cancer stem cells are the surviving cells 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an excellent outcome (cure) if cancer stem cells are the killed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us ! </a:t>
            </a:r>
            <a:r>
              <a:rPr b="1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BIOLOGY-DRIVEN RADI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8" name="Picture 4" descr="genova(1)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431640" y="-573480"/>
            <a:ext cx="8207640" cy="7467120"/>
            <a:chOff x="431640" y="-573480"/>
            <a:chExt cx="8207640" cy="7467120"/>
          </a:xfrm>
        </p:grpSpPr>
        <p:sp>
          <p:nvSpPr>
            <p:cNvPr id="72" name="AutoShape 3"/>
            <p:cNvSpPr/>
            <p:nvPr/>
          </p:nvSpPr>
          <p:spPr>
            <a:xfrm>
              <a:off x="431640" y="-228600"/>
              <a:ext cx="8207640" cy="677196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4"/>
            <p:cNvSpPr/>
            <p:nvPr/>
          </p:nvSpPr>
          <p:spPr>
            <a:xfrm>
              <a:off x="2057040" y="278280"/>
              <a:ext cx="4956840" cy="5758560"/>
            </a:xfrm>
            <a:custGeom>
              <a:avLst/>
              <a:gdLst>
                <a:gd name="textAreaLeft" fmla="*/ 0 w 4956840"/>
                <a:gd name="textAreaRight" fmla="*/ 4956840 w 4956840"/>
                <a:gd name="textAreaTop" fmla="*/ 0 h 5758560"/>
                <a:gd name="textAreaBottom" fmla="*/ 27720 h 57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5"/>
            <p:cNvSpPr/>
            <p:nvPr/>
          </p:nvSpPr>
          <p:spPr>
            <a:xfrm rot="7200000">
              <a:off x="1662480" y="682560"/>
              <a:ext cx="5758560" cy="495648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4956480"/>
                <a:gd name="textAreaBottom" fmla="*/ 23760 h 495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6"/>
            <p:cNvSpPr/>
            <p:nvPr/>
          </p:nvSpPr>
          <p:spPr>
            <a:xfrm rot="14400000">
              <a:off x="1656000" y="680400"/>
              <a:ext cx="5758560" cy="495684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4956840"/>
                <a:gd name="textAreaBottom" fmla="*/ 23760 h 49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5566320" y="1080000"/>
              <a:ext cx="1512360" cy="17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STROMAL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3779280" y="4676040"/>
              <a:ext cx="151236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INFILTRATING INFLAMMATORY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9"/>
            <p:cNvSpPr/>
            <p:nvPr/>
          </p:nvSpPr>
          <p:spPr>
            <a:xfrm>
              <a:off x="1991880" y="1081800"/>
              <a:ext cx="151272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TUMOR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10" descr="radiob02"/>
          <p:cNvPicPr/>
          <p:nvPr/>
        </p:nvPicPr>
        <p:blipFill>
          <a:blip r:embed="rId1"/>
          <a:stretch/>
        </p:blipFill>
        <p:spPr>
          <a:xfrm>
            <a:off x="3780000" y="2637000"/>
            <a:ext cx="1512720" cy="1363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55640" y="5805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TUMOR BU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395280" y="-609480"/>
            <a:ext cx="8351640" cy="7510320"/>
            <a:chOff x="395280" y="-609480"/>
            <a:chExt cx="8351640" cy="7510320"/>
          </a:xfrm>
        </p:grpSpPr>
        <p:sp>
          <p:nvSpPr>
            <p:cNvPr id="82" name="AutoShape 2"/>
            <p:cNvSpPr/>
            <p:nvPr/>
          </p:nvSpPr>
          <p:spPr>
            <a:xfrm>
              <a:off x="395280" y="-243000"/>
              <a:ext cx="8351640" cy="677196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3"/>
            <p:cNvSpPr/>
            <p:nvPr/>
          </p:nvSpPr>
          <p:spPr>
            <a:xfrm>
              <a:off x="2049120" y="263880"/>
              <a:ext cx="5043960" cy="5758560"/>
            </a:xfrm>
            <a:custGeom>
              <a:avLst/>
              <a:gdLst>
                <a:gd name="textAreaLeft" fmla="*/ 0 w 5043960"/>
                <a:gd name="textAreaRight" fmla="*/ 5044320 w 5043960"/>
                <a:gd name="textAreaTop" fmla="*/ 0 h 5758560"/>
                <a:gd name="textAreaBottom" fmla="*/ 27720 h 57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 rot="7200000">
              <a:off x="1698120" y="624240"/>
              <a:ext cx="5758560" cy="504360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5043600"/>
                <a:gd name="textAreaBottom" fmla="*/ 24120 h 50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5"/>
            <p:cNvSpPr/>
            <p:nvPr/>
          </p:nvSpPr>
          <p:spPr>
            <a:xfrm rot="14400000">
              <a:off x="1691280" y="622800"/>
              <a:ext cx="5758560" cy="504396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5043960"/>
                <a:gd name="textAreaBottom" fmla="*/ 24120 h 504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5620320" y="1065600"/>
              <a:ext cx="1539000" cy="17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NON-STEM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TRANSITIONAL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(limited proliferative capacit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801600" y="4661640"/>
              <a:ext cx="153900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DIFFERENTIATED END –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(non-proliferating cells</a:t>
              </a: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1982880" y="1067400"/>
              <a:ext cx="153936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CANCER STEM C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(mantain tumor growth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9" name="Picture 12" descr="radiob02"/>
          <p:cNvPicPr/>
          <p:nvPr/>
        </p:nvPicPr>
        <p:blipFill>
          <a:blip r:embed="rId1"/>
          <a:stretch/>
        </p:blipFill>
        <p:spPr>
          <a:xfrm>
            <a:off x="3780000" y="2637000"/>
            <a:ext cx="1512720" cy="1363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3"/>
          <p:cNvSpPr/>
          <p:nvPr/>
        </p:nvSpPr>
        <p:spPr>
          <a:xfrm>
            <a:off x="755640" y="5805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HIERARCHIC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asellaDiTesto 11"/>
          <p:cNvSpPr/>
          <p:nvPr/>
        </p:nvSpPr>
        <p:spPr>
          <a:xfrm>
            <a:off x="428760" y="3571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UMO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"/>
          <p:cNvGrpSpPr/>
          <p:nvPr/>
        </p:nvGrpSpPr>
        <p:grpSpPr>
          <a:xfrm>
            <a:off x="395280" y="-609480"/>
            <a:ext cx="8351640" cy="7510320"/>
            <a:chOff x="395280" y="-609480"/>
            <a:chExt cx="8351640" cy="7510320"/>
          </a:xfrm>
        </p:grpSpPr>
        <p:sp>
          <p:nvSpPr>
            <p:cNvPr id="93" name="AutoShape 2"/>
            <p:cNvSpPr/>
            <p:nvPr/>
          </p:nvSpPr>
          <p:spPr>
            <a:xfrm>
              <a:off x="395280" y="-243000"/>
              <a:ext cx="8351640" cy="677196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2049120" y="263880"/>
              <a:ext cx="5043960" cy="5758560"/>
            </a:xfrm>
            <a:custGeom>
              <a:avLst/>
              <a:gdLst>
                <a:gd name="textAreaLeft" fmla="*/ 0 w 5043960"/>
                <a:gd name="textAreaRight" fmla="*/ 5044320 w 5043960"/>
                <a:gd name="textAreaTop" fmla="*/ 0 h 5758560"/>
                <a:gd name="textAreaBottom" fmla="*/ 27720 h 57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 rot="7200000">
              <a:off x="1698120" y="624240"/>
              <a:ext cx="5758560" cy="504360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5043600"/>
                <a:gd name="textAreaBottom" fmla="*/ 24120 h 50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 rot="14400000">
              <a:off x="1691280" y="622800"/>
              <a:ext cx="5758560" cy="5043960"/>
            </a:xfrm>
            <a:custGeom>
              <a:avLst/>
              <a:gdLst>
                <a:gd name="textAreaLeft" fmla="*/ 0 w 5758560"/>
                <a:gd name="textAreaRight" fmla="*/ 5758920 w 5758560"/>
                <a:gd name="textAreaTop" fmla="*/ 0 h 5043960"/>
                <a:gd name="textAreaBottom" fmla="*/ 24120 h 504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9" y="4564"/>
                  </a:moveTo>
                  <a:cubicBezTo>
                    <a:pt x="8294" y="3932"/>
                    <a:pt x="9536" y="3600"/>
                    <a:pt x="10799" y="3600"/>
                  </a:cubicBezTo>
                  <a:cubicBezTo>
                    <a:pt x="12063" y="3599"/>
                    <a:pt x="13305" y="3932"/>
                    <a:pt x="14399" y="4564"/>
                  </a:cubicBezTo>
                  <a:lnTo>
                    <a:pt x="16199" y="1446"/>
                  </a:lnTo>
                  <a:cubicBezTo>
                    <a:pt x="14558" y="499"/>
                    <a:pt x="12695" y="0"/>
                    <a:pt x="10800" y="0"/>
                  </a:cubicBezTo>
                  <a:cubicBezTo>
                    <a:pt x="8904" y="-1"/>
                    <a:pt x="7041" y="499"/>
                    <a:pt x="5399" y="1446"/>
                  </a:cubicBezTo>
                  <a:lnTo>
                    <a:pt x="7199" y="4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5620320" y="1065600"/>
              <a:ext cx="1539000" cy="17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NON-STEM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TRANSITIONAL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   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(limited proliferative capacit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3801600" y="4661640"/>
              <a:ext cx="153900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DIFFERENTIATED END –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Arial"/>
                </a:rPr>
                <a:t>(non-proliferating cells</a:t>
              </a: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1982880" y="1067400"/>
              <a:ext cx="1539360" cy="17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CANCER STEM C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00"/>
                  </a:solidFill>
                  <a:latin typeface="Arial"/>
                </a:rPr>
                <a:t>(mantain tumor growth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0" name="Picture 12" descr="radiob02"/>
          <p:cNvPicPr/>
          <p:nvPr/>
        </p:nvPicPr>
        <p:blipFill>
          <a:blip r:embed="rId1"/>
          <a:stretch/>
        </p:blipFill>
        <p:spPr>
          <a:xfrm>
            <a:off x="3780000" y="2637000"/>
            <a:ext cx="151272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755640" y="5805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HIERARCHIC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asellaDiTesto 11"/>
          <p:cNvSpPr/>
          <p:nvPr/>
        </p:nvSpPr>
        <p:spPr>
          <a:xfrm>
            <a:off x="428760" y="357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lonogenity in labor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319480" y="10526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259680" y="1025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Gross Tumor Volu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39607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Small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subset of cancer stem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Large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subset of cancer non-stem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Burden of cancer stem cells may modulat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4800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7144920" y="4600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G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ANCER STEM CELLS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re able to expand the CSC pool  (self-renew)  or differentiate into cancer progenitor cells by symmetric, asymmetric or restrictive di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have tumorigenic potential when transplanted into immunodeficient 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can have cell surface mark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(i.e.  CD133+, CD44+, CD24+,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generally are in G0 phase (not cycl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 algn="ctr"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ANCER STEM CELLS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have different density, distribution, sensitivity to therapy in different solid t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tends to accumulate in specific tumor areas with a special microenvironment “niches” generally associated with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are in “niches” in bone and in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are associated with “epitelial-mesenchimal transition” (EMT)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SC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can be highly resistant to radi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why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0:39:33Z</dcterms:created>
  <dc:creator>Renzo Corvò</dc:creator>
  <dc:description/>
  <dc:language>en-US</dc:language>
  <cp:lastModifiedBy>tecno</cp:lastModifiedBy>
  <dcterms:modified xsi:type="dcterms:W3CDTF">2010-11-14T07:17:34Z</dcterms:modified>
  <cp:revision>99</cp:revision>
  <dc:subject/>
  <dc:title>Tecniche speciali in radioterapia</dc:title>
</cp:coreProperties>
</file>