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"/>
          <p:cNvSpPr/>
          <p:nvPr/>
        </p:nvSpPr>
        <p:spPr>
          <a:xfrm>
            <a:off x="7740720" y="6524640"/>
            <a:ext cx="1260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Verdana"/>
              </a:rPr>
              <a:t>Page </a:t>
            </a:r>
            <a:fld id="{F6639E4C-802C-4E0D-8DFC-B573AEB9BDFF}" type="slidenum">
              <a:rPr b="1" lang="fr-FR" sz="1400" spc="-1" strike="noStrike">
                <a:solidFill>
                  <a:srgbClr val="0000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4"/>
          <p:cNvSpPr/>
          <p:nvPr/>
        </p:nvSpPr>
        <p:spPr>
          <a:xfrm>
            <a:off x="179280" y="981000"/>
            <a:ext cx="871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  <a:ea typeface="Arial Unicode MS"/>
              </a:rPr>
              <a:t>Technical data in postoperative radiotherapy for head and neck cancer in Italy: results from the head and neck working party of AI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" name="Picture 5" descr="logoairo"/>
          <p:cNvPicPr/>
          <p:nvPr/>
        </p:nvPicPr>
        <p:blipFill>
          <a:blip r:embed="rId1"/>
          <a:stretch/>
        </p:blipFill>
        <p:spPr>
          <a:xfrm>
            <a:off x="6659640" y="4502160"/>
            <a:ext cx="2484360" cy="235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2549520" y="2565360"/>
          <a:ext cx="4038480" cy="26845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2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n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4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NA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rebuchet MS"/>
                          <a:ea typeface="Arial Unicode MS"/>
                        </a:rPr>
                        <a:t>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Text Box 13"/>
          <p:cNvSpPr/>
          <p:nvPr/>
        </p:nvSpPr>
        <p:spPr>
          <a:xfrm>
            <a:off x="252360" y="617400"/>
            <a:ext cx="87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Nodal extracapsular extension (200 p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3"/>
          <p:cNvSpPr/>
          <p:nvPr/>
        </p:nvSpPr>
        <p:spPr>
          <a:xfrm>
            <a:off x="324000" y="6271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Immobilization techn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692360" y="2076480"/>
          <a:ext cx="5699160" cy="3373560"/>
        </p:xfrm>
        <a:graphic>
          <a:graphicData uri="http://schemas.openxmlformats.org/drawingml/2006/table">
            <a:tbl>
              <a:tblPr/>
              <a:tblGrid>
                <a:gridCol w="2849400"/>
                <a:gridCol w="28497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ead mas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9292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4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92929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ead and shoulders mas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9292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4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92929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ead mask with shoulder depress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9292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9292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no immob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9292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9292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24000" y="3398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Planning and delivery techn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676520" y="1628640"/>
          <a:ext cx="5775120" cy="4294440"/>
        </p:xfrm>
        <a:graphic>
          <a:graphicData uri="http://schemas.openxmlformats.org/drawingml/2006/table">
            <a:tbl>
              <a:tblPr/>
              <a:tblGrid>
                <a:gridCol w="2887560"/>
                <a:gridCol w="2887560"/>
              </a:tblGrid>
              <a:tr h="830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3D si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3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</a:tr>
              <a:tr h="830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3D compl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4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</a:tr>
              <a:tr h="830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M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</a:tr>
              <a:tr h="974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Tomotherap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324000" y="4842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Dose levels (rang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92120" y="1851120"/>
          <a:ext cx="8118360" cy="3452760"/>
        </p:xfrm>
        <a:graphic>
          <a:graphicData uri="http://schemas.openxmlformats.org/drawingml/2006/table">
            <a:tbl>
              <a:tblPr/>
              <a:tblGrid>
                <a:gridCol w="4059360"/>
                <a:gridCol w="4059000"/>
              </a:tblGrid>
              <a:tr h="84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 PTVs were delineated in 64% of p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igh – risk PTV: 60 – 7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low – risk PTV: 50 – 5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3 PTVs were defined in 11% of p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high – risk PTV: 63 – 66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ntermediate – risk PTV: 54 – 6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low – risk PTV: 50 – 5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</a:tr>
              <a:tr h="870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ingle dose level in 25% of p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50 – 66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24000" y="6271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Fractio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92120" y="2147760"/>
          <a:ext cx="8118360" cy="2684520"/>
        </p:xfrm>
        <a:graphic>
          <a:graphicData uri="http://schemas.openxmlformats.org/drawingml/2006/table">
            <a:tbl>
              <a:tblPr/>
              <a:tblGrid>
                <a:gridCol w="4059360"/>
                <a:gridCol w="4059000"/>
              </a:tblGrid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 Gy per fx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72% of p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</a:tr>
              <a:tr h="87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.8 Gy per f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8% of p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.61 – 2.2 Gy per fx (IMR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0% of p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3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24000" y="295200"/>
            <a:ext cx="8424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Com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primary site: it is known tha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179280" y="1971720"/>
            <a:ext cx="8785440" cy="39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involvement of surgical margins: strongest predictor of local rela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highest total dose (66 G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weaker factors: pT3, pT4, multifocality, neural and vascular inva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lower doses (60 G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none of these factors present: primary site should be omitted from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179280" y="1911240"/>
            <a:ext cx="8785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involvement of margins (25% of pts) adequately treated in the majority of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primary site treated with ≥ 60 Gy in 92% of ca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however: only 67% of cases with close margins (20% of pts) were treated with a dose ≥ 60 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more interestingly: 79% of cases with clear margins (54% of pts) were treated with high dose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attitude of radiation oncologists to include the primary site in the high-risk PTV even in the absence of risk fa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58920" y="223920"/>
            <a:ext cx="842472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Com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primary site: in our study we found tha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179280" y="2703600"/>
            <a:ext cx="878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pN0 half-neck does not deserve any further treatment, particularly if an adequate number of nodes has been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24000" y="511200"/>
            <a:ext cx="8424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Com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neck: it is known tha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179280" y="2003400"/>
            <a:ext cx="878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majority of pN0 half-necks included in the treated PTV (60-66 G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surgical margins do not explai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attitude of the radiation oncologists for a potentially oversized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50920" y="115920"/>
            <a:ext cx="8424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Comm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neck: in our study we found tha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43956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Comm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extra – capsular ex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79280" y="306540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virtually all cases treated to a dose ≥ 60 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7"/>
          <p:cNvSpPr/>
          <p:nvPr/>
        </p:nvSpPr>
        <p:spPr>
          <a:xfrm>
            <a:off x="250920" y="115920"/>
            <a:ext cx="87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rebuchet MS"/>
                <a:ea typeface="Tahoma"/>
              </a:rPr>
              <a:t>Particip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258"/>
          <p:cNvSpPr/>
          <p:nvPr/>
        </p:nvSpPr>
        <p:spPr>
          <a:xfrm>
            <a:off x="1692360" y="974880"/>
            <a:ext cx="57592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Genova - IST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A. Bacigalu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Trento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A. Bol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Latina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A. Font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Busto Arsizio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A. Merlot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Monza - S. Gerardo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A. Podhras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Milano - IEO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D. Alterio, D. Zeri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Ivrea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D. C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Como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E. Bianc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Bologna - S. Orsola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F. Bunkhei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Roma - Cattolica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F. Miccich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Firenze - Careggi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F. Pai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Treviglio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L. Bruschi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Arezzo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L. Lastruc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Roma - S. Camillo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M. Cianciul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Milano - Niguarda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M. Pala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Torino - Molinette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M. Ramp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Roma – Is. Tiberina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O. Caspia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Empoli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R. Bar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Napoli - Ascalesi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R. Manz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Cuneo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R. Vigna Taglia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Pavia - S. Matteo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S. Colomb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Verona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S. Dall'Ogl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Brescia - Ist. Radio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S. Tono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Ferrara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S. Urs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Belluno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T. Iann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Milano - IST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S. Tomat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5"/>
          <p:cNvSpPr/>
          <p:nvPr/>
        </p:nvSpPr>
        <p:spPr>
          <a:xfrm>
            <a:off x="2474280" y="6380280"/>
            <a:ext cx="41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Schiff, Arch Otolaryngol Head Neck Surg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95280" y="1905120"/>
            <a:ext cx="8300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elective vs Modified Radical Neck Dissection and Postoperative Radiotherapy vs Observation in the Treatment of Squamous Cell Carcinoma of the Oral Ton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Bradley A. Schiff, MD; Dianna B. Roberts, PhD; Adel El-Naggar, MD, PhD; Adam S. Garden, MD; Jeffrey N. Myers, MD, P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116000" y="0"/>
            <a:ext cx="6878520" cy="61405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474280" y="6380280"/>
            <a:ext cx="41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Schiff, Arch Otolaryngol Head Neck Surg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752400" y="1401840"/>
            <a:ext cx="7639200" cy="40608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2474280" y="6380280"/>
            <a:ext cx="41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Schiff, Arch Otolaryngol Head Neck Surg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5"/>
          <p:cNvSpPr/>
          <p:nvPr/>
        </p:nvSpPr>
        <p:spPr>
          <a:xfrm>
            <a:off x="2474280" y="6380280"/>
            <a:ext cx="41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Schiff, Arch Otolaryngol Head Neck Surg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12840" y="1033560"/>
            <a:ext cx="8516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Selective neck dissection (levels I – III or I – IV) may be sufficient for many N+ patients with SCC of the oral ton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but some patients with extensive nodal disease may benefit from more aggressive treatment of the n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Radiotherapy may be beneficial for all of the node-positive patients, but further studies ar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885080" cy="5256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95280" y="33336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Disease-free survival, per attesa chir-RT (gap 0 = meno della mediana, gap 1 = più della medi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3670200" y="1828800"/>
            <a:ext cx="4635720" cy="4489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-44280" y="271440"/>
            <a:ext cx="9264600" cy="12524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242280" y="6477120"/>
            <a:ext cx="38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Zakotnik, Int J Radiat Oncol Biol Phys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395280" y="333360"/>
            <a:ext cx="828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Disease-free survival, per sistema posizionamento (cod 1= maschera testa, cod 1= maschera testa-spal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705440" cy="513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95280" y="33336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Disease-free survival, per tecnica RT (cod 1= 3D semplice, cod 2= 3D complessa,  cod 3= IM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800280" y="1557360"/>
            <a:ext cx="7516800" cy="501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24000" y="4111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79280" y="1965240"/>
            <a:ext cx="878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treatment were quite heterogene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attitude to overtreat volumes at low risk of recur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33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231840" y="136440"/>
            <a:ext cx="8227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Recursive partitioning analysis-derived classification tree according to the Langendijk study “Risk-group definition by recursive partitioning analysis of patients with squamous cell head and neck carcinoma treated with surgery and postoperative radiotherapy”. Cancer 2005;104:1408–141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50920" y="35100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Aim of the st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466560" y="1654200"/>
            <a:ext cx="820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Prospective, observational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Pts treated with PORT for HNC from 01 Dec 2008 to 31 May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Collect clinical and technical data on the patterns of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Follow up and Q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324000" y="765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Inclusion cri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395280" y="234936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Pts curatively operated for carcinoma of oral cavity, oropharynx, hypopharynx, lary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PORT treatment to start between 01 Dec 2008 and 31 May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324000" y="26028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Exclusion cri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39640" y="1630440"/>
            <a:ext cx="820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No previous 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No macroscopic residual disease at surgery, needing the delivery of PORT at radical d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No distant m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Pts with relapsing disease (locally T and/or regionally N) after previous surgery alone: included if recurrence completely removed by second 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95280" y="18900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Tumor site (200 pts enroll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2"/>
          <p:cNvGraphicFramePr/>
          <p:nvPr/>
        </p:nvGraphicFramePr>
        <p:xfrm>
          <a:off x="792000" y="1197000"/>
          <a:ext cx="7596360" cy="50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1197000"/>
                    <a:ext cx="759636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66"/>
          <p:cNvSpPr/>
          <p:nvPr/>
        </p:nvSpPr>
        <p:spPr>
          <a:xfrm>
            <a:off x="304920" y="33336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P stage (200 p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2"/>
          <p:cNvGraphicFramePr/>
          <p:nvPr/>
        </p:nvGraphicFramePr>
        <p:xfrm>
          <a:off x="0" y="1268280"/>
          <a:ext cx="7491240" cy="499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7491240" cy="49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222"/>
          <p:cNvSpPr/>
          <p:nvPr/>
        </p:nvSpPr>
        <p:spPr>
          <a:xfrm>
            <a:off x="7575480" y="1197000"/>
            <a:ext cx="1389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T1-N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T2-N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T3-N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T1-N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T2-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T3-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T4a-N0 T4a-N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T1-N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T2-N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T3-N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T4a-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T4b-anyN anyT-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7"/>
          <p:cNvSpPr/>
          <p:nvPr/>
        </p:nvSpPr>
        <p:spPr>
          <a:xfrm>
            <a:off x="181080" y="411120"/>
            <a:ext cx="87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Surgical margins (200 p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9"/>
          <p:cNvSpPr/>
          <p:nvPr/>
        </p:nvSpPr>
        <p:spPr>
          <a:xfrm>
            <a:off x="1384200" y="2152800"/>
            <a:ext cx="628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4"/>
          <p:cNvSpPr/>
          <p:nvPr/>
        </p:nvSpPr>
        <p:spPr>
          <a:xfrm>
            <a:off x="808200" y="2157480"/>
            <a:ext cx="7508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e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olved  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8:40:06Z</dcterms:created>
  <dc:creator>www.powerpointstyles.com</dc:creator>
  <dc:description>Image credit to FreeDigitalPhotos.net </dc:description>
  <dc:language>en-US</dc:language>
  <cp:lastModifiedBy>tecno</cp:lastModifiedBy>
  <dcterms:modified xsi:type="dcterms:W3CDTF">2010-11-14T12:47:03Z</dcterms:modified>
  <cp:revision>89</cp:revision>
  <dc:subject/>
  <dc:title>Multiple White Arrows</dc:title>
</cp:coreProperties>
</file>