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FAC-3766-40F7-A346-ABB1ABD133D5}" type="datetime">
              <a:rPr b="0" lang="it-IT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D65-355F-4EE3-86C4-F193B49D41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381-5B34-4ABF-98D0-69252A038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6841-1923-4DA5-A2A3-45C5FA0A3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5829-6493-47E9-98FF-9CDC8CC748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totale le associazioni (tra federate e non) sono 5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401 tra centri, comitati, delegazioni, punti informativi e collegamen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4 sono le federate effet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7F95-5AFD-4B70-909D-FEB3AB0296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3889-5AAB-4698-808E-B43E7D239F6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1A6F-61DD-4626-80A3-6E0BAC4D5FB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9F9-BF47-413E-A8B1-D213804DF4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5EE-5BC7-45C8-A909-22B8E2DAF1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D02-5F5B-4C67-A342-0FE714B9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EA5-0545-4ECB-9AD6-48AE0CD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0AE-6B9E-42ED-A09A-12AF9F3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F88-C263-4424-A596-02E4F81B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C1D-7E86-4EAC-8AEB-6360673D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5472-2265-44F6-9A9A-DCABB7FA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BB2-F4A0-45C2-81F2-76304CB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B7C-CA43-42C2-80B8-EC00EDE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56F-B49F-401C-AE01-8F26501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F19-34A8-4B8E-9CE6-C308EF7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0EE2-8F24-4EA0-B918-80C99E2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84D-4F42-4444-A510-AA396B3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A62-3F8C-4A28-9579-AE72CBD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9311-7F3D-4433-A539-81C21A4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0A2-0BB3-4E0B-980F-07901985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B128-FA62-419B-8A01-62AEDC69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D6B6-A350-4E8D-A408-22532BE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DB3-B4F8-4605-B2F6-C15B8354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DC5-A412-4AFF-9EA3-05058D45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411-68A6-4906-A4D6-87C1023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DC4-8284-4128-B0DA-AA7B21C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667-B933-4EE9-9244-D47852E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7C0-C089-44DF-ABA4-C7EC251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CE5-55DF-4CBB-8794-28B6442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6A06-AE1E-494E-9998-557ED223512A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17B-AB60-47E4-A042-6B36EAF12BB9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9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c000"/>
                </a:solidFill>
                <a:uFillTx/>
                <a:latin typeface="Arial"/>
              </a:rPr>
              <a:t>XX CONGRESSO AI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f497d"/>
                </a:solidFill>
                <a:latin typeface="Calibri"/>
              </a:rPr>
              <a:t>Francesco De Lorenz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alibri"/>
              </a:rPr>
              <a:t>www.favo.i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Napoli, 13 novembre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0" y="19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Rapporto sulla condizione assistenziale del malato oncolo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40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83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Inserimento di farmaci oncologici ad alto costo nei prontuari farmaceutici reg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Fig. 6 - % posti letto per 10.000 ab. nell'area della radioterapia - Anno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19880" cy="5172120"/>
          </a:xfrm>
          <a:prstGeom prst="rect">
            <a:avLst/>
          </a:prstGeom>
          <a:ln w="0">
            <a:noFill/>
          </a:ln>
        </p:spPr>
      </p:pic>
      <p:sp>
        <p:nvSpPr>
          <p:cNvPr id="156" name="Rettangolo 3"/>
          <p:cNvSpPr/>
          <p:nvPr/>
        </p:nvSpPr>
        <p:spPr>
          <a:xfrm>
            <a:off x="1116000" y="630864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Fonte: Ministero della Salute - D.G. Sistema informa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Fig. 9 – Strutture ospedaliere con Servizio di radioterapia per 1.000.000 di ab. - Anno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tangolo 3"/>
          <p:cNvSpPr/>
          <p:nvPr/>
        </p:nvSpPr>
        <p:spPr>
          <a:xfrm>
            <a:off x="1116000" y="630864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Fonte: Ministero della Salute - D.G. Sistema informa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457280" y="1214280"/>
            <a:ext cx="62294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Fig. 21 - Assistenza domiciliare a pazienti terminali.                              Casi trattati -   Anno 2007 -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224680" cy="542448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4"/>
          <p:cNvSpPr/>
          <p:nvPr/>
        </p:nvSpPr>
        <p:spPr>
          <a:xfrm>
            <a:off x="1258920" y="6443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Ministero della Salute - D.G. Sistema informa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alibri"/>
              </a:rPr>
              <a:t>Fig. 22 - Posti in Hospice territoriali e in Hospice in strutture ospedaliere - Anno 201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0600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Rettangolo 4"/>
          <p:cNvSpPr/>
          <p:nvPr/>
        </p:nvSpPr>
        <p:spPr>
          <a:xfrm>
            <a:off x="916560" y="6021360"/>
            <a:ext cx="32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nte: Federazione cure palli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ttangolo 5"/>
          <p:cNvSpPr/>
          <p:nvPr/>
        </p:nvSpPr>
        <p:spPr>
          <a:xfrm>
            <a:off x="826920" y="651996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Ministero della Salute - D.G. Sistema informa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11280" y="674640"/>
            <a:ext cx="7921440" cy="59403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7"/>
          <p:cNvSpPr/>
          <p:nvPr/>
        </p:nvSpPr>
        <p:spPr>
          <a:xfrm>
            <a:off x="179280" y="-27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Fig. 11 - Mobilità ospedaliera per tutti i tumori e per chemioterapia, relativamente ai ricoveri in regime ordinario e in day hospital. Anno 2006 -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Piano Oncologico Nazionale 2010-201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57880" y="1857240"/>
            <a:ext cx="3643200" cy="4857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Modello di Simultaneous car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apie antitumorali+ cure di supporto e palliative +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abilit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 ritenersi un bene sociale e non un costo, anche alla luce del numero crescente di surviv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3840" y="1785960"/>
            <a:ext cx="3637080" cy="4857840"/>
          </a:xfrm>
          <a:prstGeom prst="rect">
            <a:avLst/>
          </a:prstGeom>
          <a:solidFill>
            <a:srgbClr val="cbeeb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alibri"/>
              </a:rPr>
              <a:t>	</a:t>
            </a:r>
            <a:r>
              <a:rPr b="1" lang="it-IT" sz="2800" spc="-1" strike="noStrike" u="sng">
                <a:solidFill>
                  <a:srgbClr val="ff33cc"/>
                </a:solidFill>
                <a:uFillTx/>
                <a:latin typeface="Calibri"/>
              </a:rPr>
              <a:t>La continuità assistenziale sul territorio</a:t>
            </a:r>
            <a:r>
              <a:rPr b="1" lang="it-IT" sz="2800" spc="-1" strike="noStrike">
                <a:solidFill>
                  <a:srgbClr val="ff33c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In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Sviluppo psico-onc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Riabilit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Cure pall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Integrazione con il no-profit e il volontari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Calibri"/>
              </a:rPr>
              <a:t>Reti oncoreg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600" y="928800"/>
            <a:ext cx="80722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Calibri"/>
              </a:rPr>
              <a:t>Il percorso del malato oncologico nel SS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ccia a destra 8"/>
          <p:cNvSpPr/>
          <p:nvPr/>
        </p:nvSpPr>
        <p:spPr>
          <a:xfrm>
            <a:off x="4000680" y="3213000"/>
            <a:ext cx="1214280" cy="1714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28760" y="785880"/>
            <a:ext cx="80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33cc"/>
                </a:solidFill>
                <a:latin typeface="Verdana"/>
              </a:rPr>
              <a:t>F.A.V.O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33520" y="243036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Via Barberini 11 – 00187 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Tel – Fax 06 42012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Web: www.favo.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E-mail: info@aimac.it ; info@favo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4214880" y="164304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Oltre 500 associazioni ade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572000" y="2071800"/>
            <a:ext cx="42861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di cui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104 federa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96 sezioni di livello regionale e provincia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47 delegazioni di livello regionale e provincia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85 centri di livello provincia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65 comitati provincial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25 punti informativ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83 collegamenti operativi di cu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9 all’este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pari a olt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25.000 volontar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libri"/>
              </a:rPr>
              <a:t>700.000 iscritti a vario tito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85"/>
          <p:cNvSpPr/>
          <p:nvPr/>
        </p:nvSpPr>
        <p:spPr>
          <a:xfrm>
            <a:off x="3143160" y="214200"/>
            <a:ext cx="541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F.A.V.O. riunisce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50% delle associa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Volontariato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uppo 83" descr=""/>
          <p:cNvPicPr/>
          <p:nvPr/>
        </p:nvPicPr>
        <p:blipFill>
          <a:blip r:embed="rId1"/>
          <a:stretch/>
        </p:blipFill>
        <p:spPr>
          <a:xfrm>
            <a:off x="244440" y="706320"/>
            <a:ext cx="41562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2920" y="333360"/>
            <a:ext cx="9001080" cy="59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è l'associazione delle associazio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a servizio dei malati di cancro e delle loro famigl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intende esaltare le peculiarità di ciascuna Associ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e prende forza dalla somma di tutte attraverso un comune percorso di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crescita e condivisione, a favore dell’individualità e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contro l’individu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difende il volontariato autonomo libero da strumentalizzazioni, e ne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sostiene le iniziative di formazione e aggiorn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si pone come interlocutore delle istituzioni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politiche, culturali e sindacali a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sostegno delle iniziative e delle battaglie  che le singole associazioni di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volontariato portano avanti in difesa dei malati di cancro e delle loro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amigl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si batte per incentivare ricerca e prevenzione e per migliorare, su tutto il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territorio nazionale, i servizi di diagnostica, terapia e assistenza, anche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domiciliare, per i malati di canc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promuove per i malati di cancro la diffusione di una nuova concezione dei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diritti del lavoro contro le discriminazioni di ogni ti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F.A.V.O.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pone la riabilitazione come intervento prioritario e diritto irrinunciabile nel 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	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Arial"/>
              </a:rPr>
              <a:t>progetto di globale miglioramento della qualità della vita dei mala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435456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537080" y="0"/>
            <a:ext cx="449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036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Calibri"/>
              </a:rPr>
              <a:t>Aumenti significativi stimati al 20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co 6" descr=""/>
          <p:cNvPicPr/>
          <p:nvPr/>
        </p:nvPicPr>
        <p:blipFill>
          <a:blip r:embed="rId1"/>
          <a:stretch/>
        </p:blipFill>
        <p:spPr>
          <a:xfrm>
            <a:off x="1328760" y="1054080"/>
            <a:ext cx="6699240" cy="5334120"/>
          </a:xfrm>
          <a:prstGeom prst="rect">
            <a:avLst/>
          </a:prstGeom>
          <a:ln w="0">
            <a:noFill/>
          </a:ln>
        </p:spPr>
      </p:pic>
      <p:sp>
        <p:nvSpPr>
          <p:cNvPr id="139" name="CasellaDiTesto 4"/>
          <p:cNvSpPr/>
          <p:nvPr/>
        </p:nvSpPr>
        <p:spPr>
          <a:xfrm>
            <a:off x="1332000" y="404640"/>
            <a:ext cx="65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Nuovi casi di tumore 2009-2020. Confronto internazionale </a:t>
            </a:r>
            <a:r>
              <a:rPr b="0" i="1" lang="it-IT" sz="1600" spc="-1" strike="noStrike">
                <a:solidFill>
                  <a:srgbClr val="ffff00"/>
                </a:solidFill>
                <a:latin typeface="Arial"/>
              </a:rPr>
              <a:t>(var. %)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5"/>
          <p:cNvSpPr/>
          <p:nvPr/>
        </p:nvSpPr>
        <p:spPr>
          <a:xfrm>
            <a:off x="2590920" y="6357960"/>
            <a:ext cx="371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nte:</a:t>
            </a:r>
            <a:r>
              <a:rPr b="0" lang="it-IT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aborazione Censis su dati </a:t>
            </a:r>
            <a:r>
              <a:rPr b="0" i="1" lang="it-IT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nomist Intelligence Unit</a:t>
            </a:r>
            <a:r>
              <a:rPr b="0" lang="it-IT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asellaDiTesto 4"/>
          <p:cNvSpPr/>
          <p:nvPr/>
        </p:nvSpPr>
        <p:spPr>
          <a:xfrm>
            <a:off x="2428920" y="6404040"/>
            <a:ext cx="492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e: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aborazione Censis su dati </a:t>
            </a:r>
            <a:r>
              <a:rPr b="0" i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st Intelligence Unit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6"/>
          <p:cNvSpPr/>
          <p:nvPr/>
        </p:nvSpPr>
        <p:spPr>
          <a:xfrm>
            <a:off x="179280" y="549360"/>
            <a:ext cx="8785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Tab. 10 – Costi socio-economici delle patologie tumorali. Confronto Italia - altri Paesi europei, 2009 (v.a. in eu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sto complessivo 2009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sto unitar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Pps EU27=1)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(Pps EU27=1)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€ (*)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€ (*)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elgi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.963.902.754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5.388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ranci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9.929.017.054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3.329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ermani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4.751.886.786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2.303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Italia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8.337.852.450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25.815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gno Unit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6.348.245.019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1.321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pagn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.874.051.975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5.453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u27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2.959.144.243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2.696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3055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Calibri"/>
              </a:rPr>
              <a:t>Secondo le fonti internazionali, in Italia ogni anno i nuovi casi di tumore determinano un impatto economico pari allo 0,45% del P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co 2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310440" cy="4584600"/>
          </a:xfrm>
          <a:prstGeom prst="rect">
            <a:avLst/>
          </a:prstGeom>
          <a:ln w="0">
            <a:noFill/>
          </a:ln>
        </p:spPr>
      </p:pic>
      <p:sp>
        <p:nvSpPr>
          <p:cNvPr id="145" name="CasellaDiTesto 3"/>
          <p:cNvSpPr/>
          <p:nvPr/>
        </p:nvSpPr>
        <p:spPr>
          <a:xfrm>
            <a:off x="1908000" y="1413000"/>
            <a:ext cx="542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Incidenza del costo complessivo dei tumori sul Pil: confronto internazionale, 2009 </a:t>
            </a:r>
            <a:r>
              <a:rPr b="0" i="1" lang="it-IT" sz="1400" spc="-1" strike="noStrike">
                <a:solidFill>
                  <a:srgbClr val="ffffff"/>
                </a:solidFill>
                <a:latin typeface="Palatino Linotype"/>
              </a:rPr>
              <a:t>(val. %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4"/>
          <p:cNvSpPr/>
          <p:nvPr/>
        </p:nvSpPr>
        <p:spPr>
          <a:xfrm>
            <a:off x="2428920" y="6404040"/>
            <a:ext cx="492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e: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aborazione Censis su dati </a:t>
            </a:r>
            <a:r>
              <a:rPr b="0" i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st Intelligence Unit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tangolo 4"/>
          <p:cNvSpPr/>
          <p:nvPr/>
        </p:nvSpPr>
        <p:spPr>
          <a:xfrm>
            <a:off x="611280" y="6381720"/>
            <a:ext cx="57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Fonte: Coordinamento generale medico legale IN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611280" y="231840"/>
            <a:ext cx="7705800" cy="57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alibri"/>
              </a:rPr>
              <a:t>La Legge 03-08-09 , n. 102 ha trasferito all’INPS tutte le competenze in materia concessoria e di pagamento delle invalidità civi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ccia in giù 5"/>
          <p:cNvSpPr/>
          <p:nvPr/>
        </p:nvSpPr>
        <p:spPr>
          <a:xfrm>
            <a:off x="3419640" y="2852640"/>
            <a:ext cx="1728720" cy="11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olo 1"/>
          <p:cNvSpPr/>
          <p:nvPr/>
        </p:nvSpPr>
        <p:spPr>
          <a:xfrm>
            <a:off x="0" y="465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</a:t>
            </a:r>
            <a:r>
              <a:rPr b="1" lang="it-IT" sz="3600" spc="-1" strike="noStrike">
                <a:solidFill>
                  <a:srgbClr val="f79646"/>
                </a:solidFill>
                <a:latin typeface="Calibri"/>
                <a:ea typeface="ＭＳ Ｐゴシック"/>
              </a:rPr>
              <a:t>SEMPLIFICAZION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79646"/>
                </a:solidFill>
                <a:latin typeface="Calibri"/>
                <a:ea typeface="ＭＳ Ｐゴシック"/>
              </a:rPr>
              <a:t>- ABBATTIMENTO DEI TE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8:08:30Z</dcterms:created>
  <dc:creator>helpline03</dc:creator>
  <dc:description/>
  <dc:language>en-US</dc:language>
  <cp:lastModifiedBy>tecno</cp:lastModifiedBy>
  <dcterms:modified xsi:type="dcterms:W3CDTF">2010-11-13T15:52:52Z</dcterms:modified>
  <cp:revision>108</cp:revision>
  <dc:subject/>
  <dc:title>Diapositiva 1</dc:title>
</cp:coreProperties>
</file>