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E1C-E96A-4F55-845C-A75BBB99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04D-F9A9-4489-8C6E-5B67B4C2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236-5266-444A-B9E3-F359037E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D66-5EC4-4E76-A319-D05C128C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2D5-1155-48C5-A857-1EB5C11C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6C9-AF35-42A6-B2E6-97713C0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F0E-7733-4F8E-B2AC-A1781D2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915-BEFB-472C-901D-53F79C3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C9D-56FA-4A38-A9C9-1FC6861D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3DF-CA0D-4D6D-80EB-BCB00DE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11C-0506-4241-BA52-B295D9DC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220-A0F8-425B-903E-1D99AA6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FB44-8E8D-4C3F-9EF2-A6125EEFB7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"/>
          <p:cNvSpPr/>
          <p:nvPr/>
        </p:nvSpPr>
        <p:spPr>
          <a:xfrm>
            <a:off x="900000" y="2924280"/>
            <a:ext cx="745200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La radioterapia palliativa: impatto ed appropriatezza delle nuove tecn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Moderatori: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F. Casamassima (Firenze), N.G. Di Muzio (Mil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Selezione della tecnologia in funzione del malato (“appropriatezza”) L. Pompei (Viterb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NC E. Maranzano (Ter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olmone R. Guglielmi (Vicenz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Mts ossee M. Giannini (Meldo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18132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sellaDiTesto 1"/>
          <p:cNvSpPr/>
          <p:nvPr/>
        </p:nvSpPr>
        <p:spPr>
          <a:xfrm>
            <a:off x="468360" y="1341360"/>
            <a:ext cx="87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CESSITA’ DI NUOVA DEFINIZIONE DI “PALLIAZION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ccia in giù 2"/>
          <p:cNvSpPr/>
          <p:nvPr/>
        </p:nvSpPr>
        <p:spPr>
          <a:xfrm>
            <a:off x="4211640" y="20606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asellaDiTesto 3"/>
          <p:cNvSpPr/>
          <p:nvPr/>
        </p:nvSpPr>
        <p:spPr>
          <a:xfrm>
            <a:off x="1692360" y="3284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L PAZIENTE OLIGOMETASTA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ccia in giù 4"/>
          <p:cNvSpPr/>
          <p:nvPr/>
        </p:nvSpPr>
        <p:spPr>
          <a:xfrm>
            <a:off x="4211640" y="386064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asellaDiTesto 5"/>
          <p:cNvSpPr/>
          <p:nvPr/>
        </p:nvSpPr>
        <p:spPr>
          <a:xfrm>
            <a:off x="1272240" y="522936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 CRONICIZZAZIONE DELLA MALATTIA NEOPLA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olo 1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Nuovi aspetti radiobiologi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ttangolo 4"/>
          <p:cNvSpPr/>
          <p:nvPr/>
        </p:nvSpPr>
        <p:spPr>
          <a:xfrm>
            <a:off x="785880" y="1714680"/>
            <a:ext cx="8072280" cy="1557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Una diversa visione radiobiologica modifica il classico meccanismo di azione delle radiazioni  basato esclusivamente sulla morte “mitotica” della cellula neoplastica considerata obiettivo del trattamento radioterap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ttangolo 5"/>
          <p:cNvSpPr/>
          <p:nvPr/>
        </p:nvSpPr>
        <p:spPr>
          <a:xfrm>
            <a:off x="785880" y="3786120"/>
            <a:ext cx="8072280" cy="119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Con alte dosi per frazione il bersaglio diventa la cellula endoteliale dei capillari e alla morte del tessuto neoplastico contribuisce un meccanismo di privazione dell’apporto ema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tangolo 7"/>
          <p:cNvSpPr/>
          <p:nvPr/>
        </p:nvSpPr>
        <p:spPr>
          <a:xfrm>
            <a:off x="785880" y="5380200"/>
            <a:ext cx="821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Radiation-induced apoptosis 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</a:rPr>
              <a:t>of endothelial cells in the murine central nervous syste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Pena LA, Fuks Z, Kolesnick RN. Cancer Res 2000;60:321–327</a:t>
            </a: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ttangolo 8"/>
          <p:cNvSpPr/>
          <p:nvPr/>
        </p:nvSpPr>
        <p:spPr>
          <a:xfrm>
            <a:off x="785880" y="6215040"/>
            <a:ext cx="764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Tumor response 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</a:rPr>
              <a:t>to radiotherapy regulated by endothelial cell apoptos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alibri"/>
              </a:rPr>
              <a:t>Garcia-Barros M, Paris F, Cordon-Cardo C, et al.Science 2003;300:1155–115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sellaDiTesto 2"/>
          <p:cNvSpPr/>
          <p:nvPr/>
        </p:nvSpPr>
        <p:spPr>
          <a:xfrm>
            <a:off x="0" y="1628640"/>
            <a:ext cx="958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EPOTENTE INGRESSO DELL’IPOFRAZIONAMENTO NEI TRATTAMENTI RADIOTERAP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DelBalzoAX4"/>
          <p:cNvPicPr/>
          <p:nvPr/>
        </p:nvPicPr>
        <p:blipFill>
          <a:blip r:embed="rId1"/>
          <a:stretch/>
        </p:blipFill>
        <p:spPr>
          <a:xfrm>
            <a:off x="2050920" y="3573360"/>
            <a:ext cx="5351760" cy="26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olo 1"/>
          <p:cNvSpPr/>
          <p:nvPr/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POFRAZIONAMENTO IMP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egnaposto contenuto 2"/>
          <p:cNvSpPr/>
          <p:nvPr/>
        </p:nvSpPr>
        <p:spPr>
          <a:xfrm>
            <a:off x="971640" y="1628640"/>
            <a:ext cx="787248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rattamento “Image Guided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rattamento del solo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umo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rrezione del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ovimento d’org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pido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gradient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di dose alla periferia del tar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Segnaposto contenuto 2"/>
          <p:cNvGrpSpPr/>
          <p:nvPr/>
        </p:nvGrpSpPr>
        <p:grpSpPr>
          <a:xfrm>
            <a:off x="-23760" y="-23760"/>
            <a:ext cx="9191520" cy="1547640"/>
            <a:chOff x="-23760" y="-23760"/>
            <a:chExt cx="9191520" cy="1547640"/>
          </a:xfrm>
        </p:grpSpPr>
        <p:pic>
          <p:nvPicPr>
            <p:cNvPr id="58" name="Segnaposto contenuto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MOLTEPLICI LE NUOVE TECNICHE E LE NUOVE TECNOLOGI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           </a:t>
              </a: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PROBLEMA DELLA APPROPRIATEZZA NELLA SCEL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Ovale 4"/>
          <p:cNvSpPr/>
          <p:nvPr/>
        </p:nvSpPr>
        <p:spPr>
          <a:xfrm>
            <a:off x="3419640" y="1700280"/>
            <a:ext cx="221436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e 5"/>
          <p:cNvSpPr/>
          <p:nvPr/>
        </p:nvSpPr>
        <p:spPr>
          <a:xfrm>
            <a:off x="4643280" y="2637000"/>
            <a:ext cx="2571840" cy="1714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pidA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e 6"/>
          <p:cNvSpPr/>
          <p:nvPr/>
        </p:nvSpPr>
        <p:spPr>
          <a:xfrm>
            <a:off x="2050920" y="2781360"/>
            <a:ext cx="2500560" cy="1690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rial Tomothera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e 7"/>
          <p:cNvSpPr/>
          <p:nvPr/>
        </p:nvSpPr>
        <p:spPr>
          <a:xfrm>
            <a:off x="3419640" y="3933720"/>
            <a:ext cx="26431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Helical Tomothera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uppo 17"/>
          <p:cNvGrpSpPr/>
          <p:nvPr/>
        </p:nvGrpSpPr>
        <p:grpSpPr>
          <a:xfrm>
            <a:off x="0" y="1557360"/>
            <a:ext cx="2627280" cy="2232000"/>
            <a:chOff x="0" y="1557360"/>
            <a:chExt cx="2627280" cy="2232000"/>
          </a:xfrm>
        </p:grpSpPr>
        <p:pic>
          <p:nvPicPr>
            <p:cNvPr id="65" name="Picture 8" descr="http://www.elekta.com/assets/press_releases/images/infinity_pr.jpg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26272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itolo 1"/>
            <p:cNvSpPr/>
            <p:nvPr/>
          </p:nvSpPr>
          <p:spPr>
            <a:xfrm>
              <a:off x="0" y="3559320"/>
              <a:ext cx="1165320" cy="23004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ffffff"/>
                  </a:solidFill>
                  <a:latin typeface="Calibri"/>
                </a:rPr>
                <a:t>Vma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2" descr="http://www.tecnologieavanzate.com/typo3temp/pics/8949c35fa2.jpg"/>
          <p:cNvPicPr/>
          <p:nvPr/>
        </p:nvPicPr>
        <p:blipFill>
          <a:blip r:embed="rId3"/>
          <a:stretch/>
        </p:blipFill>
        <p:spPr>
          <a:xfrm>
            <a:off x="6554880" y="1628640"/>
            <a:ext cx="258912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orlcommercial.com/Images/Projects/CyberKnife_SuiteB.jpg"/>
          <p:cNvPicPr/>
          <p:nvPr/>
        </p:nvPicPr>
        <p:blipFill>
          <a:blip r:embed="rId4"/>
          <a:stretch/>
        </p:blipFill>
        <p:spPr>
          <a:xfrm>
            <a:off x="69840" y="4724280"/>
            <a:ext cx="2811600" cy="192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Titolo 1"/>
          <p:cNvSpPr/>
          <p:nvPr/>
        </p:nvSpPr>
        <p:spPr>
          <a:xfrm>
            <a:off x="0" y="9725040"/>
            <a:ext cx="123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594da"/>
                </a:solidFill>
                <a:latin typeface="Calibri"/>
              </a:rPr>
              <a:t>CYBERKN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onze_novalis2"/>
          <p:cNvPicPr/>
          <p:nvPr/>
        </p:nvPicPr>
        <p:blipFill>
          <a:blip r:embed="rId5"/>
          <a:stretch/>
        </p:blipFill>
        <p:spPr>
          <a:xfrm>
            <a:off x="6659640" y="4524480"/>
            <a:ext cx="2484360" cy="23335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sp>
        <p:nvSpPr>
          <p:cNvPr id="71" name="Ovale 17"/>
          <p:cNvSpPr/>
          <p:nvPr/>
        </p:nvSpPr>
        <p:spPr>
          <a:xfrm>
            <a:off x="2340000" y="5286240"/>
            <a:ext cx="26431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yberKn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e 19"/>
          <p:cNvSpPr/>
          <p:nvPr/>
        </p:nvSpPr>
        <p:spPr>
          <a:xfrm>
            <a:off x="4427640" y="5286240"/>
            <a:ext cx="26431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rue-B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4:55:32Z</dcterms:created>
  <dc:creator>User</dc:creator>
  <dc:description/>
  <dc:language>en-US</dc:language>
  <cp:lastModifiedBy>tecno</cp:lastModifiedBy>
  <dcterms:modified xsi:type="dcterms:W3CDTF">2010-11-14T09:21:31Z</dcterms:modified>
  <cp:revision>13</cp:revision>
  <dc:subject/>
  <dc:title>Diapositiva 1</dc:title>
</cp:coreProperties>
</file>