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5309-CD5D-466B-9589-CF7366D603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3079-2F2A-40E9-8E19-67F5F3816B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FC48-55B2-4FAA-837D-36033F1226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092C-C584-44D9-84F5-EF2527FEDF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261A-7A8C-4F13-98D1-A13A832807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404-EA9F-4F93-9F93-D17503C7E7C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78B9-5F1A-4CAA-A7CF-03A288C5B5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nd point primario 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proporzione di pazienti che riportano almeno un effetto collaterale acuto  di grado 3 o 4 secondo scala RTOG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come valore massimo durante il trattamento radiante o comunque entro un mese dalla fine dello stes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nd point secondari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valutare l’andamento degli effetti collaterali tardivi soggettivi, Proporzione di pazienti che riportano, a 12 mesi dalla fine del trattamento radiante, almeno uno tra i seguenti eventi classificati in modo gerarchico secondo la scala SOMA/LENT: fibrosi (grado≥2), teleangiectasie (grado ≥1), retrazione della mammella (grado &gt;=2),dolore soggettivo (grado &gt;=2).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Proporzione di pz che a distanza di 12 mesi dalla fine dell’RT presentavano un insuccesso cosmet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=caratteristiche del tu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N = stato linfonod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BA26-FE76-4667-A7A8-EEFE83034F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Verificare aggiorna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ossicità cumulativa alla fine e ad 1 mese dalla Radioterapia (grado massimo di tossicità tra la fine della Rt ed il controllo ad 1 me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esti dati sono relativi all’intera popolazione randomizzata , tenendo conto però che 8 pazienti sono stati escluse per violazione del protoco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Non solo lo schema ipofrazionato non è inferiore in termini di tossicità acuta rispetto al convenzionale ma è addirittura superiore perché l’intervallo di confidenza è inferiore a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a tossicità cronica precoce risulta essenzialmente sovrapponibile in ogni braccio di Rt (p non significativ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57F4-7DF7-4C57-B26C-319C589D81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B98-0A61-4E79-B88C-4BF3ABD0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3BA-9BB0-437D-82A5-7C5F4C10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94EFD-A1C1-4A5C-A46F-1789E42B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E3659-C5AD-4022-8C44-6241746D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4BE89-CFE3-4747-BD55-79E8D40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1CF33-B564-4319-94DC-8C4272A8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E3045-A10E-4A5E-BBBA-DAEA81C8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82CBD-1A8A-4F95-AB7B-CF070BE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8CF38-39A9-4912-87F5-BA94A4D2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D0F3E-82EB-47D1-A6F4-5814E870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3ABB5-6230-4247-B446-5F15BD20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9B3-CE69-4536-8D95-E4A5B442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F7A-F1B7-49DD-8050-5E6DE861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F733-1B7C-49B2-9046-BD7131F4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C8DA-018D-408A-B547-8EAF03F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C06E-9632-4040-A297-FB99F804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A0AC-B543-45BF-8364-B5BF0D0E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6DD8-5246-4234-9E66-128BE44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9691-ED5D-4F0C-9A9F-EBF5E5C1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142E-18DC-41CC-AE95-7D8577FD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1C5-14CE-4FB2-B045-99C1FA80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2F08-3EA8-4B49-AB3D-577CC25D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48CE-9351-4551-8A72-CC1A224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63B6-FDA2-41EA-B4D1-A06ADD62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5D09-704A-4F1F-8BC0-25697D37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BB6B-F040-4CFA-A5DE-091C2FF6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BA61-524C-41FA-B8E1-FCDB6EEF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DE24-0D00-4B23-B7C1-EADA435D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31E3-EBB3-4D53-AC1C-5414FE46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E3F2-9BFC-4597-B426-92489281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A9CB-661A-4AFE-B271-34F26DC9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6CB-AF6A-44AB-8168-88E3618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6067D-63B4-4131-A4D1-8CBC2CA0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009A-B76C-4C3A-8788-27FE4C88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B0BF-6F57-4F26-ABCE-B0068A49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9BD6-78CD-4622-BA45-D054A9C8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3BB9-2B0A-4F29-B1C2-6A6F73C3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68DA-61D8-4506-8E3C-FD0F5033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F7FB-EA7D-46AC-80A8-BE77459F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8543-5E2B-4275-8F80-AAB04ECF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AEF8-1BEC-4D4B-961B-5DF0E05A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C826A-E2FA-4DB3-AA5D-8432A62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D96-F999-4082-B81E-668752B2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7E12-322E-4157-BFBF-9A0C59C6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D8F3-A0F2-4400-87C0-EF0801C5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C2BC3-780E-4564-A962-D4D90096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84DD-90A1-4A9F-9169-55EC5030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086F-F3BB-4920-846C-4B73D67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07DE3-84A6-4808-B1E4-4A470CF9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B124-6690-4186-A386-E53CD14B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195CA-E7F9-4A33-802F-DBA313A0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493C9-A497-4CDE-9787-62BC3551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02530-B53F-4C4E-9FCC-6B9C67EE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5CF-75D8-4A8C-BE28-B4329BFD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94249-6858-412F-81D5-B220216C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D3E4A-FC8A-45BC-AD3B-CB74AA99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E656-EA1D-403D-A386-DF56D3DB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0338-404A-406E-A9D1-FA469736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64FB7-476F-4878-8ED8-61C646AE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24CEB-2722-456E-806C-4438C54C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65C51-5AD7-4D52-9A28-0E3A552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98413-2608-4C51-885F-90E751DE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6E00E-E654-4AD7-9C6A-D520EFBD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788D5-5119-40C9-83C9-C7BF8B6A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A58-8172-42E9-91FF-78A8ED7C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745F1-9491-44BD-AA9C-BA5F4DB2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EEE7E-7A11-4CB2-AFC3-AADE4538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E9E4D-4D42-4938-BD0F-E4C01FA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B62D-769D-4CB1-BADD-A7E92672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DB35A-1171-483D-9873-7FE4D3D0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79340-2820-4991-9687-251E2578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5768C-0C52-4846-99A9-9477949B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0129E-D272-4E5B-B2FE-31EDE3C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8C19F-58F8-4CC3-9A08-AAC10D5A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09DD6-C3D9-4CE3-B62A-7B0C13E7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9F5-1E1D-49C9-B459-0955F92B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63BF5-6898-43A6-AC58-07483B5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608EB-8F0D-4E7A-BEA2-E086F8A3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EF053-DFEF-4297-A7E1-C5964D6F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78BE0-7924-400C-8E2D-91A750BE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50BA-8BAE-4421-A82F-D1CAC6B2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0FF83-9E28-47C0-89E6-7DB300C9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05EAF-A030-41E9-826D-2997E812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503B5-D8ED-49CC-81B0-35E6C269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17E1-AC8B-4473-B5CA-54B0FBBC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AC8BF-4522-4C52-B278-E6A5985A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589-7976-4DFD-878C-CA277EE7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0BCCE-2EB8-49DD-940A-AE6FEF31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00971-79B1-46B8-92E2-E6EB0B06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BACA7-38AE-4A9C-B038-47106FD7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DB055-DA6C-4794-8BFC-5B37C25F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B0987-85BD-4551-A90E-B224CBCD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F6D23-4FA8-42DE-B4CF-D7772ECA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B9EAB-C8DA-4431-8BA4-E31B110E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1C233-E844-4B67-AD68-FD830DF4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67A8F-733C-4A3F-954C-1E462E8A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8861C-747B-4050-9F7E-8857C4AE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DBB-FA47-4CB3-86CE-E32E339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F56C9-5995-414B-9134-783E5F70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98A55-D4F2-4234-9B94-2180281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861A9-096A-4AE8-9CAC-46EBAA3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25922-F3D2-43CC-90FE-9AE575B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014DF-475C-4891-9786-BE3B9AD6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EAAD-4F83-4DCC-A9D4-B3BC6C93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22E27-E90A-438D-BF49-134E3D1F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5A260-E158-4D00-8E82-FD369356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A6A86-ACCB-4BBB-ADF4-73F60D2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72EEB-8454-46BF-ABE6-902A19B8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413C-7668-414E-A589-42FBEF714833}" type="slidenum">
              <a:rPr b="0" lang="it-IT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102D-563A-4636-8C4E-BDA405E24A6E}" type="slidenum">
              <a:rPr b="0" lang="it-IT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703D-FA33-48D6-B1EE-E82F1F311B71}" type="slidenum">
              <a:rPr b="0" lang="it-IT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9552-5EBE-4F69-8BC5-A5FCE56B1DEA}" type="slidenum">
              <a:rPr b="0" lang="it-IT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1F66-FCC2-4A6D-A897-5EB96B113C86}" type="slidenum">
              <a:rPr b="0" lang="it-IT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E33B-8D65-40DB-B4D8-2419E319B581}" type="slidenum">
              <a:rPr b="0" lang="it-IT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B36B-E638-4098-8E95-8538B7A6CD9C}" type="slidenum">
              <a:rPr b="0" lang="it-IT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CB3-67C5-4677-8ACC-166129846BF9}" type="slidenum">
              <a:rPr b="0" lang="it-IT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D698-E7DD-4CD1-9B3A-D7BCF44E2324}" type="slidenum">
              <a:rPr b="0" lang="it-IT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Titolo 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4157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79280" y="4078440"/>
            <a:ext cx="878544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M.C.Leonardi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G.B.Ivaldi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A.M. Ferrari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P.Porcu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R. Lazzari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A.Morr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V. Dell’Acqu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4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F.Gherardi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4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M.Bonor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4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A.Cocchi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4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S.Colangione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4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P.Fanti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4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S.Ferrario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4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E.Rondi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F.Cattani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C.Fodo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D. Alterio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BA Jereczek-Foss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4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R.Orecchi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,4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partment of Radiation Oncology, European Institute of Oncology Milan;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Medical Physics , European Institute of Oncology Milan; 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partment of Radiation Oncology, Fondazione Maugeri Pavia; 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y of Milan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0" name="Immagine 9" descr="image001.png"/>
          <p:cNvPicPr/>
          <p:nvPr/>
        </p:nvPicPr>
        <p:blipFill>
          <a:blip r:embed="rId2"/>
          <a:stretch/>
        </p:blipFill>
        <p:spPr>
          <a:xfrm>
            <a:off x="3995640" y="5732640"/>
            <a:ext cx="1008000" cy="97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5"/>
          <p:cNvGraphicFramePr/>
          <p:nvPr/>
        </p:nvGraphicFramePr>
        <p:xfrm>
          <a:off x="6696000" y="5661000"/>
          <a:ext cx="21970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6000" y="5661000"/>
                    <a:ext cx="2197080" cy="10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089080" cy="625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"/>
          <p:cNvPicPr/>
          <p:nvPr/>
        </p:nvPicPr>
        <p:blipFill>
          <a:blip r:embed="rId6"/>
          <a:stretch/>
        </p:blipFill>
        <p:spPr>
          <a:xfrm>
            <a:off x="2268360" y="6021360"/>
            <a:ext cx="86544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Titolo 1" descr=""/>
          <p:cNvPicPr/>
          <p:nvPr/>
        </p:nvPicPr>
        <p:blipFill>
          <a:blip r:embed="rId1"/>
          <a:stretch/>
        </p:blipFill>
        <p:spPr>
          <a:xfrm>
            <a:off x="176040" y="55440"/>
            <a:ext cx="8229600" cy="12924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178920" y="1557000"/>
            <a:ext cx="8713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mbria"/>
              </a:rPr>
              <a:t>Lo schema ipofrazionato è correlato ad più basso rischio di tossicità acuta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687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mbria"/>
              </a:rPr>
              <a:t>Per quanto riguarda la tossicità cronica precoce i due schemi risultano sovrapponibili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mbria"/>
              </a:rPr>
              <a:t>                                                   </a:t>
            </a:r>
            <a:r>
              <a:rPr b="0" lang="it-IT" sz="2700" spc="-1" strike="noStrike">
                <a:solidFill>
                  <a:srgbClr val="000000"/>
                </a:solidFill>
                <a:latin typeface="Cambria"/>
              </a:rPr>
              <a:t>&gt;&gt;&gt;&gt;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50920" y="260280"/>
            <a:ext cx="85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road-runner-velocita"/>
          <p:cNvPicPr/>
          <p:nvPr/>
        </p:nvPicPr>
        <p:blipFill>
          <a:blip r:embed="rId2"/>
          <a:stretch/>
        </p:blipFill>
        <p:spPr>
          <a:xfrm>
            <a:off x="1187280" y="4005360"/>
            <a:ext cx="2389320" cy="1798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lumaca"/>
          <p:cNvPicPr/>
          <p:nvPr/>
        </p:nvPicPr>
        <p:blipFill>
          <a:blip r:embed="rId3"/>
          <a:stretch/>
        </p:blipFill>
        <p:spPr>
          <a:xfrm>
            <a:off x="5667480" y="4005360"/>
            <a:ext cx="2720880" cy="17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ttangolo 1" descr=""/>
          <p:cNvPicPr/>
          <p:nvPr/>
        </p:nvPicPr>
        <p:blipFill>
          <a:blip r:embed="rId2"/>
          <a:stretch/>
        </p:blipFill>
        <p:spPr>
          <a:xfrm>
            <a:off x="444600" y="2365200"/>
            <a:ext cx="829764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Rectangle 4" descr=""/>
          <p:cNvPicPr/>
          <p:nvPr/>
        </p:nvPicPr>
        <p:blipFill>
          <a:blip r:embed="rId1"/>
          <a:stretch/>
        </p:blipFill>
        <p:spPr>
          <a:xfrm>
            <a:off x="-60480" y="139680"/>
            <a:ext cx="9333000" cy="2286000"/>
          </a:xfrm>
          <a:prstGeom prst="rect">
            <a:avLst/>
          </a:prstGeom>
          <a:ln w="0">
            <a:noFill/>
          </a:ln>
        </p:spPr>
      </p:pic>
      <p:pic>
        <p:nvPicPr>
          <p:cNvPr id="516" name="Diagramma 2" descr=""/>
          <p:cNvPicPr/>
          <p:nvPr/>
        </p:nvPicPr>
        <p:blipFill>
          <a:blip r:embed="rId2"/>
          <a:stretch/>
        </p:blipFill>
        <p:spPr>
          <a:xfrm>
            <a:off x="1390680" y="2206800"/>
            <a:ext cx="6783480" cy="43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Titolo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518" name="Segnaposto contenuto 2" descr=""/>
          <p:cNvPicPr/>
          <p:nvPr/>
        </p:nvPicPr>
        <p:blipFill>
          <a:blip r:embed="rId2"/>
          <a:stretch/>
        </p:blipFill>
        <p:spPr>
          <a:xfrm>
            <a:off x="0" y="1603440"/>
            <a:ext cx="921060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olo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8229600" cy="1292040"/>
          </a:xfrm>
          <a:prstGeom prst="rect">
            <a:avLst/>
          </a:prstGeom>
          <a:ln w="0">
            <a:noFill/>
          </a:ln>
        </p:spPr>
      </p:pic>
      <p:pic>
        <p:nvPicPr>
          <p:cNvPr id="520" name="Segnaposto contenuto 3" descr=""/>
          <p:cNvPicPr/>
          <p:nvPr/>
        </p:nvPicPr>
        <p:blipFill>
          <a:blip r:embed="rId2"/>
          <a:stretch/>
        </p:blipFill>
        <p:spPr>
          <a:xfrm>
            <a:off x="0" y="1219320"/>
            <a:ext cx="92044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50560" y="18864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 u="sng">
                <a:solidFill>
                  <a:srgbClr val="00007d"/>
                </a:solidFill>
                <a:uFillTx/>
                <a:latin typeface="Arial"/>
                <a:ea typeface="Arial"/>
              </a:rPr>
              <a:t>Endpoint primario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5cd1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d0d0d"/>
                </a:solidFill>
                <a:latin typeface="Arial"/>
                <a:ea typeface="Arial"/>
              </a:rPr>
              <a:t>effetti collaterali acuti (G3-G4) secondo la scala  RTO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5cd1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 u="sng">
                <a:solidFill>
                  <a:srgbClr val="00007d"/>
                </a:solidFill>
                <a:uFillTx/>
                <a:latin typeface="Arial"/>
                <a:ea typeface="Arial"/>
              </a:rPr>
              <a:t>Endpoint secondari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ba4ff"/>
                </a:solidFill>
                <a:latin typeface="Arial"/>
                <a:ea typeface="Arial"/>
              </a:rPr>
              <a:t>- Effetti collaterali acuti: valutazione soggettiv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5cd1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0d0d"/>
                </a:solidFill>
                <a:latin typeface="Arial"/>
                <a:ea typeface="Arial"/>
              </a:rPr>
              <a:t>Bruciore, Prurito e Dolore (scala VA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5cd1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5cd1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0d0d"/>
                </a:solidFill>
                <a:latin typeface="Arial"/>
                <a:ea typeface="Arial"/>
              </a:rPr>
              <a:t>Qualità della Vita (EORTC QLQ-C30, EORTC QLQ-BR23, PDI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5cd1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5cd1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0d0d"/>
                </a:solidFill>
                <a:latin typeface="Arial"/>
                <a:ea typeface="Arial"/>
              </a:rPr>
              <a:t>Preferenza della paziente (1 mese dalla fine della RT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5cd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5ba4ff"/>
                </a:solidFill>
                <a:latin typeface="Arial"/>
                <a:ea typeface="Arial"/>
              </a:rPr>
              <a:t>- Effetti collaterali tardivi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5cd1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0d0d"/>
                </a:solidFill>
                <a:latin typeface="Arial"/>
                <a:ea typeface="Arial"/>
              </a:rPr>
              <a:t>fibrosi (grado≥2), teleangiectasie (grado ≥1), retrazione della mammella (grado ≥ 2), dolore soggettivo (grado ≥ 2) (scala SOMA/LENT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5cd1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5cd1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0d0d"/>
                </a:solidFill>
                <a:latin typeface="Arial"/>
                <a:ea typeface="Arial"/>
              </a:rPr>
              <a:t>Cosmesi riportando il punto di vista della paziente e del medico radioterapista (scala  Harvard)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5cd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2" name="Immagine 3" descr="AP0809_20_04.jpg"/>
          <p:cNvPicPr/>
          <p:nvPr/>
        </p:nvPicPr>
        <p:blipFill>
          <a:blip r:embed="rId1"/>
          <a:stretch/>
        </p:blipFill>
        <p:spPr>
          <a:xfrm>
            <a:off x="5580000" y="1743120"/>
            <a:ext cx="3367080" cy="9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Titolo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179280" y="404280"/>
            <a:ext cx="8964720" cy="58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prile 2007– marzo 201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andomizzate 257 pazient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isponibili per l’analisi ad 1 anno 249 pz (122 ipofrazionato – 127 convenzionale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Età mediana 53 aa (27-78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25" name="Grafico 3"/>
          <p:cNvGraphicFramePr/>
          <p:nvPr/>
        </p:nvGraphicFramePr>
        <p:xfrm>
          <a:off x="250920" y="3763800"/>
          <a:ext cx="3816360" cy="265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6" name="Grafico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3763800"/>
                    <a:ext cx="3816360" cy="26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Grafico 4"/>
          <p:cNvGraphicFramePr/>
          <p:nvPr/>
        </p:nvGraphicFramePr>
        <p:xfrm>
          <a:off x="4567320" y="3247920"/>
          <a:ext cx="4317840" cy="3313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28" name="Grafico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67320" y="3247920"/>
                    <a:ext cx="43178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Titolo 1" descr=""/>
          <p:cNvPicPr/>
          <p:nvPr/>
        </p:nvPicPr>
        <p:blipFill>
          <a:blip r:embed="rId1"/>
          <a:stretch/>
        </p:blipFill>
        <p:spPr>
          <a:xfrm>
            <a:off x="476280" y="2212920"/>
            <a:ext cx="822960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46836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 Antiqua"/>
              </a:rPr>
              <a:t>S324-Tossicità acuta cumulativa RTO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50920" y="1600200"/>
          <a:ext cx="8569080" cy="3787920"/>
        </p:xfrm>
        <a:graphic>
          <a:graphicData uri="http://schemas.openxmlformats.org/drawingml/2006/table">
            <a:tbl>
              <a:tblPr/>
              <a:tblGrid>
                <a:gridCol w="1222200"/>
                <a:gridCol w="2633760"/>
                <a:gridCol w="2714760"/>
                <a:gridCol w="199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 fx (128 p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0 fx (129 p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6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5% CI^ for 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 (1.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 (1.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4 (57.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4 (34.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6 (35.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5 (58.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 (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 (4.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-9.9, -0.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Text Box 35"/>
          <p:cNvSpPr/>
          <p:nvPr/>
        </p:nvSpPr>
        <p:spPr>
          <a:xfrm>
            <a:off x="37620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6"/>
          <p:cNvSpPr/>
          <p:nvPr/>
        </p:nvSpPr>
        <p:spPr>
          <a:xfrm>
            <a:off x="519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2"/>
          <p:cNvSpPr/>
          <p:nvPr/>
        </p:nvSpPr>
        <p:spPr>
          <a:xfrm>
            <a:off x="6877080" y="4508640"/>
            <a:ext cx="1871640" cy="10810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2"/>
          <p:cNvSpPr/>
          <p:nvPr/>
        </p:nvSpPr>
        <p:spPr>
          <a:xfrm>
            <a:off x="0" y="4653000"/>
            <a:ext cx="1258920" cy="720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476360" y="5432400"/>
          <a:ext cx="5400720" cy="517680"/>
        </p:xfrm>
        <a:graphic>
          <a:graphicData uri="http://schemas.openxmlformats.org/drawingml/2006/table">
            <a:tbl>
              <a:tblPr/>
              <a:tblGrid>
                <a:gridCol w="2665440"/>
                <a:gridCol w="273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(4.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(1.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CasellaDiTesto 3"/>
          <p:cNvSpPr/>
          <p:nvPr/>
        </p:nvSpPr>
        <p:spPr>
          <a:xfrm>
            <a:off x="395280" y="549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ssicità a 12  mesi dalla fine del trat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557360"/>
          <a:ext cx="8435880" cy="4600440"/>
        </p:xfrm>
        <a:graphic>
          <a:graphicData uri="http://schemas.openxmlformats.org/drawingml/2006/table">
            <a:tbl>
              <a:tblPr/>
              <a:tblGrid>
                <a:gridCol w="2593800"/>
                <a:gridCol w="2214720"/>
                <a:gridCol w="2287440"/>
                <a:gridCol w="1339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f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f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a7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az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of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angiecta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fed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1:28:50Z</dcterms:created>
  <dc:creator>paola</dc:creator>
  <dc:description/>
  <dc:language>en-US</dc:language>
  <cp:lastModifiedBy>tecno</cp:lastModifiedBy>
  <dcterms:modified xsi:type="dcterms:W3CDTF">2010-11-13T14:20:42Z</dcterms:modified>
  <cp:revision>103</cp:revision>
  <dc:subject/>
  <dc:title>Volumi clinici nel carcinoma mammario: primi risultati di tossicità nel trattamento ipofrazionato  vs trattamento convenzionale</dc:title>
</cp:coreProperties>
</file>