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264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0" y="974412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4022640" y="974412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  <a:defRPr b="0" i="1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fld id="{A0E6D65E-FE6F-454F-8F2F-8434B0A0CD48}" type="slidenum">
              <a:rPr b="0" i="1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311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877680" y="901800"/>
            <a:ext cx="5343480" cy="35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47b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910240" y="9798120"/>
            <a:ext cx="1279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7880" bIns="478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A8B4293-3810-4E20-B63E-58171943B4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022640" y="9744120"/>
            <a:ext cx="3076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fld id="{312F1427-5420-4290-A319-CBF2F14BD8BF}" type="slidenum">
              <a:rPr b="0" i="1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78040" y="900000"/>
            <a:ext cx="5348160" cy="35658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72880" y="461520"/>
            <a:ext cx="655020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0287000" cy="990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72880" y="461520"/>
            <a:ext cx="655020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47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 flipV="1">
            <a:off x="1981080" y="0"/>
            <a:ext cx="0" cy="838080"/>
          </a:xfrm>
          <a:prstGeom prst="line">
            <a:avLst/>
          </a:prstGeom>
          <a:ln w="11520">
            <a:solidFill>
              <a:srgbClr val="0047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190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ecece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89080" indent="-190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89080" indent="-190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89080" indent="-190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115920"/>
            <a:ext cx="1971720" cy="2311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47b9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47b9"/>
                </a:solidFill>
                <a:latin typeface="Arial"/>
              </a:rPr>
              <a:t>Uwe Oelfke/Dirk Verell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262160"/>
            <a:ext cx="9753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1d58"/>
                </a:solidFill>
                <a:latin typeface="Arial"/>
              </a:rPr>
              <a:t>Da Emami a Quant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1d58"/>
                </a:solidFill>
                <a:latin typeface="Arial"/>
              </a:rPr>
              <a:t>Evoluzione dei modelli N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Claudio Fi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1d58"/>
                </a:solidFill>
                <a:latin typeface="Arial"/>
              </a:rPr>
              <a:t>Fisica Sani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1d58"/>
                </a:solidFill>
                <a:latin typeface="Arial"/>
              </a:rPr>
              <a:t>Istituto Scientifico San Raffaele, Mi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8600"/>
            <a:ext cx="102870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foto3 HSR belle"/>
          <p:cNvPicPr/>
          <p:nvPr/>
        </p:nvPicPr>
        <p:blipFill>
          <a:blip r:embed="rId1"/>
          <a:stretch/>
        </p:blipFill>
        <p:spPr>
          <a:xfrm>
            <a:off x="638280" y="5359320"/>
            <a:ext cx="143172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sr"/>
          <p:cNvPicPr/>
          <p:nvPr/>
        </p:nvPicPr>
        <p:blipFill>
          <a:blip r:embed="rId2"/>
          <a:stretch/>
        </p:blipFill>
        <p:spPr>
          <a:xfrm>
            <a:off x="7986600" y="5597640"/>
            <a:ext cx="1555920" cy="750600"/>
          </a:xfrm>
          <a:prstGeom prst="rect">
            <a:avLst/>
          </a:prstGeom>
          <a:ln w="12600">
            <a:solidFill>
              <a:srgbClr val="0047b9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905200" y="554040"/>
            <a:ext cx="4600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poli, 15 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duomo Piazza_and_cathedral_milan_italy_1909"/>
          <p:cNvPicPr/>
          <p:nvPr/>
        </p:nvPicPr>
        <p:blipFill>
          <a:blip r:embed="rId3"/>
          <a:stretch/>
        </p:blipFill>
        <p:spPr>
          <a:xfrm>
            <a:off x="2532240" y="5315040"/>
            <a:ext cx="5079960" cy="11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6400" y="461520"/>
            <a:ext cx="87426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a base più ampi ed affidabil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SONO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la priorità !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71400" y="152712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ata-pooling culture (Deasy J, Quantec d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Scores oggettivi….risorse d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Cultura del “report prospettico” delle toss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58880" y="3691080"/>
            <a:ext cx="874224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(alcune) Nuove frontiere della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66880" y="462600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efinire sottogruppi sensibili (parametri clinici, genetic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Imaging come predittore delle tossicità (potenzialità in IGRT ed Adaptive 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6400" y="461520"/>
            <a:ext cx="87426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i più affidabili ed amp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sono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la priorità !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71400" y="152712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ata-pooling culture (Deasy J, Quantec d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Scores oggettivi….risorse d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Cultura del “report prospettico” delle toss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758880" y="3691080"/>
            <a:ext cx="874224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(alcune) Nuove frontiere della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27080" y="462600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efinire sottogruppi sensibili (parametri clinici, genetic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Imaging come predittore delle tossicità (Imaging-based sc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e 5"/>
          <p:cNvSpPr/>
          <p:nvPr/>
        </p:nvSpPr>
        <p:spPr>
          <a:xfrm>
            <a:off x="826920" y="5457960"/>
            <a:ext cx="6923160" cy="12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e 6"/>
          <p:cNvSpPr/>
          <p:nvPr/>
        </p:nvSpPr>
        <p:spPr>
          <a:xfrm>
            <a:off x="566640" y="5370480"/>
            <a:ext cx="7736040" cy="784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ccia a sinistra 7"/>
          <p:cNvSpPr/>
          <p:nvPr/>
        </p:nvSpPr>
        <p:spPr>
          <a:xfrm flipV="1">
            <a:off x="7634160" y="5791320"/>
            <a:ext cx="2003400" cy="536400"/>
          </a:xfrm>
          <a:prstGeom prst="leftArrow">
            <a:avLst>
              <a:gd name="adj1" fmla="val 50000"/>
              <a:gd name="adj2" fmla="val 44369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896760" y="461880"/>
            <a:ext cx="874260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a base più ampi ed affidabil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SONO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la priorità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254160" y="2154240"/>
            <a:ext cx="39384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J=1       no de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J&lt;1       shrinkage      (ex: 0.5=50% shrin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J&gt;1       expansion      (ex: 2=100% expa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2338560" y="181440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f57b49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33280" y="388800"/>
            <a:ext cx="5052960" cy="162900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Mappa del campo di deformazione dello Jacobiano come strumento quantitativo della deformazione (&amp; tox 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0" y="4363920"/>
            <a:ext cx="446400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5270400" y="3360600"/>
            <a:ext cx="3932280" cy="285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6097680" y="204840"/>
            <a:ext cx="4189320" cy="27716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2"/>
          <p:cNvSpPr/>
          <p:nvPr/>
        </p:nvSpPr>
        <p:spPr>
          <a:xfrm rot="20030400">
            <a:off x="4348080" y="5866920"/>
            <a:ext cx="1909800" cy="524160"/>
          </a:xfrm>
          <a:custGeom>
            <a:avLst/>
            <a:gdLst>
              <a:gd name="textAreaLeft" fmla="*/ 354960 w 1909800"/>
              <a:gd name="textAreaRight" fmla="*/ 1280160 w 1909800"/>
              <a:gd name="textAreaTop" fmla="*/ 70200 h 524160"/>
              <a:gd name="textAreaBottom" fmla="*/ 453960 h 5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34" hR="21600" stAng="10800000" swAng="-5400000"/>
                <a:lnTo>
                  <a:pt x="10460" y="21600"/>
                </a:lnTo>
                <a:arcTo wR="8034" hR="21600" stAng="5400000" swAng="-2001992"/>
                <a:lnTo>
                  <a:pt x="20562" y="10622"/>
                </a:lnTo>
                <a:lnTo>
                  <a:pt x="17280" y="0"/>
                </a:lnTo>
                <a:lnTo>
                  <a:pt x="11922" y="10622"/>
                </a:lnTo>
                <a:lnTo>
                  <a:pt x="15029" y="10622"/>
                </a:lnTo>
                <a:arcTo wR="8034" hR="21600" stAng="3398008" swAng="1806907"/>
                <a:lnTo>
                  <a:pt x="9247" y="21352"/>
                </a:lnTo>
                <a:arcTo wR="8034" hR="21600" stAng="5595084" swAng="5204916"/>
                <a:close/>
              </a:path>
              <a:path fill="darkenLess" w="21600" h="21600">
                <a:moveTo>
                  <a:pt x="0" y="0"/>
                </a:moveTo>
                <a:arcTo wR="8034" hR="21600" stAng="10800000" swAng="-5400000"/>
                <a:lnTo>
                  <a:pt x="10460" y="21600"/>
                </a:lnTo>
                <a:arcTo wR="8034" hR="21600" stAng="5400000" swAng="195084"/>
                <a:lnTo>
                  <a:pt x="9247" y="21352"/>
                </a:lnTo>
                <a:arcTo wR="8034" hR="21600" stAng="5595084" swAng="5204916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34880" y="6531120"/>
            <a:ext cx="37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tifica la de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734080" y="627048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togramma Jacobiano-volume (JV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762520" y="2932200"/>
            <a:ext cx="43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VH predice la forma di JV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 rot="19901400">
            <a:off x="8558280" y="3030120"/>
            <a:ext cx="1728720" cy="501840"/>
          </a:xfrm>
          <a:custGeom>
            <a:avLst/>
            <a:gdLst>
              <a:gd name="textAreaLeft" fmla="*/ 303840 w 1728720"/>
              <a:gd name="textAreaRight" fmla="*/ 1245960 w 172872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98" hR="21600" stAng="10800000" swAng="-5400000"/>
                <a:lnTo>
                  <a:pt x="11766" y="21600"/>
                </a:lnTo>
                <a:arcTo wR="7598" hR="21600" stAng="5400000" swAng="-2429463"/>
                <a:lnTo>
                  <a:pt x="21027" y="8228"/>
                </a:lnTo>
                <a:lnTo>
                  <a:pt x="17280" y="0"/>
                </a:lnTo>
                <a:lnTo>
                  <a:pt x="12387" y="8228"/>
                </a:lnTo>
                <a:lnTo>
                  <a:pt x="14623" y="8228"/>
                </a:lnTo>
                <a:arcTo wR="7598" hR="21600" stAng="2970537" swAng="2085707"/>
                <a:lnTo>
                  <a:pt x="9682" y="20772"/>
                </a:lnTo>
                <a:arcTo wR="7598" hR="21600" stAng="5743756" swAng="5056244"/>
                <a:close/>
              </a:path>
              <a:path fill="darkenLess" w="21600" h="21600">
                <a:moveTo>
                  <a:pt x="0" y="0"/>
                </a:moveTo>
                <a:arcTo wR="7598" hR="21600" stAng="10800000" swAng="-5400000"/>
                <a:lnTo>
                  <a:pt x="11766" y="21600"/>
                </a:lnTo>
                <a:arcTo wR="7598" hR="21600" stAng="5400000" swAng="343756"/>
                <a:lnTo>
                  <a:pt x="9682" y="20772"/>
                </a:lnTo>
                <a:arcTo wR="7598" hR="21600" stAng="5743756" swAng="5056244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6400" y="461520"/>
            <a:ext cx="87426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i più affidabili ed amp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sono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la priorità !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1400" y="152712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ata-pooling culture (Deasy J, Quantec d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Scores oggettivi….risorse d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Cultura del “report prospettico” delle toss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758880" y="3691080"/>
            <a:ext cx="874224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(alcune) Nuove frontiere della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27080" y="462600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efinire sottogruppi sensibili (parametri clinici, genetic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Imaging come predittore delle tossicità (potenzialità in IGRT ed Adaptive 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e 5"/>
          <p:cNvSpPr/>
          <p:nvPr/>
        </p:nvSpPr>
        <p:spPr>
          <a:xfrm>
            <a:off x="826920" y="5457960"/>
            <a:ext cx="6923160" cy="12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e 6"/>
          <p:cNvSpPr/>
          <p:nvPr/>
        </p:nvSpPr>
        <p:spPr>
          <a:xfrm>
            <a:off x="566640" y="5370480"/>
            <a:ext cx="7736040" cy="784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ccia a sinistra 7"/>
          <p:cNvSpPr/>
          <p:nvPr/>
        </p:nvSpPr>
        <p:spPr>
          <a:xfrm flipV="1">
            <a:off x="8158320" y="5037120"/>
            <a:ext cx="1741320" cy="550800"/>
          </a:xfrm>
          <a:prstGeom prst="leftArrow">
            <a:avLst>
              <a:gd name="adj1" fmla="val 50000"/>
              <a:gd name="adj2" fmla="val 37557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896760" y="461880"/>
            <a:ext cx="874260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a base più ampi ed affidabil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SONO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la priorità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892080"/>
            <a:ext cx="6610320" cy="4551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743880" y="1092240"/>
            <a:ext cx="3200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241680" y="630000"/>
            <a:ext cx="380988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0800" indent="-370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Chirurgia come più importante predittore di sanguinamento rettale su una popolazione di oltre 700 pazienti (AIROPROS0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Evidenza di shift della relazione dose-volume per pazienti con precedente chirurgia (appendectomia, colecistectomia), OR </a:t>
            </a:r>
            <a:r>
              <a:rPr b="0" lang="it-IT" sz="2400" spc="-1" strike="noStrike">
                <a:solidFill>
                  <a:srgbClr val="081d58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In accordo con il trial olandese (Peeters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20840" y="5791320"/>
            <a:ext cx="33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orino et al. 2008, Fellin et al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6400" y="461520"/>
            <a:ext cx="87426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i più affidabili ed amp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SONO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la priorità !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71400" y="152712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ata-pooling culture (Deasy J, Quantec d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Scores oggettivi….risorse d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Cultura del “report prospettico” delle toss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58880" y="3691080"/>
            <a:ext cx="874224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(alcune) Nuove frontiere della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027080" y="4626000"/>
            <a:ext cx="804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Definire sottogruppi sensibili (parametri clinici, genetic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Imaging come predittore delle tossicità (potenzialità in IGRT ed Adaptive 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e 5"/>
          <p:cNvSpPr/>
          <p:nvPr/>
        </p:nvSpPr>
        <p:spPr>
          <a:xfrm>
            <a:off x="826920" y="5457960"/>
            <a:ext cx="6923160" cy="12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e 6"/>
          <p:cNvSpPr/>
          <p:nvPr/>
        </p:nvSpPr>
        <p:spPr>
          <a:xfrm>
            <a:off x="566640" y="5370480"/>
            <a:ext cx="7736040" cy="784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ccia a sinistra 7"/>
          <p:cNvSpPr/>
          <p:nvPr/>
        </p:nvSpPr>
        <p:spPr>
          <a:xfrm flipV="1">
            <a:off x="8229600" y="1495440"/>
            <a:ext cx="1857240" cy="652320"/>
          </a:xfrm>
          <a:prstGeom prst="leftArrow">
            <a:avLst>
              <a:gd name="adj1" fmla="val 50000"/>
              <a:gd name="adj2" fmla="val 33823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739800" y="1336680"/>
            <a:ext cx="7518240" cy="8254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793440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907272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527040" y="3716280"/>
            <a:ext cx="4483080" cy="2746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4"/>
          <a:stretch/>
        </p:blipFill>
        <p:spPr>
          <a:xfrm>
            <a:off x="5337000" y="3789360"/>
            <a:ext cx="4618080" cy="2751120"/>
          </a:xfrm>
          <a:prstGeom prst="rect">
            <a:avLst/>
          </a:prstGeom>
          <a:ln w="0">
            <a:noFill/>
          </a:ln>
        </p:spPr>
      </p:pic>
      <p:sp>
        <p:nvSpPr>
          <p:cNvPr id="149" name="Line 14"/>
          <p:cNvSpPr/>
          <p:nvPr/>
        </p:nvSpPr>
        <p:spPr>
          <a:xfrm>
            <a:off x="8383680" y="4005360"/>
            <a:ext cx="125712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V="1">
            <a:off x="5407200" y="4351320"/>
            <a:ext cx="626760" cy="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6735600" y="3139920"/>
            <a:ext cx="2654640" cy="4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560520" y="3349440"/>
            <a:ext cx="8916840" cy="45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6400" y="461880"/>
            <a:ext cx="8742600" cy="8683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Data pooling multi-istituzionale è fattibile !</a:t>
            </a:r>
            <a:br>
              <a:rPr sz="2800"/>
            </a:b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........anche da noi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71400" y="1527120"/>
            <a:ext cx="8931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Esempio gruppo AIROPROS0102 su tox rettale nel carcinoma prostatico (R. Valdagni): 15 Istituti coinvolti, periodo 2001-2008,….&gt;1100 pazienti arruolati, analisi finale su &gt;700 pazienti….15 articoli pubblicati dal gruppo (+ 2 in press) su giornale verde, rosso, p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Studio DUE, tox GU e disfunzione erettile (C. Cozzarini) …gemmazione del gruppo precedente. Ad oggi 16 Istituti interessati, 5 hanno iniziato arruolamento dopo passaggio CE….(&gt;50 pazienti arruol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2320" y="461520"/>
            <a:ext cx="8318520" cy="11350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A 20 anni da Emami.....alcune cose “semplici” da fare prioritariamente........ </a:t>
            </a:r>
            <a:r>
              <a:rPr b="0" lang="it-IT" sz="2000" spc="-1" strike="noStrike">
                <a:solidFill>
                  <a:srgbClr val="0047b9"/>
                </a:solidFill>
                <a:latin typeface="Arial"/>
              </a:rPr>
              <a:t>Perché è così difficile “mettere insieme” dati provenienti da Istituti diversi ?</a:t>
            </a:r>
            <a:endParaRPr b="0" lang="en-US" sz="20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1120" y="2017800"/>
            <a:ext cx="9194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0800" indent="-37080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inguaggio comune........</a:t>
            </a:r>
            <a:r>
              <a:rPr b="0" lang="it-IT" sz="2300" spc="-1" strike="noStrike">
                <a:solidFill>
                  <a:srgbClr val="3c87ff"/>
                </a:solidFill>
                <a:latin typeface="Arial"/>
              </a:rPr>
              <a:t>score prospettici oggettiv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Mancanza di risorse umane sufficienti.....</a:t>
            </a:r>
            <a:r>
              <a:rPr b="0" lang="it-IT" sz="2300" spc="-1" strike="noStrike">
                <a:solidFill>
                  <a:srgbClr val="3c87ff"/>
                </a:solidFill>
                <a:latin typeface="Arial"/>
              </a:rPr>
              <a:t>reperire risorse, ma anche sviluppare una cultura del toxicity report (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cambiare dati come cooperazione ?......</a:t>
            </a:r>
            <a:r>
              <a:rPr b="0" lang="it-IT" sz="2300" spc="-1" strike="noStrike">
                <a:solidFill>
                  <a:srgbClr val="3c87ff"/>
                </a:solidFill>
                <a:latin typeface="Arial"/>
              </a:rPr>
              <a:t>spinge ad un processo interno di discussione e miglioramento della pratica radioterapica..beneficio diretto immedia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Visibilità scientifica e competizione......</a:t>
            </a:r>
            <a:r>
              <a:rPr b="0" lang="it-IT" sz="2300" spc="-1" strike="noStrike">
                <a:solidFill>
                  <a:srgbClr val="3c87ff"/>
                </a:solidFill>
                <a:latin typeface="Arial"/>
              </a:rPr>
              <a:t>regole chiare e condivi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ifficoltà organizzative e tecniche......</a:t>
            </a:r>
            <a:r>
              <a:rPr b="0" lang="it-IT" sz="2300" spc="-1" strike="noStrike">
                <a:solidFill>
                  <a:srgbClr val="3c87ff"/>
                </a:solidFill>
                <a:latin typeface="Arial"/>
              </a:rPr>
              <a:t>Esperienza del/dei centro/i referente/i e piattaforme DICOM comuni per scambio dei d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he si fa con questi dati ?......</a:t>
            </a:r>
            <a:r>
              <a:rPr b="0" lang="it-IT" sz="2300" spc="-1" strike="noStrike">
                <a:solidFill>
                  <a:srgbClr val="3c87ff"/>
                </a:solidFill>
                <a:latin typeface="Arial"/>
              </a:rPr>
              <a:t>Obiettivi chiari e strategie/metodi di analisi e modellizzazioni adeguati (competenza e reputazione specifiche!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0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5120" y="360000"/>
            <a:ext cx="558972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Per continuare a discutere........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247760" y="925560"/>
            <a:ext cx="3863880" cy="6094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hiostro del Maglio - Firenze"/>
          <p:cNvPicPr/>
          <p:nvPr/>
        </p:nvPicPr>
        <p:blipFill>
          <a:blip r:embed="rId2"/>
          <a:stretch/>
        </p:blipFill>
        <p:spPr>
          <a:xfrm>
            <a:off x="5964120" y="4230720"/>
            <a:ext cx="3000600" cy="2257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Firenze - Il duomo"/>
          <p:cNvPicPr/>
          <p:nvPr/>
        </p:nvPicPr>
        <p:blipFill>
          <a:blip r:embed="rId3"/>
          <a:stretch/>
        </p:blipFill>
        <p:spPr>
          <a:xfrm>
            <a:off x="5616720" y="857160"/>
            <a:ext cx="40478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8480" y="475920"/>
            <a:ext cx="65502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QUANTEC……cos’è ?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480" y="1603080"/>
            <a:ext cx="832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zio gruppo di lavoro: 2007, AAPM/ASTRO, ca 60 partecipanti (in prevalenza dal Nord Ame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genza di “aggiornare” Emami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 - 3 Radioterapisti, 5 Fis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, IJROBP vol 73, n6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UANT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tati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lysis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a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ects i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10 dei “most downloaded papers” dell’IJROBP dell’ultimo anno SONO pubblicati nel Supplemento QUANTEC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0680" y="461520"/>
            <a:ext cx="4052880" cy="585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47b9"/>
                </a:solidFill>
                <a:latin typeface="Arial"/>
              </a:rPr>
              <a:t>Ringraziamenti</a:t>
            </a:r>
            <a:endParaRPr b="0" lang="en-US" sz="36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65200" y="1249200"/>
            <a:ext cx="448452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. Gagliar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. Ran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5578560" y="1038240"/>
            <a:ext cx="4473360" cy="323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174600" y="2727360"/>
            <a:ext cx="565308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52600" y="1284120"/>
            <a:ext cx="7300800" cy="5267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058840" y="476280"/>
            <a:ext cx="6550200" cy="47772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QUANTEC……perchè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475920"/>
            <a:ext cx="9099360" cy="66996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Il leggendario.....“Emami et al” (+ “Burman et al”……)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7800" y="1603080"/>
            <a:ext cx="83235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9760" indent="-32976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Arial"/>
                <a:ea typeface="Courier New"/>
              </a:rPr>
              <a:t>1 - Emami, B et al. Tolerance of normal tissue to therapeutic irradiation</a:t>
            </a:r>
            <a:r>
              <a:rPr b="0" lang="it-IT" sz="1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63de8"/>
                </a:solidFill>
                <a:latin typeface="Arial"/>
                <a:ea typeface="Times New Roman"/>
              </a:rPr>
              <a:t>(1991) International Journal of Radiation Oncology Biology Physics, 21 (1), pp. 109-122. </a:t>
            </a:r>
            <a:r>
              <a:rPr b="0" lang="en-GB" sz="1800" spc="-1" strike="noStrike" u="sng">
                <a:solidFill>
                  <a:srgbClr val="063de8"/>
                </a:solidFill>
                <a:uFillTx/>
                <a:latin typeface="Arial"/>
                <a:ea typeface="Times New Roman"/>
              </a:rPr>
              <a:t>(N° totale Citazioni 1390, nel 2010: 1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63de8"/>
                </a:solidFill>
                <a:latin typeface="Arial"/>
                <a:ea typeface="Courier New"/>
              </a:rPr>
              <a:t>2 - Burman, C. et al. </a:t>
            </a:r>
            <a:r>
              <a:rPr b="0" lang="en-GB" sz="1800" spc="-1" strike="noStrike">
                <a:solidFill>
                  <a:srgbClr val="063de8"/>
                </a:solidFill>
                <a:latin typeface="Arial"/>
                <a:ea typeface="Courier New"/>
              </a:rPr>
              <a:t>Fitting of normal tissue tolerance data to an analytic function(1991) International Journal of Radiation Oncology Biology Physics, 21 (1), pp. 123-135. </a:t>
            </a:r>
            <a:r>
              <a:rPr b="0" lang="en-GB" sz="1800" spc="-1" strike="noStrike" u="sng">
                <a:solidFill>
                  <a:srgbClr val="063de8"/>
                </a:solidFill>
                <a:uFillTx/>
                <a:latin typeface="Arial"/>
                <a:ea typeface="Times New Roman"/>
              </a:rPr>
              <a:t>(N° totale Citazioni 508, nel 2010: 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760" indent="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articoli, pubblicati all’interno di un volume monografico su 3DCRT (a quell’epoca agli inizi) con l’intento d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0047b9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assumere le conoscenze riguardanti le tolleranze dei tessuti s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0047b9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ficare le relazioni dose-volume in termini di TD5/50 a 1/3-2/3-whole org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0047b9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tire dalla assegnazione di questi valori, fittare I dati con un modello NTCP (modello di Lyman-Kutcher-Burman, LKB) utilizzando una funzione di err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7680" y="461520"/>
            <a:ext cx="89298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L’idea…Condensare l’informazione in un numero….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414440"/>
            <a:ext cx="8744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TCP…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90000"/>
              </a:lnSpc>
              <a:spcBef>
                <a:spcPts val="901"/>
              </a:spcBef>
              <a:buClr>
                <a:srgbClr val="0047b9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Dose-response curve (sigmoid, logistic, error functio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90000"/>
              </a:lnSpc>
              <a:spcBef>
                <a:spcPts val="901"/>
              </a:spcBef>
              <a:buClr>
                <a:srgbClr val="0047b9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Fit dei dati clinici (best para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90000"/>
              </a:lnSpc>
              <a:spcBef>
                <a:spcPts val="901"/>
              </a:spcBef>
              <a:buClr>
                <a:srgbClr val="0047b9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Riduzione del DV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empio: L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90000"/>
              </a:lnSpc>
              <a:spcBef>
                <a:spcPts val="901"/>
              </a:spcBef>
              <a:buClr>
                <a:srgbClr val="0047b9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Arial"/>
              </a:rPr>
              <a:t>error function, 3 parametri (D50, m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44680" y="5010120"/>
                <a:ext cx="41907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C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7250040" y="5254560"/>
                <a:ext cx="2808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∗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079960" y="5081760"/>
                <a:ext cx="16956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3120" y="461520"/>
            <a:ext cx="741996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Condensare l’informazione in un numero….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1120" y="1414440"/>
            <a:ext cx="8744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UD (equivalent uniform dose)…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una “media pesata” della dose ricevuta dai voxel di una certa struttura….è un metodo efficace di riduzione del DV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nto l’EUD (o NTCP) è radiobiologia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052640" y="3228840"/>
                <a:ext cx="37414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∗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9" name="Group 5"/>
          <p:cNvGrpSpPr/>
          <p:nvPr/>
        </p:nvGrpSpPr>
        <p:grpSpPr>
          <a:xfrm>
            <a:off x="5929200" y="3051000"/>
            <a:ext cx="2986200" cy="1897200"/>
            <a:chOff x="5929200" y="3051000"/>
            <a:chExt cx="2986200" cy="1897200"/>
          </a:xfrm>
        </p:grpSpPr>
        <p:sp>
          <p:nvSpPr>
            <p:cNvPr id="70" name="Line 6"/>
            <p:cNvSpPr/>
            <p:nvPr/>
          </p:nvSpPr>
          <p:spPr>
            <a:xfrm>
              <a:off x="5929200" y="4948200"/>
              <a:ext cx="2986200" cy="0"/>
            </a:xfrm>
            <a:prstGeom prst="line">
              <a:avLst/>
            </a:prstGeom>
            <a:ln w="44280">
              <a:solidFill>
                <a:srgbClr val="081d5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V="1">
              <a:off x="5929200" y="3051000"/>
              <a:ext cx="0" cy="1897200"/>
            </a:xfrm>
            <a:prstGeom prst="line">
              <a:avLst/>
            </a:prstGeom>
            <a:ln w="44280">
              <a:solidFill>
                <a:srgbClr val="081d5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8"/>
          <p:cNvSpPr/>
          <p:nvPr/>
        </p:nvSpPr>
        <p:spPr>
          <a:xfrm>
            <a:off x="8352360" y="5168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D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16200000">
            <a:off x="5073840" y="37526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0"/>
          <p:cNvSpPr/>
          <p:nvPr/>
        </p:nvSpPr>
        <p:spPr>
          <a:xfrm>
            <a:off x="5907240" y="3295800"/>
            <a:ext cx="2293920" cy="164304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754" h="2358">
                <a:moveTo>
                  <a:pt x="0" y="0"/>
                </a:moveTo>
                <a:cubicBezTo>
                  <a:pt x="68" y="23"/>
                  <a:pt x="23" y="11"/>
                  <a:pt x="138" y="18"/>
                </a:cubicBezTo>
                <a:cubicBezTo>
                  <a:pt x="181" y="32"/>
                  <a:pt x="134" y="18"/>
                  <a:pt x="222" y="30"/>
                </a:cubicBezTo>
                <a:cubicBezTo>
                  <a:pt x="254" y="34"/>
                  <a:pt x="242" y="39"/>
                  <a:pt x="276" y="48"/>
                </a:cubicBezTo>
                <a:cubicBezTo>
                  <a:pt x="316" y="59"/>
                  <a:pt x="362" y="62"/>
                  <a:pt x="402" y="66"/>
                </a:cubicBezTo>
                <a:cubicBezTo>
                  <a:pt x="429" y="80"/>
                  <a:pt x="460" y="80"/>
                  <a:pt x="486" y="96"/>
                </a:cubicBezTo>
                <a:cubicBezTo>
                  <a:pt x="515" y="113"/>
                  <a:pt x="528" y="136"/>
                  <a:pt x="552" y="156"/>
                </a:cubicBezTo>
                <a:cubicBezTo>
                  <a:pt x="562" y="165"/>
                  <a:pt x="577" y="167"/>
                  <a:pt x="588" y="174"/>
                </a:cubicBezTo>
                <a:cubicBezTo>
                  <a:pt x="599" y="190"/>
                  <a:pt x="599" y="196"/>
                  <a:pt x="618" y="204"/>
                </a:cubicBezTo>
                <a:cubicBezTo>
                  <a:pt x="630" y="209"/>
                  <a:pt x="654" y="216"/>
                  <a:pt x="654" y="216"/>
                </a:cubicBezTo>
                <a:cubicBezTo>
                  <a:pt x="698" y="260"/>
                  <a:pt x="764" y="273"/>
                  <a:pt x="810" y="312"/>
                </a:cubicBezTo>
                <a:cubicBezTo>
                  <a:pt x="883" y="373"/>
                  <a:pt x="970" y="421"/>
                  <a:pt x="1050" y="474"/>
                </a:cubicBezTo>
                <a:cubicBezTo>
                  <a:pt x="1069" y="503"/>
                  <a:pt x="1095" y="524"/>
                  <a:pt x="1116" y="552"/>
                </a:cubicBezTo>
                <a:cubicBezTo>
                  <a:pt x="1134" y="577"/>
                  <a:pt x="1137" y="598"/>
                  <a:pt x="1158" y="624"/>
                </a:cubicBezTo>
                <a:cubicBezTo>
                  <a:pt x="1198" y="745"/>
                  <a:pt x="1342" y="832"/>
                  <a:pt x="1440" y="894"/>
                </a:cubicBezTo>
                <a:cubicBezTo>
                  <a:pt x="1488" y="924"/>
                  <a:pt x="1491" y="962"/>
                  <a:pt x="1542" y="972"/>
                </a:cubicBezTo>
                <a:cubicBezTo>
                  <a:pt x="1548" y="980"/>
                  <a:pt x="1553" y="989"/>
                  <a:pt x="1560" y="996"/>
                </a:cubicBezTo>
                <a:cubicBezTo>
                  <a:pt x="1569" y="1005"/>
                  <a:pt x="1582" y="1010"/>
                  <a:pt x="1590" y="1020"/>
                </a:cubicBezTo>
                <a:cubicBezTo>
                  <a:pt x="1629" y="1065"/>
                  <a:pt x="1556" y="1011"/>
                  <a:pt x="1614" y="1050"/>
                </a:cubicBezTo>
                <a:cubicBezTo>
                  <a:pt x="1643" y="1107"/>
                  <a:pt x="1703" y="1116"/>
                  <a:pt x="1758" y="1134"/>
                </a:cubicBezTo>
                <a:cubicBezTo>
                  <a:pt x="1791" y="1159"/>
                  <a:pt x="1817" y="1174"/>
                  <a:pt x="1842" y="1206"/>
                </a:cubicBezTo>
                <a:cubicBezTo>
                  <a:pt x="1858" y="1253"/>
                  <a:pt x="1884" y="1272"/>
                  <a:pt x="1920" y="1308"/>
                </a:cubicBezTo>
                <a:cubicBezTo>
                  <a:pt x="1934" y="1322"/>
                  <a:pt x="1943" y="1341"/>
                  <a:pt x="1956" y="1356"/>
                </a:cubicBezTo>
                <a:cubicBezTo>
                  <a:pt x="2016" y="1427"/>
                  <a:pt x="1958" y="1358"/>
                  <a:pt x="2010" y="1398"/>
                </a:cubicBezTo>
                <a:cubicBezTo>
                  <a:pt x="2063" y="1439"/>
                  <a:pt x="2104" y="1495"/>
                  <a:pt x="2172" y="1512"/>
                </a:cubicBezTo>
                <a:cubicBezTo>
                  <a:pt x="2205" y="1540"/>
                  <a:pt x="2239" y="1564"/>
                  <a:pt x="2274" y="1590"/>
                </a:cubicBezTo>
                <a:cubicBezTo>
                  <a:pt x="2283" y="1628"/>
                  <a:pt x="2275" y="1607"/>
                  <a:pt x="2304" y="1650"/>
                </a:cubicBezTo>
                <a:cubicBezTo>
                  <a:pt x="2326" y="1684"/>
                  <a:pt x="2317" y="1723"/>
                  <a:pt x="2352" y="1758"/>
                </a:cubicBezTo>
                <a:cubicBezTo>
                  <a:pt x="2359" y="1791"/>
                  <a:pt x="2362" y="1803"/>
                  <a:pt x="2382" y="1830"/>
                </a:cubicBezTo>
                <a:cubicBezTo>
                  <a:pt x="2400" y="1885"/>
                  <a:pt x="2439" y="1911"/>
                  <a:pt x="2478" y="1950"/>
                </a:cubicBezTo>
                <a:cubicBezTo>
                  <a:pt x="2489" y="1983"/>
                  <a:pt x="2503" y="2022"/>
                  <a:pt x="2520" y="2052"/>
                </a:cubicBezTo>
                <a:cubicBezTo>
                  <a:pt x="2527" y="2065"/>
                  <a:pt x="2539" y="2074"/>
                  <a:pt x="2544" y="2088"/>
                </a:cubicBezTo>
                <a:cubicBezTo>
                  <a:pt x="2555" y="2121"/>
                  <a:pt x="2571" y="2156"/>
                  <a:pt x="2592" y="2184"/>
                </a:cubicBezTo>
                <a:cubicBezTo>
                  <a:pt x="2601" y="2210"/>
                  <a:pt x="2612" y="2228"/>
                  <a:pt x="2628" y="2250"/>
                </a:cubicBezTo>
                <a:cubicBezTo>
                  <a:pt x="2649" y="2313"/>
                  <a:pt x="2665" y="2324"/>
                  <a:pt x="2730" y="2340"/>
                </a:cubicBezTo>
                <a:cubicBezTo>
                  <a:pt x="2750" y="2354"/>
                  <a:pt x="2743" y="2347"/>
                  <a:pt x="2754" y="2358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6691320" y="2822400"/>
            <a:ext cx="1708200" cy="2024280"/>
            <a:chOff x="6691320" y="2822400"/>
            <a:chExt cx="1708200" cy="2024280"/>
          </a:xfrm>
        </p:grpSpPr>
        <p:sp>
          <p:nvSpPr>
            <p:cNvPr id="76" name="Line 12"/>
            <p:cNvSpPr/>
            <p:nvPr/>
          </p:nvSpPr>
          <p:spPr>
            <a:xfrm>
              <a:off x="8081280" y="3834000"/>
              <a:ext cx="0" cy="94896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7922880" y="3992400"/>
              <a:ext cx="0" cy="56952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763400" y="3897720"/>
              <a:ext cx="0" cy="41112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8241120" y="3644640"/>
              <a:ext cx="0" cy="120204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7605000" y="3897720"/>
              <a:ext cx="0" cy="34776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7445520" y="3834000"/>
              <a:ext cx="0" cy="28512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7287120" y="3770640"/>
              <a:ext cx="0" cy="22140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7128360" y="3708000"/>
              <a:ext cx="0" cy="18936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6968880" y="3675960"/>
              <a:ext cx="0" cy="12672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6810480" y="3580920"/>
              <a:ext cx="0" cy="9540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>
              <a:off x="6691320" y="3486240"/>
              <a:ext cx="0" cy="6372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>
              <a:off x="8399520" y="2822400"/>
              <a:ext cx="0" cy="2024280"/>
            </a:xfrm>
            <a:prstGeom prst="line">
              <a:avLst/>
            </a:prstGeom>
            <a:ln w="381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24"/>
          <p:cNvSpPr/>
          <p:nvPr/>
        </p:nvSpPr>
        <p:spPr>
          <a:xfrm>
            <a:off x="5929200" y="3279600"/>
            <a:ext cx="1905120" cy="0"/>
          </a:xfrm>
          <a:prstGeom prst="line">
            <a:avLst/>
          </a:prstGeom>
          <a:ln w="4428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7834320" y="3279600"/>
            <a:ext cx="0" cy="1676520"/>
          </a:xfrm>
          <a:prstGeom prst="line">
            <a:avLst/>
          </a:prstGeom>
          <a:ln w="4428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148520" y="5108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81d58"/>
                </a:solidFill>
                <a:latin typeface="Times New Roman"/>
              </a:rPr>
              <a:t>E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 flipV="1">
            <a:off x="7834320" y="4955760"/>
            <a:ext cx="0" cy="228600"/>
          </a:xfrm>
          <a:prstGeom prst="line">
            <a:avLst/>
          </a:prstGeom>
          <a:ln w="93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1433520" y="4651200"/>
            <a:ext cx="3429000" cy="459720"/>
          </a:xfrm>
          <a:prstGeom prst="rect">
            <a:avLst/>
          </a:prstGeom>
          <a:solidFill>
            <a:srgbClr val="081d58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Times New Roman"/>
              </a:rPr>
              <a:t>Ex: “serial organ”, n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4100400" y="4879800"/>
            <a:ext cx="30492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4862520" y="4879800"/>
            <a:ext cx="762120" cy="0"/>
          </a:xfrm>
          <a:prstGeom prst="line">
            <a:avLst/>
          </a:prstGeom>
          <a:ln w="93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0287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392040"/>
            <a:ext cx="10287000" cy="5975280"/>
          </a:xfrm>
          <a:prstGeom prst="rect">
            <a:avLst/>
          </a:prstGeom>
          <a:ln w="0">
            <a:noFill/>
          </a:ln>
        </p:spPr>
      </p:pic>
      <p:sp>
        <p:nvSpPr>
          <p:cNvPr id="97" name="Freccia a destra 2"/>
          <p:cNvSpPr/>
          <p:nvPr/>
        </p:nvSpPr>
        <p:spPr>
          <a:xfrm>
            <a:off x="3919680" y="3324240"/>
            <a:ext cx="1392120" cy="5079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ccia a destra 3"/>
          <p:cNvSpPr/>
          <p:nvPr/>
        </p:nvSpPr>
        <p:spPr>
          <a:xfrm>
            <a:off x="3614760" y="3279600"/>
            <a:ext cx="1450800" cy="493920"/>
          </a:xfrm>
          <a:prstGeom prst="rightArrow">
            <a:avLst>
              <a:gd name="adj1" fmla="val 50000"/>
              <a:gd name="adj2" fmla="val 499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5138640" y="3135240"/>
            <a:ext cx="5340600" cy="784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6400" y="461520"/>
            <a:ext cx="8742600" cy="476280"/>
          </a:xfrm>
          <a:prstGeom prst="rect">
            <a:avLst/>
          </a:prstGeom>
          <a:solidFill>
            <a:srgbClr val="cddcf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Modelli più complessi </a:t>
            </a:r>
            <a:r>
              <a:rPr b="1" lang="it-IT" sz="2800" spc="-1" strike="noStrike" u="sng">
                <a:solidFill>
                  <a:srgbClr val="0047b9"/>
                </a:solidFill>
                <a:uFillTx/>
                <a:latin typeface="Arial"/>
              </a:rPr>
              <a:t>NON</a:t>
            </a:r>
            <a:r>
              <a:rPr b="0" lang="it-IT" sz="2800" spc="-1" strike="noStrike">
                <a:solidFill>
                  <a:srgbClr val="0047b9"/>
                </a:solidFill>
                <a:latin typeface="Arial"/>
              </a:rPr>
              <a:t> sono la priorità !</a:t>
            </a:r>
            <a:endParaRPr b="0" lang="en-US" sz="2800" spc="-1" strike="noStrike">
              <a:solidFill>
                <a:srgbClr val="0047b9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71400" y="1527120"/>
            <a:ext cx="8820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Modelli NTCP sono rappresentazioni “pragmatiche” di relazioni dose-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LKB o (meglio) fit logistico (con riduzione del DVH mediante EUD) sufficienti nella grande maggioranza di situazioni nel rappresentare efficacemente effetti-dose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EUD buon surrogato “in 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47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1d58"/>
                </a:solidFill>
                <a:latin typeface="Arial"/>
              </a:rPr>
              <a:t>EUD-NTCP sono sufficientemente semplici da essere ampiamente utilizzati nella valutazione ed ottimizzazione di trattamenti (ottimizzazione radiobiolog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06:27:19Z</dcterms:created>
  <dc:creator>Prof. Dr. Uwe Oelfke</dc:creator>
  <dc:description/>
  <cp:keywords/>
  <dc:language>en-US</dc:language>
  <cp:lastModifiedBy>tecno</cp:lastModifiedBy>
  <cp:lastPrinted>2001-01-09T14:01:41Z</cp:lastPrinted>
  <dcterms:modified xsi:type="dcterms:W3CDTF">2010-11-15T06:44:41Z</dcterms:modified>
  <cp:revision>475</cp:revision>
  <dc:subject/>
  <dc:title>Kein Folientitel</dc:title>
</cp:coreProperties>
</file>