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wmf" ContentType="image/x-wmf"/>
  <Override PartName="/ppt/media/image8.wmf" ContentType="image/x-wmf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D61-DBF8-4E86-8728-F042A5AB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85EB-1028-4B68-9CA9-A7D368FF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ED5D1-F1FE-41FA-AE09-EBE4265A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500C0-851B-4D2B-B660-E3CE0F26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446FF-B686-49BA-9CED-AFE0BFBB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0A6B7-355D-4661-9155-1704A7DD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1DA3F-C3A0-4D11-BCBE-07A8BBAE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1905C-4012-454C-B52E-FEA00216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3D58E-A477-48A2-8A2B-73961939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9E06F-5899-47F0-93DA-72A39C1D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CFE8D-7724-4B15-844C-DBA6FB95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67D08-59F2-4F16-9390-36D3CAC2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C373-0928-44EA-B474-2B52CFF6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35F09-C8DA-475B-8BB0-61541528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587FB-BDE0-4E36-ABC0-714DC58F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BC3E0-738E-4A6D-A2C6-F0D8A820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6115F-8D31-47B0-B9E9-89617F9E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89539-8F0B-4A09-AB59-EEF52B6D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B82F1-9F15-4237-8DB1-9411732E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6DDCF-7146-4EE3-BA60-378C3B51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4BF11-C399-4A64-BD7E-3E5DAE82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54171-769F-4525-8F99-41D1A52C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43C98-DB0B-41AD-87DD-682EAF59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D98B-D7E0-4BDA-A466-2A2A657A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7D649-AACA-466A-9572-0CD3AABF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E7F2E-E9D2-42CA-91E2-82E86AFC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2FF59-A57E-495D-B40A-1A640C7D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59388-EB25-48F1-ADC1-856BB536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297B8-5674-40C1-A044-052D12D1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5961F-214E-4690-BE04-572D0275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6767D-E961-4E0D-A7BD-92BF7E5C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83A66-2B93-4315-B1EB-8C3783E8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2141B-151D-4284-A6CE-A44C2CB4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E5705-3AF7-44BD-BDAF-8B110E0C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371F-EA7A-4790-98FA-F6C01971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921B6-611E-40AC-B74D-C3D1F0BA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D00FC-2CC0-41C8-A622-043CACBB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48D89-AD1E-4CB6-9629-021C33BB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9E27C-7BD2-42BA-8ED9-B10BDD64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15D38-9873-48D4-B9FA-82C22D5B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45843-A12B-44AF-8387-A61A12CF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69123-25C7-4054-9602-04313F65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3C09A-5492-4FB6-8D22-22801485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BCD6E-19CC-4C75-A52E-9E7724E8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B3464-E0F1-4FB7-BD14-B545D8CB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D482-A723-4DD8-8A1B-FFEA9B69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CBE3F-C219-4429-979E-4E9C2E0B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FA70C-EBD5-4BD3-B283-5232B2F7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6D28D-2C74-4E52-B410-1DC8F47F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6CAC6-62C0-43B7-9479-726962B7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4E35B-EDF5-403E-B4B9-70873DA3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85E5-9671-4DF8-ACCF-A70107A6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8E91-6C4F-4454-9B6B-5A754398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2E8F-3F70-408B-B321-F18E7DDE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D4A9-E19B-4744-8D2B-DC8FCF49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E2E2-59BA-47CA-ADD0-867C33E9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EA65-06A6-4896-ACE3-9F767299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7281-146F-4DB7-ABA4-D4755F84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7612-3AC9-4E8A-B6CE-6031C44F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D3D0-FB83-4052-8AE8-087F7712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4FCF-0D4B-47DC-BE54-A7B91BB0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755B-095D-4B7F-BC77-A9211B2E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1B195-C414-469B-A154-DEE4F78B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A4065-773C-452F-8A9E-DDF5D82C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A48A7-528C-404B-A070-45BE9362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7F28B-837D-4D41-BE2C-26C52835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72A21-EC20-4D8E-B9F6-18D2B80B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D46C-7097-45DD-A2D0-EBEFCCB1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2A923-889C-4FCF-BDD1-3D834625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6837E-A3FD-435F-AF4F-96FCEAD0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D8C8D-37D4-4E35-8A1A-9952D0E2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A1096-A5A0-4B51-B056-B12343ED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DB6A3-8770-4DF7-AEC9-34764B94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0A54E-1ED6-4291-87F0-A9C47082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FF016-6DF2-48D9-B8BD-4A9F4990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5A6E7-97E5-4D07-8986-5767FEBA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F5CC4-FC84-4816-AA84-0E361DF0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61416-4B49-4236-B7D5-E02C8A5B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7874-CDB5-4AFE-B7B2-1DE03492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0D880-6D80-4606-B74E-32E59E49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3D4F1-E59B-4279-AA00-92C4D77D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0B257-98A4-4A27-A282-19AE04C5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CADD9-3DBF-4645-8428-12512B1E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21157-3DDA-4A7B-87BA-5BC54E83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7C428-2941-46D1-8D50-DA58CBB2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578A0-1A30-4946-8D6D-FD8EED74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E15AD-1E9F-4ED1-BEFB-00B00C6B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AB589-42A5-4B7C-9D28-5D4099528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1A453-7A0E-4E93-8CA1-0E052EEF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0115-CB36-4DDB-A857-118D284F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2D408-2BDB-4885-A4DC-9294EFA2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B32DB-127C-4EA5-9A7F-D7D8E526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78BA3-9775-49FF-A1CB-30CB0159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5E23F-24B7-4CB5-A52E-928C6376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B2BA9-CDEC-47B7-BDFB-65E6EE79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025E0-DD07-4DF3-A37D-7499B7B7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99542-F92D-407E-954A-1920EF03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E524D-388F-4453-AEB5-4510EF90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A26A5-F522-4F30-84CB-64B7CCE2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4B23F-F5BD-489F-BE48-65857FC4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5433-9E79-4A06-B57D-0387E2BA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8ECF6-077B-4136-8ECC-021A94E4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BF3EF-82DC-49A9-87DD-A768B16B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EFD2A-9BBA-4DEB-9DEA-F191A38F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C3BF9-38D6-4B71-8C8C-D5017E9F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6565A-8498-40C6-A8EB-2353B4FD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D63C7-AC3D-4411-9766-FAA29E12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A8F7B-D897-47C0-9AC6-B6AE5B96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95A37-19AC-46F5-A148-FF3026B4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B387D-306F-421E-B9F4-C5C0E80A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E294E-850E-48E2-ADB8-DC0748FF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57E-F937-42F8-B2E7-77F68A3C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655D5-7197-4E0C-8212-47818F33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31827-3288-496F-B5BD-C693A2CD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ADEC0-7E79-4661-9CA0-80B6AE09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56AB2-4669-41A3-9A84-5FA91777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36A79-672D-4390-B08C-160B9955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75DE1-351C-4F32-8C94-F1C31ABC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724C8-C30C-404B-B521-8DB2BE7F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2C494-3262-4059-B4F2-E23B2D17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C5B6B-0EB7-4BA0-8DE7-6CCCAFAD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E44BA-DF51-4BE2-B4E5-14BFB275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811F-5A40-44A6-AA01-AD98C5A7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D337E-E92D-406F-AACF-5CFB3B97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D248E-49C4-441B-A598-0F7B95CF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2BC25-AEB9-445D-88F5-374A5E92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F9BE3-4E13-4B41-988A-64843EC7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B0A58-39D9-4C15-B1E6-1C673617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1848D-EBA1-4DC7-8631-E50492FE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FACE8-80CE-4352-B275-B3D4EA46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A2848-C78C-481E-BE3D-CF0FDD16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E1F88-4897-443D-AB84-DF3FFA71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F9D9C-63DC-4282-9240-ACC254A9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7606-D4C5-47CD-B300-84DB29C8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3376D-D364-493A-9FF1-BD69BD04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1B2B3-816E-4160-A9FB-9006E9C7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36996-24A1-45E8-88BD-CD28BD80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2B5CE-D6CF-47F6-88A3-113460F5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D8B7E-ECCC-447F-B62C-07D1E490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710F6-57A8-4AEA-9439-962329DA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C2C7A-C7C1-4C8E-8B58-D75416F9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ABF7C-1605-4783-B4AE-166F34A0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1979D-3456-4EB3-B463-422BBE8E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A48E5-2153-4C0B-A217-A3E5A05C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543D-D8DA-4A9E-819D-DF52DBD096C7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47"/>
          <p:cNvSpPr/>
          <p:nvPr/>
        </p:nvSpPr>
        <p:spPr>
          <a:xfrm>
            <a:off x="324000" y="1484280"/>
            <a:ext cx="8569080" cy="0"/>
          </a:xfrm>
          <a:prstGeom prst="line">
            <a:avLst/>
          </a:prstGeom>
          <a:ln w="2844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D339-3255-4B79-9D17-4B34B2DCE9FA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7143-465A-4F6E-9CDD-C148B9DBB025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A7EF-5C10-408F-BD26-16FB1747C0C3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F00E-123E-408F-A8DF-B4BF8FF4B0F7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E94F-BC07-456A-BB7E-A3AB178C39E1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4C6D-C00F-4467-AD47-7790D1D469B0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9CD0-9E13-4B80-AE9B-DB1098392738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19A9-D886-41F9-B59A-138BE0EE0FC5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7FA3-C827-4C8B-A518-7E0A71BD3027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D4DD-B2E5-452D-AA85-BA6D007B28CF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52BA-1428-4813-950D-68B8E15F28A5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271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ff3300"/>
                </a:solidFill>
                <a:latin typeface="Verdana"/>
              </a:rPr>
              <a:t>OLIGODENDROGLIOMI ANAPLASTICI TRATTATI CON CHEMIOTERAPIA E RADIOTERAPIA: ANALISI RETROSPETTIVA DELLA CASISTICA DELL’UNIVERSITA’ DI FIRENZ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142640" y="4000320"/>
            <a:ext cx="7056360" cy="1214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Verdana"/>
              </a:rPr>
              <a:t>D.Franceschini</a:t>
            </a:r>
            <a:r>
              <a:rPr b="0" i="1" lang="it-IT" sz="2000" spc="-1" strike="noStrike">
                <a:solidFill>
                  <a:srgbClr val="000000"/>
                </a:solidFill>
                <a:latin typeface="Verdana"/>
              </a:rPr>
              <a:t>, S.Scoccianti, B.Detti, S.Cipressi, S.Bertocci, D.Greto, I.Meattini, F.Ammannati, L.Bordi, S.Chiti, D.Gadda, G.Pellicanò, GP.Bi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3143160" y="5857920"/>
            <a:ext cx="5857920" cy="862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XX AIR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Napoli 13-16 novembr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99800" y="142920"/>
            <a:ext cx="528660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Verdana"/>
              </a:rPr>
              <a:t>Risultati 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6" name="Object 4"/>
          <p:cNvGraphicFramePr/>
          <p:nvPr/>
        </p:nvGraphicFramePr>
        <p:xfrm>
          <a:off x="357120" y="1000080"/>
          <a:ext cx="857268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000080"/>
                    <a:ext cx="857268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Rettangolo 4"/>
          <p:cNvSpPr/>
          <p:nvPr/>
        </p:nvSpPr>
        <p:spPr>
          <a:xfrm>
            <a:off x="1285920" y="6286680"/>
            <a:ext cx="6500880" cy="42840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17 (68%) vivi     8 (32%) decedu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ttangolo arrotondato 5"/>
          <p:cNvSpPr/>
          <p:nvPr/>
        </p:nvSpPr>
        <p:spPr>
          <a:xfrm>
            <a:off x="3143160" y="1071720"/>
            <a:ext cx="26431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Verdana"/>
              </a:rPr>
              <a:t>95,6% ± 0,04 a 1 an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ttangolo arrotondato 6"/>
          <p:cNvSpPr/>
          <p:nvPr/>
        </p:nvSpPr>
        <p:spPr>
          <a:xfrm>
            <a:off x="4929120" y="1500120"/>
            <a:ext cx="26431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Verdana"/>
              </a:rPr>
              <a:t>85,8% ± 0,08 a 2 an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ttangolo arrotondato 8"/>
          <p:cNvSpPr/>
          <p:nvPr/>
        </p:nvSpPr>
        <p:spPr>
          <a:xfrm>
            <a:off x="6215040" y="2071800"/>
            <a:ext cx="257184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Verdana"/>
              </a:rPr>
              <a:t>63,9% ± 0,13 a 5 ann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2" name="Connettore 2 10"/>
          <p:cNvCxnSpPr>
            <a:stCxn id="529" idx="1"/>
          </p:cNvCxnSpPr>
          <p:nvPr/>
        </p:nvCxnSpPr>
        <p:spPr>
          <a:xfrm flipH="1">
            <a:off x="2142720" y="1249200"/>
            <a:ext cx="1000800" cy="1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3" name="Connettore 2 12"/>
          <p:cNvCxnSpPr>
            <a:stCxn id="530" idx="1"/>
          </p:cNvCxnSpPr>
          <p:nvPr/>
        </p:nvCxnSpPr>
        <p:spPr>
          <a:xfrm flipH="1">
            <a:off x="3142440" y="1679400"/>
            <a:ext cx="1786680" cy="1782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4" name="Connettore 2 14"/>
          <p:cNvCxnSpPr/>
          <p:nvPr/>
        </p:nvCxnSpPr>
        <p:spPr>
          <a:xfrm flipH="1">
            <a:off x="5795280" y="2428920"/>
            <a:ext cx="429480" cy="357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143080" y="142920"/>
            <a:ext cx="4857840" cy="6220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Verdana"/>
              </a:rPr>
              <a:t>Risultati PF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6" name="Object 5"/>
          <p:cNvGraphicFramePr/>
          <p:nvPr/>
        </p:nvGraphicFramePr>
        <p:xfrm>
          <a:off x="285840" y="1071720"/>
          <a:ext cx="8358120" cy="49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071720"/>
                    <a:ext cx="8358120" cy="49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Rettangolo 5"/>
          <p:cNvSpPr/>
          <p:nvPr/>
        </p:nvSpPr>
        <p:spPr>
          <a:xfrm>
            <a:off x="826920" y="6165720"/>
            <a:ext cx="742968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12 (48%) progrediti    13 (52%) non progred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ttangolo arrotondato 7"/>
          <p:cNvSpPr/>
          <p:nvPr/>
        </p:nvSpPr>
        <p:spPr>
          <a:xfrm>
            <a:off x="3286080" y="1500120"/>
            <a:ext cx="30718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Verdana"/>
              </a:rPr>
              <a:t>91,5% ± 0,06 a 1 an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ttangolo arrotondato 8"/>
          <p:cNvSpPr/>
          <p:nvPr/>
        </p:nvSpPr>
        <p:spPr>
          <a:xfrm>
            <a:off x="4929120" y="2143080"/>
            <a:ext cx="292896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Verdana"/>
              </a:rPr>
              <a:t>67,2 ± 0,10 a 2 an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ttangolo arrotondato 9"/>
          <p:cNvSpPr/>
          <p:nvPr/>
        </p:nvSpPr>
        <p:spPr>
          <a:xfrm>
            <a:off x="6000840" y="2857680"/>
            <a:ext cx="24289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Verdana"/>
              </a:rPr>
              <a:t>41,1 ± 0,14 a 5 an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Connettore 2 11"/>
          <p:cNvCxnSpPr>
            <a:stCxn id="539" idx="1"/>
          </p:cNvCxnSpPr>
          <p:nvPr/>
        </p:nvCxnSpPr>
        <p:spPr>
          <a:xfrm flipH="1" flipV="1">
            <a:off x="2428200" y="1714320"/>
            <a:ext cx="85788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3" name="Connettore 2 14"/>
          <p:cNvCxnSpPr>
            <a:stCxn id="540" idx="1"/>
          </p:cNvCxnSpPr>
          <p:nvPr/>
        </p:nvCxnSpPr>
        <p:spPr>
          <a:xfrm flipH="1">
            <a:off x="3571560" y="2321280"/>
            <a:ext cx="1357920" cy="2502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4" name="Connettore 2 16"/>
          <p:cNvCxnSpPr/>
          <p:nvPr/>
        </p:nvCxnSpPr>
        <p:spPr>
          <a:xfrm flipH="1">
            <a:off x="6443280" y="3213720"/>
            <a:ext cx="558000" cy="501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272360" cy="64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Verdana"/>
              </a:rPr>
              <a:t>Analisi univariata e multivari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Oval 46"/>
          <p:cNvSpPr/>
          <p:nvPr/>
        </p:nvSpPr>
        <p:spPr>
          <a:xfrm>
            <a:off x="5940360" y="2708280"/>
            <a:ext cx="2016360" cy="1008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&gt; 0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1116000" y="1268280"/>
          <a:ext cx="2987640" cy="4753080"/>
        </p:xfrm>
        <a:graphic>
          <a:graphicData uri="http://schemas.openxmlformats.org/drawingml/2006/table">
            <a:tbl>
              <a:tblPr/>
              <a:tblGrid>
                <a:gridCol w="2987640"/>
              </a:tblGrid>
              <a:tr h="679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s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67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t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679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PS alla diagno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679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e R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679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ntomi alla diagno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67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lezione 1p/19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679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rur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8" name=""/>
          <p:cNvGraphicFramePr/>
          <p:nvPr/>
        </p:nvGraphicFramePr>
        <p:xfrm>
          <a:off x="395280" y="1628640"/>
          <a:ext cx="8578800" cy="4010040"/>
        </p:xfrm>
        <a:graphic>
          <a:graphicData uri="http://schemas.openxmlformats.org/drawingml/2006/table">
            <a:tbl>
              <a:tblPr/>
              <a:tblGrid>
                <a:gridCol w="1944720"/>
                <a:gridCol w="946080"/>
                <a:gridCol w="1440000"/>
                <a:gridCol w="1081080"/>
                <a:gridCol w="1582560"/>
                <a:gridCol w="1584360"/>
              </a:tblGrid>
              <a:tr h="98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 @ 5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P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FS @ 5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ssicitàG3-G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irncro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: 2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9 m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 m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n den B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: 3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.3 m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 m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ren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: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.1 m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.6 m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1 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9" name="CasellaDiTesto 8"/>
          <p:cNvSpPr/>
          <p:nvPr/>
        </p:nvSpPr>
        <p:spPr>
          <a:xfrm>
            <a:off x="1643040" y="214200"/>
            <a:ext cx="6072120" cy="62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Verdana"/>
              </a:rPr>
              <a:t>RISULT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619280" y="214200"/>
            <a:ext cx="619272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Verdana"/>
              </a:rPr>
              <a:t>Discuss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Picture 1" descr="Immagine 1.png"/>
          <p:cNvPicPr/>
          <p:nvPr/>
        </p:nvPicPr>
        <p:blipFill>
          <a:blip r:embed="rId1"/>
          <a:srcRect l="33334" t="36668" r="20000" b="54001"/>
          <a:stretch/>
        </p:blipFill>
        <p:spPr>
          <a:xfrm>
            <a:off x="250920" y="1844640"/>
            <a:ext cx="853416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52" name="TextBox 6"/>
          <p:cNvSpPr/>
          <p:nvPr/>
        </p:nvSpPr>
        <p:spPr>
          <a:xfrm>
            <a:off x="5796000" y="3068640"/>
            <a:ext cx="26668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TNON trial, EORTC 260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8"/>
          <p:cNvSpPr/>
          <p:nvPr/>
        </p:nvSpPr>
        <p:spPr>
          <a:xfrm>
            <a:off x="250920" y="4005360"/>
            <a:ext cx="881676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hase III Randomized study of Radiotherapy with or without adjuvant Temozolomide in Patients with 1p/19 q codeleted Anaplastic Gli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6"/>
          <p:cNvSpPr/>
          <p:nvPr/>
        </p:nvSpPr>
        <p:spPr>
          <a:xfrm>
            <a:off x="5076720" y="5300640"/>
            <a:ext cx="37450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ORTC 26081- 220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CCT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79640" y="189000"/>
            <a:ext cx="518472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Verdana"/>
              </a:rPr>
              <a:t>Discuss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5" descr=""/>
          <p:cNvPicPr/>
          <p:nvPr/>
        </p:nvPicPr>
        <p:blipFill>
          <a:blip r:embed="rId1"/>
          <a:srcRect l="42278" t="22461" r="33565" b="63868"/>
          <a:stretch/>
        </p:blipFill>
        <p:spPr>
          <a:xfrm>
            <a:off x="250920" y="1628640"/>
            <a:ext cx="4897440" cy="23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7" name="Rettangolo 7"/>
          <p:cNvSpPr/>
          <p:nvPr/>
        </p:nvSpPr>
        <p:spPr>
          <a:xfrm>
            <a:off x="684360" y="4292640"/>
            <a:ext cx="309564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Journal of Clinical Oncology,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Vol 27, No 25 (December 10), 2009; pp5874-588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5" descr=""/>
          <p:cNvPicPr/>
          <p:nvPr/>
        </p:nvPicPr>
        <p:blipFill>
          <a:blip r:embed="rId2"/>
          <a:srcRect l="51743" t="23253" r="20035" b="13750"/>
          <a:stretch/>
        </p:blipFill>
        <p:spPr>
          <a:xfrm>
            <a:off x="5292720" y="1700280"/>
            <a:ext cx="3672000" cy="46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 txBox="1"/>
          <p:nvPr/>
        </p:nvSpPr>
        <p:spPr>
          <a:xfrm>
            <a:off x="914400" y="-3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         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GRAZIE PER L’ATTENZI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714760" y="213840"/>
            <a:ext cx="428616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Verdana"/>
              </a:rPr>
              <a:t>Introduzione</a:t>
            </a:r>
            <a:r>
              <a:rPr b="0" lang="it-IT" sz="3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457200" y="1428840"/>
          <a:ext cx="7736040" cy="5352840"/>
        </p:xfrm>
        <a:graphic>
          <a:graphicData uri="http://schemas.openxmlformats.org/drawingml/2006/table">
            <a:tbl>
              <a:tblPr/>
              <a:tblGrid>
                <a:gridCol w="1400040"/>
                <a:gridCol w="1500480"/>
                <a:gridCol w="1857240"/>
                <a:gridCol w="1538280"/>
                <a:gridCol w="1440000"/>
              </a:tblGrid>
              <a:tr h="12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UT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.DI PAZI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FRO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S MEDIAN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FS MEDI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043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n den Bent et al. 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urnal of Clinical Oncology,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ol 24, No 18 (June 20),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T+PC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T al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.3 m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.6 m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 m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2 m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04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irncross et al. 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urnal of Clinical Oncology,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ol 24, No 18 (June 20),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CV+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T al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9 an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7 an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6 an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7 an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143080" y="142920"/>
            <a:ext cx="492912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Verdana"/>
              </a:rPr>
              <a:t>Materiali e metod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539640" y="981000"/>
          <a:ext cx="8229600" cy="5699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s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s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 (6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mm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(4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t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≤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 (7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(2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PS alla diagno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≤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 (4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 (5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e R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 (5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(4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(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ntomi alla diagno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isi epiletti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cit foc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pertensione endocra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CasellaDiTesto 8"/>
          <p:cNvSpPr/>
          <p:nvPr/>
        </p:nvSpPr>
        <p:spPr>
          <a:xfrm>
            <a:off x="3000240" y="142920"/>
            <a:ext cx="300060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Verdana"/>
              </a:rPr>
              <a:t>Istolo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29" descr="Figure 111"/>
          <p:cNvPicPr/>
          <p:nvPr/>
        </p:nvPicPr>
        <p:blipFill>
          <a:blip r:embed="rId1"/>
          <a:srcRect l="0" t="0" r="48866" b="0"/>
          <a:stretch/>
        </p:blipFill>
        <p:spPr>
          <a:xfrm>
            <a:off x="214200" y="928800"/>
            <a:ext cx="3571920" cy="250020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502" name="CasellaDiTesto 6"/>
          <p:cNvSpPr/>
          <p:nvPr/>
        </p:nvSpPr>
        <p:spPr>
          <a:xfrm>
            <a:off x="285840" y="2357280"/>
            <a:ext cx="642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31" descr="Figure 211"/>
          <p:cNvPicPr/>
          <p:nvPr/>
        </p:nvPicPr>
        <p:blipFill>
          <a:blip r:embed="rId2"/>
          <a:srcRect l="0" t="0" r="50576" b="0"/>
          <a:stretch/>
        </p:blipFill>
        <p:spPr>
          <a:xfrm>
            <a:off x="5429160" y="4071960"/>
            <a:ext cx="3571920" cy="263376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504" name="CasellaDiTesto 8"/>
          <p:cNvSpPr/>
          <p:nvPr/>
        </p:nvSpPr>
        <p:spPr>
          <a:xfrm>
            <a:off x="5643720" y="6215040"/>
            <a:ext cx="642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785960" y="2857680"/>
          <a:ext cx="5143320" cy="2442960"/>
        </p:xfrm>
        <a:graphic>
          <a:graphicData uri="http://schemas.openxmlformats.org/drawingml/2006/table">
            <a:tbl>
              <a:tblPr/>
              <a:tblGrid>
                <a:gridCol w="2571840"/>
                <a:gridCol w="2571480"/>
              </a:tblGrid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TOLO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ERO PAZI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93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igodendroglioma anaplastico (O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 (9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igoastrocitoma anaplastico (O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(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42680" y="213840"/>
            <a:ext cx="564372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Verdana"/>
              </a:rPr>
              <a:t>Biologia molecol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857160" y="1600200"/>
          <a:ext cx="7572600" cy="4514760"/>
        </p:xfrm>
        <a:graphic>
          <a:graphicData uri="http://schemas.openxmlformats.org/drawingml/2006/table">
            <a:tbl>
              <a:tblPr/>
              <a:tblGrid>
                <a:gridCol w="3786120"/>
                <a:gridCol w="37864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lezione 1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(3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(2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 disponib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 (4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lezione 19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 (2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 (2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 disponib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 (4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delezione 1p/19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 (2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 (2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 disponib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 (4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CasellaDiTesto 8"/>
          <p:cNvSpPr/>
          <p:nvPr/>
        </p:nvSpPr>
        <p:spPr>
          <a:xfrm>
            <a:off x="2786040" y="189000"/>
            <a:ext cx="378612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Verdana"/>
              </a:rPr>
              <a:t>Chirur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e 9"/>
          <p:cNvSpPr/>
          <p:nvPr/>
        </p:nvSpPr>
        <p:spPr>
          <a:xfrm>
            <a:off x="196920" y="873000"/>
            <a:ext cx="307188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Verdana"/>
              </a:rPr>
              <a:t>1 pazient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Biopsia stereotas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e 10"/>
          <p:cNvSpPr/>
          <p:nvPr/>
        </p:nvSpPr>
        <p:spPr>
          <a:xfrm>
            <a:off x="3516480" y="3086280"/>
            <a:ext cx="5500440" cy="17856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Verdana"/>
              </a:rPr>
              <a:t>9 pazienti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: exeresi to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Verdana"/>
              </a:rPr>
              <a:t>15 pazienti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: exeresi parz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2" descr="stereotactic helmet"/>
          <p:cNvPicPr/>
          <p:nvPr/>
        </p:nvPicPr>
        <p:blipFill>
          <a:blip r:embed="rId1"/>
          <a:srcRect l="0" t="0" r="0" b="8573"/>
          <a:stretch/>
        </p:blipFill>
        <p:spPr>
          <a:xfrm>
            <a:off x="5857920" y="1000080"/>
            <a:ext cx="1886040" cy="18874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9" descr="E:\LGG images\Bonzi LGG\RM post RT 26.07.06\Bonzi RM post RT T1 26 lug 06.jpg"/>
          <p:cNvPicPr/>
          <p:nvPr/>
        </p:nvPicPr>
        <p:blipFill>
          <a:blip r:embed="rId2">
            <a:lum bright="10000"/>
          </a:blip>
          <a:srcRect l="32765" t="38515" r="57769" b="44834"/>
          <a:stretch/>
        </p:blipFill>
        <p:spPr>
          <a:xfrm>
            <a:off x="142920" y="2786040"/>
            <a:ext cx="1643040" cy="20145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0" descr="E:\LGG images\Bonzi LGG\RM post RT 26.07.06\Bonzi RM post RT T2 26 lug 06.jpg"/>
          <p:cNvPicPr/>
          <p:nvPr/>
        </p:nvPicPr>
        <p:blipFill>
          <a:blip r:embed="rId3"/>
          <a:srcRect l="32887" t="36894" r="57387" b="46200"/>
          <a:stretch/>
        </p:blipFill>
        <p:spPr>
          <a:xfrm>
            <a:off x="1828800" y="4386240"/>
            <a:ext cx="1587600" cy="1928880"/>
          </a:xfrm>
          <a:prstGeom prst="rect">
            <a:avLst/>
          </a:prstGeom>
          <a:ln w="0">
            <a:noFill/>
          </a:ln>
        </p:spPr>
      </p:pic>
      <p:sp>
        <p:nvSpPr>
          <p:cNvPr id="514" name="Rettangolo 7"/>
          <p:cNvSpPr/>
          <p:nvPr/>
        </p:nvSpPr>
        <p:spPr>
          <a:xfrm>
            <a:off x="4000680" y="5500800"/>
            <a:ext cx="4286160" cy="42840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Valutazione con RM postoper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Connettore 2 11"/>
          <p:cNvCxnSpPr/>
          <p:nvPr/>
        </p:nvCxnSpPr>
        <p:spPr>
          <a:xfrm flipH="1">
            <a:off x="5785560" y="4642920"/>
            <a:ext cx="429480" cy="100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356840" y="274320"/>
            <a:ext cx="6286680" cy="72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Verdana"/>
              </a:rPr>
              <a:t>Iter terapeut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42960" y="3643200"/>
            <a:ext cx="3929040" cy="928800"/>
          </a:xfrm>
          <a:prstGeom prst="rect">
            <a:avLst/>
          </a:prstGeom>
          <a:solidFill>
            <a:srgbClr val="f2f2f2"/>
          </a:solidFill>
          <a:ln w="9360">
            <a:solidFill>
              <a:srgbClr val="7c7c7c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Arial"/>
              </a:rPr>
              <a:t>Chirurgia-RT-CHT (6 cicli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Arial"/>
              </a:rPr>
              <a:t>6 pz (24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CasellaDiTesto 5"/>
          <p:cNvSpPr/>
          <p:nvPr/>
        </p:nvSpPr>
        <p:spPr>
          <a:xfrm>
            <a:off x="4786200" y="3071880"/>
            <a:ext cx="3857760" cy="703800"/>
          </a:xfrm>
          <a:prstGeom prst="rect">
            <a:avLst/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hirurgia-CHT-RT (4 cicli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19 pz (76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ccia in giù 6"/>
          <p:cNvSpPr/>
          <p:nvPr/>
        </p:nvSpPr>
        <p:spPr>
          <a:xfrm>
            <a:off x="1143000" y="1285920"/>
            <a:ext cx="2714760" cy="228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ccia in giù 7"/>
          <p:cNvSpPr/>
          <p:nvPr/>
        </p:nvSpPr>
        <p:spPr>
          <a:xfrm>
            <a:off x="5500800" y="1285920"/>
            <a:ext cx="2500200" cy="1643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00200" y="285840"/>
            <a:ext cx="457200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Verdana"/>
              </a:rPr>
              <a:t>Chemioterap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000080" y="1499760"/>
            <a:ext cx="7500960" cy="4808520"/>
          </a:xfrm>
          <a:prstGeom prst="rect">
            <a:avLst/>
          </a:prstGeom>
          <a:solidFill>
            <a:srgbClr val="f2f2f2"/>
          </a:solidFill>
          <a:ln w="38160">
            <a:solidFill>
              <a:srgbClr val="7f7f7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Verdana"/>
              </a:rPr>
              <a:t>Schema PCV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Verdana"/>
              </a:rPr>
              <a:t>Procarbazina 60 mg/m² gg 8-2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Verdana"/>
              </a:rPr>
              <a:t>Lomustina 110 mg/m² g 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Verdana"/>
              </a:rPr>
              <a:t>Vincristina 1,4 mg/m² gg 8 e 29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Verdana"/>
              </a:rPr>
              <a:t>Numero medio di cicli: 4 (range 2-6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Verdana"/>
              </a:rPr>
              <a:t>6 pz (24%) hanno interrotto cht per tossicità G3-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142720" y="142920"/>
            <a:ext cx="5000760" cy="6220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Verdana"/>
              </a:rPr>
              <a:t>Radioterap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95280" y="1785600"/>
            <a:ext cx="8105760" cy="285732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Mediana DTF: 6000 cGy (200x1x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Range (5400-6600) cG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09:20:33Z</dcterms:created>
  <dc:creator>Davide</dc:creator>
  <dc:description/>
  <dc:language>en-US</dc:language>
  <cp:lastModifiedBy>tecno</cp:lastModifiedBy>
  <dcterms:modified xsi:type="dcterms:W3CDTF">2010-11-13T08:31:36Z</dcterms:modified>
  <cp:revision>130</cp:revision>
  <dc:subject/>
  <dc:title>Anaplastic</dc:title>
</cp:coreProperties>
</file>