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DEE-872A-4195-A180-E3C8F8AF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12A-D688-4919-9350-7D1E804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675-262B-4204-8403-E67C33E0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B7B-366E-4C73-ADA1-65803A4D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6CB4-40D6-42B5-A821-EEFFE57E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D69D-21A2-476C-9D4F-7E97003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B2FF-BBAF-400F-AE93-6D4AABB9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4081-C5EB-4FE1-829D-4D0D5DEF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C88-9ABA-49E9-A0B0-ACFE2DA1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B5B-0A52-468B-A23F-FC3818F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4DCD-6F0A-4B45-9B68-1AB0AD9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F9F-7919-49BB-8524-B66BF14D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26C5-0B21-489C-95A5-F70BE8E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4F0-DDF3-456E-823E-270C299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294D-6A5F-4D99-BD1D-FC4E934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8084-32D1-4D43-926F-8CDD4F98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566B-1803-4DE6-BA1E-0F6E372F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244E8-80FB-4549-9633-B318B9ED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7496-D2D7-401A-9947-F3A270BF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A08EA-3B63-476E-9D13-8B1E9852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3263D-4206-45E5-B56C-03DC5E9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60ABB-F44A-42C0-8D04-1C2AA66B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19D-A98E-4052-B2FA-45B32D7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69D16-64FA-41C1-97CA-B95BD24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2F84C-8F9C-4567-B902-6AF4703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FBFC0-77AD-47EA-96A4-11B30B53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A5C7E-F529-49F9-AB9F-1E5CB23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734C6-2302-40E0-A971-0584FFC7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23A9C-A086-47E6-B6EB-6EDD5546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865B2-5FE7-4B92-AD0E-1C6307AB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C55D-B223-4C4D-92D3-9D17A728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F84A-BCBD-4851-9B3A-19CCB2B1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4CD1-00CE-453E-9680-A54BDC0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F53-A17F-46DE-8317-F9869BEB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1633-CB29-4356-AE87-D8E8D23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35BB-F3ED-4E3C-8810-AEBE279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2FBCE-649F-46D7-B420-5AD3482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2B2B-0B74-4266-9076-DA0D13B2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2A1A-10C0-46FB-ABAB-E9DDBBF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3C88-08DD-4803-B7D2-04C6A7C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7399-38B0-4319-ADB6-3530900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0C44-0F17-434F-A4ED-D8E35787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4E28-05F2-4552-9F23-29034D8F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24BE9-F701-4AF2-91D9-4BB84D80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AEA-457A-467F-AD3A-285ECC8B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7D7C1-F037-4DE7-8B33-9FA0112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506C6-2C5D-46C7-B9BF-90A00FFF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A89A3-0589-4F55-B34B-E962A3EC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8A3C0-753D-44F7-908F-19AFBFA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DEDBD-1889-49BC-89A6-3D675EE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9794D-14AB-488F-B4ED-E5546C9A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DF4B0-8DAB-49EF-91CE-2108E731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F640A-F9E1-4B10-B4F7-3509AE0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D66B9-2F2F-4339-B49E-06911D12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3554A-AFA7-4A21-A93D-A92D5E93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313-777D-4AE5-B686-DDECAD4E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F8E34-0B28-4BE6-9160-C40BBFED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8B12D-3856-4EFB-8654-2AB575D6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461F0-D557-4DF6-9E9D-C3133F03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AFF40-5C05-4E49-9408-28CF08F1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81502-46F5-4D97-BECD-4541B01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34628-FC28-4C93-A2F8-CAAD8BA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3A0C4-40C7-4A01-83AE-06D56C4F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EEA71-D0CC-400B-8ACB-97D97E5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7478A-5298-4030-A57E-769134C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7B2BE-668B-4A18-B53A-CB5AA76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D7D-7968-4360-8DF3-F87618D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9CF16-77C6-43FC-912E-BEC1D0D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37D8F-C51A-4FD9-838C-90D9C72D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7E5C2-97F0-496E-A089-4D976F17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AB918-8536-4EC9-BBFF-B4ACB5B1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9880E-FE09-450A-8DB0-E56023C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2D9A7-9B7A-44F4-8326-6BAAABC2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2CE1E-3B89-4134-8F5C-C9673AD3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47EB1-F186-489E-BD83-8DBA34B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2D179-4D2F-4092-BD3F-C2E4763C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60DD6-35D7-4216-BD84-650613D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954-DC81-41C6-BA79-2BBB721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6CC07-413B-4B3F-96F4-8A5DE99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6446C-40FE-4045-B9E8-D5F9649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9216A-AE19-413A-9549-A07CDDAF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7ACE2-7FFD-4FFB-A82C-C1F91FDE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4C229-7DF3-4582-AD12-3E62BE81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FDB4-78C6-433B-A59F-B1FADB22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61B13-756F-4E03-901D-C7287392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68D2-7A81-4B3D-81F1-F259198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0F3F-A4D2-483B-9560-6C207F8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A4589-F417-4BA4-ACF9-7E2FD45C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BCC-C31E-48B7-8150-A5901C9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619E-B930-4C8D-A99D-9924DF5D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052F5-9014-44E1-A6E3-6013F8B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3678-7D07-49FA-B6FC-C8930F9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F933A-8586-44E9-BA7F-16433748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2BDE6-40AE-4713-BC7C-CE837054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B184-04CA-4860-ACE4-559A0454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71856-2E0D-486E-9AA8-7F264EA7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6BF76-C597-45BC-B55A-FB888D77B8A9}" type="datetime">
              <a:rPr b="0" lang="it-IT" sz="1200" spc="-1" strike="noStrike">
                <a:solidFill>
                  <a:srgbClr val="575f6d"/>
                </a:solidFill>
                <a:latin typeface="Century School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ADDF2-9D84-48EA-8F92-9B7E43FF7347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34604-07EB-4BD8-8F10-4C68CE2FA16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28BE6-17F6-4381-BAE2-AE579C70A22F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E1CAC-6BB0-47A0-91DF-99AA11817907}" type="datetime">
              <a:rPr b="0" lang="it-IT" sz="1200" spc="-1" strike="noStrike">
                <a:solidFill>
                  <a:srgbClr val="575f6d"/>
                </a:solidFill>
                <a:latin typeface="Century School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FA7DD-5287-4E26-96F1-8A6331665F39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ttore 1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ccccc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ccccc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cccccc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DDA19-D628-414F-A0EA-85D05E5396F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B921B-F96C-41D6-844D-EE1D2FB646B4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CE59B-10AF-4273-B9DE-2AF8EC66C749}" type="datetime">
              <a:rPr b="0" lang="it-IT" sz="1200" spc="-1" strike="noStrike">
                <a:solidFill>
                  <a:srgbClr val="575f6d"/>
                </a:solidFill>
                <a:latin typeface="Century School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996B3-987C-4F7A-9665-3CFFBB102505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ttore 1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nettore 1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F8B96-1201-4C5B-A616-5C47C12FFAD2}" type="datetime">
              <a:rPr b="0" lang="it-IT" sz="1200" spc="-1" strike="noStrike">
                <a:solidFill>
                  <a:srgbClr val="575f6d"/>
                </a:solidFill>
                <a:latin typeface="Century School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82BEB-ED54-4542-962A-85B48335934C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nettore 1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nettore 1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ttore 1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nettore 1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0A771-079B-40CC-B8F3-F9E6241BB4CB}" type="datetime">
              <a:rPr b="0" lang="it-IT" sz="1200" spc="-1" strike="noStrike">
                <a:solidFill>
                  <a:srgbClr val="575f6d"/>
                </a:solidFill>
                <a:latin typeface="Century School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BAD13-E3ED-48DE-A3F6-8A671837D486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54A44-0696-43AA-A594-40B2BE7B4C25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320" y="1293840"/>
            <a:ext cx="8988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42557f"/>
                </a:solidFill>
                <a:latin typeface="Century Schoolbook"/>
              </a:rPr>
              <a:t>RADIOTERAPIA POST-OPERATORIA </a:t>
            </a:r>
            <a:br>
              <a:rPr sz="2600"/>
            </a:br>
            <a:r>
              <a:rPr b="1" i="1" lang="it-IT" sz="2600" spc="-1" strike="noStrike">
                <a:solidFill>
                  <a:srgbClr val="42557f"/>
                </a:solidFill>
                <a:latin typeface="Century Schoolbook"/>
              </a:rPr>
              <a:t>PER I TUMORI TESTA-COLLO IN ITALIA: RISULTATI A 1 ANNO </a:t>
            </a:r>
            <a:br>
              <a:rPr sz="2600"/>
            </a:br>
            <a:r>
              <a:rPr b="1" i="1" lang="it-IT" sz="2600" spc="-1" strike="noStrike">
                <a:solidFill>
                  <a:srgbClr val="42557f"/>
                </a:solidFill>
                <a:latin typeface="Century Schoolbook"/>
              </a:rPr>
              <a:t>DI UNO STUDIO PROSPETTICO </a:t>
            </a:r>
            <a:br>
              <a:rPr sz="2600"/>
            </a:br>
            <a:r>
              <a:rPr b="1" i="1" lang="it-IT" sz="2600" spc="-1" strike="noStrike">
                <a:solidFill>
                  <a:srgbClr val="42557f"/>
                </a:solidFill>
                <a:latin typeface="Century Schoolbook"/>
              </a:rPr>
              <a:t>DEL GRUPPO “AIRO-TESTA-COLLO”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CasellaDiTesto 3"/>
          <p:cNvSpPr/>
          <p:nvPr/>
        </p:nvSpPr>
        <p:spPr>
          <a:xfrm>
            <a:off x="317520" y="3321000"/>
            <a:ext cx="84837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A. Merlott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M. Palazz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D. Alteri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S. Tonol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O. Caspian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A. Bolner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F. Corbella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7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S. Dall’Ogli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L. Lastrucc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9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F. Bunkheila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M. Cianciull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R. Vigna Tagliant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2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D. Cante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3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, E. Bianch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4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M. Rampin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5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A. Podhradska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6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A. Fontana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7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F. Paiar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8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F. Micciché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19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R. Manz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0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S. Ursin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1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L. Bruschier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2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A. Bacigalup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3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T. Iannone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4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R. Barca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5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D. Zerini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S. Colombo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7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, S. Tomatis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Busto Arsizi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Milano-Niguard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Milano-IE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Brescia-Ist.del Radi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Roma-Isola Tiberin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6 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Trent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Pavia-S.Matteo;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 8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Verona; 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Arezz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Bologna-S.Orsol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Roma-S.Camill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2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Cune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3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Ivre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45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Com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5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Torino-Molinette Università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6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Monza-S.Gerard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7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Latin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8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Firenze-Careggi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19 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Roma-Univ. Cattolic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Napoli-Ascalesi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1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Ferrara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2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Trevigli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3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Genova-IST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4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Belluno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5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Empoli; </a:t>
            </a: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26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Fisica Medica, Milano-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400" spc="-1" strike="noStrike" baseline="30000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 "/>
          <p:cNvPicPr/>
          <p:nvPr/>
        </p:nvPicPr>
        <p:blipFill>
          <a:blip r:embed="rId1"/>
          <a:stretch/>
        </p:blipFill>
        <p:spPr>
          <a:xfrm>
            <a:off x="0" y="3122640"/>
            <a:ext cx="4788000" cy="3735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 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463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2743200" y="487692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T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6705720" y="68580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OR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3"/>
          <a:srcRect l="8772" t="0" r="0" b="0"/>
          <a:stretch/>
        </p:blipFill>
        <p:spPr>
          <a:xfrm>
            <a:off x="4800600" y="3505320"/>
            <a:ext cx="4343400" cy="31734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5181480" y="5638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CPOP   LRC   87%   a 1 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228600" y="838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3300"/>
                </a:solidFill>
                <a:latin typeface="Century Schoolbook"/>
              </a:rPr>
              <a:t>Local-Region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6908760" y="4191120"/>
            <a:ext cx="0" cy="2133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H="1">
            <a:off x="5105520" y="419112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 flipV="1">
            <a:off x="2146320" y="3809880"/>
            <a:ext cx="0" cy="18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 flipH="1">
            <a:off x="1600200" y="38098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6"/>
          <p:cNvSpPr/>
          <p:nvPr/>
        </p:nvSpPr>
        <p:spPr>
          <a:xfrm flipV="1">
            <a:off x="6019920" y="1866600"/>
            <a:ext cx="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7"/>
          <p:cNvSpPr/>
          <p:nvPr/>
        </p:nvSpPr>
        <p:spPr>
          <a:xfrm flipH="1">
            <a:off x="5714640" y="184140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406440" y="353880"/>
          <a:ext cx="8407440" cy="6218280"/>
        </p:xfrm>
        <a:graphic>
          <a:graphicData uri="http://schemas.openxmlformats.org/drawingml/2006/table">
            <a:tbl>
              <a:tblPr/>
              <a:tblGrid>
                <a:gridCol w="4203720"/>
                <a:gridCol w="42037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cccccc"/>
                          </a:solidFill>
                          <a:latin typeface="Century Schoolbook"/>
                        </a:rPr>
                        <a:t>EORT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18720">
                      <a:solidFill>
                        <a:srgbClr val="cccccc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cccccc"/>
                          </a:solidFill>
                          <a:latin typeface="Century Schoolbook"/>
                        </a:rPr>
                        <a:t>RTO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18720">
                      <a:solidFill>
                        <a:srgbClr val="cccccc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y of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CE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rgini +(R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ivello IV, V cavo orale/oro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vasione perineura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boli neoplastici endovascola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1872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y of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CE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rgini+ (R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o&gt; 2 l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1872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 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3276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 "/>
          <p:cNvPicPr/>
          <p:nvPr/>
        </p:nvPicPr>
        <p:blipFill>
          <a:blip r:embed="rId2"/>
          <a:stretch/>
        </p:blipFill>
        <p:spPr>
          <a:xfrm>
            <a:off x="0" y="3290760"/>
            <a:ext cx="4572000" cy="35672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7089120" y="3049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OR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30564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T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12" descr=""/>
          <p:cNvPicPr/>
          <p:nvPr/>
        </p:nvPicPr>
        <p:blipFill>
          <a:blip r:embed="rId3"/>
          <a:srcRect l="10507" t="0" r="0" b="0"/>
          <a:stretch/>
        </p:blipFill>
        <p:spPr>
          <a:xfrm>
            <a:off x="4572000" y="3276720"/>
            <a:ext cx="4572000" cy="35892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5105520" y="5410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CPOP  DFS  74% 1 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 flipV="1">
            <a:off x="6738840" y="4419360"/>
            <a:ext cx="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 flipH="1">
            <a:off x="4876560" y="4419720"/>
            <a:ext cx="1904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 flipV="1">
            <a:off x="2057400" y="4343400"/>
            <a:ext cx="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>
            <a:off x="1523880" y="4495680"/>
            <a:ext cx="53352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V="1">
            <a:off x="6248520" y="83772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3"/>
          <p:cNvSpPr/>
          <p:nvPr/>
        </p:nvSpPr>
        <p:spPr>
          <a:xfrm flipH="1">
            <a:off x="5943240" y="838080"/>
            <a:ext cx="304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1523880" y="43434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0" y="1143000"/>
            <a:ext cx="49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3300"/>
                </a:solidFill>
                <a:latin typeface="Century Schoolbook"/>
              </a:rPr>
              <a:t>Disease-free sur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1028880" y="1601640"/>
            <a:ext cx="6926040" cy="50022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8"/>
          <p:cNvSpPr/>
          <p:nvPr/>
        </p:nvSpPr>
        <p:spPr>
          <a:xfrm>
            <a:off x="293760" y="31680"/>
            <a:ext cx="862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free survival, per attesa chir-RT (gap 0 = meno della mediana, gap 1 = più della medi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901800" y="1601640"/>
            <a:ext cx="6926040" cy="50022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7"/>
          <p:cNvSpPr/>
          <p:nvPr/>
        </p:nvSpPr>
        <p:spPr>
          <a:xfrm>
            <a:off x="0" y="227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free survival, per stato dei margini (cod 0= indenni, cod 1= positi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08" descr=""/>
          <p:cNvPicPr/>
          <p:nvPr/>
        </p:nvPicPr>
        <p:blipFill>
          <a:blip r:embed="rId1"/>
          <a:stretch/>
        </p:blipFill>
        <p:spPr>
          <a:xfrm>
            <a:off x="992160" y="1603440"/>
            <a:ext cx="6950160" cy="5018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510"/>
          <p:cNvSpPr/>
          <p:nvPr/>
        </p:nvSpPr>
        <p:spPr>
          <a:xfrm>
            <a:off x="0" y="334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free survival, per sistema posizion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Schoolbook"/>
              </a:rPr>
              <a:t>(cod 1= masch. testa, cod 1= masch. testa-spa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1141560" y="1620720"/>
            <a:ext cx="6673680" cy="48196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6"/>
          <p:cNvSpPr/>
          <p:nvPr/>
        </p:nvSpPr>
        <p:spPr>
          <a:xfrm>
            <a:off x="0" y="-1908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free survival, per tecnica 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Schoolbook"/>
              </a:rPr>
              <a:t>(cod 1= 3D semplice, cod 2= 3D complessa,  cod 3= IM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>
            <a:off x="811080" y="1476360"/>
            <a:ext cx="7275600" cy="52545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free survival, per ospedale chirurgia (sede= stesso ospedale di RT,  extra sede= ospedale diver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774720" y="1530360"/>
            <a:ext cx="7275600" cy="525456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Local control, per dose totale alla sede di T (grp_Gy_T 0= &lt;64 Gy,  grp_Gy_T 1= </a:t>
            </a:r>
            <a:r>
              <a:rPr b="0" lang="it-IT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≥</a:t>
            </a: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64 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925560" y="1816200"/>
            <a:ext cx="6956280" cy="50241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7"/>
          <p:cNvSpPr/>
          <p:nvPr/>
        </p:nvSpPr>
        <p:spPr>
          <a:xfrm>
            <a:off x="0" y="2844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free survival, per estensione extra-capsulare (cod 0= no ECE-, cod 1= ECE+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Century Schoolbook"/>
              </a:rPr>
              <a:t>DFS a 1 aa 63% vs 82% p=0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Century Schoolbook"/>
              </a:rPr>
              <a:t>MATERIALI E METOD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55480" y="2019240"/>
            <a:ext cx="799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sto MT (Corpo)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Calisto MT (Corpo)"/>
              </a:rPr>
              <a:t>al Dicembre 2008 al Maggio 2009, 24 Centri hanno inserito 200 pazienti in uno studio osservazionale prospettico promosso dal Gruppo AIRO “testa-collo”. Sono stati arruolati pz che hanno effettuato un trattamento postoperatorio  per carcinoma della laringe, orofaringe, cavo orale o ipofaring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sto MT (Corpo)"/>
              </a:rPr>
              <a:t>Nel 78% erano masch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sto MT (Corpo)"/>
              </a:rPr>
              <a:t>Il performance status era ECOG 0 nel 42%, 1 nel 53% e 2 nel 4% dei pz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sto MT (Corpo)"/>
              </a:rPr>
              <a:t>L’età media era 62 anni (range 26 - 89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sto MT (Corpo)"/>
              </a:rPr>
              <a:t>I pazienti erano in stadio I nel 3% dei casi, II nel 7%, III nel 19%, IVa nel 68% e IVb nel 3%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sto MT (Corpo)"/>
              </a:rPr>
              <a:t>Laringe (38%) e cavo orale (34%) erano le sedi più frequenti di T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236160" y="239760"/>
            <a:ext cx="8326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 un controllo univariato della DFS, nè l’intervallo tra la chirurgia e l’inizio della RT (&lt; 69 gg vs ≥ 69 gg) nè lo stato dei margini chirurgici (negativi vs close o coinvolti) hanno mostrato un impatto sui risultat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lo i pazienti con estensione linfonodale extracapsulare avevano un peggiore outcome rispetto ad altri senza questo fattore avverso (DFS a 1 anno 63% vs 82%, p=0.24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3" name="Grafico 4" descr=""/>
          <p:cNvPicPr/>
          <p:nvPr/>
        </p:nvPicPr>
        <p:blipFill>
          <a:blip r:embed="rId1"/>
          <a:stretch/>
        </p:blipFill>
        <p:spPr>
          <a:xfrm>
            <a:off x="326880" y="3429000"/>
            <a:ext cx="651348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Century Schoolbook"/>
              </a:rPr>
              <a:t>CONCLUSION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 nostri dati mostrano che a 1 anno il 26% dei pazienti trattati con chirurgia e RT postoperatoria (+/- cht) per tumori del cavo orale, orofaringe, laringe ed ipofaringe hanno avuto un falliment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’analisi delle sedi di ricaduta mostra c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a recidiva locale di T è il tipo di fallimento più frequente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’estensione linfonodale extracapsulare è risultato il maggiore fattore prognost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 dati saranno analizzati con un follow-up di maggiore durata per evidenziare la correlazione tra altre variabili e outco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GRAZIE A TUTTI </a:t>
            </a:r>
            <a:br>
              <a:rPr sz="3000"/>
            </a:b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I PARTECIPANTI ALLO STUD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7" name="Segnaposto contenuto 3" descr="muppets.jpg"/>
          <p:cNvPicPr/>
          <p:nvPr/>
        </p:nvPicPr>
        <p:blipFill>
          <a:blip r:embed="rId1"/>
          <a:srcRect l="-26606" t="0" r="-26606" b="0"/>
          <a:stretch/>
        </p:blipFill>
        <p:spPr>
          <a:xfrm>
            <a:off x="638280" y="1600200"/>
            <a:ext cx="7467480" cy="4873680"/>
          </a:xfrm>
          <a:prstGeom prst="rect">
            <a:avLst/>
          </a:prstGeom>
          <a:ln w="0">
            <a:noFill/>
          </a:ln>
        </p:spPr>
      </p:pic>
      <p:grpSp>
        <p:nvGrpSpPr>
          <p:cNvPr id="488" name="Gruppo 5"/>
          <p:cNvGrpSpPr/>
          <p:nvPr/>
        </p:nvGrpSpPr>
        <p:grpSpPr>
          <a:xfrm>
            <a:off x="2328840" y="2590920"/>
            <a:ext cx="4137120" cy="2014560"/>
            <a:chOff x="2328840" y="2590920"/>
            <a:chExt cx="4137120" cy="2014560"/>
          </a:xfrm>
        </p:grpSpPr>
        <p:grpSp>
          <p:nvGrpSpPr>
            <p:cNvPr id="489" name="Callout con freccia in giù 3"/>
            <p:cNvGrpSpPr/>
            <p:nvPr/>
          </p:nvGrpSpPr>
          <p:grpSpPr>
            <a:xfrm>
              <a:off x="2328840" y="2590920"/>
              <a:ext cx="4137120" cy="2014560"/>
              <a:chOff x="2328840" y="2590920"/>
              <a:chExt cx="4137120" cy="2014560"/>
            </a:xfrm>
          </p:grpSpPr>
          <p:pic>
            <p:nvPicPr>
              <p:cNvPr id="490" name="Callout con freccia in giù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8840" y="2590920"/>
                <a:ext cx="4137120" cy="20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2391120" y="2630880"/>
                <a:ext cx="401652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CasellaDiTesto 4"/>
            <p:cNvSpPr/>
            <p:nvPr/>
          </p:nvSpPr>
          <p:spPr>
            <a:xfrm>
              <a:off x="2359080" y="2932200"/>
              <a:ext cx="408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000" spc="-1" strike="noStrike">
                  <a:solidFill>
                    <a:srgbClr val="fdf5d5"/>
                  </a:solidFill>
                  <a:latin typeface="Century Schoolbook"/>
                </a:rPr>
                <a:t>In particolare al Dr.Palazzi per il supporto ed i suggeriment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sto MT (Corpo)"/>
              </a:rPr>
              <a:t>L’intervallo mediano di tempo tra chirurgia e inizio RT era di 69 giorni (range 25-215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sto MT (Corpo)"/>
              </a:rPr>
              <a:t>Hanno ricevuto chemioterapia concomitante 13/40 pazienti con margini “close”, 27/50 con margini coinvolti, 33/51 con rottura capsulare. Degli 80 pazienti che hanno ricevuto chemioterapia concomitante, il </a:t>
            </a:r>
            <a:r>
              <a:rPr b="0" lang="en-GB" sz="2400" spc="-1" strike="noStrike">
                <a:solidFill>
                  <a:srgbClr val="42557f"/>
                </a:solidFill>
                <a:latin typeface="Calisto MT (Corpo)"/>
              </a:rPr>
              <a:t>21% (17) non aveva fattori di rischio maggior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sto MT (Corpo)"/>
              </a:rPr>
              <a:t>Il follow-up mediano a partire dalla data della chirurgia è di 1.46 anni  (range 0.3-2.03)</a:t>
            </a:r>
            <a:r>
              <a:rPr b="0" lang="it-IT" sz="2400" spc="-1" strike="noStrike">
                <a:solidFill>
                  <a:srgbClr val="000000"/>
                </a:solidFill>
                <a:latin typeface="Calisto MT (Corpo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Rettangolo 8"/>
          <p:cNvGrpSpPr/>
          <p:nvPr/>
        </p:nvGrpSpPr>
        <p:grpSpPr>
          <a:xfrm>
            <a:off x="396720" y="2517840"/>
            <a:ext cx="5089680" cy="523800"/>
            <a:chOff x="396720" y="2517840"/>
            <a:chExt cx="5089680" cy="523800"/>
          </a:xfrm>
        </p:grpSpPr>
        <p:pic>
          <p:nvPicPr>
            <p:cNvPr id="404" name="Rettangolo 8" descr=""/>
            <p:cNvPicPr/>
            <p:nvPr/>
          </p:nvPicPr>
          <p:blipFill>
            <a:blip r:embed="rId1"/>
            <a:stretch/>
          </p:blipFill>
          <p:spPr>
            <a:xfrm>
              <a:off x="396720" y="2517840"/>
              <a:ext cx="50896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57200" y="2560680"/>
              <a:ext cx="49658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Rettangolo 6"/>
          <p:cNvGrpSpPr/>
          <p:nvPr/>
        </p:nvGrpSpPr>
        <p:grpSpPr>
          <a:xfrm>
            <a:off x="396720" y="689040"/>
            <a:ext cx="5089680" cy="884160"/>
            <a:chOff x="396720" y="689040"/>
            <a:chExt cx="5089680" cy="884160"/>
          </a:xfrm>
        </p:grpSpPr>
        <p:pic>
          <p:nvPicPr>
            <p:cNvPr id="407" name="Rettangolo 6" descr=""/>
            <p:cNvPicPr/>
            <p:nvPr/>
          </p:nvPicPr>
          <p:blipFill>
            <a:blip r:embed="rId2"/>
            <a:stretch/>
          </p:blipFill>
          <p:spPr>
            <a:xfrm>
              <a:off x="396720" y="689040"/>
              <a:ext cx="508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7200" y="731880"/>
              <a:ext cx="49658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9" name=""/>
          <p:cNvGraphicFramePr/>
          <p:nvPr/>
        </p:nvGraphicFramePr>
        <p:xfrm>
          <a:off x="457200" y="304920"/>
          <a:ext cx="8229600" cy="158436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pazi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i chirurgici posi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60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63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– 70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57200" y="4626000"/>
          <a:ext cx="8229600" cy="185400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pazi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ischio recidiva lo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irradi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66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93"/>
          <p:cNvSpPr/>
          <p:nvPr/>
        </p:nvSpPr>
        <p:spPr>
          <a:xfrm>
            <a:off x="380880" y="4106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103 pazienti                           margini chirurgici inde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2152800"/>
          <a:ext cx="8229600" cy="158400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pazi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i chirurgici 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60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63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– 70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CasellaDiTesto 5"/>
          <p:cNvSpPr/>
          <p:nvPr/>
        </p:nvSpPr>
        <p:spPr>
          <a:xfrm>
            <a:off x="457200" y="653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777c84"/>
                </a:solidFill>
                <a:latin typeface="Century Schoolbook"/>
              </a:rPr>
              <a:t>M.Cianciu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CasellaDiTesto 7"/>
          <p:cNvSpPr/>
          <p:nvPr/>
        </p:nvSpPr>
        <p:spPr>
          <a:xfrm>
            <a:off x="1481040" y="6224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fdf5d5"/>
                </a:solidFill>
                <a:latin typeface="Arial"/>
              </a:rPr>
              <a:t>3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asellaDiTesto 9"/>
          <p:cNvSpPr/>
          <p:nvPr/>
        </p:nvSpPr>
        <p:spPr>
          <a:xfrm>
            <a:off x="1481040" y="23590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df5d5"/>
                </a:solidFill>
                <a:latin typeface="Arial"/>
              </a:rPr>
              <a:t>3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457200" y="533520"/>
          <a:ext cx="8229600" cy="15843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pazienti pN0 (44 – 60 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o dissezione bilaterale lnf L-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su 2 livelli dell’emic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su almeno 3 livelli linfonod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57200" y="4699080"/>
          <a:ext cx="8305920" cy="1473120"/>
        </p:xfrm>
        <a:graphic>
          <a:graphicData uri="http://schemas.openxmlformats.org/drawingml/2006/table">
            <a:tbl>
              <a:tblPr/>
              <a:tblGrid>
                <a:gridCol w="3429000"/>
                <a:gridCol w="487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pazienti pN0 (50 – 66 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o dissezione monolaterale lnf L-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su almeno 3 livelli linfonod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8" name="Picture 89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743200" cy="2527200"/>
          </a:xfrm>
          <a:prstGeom prst="rect">
            <a:avLst/>
          </a:prstGeom>
          <a:ln w="0">
            <a:noFill/>
          </a:ln>
        </p:spPr>
      </p:pic>
      <p:sp>
        <p:nvSpPr>
          <p:cNvPr id="419" name="CasellaDiTesto 4"/>
          <p:cNvSpPr/>
          <p:nvPr/>
        </p:nvSpPr>
        <p:spPr>
          <a:xfrm>
            <a:off x="457200" y="653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777c84"/>
                </a:solidFill>
                <a:latin typeface="Century Schoolbook"/>
              </a:rPr>
              <a:t>M.Cianciu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Century Schoolbook"/>
              </a:rPr>
              <a:t>RISULTATI A 1 ANN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pravvivenza globale 83%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pravvivenza causa-specifica 86%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disease-free survival (DFS) 74%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ontrollo loco-regionale 87%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ontrollo locale 89%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ontrollo regionale 95%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ontrollo malattia a distanza 89%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uppo 14"/>
          <p:cNvGrpSpPr/>
          <p:nvPr/>
        </p:nvGrpSpPr>
        <p:grpSpPr>
          <a:xfrm>
            <a:off x="0" y="33480"/>
            <a:ext cx="9144000" cy="6824520"/>
            <a:chOff x="0" y="33480"/>
            <a:chExt cx="9144000" cy="6824520"/>
          </a:xfrm>
        </p:grpSpPr>
        <p:pic>
          <p:nvPicPr>
            <p:cNvPr id="423" name="Picture 2" descr=" "/>
            <p:cNvPicPr/>
            <p:nvPr/>
          </p:nvPicPr>
          <p:blipFill>
            <a:blip r:embed="rId1"/>
            <a:stretch/>
          </p:blipFill>
          <p:spPr>
            <a:xfrm>
              <a:off x="0" y="3122640"/>
              <a:ext cx="4788000" cy="37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 "/>
            <p:cNvPicPr/>
            <p:nvPr/>
          </p:nvPicPr>
          <p:blipFill>
            <a:blip r:embed="rId2"/>
            <a:stretch/>
          </p:blipFill>
          <p:spPr>
            <a:xfrm>
              <a:off x="4368960" y="33480"/>
              <a:ext cx="4775040" cy="326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4"/>
            <p:cNvSpPr/>
            <p:nvPr/>
          </p:nvSpPr>
          <p:spPr>
            <a:xfrm>
              <a:off x="6293160" y="2982960"/>
              <a:ext cx="26128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ORT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J.Bernier NEJM 2004;350:1945-5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"/>
            <p:cNvSpPr/>
            <p:nvPr/>
          </p:nvSpPr>
          <p:spPr>
            <a:xfrm>
              <a:off x="114120" y="2776680"/>
              <a:ext cx="26924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T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Schoolbook"/>
                  <a:ea typeface="ＭＳ Ｐゴシック"/>
                </a:rPr>
                <a:t>J.S.Cooper NEJM 2004;350:1937-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4" descr=""/>
            <p:cNvPicPr/>
            <p:nvPr/>
          </p:nvPicPr>
          <p:blipFill>
            <a:blip r:embed="rId3"/>
            <a:srcRect l="10507" t="0" r="0" b="0"/>
            <a:stretch/>
          </p:blipFill>
          <p:spPr>
            <a:xfrm>
              <a:off x="4876920" y="3598920"/>
              <a:ext cx="403848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7"/>
            <p:cNvSpPr/>
            <p:nvPr/>
          </p:nvSpPr>
          <p:spPr>
            <a:xfrm>
              <a:off x="5181480" y="571500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TECPOP   OS   83% a 1 an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V="1">
              <a:off x="6781680" y="4419360"/>
              <a:ext cx="0" cy="2057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H="1">
              <a:off x="5105520" y="4419720"/>
              <a:ext cx="1676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H="1" flipV="1">
              <a:off x="6283800" y="685440"/>
              <a:ext cx="1800" cy="1376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H="1" flipV="1">
              <a:off x="5982120" y="671040"/>
              <a:ext cx="301680" cy="1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 flipV="1">
              <a:off x="2133360" y="3886200"/>
              <a:ext cx="0" cy="1752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1599840" y="388620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0" y="1371600"/>
              <a:ext cx="4408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4000" spc="-1" strike="noStrike">
                  <a:solidFill>
                    <a:srgbClr val="ff3300"/>
                  </a:solidFill>
                  <a:latin typeface="Century Schoolbook"/>
                </a:rPr>
                <a:t>Overall Surviva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3"/>
          <p:cNvSpPr/>
          <p:nvPr/>
        </p:nvSpPr>
        <p:spPr>
          <a:xfrm>
            <a:off x="582480" y="5950080"/>
            <a:ext cx="73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Disease-Specific Survival 1 a 8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rcRect l="9203" t="0" r="0" b="0"/>
          <a:stretch/>
        </p:blipFill>
        <p:spPr>
          <a:xfrm>
            <a:off x="1042920" y="333360"/>
            <a:ext cx="691380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650880" y="6021360"/>
            <a:ext cx="69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Local Control 1 a 8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rcRect l="9203" t="0" r="0" b="0"/>
          <a:stretch/>
        </p:blipFill>
        <p:spPr>
          <a:xfrm>
            <a:off x="982800" y="333360"/>
            <a:ext cx="6978600" cy="554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7:47:27Z</dcterms:created>
  <dc:creator>Anna Merlotti</dc:creator>
  <dc:description/>
  <dc:language>en-US</dc:language>
  <cp:lastModifiedBy>tecno</cp:lastModifiedBy>
  <dcterms:modified xsi:type="dcterms:W3CDTF">2010-11-14T09:34:08Z</dcterms:modified>
  <cp:revision>19</cp:revision>
  <dc:subject/>
  <dc:title>RADIOTERAPIA POST-OPERATORIA  PER I TUMORI TESTA-COLLO IN ITALIA: RISULTATI A 1 ANNO  DI UNO STUDIO PROSPETTICO  DEL GRUPPO “AIRO-TESTA-COLLO”</dc:title>
</cp:coreProperties>
</file>