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F4A34-5DFA-47E9-BC7C-8362FA56AD43}" type="datetime">
              <a:rPr b="0" lang="it-IT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11C0C-47A2-4169-B2E7-65C602EA517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2B8E7-3FEA-4F8D-AA85-14CD0D552346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Effettuando una valutazione dosimetrica del piano a vista il volume del PTVtailored che sarebbe rientrato nella isodose del 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6F8F3-E0F9-4FE4-BF37-2F4BC695E733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Boost con elettroni su letto tumorale individuato basandosi sulla cicatrice chirurgica che definiamo a v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537FB-B1B9-4C2C-8FDE-5B00E769105B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4F6-5DF1-42A4-BA46-C8A15379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496-D8AA-4460-B29D-7F85C65D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E76-FDF0-4531-8DEF-78808261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BFC-29C1-47C2-8BEC-9FB21796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326-743F-4F81-859B-E10CEE15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BE5-09EB-40F1-AF22-ADDCF0F5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F28-F989-4552-B8E9-0A81E757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604-89F4-4B4E-84E2-B919614F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DFD-A688-4091-963B-E6B34F3F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454-840E-4F7E-8CEF-9652D91E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B57-69AA-470A-BA60-8E7622CD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697-35A5-4D2C-8942-FA89ACB4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6FA37-3CF1-4162-89EC-54B591CBC81B}" type="datetime">
              <a:rPr b="0" lang="it-IT" sz="12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D0146-0663-4DC4-8157-D16D670D8CE5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0" descr="Logo ASL sfondo blu"/>
          <p:cNvPicPr/>
          <p:nvPr/>
        </p:nvPicPr>
        <p:blipFill>
          <a:blip r:embed="rId1"/>
          <a:stretch/>
        </p:blipFill>
        <p:spPr>
          <a:xfrm>
            <a:off x="152280" y="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49" name="Immagine 3" descr=""/>
          <p:cNvPicPr/>
          <p:nvPr/>
        </p:nvPicPr>
        <p:blipFill>
          <a:blip r:embed="rId2"/>
          <a:stretch/>
        </p:blipFill>
        <p:spPr>
          <a:xfrm>
            <a:off x="2819520" y="5181480"/>
            <a:ext cx="3657600" cy="1650960"/>
          </a:xfrm>
          <a:prstGeom prst="rect">
            <a:avLst/>
          </a:prstGeom>
          <a:ln w="0">
            <a:noFill/>
          </a:ln>
        </p:spPr>
      </p:pic>
      <p:sp>
        <p:nvSpPr>
          <p:cNvPr id="50" name="CasellaDiTesto 26"/>
          <p:cNvSpPr/>
          <p:nvPr/>
        </p:nvSpPr>
        <p:spPr>
          <a:xfrm>
            <a:off x="1066680" y="14371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e differenti modalità nella definizione del </a:t>
            </a:r>
            <a:r>
              <a:rPr b="1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i Tumori Mammari: come viene influenzata la distribuzione dosimetrica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CasellaDiTesto 4"/>
          <p:cNvSpPr/>
          <p:nvPr/>
        </p:nvSpPr>
        <p:spPr>
          <a:xfrm>
            <a:off x="3581280" y="55933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Papyrus"/>
                <a:ea typeface="Times New Roman"/>
              </a:rPr>
              <a:t>XX AI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Papyrus"/>
                <a:ea typeface="Times New Roman"/>
              </a:rPr>
              <a:t>Napoli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CasellaDiTesto 5"/>
          <p:cNvSpPr/>
          <p:nvPr/>
        </p:nvSpPr>
        <p:spPr>
          <a:xfrm>
            <a:off x="762120" y="2934360"/>
            <a:ext cx="792468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. Nuzzo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. Maione, C. Cristofaro°, M. Massaccesi°, S. Cilla*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Genovesi, G. Ausili Cefa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. O. Radioterapia Oncologica - Ospedale Clinicizzato, Università “G. D’Annunzio” – Chie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U. O. C. Radioterapia - Università Cattolica del Sacro Cuore - Campobas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U. O. Fisica Medica - Università Cattolica del Sacro Cuore - Campobass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magine 8" descr=""/>
          <p:cNvPicPr/>
          <p:nvPr/>
        </p:nvPicPr>
        <p:blipFill>
          <a:blip r:embed="rId3"/>
          <a:stretch/>
        </p:blipFill>
        <p:spPr>
          <a:xfrm>
            <a:off x="838080" y="681120"/>
            <a:ext cx="766800" cy="766800"/>
          </a:xfrm>
          <a:prstGeom prst="rect">
            <a:avLst/>
          </a:prstGeom>
          <a:ln w="0">
            <a:noFill/>
          </a:ln>
        </p:spPr>
      </p:pic>
      <p:pic>
        <p:nvPicPr>
          <p:cNvPr id="54" name="Immagine 9" descr=""/>
          <p:cNvPicPr/>
          <p:nvPr/>
        </p:nvPicPr>
        <p:blipFill>
          <a:blip r:embed="rId4"/>
          <a:stretch/>
        </p:blipFill>
        <p:spPr>
          <a:xfrm>
            <a:off x="7467480" y="98280"/>
            <a:ext cx="1447920" cy="14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stra esperienza: risultat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523520"/>
            <a:ext cx="8305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utte le pazienti l’</a:t>
            </a:r>
            <a:r>
              <a:rPr b="0" lang="it-IT" sz="3200" spc="-1" strike="noStrike">
                <a:solidFill>
                  <a:srgbClr val="00cb00"/>
                </a:solidFill>
                <a:latin typeface="Times New Roman"/>
                <a:ea typeface="Times New Roman"/>
              </a:rPr>
              <a:t>PTV</a:t>
            </a:r>
            <a:r>
              <a:rPr b="0" i="1" lang="it-IT" sz="3200" spc="-1" strike="noStrike" baseline="30000">
                <a:solidFill>
                  <a:srgbClr val="00cb00"/>
                </a:solidFill>
                <a:latin typeface="Times New Roman"/>
                <a:ea typeface="Times New Roman"/>
              </a:rPr>
              <a:t>fixe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più ampio del </a:t>
            </a:r>
            <a:r>
              <a:rPr b="0" lang="it-IT" sz="3200" spc="-1" strike="noStrike">
                <a:solidFill>
                  <a:srgbClr val="ee2dbe"/>
                </a:solidFill>
                <a:latin typeface="Times New Roman"/>
                <a:ea typeface="Times New Roman"/>
              </a:rPr>
              <a:t>PTV</a:t>
            </a:r>
            <a:r>
              <a:rPr b="0" i="1" lang="it-IT" sz="3200" spc="-1" strike="noStrike" baseline="30000">
                <a:solidFill>
                  <a:srgbClr val="ee2dbe"/>
                </a:solidFill>
                <a:latin typeface="Times New Roman"/>
                <a:ea typeface="Times New Roman"/>
              </a:rPr>
              <a:t>tailo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Immagine 4" descr="Marianna 3.JPG"/>
          <p:cNvPicPr/>
          <p:nvPr/>
        </p:nvPicPr>
        <p:blipFill>
          <a:blip r:embed="rId1"/>
          <a:stretch/>
        </p:blipFill>
        <p:spPr>
          <a:xfrm>
            <a:off x="1909800" y="2895480"/>
            <a:ext cx="5211720" cy="3962520"/>
          </a:xfrm>
          <a:prstGeom prst="rect">
            <a:avLst/>
          </a:prstGeom>
          <a:ln w="0">
            <a:noFill/>
          </a:ln>
        </p:spPr>
      </p:pic>
      <p:sp>
        <p:nvSpPr>
          <p:cNvPr id="112" name="Segnaposto contenuto 7"/>
          <p:cNvSpPr/>
          <p:nvPr/>
        </p:nvSpPr>
        <p:spPr>
          <a:xfrm>
            <a:off x="0" y="4267080"/>
            <a:ext cx="83059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PTV</a:t>
            </a:r>
            <a:r>
              <a:rPr b="0" i="1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ailored-Plan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5/8 pazienti (62,5%) l’energia è variata (15 Me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stra esperienza: risultat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2057400"/>
          <a:ext cx="8686800" cy="1554120"/>
        </p:xfrm>
        <a:graphic>
          <a:graphicData uri="http://schemas.openxmlformats.org/drawingml/2006/table">
            <a:tbl>
              <a:tblPr/>
              <a:tblGrid>
                <a:gridCol w="1981080"/>
                <a:gridCol w="3429000"/>
                <a:gridCol w="32767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90 (media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95 (media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V</a:t>
                      </a:r>
                      <a:r>
                        <a:rPr b="0" i="1" lang="it-IT" sz="3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ilor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5%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5,4 - 82,2%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6%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5 - 47,1%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 txBox="1"/>
          <p:nvPr/>
        </p:nvSpPr>
        <p:spPr>
          <a:xfrm>
            <a:off x="228600" y="1371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TV</a:t>
            </a:r>
            <a:r>
              <a:rPr b="0" i="1" lang="it-IT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fixed</a:t>
            </a:r>
            <a:r>
              <a:rPr b="0" i="1" lang="it-IT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pla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8600" y="4643280"/>
          <a:ext cx="8686800" cy="1616400"/>
        </p:xfrm>
        <a:graphic>
          <a:graphicData uri="http://schemas.openxmlformats.org/drawingml/2006/table">
            <a:tbl>
              <a:tblPr/>
              <a:tblGrid>
                <a:gridCol w="1981080"/>
                <a:gridCol w="3429000"/>
                <a:gridCol w="32767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90 (media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95 (media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V</a:t>
                      </a:r>
                      <a:r>
                        <a:rPr b="0" i="1" lang="it-IT" sz="3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ilor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2,9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0 - 100%)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3,5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8 - 95%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117" name="Segnaposto contenuto 7"/>
          <p:cNvSpPr/>
          <p:nvPr/>
        </p:nvSpPr>
        <p:spPr>
          <a:xfrm>
            <a:off x="228600" y="39625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TV</a:t>
            </a:r>
            <a:r>
              <a:rPr b="0" i="1" lang="it-IT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ailored</a:t>
            </a:r>
            <a:r>
              <a:rPr b="0" i="1" lang="it-IT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120" y="837720"/>
            <a:ext cx="85345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V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fixed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ee2db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sso </a:t>
            </a:r>
            <a:r>
              <a:rPr b="0" lang="it-IT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-ottimal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definire il letto tumora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ee2db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adiazione di una sostanziale quota di tessuto mammario non interessato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Segnaposto contenuto 7"/>
          <p:cNvSpPr/>
          <p:nvPr/>
        </p:nvSpPr>
        <p:spPr>
          <a:xfrm>
            <a:off x="0" y="533412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P CHIRURGIC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ee2db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ola </a:t>
            </a:r>
            <a:r>
              <a:rPr b="0" lang="it-IT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isce in maniera adeguata il letto operatorio perchè la cavità tumorale è </a:t>
            </a:r>
            <a:r>
              <a:rPr b="0" lang="it-IT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dimensional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egnaposto contenuto 7"/>
          <p:cNvSpPr/>
          <p:nvPr/>
        </p:nvSpPr>
        <p:spPr>
          <a:xfrm>
            <a:off x="914400" y="2819520"/>
            <a:ext cx="77724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NO PERSONALIZZAT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ee2db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gliore copertura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letto tumor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ee2db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à dosimetr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ee2db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parmio tessuto mammari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ee2db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tezza del set-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egnaposto contenuto 7" descr="images.jpg"/>
          <p:cNvPicPr/>
          <p:nvPr/>
        </p:nvPicPr>
        <p:blipFill>
          <a:blip r:embed="rId1"/>
          <a:stretch/>
        </p:blipFill>
        <p:spPr>
          <a:xfrm>
            <a:off x="1295280" y="457200"/>
            <a:ext cx="6537600" cy="5208480"/>
          </a:xfrm>
          <a:prstGeom prst="rect">
            <a:avLst/>
          </a:prstGeom>
          <a:ln w="0">
            <a:noFill/>
          </a:ln>
        </p:spPr>
      </p:pic>
      <p:sp>
        <p:nvSpPr>
          <p:cNvPr id="123" name="CasellaDiTesto 8"/>
          <p:cNvSpPr/>
          <p:nvPr/>
        </p:nvSpPr>
        <p:spPr>
          <a:xfrm>
            <a:off x="2728800" y="5943600"/>
            <a:ext cx="39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6fcf"/>
                </a:solidFill>
                <a:latin typeface="Lucida Handwriting"/>
              </a:rPr>
              <a:t>Grazie per l’atten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asellaDiTesto 5"/>
          <p:cNvSpPr/>
          <p:nvPr/>
        </p:nvSpPr>
        <p:spPr>
          <a:xfrm>
            <a:off x="457200" y="728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rurgia conservativ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CasellaDiTesto 7"/>
          <p:cNvSpPr/>
          <p:nvPr/>
        </p:nvSpPr>
        <p:spPr>
          <a:xfrm>
            <a:off x="6258600" y="75888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R: 18,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ccia destra 8"/>
          <p:cNvSpPr/>
          <p:nvPr/>
        </p:nvSpPr>
        <p:spPr>
          <a:xfrm>
            <a:off x="4724280" y="820800"/>
            <a:ext cx="978120" cy="485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CasellaDiTesto 10"/>
          <p:cNvSpPr/>
          <p:nvPr/>
        </p:nvSpPr>
        <p:spPr>
          <a:xfrm>
            <a:off x="304920" y="372096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 letto chirurgi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reccia destra 12"/>
          <p:cNvSpPr/>
          <p:nvPr/>
        </p:nvSpPr>
        <p:spPr>
          <a:xfrm>
            <a:off x="4737240" y="422604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CasellaDiTesto 11"/>
          <p:cNvSpPr/>
          <p:nvPr/>
        </p:nvSpPr>
        <p:spPr>
          <a:xfrm>
            <a:off x="6218640" y="4187880"/>
            <a:ext cx="26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R: 3,6°- 4,3%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CasellaDiTesto 10"/>
          <p:cNvSpPr/>
          <p:nvPr/>
        </p:nvSpPr>
        <p:spPr>
          <a:xfrm>
            <a:off x="457200" y="252396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CasellaDiTesto 11"/>
          <p:cNvSpPr/>
          <p:nvPr/>
        </p:nvSpPr>
        <p:spPr>
          <a:xfrm>
            <a:off x="6217560" y="2475000"/>
            <a:ext cx="25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R: 4,5°-7,3%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ccia destra 16"/>
          <p:cNvSpPr/>
          <p:nvPr/>
        </p:nvSpPr>
        <p:spPr>
          <a:xfrm>
            <a:off x="4740120" y="2540160"/>
            <a:ext cx="978120" cy="485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CasellaDiTesto 17"/>
          <p:cNvSpPr/>
          <p:nvPr/>
        </p:nvSpPr>
        <p:spPr>
          <a:xfrm>
            <a:off x="3659040" y="6211800"/>
            <a:ext cx="548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telink 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 NEJM 2001 Nov 8; 345(19): 1378-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estaing P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 JCO 1997 Mar; 15(3): 963-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CasellaDiTesto 18"/>
          <p:cNvSpPr/>
          <p:nvPr/>
        </p:nvSpPr>
        <p:spPr>
          <a:xfrm>
            <a:off x="5119560" y="1306440"/>
            <a:ext cx="39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her B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 NEJM 2002; 347: 1233-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ttangolo arrotondato 14"/>
          <p:cNvSpPr/>
          <p:nvPr/>
        </p:nvSpPr>
        <p:spPr>
          <a:xfrm>
            <a:off x="457200" y="3708360"/>
            <a:ext cx="3962520" cy="1854360"/>
          </a:xfrm>
          <a:prstGeom prst="roundRect">
            <a:avLst>
              <a:gd name="adj" fmla="val 16667"/>
            </a:avLst>
          </a:prstGeom>
          <a:solidFill>
            <a:srgbClr val="ff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CasellaDiTesto 19"/>
          <p:cNvSpPr/>
          <p:nvPr/>
        </p:nvSpPr>
        <p:spPr>
          <a:xfrm>
            <a:off x="1052640" y="4854600"/>
            <a:ext cx="30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STAND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. O. Radioterapia Chiet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7720" y="12189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e2dbe"/>
              </a:buClr>
              <a:buSzPct val="80000"/>
              <a:buFont typeface="Wingdings" charset="2"/>
              <a:buChar char="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hole breast</a:t>
            </a:r>
            <a:r>
              <a:rPr b="0" lang="it-IT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(50 G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i tangenzial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e2dbe"/>
              </a:buClr>
              <a:buSzPct val="80000"/>
              <a:buFont typeface="Wingdings" charset="2"/>
              <a:buChar char="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ost con elettroni </a:t>
            </a:r>
            <a:r>
              <a:rPr b="0" lang="it-IT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(10 G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cicatrice chirurgica (“a vista”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o 7x10 cm ed energia 9 Me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3"/>
          <p:cNvSpPr/>
          <p:nvPr/>
        </p:nvSpPr>
        <p:spPr>
          <a:xfrm>
            <a:off x="1879920" y="5181480"/>
            <a:ext cx="541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sso di recidiva locale: 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,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02 pazienti – follow up mediano: 8 ann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ccia giù 4"/>
          <p:cNvSpPr/>
          <p:nvPr/>
        </p:nvSpPr>
        <p:spPr>
          <a:xfrm>
            <a:off x="4129200" y="4267080"/>
            <a:ext cx="914400" cy="978120"/>
          </a:xfrm>
          <a:prstGeom prst="downArrow">
            <a:avLst>
              <a:gd name="adj1" fmla="val 50000"/>
              <a:gd name="adj2" fmla="val 5001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CasellaDiTesto 6"/>
          <p:cNvSpPr/>
          <p:nvPr/>
        </p:nvSpPr>
        <p:spPr>
          <a:xfrm>
            <a:off x="2895480" y="6248520"/>
            <a:ext cx="624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ili Cèfaro G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al.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Cancer Res Treat. 2006 Aug; 98(3): 329-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ili Cèfaro G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al.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J. 2007 Nov-Dec; 13(6): 575-8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magine 3" descr=""/>
          <p:cNvPicPr/>
          <p:nvPr/>
        </p:nvPicPr>
        <p:blipFill>
          <a:blip r:embed="rId1"/>
          <a:stretch/>
        </p:blipFill>
        <p:spPr>
          <a:xfrm>
            <a:off x="0" y="3997440"/>
            <a:ext cx="9144000" cy="286056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4"/>
          <p:cNvSpPr/>
          <p:nvPr/>
        </p:nvSpPr>
        <p:spPr>
          <a:xfrm>
            <a:off x="990720" y="79848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ronto dosimetrico tra 2 modalità di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st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elettroni su letto tumora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CasellaDiTesto 5"/>
          <p:cNvSpPr/>
          <p:nvPr/>
        </p:nvSpPr>
        <p:spPr>
          <a:xfrm>
            <a:off x="685800" y="191772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to su cicatrice chirurgica con energia e campo fis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TV</a:t>
            </a:r>
            <a:r>
              <a:rPr b="0" i="1" lang="it-IT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fixed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CasellaDiTesto 6"/>
          <p:cNvSpPr/>
          <p:nvPr/>
        </p:nvSpPr>
        <p:spPr>
          <a:xfrm>
            <a:off x="4876920" y="1917720"/>
            <a:ext cx="350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volume contornato con energia e ca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izzati (PTV</a:t>
            </a:r>
            <a:r>
              <a:rPr b="0" i="1" lang="it-IT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ailored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CasellaDiTesto 7"/>
          <p:cNvSpPr/>
          <p:nvPr/>
        </p:nvSpPr>
        <p:spPr>
          <a:xfrm>
            <a:off x="4142160" y="24382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V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CasellaDiTesto 8"/>
          <p:cNvSpPr/>
          <p:nvPr/>
        </p:nvSpPr>
        <p:spPr>
          <a:xfrm>
            <a:off x="2532240" y="76320"/>
            <a:ext cx="396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po dello stud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allout con freccia in giù 4"/>
          <p:cNvSpPr/>
          <p:nvPr/>
        </p:nvSpPr>
        <p:spPr>
          <a:xfrm>
            <a:off x="533520" y="1295280"/>
            <a:ext cx="8076960" cy="1828800"/>
          </a:xfrm>
          <a:prstGeom prst="downArrowCallout">
            <a:avLst>
              <a:gd name="adj1" fmla="val -22847"/>
              <a:gd name="adj2" fmla="val 25006"/>
              <a:gd name="adj3" fmla="val 25000"/>
              <a:gd name="adj4" fmla="val 64977"/>
            </a:avLst>
          </a:prstGeom>
          <a:solidFill>
            <a:srgbClr val="ff6fc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stra esperienz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26668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mul-TC di centratur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e2dbe"/>
              </a:buClr>
              <a:buSzPct val="80000"/>
              <a:buFont typeface="Wingdings" charset="2"/>
              <a:buChar char="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zionamento con cicatrice parallela al piano costa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e2dbe"/>
              </a:buClr>
              <a:buSzPct val="80000"/>
              <a:buFont typeface="Wingdings" charset="2"/>
              <a:buChar char="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raggio con fili radiopachi TC-compatibil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CasellaDiTesto 3"/>
          <p:cNvSpPr/>
          <p:nvPr/>
        </p:nvSpPr>
        <p:spPr>
          <a:xfrm>
            <a:off x="457200" y="1295280"/>
            <a:ext cx="82296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pazienti con carcinoma mammario (stadio I-II) sottoposte a chirurgia conserv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magine 17" descr="Marianna 1.JPG"/>
          <p:cNvPicPr/>
          <p:nvPr/>
        </p:nvPicPr>
        <p:blipFill>
          <a:blip r:embed="rId1"/>
          <a:stretch/>
        </p:blipFill>
        <p:spPr>
          <a:xfrm>
            <a:off x="0" y="3943440"/>
            <a:ext cx="4816440" cy="2914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stra esperienza: contornazio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CasellaDiTesto 5"/>
          <p:cNvSpPr/>
          <p:nvPr/>
        </p:nvSpPr>
        <p:spPr>
          <a:xfrm>
            <a:off x="76320" y="1143000"/>
            <a:ext cx="4724280" cy="18892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TV</a:t>
            </a:r>
            <a:r>
              <a:rPr b="0" i="1" lang="it-IT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fi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 reperata come boost “a vista”con riferimento  su cicatrice chirur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Immagine 13" descr="Marianna.jpg"/>
          <p:cNvPicPr/>
          <p:nvPr/>
        </p:nvPicPr>
        <p:blipFill>
          <a:blip r:embed="rId2"/>
          <a:stretch/>
        </p:blipFill>
        <p:spPr>
          <a:xfrm>
            <a:off x="4952880" y="1828800"/>
            <a:ext cx="4191120" cy="3879720"/>
          </a:xfrm>
          <a:prstGeom prst="rect">
            <a:avLst/>
          </a:prstGeom>
          <a:ln w="0">
            <a:noFill/>
          </a:ln>
        </p:spPr>
      </p:pic>
      <p:sp>
        <p:nvSpPr>
          <p:cNvPr id="87" name="Figura a mano libera 14"/>
          <p:cNvSpPr/>
          <p:nvPr/>
        </p:nvSpPr>
        <p:spPr>
          <a:xfrm>
            <a:off x="7596360" y="3027240"/>
            <a:ext cx="1177920" cy="83340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177720" h="833038">
                <a:moveTo>
                  <a:pt x="327116" y="5825"/>
                </a:moveTo>
                <a:cubicBezTo>
                  <a:pt x="282450" y="0"/>
                  <a:pt x="285838" y="7287"/>
                  <a:pt x="268855" y="17476"/>
                </a:cubicBezTo>
                <a:cubicBezTo>
                  <a:pt x="245305" y="31605"/>
                  <a:pt x="210594" y="75731"/>
                  <a:pt x="210594" y="75731"/>
                </a:cubicBezTo>
                <a:lnTo>
                  <a:pt x="187290" y="145636"/>
                </a:lnTo>
                <a:cubicBezTo>
                  <a:pt x="177813" y="174063"/>
                  <a:pt x="174921" y="192956"/>
                  <a:pt x="152334" y="215541"/>
                </a:cubicBezTo>
                <a:cubicBezTo>
                  <a:pt x="142431" y="225443"/>
                  <a:pt x="129029" y="231076"/>
                  <a:pt x="117377" y="238843"/>
                </a:cubicBezTo>
                <a:cubicBezTo>
                  <a:pt x="109609" y="269912"/>
                  <a:pt x="104201" y="301668"/>
                  <a:pt x="94073" y="332050"/>
                </a:cubicBezTo>
                <a:cubicBezTo>
                  <a:pt x="90189" y="343701"/>
                  <a:pt x="90094" y="357413"/>
                  <a:pt x="82421" y="367003"/>
                </a:cubicBezTo>
                <a:cubicBezTo>
                  <a:pt x="73673" y="377937"/>
                  <a:pt x="59117" y="382537"/>
                  <a:pt x="47465" y="390304"/>
                </a:cubicBezTo>
                <a:cubicBezTo>
                  <a:pt x="39697" y="401955"/>
                  <a:pt x="30424" y="412733"/>
                  <a:pt x="24161" y="425257"/>
                </a:cubicBezTo>
                <a:cubicBezTo>
                  <a:pt x="0" y="473574"/>
                  <a:pt x="11806" y="523188"/>
                  <a:pt x="24161" y="576718"/>
                </a:cubicBezTo>
                <a:cubicBezTo>
                  <a:pt x="27310" y="590362"/>
                  <a:pt x="38500" y="600914"/>
                  <a:pt x="47465" y="611671"/>
                </a:cubicBezTo>
                <a:cubicBezTo>
                  <a:pt x="58014" y="624329"/>
                  <a:pt x="67683" y="639256"/>
                  <a:pt x="82421" y="646624"/>
                </a:cubicBezTo>
                <a:cubicBezTo>
                  <a:pt x="100135" y="655480"/>
                  <a:pt x="121051" y="655658"/>
                  <a:pt x="140682" y="658275"/>
                </a:cubicBezTo>
                <a:cubicBezTo>
                  <a:pt x="246151" y="672336"/>
                  <a:pt x="245566" y="664632"/>
                  <a:pt x="338768" y="681576"/>
                </a:cubicBezTo>
                <a:cubicBezTo>
                  <a:pt x="435463" y="699155"/>
                  <a:pt x="335003" y="684205"/>
                  <a:pt x="431985" y="716529"/>
                </a:cubicBezTo>
                <a:cubicBezTo>
                  <a:pt x="462370" y="726656"/>
                  <a:pt x="494817" y="729703"/>
                  <a:pt x="525202" y="739831"/>
                </a:cubicBezTo>
                <a:cubicBezTo>
                  <a:pt x="536854" y="743715"/>
                  <a:pt x="548168" y="748818"/>
                  <a:pt x="560158" y="751482"/>
                </a:cubicBezTo>
                <a:cubicBezTo>
                  <a:pt x="589267" y="757950"/>
                  <a:pt x="685607" y="771065"/>
                  <a:pt x="711635" y="774783"/>
                </a:cubicBezTo>
                <a:cubicBezTo>
                  <a:pt x="723287" y="778667"/>
                  <a:pt x="734548" y="784025"/>
                  <a:pt x="746592" y="786434"/>
                </a:cubicBezTo>
                <a:cubicBezTo>
                  <a:pt x="836865" y="804487"/>
                  <a:pt x="805679" y="789012"/>
                  <a:pt x="874765" y="809736"/>
                </a:cubicBezTo>
                <a:cubicBezTo>
                  <a:pt x="898294" y="816794"/>
                  <a:pt x="944678" y="833038"/>
                  <a:pt x="944678" y="833038"/>
                </a:cubicBezTo>
                <a:cubicBezTo>
                  <a:pt x="953425" y="831945"/>
                  <a:pt x="1058840" y="822566"/>
                  <a:pt x="1084503" y="809736"/>
                </a:cubicBezTo>
                <a:cubicBezTo>
                  <a:pt x="1094329" y="804824"/>
                  <a:pt x="1100040" y="794201"/>
                  <a:pt x="1107808" y="786434"/>
                </a:cubicBezTo>
                <a:cubicBezTo>
                  <a:pt x="1111692" y="774783"/>
                  <a:pt x="1113967" y="762466"/>
                  <a:pt x="1119460" y="751482"/>
                </a:cubicBezTo>
                <a:cubicBezTo>
                  <a:pt x="1125723" y="738957"/>
                  <a:pt x="1137076" y="729325"/>
                  <a:pt x="1142764" y="716529"/>
                </a:cubicBezTo>
                <a:cubicBezTo>
                  <a:pt x="1152741" y="694084"/>
                  <a:pt x="1158300" y="669926"/>
                  <a:pt x="1166068" y="646624"/>
                </a:cubicBezTo>
                <a:lnTo>
                  <a:pt x="1177720" y="611671"/>
                </a:lnTo>
                <a:cubicBezTo>
                  <a:pt x="1173836" y="510697"/>
                  <a:pt x="1176467" y="409261"/>
                  <a:pt x="1166068" y="308748"/>
                </a:cubicBezTo>
                <a:cubicBezTo>
                  <a:pt x="1163635" y="285228"/>
                  <a:pt x="1125775" y="258478"/>
                  <a:pt x="1107808" y="250494"/>
                </a:cubicBezTo>
                <a:cubicBezTo>
                  <a:pt x="1085360" y="240518"/>
                  <a:pt x="1037895" y="227192"/>
                  <a:pt x="1037895" y="227192"/>
                </a:cubicBezTo>
                <a:cubicBezTo>
                  <a:pt x="1005676" y="178867"/>
                  <a:pt x="1016812" y="183046"/>
                  <a:pt x="944678" y="157287"/>
                </a:cubicBezTo>
                <a:cubicBezTo>
                  <a:pt x="914515" y="146516"/>
                  <a:pt x="851461" y="133985"/>
                  <a:pt x="851461" y="133985"/>
                </a:cubicBezTo>
                <a:cubicBezTo>
                  <a:pt x="839809" y="126218"/>
                  <a:pt x="829377" y="116199"/>
                  <a:pt x="816505" y="110683"/>
                </a:cubicBezTo>
                <a:cubicBezTo>
                  <a:pt x="801785" y="104375"/>
                  <a:pt x="785294" y="103431"/>
                  <a:pt x="769896" y="99032"/>
                </a:cubicBezTo>
                <a:cubicBezTo>
                  <a:pt x="758086" y="95658"/>
                  <a:pt x="746440" y="91693"/>
                  <a:pt x="734940" y="87381"/>
                </a:cubicBezTo>
                <a:cubicBezTo>
                  <a:pt x="715356" y="80038"/>
                  <a:pt x="697277" y="67714"/>
                  <a:pt x="676679" y="64080"/>
                </a:cubicBezTo>
                <a:cubicBezTo>
                  <a:pt x="630621" y="55953"/>
                  <a:pt x="583462" y="56313"/>
                  <a:pt x="536854" y="52429"/>
                </a:cubicBezTo>
                <a:cubicBezTo>
                  <a:pt x="394069" y="20702"/>
                  <a:pt x="371782" y="11650"/>
                  <a:pt x="327116" y="5825"/>
                </a:cubicBezTo>
                <a:close/>
              </a:path>
            </a:pathLst>
          </a:custGeom>
          <a:noFill/>
          <a:ln w="28440">
            <a:solidFill>
              <a:srgbClr val="00cb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" name="Connettore 2 20"/>
          <p:cNvCxnSpPr/>
          <p:nvPr/>
        </p:nvCxnSpPr>
        <p:spPr>
          <a:xfrm>
            <a:off x="4724280" y="3247560"/>
            <a:ext cx="2820240" cy="289440"/>
          </a:xfrm>
          <a:prstGeom prst="straightConnector1">
            <a:avLst/>
          </a:prstGeom>
          <a:ln w="25560">
            <a:solidFill>
              <a:srgbClr val="00cb00"/>
            </a:solidFill>
            <a:miter/>
            <a:tailEnd len="med" type="arrow" w="med"/>
          </a:ln>
        </p:spPr>
      </p:cxnSp>
      <p:sp>
        <p:nvSpPr>
          <p:cNvPr id="89" name="Connettore 1 25"/>
          <p:cNvSpPr/>
          <p:nvPr/>
        </p:nvSpPr>
        <p:spPr>
          <a:xfrm>
            <a:off x="7924680" y="3327480"/>
            <a:ext cx="762120" cy="28584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" name="Connettore 2 27"/>
          <p:cNvCxnSpPr/>
          <p:nvPr/>
        </p:nvCxnSpPr>
        <p:spPr>
          <a:xfrm flipV="1">
            <a:off x="7923600" y="3536640"/>
            <a:ext cx="305640" cy="2381760"/>
          </a:xfrm>
          <a:prstGeom prst="straightConnector1">
            <a:avLst/>
          </a:prstGeom>
          <a:ln w="255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91" name="CasellaDiTesto 15"/>
          <p:cNvSpPr/>
          <p:nvPr/>
        </p:nvSpPr>
        <p:spPr>
          <a:xfrm>
            <a:off x="6858000" y="5765760"/>
            <a:ext cx="218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atrice chirur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pe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Connettore 2 21"/>
          <p:cNvCxnSpPr/>
          <p:nvPr/>
        </p:nvCxnSpPr>
        <p:spPr>
          <a:xfrm>
            <a:off x="4190040" y="3428640"/>
            <a:ext cx="1080" cy="972360"/>
          </a:xfrm>
          <a:prstGeom prst="straightConnector1">
            <a:avLst/>
          </a:prstGeom>
          <a:ln w="25560">
            <a:solidFill>
              <a:srgbClr val="00cb00"/>
            </a:solidFill>
            <a:miter/>
            <a:tailEnd len="med" type="arrow" w="med"/>
          </a:ln>
        </p:spPr>
      </p:cxnSp>
      <p:sp>
        <p:nvSpPr>
          <p:cNvPr id="93" name="CasellaDiTesto 15"/>
          <p:cNvSpPr/>
          <p:nvPr/>
        </p:nvSpPr>
        <p:spPr>
          <a:xfrm>
            <a:off x="3679920" y="304812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fix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magine 11" descr="Marianna 2.JPG"/>
          <p:cNvPicPr/>
          <p:nvPr/>
        </p:nvPicPr>
        <p:blipFill>
          <a:blip r:embed="rId1"/>
          <a:stretch/>
        </p:blipFill>
        <p:spPr>
          <a:xfrm>
            <a:off x="0" y="3959280"/>
            <a:ext cx="4800600" cy="2898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stra esperienza: contornazio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29200" y="2514240"/>
            <a:ext cx="4038480" cy="2438280"/>
          </a:xfrm>
          <a:prstGeom prst="rect">
            <a:avLst/>
          </a:prstGeom>
          <a:solidFill>
            <a:srgbClr val="ee2dbe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TV</a:t>
            </a:r>
            <a:r>
              <a:rPr b="0" i="1" lang="it-IT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ailored</a:t>
            </a:r>
            <a:r>
              <a:rPr b="0" lang="it-IT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ansione del CTV</a:t>
            </a:r>
            <a:r>
              <a:rPr b="0" i="1" lang="it-IT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ailored</a:t>
            </a:r>
            <a:r>
              <a:rPr b="0" lang="it-IT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1 cm su ciscun contorno, escludendo il piano costale e la cut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CasellaDiTesto 4"/>
          <p:cNvSpPr/>
          <p:nvPr/>
        </p:nvSpPr>
        <p:spPr>
          <a:xfrm>
            <a:off x="76320" y="1143000"/>
            <a:ext cx="4724280" cy="14626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TV</a:t>
            </a:r>
            <a:r>
              <a:rPr b="0" i="1" lang="it-IT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ail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chirurgica e cambiamenti post-chirurgi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" name="Connettore 2 17"/>
          <p:cNvCxnSpPr/>
          <p:nvPr/>
        </p:nvCxnSpPr>
        <p:spPr>
          <a:xfrm flipH="1" flipV="1">
            <a:off x="4342680" y="5180760"/>
            <a:ext cx="1524600" cy="839160"/>
          </a:xfrm>
          <a:prstGeom prst="straightConnector1">
            <a:avLst/>
          </a:prstGeom>
          <a:ln w="28440">
            <a:solidFill>
              <a:srgbClr val="ee2dbe"/>
            </a:solidFill>
            <a:miter/>
            <a:tailEnd len="med" type="triangle" w="med"/>
          </a:ln>
        </p:spPr>
      </p:cxnSp>
      <p:cxnSp>
        <p:nvCxnSpPr>
          <p:cNvPr id="99" name="Connettore 2 18"/>
          <p:cNvCxnSpPr/>
          <p:nvPr/>
        </p:nvCxnSpPr>
        <p:spPr>
          <a:xfrm>
            <a:off x="3123000" y="3524040"/>
            <a:ext cx="839160" cy="1276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0" name="CasellaDiTesto 13"/>
          <p:cNvSpPr/>
          <p:nvPr/>
        </p:nvSpPr>
        <p:spPr>
          <a:xfrm>
            <a:off x="5791320" y="58672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ailo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CasellaDiTesto 14"/>
          <p:cNvSpPr/>
          <p:nvPr/>
        </p:nvSpPr>
        <p:spPr>
          <a:xfrm>
            <a:off x="2505240" y="320040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ailo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stra esperienza: contornazio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TV</a:t>
            </a:r>
            <a:r>
              <a:rPr b="0" i="1" lang="it-IT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ailored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ee2dbe"/>
              </a:buClr>
              <a:buSzPct val="80000"/>
              <a:buFont typeface="Wingdings" charset="2"/>
              <a:buChar char="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mmografia pre-operator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ee2dbe"/>
              </a:buClr>
              <a:buSzPct val="80000"/>
              <a:buFont typeface="Wingdings" charset="2"/>
              <a:buChar char="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 chirurg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ee2dbe"/>
              </a:buClr>
              <a:buSzPct val="80000"/>
              <a:buFont typeface="Wingdings" charset="2"/>
              <a:buChar char="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ame istolog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ee2dbe"/>
              </a:buClr>
              <a:buSzPct val="80000"/>
              <a:buFont typeface="Wingdings" charset="2"/>
              <a:buChar char="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chirurgica (n°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ee2dbe"/>
              </a:buClr>
              <a:buSzPct val="80000"/>
              <a:buFont typeface="Wingdings" charset="2"/>
              <a:buChar char="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maneggiamento ghiandol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Immagine 4" descr="radiografia 2 copia.jpg"/>
          <p:cNvPicPr/>
          <p:nvPr/>
        </p:nvPicPr>
        <p:blipFill>
          <a:blip r:embed="rId1"/>
          <a:stretch/>
        </p:blipFill>
        <p:spPr>
          <a:xfrm>
            <a:off x="6578640" y="4495680"/>
            <a:ext cx="2031840" cy="2032200"/>
          </a:xfrm>
          <a:prstGeom prst="rect">
            <a:avLst/>
          </a:prstGeom>
          <a:ln w="28440">
            <a:solidFill>
              <a:srgbClr val="ffff00"/>
            </a:solidFill>
            <a:round/>
          </a:ln>
        </p:spPr>
      </p:pic>
      <p:sp>
        <p:nvSpPr>
          <p:cNvPr id="105" name="CasellaDiTesto 5"/>
          <p:cNvSpPr/>
          <p:nvPr/>
        </p:nvSpPr>
        <p:spPr>
          <a:xfrm>
            <a:off x="1549440" y="5664240"/>
            <a:ext cx="51055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o di radiologo espe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stra esperienza: </a:t>
            </a:r>
            <a:r>
              <a:rPr b="0" i="1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CasellaDiTesto 3"/>
          <p:cNvSpPr/>
          <p:nvPr/>
        </p:nvSpPr>
        <p:spPr>
          <a:xfrm>
            <a:off x="457200" y="1585800"/>
            <a:ext cx="8229600" cy="17593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TV</a:t>
            </a:r>
            <a:r>
              <a:rPr b="0" i="1" lang="it-IT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fixed-Plan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a: 9 M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ensioni: 7 x 10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4038480"/>
            <a:ext cx="8229600" cy="18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TV</a:t>
            </a:r>
            <a:r>
              <a:rPr b="0" i="1" lang="it-IT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ailored-Plan</a:t>
            </a:r>
            <a:r>
              <a:rPr b="0" lang="it-IT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glior piano possibile con elettro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energia e dimensio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9:57:23Z</dcterms:created>
  <dc:creator>Marianna</dc:creator>
  <dc:description/>
  <dc:language>en-US</dc:language>
  <cp:lastModifiedBy>tecno</cp:lastModifiedBy>
  <dcterms:modified xsi:type="dcterms:W3CDTF">2010-11-14T12:50:49Z</dcterms:modified>
  <cp:revision>137</cp:revision>
  <dc:subject/>
  <dc:title>Diapositiva 1</dc:title>
</cp:coreProperties>
</file>