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455-4475-4A73-BA00-AB4B7BBC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7960-91F4-421C-9743-518BA6D6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10F2-5F5B-48B5-9C59-5F7BC1D4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A06-F2AE-4805-8BDB-3DDC1095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615-D539-4BCE-A648-FCE67F97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C7A5-F99B-4762-9D0C-54E2302F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634-8047-4ED0-958F-024B216E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655-6D09-4C08-84C6-8FC424B8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79F-5C93-40C2-891A-F001BEB9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DD3-DE34-4CC9-80C5-0F58104A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809-02DC-4345-A7D1-A67F13C1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377-1AFC-4EEE-A4C8-06661ACD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63B7-BAD0-421B-810E-274FBDAA1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152360" cy="981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79640" y="333360"/>
            <a:ext cx="669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ESSIONE PRO-CONS MESOTELIOMA PLEURICO MALI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28640"/>
            <a:ext cx="5435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sorgenza strettamente correl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ll’esposizione all’asbest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idenza di mesotelioma nei pa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uropei: 1.1-1.25 casi/100.000 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gioni italiane più colpite: Piemo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guria, Lombardia, Veneto, Friu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particolare nel Nord Italia: Provi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Alessandria (Casale Monferrato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vincia di Pavia, Monfalco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 Spezia, Geno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64000" y="836640"/>
            <a:ext cx="3780000" cy="459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84720" y="5877000"/>
            <a:ext cx="237672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Mortalità per Mesoteli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Rap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ISTISAN 02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152360" cy="981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79640" y="260280"/>
            <a:ext cx="669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ESSIONE PRO-CONS MESOTELIOMA PLEURICO MALI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13000"/>
            <a:ext cx="9144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asale Monferrato (AL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su 250 casi di tumori amianto-correl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gistrati ogni anno in Piemonte, 50 sono a Ca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questi, ormai 40 sono fra comuni cittadini e non tra lavorat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he in passato sono stati esposti all’asb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le 2889 vittime individuate dalla Procura nel processo Eterni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1695 sono  piemontesi (Casale e Cavagno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i stima che a Casale il picco della morti per mesotelioma arriver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el 2020 e poi gradualmente decrescerà</a:t>
            </a:r>
            <a:r>
              <a:rPr b="0" lang="it-IT" sz="2400" spc="-1" strike="noStrike">
                <a:solidFill>
                  <a:srgbClr val="99ff33"/>
                </a:solidFill>
                <a:latin typeface="Arial"/>
              </a:rPr>
              <a:t>.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Attualmente 35-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cessi anno su una popolazione di 36.000 abi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152360" cy="98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79640" y="260280"/>
            <a:ext cx="669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ESSIONE PRO-CONS MESOTELIOMA PLEURICO MALI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25360"/>
            <a:ext cx="94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Unità di Studio e Documentazione sul Mesotelioma - Casale Monferrato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(Delibera ASL AL giugno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01924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Obiettiv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ffrire la possibilità di inserimento dei pazienti in sperimentazioni cliniche già attiv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stire nuovi studi sperimentali proposti dalla comunità scientifica, valutati dal GIC (Gruppo Interdisciplinare Cure) e approvati dal Comitato Et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nire alla popolazione e ai media un'adeguata informazione circa la ricerca clinica in corso per il mesoteli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muovere percorsi di cura integrati tra tutte le Strutture (Oncologia, Pneumologia, Chirurgia toracica, Radioterapia, Cure palliative, Terapia antalgica etc.), che nell'ambito di Casale Monferrato e di Alessandria si occupano di mesotelio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8:26:38Z</dcterms:created>
  <dc:creator>PFranzone</dc:creator>
  <dc:description/>
  <dc:language>en-US</dc:language>
  <cp:lastModifiedBy>PFranzone</cp:lastModifiedBy>
  <dcterms:modified xsi:type="dcterms:W3CDTF">2010-11-10T08:43:41Z</dcterms:modified>
  <cp:revision>34</cp:revision>
  <dc:subject/>
  <dc:title>Diapositiva 1</dc:title>
</cp:coreProperties>
</file>