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8.png" ContentType="image/png"/>
  <Override PartName="/ppt/media/image1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4.png" ContentType="image/png"/>
  <Override PartName="/ppt/media/image39.wmf" ContentType="image/x-wmf"/>
  <Override PartName="/ppt/media/image9.wmf" ContentType="image/x-wmf"/>
  <Override PartName="/ppt/media/image13.wmf" ContentType="image/x-wmf"/>
  <Override PartName="/ppt/media/image30.wmf" ContentType="image/x-wmf"/>
  <Override PartName="/ppt/media/image10.png" ContentType="image/png"/>
  <Override PartName="/ppt/media/image36.png" ContentType="image/png"/>
  <Override PartName="/ppt/media/image38.wmf" ContentType="image/x-wmf"/>
  <Override PartName="/ppt/media/image40.png" ContentType="image/png"/>
  <Override PartName="/ppt/media/image11.wmf" ContentType="image/x-wmf"/>
  <Override PartName="/ppt/media/image6.wmf" ContentType="image/x-wmf"/>
  <Override PartName="/ppt/media/image29.wmf" ContentType="image/x-wmf"/>
  <Override PartName="/ppt/media/image1.wmf" ContentType="image/x-wmf"/>
  <Override PartName="/ppt/media/image28.png" ContentType="image/png"/>
  <Override PartName="/ppt/media/image31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28D1-FAB7-4869-B9E7-B41934EFC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65CC-BE2B-4820-AD34-2CDB47A0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BC4E-B6EF-46A7-9623-EA8444F7C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64A6-0F5B-4623-AFB6-E51ACE27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0E86-EC07-4219-845C-9C2185AF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B6A5-46A7-4A77-8C0E-F09B8191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C57D-B0E1-4E73-A02D-97BE1CBD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58D4-B3DB-4C62-BF57-365B4FB8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6DE2-11B1-44FD-ABC3-2488A97F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C3B9-B120-42B3-AD05-53CF3B6F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E126-6843-400B-BA64-8A3DCEFC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5773-DEC5-452D-A160-501793B5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8BDC-B7B5-42C7-BB08-78AF404E80B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png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50920" y="3213000"/>
            <a:ext cx="691200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a preservazione della funzione d’organ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quando le associazioni chemio-radioterapic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ono preferibili alla chirurgi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uro Palazzi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adioterapia, Ospedale Niguarda Ca’ Granda, Mi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6227640" cy="2922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6194520" y="0"/>
            <a:ext cx="294948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11318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468360" y="189000"/>
            <a:ext cx="7632720" cy="58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0180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NCCN 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0180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T CHE RICHIEDONO LARINGECTOMIA TOT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0180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0180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T3,N0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HT-RT concomit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olo RT se CHT non fattib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hirurgia + 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HT induz &gt; se RC &gt;&gt; RT ,  se RP &gt;&gt; CHT-R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0180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 NC &gt;&gt; chirurg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0180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T3, N2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HT-RT concomit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hirurgia + 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HT induz &gt; se RC &gt;&gt; RT ,  se RP &gt;&gt; CHT-R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0180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 NC &gt;&gt; chirurg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0180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T4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hirur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11318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611280" y="549360"/>
            <a:ext cx="8280360" cy="60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0180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AIRO-AIOM 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0180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0180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1.5.1.2.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trattamento radio-chemioterapico concomitante appare pertanto un’alternativa ragionevole alla chirurgia demolitiva nei tumori ipofaringo-laringei avanzati selezion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0180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0180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6.5.4. Tumori della laringe localmente avanzati (T3-4 N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0180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tumori avanzati della laringe possono essere trattati con chirurgia (laringectomia totale) e radioterapia o con chemioradioterapia post-operator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0180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’ possibile tuttavia ricorrere anche al trattamento chemioradiante e limitare la chirurgia al salvataggio dei fallimenti, in un’ottica di preservazione d’org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0180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esti dati non sono applicabili agli stadi T4 per invasione cartilaginea e nelle forme in cui la base lingua è infiltrata per più di 1 cm …; in questi casi è probabilmente preferibile la chirurgia radic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11318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755640" y="620640"/>
            <a:ext cx="2664000" cy="5814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0180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ROL 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2"/>
          <a:stretch/>
        </p:blipFill>
        <p:spPr>
          <a:xfrm>
            <a:off x="826920" y="1989000"/>
            <a:ext cx="7094880" cy="4456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782640" y="1484280"/>
            <a:ext cx="7140600" cy="4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1131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8016840" cy="2192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3"/>
          <a:stretch/>
        </p:blipFill>
        <p:spPr>
          <a:xfrm>
            <a:off x="1619280" y="907920"/>
            <a:ext cx="5021280" cy="3812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900000" y="3860640"/>
            <a:ext cx="741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gli ultimi 20 anni negli USA il ca laringe è l’unico che ha mostrato una diminuzione dei tassi di sopravvivenza (2 studi population-based pubblicati nel 2006 e 2007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causa principale è il progressivo passaggio da trattamenti chirurgici demolitivi o funzionali per gli stadi avanzati a trattamenti conservativi con radio-chemiotera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1131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900000" y="476280"/>
            <a:ext cx="4608720" cy="1260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900000" y="2205000"/>
            <a:ext cx="727416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ias nella selezione dei pazienti inseriti nei trial VA e RT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sultati dei trial non estendibili alla popolazione gener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seguente impiego inappropriato del trattamento non chirur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atto delle tossicità acute e tardive della radio-chemioterapia in termini di mortal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gressivo abbandono delle opzioni chirurgiche anche nelle situazioni meno favorevoli per i trattamenti RT-CHT, carenza della partecipazione del chirurgo ai programmi di preserv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URVIVAL AFTER LARYNGEAL CANCER SHOULD BE IMPROVING, NOT DECREA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11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11318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755640" y="404640"/>
            <a:ext cx="496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VIDENZA DA STUDI RANDOMIZZATI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2"/>
          <a:srcRect l="0" t="26978" r="0" b="0"/>
          <a:stretch/>
        </p:blipFill>
        <p:spPr>
          <a:xfrm>
            <a:off x="0" y="1125360"/>
            <a:ext cx="9144000" cy="1366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3"/>
          <a:stretch/>
        </p:blipFill>
        <p:spPr>
          <a:xfrm>
            <a:off x="2195640" y="1125360"/>
            <a:ext cx="3698640" cy="241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4"/>
          <a:stretch/>
        </p:blipFill>
        <p:spPr>
          <a:xfrm>
            <a:off x="179280" y="2637000"/>
            <a:ext cx="3144960" cy="4221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2"/>
          <p:cNvSpPr/>
          <p:nvPr/>
        </p:nvSpPr>
        <p:spPr>
          <a:xfrm>
            <a:off x="3419640" y="3357720"/>
            <a:ext cx="547344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clutamento anni ‘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332 pazienti con ca laringe III-IV stad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T1N1 esclus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raccio 1: laringectomia totale &gt;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raccio 2: CHT 2 cicli &gt; se RP &gt;&gt; 3° CHT &gt;&gt;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 no RP &gt;&gt; ch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T:  66-76 Gy su T,  66-75 Gy su N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11318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755640" y="404640"/>
            <a:ext cx="496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Arial"/>
              </a:rPr>
              <a:t>EVIDENZA DA STUDI RANDOMIZZATI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2"/>
          <a:srcRect l="0" t="26978" r="0" b="0"/>
          <a:stretch/>
        </p:blipFill>
        <p:spPr>
          <a:xfrm>
            <a:off x="395280" y="907920"/>
            <a:ext cx="6120000" cy="916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3"/>
          <a:srcRect l="0" t="0" r="11268" b="0"/>
          <a:stretch/>
        </p:blipFill>
        <p:spPr>
          <a:xfrm>
            <a:off x="250920" y="2060640"/>
            <a:ext cx="4537080" cy="3571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"/>
          <p:cNvPicPr/>
          <p:nvPr/>
        </p:nvPicPr>
        <p:blipFill>
          <a:blip r:embed="rId4"/>
          <a:stretch/>
        </p:blipFill>
        <p:spPr>
          <a:xfrm>
            <a:off x="5076720" y="2060640"/>
            <a:ext cx="3892680" cy="42354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3"/>
          <p:cNvSpPr/>
          <p:nvPr/>
        </p:nvSpPr>
        <p:spPr>
          <a:xfrm>
            <a:off x="2627280" y="2852640"/>
            <a:ext cx="23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aringectomia totale + 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2195640" y="35002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hemio &gt;&gt; 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1258920" y="458136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S = 68% a 2 a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6516720" y="2781360"/>
            <a:ext cx="23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aringectomia totale + 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6012000" y="37162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hemio &gt;&gt; 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5940360" y="5157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FS chir &gt; CHRT  (p=0.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324000" y="5805360"/>
            <a:ext cx="4464000" cy="703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Nel braccio 2:  66% di conservazione laringe a 2 an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11318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755640" y="404640"/>
            <a:ext cx="496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VIDENZA DA STUDI RANDOMIZZATI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rcRect l="0" t="26978" r="0" b="0"/>
          <a:stretch/>
        </p:blipFill>
        <p:spPr>
          <a:xfrm>
            <a:off x="684360" y="907920"/>
            <a:ext cx="5759280" cy="862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3"/>
          <a:stretch/>
        </p:blipFill>
        <p:spPr>
          <a:xfrm>
            <a:off x="179280" y="1989000"/>
            <a:ext cx="4897440" cy="32990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5219640" y="2349360"/>
            <a:ext cx="37450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el braccio CHRT, chirurgia di salvataggio 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3% glottici vs 31% sovraglott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1% corde fisse vs 29% mob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56% T4     vs    29% T1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1131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755640" y="404640"/>
            <a:ext cx="496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VIDENZA DA STUDI RANDOMIZZATI 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39640" y="1628640"/>
            <a:ext cx="7993080" cy="47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Randomized trial of induction chemotherapy in larynx carcinoma (GETT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chard JM et al   (Oral Oncol 1998,34:224-22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68 paz con Ca laringe (T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accio 1: laringectomia totale &gt;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accio 2: CHT &gt; se risposta &gt;80%: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gt; se no risposta:  chirurgia +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opravvivenza 2 anni:   84% (chir)  vs   69% (CHRT)     p=0.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Conclusioni: “larynx preservation .. cannot be considered a standard         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treatment at the present tim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11318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684360" y="692280"/>
            <a:ext cx="770400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sa dicono le linee gu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unti deboli delle linee guida (editoriale H&amp;N 20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evidenza scientifica (trial fase III e altr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siderazioni conclu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b2b2b2"/>
                </a:solidFill>
                <a:latin typeface="Arial"/>
              </a:rPr>
              <a:t>tossicità tardiva, Qd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1131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755640" y="26028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VIDENZA DA STUDI RANDOMIZZATI 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"/>
          <p:cNvPicPr/>
          <p:nvPr/>
        </p:nvPicPr>
        <p:blipFill>
          <a:blip r:embed="rId2"/>
          <a:srcRect l="0" t="0" r="0" b="1286"/>
          <a:stretch/>
        </p:blipFill>
        <p:spPr>
          <a:xfrm>
            <a:off x="611280" y="765000"/>
            <a:ext cx="5508360" cy="2872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2124000" y="2133720"/>
            <a:ext cx="3311640" cy="2584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1"/>
          <p:cNvSpPr/>
          <p:nvPr/>
        </p:nvSpPr>
        <p:spPr>
          <a:xfrm>
            <a:off x="826920" y="3860640"/>
            <a:ext cx="74901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clutamento circa 1986-19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94 pazienti con ca ipofaringe T2-T4 N0-N3 (N2c esclus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raccio 1: faringect. parz.-laringectomia tot. &gt;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raccio 2: CHT 2 cicli &gt; se RC &gt;&gt; 3° CHT &gt;&gt;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 no RC &gt;&gt; chir +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T:  70 Gy su T,  64 Gy su N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11318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755640" y="404640"/>
            <a:ext cx="54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Arial"/>
              </a:rPr>
              <a:t>EVIDENZA DA STUDI RANDOMIZZATI (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1116000" y="1268280"/>
            <a:ext cx="675000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11318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755640" y="404640"/>
            <a:ext cx="496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VIDENZA DA STUDI RANDOMIZZATI (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0" y="1052640"/>
            <a:ext cx="4427640" cy="3020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3"/>
          <a:stretch/>
        </p:blipFill>
        <p:spPr>
          <a:xfrm>
            <a:off x="4500720" y="3575160"/>
            <a:ext cx="4643280" cy="32828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324000" y="5084640"/>
            <a:ext cx="3743280" cy="916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Nel braccio 2:    22% conservazione di laringe funzionante a 5 a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928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755640" y="404640"/>
            <a:ext cx="496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VIDENZA DA STUDI RANDOMIZZATI (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39640" y="1125360"/>
            <a:ext cx="7993080" cy="53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Final results of a randomized trial comparing chemotherapy plus radiotherapy with chemotherapy plus surgery plus radiotherapy in locally advanced resectable hypopharyngeal carcino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eauvillain C et al   (Laryngoscope 1997,107:648-65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92 paz con Ca ipofaringe (T3-4 N0-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accio 1: CHT 3 cicli &gt; laringofaringectomia totale &gt;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accio 2: CHT 3 cicli &gt;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opravvivenza 5 anni:   37% (chir)  vs   19% (RT)     p=0.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ntrollo locale 5 anni:   63% (chir)   vs   39% (RT)    p&lt;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Conclusioni: “better results were obtained for mutilant surgery in terms of local control and overall surviv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7451640" y="0"/>
            <a:ext cx="1692360" cy="793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55440" y="260280"/>
            <a:ext cx="7309080" cy="1503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3"/>
          <a:stretch/>
        </p:blipFill>
        <p:spPr>
          <a:xfrm>
            <a:off x="1619280" y="1751040"/>
            <a:ext cx="4248000" cy="379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4"/>
          <a:stretch/>
        </p:blipFill>
        <p:spPr>
          <a:xfrm>
            <a:off x="1116000" y="2413080"/>
            <a:ext cx="5329080" cy="4444920"/>
          </a:xfrm>
          <a:prstGeom prst="rect">
            <a:avLst/>
          </a:prstGeom>
          <a:ln w="0">
            <a:noFill/>
          </a:ln>
        </p:spPr>
      </p:pic>
      <p:sp>
        <p:nvSpPr>
          <p:cNvPr id="126" name="Oval 6"/>
          <p:cNvSpPr/>
          <p:nvPr/>
        </p:nvSpPr>
        <p:spPr>
          <a:xfrm>
            <a:off x="900000" y="3894120"/>
            <a:ext cx="2305080" cy="576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7"/>
          <p:cNvSpPr/>
          <p:nvPr/>
        </p:nvSpPr>
        <p:spPr>
          <a:xfrm>
            <a:off x="4587840" y="3938760"/>
            <a:ext cx="647640" cy="502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8"/>
          <p:cNvSpPr/>
          <p:nvPr/>
        </p:nvSpPr>
        <p:spPr>
          <a:xfrm>
            <a:off x="395280" y="5445000"/>
            <a:ext cx="720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9"/>
          <p:cNvSpPr/>
          <p:nvPr/>
        </p:nvSpPr>
        <p:spPr>
          <a:xfrm>
            <a:off x="4788000" y="5300640"/>
            <a:ext cx="288720" cy="2890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9619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755640" y="40464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EVIDENZA DA STUDI RANDOMIZZATI 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1832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"/>
          <p:cNvPicPr/>
          <p:nvPr/>
        </p:nvPicPr>
        <p:blipFill>
          <a:blip r:embed="rId3"/>
          <a:stretch/>
        </p:blipFill>
        <p:spPr>
          <a:xfrm>
            <a:off x="3132000" y="1700280"/>
            <a:ext cx="2530440" cy="228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4"/>
          <a:stretch/>
        </p:blipFill>
        <p:spPr>
          <a:xfrm>
            <a:off x="0" y="2784600"/>
            <a:ext cx="3819600" cy="40734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0"/>
          <p:cNvSpPr/>
          <p:nvPr/>
        </p:nvSpPr>
        <p:spPr>
          <a:xfrm>
            <a:off x="3849840" y="2924280"/>
            <a:ext cx="529416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RTOG 91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Arial"/>
              </a:rPr>
              <a:t>Reclutamento anni ‘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Arial"/>
              </a:rPr>
              <a:t>547 pazienti con ca laringe III-IV stad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1" lang="it-IT" sz="1800" spc="-1" strike="noStrike">
                <a:solidFill>
                  <a:srgbClr val="ffff66"/>
                </a:solidFill>
                <a:latin typeface="Arial"/>
              </a:rPr>
              <a:t>(T1 esclusi, T4 solo “piccoli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Arial"/>
              </a:rPr>
              <a:t>Braccio 1: CHT 2 cicli &gt; se RP &gt;&gt; 3° CHT &gt;&gt;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Arial"/>
              </a:rPr>
              <a:t>                                         </a:t>
            </a:r>
            <a:r>
              <a:rPr b="1" lang="it-IT" sz="1800" spc="-1" strike="noStrike">
                <a:solidFill>
                  <a:srgbClr val="ffff66"/>
                </a:solidFill>
                <a:latin typeface="Arial"/>
              </a:rPr>
              <a:t>se no RP &gt;&gt; ch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Arial"/>
              </a:rPr>
              <a:t>Braccio 2: RT + 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Arial"/>
              </a:rPr>
              <a:t>Braccio 3: RT  esclus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1131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755640" y="404640"/>
            <a:ext cx="496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VIDENZA DA STUDI RANDOMIZZATI (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0" y="981000"/>
            <a:ext cx="4572000" cy="3038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3"/>
          <a:stretch/>
        </p:blipFill>
        <p:spPr>
          <a:xfrm>
            <a:off x="4427640" y="3695760"/>
            <a:ext cx="4716360" cy="31622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324000" y="4581360"/>
            <a:ext cx="3960720" cy="2037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ringectomy-free survival a 5 ann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T&gt;RT   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T+RT   4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T            3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4932360" y="1484280"/>
            <a:ext cx="3889440" cy="15562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Sopravvivenza analoga nei 3 brac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7451640" y="0"/>
            <a:ext cx="1692360" cy="793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6767280" cy="1454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755640" y="1916280"/>
            <a:ext cx="3168720" cy="577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4"/>
          <a:stretch/>
        </p:blipFill>
        <p:spPr>
          <a:xfrm>
            <a:off x="395280" y="2852640"/>
            <a:ext cx="3666960" cy="3579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"/>
          <p:cNvPicPr/>
          <p:nvPr/>
        </p:nvPicPr>
        <p:blipFill>
          <a:blip r:embed="rId5"/>
          <a:stretch/>
        </p:blipFill>
        <p:spPr>
          <a:xfrm>
            <a:off x="5148360" y="2133720"/>
            <a:ext cx="3225600" cy="45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1131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88920" y="260280"/>
            <a:ext cx="6514920" cy="1392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3"/>
          <a:stretch/>
        </p:blipFill>
        <p:spPr>
          <a:xfrm>
            <a:off x="1670040" y="1628640"/>
            <a:ext cx="3089160" cy="228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4"/>
          <a:stretch/>
        </p:blipFill>
        <p:spPr>
          <a:xfrm>
            <a:off x="4716360" y="2205000"/>
            <a:ext cx="4023000" cy="3452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5"/>
          <a:stretch/>
        </p:blipFill>
        <p:spPr>
          <a:xfrm>
            <a:off x="324000" y="2193840"/>
            <a:ext cx="4176720" cy="34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11318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684360" y="1844640"/>
            <a:ext cx="7704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Arial"/>
              </a:rPr>
              <a:t>STRATEGIA TERAPEUTICA DI PRESERVAZIONE D’ORG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OSTITUZIONE DI “CHIRURGIA DEMOLITIVA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N “RADIO(CHEMIO)TERAPIA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QUALE TRATTAMENTO STAND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 PRIMA LI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1131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"/>
          <p:cNvPicPr/>
          <p:nvPr/>
        </p:nvPicPr>
        <p:blipFill>
          <a:blip r:embed="rId2"/>
          <a:srcRect l="0" t="3083" r="1564" b="0"/>
          <a:stretch/>
        </p:blipFill>
        <p:spPr>
          <a:xfrm>
            <a:off x="0" y="2852640"/>
            <a:ext cx="4427640" cy="3089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3"/>
          <a:srcRect l="1548" t="1798" r="0" b="0"/>
          <a:stretch/>
        </p:blipFill>
        <p:spPr>
          <a:xfrm>
            <a:off x="4572000" y="3645000"/>
            <a:ext cx="4572000" cy="3163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"/>
          <p:cNvPicPr/>
          <p:nvPr/>
        </p:nvPicPr>
        <p:blipFill>
          <a:blip r:embed="rId4"/>
          <a:stretch/>
        </p:blipFill>
        <p:spPr>
          <a:xfrm>
            <a:off x="684360" y="1197000"/>
            <a:ext cx="7196040" cy="14637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8"/>
          <p:cNvSpPr/>
          <p:nvPr/>
        </p:nvSpPr>
        <p:spPr>
          <a:xfrm>
            <a:off x="6300720" y="278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JCO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11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11318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250920" y="981000"/>
            <a:ext cx="8280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Chirurgia e RT post-operatoria vs radiochemioterapia nei tumori testa-collo (stadio III-IV): uno studio randomizz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2"/>
          <a:stretch/>
        </p:blipFill>
        <p:spPr>
          <a:xfrm>
            <a:off x="1763640" y="2637000"/>
            <a:ext cx="4295880" cy="37335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61" name="Text Box 6"/>
          <p:cNvSpPr/>
          <p:nvPr/>
        </p:nvSpPr>
        <p:spPr>
          <a:xfrm>
            <a:off x="6230880" y="6237360"/>
            <a:ext cx="239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o et al. BJC 2005, 1-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11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11318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971640" y="1268280"/>
            <a:ext cx="74167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CONCLUS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ei tumori TeC avanzati ma resecabili (T3, T4), la sopravvivenza è analoga con chirurgia demolitiva (+ PORT)   vs (chemio)radioterapia (+ chirurgia di salvatagg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a chemioradioterapia concomitante in prima battuta garantisce le maggiori probabilità di preservazione della funzione d’organo (al prezzo di maggiore tossicità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er garantire le due affermazioni precedenti occorrono le seguenti condizio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adeguata selezione dei centri  (multidisciplinarietà, expertise, risorse umane, tecnologiche e struttura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adeguata selezione dei pazienti   (compliance, T3, T4?,  Chemioresponsività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11318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684360" y="1484280"/>
            <a:ext cx="813564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TADI “INIZIALI”  (T1-T2)   &gt;&gt;  CHIRURGIA CONSERVATIVA vs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TADI “AVANZATI” NON RESECABILI   &gt;&gt;   NO CHIRUR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TADI “AVANZATI” RESECABILI    &gt;&gt;   CHIRURGIA DEMOLITIV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finizione di “stadio avanzat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finizione di resecabil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hirurgia conservativa anche per “stadi avanzat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11318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684360" y="1844640"/>
            <a:ext cx="7704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efinizione di “stadio avanza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T1 N2b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tadio 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T4a N0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tadio IVa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11318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684360" y="1484280"/>
            <a:ext cx="813564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TADI “INIZIALI”  (T1-T2)   &gt;&gt;  CHIRURGIA CONSERVATIVA vs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TADI “AVANZATI” NON RESECABILI   &gt;&gt;   NO CHIRUR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TADI “AVANZATI” RESECABILI    &gt;&gt;   CHIRURGIA DEMOLITIV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finizione di “stadio avanzat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finizione di resecabil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hirurgia conservativa anche per “stadi avanzat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11318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684360" y="1268280"/>
            <a:ext cx="7704000" cy="53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EVIDENZA DA STUDI RANDOMIZZATI chirurgia vs 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AVO ORALE,  OROFARINGE 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NO STUDI RANDOMIZZA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ARINGE, IPOFARINGE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4 STUDI RANDOMIZZATI (2 LAR, 2 IP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11318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684360" y="620640"/>
            <a:ext cx="770400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COSA DICONO LE LINEE GUI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S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NC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IRO-AI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OL (RETE ONCOLOGICA LOMBAR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1131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rcRect l="44256" t="0" r="0" b="74555"/>
          <a:stretch/>
        </p:blipFill>
        <p:spPr>
          <a:xfrm>
            <a:off x="2195640" y="5084640"/>
            <a:ext cx="4443120" cy="93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3"/>
          <a:srcRect l="0" t="0" r="0" b="22287"/>
          <a:stretch/>
        </p:blipFill>
        <p:spPr>
          <a:xfrm>
            <a:off x="250920" y="0"/>
            <a:ext cx="6337080" cy="1900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4"/>
          <a:stretch/>
        </p:blipFill>
        <p:spPr>
          <a:xfrm>
            <a:off x="2195640" y="4508640"/>
            <a:ext cx="4462200" cy="571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900000" y="2421000"/>
            <a:ext cx="7344000" cy="1465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 MOST PATIENTS WITH T3 OR T4 DISEASE WITHOUT TUMOR INVASION THROUGH CARTILAGE, A LARYNX-PRESERVATION APPROACH IS AN APPROPRIATE, STANDARD TREATMENT OPTION, AND CONCURRENT CHT-RT THERAPY IS THE MOST WIDELY APPLICABLE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08:07:30Z</dcterms:created>
  <dc:creator>palazzi</dc:creator>
  <dc:description/>
  <dc:language>en-US</dc:language>
  <cp:lastModifiedBy>tecno</cp:lastModifiedBy>
  <dcterms:modified xsi:type="dcterms:W3CDTF">2010-11-15T10:50:11Z</dcterms:modified>
  <cp:revision>46</cp:revision>
  <dc:subject/>
  <dc:title>Diapositiva 1</dc:title>
</cp:coreProperties>
</file>