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jpeg" ContentType="image/jpeg"/>
  <Override PartName="/ppt/media/image7.wmf" ContentType="image/x-wmf"/>
  <Override PartName="/ppt/media/image12.jpeg" ContentType="image/jpeg"/>
  <Override PartName="/ppt/media/image11.png" ContentType="image/png"/>
  <Override PartName="/ppt/media/image20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4EA9-28D2-4336-B67F-B4231BE2F87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60EF-284F-4A32-844F-54EB75EB866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3BD8-DF45-4DD0-B209-C2A7D079EBE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7C39-CA86-42C1-B87E-9144F7F44DC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0F63-B730-4F53-AFE6-EEBE968A572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321D-20C9-41DB-AC78-0E4D19E7BA5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2087-A9C1-4332-A22F-8F4EB9FBAE3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95B-443E-4FE0-87AF-AD63A55F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7F1-D7A6-4BCA-BA38-AACF1A66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C32-3272-46CB-BAA3-DDFE12A2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7C8-B174-4F95-91BD-176BFCD3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DD6-346D-43A6-9A05-BC8114F7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43E-D3B8-44F5-83CA-D732858F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863-F29F-47D5-8AFA-0081D197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334-04AA-4A6A-A263-5477863A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A6B-832C-4883-8781-DD10CE63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A27-AA45-4C30-87D2-306652F4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CD4-441A-45F9-A22B-20486459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AC5-0654-45F6-B1A7-E0181AB2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9498-82FB-4054-A967-213A52AB39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260280"/>
            <a:ext cx="8915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33cc"/>
                </a:solidFill>
                <a:latin typeface="Comic Sans MS"/>
              </a:rPr>
              <a:t>Ruolo di AKT nella risposta e tossicita’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33cc"/>
                </a:solidFill>
                <a:latin typeface="Comic Sans MS"/>
              </a:rPr>
              <a:t>dei trattamenti radio e chemioterapi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ccff"/>
                </a:solidFill>
                <a:latin typeface="Comic Sans MS"/>
              </a:rPr>
              <a:t>F. Pasqualetti, Valentina Mey, Simona Ricciardi,  L. Fatigante, F. Matteucci,  R. Danesi, C. Grec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Universita’ degli Studi di Pi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327400" y="3578040"/>
            <a:ext cx="476064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1900" spc="-1" strike="noStrike">
                <a:solidFill>
                  <a:srgbClr val="ffffff"/>
                </a:solidFill>
                <a:latin typeface="Comic Sans MS"/>
              </a:rPr>
              <a:t>Sovraespressione</a:t>
            </a:r>
            <a:r>
              <a:rPr b="0" lang="it-IT" sz="1900" spc="-1" strike="noStrike">
                <a:solidFill>
                  <a:srgbClr val="ffffff"/>
                </a:solidFill>
                <a:latin typeface="Comic Sans MS"/>
              </a:rPr>
              <a:t> e </a:t>
            </a:r>
            <a:r>
              <a:rPr b="1" lang="it-IT" sz="1900" spc="-1" strike="noStrike">
                <a:solidFill>
                  <a:srgbClr val="ffffff"/>
                </a:solidFill>
                <a:latin typeface="Comic Sans MS"/>
              </a:rPr>
              <a:t>attivazione costitutiva</a:t>
            </a:r>
            <a:r>
              <a:rPr b="0" lang="it-IT" sz="1900" spc="-1" strike="noStrike">
                <a:solidFill>
                  <a:srgbClr val="ffffff"/>
                </a:solidFill>
                <a:latin typeface="Comic Sans MS"/>
              </a:rPr>
              <a:t> di Ak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619280" y="5400720"/>
            <a:ext cx="6408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tumorigenesi e resistenza alla chemioterap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833480" y="6375240"/>
            <a:ext cx="705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Comic Sans MS"/>
              </a:rPr>
              <a:t>[Peifer C. et al., 2008; Tokunaga E. et al., 2006; Fresno Vara J.A. et al., 2004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457200" y="-27000"/>
            <a:ext cx="82296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Alterazione di Akt nel cancr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835280" y="1052640"/>
            <a:ext cx="583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mplificazione genica 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akt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spressione costitutiva dei recettori per i fattori di cresci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4427640" y="4294080"/>
            <a:ext cx="576000" cy="863640"/>
          </a:xfrm>
          <a:prstGeom prst="downArrow">
            <a:avLst>
              <a:gd name="adj1" fmla="val 50000"/>
              <a:gd name="adj2" fmla="val 374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4427640" y="2494080"/>
            <a:ext cx="576000" cy="863640"/>
          </a:xfrm>
          <a:prstGeom prst="downArrow">
            <a:avLst>
              <a:gd name="adj1" fmla="val 50000"/>
              <a:gd name="adj2" fmla="val 374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Immagine 11" descr="ttp://upload.wikimedia.org/wikipedia/it/9/9b/Stemma_unipi.jpeg"/>
          <p:cNvPicPr/>
          <p:nvPr/>
        </p:nvPicPr>
        <p:blipFill>
          <a:blip r:embed="rId1"/>
          <a:stretch/>
        </p:blipFill>
        <p:spPr>
          <a:xfrm>
            <a:off x="8153280" y="76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4932360" y="6437160"/>
            <a:ext cx="295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15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302520" cy="1155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49086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"/>
          <p:cNvPicPr/>
          <p:nvPr/>
        </p:nvPicPr>
        <p:blipFill>
          <a:blip r:embed="rId3"/>
          <a:stretch/>
        </p:blipFill>
        <p:spPr>
          <a:xfrm>
            <a:off x="1835280" y="2286000"/>
            <a:ext cx="5099040" cy="42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4867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0" y="5486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Expression of phospho-Akt (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P 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.0002) is associated with significantly reduced overall survival times when gliomas of all grades are considered (bottom dashed line in each grap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584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Materiali e metod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Immagine 11" descr="ttp://upload.wikimedia.org/wikipedia/it/9/9b/Stemma_unipi.jpeg"/>
          <p:cNvPicPr/>
          <p:nvPr/>
        </p:nvPicPr>
        <p:blipFill>
          <a:blip r:embed="rId1"/>
          <a:stretch/>
        </p:blipFill>
        <p:spPr>
          <a:xfrm>
            <a:off x="8153280" y="76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Omo&amp;EteroPERFETTO"/>
          <p:cNvPicPr/>
          <p:nvPr/>
        </p:nvPicPr>
        <p:blipFill>
          <a:blip r:embed="rId2"/>
          <a:stretch/>
        </p:blipFill>
        <p:spPr>
          <a:xfrm>
            <a:off x="34920" y="1987560"/>
            <a:ext cx="4100400" cy="4537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4464000" y="1989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l genotipo omozigote per l’allele 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wild type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l genotipo omozigote per l’allele mutat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l genotipo eterozigo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dentificato dalla presenza di entrambe le fluorescen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7020000" y="2565360"/>
            <a:ext cx="865080" cy="0"/>
          </a:xfrm>
          <a:prstGeom prst="line">
            <a:avLst/>
          </a:prstGeom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6948360" y="3645000"/>
            <a:ext cx="10083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7956720" y="4437000"/>
            <a:ext cx="93492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Materiali e metod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magine 11" descr="ttp://upload.wikimedia.org/wikipedia/it/9/9b/Stemma_unipi.jpeg"/>
          <p:cNvPicPr/>
          <p:nvPr/>
        </p:nvPicPr>
        <p:blipFill>
          <a:blip r:embed="rId1"/>
          <a:stretch/>
        </p:blipFill>
        <p:spPr>
          <a:xfrm>
            <a:off x="8153280" y="76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"/>
          <p:cNvSpPr/>
          <p:nvPr/>
        </p:nvSpPr>
        <p:spPr>
          <a:xfrm>
            <a:off x="250920" y="148428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36 pazient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64% ♂ e 36% donne 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Età alla diagnosi 35-77 aa      Media 59 a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100 % GBM; 67% primitivo e 33% ricad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Tutti i pazienti valutati sono stati sottoposti ad exeresi della les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6"/>
          <p:cNvGrpSpPr/>
          <p:nvPr/>
        </p:nvGrpSpPr>
        <p:grpSpPr>
          <a:xfrm>
            <a:off x="0" y="0"/>
            <a:ext cx="9144000" cy="6919920"/>
            <a:chOff x="0" y="0"/>
            <a:chExt cx="9144000" cy="6919920"/>
          </a:xfrm>
        </p:grpSpPr>
        <p:sp>
          <p:nvSpPr>
            <p:cNvPr id="109" name="Rectangle 37"/>
            <p:cNvSpPr/>
            <p:nvPr/>
          </p:nvSpPr>
          <p:spPr>
            <a:xfrm>
              <a:off x="237960" y="504720"/>
              <a:ext cx="685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0" name="Group 38"/>
            <p:cNvGrpSpPr/>
            <p:nvPr/>
          </p:nvGrpSpPr>
          <p:grpSpPr>
            <a:xfrm>
              <a:off x="0" y="0"/>
              <a:ext cx="9144000" cy="6919920"/>
              <a:chOff x="0" y="0"/>
              <a:chExt cx="9144000" cy="6919920"/>
            </a:xfrm>
          </p:grpSpPr>
          <p:sp>
            <p:nvSpPr>
              <p:cNvPr id="111" name="Line 39"/>
              <p:cNvSpPr/>
              <p:nvPr/>
            </p:nvSpPr>
            <p:spPr>
              <a:xfrm>
                <a:off x="196920" y="907920"/>
                <a:ext cx="8947080" cy="0"/>
              </a:xfrm>
              <a:prstGeom prst="line">
                <a:avLst/>
              </a:prstGeom>
              <a:ln w="1908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Text Box 41"/>
              <p:cNvSpPr/>
              <p:nvPr/>
            </p:nvSpPr>
            <p:spPr>
              <a:xfrm>
                <a:off x="0" y="0"/>
                <a:ext cx="9144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Text Box 42"/>
              <p:cNvSpPr/>
              <p:nvPr/>
            </p:nvSpPr>
            <p:spPr>
              <a:xfrm>
                <a:off x="0" y="6553080"/>
                <a:ext cx="9144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99800"/>
            <a:ext cx="8435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Comic Sans MS"/>
              </a:rPr>
              <a:t>Risult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21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ediante discrimin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llelica effettuata tra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Real Time PCR, la co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è stata suddivisa i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gruppi di pazienti, in base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oro geno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Omozigoti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</a:rPr>
              <a:t>wild type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=11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b050"/>
                </a:solidFill>
                <a:latin typeface="Comic Sans MS"/>
              </a:rPr>
              <a:t>Eterozigoti=3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ff"/>
                </a:solidFill>
                <a:latin typeface="Comic Sans MS"/>
              </a:rPr>
              <a:t>Omozigoti per l’allele mutato=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4956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4" descr=""/>
          <p:cNvPicPr/>
          <p:nvPr/>
        </p:nvPicPr>
        <p:blipFill>
          <a:blip r:embed="rId1"/>
          <a:stretch/>
        </p:blipFill>
        <p:spPr>
          <a:xfrm>
            <a:off x="4460760" y="1154160"/>
            <a:ext cx="4346640" cy="5587920"/>
          </a:xfrm>
          <a:prstGeom prst="rect">
            <a:avLst/>
          </a:prstGeom>
          <a:ln w="0">
            <a:noFill/>
          </a:ln>
        </p:spPr>
      </p:pic>
      <p:pic>
        <p:nvPicPr>
          <p:cNvPr id="118" name="Immagine 11" descr="ttp://upload.wikimedia.org/wikipedia/it/9/9b/Stemma_unipi.jpeg"/>
          <p:cNvPicPr/>
          <p:nvPr/>
        </p:nvPicPr>
        <p:blipFill>
          <a:blip r:embed="rId2"/>
          <a:stretch/>
        </p:blipFill>
        <p:spPr>
          <a:xfrm>
            <a:off x="8153280" y="76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36"/>
          <p:cNvGrpSpPr/>
          <p:nvPr/>
        </p:nvGrpSpPr>
        <p:grpSpPr>
          <a:xfrm>
            <a:off x="0" y="0"/>
            <a:ext cx="9144000" cy="6919920"/>
            <a:chOff x="0" y="0"/>
            <a:chExt cx="9144000" cy="6919920"/>
          </a:xfrm>
        </p:grpSpPr>
        <p:sp>
          <p:nvSpPr>
            <p:cNvPr id="120" name="Rectangle 37"/>
            <p:cNvSpPr/>
            <p:nvPr/>
          </p:nvSpPr>
          <p:spPr>
            <a:xfrm>
              <a:off x="237960" y="504720"/>
              <a:ext cx="685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1" name="Group 38"/>
            <p:cNvGrpSpPr/>
            <p:nvPr/>
          </p:nvGrpSpPr>
          <p:grpSpPr>
            <a:xfrm>
              <a:off x="0" y="0"/>
              <a:ext cx="9144000" cy="6919920"/>
              <a:chOff x="0" y="0"/>
              <a:chExt cx="9144000" cy="6919920"/>
            </a:xfrm>
          </p:grpSpPr>
          <p:sp>
            <p:nvSpPr>
              <p:cNvPr id="122" name="Line 39"/>
              <p:cNvSpPr/>
              <p:nvPr/>
            </p:nvSpPr>
            <p:spPr>
              <a:xfrm>
                <a:off x="196920" y="907920"/>
                <a:ext cx="8947080" cy="0"/>
              </a:xfrm>
              <a:prstGeom prst="line">
                <a:avLst/>
              </a:prstGeom>
              <a:ln w="1908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" name="Text Box 41"/>
              <p:cNvSpPr/>
              <p:nvPr/>
            </p:nvSpPr>
            <p:spPr>
              <a:xfrm>
                <a:off x="0" y="0"/>
                <a:ext cx="9144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" name="Text Box 42"/>
              <p:cNvSpPr/>
              <p:nvPr/>
            </p:nvSpPr>
            <p:spPr>
              <a:xfrm>
                <a:off x="0" y="6553080"/>
                <a:ext cx="9144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Ruolo del polimorfismo di Ak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316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ffff"/>
                </a:solidFill>
                <a:latin typeface="Comic Sans MS"/>
              </a:rPr>
              <a:t>Relazione tra genotipo e DF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ffff"/>
                </a:solidFill>
                <a:latin typeface="Comic Sans MS"/>
              </a:rPr>
              <a:t>(Kruskal-Wallis)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 pazienti con almeno 1 all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wild type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presentano un D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aggi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FS mediano dei pazienti omozigoti 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wild type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=24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FS mediano degli eterozigoti=16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FS mediano degli omozigoti mutati=8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1"/>
          <a:stretch/>
        </p:blipFill>
        <p:spPr>
          <a:xfrm>
            <a:off x="4498920" y="1484280"/>
            <a:ext cx="4537080" cy="5184720"/>
          </a:xfrm>
          <a:prstGeom prst="rect">
            <a:avLst/>
          </a:prstGeom>
          <a:ln w="0">
            <a:noFill/>
          </a:ln>
        </p:spPr>
      </p:pic>
      <p:pic>
        <p:nvPicPr>
          <p:cNvPr id="128" name="Immagine 11" descr="ttp://upload.wikimedia.org/wikipedia/it/9/9b/Stemma_unipi.jpeg"/>
          <p:cNvPicPr/>
          <p:nvPr/>
        </p:nvPicPr>
        <p:blipFill>
          <a:blip r:embed="rId2"/>
          <a:stretch/>
        </p:blipFill>
        <p:spPr>
          <a:xfrm>
            <a:off x="8153280" y="76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36"/>
          <p:cNvGrpSpPr/>
          <p:nvPr/>
        </p:nvGrpSpPr>
        <p:grpSpPr>
          <a:xfrm>
            <a:off x="0" y="-27000"/>
            <a:ext cx="9144000" cy="6919920"/>
            <a:chOff x="0" y="-27000"/>
            <a:chExt cx="9144000" cy="6919920"/>
          </a:xfrm>
        </p:grpSpPr>
        <p:sp>
          <p:nvSpPr>
            <p:cNvPr id="130" name="Rectangle 37"/>
            <p:cNvSpPr/>
            <p:nvPr/>
          </p:nvSpPr>
          <p:spPr>
            <a:xfrm>
              <a:off x="237960" y="477720"/>
              <a:ext cx="685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1" name="Group 38"/>
            <p:cNvGrpSpPr/>
            <p:nvPr/>
          </p:nvGrpSpPr>
          <p:grpSpPr>
            <a:xfrm>
              <a:off x="0" y="-27000"/>
              <a:ext cx="9144000" cy="6919920"/>
              <a:chOff x="0" y="-27000"/>
              <a:chExt cx="9144000" cy="6919920"/>
            </a:xfrm>
          </p:grpSpPr>
          <p:sp>
            <p:nvSpPr>
              <p:cNvPr id="132" name="Line 39"/>
              <p:cNvSpPr/>
              <p:nvPr/>
            </p:nvSpPr>
            <p:spPr>
              <a:xfrm>
                <a:off x="196920" y="880920"/>
                <a:ext cx="8947080" cy="0"/>
              </a:xfrm>
              <a:prstGeom prst="line">
                <a:avLst/>
              </a:prstGeom>
              <a:ln w="1908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" name="Text Box 41"/>
              <p:cNvSpPr/>
              <p:nvPr/>
            </p:nvSpPr>
            <p:spPr>
              <a:xfrm>
                <a:off x="0" y="-27000"/>
                <a:ext cx="9144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Text Box 42"/>
              <p:cNvSpPr/>
              <p:nvPr/>
            </p:nvSpPr>
            <p:spPr>
              <a:xfrm>
                <a:off x="0" y="6526080"/>
                <a:ext cx="9144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47320"/>
            <a:ext cx="8435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Ruolo del polimorfismo di Ak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954000"/>
            <a:ext cx="50403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Genotipo più </a:t>
            </a:r>
            <a:r>
              <a:rPr b="1" i="1" lang="it-IT" sz="2000" spc="-1" strike="noStrike">
                <a:solidFill>
                  <a:srgbClr val="ffffff"/>
                </a:solidFill>
                <a:latin typeface="Comic Sans MS"/>
              </a:rPr>
              <a:t>favorev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- omozigoti per SNP rs2498804   </a:t>
            </a:r>
            <a:r>
              <a:rPr b="1" i="1" lang="it-IT" sz="2000" spc="-1" strike="noStrike">
                <a:solidFill>
                  <a:srgbClr val="ffffff"/>
                </a:solidFill>
                <a:latin typeface="Comic Sans MS"/>
              </a:rPr>
              <a:t>wild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Genotipo più </a:t>
            </a:r>
            <a:r>
              <a:rPr b="1" i="1" lang="it-IT" sz="2000" spc="-1" strike="noStrike">
                <a:solidFill>
                  <a:srgbClr val="ffffff"/>
                </a:solidFill>
                <a:latin typeface="Comic Sans MS"/>
              </a:rPr>
              <a:t>sfavorev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- omozigoti per SNP rs24988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utato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4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788508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Immagine 11" descr="ttp://upload.wikimedia.org/wikipedia/it/9/9b/Stemma_unipi.jpeg"/>
          <p:cNvPicPr/>
          <p:nvPr/>
        </p:nvPicPr>
        <p:blipFill>
          <a:blip r:embed="rId2"/>
          <a:stretch/>
        </p:blipFill>
        <p:spPr>
          <a:xfrm>
            <a:off x="7907400" y="192240"/>
            <a:ext cx="1022400" cy="1022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3"/>
          <p:cNvSpPr/>
          <p:nvPr/>
        </p:nvSpPr>
        <p:spPr>
          <a:xfrm>
            <a:off x="5219640" y="1190520"/>
            <a:ext cx="360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DFS mediano dei pazienti con genotipo </a:t>
            </a:r>
            <a:r>
              <a:rPr b="1" i="1" lang="it-IT" sz="2000" spc="-1" strike="noStrike">
                <a:solidFill>
                  <a:srgbClr val="ffffff"/>
                </a:solidFill>
                <a:latin typeface="Comic Sans MS"/>
              </a:rPr>
              <a:t>favorevole=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24 me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DFS mediano dei pazienti con genotipo </a:t>
            </a:r>
            <a:r>
              <a:rPr b="1" i="1" lang="it-IT" sz="2000" spc="-1" strike="noStrike">
                <a:solidFill>
                  <a:srgbClr val="ffffff"/>
                </a:solidFill>
                <a:latin typeface="Comic Sans MS"/>
              </a:rPr>
              <a:t>sfavorevole=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8 me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542880" y="609480"/>
            <a:ext cx="81010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Comic Sans MS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08000" y="22766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Questo studio è ancora in corso, l’analisi preliminare sembra indicare che la determinazione allelica degli SNPs è sensibile e riproducib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Per poter valutare il potere predittivo di Akt nei pazienti affetti da GBM trattati con RT-CT occorrerà attendere che la casistica sia più numerosa……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Immagine 11" descr="ttp://upload.wikimedia.org/wikipedia/it/9/9b/Stemma_unipi.jpeg"/>
          <p:cNvPicPr/>
          <p:nvPr/>
        </p:nvPicPr>
        <p:blipFill>
          <a:blip r:embed="rId1"/>
          <a:stretch/>
        </p:blipFill>
        <p:spPr>
          <a:xfrm>
            <a:off x="7810560" y="237960"/>
            <a:ext cx="111924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Comic Sans MS"/>
              </a:rPr>
              <a:t>Razion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66760" y="3086280"/>
            <a:ext cx="8626320" cy="3070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L’incidenza dei GBM è sostanzialmente sovrapponibile alla mortalit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I trattamento RT-CT  hanno portato ad un miglioramento della  sopravviven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Alcuni pazienti beneficiano più di altri dai trattamenti RT-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Immagine 11" descr="ttp://upload.wikimedia.org/wikipedia/it/9/9b/Stemma_unipi.jpeg"/>
          <p:cNvPicPr/>
          <p:nvPr/>
        </p:nvPicPr>
        <p:blipFill>
          <a:blip r:embed="rId2"/>
          <a:stretch/>
        </p:blipFill>
        <p:spPr>
          <a:xfrm>
            <a:off x="7885080" y="260280"/>
            <a:ext cx="974880" cy="9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3429000" y="3505320"/>
            <a:ext cx="5638680" cy="3200040"/>
            <a:chOff x="3429000" y="3505320"/>
            <a:chExt cx="5638680" cy="3200040"/>
          </a:xfrm>
        </p:grpSpPr>
        <p:pic>
          <p:nvPicPr>
            <p:cNvPr id="53" name="Picture 4" descr=""/>
            <p:cNvPicPr/>
            <p:nvPr/>
          </p:nvPicPr>
          <p:blipFill>
            <a:blip r:embed="rId1"/>
            <a:stretch/>
          </p:blipFill>
          <p:spPr>
            <a:xfrm>
              <a:off x="3429000" y="3505320"/>
              <a:ext cx="563868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"/>
            <p:cNvPicPr/>
            <p:nvPr/>
          </p:nvPicPr>
          <p:blipFill>
            <a:blip r:embed="rId2"/>
            <a:stretch/>
          </p:blipFill>
          <p:spPr>
            <a:xfrm>
              <a:off x="6913800" y="6387480"/>
              <a:ext cx="896400" cy="23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6320" y="76320"/>
            <a:ext cx="5105160" cy="35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508720" cy="6048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4921920" y="6437160"/>
            <a:ext cx="40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Times New Roman"/>
              </a:rPr>
              <a:t>Monika E. Hegi  N Engl J Med 2005;352:997-1003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4140360" y="3357720"/>
            <a:ext cx="2663280" cy="2663640"/>
            <a:chOff x="4140360" y="3357720"/>
            <a:chExt cx="2663280" cy="2663640"/>
          </a:xfrm>
        </p:grpSpPr>
        <p:sp>
          <p:nvSpPr>
            <p:cNvPr id="59" name="Oval 5"/>
            <p:cNvSpPr/>
            <p:nvPr/>
          </p:nvSpPr>
          <p:spPr>
            <a:xfrm>
              <a:off x="5580000" y="3357720"/>
              <a:ext cx="122364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4140360" y="3357720"/>
              <a:ext cx="122364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5508360" y="5661000"/>
              <a:ext cx="122364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4140360" y="5661000"/>
              <a:ext cx="122364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63" name="Immagine 11" descr="ttp://upload.wikimedia.org/wikipedia/it/9/9b/Stemma_unipi.jpeg"/>
          <p:cNvPicPr/>
          <p:nvPr/>
        </p:nvPicPr>
        <p:blipFill>
          <a:blip r:embed="rId2"/>
          <a:stretch/>
        </p:blipFill>
        <p:spPr>
          <a:xfrm>
            <a:off x="8028000" y="76320"/>
            <a:ext cx="887400" cy="8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Proteina Ak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" y="1339560"/>
            <a:ext cx="453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erina-treonina chin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nzima fondamentale nella comunicazione cellu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3 omologhi: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Akt1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, Akt2 e Akt3 rispettivamente sui cromosomi 14q32, 19q13 e 1q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ttivata da PDK1 tramite fosforilazione nei siti THR e 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Akt attiva </a:t>
            </a: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sopravvivenza,  progressione ciclo e crescita cellu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4"/>
          <p:cNvSpPr/>
          <p:nvPr/>
        </p:nvSpPr>
        <p:spPr>
          <a:xfrm>
            <a:off x="3995640" y="645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[Gills J.J. et al., 2006; Fresno Vara J.A. et al., 2004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46" descr="Akt img"/>
          <p:cNvPicPr/>
          <p:nvPr/>
        </p:nvPicPr>
        <p:blipFill>
          <a:blip r:embed="rId1"/>
          <a:stretch/>
        </p:blipFill>
        <p:spPr>
          <a:xfrm>
            <a:off x="4788000" y="1123920"/>
            <a:ext cx="4081320" cy="496908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11" descr="ttp://upload.wikimedia.org/wikipedia/it/9/9b/Stemma_unipi.jpeg"/>
          <p:cNvPicPr/>
          <p:nvPr/>
        </p:nvPicPr>
        <p:blipFill>
          <a:blip r:embed="rId2"/>
          <a:stretch/>
        </p:blipFill>
        <p:spPr>
          <a:xfrm>
            <a:off x="8028000" y="76320"/>
            <a:ext cx="887400" cy="8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44360" y="1413000"/>
            <a:ext cx="8964720" cy="5373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116000" y="3938760"/>
            <a:ext cx="7056360" cy="2703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Fosforila e inattiva il fattore pro-apoptotico B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Fosforila e inattiva la pro-Caspasi 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Fosforila e inattiva fattori di trascrizione Forkh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Fosforila e attiva IKK e CREB </a:t>
            </a:r>
            <a:r>
              <a:rPr b="0" lang="it-IT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attivazione di NF-k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5280" y="0"/>
            <a:ext cx="874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Akt: sopravvivenz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940360" y="6524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[Fresno Vara J.A. et. al., 2004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Immagine 11" descr="ttp://upload.wikimedia.org/wikipedia/it/9/9b/Stemma_unipi.jpeg"/>
          <p:cNvPicPr/>
          <p:nvPr/>
        </p:nvPicPr>
        <p:blipFill>
          <a:blip r:embed="rId2"/>
          <a:stretch/>
        </p:blipFill>
        <p:spPr>
          <a:xfrm>
            <a:off x="8153280" y="76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44360" y="1413000"/>
            <a:ext cx="8964720" cy="537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63640" y="3068640"/>
            <a:ext cx="6553440" cy="349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Fosforila e inattiva GSK-3: no </a:t>
            </a:r>
            <a:r>
              <a:rPr b="0" i="1" lang="it-IT" sz="2000" spc="-1" strike="noStrike">
                <a:solidFill>
                  <a:srgbClr val="3333cc"/>
                </a:solidFill>
                <a:latin typeface="Comic Sans MS"/>
              </a:rPr>
              <a:t>down-regulation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di ciclina D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Fosforila e inattiva p27 e p21 inibendo gli effetti antiproliferativ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Fosforila e attiva Mdm2: degradazione p53 </a:t>
            </a:r>
            <a:r>
              <a:rPr b="0" lang="it-IT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inibizione espressione geni p53-media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Sintesi NO endoteli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760" indent="-185760"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95280" y="0"/>
            <a:ext cx="874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Akt: proliferazion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940360" y="6524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[Fresno Vara J.A. et. al., 2004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Immagine 11" descr="ttp://upload.wikimedia.org/wikipedia/it/9/9b/Stemma_unipi.jpeg"/>
          <p:cNvPicPr/>
          <p:nvPr/>
        </p:nvPicPr>
        <p:blipFill>
          <a:blip r:embed="rId2"/>
          <a:stretch/>
        </p:blipFill>
        <p:spPr>
          <a:xfrm>
            <a:off x="8153280" y="76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086680" cy="3422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032360" y="5229360"/>
            <a:ext cx="51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secondaria (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me l’attivazione della via di trasduzione di EGF, di VEGF e delezione di PT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5280" y="4844880"/>
            <a:ext cx="3116160" cy="9471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Attivazione di Ak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24360" y="4097160"/>
            <a:ext cx="47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primaria (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me i polimorfismi del proprio gene codificante, Hildebrandt et al., 2009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09:51:52Z</dcterms:created>
  <dc:creator>vision</dc:creator>
  <dc:description/>
  <dc:language>en-US</dc:language>
  <cp:lastModifiedBy>tecno</cp:lastModifiedBy>
  <dcterms:modified xsi:type="dcterms:W3CDTF">2010-11-13T09:51:52Z</dcterms:modified>
  <cp:revision>16</cp:revision>
  <dc:subject/>
  <dc:title>Presentazione di PowerPoint</dc:title>
</cp:coreProperties>
</file>