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8892-59DB-4D45-AEDE-4D965043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1544-CD58-4789-A354-7870E8F0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6B1C-CC48-4A5B-9BA9-A95AC507F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E765-76CE-4525-9BE5-45FA3133E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0203-25C3-4278-8910-25CC1781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DF37-4153-4EC6-BE03-314507B6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EA26-E5E7-438C-A2E6-738B0DE0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2276-4F3E-4657-AB2B-1CA70871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F21E-F2AB-4D50-A051-8F46DA4D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3CEF-0E41-475A-AD8D-7912DE01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FFB8-E943-4932-85A8-0E895412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0541-0947-4989-9EF8-364222D1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698E-3450-46B0-AE7F-5C3F097BF52D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611280" y="404640"/>
            <a:ext cx="7777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ff"/>
                </a:solidFill>
                <a:latin typeface="Times New Roman"/>
                <a:ea typeface="Lucida Sans Unicode"/>
              </a:rPr>
              <a:t>XX Congresso Nazionale A.I.R.O. Associazione Italiana Radioterapia Oncolo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ff"/>
                </a:solidFill>
                <a:latin typeface="Times New Roman"/>
                <a:ea typeface="Lucida Sans Unicode"/>
              </a:rPr>
              <a:t>Napoli, 13 – 16 novembre 20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250920" y="1413000"/>
            <a:ext cx="864216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The impact of FDG-PET for radiotherapy planning in resectable pancreatic adenocarcinoma.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Preliminary result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611280" y="4111560"/>
            <a:ext cx="799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it-IT" sz="23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.L. Pepe</a:t>
            </a:r>
            <a:r>
              <a:rPr b="0" i="1" lang="it-IT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r>
              <a:rPr b="0" i="1" lang="it-IT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. Micucci, S. Cammelli, A. Cecconi, A.Guido, B. Iacopino, A. Veraldi,  E. Barbier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2411280" y="5300640"/>
            <a:ext cx="43434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Dipartimento di Radioterap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Dir. Prof.ssa E. Barbier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Università di Bolog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7" descr="Medaglia"/>
          <p:cNvPicPr/>
          <p:nvPr/>
        </p:nvPicPr>
        <p:blipFill>
          <a:blip r:embed="rId1"/>
          <a:stretch/>
        </p:blipFill>
        <p:spPr>
          <a:xfrm>
            <a:off x="7164360" y="5229360"/>
            <a:ext cx="1373040" cy="1328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2"/>
          <a:stretch/>
        </p:blipFill>
        <p:spPr>
          <a:xfrm>
            <a:off x="755640" y="5445000"/>
            <a:ext cx="1150920" cy="9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Materials and method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TV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PET-CT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primary tumor and lymph nodes CT and/or PET positi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TV: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GTV</a:t>
            </a:r>
            <a:r>
              <a:rPr b="0" lang="en-US" sz="2400" spc="-1" strike="noStrike" baseline="-25000">
                <a:solidFill>
                  <a:srgbClr val="ccffff"/>
                </a:solidFill>
                <a:latin typeface="Times New Roman"/>
              </a:rPr>
              <a:t>PET-CT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+ negative lymph nodes at risk of neoplastic invasion + 2 cm isotropic expan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TV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Boost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GTV</a:t>
            </a:r>
            <a:r>
              <a:rPr b="0" lang="en-US" sz="2400" spc="-1" strike="noStrike" baseline="-25000">
                <a:solidFill>
                  <a:srgbClr val="ccffff"/>
                </a:solidFill>
                <a:latin typeface="Times New Roman"/>
              </a:rPr>
              <a:t>PET-CT</a:t>
            </a:r>
            <a:r>
              <a:rPr b="1" lang="en-US" sz="2400" spc="-1" strike="noStrike" baseline="-25000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0.5 cm isotropic expan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TVs: 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CTVs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+ 1 cm isotropic expan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A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pinal cord, bowel, kidneys, liver, stomach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uoden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0728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Materials and method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1"/>
          <a:stretch/>
        </p:blipFill>
        <p:spPr>
          <a:xfrm>
            <a:off x="2266920" y="870120"/>
            <a:ext cx="4321080" cy="3782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"/>
          <p:cNvPicPr/>
          <p:nvPr/>
        </p:nvPicPr>
        <p:blipFill>
          <a:blip r:embed="rId2"/>
          <a:stretch/>
        </p:blipFill>
        <p:spPr>
          <a:xfrm>
            <a:off x="755640" y="3500280"/>
            <a:ext cx="3148200" cy="3168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"/>
          <p:cNvPicPr/>
          <p:nvPr/>
        </p:nvPicPr>
        <p:blipFill>
          <a:blip r:embed="rId3"/>
          <a:stretch/>
        </p:blipFill>
        <p:spPr>
          <a:xfrm>
            <a:off x="5003640" y="3500280"/>
            <a:ext cx="36673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4392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Materials and method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4" name="Picture 11" descr=""/>
          <p:cNvPicPr/>
          <p:nvPr/>
        </p:nvPicPr>
        <p:blipFill>
          <a:blip r:embed="rId1"/>
          <a:stretch/>
        </p:blipFill>
        <p:spPr>
          <a:xfrm>
            <a:off x="2484360" y="765000"/>
            <a:ext cx="3960720" cy="3056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"/>
          <p:cNvPicPr/>
          <p:nvPr/>
        </p:nvPicPr>
        <p:blipFill>
          <a:blip r:embed="rId2"/>
          <a:stretch/>
        </p:blipFill>
        <p:spPr>
          <a:xfrm>
            <a:off x="250920" y="3860640"/>
            <a:ext cx="3600360" cy="2775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"/>
          <p:cNvPicPr/>
          <p:nvPr/>
        </p:nvPicPr>
        <p:blipFill>
          <a:blip r:embed="rId3"/>
          <a:stretch/>
        </p:blipFill>
        <p:spPr>
          <a:xfrm>
            <a:off x="5508720" y="3716280"/>
            <a:ext cx="3168720" cy="28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157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Materials and method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68560"/>
            <a:ext cx="829152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PTV  received 45 Gy in 25 fra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PTV Boost  received 9 Gy in 5 sess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0" y="2349360"/>
            <a:ext cx="4176720" cy="3243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2"/>
          <a:stretch/>
        </p:blipFill>
        <p:spPr>
          <a:xfrm>
            <a:off x="4392720" y="2276640"/>
            <a:ext cx="4751280" cy="3292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"/>
          <p:cNvPicPr/>
          <p:nvPr/>
        </p:nvPicPr>
        <p:blipFill>
          <a:blip r:embed="rId3"/>
          <a:stretch/>
        </p:blipFill>
        <p:spPr>
          <a:xfrm>
            <a:off x="4356000" y="5589720"/>
            <a:ext cx="1533600" cy="1076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"/>
          <p:cNvPicPr/>
          <p:nvPr/>
        </p:nvPicPr>
        <p:blipFill>
          <a:blip r:embed="rId4"/>
          <a:stretch/>
        </p:blipFill>
        <p:spPr>
          <a:xfrm>
            <a:off x="6012000" y="5589720"/>
            <a:ext cx="1533240" cy="1076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"/>
          <p:cNvPicPr/>
          <p:nvPr/>
        </p:nvPicPr>
        <p:blipFill>
          <a:blip r:embed="rId5"/>
          <a:stretch/>
        </p:blipFill>
        <p:spPr>
          <a:xfrm>
            <a:off x="7639200" y="5877000"/>
            <a:ext cx="1504800" cy="4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Materials and method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54160"/>
            <a:ext cx="829152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PTV  received 45 Gy in 25 fra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PTV Boost  received 9 Gy in 5 sess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3851280" cy="3241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4356000" y="2276640"/>
            <a:ext cx="4788000" cy="3463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"/>
          <p:cNvPicPr/>
          <p:nvPr/>
        </p:nvPicPr>
        <p:blipFill>
          <a:blip r:embed="rId3"/>
          <a:stretch/>
        </p:blipFill>
        <p:spPr>
          <a:xfrm>
            <a:off x="3809880" y="5707080"/>
            <a:ext cx="1317600" cy="101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4"/>
          <a:stretch/>
        </p:blipFill>
        <p:spPr>
          <a:xfrm>
            <a:off x="5127480" y="5715000"/>
            <a:ext cx="1295640" cy="100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"/>
          <p:cNvPicPr/>
          <p:nvPr/>
        </p:nvPicPr>
        <p:blipFill>
          <a:blip r:embed="rId5"/>
          <a:stretch/>
        </p:blipFill>
        <p:spPr>
          <a:xfrm>
            <a:off x="6423120" y="5729400"/>
            <a:ext cx="1371600" cy="1012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6"/>
          <a:stretch/>
        </p:blipFill>
        <p:spPr>
          <a:xfrm>
            <a:off x="7719840" y="5746680"/>
            <a:ext cx="1460520" cy="9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Materials and method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3628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89120" indent="-27432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Acute and late toxicity were graded according to the Radiation Therapy Oncology Group (RTOG) radiation morbidity scoring criteri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Resul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R0 resection rate was 60% in group A and 11.1% in group B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Mean total number of lymph node metastases was inferior in group A versus group 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All but three patients completed the neoadjuvant treatment without interruption due to acute toxicity of chemotherapy and/or radiotherap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Acute reactions during neoadjuvant therap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3048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12/14 patients showed mild to moderate sick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3048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5/14 patients showed moderate hematological toxi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3048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2/14 patients showed severe hematological toxi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Preliminary results sugges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ffff"/>
                </a:solidFill>
                <a:latin typeface="Times New Roman"/>
              </a:rPr>
              <a:t>PET-TC has greater sensitivity and specificity than CT in the detection of primary tumor and lymph nodes extens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Neoadjuvant chemoradiotherapy plus surgery is tolerabl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Neoadjuvant treatment in patients with pancreatic cancer increases the efficacy of surgery and both reduces the incidence of microscopically positive margins and the number of positive lymph nod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Neoadjuvant treatment can improve local control and overall surviv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Times New Roman"/>
              </a:rPr>
              <a:t>Pancreatic cancer has an extremely poor prognosi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Times New Roman"/>
              </a:rPr>
              <a:t>R0 resections and a low number of metastatic nodes are important prognostic facto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57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Times New Roman"/>
              </a:rPr>
              <a:t>Neoadjuvant chemoradiation (NCR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ccffff"/>
                </a:solidFill>
                <a:latin typeface="Times New Roman"/>
              </a:rPr>
              <a:t>downstaging diseas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Times New Roman"/>
              </a:rPr>
              <a:t>increase R0 resec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Times New Roman"/>
              </a:rPr>
              <a:t>reduction in the number of metastatic no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4427640" y="2421000"/>
            <a:ext cx="576000" cy="792000"/>
          </a:xfrm>
          <a:prstGeom prst="downArrow">
            <a:avLst>
              <a:gd name="adj1" fmla="val 50000"/>
              <a:gd name="adj2" fmla="val 3437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4427640" y="4005360"/>
            <a:ext cx="576000" cy="792000"/>
          </a:xfrm>
          <a:prstGeom prst="downArrow">
            <a:avLst>
              <a:gd name="adj1" fmla="val 50000"/>
              <a:gd name="adj2" fmla="val 3437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PET/CT can be use for a more accurate definition of RT target volumes in what appears to have greater sensitivity and specificity than CT in the detection of primary tumor and lymph nodes exten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Purpos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Times New Roman"/>
              </a:rPr>
              <a:t>Our purpose is to evaluate preliminary results of a prospective study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EUDRACT 2007-000557-61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GB" sz="3200" spc="-1" strike="noStrike">
                <a:solidFill>
                  <a:srgbClr val="ccffff"/>
                </a:solidFill>
                <a:latin typeface="Times New Roman"/>
              </a:rPr>
              <a:t> of neoadjuvant radiochemo-therapy for adenocarcinoma of the pancreas where PET/CT used for radiotherapy plan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Materials and method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Between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arch 2007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June 2010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 we enrolled 27 patie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All patients with resectable pancreatic adenocarcinoma were randomized in two grou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roup A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(14 pts): neoadjuvant chemoradiotherapy plus surg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roup B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(13 pts): surgery al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Materials and method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28584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Neoadjuvant therapy</a:t>
            </a: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EMCITABIN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000 mg/m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y 1,8 ever 21 days for 2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ADIOCHEMOTHERAP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 algn="ctr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T 45 Gy/25 (1,8 Gy Fr/day)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oost 9 Gy/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1,8 Gy Fr/da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 algn="ctr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Gemcitabine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50 mg/m</a:t>
            </a:r>
            <a:r>
              <a:rPr b="0" lang="en-US" sz="3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twice-</a:t>
            </a:r>
            <a:r>
              <a:rPr b="0" lang="it-IT" sz="3000" spc="-1" strike="noStrike">
                <a:solidFill>
                  <a:srgbClr val="ff0000"/>
                </a:solidFill>
                <a:latin typeface="Times New Roman"/>
              </a:rPr>
              <a:t>weekly</a:t>
            </a:r>
            <a:r>
              <a:rPr b="0" lang="it-IT" sz="3000" spc="-1" strike="noStrike">
                <a:solidFill>
                  <a:srgbClr val="cc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4643280" y="3213000"/>
            <a:ext cx="432000" cy="792360"/>
          </a:xfrm>
          <a:prstGeom prst="downArrow">
            <a:avLst>
              <a:gd name="adj1" fmla="val 50000"/>
              <a:gd name="adj2" fmla="val 4585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Materials and method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147160" cy="12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For each patient, the PET/TC scan are performed  with  patient immobilized in the treatment posi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5" descr="PAZ1"/>
          <p:cNvPicPr/>
          <p:nvPr/>
        </p:nvPicPr>
        <p:blipFill>
          <a:blip r:embed="rId1"/>
          <a:stretch/>
        </p:blipFill>
        <p:spPr>
          <a:xfrm>
            <a:off x="2411280" y="2637000"/>
            <a:ext cx="4392720" cy="39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Materials and method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6" name="Picture 5" descr="paz2"/>
          <p:cNvPicPr/>
          <p:nvPr/>
        </p:nvPicPr>
        <p:blipFill>
          <a:blip r:embed="rId1"/>
          <a:stretch/>
        </p:blipFill>
        <p:spPr>
          <a:xfrm>
            <a:off x="2124000" y="1341360"/>
            <a:ext cx="5073840" cy="5037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21:03:51Z</dcterms:created>
  <dc:creator>m</dc:creator>
  <dc:description/>
  <dc:language>en-US</dc:language>
  <cp:lastModifiedBy>tecno</cp:lastModifiedBy>
  <dcterms:modified xsi:type="dcterms:W3CDTF">2010-11-13T17:07:16Z</dcterms:modified>
  <cp:revision>50</cp:revision>
  <dc:subject/>
  <dc:title>Diapositiva 1</dc:title>
</cp:coreProperties>
</file>