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8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5.jpeg" ContentType="image/jpeg"/>
  <Override PartName="/ppt/media/image11.jpeg" ContentType="image/jpeg"/>
  <Override PartName="/ppt/media/image13.png" ContentType="image/png"/>
  <Override PartName="/ppt/media/image6.jpeg" ContentType="image/jpeg"/>
  <Override PartName="/ppt/media/image18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28.png" ContentType="image/png"/>
  <Override PartName="/ppt/media/image7.jpeg" ContentType="image/jpeg"/>
  <Override PartName="/ppt/media/image1.wmf" ContentType="image/x-wmf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5B44-1085-424A-98CA-8036B784CB4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E39A-23DA-4B04-87D7-72499F636BB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30B1-128A-4284-B84C-D1C59337BC4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D998-0CCA-42F6-80E0-7523C9AD3F0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E9D9-57E9-46CA-94D8-30A4B3434DE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540E-41B1-4F8B-A93F-2A4DC94E914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F32E-5AE0-4B09-956A-A6A911592C8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8F35-0181-474D-99D6-9902C11A87E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159C-84BA-4CEC-9672-EEE2E6D26D8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4A4B-1787-4784-A2B9-D6432C8D4B2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0CE2-5F95-49DA-A923-C2B6575ECBD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FBB6-45D5-4B20-A58F-9CC0D64DD5E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C320-E18E-4D6D-BB58-1BCA35CB11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EE1C-C344-4DC6-9CF6-FED9AA794BA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9A98-94D9-4D54-BB28-10946F79E4B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FF21-32BD-446E-A436-F5AE3135FD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EB0E-C4A2-4B5B-B75E-3C01967459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C93-010C-4CDA-B05D-C82DAF1B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45E-59CC-411B-A7C9-98F323DD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CE9-0496-4681-927D-97794F21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364-6EC2-488A-889F-CEF46232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104-A206-4B9D-84D4-05E5EA58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50A-AFD1-4242-B05F-4109FE44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FC2-BF4E-446E-87BD-A6AD6BE8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316-1FA5-433A-9ECD-C5C2C497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FB5-5071-4952-B52E-5D178969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6B6-705C-4308-9C3A-F25007D4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2EF-B952-4433-9F0A-A33CF9E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D37-930D-42D3-A14F-5973ED85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428D-3EB8-4157-9EAD-1AD69F6F209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3818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MRT COME TRATTAMENTO POSTOPERATORIO IN PAZIENTI CON MESOTELIOMA PLEURICO TRATTATI CON APPROCCIO TRIMODALE: SERIE DI 12 PAZI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8600" y="16002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G.Piperno</a:t>
            </a:r>
            <a:r>
              <a:rPr b="1" lang="it-IT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, F. Gherardi</a:t>
            </a:r>
            <a:r>
              <a:rPr b="1" lang="it-IT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, A. Morra</a:t>
            </a:r>
            <a:r>
              <a:rPr b="1" lang="it-IT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, E. Rondi</a:t>
            </a:r>
            <a:r>
              <a:rPr b="1" lang="it-IT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, R. Cambria</a:t>
            </a:r>
            <a:r>
              <a:rPr b="1" lang="it-IT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, S.Comi</a:t>
            </a:r>
            <a:r>
              <a:rPr b="1" lang="it-IT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and R. Orecchia </a:t>
            </a:r>
            <a:r>
              <a:rPr b="1" lang="it-IT" sz="1800" spc="-1" strike="noStrike" baseline="30000">
                <a:solidFill>
                  <a:srgbClr val="ffffff"/>
                </a:solidFill>
                <a:latin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:Divisione di Radioterapia, Istituto Europeo di Oncologia 2: Fisica Medica, Istituto Europeo di Oncologia 3: Università di Mi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6553080" y="4289400"/>
            <a:ext cx="2590920" cy="256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fotoIEO2"/>
          <p:cNvPicPr/>
          <p:nvPr/>
        </p:nvPicPr>
        <p:blipFill>
          <a:blip r:embed="rId2"/>
          <a:stretch/>
        </p:blipFill>
        <p:spPr>
          <a:xfrm>
            <a:off x="0" y="3124080"/>
            <a:ext cx="5105520" cy="289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ieo_logo"/>
          <p:cNvPicPr/>
          <p:nvPr/>
        </p:nvPicPr>
        <p:blipFill>
          <a:blip r:embed="rId3"/>
          <a:stretch/>
        </p:blipFill>
        <p:spPr>
          <a:xfrm>
            <a:off x="95400" y="6180120"/>
            <a:ext cx="4248000" cy="677880"/>
          </a:xfrm>
          <a:prstGeom prst="rect">
            <a:avLst/>
          </a:prstGeom>
          <a:ln w="0">
            <a:noFill/>
          </a:ln>
        </p:spPr>
      </p:pic>
      <p:pic>
        <p:nvPicPr>
          <p:cNvPr id="53" name="Immagine 9" descr="image001.png"/>
          <p:cNvPicPr/>
          <p:nvPr/>
        </p:nvPicPr>
        <p:blipFill>
          <a:blip r:embed="rId4"/>
          <a:stretch/>
        </p:blipFill>
        <p:spPr>
          <a:xfrm>
            <a:off x="5257800" y="5821200"/>
            <a:ext cx="106668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300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RECORD AND VERI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85800" y="121932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EI PRIMI 5 GIORNI ACQUISIZIONE DI 2 IMMAGINI ORTOGONALI STEREOSCOPICHE PER VERIFICA DELL’ISOCENTRO Kv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uccessivamente controllo 2 volte/setti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7" descr="target gp1"/>
          <p:cNvPicPr/>
          <p:nvPr/>
        </p:nvPicPr>
        <p:blipFill>
          <a:blip r:embed="rId1"/>
          <a:srcRect l="0" t="0" r="1890" b="2717"/>
          <a:stretch/>
        </p:blipFill>
        <p:spPr>
          <a:xfrm>
            <a:off x="561960" y="2362320"/>
            <a:ext cx="4162320" cy="449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target 2"/>
          <p:cNvPicPr/>
          <p:nvPr/>
        </p:nvPicPr>
        <p:blipFill>
          <a:blip r:embed="rId2"/>
          <a:srcRect l="0" t="0" r="13299" b="-1173"/>
          <a:stretch/>
        </p:blipFill>
        <p:spPr>
          <a:xfrm>
            <a:off x="4599000" y="2362320"/>
            <a:ext cx="34783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target 4"/>
          <p:cNvPicPr/>
          <p:nvPr/>
        </p:nvPicPr>
        <p:blipFill>
          <a:blip r:embed="rId1"/>
          <a:srcRect l="0" t="0" r="12502" b="17192"/>
          <a:stretch/>
        </p:blipFill>
        <p:spPr>
          <a:xfrm>
            <a:off x="0" y="0"/>
            <a:ext cx="5029200" cy="380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target 3"/>
          <p:cNvPicPr/>
          <p:nvPr/>
        </p:nvPicPr>
        <p:blipFill>
          <a:blip r:embed="rId2"/>
          <a:srcRect l="0" t="0" r="1252" b="18750"/>
          <a:stretch/>
        </p:blipFill>
        <p:spPr>
          <a:xfrm>
            <a:off x="0" y="3579840"/>
            <a:ext cx="5029200" cy="327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target 5"/>
          <p:cNvPicPr/>
          <p:nvPr/>
        </p:nvPicPr>
        <p:blipFill>
          <a:blip r:embed="rId3"/>
          <a:srcRect l="0" t="2532" r="0" b="0"/>
          <a:stretch/>
        </p:blipFill>
        <p:spPr>
          <a:xfrm>
            <a:off x="457200" y="304920"/>
            <a:ext cx="8305920" cy="64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4300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TOSSICITA’ ACU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609480" y="1295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 PAZ. HA INTERROTTO IL TRATTAMENTO A 21.6 Gy  PER ASTENIA E DISPNEA DA SFO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533520" y="2254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 PAZ. HA AVUTO ANEMIA G3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RICOVERO PER EMOTRASFU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533520" y="4572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cc"/>
                </a:solidFill>
                <a:latin typeface="Arial"/>
              </a:rPr>
              <a:t>NESSUN ALTRO EFFETTO COLLATERALE ACUTO &gt;G2 E’ STATO RILE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57200" y="320040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 PAZ. TOSSICITA’ CUTANEA 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 PAZ. NAUSEA E VOMITO 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14300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RISULT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43200" y="1371600"/>
            <a:ext cx="3048120" cy="2286000"/>
          </a:xfrm>
          <a:prstGeom prst="rect">
            <a:avLst/>
          </a:prstGeom>
          <a:solidFill>
            <a:srgbClr val="ff99cc">
              <a:alpha val="71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OLLOW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EDIO: 17 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EDIANO: 13 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(range 5-43 me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28600" y="4114800"/>
            <a:ext cx="85345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6 PAZIENTI VIVI SENZA MALAT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4 VIVI CON MALATTIA METASTATICA (DI CUI 2 CON MALATTIA ADDOMIN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1 PAZIENTE VIVO CON MALATTIA LO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1 PAZIENTE DECEDUTO PER PD ADDOM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14300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E GLI ALTR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80880" y="160020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cc"/>
                </a:solidFill>
                <a:latin typeface="Arial"/>
              </a:rPr>
              <a:t>2 PAZIENTI SONO DECEDUTI PER IRA DOPO UN MESE DAL TERMINE DELLA RADIOTERA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cc"/>
                </a:solidFill>
                <a:latin typeface="Arial"/>
              </a:rPr>
              <a:t>1 PAZIENTE E’ DECEDUTO DOPO 6 MESI PER ENCEFALITE E 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914400" y="44053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9 PAZIENTI SONO DECEDUTI PER MALAT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OPRAVVIVENZA MEDIANA DI 15 M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4300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0880" y="1600200"/>
            <a:ext cx="8534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cc"/>
                </a:solidFill>
                <a:latin typeface="Arial"/>
              </a:rPr>
              <a:t>LA RADIOTERAPIA POSTOPERATORIA CON IMRT E’ UN TRATTAMENTO BEN TOLLE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80880" y="2876400"/>
            <a:ext cx="8534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cc"/>
                </a:solidFill>
                <a:latin typeface="Arial"/>
              </a:rPr>
              <a:t>NONOSTANTE IL FOLLOW UP E IL PICCOLO NUMERO DI PAZIENTI I RISULTATI SONO IN LINEA CON LA LETTERA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80880" y="4051440"/>
            <a:ext cx="8534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cc"/>
                </a:solidFill>
                <a:latin typeface="Arial"/>
              </a:rPr>
              <a:t>ULTERIORI STUDI SONO NECESSARI PER SELEZIONARE SOTTOGRUPPI DI PAZIENTI CHE POSSONO BENEFICIARE DEL  TRATTAMENTO TRIMOD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napoli1"/>
          <p:cNvPicPr/>
          <p:nvPr/>
        </p:nvPicPr>
        <p:blipFill>
          <a:blip r:embed="rId1"/>
          <a:stretch/>
        </p:blipFill>
        <p:spPr>
          <a:xfrm>
            <a:off x="0" y="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napoli"/>
          <p:cNvPicPr/>
          <p:nvPr/>
        </p:nvPicPr>
        <p:blipFill>
          <a:blip r:embed="rId2"/>
          <a:stretch/>
        </p:blipFill>
        <p:spPr>
          <a:xfrm>
            <a:off x="548640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Napoli_la_Citta_e_la_Musica"/>
          <p:cNvPicPr/>
          <p:nvPr/>
        </p:nvPicPr>
        <p:blipFill>
          <a:blip r:embed="rId3"/>
          <a:stretch/>
        </p:blipFill>
        <p:spPr>
          <a:xfrm>
            <a:off x="3200400" y="2514600"/>
            <a:ext cx="2209680" cy="2438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ANd9GcTSGjPRx5KcBiqOJKFEM_7HEMUZDEMlvyvlfp-IwXR7Krme70s&amp;t=1&amp;h=167&amp;w=223&amp;usg=__ix5DDyNjcXFdYFobZ5UW8XBh-7o="/>
          <p:cNvPicPr/>
          <p:nvPr/>
        </p:nvPicPr>
        <p:blipFill>
          <a:blip r:embed="rId4"/>
          <a:stretch/>
        </p:blipFill>
        <p:spPr>
          <a:xfrm>
            <a:off x="5410080" y="4091040"/>
            <a:ext cx="3733920" cy="2795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2" descr="ANd9GcSZVfY7y6w0_dOpWjfopHwZCiPHMw2BvTRBuGdOIv9mR3tBGYs&amp;t=1&amp;h=167&amp;w=223&amp;usg=__NgD3n0otuWwU3OV38iFAbRQIhnQ="/>
          <p:cNvPicPr/>
          <p:nvPr/>
        </p:nvPicPr>
        <p:blipFill>
          <a:blip r:embed="rId5"/>
          <a:stretch/>
        </p:blipFill>
        <p:spPr>
          <a:xfrm>
            <a:off x="0" y="4037040"/>
            <a:ext cx="3733920" cy="2806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5"/>
          <p:cNvSpPr/>
          <p:nvPr/>
        </p:nvSpPr>
        <p:spPr>
          <a:xfrm rot="20021400">
            <a:off x="2435040" y="2949480"/>
            <a:ext cx="403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600" spc="-1" strike="noStrike">
                <a:solidFill>
                  <a:srgbClr val="ff0000"/>
                </a:solidFill>
                <a:latin typeface="Arial"/>
              </a:rPr>
              <a:t>GRAZIE!!!!!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TRATTAMENTO DEL MESOTELIOMA PLEURICO….IN IEO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1798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VATS CON BIOPSIE E TALCAGG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HEMIOTERAPIA DI INDUZIONE (CISPLATINO 75 MG/MQ + PEMETREXED 500 MG/MQ) X 3 CI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HIRURGIA (PLEUROPNEUMONECTO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ADIOTERAPIA POSTOPE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ostra immagine a dimensione intera"/>
          <p:cNvPicPr/>
          <p:nvPr/>
        </p:nvPicPr>
        <p:blipFill>
          <a:blip r:embed="rId1"/>
          <a:stretch/>
        </p:blipFill>
        <p:spPr>
          <a:xfrm>
            <a:off x="5410080" y="32004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Mostra immagine a dimensione intera"/>
          <p:cNvPicPr/>
          <p:nvPr/>
        </p:nvPicPr>
        <p:blipFill>
          <a:blip r:embed="rId2"/>
          <a:stretch/>
        </p:blipFill>
        <p:spPr>
          <a:xfrm>
            <a:off x="6934320" y="4114800"/>
            <a:ext cx="1317600" cy="144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e40540546567dde88917cd337d7d0d33"/>
          <p:cNvPicPr/>
          <p:nvPr/>
        </p:nvPicPr>
        <p:blipFill>
          <a:blip r:embed="rId3"/>
          <a:stretch/>
        </p:blipFill>
        <p:spPr>
          <a:xfrm>
            <a:off x="5257800" y="5618160"/>
            <a:ext cx="1447920" cy="123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ANd9GcQqvd3UGAWvlLXrV9ofRA7XQTxo6C-a53gwCqfmFaY9hPUafvE&amp;t=1&amp;h=173&amp;w=214&amp;usg=__fzJGkTHTHCB5ugzLxNYH49Zeeco="/>
          <p:cNvPicPr/>
          <p:nvPr/>
        </p:nvPicPr>
        <p:blipFill>
          <a:blip r:embed="rId4"/>
          <a:stretch/>
        </p:blipFill>
        <p:spPr>
          <a:xfrm>
            <a:off x="5029200" y="1523880"/>
            <a:ext cx="144792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TRA 2003 E 2006:  19 pazienti operati</a:t>
            </a:r>
            <a:r>
              <a:rPr b="1" i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 12 PAZIENTI  trattati con </a:t>
            </a:r>
            <a:r>
              <a:rPr b="1" i="1" lang="it-IT" sz="2000" spc="-1" strike="noStrike">
                <a:solidFill>
                  <a:srgbClr val="ff99cc"/>
                </a:solidFill>
                <a:latin typeface="Arial"/>
              </a:rPr>
              <a:t>RT CONFORMAZIO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038480" y="2057400"/>
            <a:ext cx="4267440" cy="1749240"/>
          </a:xfrm>
          <a:prstGeom prst="rect">
            <a:avLst/>
          </a:prstGeom>
          <a:solidFill>
            <a:srgbClr val="ff99cc">
              <a:alpha val="60000"/>
            </a:srgbClr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TEC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2 CAMPI AP/PA 15/18 MV DOPO SIMULAZIONE CON TC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 BOOST CON CAMPI OBLI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OSE: 50.4-54 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438280" cy="1908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304920" y="4876920"/>
            <a:ext cx="5715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TRA 2007 E 2010: 18 pazienti operati</a:t>
            </a:r>
            <a:r>
              <a:rPr b="1" i="1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12 PAZIENTI trattati con </a:t>
            </a:r>
            <a:r>
              <a:rPr b="1" i="1" lang="it-IT" sz="2400" spc="-1" strike="noStrike">
                <a:solidFill>
                  <a:srgbClr val="ff99cc"/>
                </a:solidFill>
                <a:latin typeface="Arial"/>
              </a:rPr>
              <a:t>IM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1828800" y="3049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AIRO 2006- LEC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1676520" y="4114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AIRO 2010- NAP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3" descr="9"/>
          <p:cNvPicPr/>
          <p:nvPr/>
        </p:nvPicPr>
        <p:blipFill>
          <a:blip r:embed="rId2"/>
          <a:stretch/>
        </p:blipFill>
        <p:spPr>
          <a:xfrm>
            <a:off x="6019920" y="4753080"/>
            <a:ext cx="2666880" cy="20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CARATTERISTICHE DEI PAZI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0" y="1523880"/>
            <a:ext cx="9144000" cy="4350960"/>
          </a:xfrm>
          <a:prstGeom prst="rect">
            <a:avLst/>
          </a:prstGeom>
          <a:solidFill>
            <a:srgbClr val="ff99cc">
              <a:alpha val="59000"/>
            </a:srgbClr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SESSO:</a:t>
            </a:r>
            <a:r>
              <a:rPr b="1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  8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ETA’:</a:t>
            </a: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EDIA 57 (RANGE 48-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SEDE: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X 6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STADIO: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ypT2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ypT3  7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malattia micr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ypN1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ypN2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ISTOLOGIA: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PITELIOIDE 10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BIFASIC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CHEMIO: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DDP+ ALIMTA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CICLI: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3 (RANGE 2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9"/>
          <p:cNvSpPr/>
          <p:nvPr/>
        </p:nvSpPr>
        <p:spPr>
          <a:xfrm>
            <a:off x="380880" y="380880"/>
            <a:ext cx="784872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SIMULAZIO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AZIENTE SUPINO SU DISPOSITIVO POSI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C ELICOIDALE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SLICES 3 MM DA C5 A COMPRENDERE FEGATO E R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PERI E BOLUS 5 MM SULLE CICATR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breast board"/>
          <p:cNvPicPr/>
          <p:nvPr/>
        </p:nvPicPr>
        <p:blipFill>
          <a:blip r:embed="rId1"/>
          <a:stretch/>
        </p:blipFill>
        <p:spPr>
          <a:xfrm>
            <a:off x="0" y="298764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2"/>
          <p:cNvPicPr/>
          <p:nvPr/>
        </p:nvPicPr>
        <p:blipFill>
          <a:blip r:embed="rId2">
            <a:lum contrast="6000"/>
          </a:blip>
          <a:srcRect l="7339" t="4687" r="0" b="10940"/>
          <a:stretch/>
        </p:blipFill>
        <p:spPr>
          <a:xfrm>
            <a:off x="2514600" y="2965320"/>
            <a:ext cx="5867280" cy="381636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7"/>
          <p:cNvSpPr/>
          <p:nvPr/>
        </p:nvSpPr>
        <p:spPr>
          <a:xfrm>
            <a:off x="7010280" y="3276720"/>
            <a:ext cx="1981440" cy="1218960"/>
          </a:xfrm>
          <a:prstGeom prst="leftArrow">
            <a:avLst>
              <a:gd name="adj1" fmla="val 50000"/>
              <a:gd name="adj2" fmla="val 40638"/>
            </a:avLst>
          </a:prstGeom>
          <a:solidFill>
            <a:srgbClr val="ff0000"/>
          </a:solidFill>
          <a:ln w="34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4"/>
          <p:cNvSpPr/>
          <p:nvPr/>
        </p:nvSpPr>
        <p:spPr>
          <a:xfrm>
            <a:off x="380880" y="1295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TV: CAVO PLEURICO RESIDUO+ CICATRICI E INSERZIONI DREN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438280" y="2362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TV: CTV + 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133720" y="304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CONTO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7" descr="ucardile 2"/>
          <p:cNvPicPr/>
          <p:nvPr/>
        </p:nvPicPr>
        <p:blipFill>
          <a:blip r:embed="rId1"/>
          <a:stretch/>
        </p:blipFill>
        <p:spPr>
          <a:xfrm>
            <a:off x="380880" y="3276720"/>
            <a:ext cx="4038840" cy="3423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cardile 1"/>
          <p:cNvPicPr/>
          <p:nvPr/>
        </p:nvPicPr>
        <p:blipFill>
          <a:blip r:embed="rId2"/>
          <a:stretch/>
        </p:blipFill>
        <p:spPr>
          <a:xfrm>
            <a:off x="4876920" y="3289320"/>
            <a:ext cx="4114800" cy="33926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2"/>
          <p:cNvSpPr/>
          <p:nvPr/>
        </p:nvSpPr>
        <p:spPr>
          <a:xfrm rot="10800000">
            <a:off x="3276360" y="4114440"/>
            <a:ext cx="1981080" cy="1219320"/>
          </a:xfrm>
          <a:prstGeom prst="leftArrow">
            <a:avLst>
              <a:gd name="adj1" fmla="val 50000"/>
              <a:gd name="adj2" fmla="val 40619"/>
            </a:avLst>
          </a:prstGeom>
          <a:solidFill>
            <a:srgbClr val="ff0000"/>
          </a:solidFill>
          <a:ln w="34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2057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7 CAMPI FISSI MODULATI DI FOTONI X 6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60020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OSE: 50.4 Gy/28 FX (1.8 Gy/FX) AL P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133720" y="304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TRAT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8"/>
          <p:cNvPicPr/>
          <p:nvPr/>
        </p:nvPicPr>
        <p:blipFill>
          <a:blip r:embed="rId1"/>
          <a:stretch/>
        </p:blipFill>
        <p:spPr>
          <a:xfrm>
            <a:off x="228600" y="3733920"/>
            <a:ext cx="4343400" cy="308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1"/>
          <p:cNvPicPr/>
          <p:nvPr/>
        </p:nvPicPr>
        <p:blipFill>
          <a:blip r:embed="rId2"/>
          <a:stretch/>
        </p:blipFill>
        <p:spPr>
          <a:xfrm>
            <a:off x="4876920" y="3754440"/>
            <a:ext cx="4267080" cy="31035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1"/>
          <p:cNvSpPr/>
          <p:nvPr/>
        </p:nvSpPr>
        <p:spPr>
          <a:xfrm>
            <a:off x="6019920" y="40384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2057400" y="38862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762120" y="4114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533520" y="47242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2057400" y="609588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457200" y="51814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685800" y="57150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1143000" y="61722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6934320" y="38862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7696080" y="4038480"/>
            <a:ext cx="609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8381880" y="464832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8534520" y="53341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8458200" y="60199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76201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685800" y="2743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ECNICA STEP AND 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pintus3"/>
          <p:cNvPicPr/>
          <p:nvPr/>
        </p:nvPicPr>
        <p:blipFill>
          <a:blip r:embed="rId1"/>
          <a:srcRect l="0" t="0" r="3750" b="0"/>
          <a:stretch/>
        </p:blipFill>
        <p:spPr>
          <a:xfrm>
            <a:off x="0" y="0"/>
            <a:ext cx="4267080" cy="403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pintus"/>
          <p:cNvPicPr/>
          <p:nvPr/>
        </p:nvPicPr>
        <p:blipFill>
          <a:blip r:embed="rId2"/>
          <a:stretch/>
        </p:blipFill>
        <p:spPr>
          <a:xfrm>
            <a:off x="4191120" y="0"/>
            <a:ext cx="4876560" cy="402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pintus4"/>
          <p:cNvPicPr/>
          <p:nvPr/>
        </p:nvPicPr>
        <p:blipFill>
          <a:blip r:embed="rId3"/>
          <a:srcRect l="0" t="8807" r="1590" b="0"/>
          <a:stretch/>
        </p:blipFill>
        <p:spPr>
          <a:xfrm>
            <a:off x="0" y="3505320"/>
            <a:ext cx="4724280" cy="3352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"/>
          <p:cNvSpPr/>
          <p:nvPr/>
        </p:nvSpPr>
        <p:spPr>
          <a:xfrm>
            <a:off x="4876920" y="49528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DISTRIBU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14300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DOSE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T288023A"/>
          <p:cNvPicPr/>
          <p:nvPr/>
        </p:nvPicPr>
        <p:blipFill>
          <a:blip r:embed="rId1"/>
          <a:stretch/>
        </p:blipFill>
        <p:spPr>
          <a:xfrm>
            <a:off x="228600" y="1447920"/>
            <a:ext cx="1523880" cy="1195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2057400" y="15912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V: max 50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idollo max 45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polmone_non_fumatore"/>
          <p:cNvPicPr/>
          <p:nvPr/>
        </p:nvPicPr>
        <p:blipFill>
          <a:blip r:embed="rId2"/>
          <a:stretch/>
        </p:blipFill>
        <p:spPr>
          <a:xfrm>
            <a:off x="228600" y="3048120"/>
            <a:ext cx="148608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2"/>
          <p:cNvSpPr/>
          <p:nvPr/>
        </p:nvSpPr>
        <p:spPr>
          <a:xfrm>
            <a:off x="2057400" y="30769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media&lt; 8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20≤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5≤ 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cuore1"/>
          <p:cNvPicPr/>
          <p:nvPr/>
        </p:nvPicPr>
        <p:blipFill>
          <a:blip r:embed="rId3"/>
          <a:stretch/>
        </p:blipFill>
        <p:spPr>
          <a:xfrm>
            <a:off x="76320" y="5105520"/>
            <a:ext cx="1676160" cy="12715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5"/>
          <p:cNvSpPr/>
          <p:nvPr/>
        </p:nvSpPr>
        <p:spPr>
          <a:xfrm>
            <a:off x="1903320" y="5104440"/>
            <a:ext cx="215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 media &lt; 22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45≤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30≤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50&lt;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url"/>
          <p:cNvPicPr/>
          <p:nvPr/>
        </p:nvPicPr>
        <p:blipFill>
          <a:blip r:embed="rId4"/>
          <a:stretch/>
        </p:blipFill>
        <p:spPr>
          <a:xfrm>
            <a:off x="4648320" y="1447920"/>
            <a:ext cx="1752480" cy="1258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8"/>
          <p:cNvSpPr/>
          <p:nvPr/>
        </p:nvSpPr>
        <p:spPr>
          <a:xfrm>
            <a:off x="6484680" y="1416600"/>
            <a:ext cx="215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 media &lt; 31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30≤ 3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0" descr="esofago"/>
          <p:cNvPicPr/>
          <p:nvPr/>
        </p:nvPicPr>
        <p:blipFill>
          <a:blip r:embed="rId5"/>
          <a:stretch/>
        </p:blipFill>
        <p:spPr>
          <a:xfrm>
            <a:off x="4800600" y="2895480"/>
            <a:ext cx="1038240" cy="18288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1"/>
          <p:cNvSpPr/>
          <p:nvPr/>
        </p:nvSpPr>
        <p:spPr>
          <a:xfrm>
            <a:off x="6552360" y="3213720"/>
            <a:ext cx="18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50≤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max ≤ 55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3" descr="reni"/>
          <p:cNvPicPr/>
          <p:nvPr/>
        </p:nvPicPr>
        <p:blipFill>
          <a:blip r:embed="rId6"/>
          <a:stretch/>
        </p:blipFill>
        <p:spPr>
          <a:xfrm>
            <a:off x="4572000" y="5105520"/>
            <a:ext cx="1828800" cy="1195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4"/>
          <p:cNvSpPr/>
          <p:nvPr/>
        </p:nvSpPr>
        <p:spPr>
          <a:xfrm>
            <a:off x="6428880" y="5335920"/>
            <a:ext cx="270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 media: ≤ 30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molat.: V30&lt;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ntrolat. V15 &lt;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cno</cp:lastModifiedBy>
  <dcterms:modified xsi:type="dcterms:W3CDTF">2010-11-13T16:36:01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