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808960"/>
            <a:ext cx="1046484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149652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808960"/>
            <a:ext cx="5106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149652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808960"/>
            <a:ext cx="3369600" cy="393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3452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812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2788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745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2124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2124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2124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5728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4612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9072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33532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33532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33532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67560" indent="-325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325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954360" indent="-3254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47760" indent="-3254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41160" indent="-325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41160" indent="-325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41160" indent="-325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3452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812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2788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745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2124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2124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2124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1496520"/>
            <a:ext cx="10464840" cy="825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35040" indent="-571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9640" indent="-571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238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6848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413080" indent="-571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413080" indent="-571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413080" indent="-571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5522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9392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255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125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0991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0991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0991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29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329040" indent="-3290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329040" indent="-32904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329040" indent="-3290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29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329040" indent="-3290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329040" indent="-32904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329040" indent="-32904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329040" indent="-32904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Object 4"/>
          <p:cNvGraphicFramePr/>
          <p:nvPr/>
        </p:nvGraphicFramePr>
        <p:xfrm>
          <a:off x="11153880" y="217440"/>
          <a:ext cx="128880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53880" y="217440"/>
                    <a:ext cx="128880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5"/>
          <p:cNvGraphicFramePr/>
          <p:nvPr/>
        </p:nvGraphicFramePr>
        <p:xfrm>
          <a:off x="403200" y="289080"/>
          <a:ext cx="1130400" cy="13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00" y="289080"/>
                    <a:ext cx="113040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6"/>
          <p:cNvSpPr/>
          <p:nvPr/>
        </p:nvSpPr>
        <p:spPr>
          <a:xfrm>
            <a:off x="1749600" y="367560"/>
            <a:ext cx="921528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Comic Sans MS"/>
                <a:ea typeface="Arial"/>
              </a:rPr>
              <a:t>AZIENDA OSPEDALIERO-UNIVERSITAR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Comic Sans MS"/>
                <a:ea typeface="Arial"/>
              </a:rPr>
              <a:t> “</a:t>
            </a:r>
            <a:r>
              <a:rPr b="1" lang="it-IT" sz="1400" spc="-1" strike="noStrike">
                <a:solidFill>
                  <a:srgbClr val="0066ff"/>
                </a:solidFill>
                <a:latin typeface="Comic Sans MS"/>
                <a:ea typeface="Arial"/>
              </a:rPr>
              <a:t>MAGGIORE DELLA CARITA’”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Comic Sans MS"/>
                <a:ea typeface="Arial"/>
              </a:rPr>
              <a:t>UNIVERSITA’ DEL PIEMONTE ORIENTALE “A. AVOGADRO”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it-IT" sz="1400" spc="-1" strike="noStrike">
                <a:solidFill>
                  <a:srgbClr val="0066ff"/>
                </a:solidFill>
                <a:latin typeface="Comic Sans MS"/>
                <a:ea typeface="Arial"/>
              </a:rPr>
              <a:t>S.C.D.U.   RADIOTERAP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it-IT" sz="1400" spc="-1" strike="noStrike">
                <a:solidFill>
                  <a:srgbClr val="0066ff"/>
                </a:solidFill>
                <a:latin typeface="Comic Sans MS"/>
                <a:ea typeface="Arial"/>
              </a:rPr>
              <a:t>Direttore Prof. Marco Krengli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Picture 7" descr=""/>
          <p:cNvPicPr/>
          <p:nvPr/>
        </p:nvPicPr>
        <p:blipFill>
          <a:blip r:embed="rId5"/>
          <a:stretch/>
        </p:blipFill>
        <p:spPr>
          <a:xfrm>
            <a:off x="154080" y="6461280"/>
            <a:ext cx="3252600" cy="2879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8"/>
          <p:cNvSpPr/>
          <p:nvPr/>
        </p:nvSpPr>
        <p:spPr>
          <a:xfrm>
            <a:off x="1389240" y="3220920"/>
            <a:ext cx="104644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00f0"/>
                </a:solidFill>
                <a:latin typeface="Comic Sans MS"/>
              </a:rPr>
              <a:t>Il ruolo del radioterapista oncologo nel 2010 ed oltre: risultati di un’indagine fra i soci AIRO</a:t>
            </a:r>
            <a:r>
              <a:rPr b="0" lang="en-US" sz="4800" spc="-1" strike="noStrike">
                <a:solidFill>
                  <a:srgbClr val="ae00f0"/>
                </a:solidFill>
                <a:latin typeface="Comic Sans MS Bold"/>
              </a:rPr>
              <a:t> </a:t>
            </a:r>
            <a:br>
              <a:rPr sz="4800"/>
            </a:br>
            <a:br>
              <a:rPr sz="4800"/>
            </a:br>
            <a:r>
              <a:rPr b="0" lang="it-IT" sz="1400" spc="-1" strike="noStrike">
                <a:solidFill>
                  <a:srgbClr val="0066ff"/>
                </a:solidFill>
                <a:latin typeface="Comic Sans MS"/>
              </a:rPr>
              <a:t>V.Ruggieri, S.Berretta, G.Apicella, P.LaMattina, P.Zeppegno, E.Torre, M.Krengli</a:t>
            </a:r>
            <a:br>
              <a:rPr sz="1400"/>
            </a:br>
            <a:r>
              <a:rPr b="0" lang="it-IT" sz="1400" spc="-1" strike="noStrike">
                <a:solidFill>
                  <a:srgbClr val="0066ff"/>
                </a:solidFill>
                <a:latin typeface="Comic Sans MS"/>
              </a:rPr>
              <a:t>Radioterapia.Azienda ospedaliero-universitaria Maggiore della Carità, Novara</a:t>
            </a:r>
            <a:br>
              <a:rPr sz="1400"/>
            </a:br>
            <a:r>
              <a:rPr b="0" lang="it-IT" sz="1400" spc="-1" strike="noStrike">
                <a:solidFill>
                  <a:srgbClr val="0066ff"/>
                </a:solidFill>
                <a:latin typeface="Comic Sans MS"/>
              </a:rPr>
              <a:t> Psichiatria. Azienda ospedaliero-universitaria Maggiore della Carità, Novar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7178760" y="8361360"/>
            <a:ext cx="5156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fe"/>
                </a:solidFill>
                <a:latin typeface="Comic Sans MS"/>
              </a:rPr>
              <a:t>Dr.ssa Valeria Ruggier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1965240" y="6821640"/>
            <a:ext cx="107964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Risultati LBQ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562040" y="3849840"/>
          <a:ext cx="9945720" cy="2894040"/>
        </p:xfrm>
        <a:graphic>
          <a:graphicData uri="http://schemas.openxmlformats.org/drawingml/2006/table">
            <a:tbl>
              <a:tblPr/>
              <a:tblGrid>
                <a:gridCol w="2460600"/>
                <a:gridCol w="1903320"/>
                <a:gridCol w="317520"/>
                <a:gridCol w="330480"/>
                <a:gridCol w="349200"/>
                <a:gridCol w="311040"/>
                <a:gridCol w="336600"/>
                <a:gridCol w="368280"/>
                <a:gridCol w="355680"/>
                <a:gridCol w="368280"/>
                <a:gridCol w="342720"/>
                <a:gridCol w="2502000"/>
              </a:tblGrid>
              <a:tr h="69372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polo pos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77fe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632fd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e00f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8500a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6008d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44fe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3d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2d99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polo neg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saurimento psicofi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ne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ae00f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saur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Deterioramento della rel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coinvolg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ae00f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deterior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nefficacia profess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ffica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ae00f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neffica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Disillus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oddisf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ae00f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disillus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Line 206"/>
          <p:cNvSpPr/>
          <p:nvPr/>
        </p:nvSpPr>
        <p:spPr>
          <a:xfrm>
            <a:off x="7581960" y="4732200"/>
            <a:ext cx="13683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209"/>
          <p:cNvSpPr/>
          <p:nvPr/>
        </p:nvSpPr>
        <p:spPr>
          <a:xfrm>
            <a:off x="7655040" y="6461280"/>
            <a:ext cx="13683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Line 210"/>
          <p:cNvSpPr/>
          <p:nvPr/>
        </p:nvSpPr>
        <p:spPr>
          <a:xfrm>
            <a:off x="7655040" y="5884920"/>
            <a:ext cx="13683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Line 211"/>
          <p:cNvSpPr/>
          <p:nvPr/>
        </p:nvSpPr>
        <p:spPr>
          <a:xfrm flipH="1">
            <a:off x="5925600" y="4732200"/>
            <a:ext cx="1297080" cy="0"/>
          </a:xfrm>
          <a:prstGeom prst="line">
            <a:avLst/>
          </a:prstGeom>
          <a:ln w="25560">
            <a:solidFill>
              <a:srgbClr val="db8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Line 212"/>
          <p:cNvSpPr/>
          <p:nvPr/>
        </p:nvSpPr>
        <p:spPr>
          <a:xfrm flipH="1">
            <a:off x="5925600" y="5884920"/>
            <a:ext cx="1297080" cy="0"/>
          </a:xfrm>
          <a:prstGeom prst="line">
            <a:avLst/>
          </a:prstGeom>
          <a:ln w="25560">
            <a:solidFill>
              <a:srgbClr val="db8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Line 213"/>
          <p:cNvSpPr/>
          <p:nvPr/>
        </p:nvSpPr>
        <p:spPr>
          <a:xfrm flipH="1">
            <a:off x="5925600" y="6461280"/>
            <a:ext cx="1297080" cy="0"/>
          </a:xfrm>
          <a:prstGeom prst="line">
            <a:avLst/>
          </a:prstGeom>
          <a:ln w="25560">
            <a:solidFill>
              <a:srgbClr val="db8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Line 215"/>
          <p:cNvSpPr/>
          <p:nvPr/>
        </p:nvSpPr>
        <p:spPr>
          <a:xfrm flipH="1">
            <a:off x="5925600" y="5237280"/>
            <a:ext cx="1584360" cy="0"/>
          </a:xfrm>
          <a:prstGeom prst="line">
            <a:avLst/>
          </a:prstGeom>
          <a:ln w="28440">
            <a:solidFill>
              <a:srgbClr val="db8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3" name="Group 217"/>
          <p:cNvGrpSpPr/>
          <p:nvPr/>
        </p:nvGrpSpPr>
        <p:grpSpPr>
          <a:xfrm>
            <a:off x="1600200" y="7175520"/>
            <a:ext cx="9944280" cy="2006640"/>
            <a:chOff x="1600200" y="7175520"/>
            <a:chExt cx="9944280" cy="2006640"/>
          </a:xfrm>
        </p:grpSpPr>
        <p:sp>
          <p:nvSpPr>
            <p:cNvPr id="664" name="Rectangle 218"/>
            <p:cNvSpPr/>
            <p:nvPr/>
          </p:nvSpPr>
          <p:spPr>
            <a:xfrm>
              <a:off x="1600200" y="7175520"/>
              <a:ext cx="9944280" cy="2006640"/>
            </a:xfrm>
            <a:prstGeom prst="rect">
              <a:avLst/>
            </a:prstGeom>
            <a:solidFill>
              <a:srgbClr val="ae00f0"/>
            </a:solidFill>
            <a:ln w="12600">
              <a:solidFill>
                <a:srgbClr val="db8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Rectangle 219"/>
            <p:cNvSpPr/>
            <p:nvPr/>
          </p:nvSpPr>
          <p:spPr>
            <a:xfrm>
              <a:off x="1600200" y="7175520"/>
              <a:ext cx="99442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- 24 medici non hanno compilato il questionario burnout. 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- Medici con esaurimento psicofisico: 4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- Medici con deterioramento relazione: 1 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- Medici con inefficacia professionale: 2 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- Medici con disillusione: 2 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- Medici globalmente in Burnout (media &gt; 7): 3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Conclusioni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669960" y="8045280"/>
          <a:ext cx="7848720" cy="1311480"/>
        </p:xfrm>
        <a:graphic>
          <a:graphicData uri="http://schemas.openxmlformats.org/drawingml/2006/table">
            <a:tbl>
              <a:tblPr/>
              <a:tblGrid>
                <a:gridCol w="1963800"/>
                <a:gridCol w="1963800"/>
                <a:gridCol w="1957320"/>
                <a:gridCol w="196380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specializzazione in radioterapia nel prossimo futur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n esisterà pi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rà più limit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rà più diff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8" name="Picture 107" descr="stress93"/>
          <p:cNvPicPr/>
          <p:nvPr/>
        </p:nvPicPr>
        <p:blipFill>
          <a:blip r:embed="rId1"/>
          <a:stretch/>
        </p:blipFill>
        <p:spPr>
          <a:xfrm>
            <a:off x="9958320" y="5092560"/>
            <a:ext cx="2036880" cy="22258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08" descr="tired_husband"/>
          <p:cNvPicPr/>
          <p:nvPr/>
        </p:nvPicPr>
        <p:blipFill>
          <a:blip r:embed="rId2"/>
          <a:stretch/>
        </p:blipFill>
        <p:spPr>
          <a:xfrm>
            <a:off x="814320" y="2284560"/>
            <a:ext cx="1952640" cy="28191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09" descr="bersaglio"/>
          <p:cNvPicPr/>
          <p:nvPr/>
        </p:nvPicPr>
        <p:blipFill>
          <a:blip r:embed="rId3"/>
          <a:stretch/>
        </p:blipFill>
        <p:spPr>
          <a:xfrm>
            <a:off x="3765600" y="2355840"/>
            <a:ext cx="6053040" cy="363204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10"/>
          <p:cNvSpPr/>
          <p:nvPr/>
        </p:nvSpPr>
        <p:spPr>
          <a:xfrm>
            <a:off x="6051600" y="300528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divisio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Text Box 111"/>
          <p:cNvSpPr/>
          <p:nvPr/>
        </p:nvSpPr>
        <p:spPr>
          <a:xfrm>
            <a:off x="6502320" y="3436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BQ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Text Box 112"/>
          <p:cNvSpPr/>
          <p:nvPr/>
        </p:nvSpPr>
        <p:spPr>
          <a:xfrm>
            <a:off x="6502320" y="3652920"/>
            <a:ext cx="6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j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Text Box 117"/>
          <p:cNvSpPr/>
          <p:nvPr/>
        </p:nvSpPr>
        <p:spPr>
          <a:xfrm>
            <a:off x="1225440" y="16574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5" name="Group 125"/>
          <p:cNvGrpSpPr/>
          <p:nvPr/>
        </p:nvGrpSpPr>
        <p:grpSpPr>
          <a:xfrm>
            <a:off x="741240" y="3147840"/>
            <a:ext cx="2087640" cy="1158840"/>
            <a:chOff x="741240" y="3147840"/>
            <a:chExt cx="2087640" cy="1158840"/>
          </a:xfrm>
        </p:grpSpPr>
        <p:sp>
          <p:nvSpPr>
            <p:cNvPr id="676" name="Line 118"/>
            <p:cNvSpPr/>
            <p:nvPr/>
          </p:nvSpPr>
          <p:spPr>
            <a:xfrm>
              <a:off x="812520" y="3177720"/>
              <a:ext cx="2016360" cy="112896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7" name="Line 122"/>
            <p:cNvSpPr/>
            <p:nvPr/>
          </p:nvSpPr>
          <p:spPr>
            <a:xfrm flipH="1">
              <a:off x="812160" y="3219120"/>
              <a:ext cx="2016360" cy="100800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8" name="Rectangle 123"/>
            <p:cNvSpPr/>
            <p:nvPr/>
          </p:nvSpPr>
          <p:spPr>
            <a:xfrm>
              <a:off x="741240" y="3147840"/>
              <a:ext cx="20160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9" name="Group 126"/>
          <p:cNvGrpSpPr/>
          <p:nvPr/>
        </p:nvGrpSpPr>
        <p:grpSpPr>
          <a:xfrm>
            <a:off x="9887040" y="5956200"/>
            <a:ext cx="2087640" cy="1158840"/>
            <a:chOff x="9887040" y="5956200"/>
            <a:chExt cx="2087640" cy="1158840"/>
          </a:xfrm>
        </p:grpSpPr>
        <p:sp>
          <p:nvSpPr>
            <p:cNvPr id="680" name="Line 127"/>
            <p:cNvSpPr/>
            <p:nvPr/>
          </p:nvSpPr>
          <p:spPr>
            <a:xfrm>
              <a:off x="9958320" y="5986080"/>
              <a:ext cx="2016360" cy="112896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Line 128"/>
            <p:cNvSpPr/>
            <p:nvPr/>
          </p:nvSpPr>
          <p:spPr>
            <a:xfrm flipH="1">
              <a:off x="9957960" y="6027480"/>
              <a:ext cx="2016360" cy="100800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Rectangle 129"/>
            <p:cNvSpPr/>
            <p:nvPr/>
          </p:nvSpPr>
          <p:spPr>
            <a:xfrm>
              <a:off x="9887040" y="5956200"/>
              <a:ext cx="20160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3" name="Text Box 132"/>
          <p:cNvSpPr/>
          <p:nvPr/>
        </p:nvSpPr>
        <p:spPr>
          <a:xfrm>
            <a:off x="10481400" y="756432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Comic Sans MS"/>
              </a:rPr>
              <a:t>Stres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Text Box 133"/>
          <p:cNvSpPr/>
          <p:nvPr/>
        </p:nvSpPr>
        <p:spPr>
          <a:xfrm>
            <a:off x="690120" y="5408640"/>
            <a:ext cx="20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Comic Sans MS"/>
              </a:rPr>
              <a:t>Esaurimento</a:t>
            </a:r>
            <a:r>
              <a:rPr b="0" lang="it-IT" sz="16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0066ff"/>
                </a:solidFill>
                <a:latin typeface="Comic Sans MS"/>
              </a:rPr>
              <a:t>fisic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1"/>
          <p:cNvGrpSpPr/>
          <p:nvPr/>
        </p:nvGrpSpPr>
        <p:grpSpPr>
          <a:xfrm>
            <a:off x="8050320" y="2550960"/>
            <a:ext cx="2439720" cy="1271520"/>
            <a:chOff x="8050320" y="2550960"/>
            <a:chExt cx="2439720" cy="1271520"/>
          </a:xfrm>
        </p:grpSpPr>
        <p:sp>
          <p:nvSpPr>
            <p:cNvPr id="535" name="AutoShape 2"/>
            <p:cNvSpPr/>
            <p:nvPr/>
          </p:nvSpPr>
          <p:spPr>
            <a:xfrm>
              <a:off x="8050320" y="2550960"/>
              <a:ext cx="2439720" cy="1271520"/>
            </a:xfrm>
            <a:custGeom>
              <a:avLst/>
              <a:gdLst/>
              <a:ahLst/>
              <a:rect l="l" t="t" r="r" b="b"/>
              <a:pathLst>
                <a:path w="20308" h="19493">
                  <a:moveTo>
                    <a:pt x="3184" y="14330"/>
                  </a:moveTo>
                  <a:cubicBezTo>
                    <a:pt x="822" y="9581"/>
                    <a:pt x="2500" y="3678"/>
                    <a:pt x="6933" y="1147"/>
                  </a:cubicBezTo>
                  <a:cubicBezTo>
                    <a:pt x="11367" y="-1384"/>
                    <a:pt x="16875" y="415"/>
                    <a:pt x="19238" y="5164"/>
                  </a:cubicBezTo>
                  <a:cubicBezTo>
                    <a:pt x="21600" y="9914"/>
                    <a:pt x="19921" y="15817"/>
                    <a:pt x="15488" y="18348"/>
                  </a:cubicBezTo>
                  <a:cubicBezTo>
                    <a:pt x="12216" y="20216"/>
                    <a:pt x="8213" y="19769"/>
                    <a:pt x="5371" y="17218"/>
                  </a:cubicBezTo>
                  <a:lnTo>
                    <a:pt x="0" y="19493"/>
                  </a:lnTo>
                  <a:lnTo>
                    <a:pt x="3184" y="14330"/>
                  </a:lnTo>
                  <a:close/>
                  <a:moveTo>
                    <a:pt x="3184" y="14330"/>
                  </a:moveTo>
                </a:path>
              </a:pathLst>
            </a:custGeom>
            <a:solidFill>
              <a:srgbClr val="ae00f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6" name="Rectangle 3"/>
            <p:cNvSpPr/>
            <p:nvPr/>
          </p:nvSpPr>
          <p:spPr>
            <a:xfrm>
              <a:off x="8621640" y="3026160"/>
              <a:ext cx="1586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alpractice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7" name="Group 4"/>
          <p:cNvGrpSpPr/>
          <p:nvPr/>
        </p:nvGrpSpPr>
        <p:grpSpPr>
          <a:xfrm>
            <a:off x="8420040" y="4025880"/>
            <a:ext cx="1943280" cy="1270080"/>
            <a:chOff x="8420040" y="4025880"/>
            <a:chExt cx="1943280" cy="1270080"/>
          </a:xfrm>
        </p:grpSpPr>
        <p:sp>
          <p:nvSpPr>
            <p:cNvPr id="538" name="AutoShape 5"/>
            <p:cNvSpPr/>
            <p:nvPr/>
          </p:nvSpPr>
          <p:spPr>
            <a:xfrm>
              <a:off x="8420040" y="4025880"/>
              <a:ext cx="1905120" cy="127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cubicBezTo>
                    <a:pt x="8489" y="0"/>
                    <a:pt x="7200" y="1934"/>
                    <a:pt x="7200" y="4320"/>
                  </a:cubicBezTo>
                  <a:lnTo>
                    <a:pt x="7200" y="8640"/>
                  </a:lnTo>
                  <a:lnTo>
                    <a:pt x="0" y="10800"/>
                  </a:lnTo>
                  <a:lnTo>
                    <a:pt x="7200" y="12960"/>
                  </a:lnTo>
                  <a:lnTo>
                    <a:pt x="7200" y="17280"/>
                  </a:lnTo>
                  <a:cubicBezTo>
                    <a:pt x="7200" y="19666"/>
                    <a:pt x="8489" y="21600"/>
                    <a:pt x="10080" y="21600"/>
                  </a:cubicBezTo>
                  <a:lnTo>
                    <a:pt x="18720" y="21600"/>
                  </a:lnTo>
                  <a:cubicBezTo>
                    <a:pt x="20311" y="21600"/>
                    <a:pt x="21600" y="19666"/>
                    <a:pt x="21600" y="17280"/>
                  </a:cubicBezTo>
                  <a:lnTo>
                    <a:pt x="21600" y="4320"/>
                  </a:lnTo>
                  <a:cubicBezTo>
                    <a:pt x="21600" y="1934"/>
                    <a:pt x="20311" y="0"/>
                    <a:pt x="18720" y="0"/>
                  </a:cubicBezTo>
                  <a:lnTo>
                    <a:pt x="10080" y="0"/>
                  </a:lnTo>
                  <a:close/>
                  <a:moveTo>
                    <a:pt x="10080" y="0"/>
                  </a:moveTo>
                </a:path>
              </a:pathLst>
            </a:custGeom>
            <a:solidFill>
              <a:srgbClr val="ff7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9" name="Rectangle 6"/>
            <p:cNvSpPr/>
            <p:nvPr/>
          </p:nvSpPr>
          <p:spPr>
            <a:xfrm>
              <a:off x="9055080" y="4305240"/>
              <a:ext cx="130824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LBQ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0" name="Group 7"/>
          <p:cNvGrpSpPr/>
          <p:nvPr/>
        </p:nvGrpSpPr>
        <p:grpSpPr>
          <a:xfrm>
            <a:off x="7783560" y="6603840"/>
            <a:ext cx="1841400" cy="1270080"/>
            <a:chOff x="7783560" y="6603840"/>
            <a:chExt cx="1841400" cy="1270080"/>
          </a:xfrm>
        </p:grpSpPr>
        <p:sp>
          <p:nvSpPr>
            <p:cNvPr id="541" name="AutoShape 8"/>
            <p:cNvSpPr/>
            <p:nvPr/>
          </p:nvSpPr>
          <p:spPr>
            <a:xfrm>
              <a:off x="7783560" y="6603840"/>
              <a:ext cx="1805040" cy="127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389" y="5319"/>
                  </a:lnTo>
                  <a:lnTo>
                    <a:pt x="6389" y="17280"/>
                  </a:lnTo>
                  <a:cubicBezTo>
                    <a:pt x="6389" y="19666"/>
                    <a:pt x="7751" y="21600"/>
                    <a:pt x="9431" y="21600"/>
                  </a:cubicBezTo>
                  <a:lnTo>
                    <a:pt x="18558" y="21600"/>
                  </a:lnTo>
                  <a:cubicBezTo>
                    <a:pt x="20238" y="21600"/>
                    <a:pt x="21600" y="19666"/>
                    <a:pt x="21600" y="17280"/>
                  </a:cubicBezTo>
                  <a:lnTo>
                    <a:pt x="21600" y="4320"/>
                  </a:lnTo>
                  <a:cubicBezTo>
                    <a:pt x="21600" y="1934"/>
                    <a:pt x="20238" y="0"/>
                    <a:pt x="18558" y="0"/>
                  </a:cubicBezTo>
                  <a:lnTo>
                    <a:pt x="9431" y="0"/>
                  </a:lnTo>
                  <a:cubicBezTo>
                    <a:pt x="8695" y="0"/>
                    <a:pt x="8027" y="382"/>
                    <a:pt x="7501" y="999"/>
                  </a:cubicBez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7f007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8317080" y="7029360"/>
              <a:ext cx="13078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Burnou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3" name="Group 10"/>
          <p:cNvGrpSpPr/>
          <p:nvPr/>
        </p:nvGrpSpPr>
        <p:grpSpPr>
          <a:xfrm>
            <a:off x="6070680" y="7047000"/>
            <a:ext cx="2489040" cy="2135160"/>
            <a:chOff x="6070680" y="7047000"/>
            <a:chExt cx="2489040" cy="2135160"/>
          </a:xfrm>
        </p:grpSpPr>
        <p:sp>
          <p:nvSpPr>
            <p:cNvPr id="544" name="AutoShape 11"/>
            <p:cNvSpPr/>
            <p:nvPr/>
          </p:nvSpPr>
          <p:spPr>
            <a:xfrm>
              <a:off x="6070680" y="7047000"/>
              <a:ext cx="2451240" cy="213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38" y="0"/>
                  </a:moveTo>
                  <a:lnTo>
                    <a:pt x="1070" y="9129"/>
                  </a:lnTo>
                  <a:cubicBezTo>
                    <a:pt x="430" y="9581"/>
                    <a:pt x="0" y="10388"/>
                    <a:pt x="0" y="11314"/>
                  </a:cubicBezTo>
                  <a:lnTo>
                    <a:pt x="0" y="19029"/>
                  </a:lnTo>
                  <a:cubicBezTo>
                    <a:pt x="0" y="20449"/>
                    <a:pt x="1002" y="21600"/>
                    <a:pt x="2238" y="21600"/>
                  </a:cubicBezTo>
                  <a:lnTo>
                    <a:pt x="19362" y="21600"/>
                  </a:lnTo>
                  <a:cubicBezTo>
                    <a:pt x="20598" y="21600"/>
                    <a:pt x="21600" y="20449"/>
                    <a:pt x="21600" y="19029"/>
                  </a:cubicBezTo>
                  <a:lnTo>
                    <a:pt x="21600" y="11314"/>
                  </a:lnTo>
                  <a:cubicBezTo>
                    <a:pt x="21600" y="9894"/>
                    <a:pt x="20598" y="8743"/>
                    <a:pt x="19362" y="8743"/>
                  </a:cubicBezTo>
                  <a:lnTo>
                    <a:pt x="3358" y="8743"/>
                  </a:lnTo>
                  <a:lnTo>
                    <a:pt x="2238" y="0"/>
                  </a:lnTo>
                  <a:close/>
                  <a:moveTo>
                    <a:pt x="2238" y="0"/>
                  </a:moveTo>
                </a:path>
              </a:pathLst>
            </a:custGeom>
            <a:solidFill>
              <a:srgbClr val="dd2067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6070680" y="8386920"/>
              <a:ext cx="24890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ultidisciplinarietà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6" name="Group 13"/>
          <p:cNvGrpSpPr/>
          <p:nvPr/>
        </p:nvGrpSpPr>
        <p:grpSpPr>
          <a:xfrm>
            <a:off x="6858000" y="1585800"/>
            <a:ext cx="1676520" cy="1511280"/>
            <a:chOff x="6858000" y="1585800"/>
            <a:chExt cx="1676520" cy="1511280"/>
          </a:xfrm>
        </p:grpSpPr>
        <p:sp>
          <p:nvSpPr>
            <p:cNvPr id="547" name="AutoShape 14"/>
            <p:cNvSpPr/>
            <p:nvPr/>
          </p:nvSpPr>
          <p:spPr>
            <a:xfrm>
              <a:off x="6858000" y="1585800"/>
              <a:ext cx="1638360" cy="151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372" y="0"/>
                  </a:moveTo>
                  <a:cubicBezTo>
                    <a:pt x="3748" y="0"/>
                    <a:pt x="0" y="4063"/>
                    <a:pt x="0" y="9076"/>
                  </a:cubicBezTo>
                  <a:lnTo>
                    <a:pt x="0" y="11072"/>
                  </a:lnTo>
                  <a:cubicBezTo>
                    <a:pt x="0" y="13825"/>
                    <a:pt x="1155" y="16260"/>
                    <a:pt x="2941" y="17924"/>
                  </a:cubicBezTo>
                  <a:lnTo>
                    <a:pt x="2344" y="21600"/>
                  </a:lnTo>
                  <a:lnTo>
                    <a:pt x="6237" y="19808"/>
                  </a:lnTo>
                  <a:cubicBezTo>
                    <a:pt x="6923" y="20005"/>
                    <a:pt x="7629" y="20148"/>
                    <a:pt x="8372" y="20148"/>
                  </a:cubicBezTo>
                  <a:lnTo>
                    <a:pt x="13228" y="20148"/>
                  </a:lnTo>
                  <a:cubicBezTo>
                    <a:pt x="17852" y="20148"/>
                    <a:pt x="21600" y="16085"/>
                    <a:pt x="21600" y="11072"/>
                  </a:cubicBezTo>
                  <a:lnTo>
                    <a:pt x="21600" y="9076"/>
                  </a:lnTo>
                  <a:cubicBezTo>
                    <a:pt x="21600" y="4063"/>
                    <a:pt x="17852" y="0"/>
                    <a:pt x="13228" y="0"/>
                  </a:cubicBezTo>
                  <a:lnTo>
                    <a:pt x="8372" y="0"/>
                  </a:lnTo>
                  <a:close/>
                  <a:moveTo>
                    <a:pt x="8372" y="0"/>
                  </a:moveTo>
                </a:path>
              </a:pathLst>
            </a:custGeom>
            <a:solidFill>
              <a:srgbClr val="a072fd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6858000" y="1973160"/>
              <a:ext cx="1676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JSS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9" name="Group 16"/>
          <p:cNvGrpSpPr/>
          <p:nvPr/>
        </p:nvGrpSpPr>
        <p:grpSpPr>
          <a:xfrm>
            <a:off x="8354880" y="5396040"/>
            <a:ext cx="3646440" cy="1269720"/>
            <a:chOff x="8354880" y="5396040"/>
            <a:chExt cx="3646440" cy="1269720"/>
          </a:xfrm>
        </p:grpSpPr>
        <p:sp>
          <p:nvSpPr>
            <p:cNvPr id="550" name="AutoShape 17"/>
            <p:cNvSpPr/>
            <p:nvPr/>
          </p:nvSpPr>
          <p:spPr>
            <a:xfrm>
              <a:off x="8354880" y="5396040"/>
              <a:ext cx="3646440" cy="1269720"/>
            </a:xfrm>
            <a:custGeom>
              <a:avLst/>
              <a:gdLst/>
              <a:ahLst/>
              <a:rect l="l" t="t" r="r" b="b"/>
              <a:pathLst>
                <a:path w="20459" h="19131">
                  <a:moveTo>
                    <a:pt x="4622" y="3722"/>
                  </a:moveTo>
                  <a:cubicBezTo>
                    <a:pt x="7605" y="-460"/>
                    <a:pt x="13156" y="-1234"/>
                    <a:pt x="17020" y="1994"/>
                  </a:cubicBezTo>
                  <a:cubicBezTo>
                    <a:pt x="20885" y="5221"/>
                    <a:pt x="21600" y="11228"/>
                    <a:pt x="18617" y="15410"/>
                  </a:cubicBezTo>
                  <a:cubicBezTo>
                    <a:pt x="15635" y="19592"/>
                    <a:pt x="10084" y="20366"/>
                    <a:pt x="6219" y="17138"/>
                  </a:cubicBezTo>
                  <a:cubicBezTo>
                    <a:pt x="3367" y="14756"/>
                    <a:pt x="2136" y="10739"/>
                    <a:pt x="3108" y="6984"/>
                  </a:cubicBezTo>
                  <a:lnTo>
                    <a:pt x="0" y="3253"/>
                  </a:lnTo>
                  <a:lnTo>
                    <a:pt x="4622" y="3722"/>
                  </a:lnTo>
                  <a:close/>
                  <a:moveTo>
                    <a:pt x="4622" y="3722"/>
                  </a:moveTo>
                </a:path>
              </a:pathLst>
            </a:custGeom>
            <a:solidFill>
              <a:srgbClr val="66b132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9313560" y="5608440"/>
              <a:ext cx="226080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aggiornamento continuo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52" name="AutoShape 19"/>
          <p:cNvSpPr/>
          <p:nvPr/>
        </p:nvSpPr>
        <p:spPr>
          <a:xfrm>
            <a:off x="4237200" y="1622520"/>
            <a:ext cx="2222280" cy="1552320"/>
          </a:xfrm>
          <a:custGeom>
            <a:avLst/>
            <a:gdLst/>
            <a:ahLst/>
            <a:rect l="l" t="t" r="r" b="b"/>
            <a:pathLst>
              <a:path w="21093" h="21357">
                <a:moveTo>
                  <a:pt x="11105" y="17494"/>
                </a:moveTo>
                <a:cubicBezTo>
                  <a:pt x="5288" y="17750"/>
                  <a:pt x="323" y="14044"/>
                  <a:pt x="15" y="9217"/>
                </a:cubicBezTo>
                <a:cubicBezTo>
                  <a:pt x="-294" y="4390"/>
                  <a:pt x="4171" y="269"/>
                  <a:pt x="9988" y="13"/>
                </a:cubicBezTo>
                <a:cubicBezTo>
                  <a:pt x="15804" y="-243"/>
                  <a:pt x="20770" y="3463"/>
                  <a:pt x="21078" y="8290"/>
                </a:cubicBezTo>
                <a:cubicBezTo>
                  <a:pt x="21306" y="11853"/>
                  <a:pt x="18905" y="15174"/>
                  <a:pt x="15009" y="16684"/>
                </a:cubicBezTo>
                <a:lnTo>
                  <a:pt x="14343" y="21357"/>
                </a:lnTo>
                <a:lnTo>
                  <a:pt x="11105" y="17494"/>
                </a:lnTo>
                <a:close/>
                <a:moveTo>
                  <a:pt x="11105" y="17494"/>
                </a:moveTo>
              </a:path>
            </a:pathLst>
          </a:custGeom>
          <a:solidFill>
            <a:srgbClr val="4a00e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AutoShape 20"/>
          <p:cNvSpPr/>
          <p:nvPr/>
        </p:nvSpPr>
        <p:spPr>
          <a:xfrm flipH="1">
            <a:off x="1955160" y="2550960"/>
            <a:ext cx="2730600" cy="1270080"/>
          </a:xfrm>
          <a:custGeom>
            <a:avLst/>
            <a:gdLst/>
            <a:ahLst/>
            <a:rect l="l" t="t" r="r" b="b"/>
            <a:pathLst>
              <a:path w="20303" h="20225">
                <a:moveTo>
                  <a:pt x="3271" y="14660"/>
                </a:moveTo>
                <a:cubicBezTo>
                  <a:pt x="692" y="10049"/>
                  <a:pt x="2127" y="4094"/>
                  <a:pt x="6476" y="1359"/>
                </a:cubicBezTo>
                <a:cubicBezTo>
                  <a:pt x="10826" y="-1375"/>
                  <a:pt x="16442" y="147"/>
                  <a:pt x="19021" y="4758"/>
                </a:cubicBezTo>
                <a:cubicBezTo>
                  <a:pt x="21600" y="9369"/>
                  <a:pt x="20165" y="15324"/>
                  <a:pt x="15816" y="18059"/>
                </a:cubicBezTo>
                <a:cubicBezTo>
                  <a:pt x="12605" y="20077"/>
                  <a:pt x="8561" y="19827"/>
                  <a:pt x="5594" y="17427"/>
                </a:cubicBezTo>
                <a:lnTo>
                  <a:pt x="0" y="20225"/>
                </a:lnTo>
                <a:lnTo>
                  <a:pt x="3271" y="14660"/>
                </a:lnTo>
                <a:close/>
                <a:moveTo>
                  <a:pt x="3271" y="14660"/>
                </a:moveTo>
              </a:path>
            </a:pathLst>
          </a:custGeom>
          <a:solidFill>
            <a:srgbClr val="a072fd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AutoShape 21"/>
          <p:cNvSpPr/>
          <p:nvPr/>
        </p:nvSpPr>
        <p:spPr>
          <a:xfrm flipH="1">
            <a:off x="1930320" y="6502320"/>
            <a:ext cx="3213360" cy="130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909" y="9090"/>
                </a:lnTo>
                <a:cubicBezTo>
                  <a:pt x="2888" y="9339"/>
                  <a:pt x="2874" y="9594"/>
                  <a:pt x="2874" y="9856"/>
                </a:cubicBezTo>
                <a:lnTo>
                  <a:pt x="2874" y="17406"/>
                </a:lnTo>
                <a:cubicBezTo>
                  <a:pt x="2874" y="19722"/>
                  <a:pt x="3704" y="21600"/>
                  <a:pt x="4728" y="21600"/>
                </a:cubicBezTo>
                <a:lnTo>
                  <a:pt x="19746" y="21600"/>
                </a:lnTo>
                <a:cubicBezTo>
                  <a:pt x="20770" y="21600"/>
                  <a:pt x="21600" y="19722"/>
                  <a:pt x="21600" y="17406"/>
                </a:cubicBezTo>
                <a:lnTo>
                  <a:pt x="21600" y="9856"/>
                </a:lnTo>
                <a:cubicBezTo>
                  <a:pt x="21600" y="7540"/>
                  <a:pt x="20770" y="5662"/>
                  <a:pt x="19746" y="5662"/>
                </a:cubicBezTo>
                <a:lnTo>
                  <a:pt x="4728" y="5662"/>
                </a:lnTo>
                <a:cubicBezTo>
                  <a:pt x="4562" y="5662"/>
                  <a:pt x="4403" y="5726"/>
                  <a:pt x="4250" y="5819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00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AutoShape 22"/>
          <p:cNvSpPr/>
          <p:nvPr/>
        </p:nvSpPr>
        <p:spPr>
          <a:xfrm rot="10800000">
            <a:off x="4635360" y="7315200"/>
            <a:ext cx="12700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20" y="0"/>
                </a:moveTo>
                <a:cubicBezTo>
                  <a:pt x="1934" y="0"/>
                  <a:pt x="0" y="1791"/>
                  <a:pt x="0" y="4000"/>
                </a:cubicBezTo>
                <a:lnTo>
                  <a:pt x="0" y="11200"/>
                </a:lnTo>
                <a:cubicBezTo>
                  <a:pt x="0" y="12075"/>
                  <a:pt x="309" y="12879"/>
                  <a:pt x="824" y="13538"/>
                </a:cubicBezTo>
                <a:lnTo>
                  <a:pt x="0" y="21600"/>
                </a:lnTo>
                <a:lnTo>
                  <a:pt x="5150" y="15200"/>
                </a:lnTo>
                <a:lnTo>
                  <a:pt x="17280" y="15200"/>
                </a:lnTo>
                <a:cubicBezTo>
                  <a:pt x="19666" y="15200"/>
                  <a:pt x="21600" y="13409"/>
                  <a:pt x="21600" y="11200"/>
                </a:cubicBezTo>
                <a:lnTo>
                  <a:pt x="21600" y="4000"/>
                </a:lnTo>
                <a:cubicBezTo>
                  <a:pt x="21600" y="1791"/>
                  <a:pt x="19666" y="0"/>
                  <a:pt x="17280" y="0"/>
                </a:cubicBezTo>
                <a:lnTo>
                  <a:pt x="4320" y="0"/>
                </a:lnTo>
                <a:close/>
                <a:moveTo>
                  <a:pt x="4320" y="0"/>
                </a:moveTo>
              </a:path>
            </a:pathLst>
          </a:custGeom>
          <a:solidFill>
            <a:srgbClr val="0044fe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AutoShape 23"/>
          <p:cNvSpPr/>
          <p:nvPr/>
        </p:nvSpPr>
        <p:spPr>
          <a:xfrm flipH="1">
            <a:off x="2895480" y="5384880"/>
            <a:ext cx="1905120" cy="127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080" y="0"/>
                </a:moveTo>
                <a:cubicBezTo>
                  <a:pt x="8489" y="0"/>
                  <a:pt x="7200" y="1934"/>
                  <a:pt x="7200" y="4320"/>
                </a:cubicBezTo>
                <a:lnTo>
                  <a:pt x="7200" y="8640"/>
                </a:lnTo>
                <a:lnTo>
                  <a:pt x="0" y="10800"/>
                </a:lnTo>
                <a:lnTo>
                  <a:pt x="7200" y="12960"/>
                </a:lnTo>
                <a:lnTo>
                  <a:pt x="7200" y="17280"/>
                </a:lnTo>
                <a:cubicBezTo>
                  <a:pt x="7200" y="19666"/>
                  <a:pt x="8489" y="21600"/>
                  <a:pt x="10080" y="21600"/>
                </a:cubicBezTo>
                <a:lnTo>
                  <a:pt x="18720" y="21600"/>
                </a:lnTo>
                <a:cubicBezTo>
                  <a:pt x="20311" y="21600"/>
                  <a:pt x="21600" y="19666"/>
                  <a:pt x="21600" y="17280"/>
                </a:cubicBezTo>
                <a:lnTo>
                  <a:pt x="21600" y="4320"/>
                </a:lnTo>
                <a:cubicBezTo>
                  <a:pt x="21600" y="1934"/>
                  <a:pt x="20311" y="0"/>
                  <a:pt x="18720" y="0"/>
                </a:cubicBezTo>
                <a:lnTo>
                  <a:pt x="10080" y="0"/>
                </a:lnTo>
                <a:close/>
                <a:moveTo>
                  <a:pt x="10080" y="0"/>
                </a:moveTo>
              </a:path>
            </a:pathLst>
          </a:custGeom>
          <a:solidFill>
            <a:srgbClr val="febb6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AutoShape 24"/>
          <p:cNvSpPr/>
          <p:nvPr/>
        </p:nvSpPr>
        <p:spPr>
          <a:xfrm flipH="1">
            <a:off x="1080360" y="3868560"/>
            <a:ext cx="3405240" cy="1271880"/>
          </a:xfrm>
          <a:custGeom>
            <a:avLst/>
            <a:gdLst/>
            <a:ahLst/>
            <a:rect l="l" t="t" r="r" b="b"/>
            <a:pathLst>
              <a:path w="20268" h="19525">
                <a:moveTo>
                  <a:pt x="2747" y="14604"/>
                </a:moveTo>
                <a:cubicBezTo>
                  <a:pt x="179" y="9923"/>
                  <a:pt x="1742" y="3960"/>
                  <a:pt x="6239" y="1287"/>
                </a:cubicBezTo>
                <a:cubicBezTo>
                  <a:pt x="10736" y="-1387"/>
                  <a:pt x="16463" y="241"/>
                  <a:pt x="19032" y="4922"/>
                </a:cubicBezTo>
                <a:cubicBezTo>
                  <a:pt x="21600" y="9603"/>
                  <a:pt x="20037" y="15566"/>
                  <a:pt x="15540" y="18240"/>
                </a:cubicBezTo>
                <a:cubicBezTo>
                  <a:pt x="12221" y="20213"/>
                  <a:pt x="8083" y="19892"/>
                  <a:pt x="5082" y="17427"/>
                </a:cubicBezTo>
                <a:lnTo>
                  <a:pt x="0" y="19525"/>
                </a:lnTo>
                <a:lnTo>
                  <a:pt x="2747" y="14604"/>
                </a:lnTo>
                <a:close/>
                <a:moveTo>
                  <a:pt x="2747" y="14604"/>
                </a:moveTo>
              </a:path>
            </a:pathLst>
          </a:custGeom>
          <a:solidFill>
            <a:srgbClr val="d90b00"/>
          </a:solidFill>
          <a:ln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8" name="Group 25"/>
          <p:cNvGrpSpPr/>
          <p:nvPr/>
        </p:nvGrpSpPr>
        <p:grpSpPr>
          <a:xfrm>
            <a:off x="4673520" y="3187800"/>
            <a:ext cx="3645000" cy="3784680"/>
            <a:chOff x="4673520" y="3187800"/>
            <a:chExt cx="3645000" cy="3784680"/>
          </a:xfrm>
        </p:grpSpPr>
        <p:sp>
          <p:nvSpPr>
            <p:cNvPr id="559" name="Oval 26"/>
            <p:cNvSpPr/>
            <p:nvPr/>
          </p:nvSpPr>
          <p:spPr>
            <a:xfrm>
              <a:off x="4673520" y="3187800"/>
              <a:ext cx="3645000" cy="3784680"/>
            </a:xfrm>
            <a:prstGeom prst="ellipse">
              <a:avLst/>
            </a:prstGeom>
            <a:solidFill>
              <a:srgbClr val="ffff33"/>
            </a:solidFill>
            <a:ln w="25560">
              <a:solidFill>
                <a:srgbClr val="a072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5207040" y="3784680"/>
              <a:ext cx="26161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a00e6"/>
                  </a:solidFill>
                  <a:latin typeface="Comic Sans MS"/>
                </a:rPr>
                <a:t>Questionario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a00e6"/>
                  </a:solidFill>
                  <a:latin typeface="Comic Sans MS"/>
                </a:rPr>
                <a:t>on line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a00e6"/>
                  </a:solidFill>
                  <a:latin typeface="Comic Sans MS"/>
                </a:rPr>
                <a:t>a risposte chiuse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a00e6"/>
                  </a:solidFill>
                  <a:latin typeface="Comic Sans MS"/>
                </a:rPr>
                <a:t>anonimo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1" name="Rectangle 28"/>
          <p:cNvSpPr/>
          <p:nvPr/>
        </p:nvSpPr>
        <p:spPr>
          <a:xfrm>
            <a:off x="1453320" y="4350960"/>
            <a:ext cx="230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tività didatt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9"/>
          <p:cNvSpPr/>
          <p:nvPr/>
        </p:nvSpPr>
        <p:spPr>
          <a:xfrm>
            <a:off x="3209400" y="5713560"/>
            <a:ext cx="678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tà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0"/>
          <p:cNvSpPr/>
          <p:nvPr/>
        </p:nvSpPr>
        <p:spPr>
          <a:xfrm>
            <a:off x="2072160" y="299880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perienze formativ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31"/>
          <p:cNvSpPr/>
          <p:nvPr/>
        </p:nvSpPr>
        <p:spPr>
          <a:xfrm>
            <a:off x="4422240" y="2135160"/>
            <a:ext cx="186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ttività scientific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32"/>
          <p:cNvSpPr/>
          <p:nvPr/>
        </p:nvSpPr>
        <p:spPr>
          <a:xfrm>
            <a:off x="4893840" y="8008560"/>
            <a:ext cx="79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ss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33"/>
          <p:cNvSpPr/>
          <p:nvPr/>
        </p:nvSpPr>
        <p:spPr>
          <a:xfrm>
            <a:off x="1991520" y="7164360"/>
            <a:ext cx="26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perienza professional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4"/>
          <p:cNvSpPr/>
          <p:nvPr/>
        </p:nvSpPr>
        <p:spPr>
          <a:xfrm>
            <a:off x="1270080" y="171360"/>
            <a:ext cx="10515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Materiali</a:t>
            </a:r>
            <a:r>
              <a:rPr b="0" lang="en-US" sz="4800" spc="-1" strike="noStrike">
                <a:solidFill>
                  <a:srgbClr val="ae00f0"/>
                </a:solidFill>
                <a:latin typeface="Comic Sans MS Bold"/>
              </a:rPr>
              <a:t> </a:t>
            </a: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e Metodi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Object 2"/>
          <p:cNvGraphicFramePr/>
          <p:nvPr/>
        </p:nvGraphicFramePr>
        <p:xfrm>
          <a:off x="1509840" y="2496960"/>
          <a:ext cx="9942480" cy="621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2496960"/>
                    <a:ext cx="9942480" cy="62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828880" y="1622520"/>
          <a:ext cx="7489800" cy="2174760"/>
        </p:xfrm>
        <a:graphic>
          <a:graphicData uri="http://schemas.openxmlformats.org/drawingml/2006/table">
            <a:tbl>
              <a:tblPr/>
              <a:tblGrid>
                <a:gridCol w="2497320"/>
                <a:gridCol w="2495520"/>
                <a:gridCol w="2496960"/>
              </a:tblGrid>
              <a:tr h="1087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Tot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es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t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68/7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M: 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F: 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Mediana 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Range 26-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-321120"/>
            <a:ext cx="10464840" cy="244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Risultati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30"/>
          <p:cNvSpPr/>
          <p:nvPr/>
        </p:nvSpPr>
        <p:spPr>
          <a:xfrm>
            <a:off x="1893960" y="3652920"/>
            <a:ext cx="720720" cy="51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Object 1"/>
          <p:cNvGraphicFramePr/>
          <p:nvPr/>
        </p:nvGraphicFramePr>
        <p:xfrm>
          <a:off x="-266760" y="3784680"/>
          <a:ext cx="7272360" cy="58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6760" y="3784680"/>
                    <a:ext cx="7272360" cy="58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"/>
          <p:cNvGraphicFramePr/>
          <p:nvPr/>
        </p:nvGraphicFramePr>
        <p:xfrm>
          <a:off x="5229360" y="1636560"/>
          <a:ext cx="8402400" cy="466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29360" y="1636560"/>
                    <a:ext cx="840240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-37944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Esperienza professional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5492160" y="7678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48%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4052520" y="81820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26%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2326680" y="8397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742320" y="85485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2" name="Object 16"/>
          <p:cNvGraphicFramePr/>
          <p:nvPr/>
        </p:nvGraphicFramePr>
        <p:xfrm>
          <a:off x="6426360" y="5676840"/>
          <a:ext cx="6053040" cy="3827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3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6360" y="5676840"/>
                    <a:ext cx="605304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19"/>
          <p:cNvSpPr/>
          <p:nvPr/>
        </p:nvSpPr>
        <p:spPr>
          <a:xfrm>
            <a:off x="9834480" y="197172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nni di esperien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Rectangle 20"/>
          <p:cNvSpPr/>
          <p:nvPr/>
        </p:nvSpPr>
        <p:spPr>
          <a:xfrm>
            <a:off x="0" y="5740560"/>
            <a:ext cx="45396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1"/>
          <p:cNvSpPr/>
          <p:nvPr/>
        </p:nvSpPr>
        <p:spPr>
          <a:xfrm>
            <a:off x="6431040" y="5524560"/>
            <a:ext cx="619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Rectangle 22"/>
          <p:cNvSpPr/>
          <p:nvPr/>
        </p:nvSpPr>
        <p:spPr>
          <a:xfrm>
            <a:off x="6431040" y="5740560"/>
            <a:ext cx="50472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Rectangle 23"/>
          <p:cNvSpPr/>
          <p:nvPr/>
        </p:nvSpPr>
        <p:spPr>
          <a:xfrm>
            <a:off x="12119040" y="5597640"/>
            <a:ext cx="360360" cy="41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Rectangle 24"/>
          <p:cNvSpPr/>
          <p:nvPr/>
        </p:nvSpPr>
        <p:spPr>
          <a:xfrm>
            <a:off x="11111040" y="5597640"/>
            <a:ext cx="144360" cy="39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25"/>
          <p:cNvSpPr/>
          <p:nvPr/>
        </p:nvSpPr>
        <p:spPr>
          <a:xfrm>
            <a:off x="6431040" y="9414000"/>
            <a:ext cx="6048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1" name="Group 35"/>
          <p:cNvGrpSpPr/>
          <p:nvPr/>
        </p:nvGrpSpPr>
        <p:grpSpPr>
          <a:xfrm>
            <a:off x="11542680" y="6676920"/>
            <a:ext cx="936720" cy="2087640"/>
            <a:chOff x="11542680" y="6676920"/>
            <a:chExt cx="936720" cy="2087640"/>
          </a:xfrm>
        </p:grpSpPr>
        <p:sp>
          <p:nvSpPr>
            <p:cNvPr id="592" name="Rectangle 31"/>
            <p:cNvSpPr/>
            <p:nvPr/>
          </p:nvSpPr>
          <p:spPr>
            <a:xfrm>
              <a:off x="11542680" y="6676920"/>
              <a:ext cx="144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3" name="Rectangle 32"/>
            <p:cNvSpPr/>
            <p:nvPr/>
          </p:nvSpPr>
          <p:spPr>
            <a:xfrm>
              <a:off x="12190320" y="6676920"/>
              <a:ext cx="28908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Rectangle 33"/>
            <p:cNvSpPr/>
            <p:nvPr/>
          </p:nvSpPr>
          <p:spPr>
            <a:xfrm>
              <a:off x="11542680" y="8477280"/>
              <a:ext cx="216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5" name="Rectangle 34"/>
            <p:cNvSpPr/>
            <p:nvPr/>
          </p:nvSpPr>
          <p:spPr>
            <a:xfrm>
              <a:off x="12190320" y="8477280"/>
              <a:ext cx="1429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6" name="Group 40"/>
          <p:cNvGrpSpPr/>
          <p:nvPr/>
        </p:nvGrpSpPr>
        <p:grpSpPr>
          <a:xfrm>
            <a:off x="10966320" y="5884920"/>
            <a:ext cx="1657440" cy="3168720"/>
            <a:chOff x="10966320" y="5884920"/>
            <a:chExt cx="1657440" cy="3168720"/>
          </a:xfrm>
        </p:grpSpPr>
        <p:sp>
          <p:nvSpPr>
            <p:cNvPr id="597" name="Rectangle 36"/>
            <p:cNvSpPr/>
            <p:nvPr/>
          </p:nvSpPr>
          <p:spPr>
            <a:xfrm>
              <a:off x="11039400" y="5884920"/>
              <a:ext cx="1584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Rectangle 37"/>
            <p:cNvSpPr/>
            <p:nvPr/>
          </p:nvSpPr>
          <p:spPr>
            <a:xfrm>
              <a:off x="10966320" y="6245280"/>
              <a:ext cx="289080" cy="27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Rectangle 38"/>
            <p:cNvSpPr/>
            <p:nvPr/>
          </p:nvSpPr>
          <p:spPr>
            <a:xfrm>
              <a:off x="11182320" y="8621640"/>
              <a:ext cx="136836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0" name="Rectangle 39"/>
            <p:cNvSpPr/>
            <p:nvPr/>
          </p:nvSpPr>
          <p:spPr>
            <a:xfrm>
              <a:off x="11542680" y="7972560"/>
              <a:ext cx="2890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01" name="Text Box 41"/>
          <p:cNvSpPr/>
          <p:nvPr/>
        </p:nvSpPr>
        <p:spPr>
          <a:xfrm>
            <a:off x="10966320" y="6676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Text Box 42"/>
          <p:cNvSpPr/>
          <p:nvPr/>
        </p:nvSpPr>
        <p:spPr>
          <a:xfrm>
            <a:off x="10966320" y="6676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Text Box 46"/>
          <p:cNvSpPr/>
          <p:nvPr/>
        </p:nvSpPr>
        <p:spPr>
          <a:xfrm>
            <a:off x="12387240" y="7122960"/>
            <a:ext cx="3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4" name="Group 48"/>
          <p:cNvGrpSpPr/>
          <p:nvPr/>
        </p:nvGrpSpPr>
        <p:grpSpPr>
          <a:xfrm>
            <a:off x="10928520" y="6605640"/>
            <a:ext cx="1683720" cy="1725480"/>
            <a:chOff x="10928520" y="6605640"/>
            <a:chExt cx="1683720" cy="1725480"/>
          </a:xfrm>
        </p:grpSpPr>
        <p:sp>
          <p:nvSpPr>
            <p:cNvPr id="605" name="Text Box 43"/>
            <p:cNvSpPr/>
            <p:nvPr/>
          </p:nvSpPr>
          <p:spPr>
            <a:xfrm>
              <a:off x="10928520" y="6653160"/>
              <a:ext cx="37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ff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6" name="Text Box 44"/>
            <p:cNvSpPr/>
            <p:nvPr/>
          </p:nvSpPr>
          <p:spPr>
            <a:xfrm>
              <a:off x="12171240" y="7962840"/>
              <a:ext cx="37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ff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7" name="Text Box 45"/>
            <p:cNvSpPr/>
            <p:nvPr/>
          </p:nvSpPr>
          <p:spPr>
            <a:xfrm>
              <a:off x="10947240" y="7948800"/>
              <a:ext cx="37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8" name="Text Box 47"/>
            <p:cNvSpPr/>
            <p:nvPr/>
          </p:nvSpPr>
          <p:spPr>
            <a:xfrm>
              <a:off x="12090240" y="6605640"/>
              <a:ext cx="52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ff"/>
                  </a:solidFill>
                  <a:latin typeface="Comic Sans MS"/>
                </a:rPr>
                <a:t>MS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Esperienza formativa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Text Box 127"/>
          <p:cNvSpPr/>
          <p:nvPr/>
        </p:nvSpPr>
        <p:spPr>
          <a:xfrm>
            <a:off x="9866160" y="6842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Text Box 130"/>
          <p:cNvSpPr/>
          <p:nvPr/>
        </p:nvSpPr>
        <p:spPr>
          <a:xfrm>
            <a:off x="3673440" y="61214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2" name="Object 135"/>
          <p:cNvGraphicFramePr/>
          <p:nvPr/>
        </p:nvGraphicFramePr>
        <p:xfrm>
          <a:off x="1100160" y="3381480"/>
          <a:ext cx="11167920" cy="55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3" name="Object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0160" y="3381480"/>
                    <a:ext cx="111679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Rectangle 143"/>
          <p:cNvSpPr/>
          <p:nvPr/>
        </p:nvSpPr>
        <p:spPr>
          <a:xfrm>
            <a:off x="957240" y="3005280"/>
            <a:ext cx="11522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144"/>
          <p:cNvSpPr/>
          <p:nvPr/>
        </p:nvSpPr>
        <p:spPr>
          <a:xfrm>
            <a:off x="885960" y="2860560"/>
            <a:ext cx="360360" cy="64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145"/>
          <p:cNvSpPr/>
          <p:nvPr/>
        </p:nvSpPr>
        <p:spPr>
          <a:xfrm>
            <a:off x="11974680" y="2860560"/>
            <a:ext cx="720720" cy="669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46"/>
          <p:cNvSpPr/>
          <p:nvPr/>
        </p:nvSpPr>
        <p:spPr>
          <a:xfrm>
            <a:off x="1030320" y="8908920"/>
            <a:ext cx="11304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47"/>
          <p:cNvSpPr/>
          <p:nvPr/>
        </p:nvSpPr>
        <p:spPr>
          <a:xfrm>
            <a:off x="1173240" y="3005280"/>
            <a:ext cx="11161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48"/>
          <p:cNvSpPr/>
          <p:nvPr/>
        </p:nvSpPr>
        <p:spPr>
          <a:xfrm>
            <a:off x="1101600" y="3292560"/>
            <a:ext cx="1101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173240" y="1636560"/>
          <a:ext cx="5832360" cy="2773440"/>
        </p:xfrm>
        <a:graphic>
          <a:graphicData uri="http://schemas.openxmlformats.org/drawingml/2006/table">
            <a:tbl>
              <a:tblPr/>
              <a:tblGrid>
                <a:gridCol w="709560"/>
                <a:gridCol w="2098800"/>
                <a:gridCol w="3024000"/>
              </a:tblGrid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Conseguimento 2°  Specializz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Esperienze stud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e/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lavoro all’est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Oval 151"/>
          <p:cNvSpPr/>
          <p:nvPr/>
        </p:nvSpPr>
        <p:spPr>
          <a:xfrm>
            <a:off x="2614680" y="4013280"/>
            <a:ext cx="647640" cy="480960"/>
          </a:xfrm>
          <a:prstGeom prst="ellipse">
            <a:avLst/>
          </a:prstGeom>
          <a:noFill/>
          <a:ln w="6480">
            <a:solidFill>
              <a:srgbClr val="ae0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Oval 152"/>
          <p:cNvSpPr/>
          <p:nvPr/>
        </p:nvSpPr>
        <p:spPr>
          <a:xfrm>
            <a:off x="6357960" y="6389640"/>
            <a:ext cx="914400" cy="914400"/>
          </a:xfrm>
          <a:prstGeom prst="ellipse">
            <a:avLst/>
          </a:prstGeom>
          <a:noFill/>
          <a:ln w="25560">
            <a:solidFill>
              <a:srgbClr val="ae0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Text Box 156"/>
          <p:cNvSpPr/>
          <p:nvPr/>
        </p:nvSpPr>
        <p:spPr>
          <a:xfrm>
            <a:off x="6503400" y="6676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e00f0"/>
                </a:solidFill>
                <a:latin typeface="Comic Sans MS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Attività scientifica e di aggiornamento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270080" y="2573280"/>
          <a:ext cx="10464840" cy="6542280"/>
        </p:xfrm>
        <a:graphic>
          <a:graphicData uri="http://schemas.openxmlformats.org/drawingml/2006/table">
            <a:tbl>
              <a:tblPr/>
              <a:tblGrid>
                <a:gridCol w="2781360"/>
                <a:gridCol w="2119320"/>
                <a:gridCol w="2852640"/>
                <a:gridCol w="2711520"/>
              </a:tblGrid>
              <a:tr h="1524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ttività di rice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nu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Utile, ma troppo oneroso in termini di impi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Utile e necess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</a:tr>
              <a:tr h="1220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Pubblicazioni scientif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Conoscenza ingl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cri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Parl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Comprensione conveg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</a:tr>
              <a:tr h="1220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Partecipazione aggiornamento al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figure professional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Partecipazione aggior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ltre specializz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, spe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, raram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Text Box 139"/>
          <p:cNvSpPr/>
          <p:nvPr/>
        </p:nvSpPr>
        <p:spPr>
          <a:xfrm>
            <a:off x="11901240" y="5524560"/>
            <a:ext cx="96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a+b+c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27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Oval 140"/>
          <p:cNvSpPr/>
          <p:nvPr/>
        </p:nvSpPr>
        <p:spPr>
          <a:xfrm>
            <a:off x="11737800" y="5524560"/>
            <a:ext cx="1173240" cy="985680"/>
          </a:xfrm>
          <a:prstGeom prst="ellipse">
            <a:avLst/>
          </a:prstGeom>
          <a:noFill/>
          <a:ln w="25560">
            <a:solidFill>
              <a:srgbClr val="ae0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525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Attività clinica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317600" y="1636560"/>
          <a:ext cx="10058400" cy="7491600"/>
        </p:xfrm>
        <a:graphic>
          <a:graphicData uri="http://schemas.openxmlformats.org/drawingml/2006/table">
            <a:tbl>
              <a:tblPr/>
              <a:tblGrid>
                <a:gridCol w="3230640"/>
                <a:gridCol w="2362320"/>
                <a:gridCol w="2284200"/>
                <a:gridCol w="2181240"/>
              </a:tblGrid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ttività di reparto di degen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/o Day Hos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Gestione dell’attività cli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nutile e onero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3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Utile,troppo onero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Necessaria, integra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7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Multidisciplinarie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, semp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7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, a vol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8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mpliamento multidisciplinarie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93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Re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volu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tecn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niziale pru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ntusiasm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+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</a:tr>
              <a:tr h="109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Rischio di “malpractice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Misure “difensive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81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mprevedibile e indipend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ccusa” se malgesti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Misura difen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pplicazioni di linee guid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sperienza person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Empatia e fidu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con il pazi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Malpractice” e qualità di v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0" name="Text Box 389"/>
          <p:cNvSpPr/>
          <p:nvPr/>
        </p:nvSpPr>
        <p:spPr>
          <a:xfrm>
            <a:off x="11592000" y="641340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a+b+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Oval 390"/>
          <p:cNvSpPr/>
          <p:nvPr/>
        </p:nvSpPr>
        <p:spPr>
          <a:xfrm>
            <a:off x="11542680" y="6245280"/>
            <a:ext cx="914400" cy="914400"/>
          </a:xfrm>
          <a:prstGeom prst="ellipse">
            <a:avLst/>
          </a:prstGeom>
          <a:noFill/>
          <a:ln w="25560">
            <a:solidFill>
              <a:srgbClr val="ae0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Text Box 391"/>
          <p:cNvSpPr/>
          <p:nvPr/>
        </p:nvSpPr>
        <p:spPr>
          <a:xfrm>
            <a:off x="11599200" y="740412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a+b+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Oval 392"/>
          <p:cNvSpPr/>
          <p:nvPr/>
        </p:nvSpPr>
        <p:spPr>
          <a:xfrm>
            <a:off x="11542680" y="7253280"/>
            <a:ext cx="914400" cy="914400"/>
          </a:xfrm>
          <a:prstGeom prst="ellipse">
            <a:avLst/>
          </a:prstGeom>
          <a:noFill/>
          <a:ln w="25560">
            <a:solidFill>
              <a:srgbClr val="ae0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69720" y="9000"/>
            <a:ext cx="10464840" cy="15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JSS-Job satisfaction scal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901800" y="1852560"/>
          <a:ext cx="7184880" cy="6191280"/>
        </p:xfrm>
        <a:graphic>
          <a:graphicData uri="http://schemas.openxmlformats.org/drawingml/2006/table">
            <a:tbl>
              <a:tblPr/>
              <a:tblGrid>
                <a:gridCol w="342720"/>
                <a:gridCol w="2486160"/>
                <a:gridCol w="293760"/>
                <a:gridCol w="379440"/>
                <a:gridCol w="392040"/>
                <a:gridCol w="431640"/>
                <a:gridCol w="444600"/>
                <a:gridCol w="393840"/>
                <a:gridCol w="430200"/>
                <a:gridCol w="1590480"/>
              </a:tblGrid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’ambiente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MB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37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a libertà di scegliere da sé il proprio metodo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IBER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200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 compagni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COMPAG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 riconoscimenti che si ricevono per il lavoro ben fa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RICONOSCIM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268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l superi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DIRET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46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’insieme delle responsabilità che ti vengon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RESPONSABILI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319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a7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l guadagno econo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GUADAG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378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a possibilità di usare le proprie capacità professi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CAPACI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a7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e relazioni tra l’amministratore ed i lavora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MMINIS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40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a7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e tue possibilità di promozione e carri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CARRI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409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a7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Il modo in cui l’azienda in cui lavori è diret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Z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411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a7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’attenzione rivolta ai suggerimenti che d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ATTEN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319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a7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’orario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OR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317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a varietà nel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VARIE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319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a sicurezza dell’impi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SICUREZ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310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206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a ripartizione dei carichi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DISTRUBU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494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livello di soddisfazione che ricavi dal lavoro nel suo insieme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Comic Sans MS"/>
                        </a:rPr>
                        <a:t>COMPLESS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bafe"/>
                    </a:solidFill>
                  </a:tcPr>
                </a:tc>
              </a:tr>
            </a:tbl>
          </a:graphicData>
        </a:graphic>
      </p:graphicFrame>
      <p:sp>
        <p:nvSpPr>
          <p:cNvPr id="636" name="Rectangle 543"/>
          <p:cNvSpPr/>
          <p:nvPr/>
        </p:nvSpPr>
        <p:spPr>
          <a:xfrm>
            <a:off x="10934640" y="6426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7" name="Group 544"/>
          <p:cNvGrpSpPr/>
          <p:nvPr/>
        </p:nvGrpSpPr>
        <p:grpSpPr>
          <a:xfrm>
            <a:off x="8302680" y="3363840"/>
            <a:ext cx="4435200" cy="2952360"/>
            <a:chOff x="8302680" y="3363840"/>
            <a:chExt cx="4435200" cy="2952360"/>
          </a:xfrm>
        </p:grpSpPr>
        <p:sp>
          <p:nvSpPr>
            <p:cNvPr id="638" name="Rectangle 545"/>
            <p:cNvSpPr/>
            <p:nvPr/>
          </p:nvSpPr>
          <p:spPr>
            <a:xfrm>
              <a:off x="8302680" y="3363840"/>
              <a:ext cx="4435200" cy="2952360"/>
            </a:xfrm>
            <a:prstGeom prst="rect">
              <a:avLst/>
            </a:prstGeom>
            <a:solidFill>
              <a:srgbClr val="fe93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9" name="Rectangle 546"/>
            <p:cNvSpPr/>
            <p:nvPr/>
          </p:nvSpPr>
          <p:spPr>
            <a:xfrm>
              <a:off x="8302680" y="3363840"/>
              <a:ext cx="443520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Grado di soddisfazione complessiva 5 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PUNTEGGIO 17-85 60%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Insoddisfazione grave (10%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Soddisfazione moderata (90%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PUNTEGGIO 85-119 40%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Soddisfazione media-al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0" name="Group 547"/>
          <p:cNvGrpSpPr/>
          <p:nvPr/>
        </p:nvGrpSpPr>
        <p:grpSpPr>
          <a:xfrm>
            <a:off x="10605960" y="1852560"/>
            <a:ext cx="1981080" cy="635040"/>
            <a:chOff x="10605960" y="1852560"/>
            <a:chExt cx="1981080" cy="635040"/>
          </a:xfrm>
        </p:grpSpPr>
        <p:sp>
          <p:nvSpPr>
            <p:cNvPr id="641" name="Rectangle 548"/>
            <p:cNvSpPr/>
            <p:nvPr/>
          </p:nvSpPr>
          <p:spPr>
            <a:xfrm>
              <a:off x="10605960" y="1852560"/>
              <a:ext cx="1981080" cy="635040"/>
            </a:xfrm>
            <a:prstGeom prst="rect">
              <a:avLst/>
            </a:prstGeom>
            <a:solidFill>
              <a:srgbClr val="dd2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549"/>
            <p:cNvSpPr/>
            <p:nvPr/>
          </p:nvSpPr>
          <p:spPr>
            <a:xfrm>
              <a:off x="10605960" y="185256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Soddisfazione intrinseca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550"/>
          <p:cNvGrpSpPr/>
          <p:nvPr/>
        </p:nvGrpSpPr>
        <p:grpSpPr>
          <a:xfrm>
            <a:off x="8302680" y="1852560"/>
            <a:ext cx="2082600" cy="635040"/>
            <a:chOff x="8302680" y="1852560"/>
            <a:chExt cx="2082600" cy="635040"/>
          </a:xfrm>
        </p:grpSpPr>
        <p:sp>
          <p:nvSpPr>
            <p:cNvPr id="644" name="Rectangle 551"/>
            <p:cNvSpPr/>
            <p:nvPr/>
          </p:nvSpPr>
          <p:spPr>
            <a:xfrm>
              <a:off x="8302680" y="1852560"/>
              <a:ext cx="2082600" cy="635040"/>
            </a:xfrm>
            <a:prstGeom prst="rect">
              <a:avLst/>
            </a:prstGeom>
            <a:solidFill>
              <a:srgbClr val="004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552"/>
            <p:cNvSpPr/>
            <p:nvPr/>
          </p:nvSpPr>
          <p:spPr>
            <a:xfrm>
              <a:off x="8302680" y="1852560"/>
              <a:ext cx="2082600" cy="533520"/>
            </a:xfrm>
            <a:prstGeom prst="rect">
              <a:avLst/>
            </a:prstGeom>
            <a:solidFill>
              <a:srgbClr val="00445c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Soddisfazione estrinseca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555"/>
          <p:cNvGrpSpPr/>
          <p:nvPr/>
        </p:nvGrpSpPr>
        <p:grpSpPr>
          <a:xfrm>
            <a:off x="8302680" y="6964200"/>
            <a:ext cx="4165560" cy="1093680"/>
            <a:chOff x="8302680" y="6964200"/>
            <a:chExt cx="4165560" cy="1093680"/>
          </a:xfrm>
        </p:grpSpPr>
        <p:sp>
          <p:nvSpPr>
            <p:cNvPr id="647" name="Rectangle 556"/>
            <p:cNvSpPr/>
            <p:nvPr/>
          </p:nvSpPr>
          <p:spPr>
            <a:xfrm>
              <a:off x="8302680" y="6964200"/>
              <a:ext cx="4165560" cy="1093680"/>
            </a:xfrm>
            <a:prstGeom prst="rect">
              <a:avLst/>
            </a:prstGeom>
            <a:solidFill>
              <a:srgbClr val="004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557"/>
            <p:cNvSpPr/>
            <p:nvPr/>
          </p:nvSpPr>
          <p:spPr>
            <a:xfrm>
              <a:off x="8302680" y="6964200"/>
              <a:ext cx="416556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GUADAGN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MMINISTRAZIONE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CARRIERA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ZIENDA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9" name="Text Box 577"/>
          <p:cNvSpPr/>
          <p:nvPr/>
        </p:nvSpPr>
        <p:spPr>
          <a:xfrm>
            <a:off x="11255400" y="7182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it-IT" sz="3600" spc="-1" strike="noStrike">
                <a:solidFill>
                  <a:srgbClr val="ffffff"/>
                </a:solidFill>
                <a:latin typeface="Gill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4" descr="Immagine LBQ"/>
          <p:cNvPicPr/>
          <p:nvPr/>
        </p:nvPicPr>
        <p:blipFill>
          <a:blip r:embed="rId1"/>
          <a:stretch/>
        </p:blipFill>
        <p:spPr>
          <a:xfrm>
            <a:off x="1258920" y="2878200"/>
            <a:ext cx="21993120" cy="1979280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8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00f0"/>
                </a:solidFill>
                <a:latin typeface="Comic Sans MS"/>
              </a:rPr>
              <a:t>LBQ-Link Burnout Questionnair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8807400" y="2789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9139680" y="3076560"/>
            <a:ext cx="2562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AFFATICABILITA’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ORGANIZZAZIO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INTERAZIO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PASSIO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RICONOSCIMEN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COMUNICAZIO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MOTIVAZIO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ANSI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RISOLUZIO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COMPETENZ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GRATIFICAZIO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ASPETTATIV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ENERGI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CONOSCENZ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EMPATI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ASPETTATIV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e00f0"/>
                </a:solidFill>
                <a:latin typeface="Comic Sans MS"/>
              </a:rPr>
              <a:t>ENERGI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ecno</cp:lastModifiedBy>
  <dcterms:modified xsi:type="dcterms:W3CDTF">2010-11-16T08:34:46Z</dcterms:modified>
  <cp:revision>136</cp:revision>
  <dc:subject/>
  <dc:title>Il ruolo del radioterapista oncologo nel 2010 ed oltre: risultati di un’indagine fra i soci AIRO </dc:title>
</cp:coreProperties>
</file>