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7E37-F9C8-4902-8A54-B1DE69843E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A27-1C59-4D59-8DAE-82DEF14249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D5E9-A341-48DD-8BA1-F84AEFC4FC5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6BD7-1BF8-4EA0-89E6-BB2D4C9CBF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ACEC-04B9-424F-8440-05C27DE514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434-D899-463B-9185-3D0C70FF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835-0E52-4BFC-ADEE-16D958C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207-C991-4065-9BA0-AEFF3C40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E45-52A3-462E-9E52-B0EFAC4D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3B9-717E-4D2D-9FD9-A4AE5F2E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763-A56B-4BD4-8715-816E18A3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6AA-F4B0-4164-94B2-D4752A8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0CA-DFC6-48FA-970B-0D41F743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8E3-C53C-4B1B-80C1-609DC59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00E-21E8-4E6F-9A14-A0A5874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BB4-147A-41B1-B754-EA39487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9AC-53CA-4930-9423-ACD5208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A3F7-5202-4CB8-801E-86B0263B501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371600" y="3808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Baskerville Old Face"/>
              </a:rPr>
              <a:t>FRAMELESS IMAGE-GUIDED STEREOBODY RADIATION THERAPY</a:t>
            </a:r>
            <a:r>
              <a:rPr b="0" lang="it-IT" sz="2800" spc="-1" strike="noStrike">
                <a:solidFill>
                  <a:srgbClr val="990033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4038480" cy="4033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4267080" y="2438280"/>
            <a:ext cx="426744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Baskerville Old Face"/>
              </a:rPr>
              <a:t>SARA COSTA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Baskerville Old Face"/>
              </a:rPr>
              <a:t>SOD Radioterapia On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Baskerville Old Face"/>
              </a:rPr>
              <a:t>Ospedali Riuniti Ancona</a:t>
            </a:r>
            <a:r>
              <a:rPr b="0" i="1" lang="it-IT" sz="2400" spc="-1" strike="noStrike">
                <a:solidFill>
                  <a:srgbClr val="333399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5334120" y="5014800"/>
            <a:ext cx="236196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476360" y="1123920"/>
          <a:ext cx="6769080" cy="5435640"/>
        </p:xfrm>
        <a:graphic>
          <a:graphicData uri="http://schemas.openxmlformats.org/drawingml/2006/table">
            <a:tbl>
              <a:tblPr/>
              <a:tblGrid>
                <a:gridCol w="2068560"/>
                <a:gridCol w="641160"/>
                <a:gridCol w="831960"/>
                <a:gridCol w="811440"/>
                <a:gridCol w="826920"/>
                <a:gridCol w="828720"/>
                <a:gridCol w="760320"/>
              </a:tblGrid>
              <a:tr h="852840">
                <a:tc rowSpan="3"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DIA (Σ pa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VIAZIONE STANDARD (σ pa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 (v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 (l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 (l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 (v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 (l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 (l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39600" rIns="39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aziente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4320">
                <a:tc>
                  <a:txBody>
                    <a:bodyPr lIns="39600" rIns="39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VIAZIONE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39600" rIns="39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30" name="Text Box 166"/>
          <p:cNvSpPr/>
          <p:nvPr/>
        </p:nvSpPr>
        <p:spPr>
          <a:xfrm>
            <a:off x="250920" y="1159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Calcolo </a:t>
            </a:r>
            <a:r>
              <a:rPr b="0" lang="it-IT" sz="2600" spc="-1" strike="noStrike">
                <a:solidFill>
                  <a:srgbClr val="cc0066"/>
                </a:solidFill>
                <a:latin typeface="Century Schoolbook"/>
              </a:rPr>
              <a:t>errore sistematico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e </a:t>
            </a:r>
            <a:r>
              <a:rPr b="0" lang="it-IT" sz="2600" spc="-1" strike="noStrike">
                <a:solidFill>
                  <a:srgbClr val="cc0066"/>
                </a:solidFill>
                <a:latin typeface="Century Schoolbook"/>
              </a:rPr>
              <a:t>random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di set up e di organ motion per il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gruppo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in es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65"/>
          <p:cNvGrpSpPr/>
          <p:nvPr/>
        </p:nvGrpSpPr>
        <p:grpSpPr>
          <a:xfrm>
            <a:off x="2700360" y="4076640"/>
            <a:ext cx="3166920" cy="2521080"/>
            <a:chOff x="2700360" y="4076640"/>
            <a:chExt cx="3166920" cy="2521080"/>
          </a:xfrm>
        </p:grpSpPr>
        <p:sp>
          <p:nvSpPr>
            <p:cNvPr id="132" name="Rectangle 161"/>
            <p:cNvSpPr/>
            <p:nvPr/>
          </p:nvSpPr>
          <p:spPr>
            <a:xfrm>
              <a:off x="3564000" y="6021360"/>
              <a:ext cx="2303280" cy="576360"/>
            </a:xfrm>
            <a:prstGeom prst="rect">
              <a:avLst/>
            </a:prstGeom>
            <a:noFill/>
            <a:ln w="507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2"/>
            <p:cNvSpPr/>
            <p:nvPr/>
          </p:nvSpPr>
          <p:spPr>
            <a:xfrm flipH="1" flipV="1">
              <a:off x="3780000" y="4868640"/>
              <a:ext cx="1008000" cy="1152360"/>
            </a:xfrm>
            <a:prstGeom prst="line">
              <a:avLst/>
            </a:prstGeom>
            <a:ln w="507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asellaDiTesto 4"/>
            <p:cNvSpPr/>
            <p:nvPr/>
          </p:nvSpPr>
          <p:spPr>
            <a:xfrm>
              <a:off x="2700360" y="4076640"/>
              <a:ext cx="2735280" cy="7038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entury Schoolbook"/>
                </a:rPr>
                <a:t>Errore sistematico (Σ po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66"/>
          <p:cNvGrpSpPr/>
          <p:nvPr/>
        </p:nvGrpSpPr>
        <p:grpSpPr>
          <a:xfrm>
            <a:off x="5869080" y="3573360"/>
            <a:ext cx="2374920" cy="2449440"/>
            <a:chOff x="5869080" y="3573360"/>
            <a:chExt cx="2374920" cy="2449440"/>
          </a:xfrm>
        </p:grpSpPr>
        <p:sp>
          <p:nvSpPr>
            <p:cNvPr id="136" name="Rectangle 173"/>
            <p:cNvSpPr/>
            <p:nvPr/>
          </p:nvSpPr>
          <p:spPr>
            <a:xfrm>
              <a:off x="5869080" y="5446800"/>
              <a:ext cx="2374920" cy="576000"/>
            </a:xfrm>
            <a:prstGeom prst="rect">
              <a:avLst/>
            </a:prstGeom>
            <a:noFill/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asellaDiTesto 4"/>
            <p:cNvSpPr/>
            <p:nvPr/>
          </p:nvSpPr>
          <p:spPr>
            <a:xfrm>
              <a:off x="5940360" y="3573360"/>
              <a:ext cx="2232000" cy="7038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entury Schoolbook"/>
                </a:rPr>
                <a:t>Errore random (σ po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64"/>
            <p:cNvSpPr/>
            <p:nvPr/>
          </p:nvSpPr>
          <p:spPr>
            <a:xfrm flipV="1">
              <a:off x="7164360" y="4365360"/>
              <a:ext cx="0" cy="1081080"/>
            </a:xfrm>
            <a:prstGeom prst="line">
              <a:avLst/>
            </a:prstGeom>
            <a:ln w="507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211640" y="1773360"/>
          <a:ext cx="4680000" cy="2558880"/>
        </p:xfrm>
        <a:graphic>
          <a:graphicData uri="http://schemas.openxmlformats.org/drawingml/2006/table">
            <a:tbl>
              <a:tblPr/>
              <a:tblGrid>
                <a:gridCol w="1309680"/>
                <a:gridCol w="1160640"/>
                <a:gridCol w="1049040"/>
                <a:gridCol w="1160640"/>
              </a:tblGrid>
              <a:tr h="764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EREO BOD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 paz – 188 CB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vrt) 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Z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lng) 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X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lat) c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Σ p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σ po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.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140" name="Rectangle 28"/>
          <p:cNvSpPr/>
          <p:nvPr/>
        </p:nvSpPr>
        <p:spPr>
          <a:xfrm>
            <a:off x="179280" y="5912640"/>
            <a:ext cx="8856720" cy="88596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Accuratezza in accettazione del body frame (1 mm sugli assi X e Y, 2 mm sull’asse Z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76400" y="4869000"/>
            <a:ext cx="555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Σ = errore sistematico popol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σ = errore random popol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2700360" y="4365720"/>
            <a:ext cx="622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0033"/>
                </a:solidFill>
                <a:latin typeface="Century Schoolbook"/>
              </a:rPr>
              <a:t>Errore set up residuo nonostante fr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109080" y="765000"/>
            <a:ext cx="744048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Posizionamento stereotassico con body fr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Acquisizione CB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Rilevazione shifts </a:t>
            </a:r>
            <a:r>
              <a:rPr b="0" lang="it-IT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743200" y="228600"/>
            <a:ext cx="4038480" cy="55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Errore di set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533520" y="1905120"/>
            <a:ext cx="82296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Verificare la fattibilità della stereotassi extracranica  senza body frame (frame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con l’applicazione di un protocollo IG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057400" y="228600"/>
            <a:ext cx="5410080" cy="55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Obiettivo dello st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4038480" y="3505320"/>
            <a:ext cx="1219320" cy="685800"/>
          </a:xfrm>
          <a:prstGeom prst="ellipse">
            <a:avLst/>
          </a:prstGeom>
          <a:noFill/>
          <a:ln cap="rnd" w="57240">
            <a:solidFill>
              <a:srgbClr val="99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371600" y="1143000"/>
            <a:ext cx="586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Baskerville Old Face"/>
              </a:rPr>
              <a:t>Sistemi di immobilizz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019920" y="2514600"/>
            <a:ext cx="1371600" cy="398880"/>
          </a:xfrm>
          <a:prstGeom prst="rect">
            <a:avLst/>
          </a:prstGeom>
          <a:noFill/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rupp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95880" y="4343400"/>
            <a:ext cx="1524240" cy="398880"/>
          </a:xfrm>
          <a:prstGeom prst="rect">
            <a:avLst/>
          </a:prstGeom>
          <a:noFill/>
          <a:ln w="381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ruppi 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923760" y="601992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vac lok (6), schiuma torace (17), schiuma gambe ( 3), schiuma lunga (7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457200" y="2286000"/>
            <a:ext cx="3429000" cy="1371600"/>
            <a:chOff x="457200" y="2286000"/>
            <a:chExt cx="3429000" cy="1371600"/>
          </a:xfrm>
        </p:grpSpPr>
        <p:sp>
          <p:nvSpPr>
            <p:cNvPr id="153" name="Text Box 5"/>
            <p:cNvSpPr/>
            <p:nvPr/>
          </p:nvSpPr>
          <p:spPr>
            <a:xfrm>
              <a:off x="457200" y="2286000"/>
              <a:ext cx="3429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Maschera termoplastica e body frame 3D-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15 p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1523880" y="3124080"/>
              <a:ext cx="914400" cy="53352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6"/>
          <p:cNvGrpSpPr/>
          <p:nvPr/>
        </p:nvGrpSpPr>
        <p:grpSpPr>
          <a:xfrm>
            <a:off x="457200" y="4191120"/>
            <a:ext cx="3809880" cy="1371600"/>
            <a:chOff x="457200" y="4191120"/>
            <a:chExt cx="3809880" cy="1371600"/>
          </a:xfrm>
        </p:grpSpPr>
        <p:sp>
          <p:nvSpPr>
            <p:cNvPr id="156" name="Text Box 7"/>
            <p:cNvSpPr/>
            <p:nvPr/>
          </p:nvSpPr>
          <p:spPr>
            <a:xfrm>
              <a:off x="457200" y="4191120"/>
              <a:ext cx="380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Sistemi di immobilizzazione frameless</a:t>
              </a:r>
              <a:r>
                <a:rPr b="1" lang="en-US" sz="2000" spc="-1" strike="noStrike">
                  <a:solidFill>
                    <a:srgbClr val="990033"/>
                  </a:solidFill>
                  <a:latin typeface="Book Antiqua"/>
                </a:rPr>
                <a:t>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 Antiqua"/>
                </a:rPr>
                <a:t>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 Antiqua"/>
                </a:rPr>
                <a:t>33 p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1447920" y="5029200"/>
              <a:ext cx="1150920" cy="53352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2"/>
          <p:cNvSpPr/>
          <p:nvPr/>
        </p:nvSpPr>
        <p:spPr>
          <a:xfrm>
            <a:off x="4648320" y="304920"/>
            <a:ext cx="426708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teriali e Met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380880" y="5943600"/>
            <a:ext cx="8458200" cy="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GRUPP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966760" y="836640"/>
            <a:ext cx="33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PROTOCOLLO IG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Diagramma 5" descr=""/>
          <p:cNvPicPr/>
          <p:nvPr/>
        </p:nvPicPr>
        <p:blipFill>
          <a:blip r:embed="rId1"/>
          <a:stretch/>
        </p:blipFill>
        <p:spPr>
          <a:xfrm>
            <a:off x="182520" y="1414440"/>
            <a:ext cx="8858160" cy="52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GRUPP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894760" y="692280"/>
            <a:ext cx="33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PROTOCOLLO IG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Diagramma 4" descr=""/>
          <p:cNvPicPr/>
          <p:nvPr/>
        </p:nvPicPr>
        <p:blipFill>
          <a:blip r:embed="rId1"/>
          <a:stretch/>
        </p:blipFill>
        <p:spPr>
          <a:xfrm>
            <a:off x="-36360" y="1481040"/>
            <a:ext cx="9144000" cy="521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entury Schoolbook"/>
              </a:rPr>
              <a:t>GRUPPO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700360" y="765000"/>
            <a:ext cx="37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PROTOCOLLO IG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Diagramma 4" descr=""/>
          <p:cNvPicPr/>
          <p:nvPr/>
        </p:nvPicPr>
        <p:blipFill>
          <a:blip r:embed="rId1"/>
          <a:stretch/>
        </p:blipFill>
        <p:spPr>
          <a:xfrm>
            <a:off x="182520" y="1414440"/>
            <a:ext cx="8858160" cy="525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362320" y="3978360"/>
            <a:ext cx="4343400" cy="272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28600" y="914400"/>
            <a:ext cx="8686800" cy="9770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Baskerville Old Face"/>
              </a:rPr>
              <a:t>Analisi di 48 pazienti sottoposti a SBR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Baskerville Old Face"/>
              </a:rPr>
              <a:t>tra giugno 2007 e febbraio 20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352680" y="2133720"/>
            <a:ext cx="2514600" cy="147708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600 CB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Book Antiqua"/>
              </a:rPr>
              <a:t>1800 shif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25"/>
          <p:cNvSpPr/>
          <p:nvPr/>
        </p:nvSpPr>
        <p:spPr>
          <a:xfrm>
            <a:off x="591840" y="1266120"/>
            <a:ext cx="2908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GRUPPO 1, FRAME STEREOTASS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Tahoma"/>
                <a:ea typeface="Times New Roman"/>
              </a:rPr>
              <a:t>Valutazione Set u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2133720"/>
          <a:ext cx="3456000" cy="1160280"/>
        </p:xfrm>
        <a:graphic>
          <a:graphicData uri="http://schemas.openxmlformats.org/drawingml/2006/table">
            <a:tbl>
              <a:tblPr/>
              <a:tblGrid>
                <a:gridCol w="552240"/>
                <a:gridCol w="968400"/>
                <a:gridCol w="968400"/>
                <a:gridCol w="9669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 (vr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 (lng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la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629"/>
          <p:cNvSpPr/>
          <p:nvPr/>
        </p:nvSpPr>
        <p:spPr>
          <a:xfrm>
            <a:off x="5081040" y="365760"/>
            <a:ext cx="330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GRUPPO 1, FRAME STEREOTASS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Tahoma"/>
                <a:ea typeface="Times New Roman"/>
              </a:rPr>
              <a:t>Valutazione posizione Targ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148360" y="1052640"/>
          <a:ext cx="3456000" cy="1164960"/>
        </p:xfrm>
        <a:graphic>
          <a:graphicData uri="http://schemas.openxmlformats.org/drawingml/2006/table">
            <a:tbl>
              <a:tblPr/>
              <a:tblGrid>
                <a:gridCol w="555480"/>
                <a:gridCol w="971640"/>
                <a:gridCol w="961920"/>
                <a:gridCol w="9669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 (vr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 (lng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la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4"/>
          <p:cNvSpPr/>
          <p:nvPr/>
        </p:nvSpPr>
        <p:spPr>
          <a:xfrm>
            <a:off x="954000" y="3794760"/>
            <a:ext cx="2192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GRUPPO 2,  FRAMEL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Tahoma"/>
                <a:ea typeface="Times New Roman"/>
              </a:rPr>
              <a:t>Valutazione Set u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95280" y="4586400"/>
          <a:ext cx="3384720" cy="1207800"/>
        </p:xfrm>
        <a:graphic>
          <a:graphicData uri="http://schemas.openxmlformats.org/drawingml/2006/table">
            <a:tbl>
              <a:tblPr/>
              <a:tblGrid>
                <a:gridCol w="541440"/>
                <a:gridCol w="947520"/>
                <a:gridCol w="947880"/>
                <a:gridCol w="94788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 (vr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 (lng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la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108"/>
          <p:cNvSpPr/>
          <p:nvPr/>
        </p:nvSpPr>
        <p:spPr>
          <a:xfrm>
            <a:off x="5227560" y="2499840"/>
            <a:ext cx="333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GRUPPO 2, FRAMEL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Valutazione posizion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48360" y="3213000"/>
          <a:ext cx="3456000" cy="1160640"/>
        </p:xfrm>
        <a:graphic>
          <a:graphicData uri="http://schemas.openxmlformats.org/drawingml/2006/table">
            <a:tbl>
              <a:tblPr/>
              <a:tblGrid>
                <a:gridCol w="536400"/>
                <a:gridCol w="939960"/>
                <a:gridCol w="1012680"/>
                <a:gridCol w="96696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 (vr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 (lng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la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219640" y="5445000"/>
          <a:ext cx="3384720" cy="1181160"/>
        </p:xfrm>
        <a:graphic>
          <a:graphicData uri="http://schemas.openxmlformats.org/drawingml/2006/table">
            <a:tbl>
              <a:tblPr/>
              <a:tblGrid>
                <a:gridCol w="541440"/>
                <a:gridCol w="947520"/>
                <a:gridCol w="947880"/>
                <a:gridCol w="947880"/>
              </a:tblGrid>
              <a:tr h="30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 (vr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 (lng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 (lat) 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0.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31"/>
          <p:cNvSpPr/>
          <p:nvPr/>
        </p:nvSpPr>
        <p:spPr>
          <a:xfrm>
            <a:off x="5172120" y="4641480"/>
            <a:ext cx="333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GRUPPO 3, FRAMEL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Valutazione posizion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3"/>
          <p:cNvSpPr/>
          <p:nvPr/>
        </p:nvSpPr>
        <p:spPr>
          <a:xfrm>
            <a:off x="4800600" y="152280"/>
            <a:ext cx="4114800" cy="662940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4"/>
          <p:cNvSpPr/>
          <p:nvPr/>
        </p:nvSpPr>
        <p:spPr>
          <a:xfrm>
            <a:off x="304920" y="228600"/>
            <a:ext cx="20574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5"/>
          <p:cNvSpPr/>
          <p:nvPr/>
        </p:nvSpPr>
        <p:spPr>
          <a:xfrm>
            <a:off x="152280" y="914400"/>
            <a:ext cx="3886200" cy="506880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1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86800" cy="554040"/>
          </a:xfrm>
          <a:prstGeom prst="rect">
            <a:avLst/>
          </a:prstGeom>
          <a:ln w="28440">
            <a:solidFill>
              <a:srgbClr val="cc0066"/>
            </a:solidFill>
            <a:miter/>
          </a:ln>
        </p:spPr>
      </p:pic>
      <p:grpSp>
        <p:nvGrpSpPr>
          <p:cNvPr id="187" name="Group 16"/>
          <p:cNvGrpSpPr/>
          <p:nvPr/>
        </p:nvGrpSpPr>
        <p:grpSpPr>
          <a:xfrm>
            <a:off x="228600" y="4267080"/>
            <a:ext cx="8763120" cy="973080"/>
            <a:chOff x="228600" y="4267080"/>
            <a:chExt cx="8763120" cy="973080"/>
          </a:xfrm>
        </p:grpSpPr>
        <p:pic>
          <p:nvPicPr>
            <p:cNvPr id="188" name="Picture 13" descr=""/>
            <p:cNvPicPr/>
            <p:nvPr/>
          </p:nvPicPr>
          <p:blipFill>
            <a:blip r:embed="rId2"/>
            <a:stretch/>
          </p:blipFill>
          <p:spPr>
            <a:xfrm>
              <a:off x="228600" y="4267080"/>
              <a:ext cx="87631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Line 14"/>
            <p:cNvSpPr/>
            <p:nvPr/>
          </p:nvSpPr>
          <p:spPr>
            <a:xfrm>
              <a:off x="1371600" y="4495680"/>
              <a:ext cx="5639040" cy="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7"/>
          <p:cNvGrpSpPr/>
          <p:nvPr/>
        </p:nvGrpSpPr>
        <p:grpSpPr>
          <a:xfrm>
            <a:off x="3962520" y="2590920"/>
            <a:ext cx="4724280" cy="380880"/>
            <a:chOff x="3962520" y="2590920"/>
            <a:chExt cx="4724280" cy="380880"/>
          </a:xfrm>
        </p:grpSpPr>
        <p:pic>
          <p:nvPicPr>
            <p:cNvPr id="191" name="Picture 10" descr=""/>
            <p:cNvPicPr/>
            <p:nvPr/>
          </p:nvPicPr>
          <p:blipFill>
            <a:blip r:embed="rId3"/>
            <a:stretch/>
          </p:blipFill>
          <p:spPr>
            <a:xfrm>
              <a:off x="3962520" y="2666880"/>
              <a:ext cx="4671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Oval 15"/>
            <p:cNvSpPr/>
            <p:nvPr/>
          </p:nvSpPr>
          <p:spPr>
            <a:xfrm>
              <a:off x="8229600" y="2590920"/>
              <a:ext cx="457200" cy="3808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18" descr=""/>
          <p:cNvPicPr/>
          <p:nvPr/>
        </p:nvPicPr>
        <p:blipFill>
          <a:blip r:embed="rId4"/>
          <a:stretch/>
        </p:blipFill>
        <p:spPr>
          <a:xfrm>
            <a:off x="380880" y="1981080"/>
            <a:ext cx="8153640" cy="487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9"/>
          <p:cNvSpPr/>
          <p:nvPr/>
        </p:nvSpPr>
        <p:spPr>
          <a:xfrm>
            <a:off x="6172200" y="304920"/>
            <a:ext cx="22860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76B-A460-454F-981F-11B6BCE56166}" type="slidenum">
              <a:rPr b="0" lang="it-I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hema"/>
          <p:cNvPicPr/>
          <p:nvPr/>
        </p:nvPicPr>
        <p:blipFill>
          <a:blip r:embed="rId1"/>
          <a:stretch/>
        </p:blipFill>
        <p:spPr>
          <a:xfrm>
            <a:off x="5435640" y="4114800"/>
            <a:ext cx="3205080" cy="24098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5"/>
          <p:cNvGrpSpPr/>
          <p:nvPr/>
        </p:nvGrpSpPr>
        <p:grpSpPr>
          <a:xfrm>
            <a:off x="1066680" y="3809880"/>
            <a:ext cx="3800160" cy="2952360"/>
            <a:chOff x="1066680" y="3809880"/>
            <a:chExt cx="3800160" cy="2952360"/>
          </a:xfrm>
        </p:grpSpPr>
        <p:pic>
          <p:nvPicPr>
            <p:cNvPr id="55" name="Picture 6" descr=""/>
            <p:cNvPicPr/>
            <p:nvPr/>
          </p:nvPicPr>
          <p:blipFill>
            <a:blip r:embed="rId2"/>
            <a:stretch/>
          </p:blipFill>
          <p:spPr>
            <a:xfrm>
              <a:off x="2610360" y="4066560"/>
              <a:ext cx="2256480" cy="26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3"/>
            <a:stretch/>
          </p:blipFill>
          <p:spPr>
            <a:xfrm>
              <a:off x="1066680" y="3809880"/>
              <a:ext cx="2072880" cy="16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1033"/>
          <p:cNvSpPr/>
          <p:nvPr/>
        </p:nvSpPr>
        <p:spPr>
          <a:xfrm>
            <a:off x="6095880" y="304920"/>
            <a:ext cx="281952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34"/>
          <p:cNvSpPr/>
          <p:nvPr/>
        </p:nvSpPr>
        <p:spPr>
          <a:xfrm>
            <a:off x="380880" y="114300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ell MT"/>
              </a:rPr>
              <a:t>La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Radioterapia Stereotassica</a:t>
            </a:r>
            <a:r>
              <a:rPr b="0" lang="it-IT" sz="2400" spc="-1" strike="noStrike">
                <a:solidFill>
                  <a:srgbClr val="000000"/>
                </a:solidFill>
                <a:latin typeface="Bell MT"/>
              </a:rPr>
              <a:t> è una tecnica utilizzata per il  trattamento di lesioni individuate attraverso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metodi</a:t>
            </a:r>
            <a:r>
              <a:rPr b="1" lang="it-IT" sz="2400" spc="-1" strike="noStrike">
                <a:solidFill>
                  <a:srgbClr val="cc0066"/>
                </a:solidFill>
                <a:latin typeface="Bell MT"/>
              </a:rPr>
              <a:t>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stereotassici</a:t>
            </a:r>
            <a:r>
              <a:rPr b="0" lang="it-IT" sz="2400" spc="-1" strike="noStrike">
                <a:solidFill>
                  <a:srgbClr val="000000"/>
                </a:solidFill>
                <a:latin typeface="Bell MT"/>
              </a:rPr>
              <a:t> accurati avvalendosi delle tre coordinate spaziali  (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x</a:t>
            </a:r>
            <a:r>
              <a:rPr b="0" lang="it-IT" sz="2400" spc="-1" strike="noStrike">
                <a:solidFill>
                  <a:srgbClr val="990033"/>
                </a:solidFill>
                <a:latin typeface="Bell MT"/>
              </a:rPr>
              <a:t>,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y</a:t>
            </a:r>
            <a:r>
              <a:rPr b="0" lang="it-IT" sz="2400" spc="-1" strike="noStrike">
                <a:solidFill>
                  <a:srgbClr val="990033"/>
                </a:solidFill>
                <a:latin typeface="Bell MT"/>
              </a:rPr>
              <a:t>,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Bell MT"/>
              </a:rPr>
              <a:t>) ed utilizzando</a:t>
            </a:r>
            <a:r>
              <a:rPr b="1" lang="it-IT" sz="2400" spc="-1" strike="noStrike">
                <a:solidFill>
                  <a:srgbClr val="cc0066"/>
                </a:solidFill>
                <a:latin typeface="Bell MT"/>
              </a:rPr>
              <a:t> </a:t>
            </a:r>
            <a:r>
              <a:rPr b="1" lang="it-IT" sz="2400" spc="-1" strike="noStrike">
                <a:solidFill>
                  <a:srgbClr val="990033"/>
                </a:solidFill>
                <a:latin typeface="Bell MT"/>
              </a:rPr>
              <a:t>fasci multipli conformati, non coplanari</a:t>
            </a:r>
            <a:r>
              <a:rPr b="1" lang="it-IT" sz="24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6172200" y="304920"/>
            <a:ext cx="228600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38080" y="1981080"/>
            <a:ext cx="7315200" cy="326196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La radioterapia </a:t>
            </a: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stereotassica frameless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effettuata nell’ambito di un trattamento </a:t>
            </a: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IGRT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può essere una </a:t>
            </a: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valida alternativa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al tradizionale trattamento con fr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990360"/>
            <a:ext cx="828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ell MT"/>
              </a:rPr>
              <a:t>ALTO GRADIENTE DI DOSE IPOFRAZ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ell MT"/>
              </a:rPr>
              <a:t>è richiesta la </a:t>
            </a:r>
            <a:r>
              <a:rPr b="1" lang="it-IT" sz="2800" spc="-1" strike="noStrike">
                <a:solidFill>
                  <a:srgbClr val="000066"/>
                </a:solidFill>
                <a:latin typeface="Bell MT"/>
              </a:rPr>
              <a:t>massima precisione</a:t>
            </a:r>
            <a:r>
              <a:rPr b="0" lang="it-IT" sz="2800" spc="-1" strike="noStrike">
                <a:solidFill>
                  <a:srgbClr val="000000"/>
                </a:solidFill>
                <a:latin typeface="Bell MT"/>
              </a:rPr>
              <a:t> nella localizzazione del bersag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antini _0"/>
          <p:cNvPicPr/>
          <p:nvPr/>
        </p:nvPicPr>
        <p:blipFill>
          <a:blip r:embed="rId1"/>
          <a:stretch/>
        </p:blipFill>
        <p:spPr>
          <a:xfrm>
            <a:off x="1851120" y="3141720"/>
            <a:ext cx="5441760" cy="3440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304920"/>
            <a:ext cx="2819520" cy="4597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rescini 7"/>
          <p:cNvPicPr/>
          <p:nvPr/>
        </p:nvPicPr>
        <p:blipFill>
          <a:blip r:embed="rId1"/>
          <a:srcRect l="0" t="10335" r="0" b="2060"/>
          <a:stretch/>
        </p:blipFill>
        <p:spPr>
          <a:xfrm>
            <a:off x="4292640" y="3465360"/>
            <a:ext cx="4622760" cy="324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100_3151"/>
          <p:cNvPicPr/>
          <p:nvPr/>
        </p:nvPicPr>
        <p:blipFill>
          <a:blip r:embed="rId2"/>
          <a:stretch/>
        </p:blipFill>
        <p:spPr>
          <a:xfrm>
            <a:off x="152280" y="1052640"/>
            <a:ext cx="4319640" cy="3240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048120" y="228600"/>
            <a:ext cx="4038480" cy="55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rotocollo IG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00_3156"/>
          <p:cNvPicPr/>
          <p:nvPr/>
        </p:nvPicPr>
        <p:blipFill>
          <a:blip r:embed="rId1"/>
          <a:stretch/>
        </p:blipFill>
        <p:spPr>
          <a:xfrm>
            <a:off x="3505320" y="4572000"/>
            <a:ext cx="2639880" cy="19796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4"/>
          <p:cNvGrpSpPr/>
          <p:nvPr/>
        </p:nvGrpSpPr>
        <p:grpSpPr>
          <a:xfrm>
            <a:off x="324000" y="1052640"/>
            <a:ext cx="2743200" cy="1979640"/>
            <a:chOff x="324000" y="1052640"/>
            <a:chExt cx="2743200" cy="1979640"/>
          </a:xfrm>
        </p:grpSpPr>
        <p:pic>
          <p:nvPicPr>
            <p:cNvPr id="67" name="Picture 5" descr="100_3146_0"/>
            <p:cNvPicPr/>
            <p:nvPr/>
          </p:nvPicPr>
          <p:blipFill>
            <a:blip r:embed="rId2"/>
            <a:stretch/>
          </p:blipFill>
          <p:spPr>
            <a:xfrm>
              <a:off x="324000" y="1052640"/>
              <a:ext cx="274320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6"/>
            <p:cNvSpPr/>
            <p:nvPr/>
          </p:nvSpPr>
          <p:spPr>
            <a:xfrm>
              <a:off x="1467000" y="1784880"/>
              <a:ext cx="228600" cy="212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5940360" y="2133720"/>
            <a:ext cx="2859120" cy="1979640"/>
            <a:chOff x="5940360" y="2133720"/>
            <a:chExt cx="2859120" cy="1979640"/>
          </a:xfrm>
        </p:grpSpPr>
        <p:pic>
          <p:nvPicPr>
            <p:cNvPr id="70" name="Picture 9" descr="100_3151"/>
            <p:cNvPicPr/>
            <p:nvPr/>
          </p:nvPicPr>
          <p:blipFill>
            <a:blip r:embed="rId3"/>
            <a:stretch/>
          </p:blipFill>
          <p:spPr>
            <a:xfrm>
              <a:off x="5940360" y="2133720"/>
              <a:ext cx="28591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Oval 10"/>
            <p:cNvSpPr/>
            <p:nvPr/>
          </p:nvSpPr>
          <p:spPr>
            <a:xfrm>
              <a:off x="8044920" y="3047760"/>
              <a:ext cx="185400" cy="1652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1"/>
          <p:cNvSpPr/>
          <p:nvPr/>
        </p:nvSpPr>
        <p:spPr>
          <a:xfrm>
            <a:off x="752760" y="3141720"/>
            <a:ext cx="189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alline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337560" y="3573360"/>
            <a:ext cx="244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immobilizz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382800" y="4221000"/>
            <a:ext cx="197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localizz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400800" y="5181480"/>
            <a:ext cx="25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Garamond"/>
              </a:rPr>
              <a:t>Verifica de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mediante C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" descr="100_3148_0"/>
          <p:cNvPicPr/>
          <p:nvPr/>
        </p:nvPicPr>
        <p:blipFill>
          <a:blip r:embed="rId4"/>
          <a:stretch/>
        </p:blipFill>
        <p:spPr>
          <a:xfrm>
            <a:off x="3203640" y="1557360"/>
            <a:ext cx="2639880" cy="1979640"/>
          </a:xfrm>
          <a:prstGeom prst="rect">
            <a:avLst/>
          </a:prstGeom>
          <a:ln w="0">
            <a:noFill/>
          </a:ln>
        </p:spPr>
      </p:pic>
      <p:sp>
        <p:nvSpPr>
          <p:cNvPr id="77" name="Oval 3"/>
          <p:cNvSpPr/>
          <p:nvPr/>
        </p:nvSpPr>
        <p:spPr>
          <a:xfrm>
            <a:off x="4356000" y="2421000"/>
            <a:ext cx="228600" cy="2206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1523880" y="228600"/>
            <a:ext cx="6400800" cy="55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rocedura: set up in bun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52280" y="39625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Garamond"/>
              </a:rPr>
              <a:t>Localizzazione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 e </a:t>
            </a:r>
            <a:r>
              <a:rPr b="1" lang="it-IT" sz="2400" spc="-1" strike="noStrike">
                <a:solidFill>
                  <a:srgbClr val="990033"/>
                </a:solidFill>
                <a:latin typeface="Garamond"/>
              </a:rPr>
              <a:t>se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228600" y="44956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mediante protocollo stereotas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52720" cy="306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donati 25"/>
          <p:cNvPicPr/>
          <p:nvPr/>
        </p:nvPicPr>
        <p:blipFill>
          <a:blip r:embed="rId2"/>
          <a:srcRect l="0" t="8858" r="0" b="3218"/>
          <a:stretch/>
        </p:blipFill>
        <p:spPr>
          <a:xfrm>
            <a:off x="4716360" y="1484280"/>
            <a:ext cx="4016520" cy="3060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39640" y="4869000"/>
            <a:ext cx="3745080" cy="70380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Match su reperi ossei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CORREZIONE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788000" y="4869000"/>
            <a:ext cx="3887640" cy="10087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Match su tessuti molli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Schoolbook"/>
              </a:rPr>
              <a:t>CONTROLLO POSIZION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11200" y="1550880"/>
            <a:ext cx="621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B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780080" y="1557360"/>
            <a:ext cx="621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B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554640" y="1557360"/>
            <a:ext cx="747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T-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947360" y="1557360"/>
            <a:ext cx="747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T-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2743200" y="228600"/>
            <a:ext cx="4038480" cy="5508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rotocollo IG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2050920" y="3333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0" y="1958040"/>
            <a:ext cx="2342520" cy="3832920"/>
            <a:chOff x="0" y="1958040"/>
            <a:chExt cx="2342520" cy="3832920"/>
          </a:xfrm>
        </p:grpSpPr>
        <p:sp>
          <p:nvSpPr>
            <p:cNvPr id="92" name="AutoShape 17"/>
            <p:cNvSpPr/>
            <p:nvPr/>
          </p:nvSpPr>
          <p:spPr>
            <a:xfrm>
              <a:off x="1611360" y="5204880"/>
              <a:ext cx="482400" cy="558000"/>
            </a:xfrm>
            <a:custGeom>
              <a:avLst/>
              <a:gdLst>
                <a:gd name="textAreaLeft" fmla="*/ 64440 w 482400"/>
                <a:gd name="textAreaRight" fmla="*/ 417960 w 482400"/>
                <a:gd name="textAreaTop" fmla="*/ 97560 h 558000"/>
                <a:gd name="textAreaBottom" fmla="*/ 404640 h 5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8"/>
            <p:cNvSpPr/>
            <p:nvPr/>
          </p:nvSpPr>
          <p:spPr>
            <a:xfrm>
              <a:off x="881640" y="4595760"/>
              <a:ext cx="881280" cy="1035720"/>
            </a:xfrm>
            <a:prstGeom prst="flowChartMagneticDisk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9"/>
            <p:cNvGrpSpPr/>
            <p:nvPr/>
          </p:nvGrpSpPr>
          <p:grpSpPr>
            <a:xfrm>
              <a:off x="240120" y="1958040"/>
              <a:ext cx="2102400" cy="3455280"/>
              <a:chOff x="240120" y="1958040"/>
              <a:chExt cx="2102400" cy="3455280"/>
            </a:xfrm>
          </p:grpSpPr>
          <p:sp>
            <p:nvSpPr>
              <p:cNvPr id="95" name="AutoShape 20"/>
              <p:cNvSpPr/>
              <p:nvPr/>
            </p:nvSpPr>
            <p:spPr>
              <a:xfrm flipV="1">
                <a:off x="478440" y="2260440"/>
                <a:ext cx="1558440" cy="2680200"/>
              </a:xfrm>
              <a:custGeom>
                <a:avLst/>
                <a:gdLst>
                  <a:gd name="textAreaLeft" fmla="*/ 208440 w 1558440"/>
                  <a:gd name="textAreaRight" fmla="*/ 1350000 w 1558440"/>
                  <a:gd name="textAreaTop" fmla="*/ 357840 h 2680200"/>
                  <a:gd name="textAreaBottom" fmla="*/ 2322360 h 268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6" y="21600"/>
                    </a:lnTo>
                    <a:lnTo>
                      <a:pt x="1943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21"/>
              <p:cNvSpPr/>
              <p:nvPr/>
            </p:nvSpPr>
            <p:spPr>
              <a:xfrm flipV="1">
                <a:off x="240120" y="3187800"/>
                <a:ext cx="2102400" cy="2225520"/>
              </a:xfrm>
              <a:custGeom>
                <a:avLst/>
                <a:gdLst>
                  <a:gd name="textAreaLeft" fmla="*/ 438120 w 2102400"/>
                  <a:gd name="textAreaRight" fmla="*/ 1664280 w 2102400"/>
                  <a:gd name="textAreaTop" fmla="*/ 463320 h 2225520"/>
                  <a:gd name="textAreaBottom" fmla="*/ 1762200 h 22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22"/>
              <p:cNvSpPr/>
              <p:nvPr/>
            </p:nvSpPr>
            <p:spPr>
              <a:xfrm>
                <a:off x="677880" y="2075040"/>
                <a:ext cx="1159200" cy="4597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23"/>
              <p:cNvSpPr/>
              <p:nvPr/>
            </p:nvSpPr>
            <p:spPr>
              <a:xfrm rot="5457000">
                <a:off x="1026360" y="1490040"/>
                <a:ext cx="505440" cy="1464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AutoShape 24"/>
            <p:cNvSpPr/>
            <p:nvPr/>
          </p:nvSpPr>
          <p:spPr>
            <a:xfrm>
              <a:off x="319680" y="4118400"/>
              <a:ext cx="1924200" cy="238320"/>
            </a:xfrm>
            <a:prstGeom prst="leftRightArrow">
              <a:avLst>
                <a:gd name="adj1" fmla="val 50000"/>
                <a:gd name="adj2" fmla="val 160732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5"/>
            <p:cNvSpPr/>
            <p:nvPr/>
          </p:nvSpPr>
          <p:spPr>
            <a:xfrm>
              <a:off x="0" y="4039200"/>
              <a:ext cx="399240" cy="1432080"/>
            </a:xfrm>
            <a:prstGeom prst="upDownArrow">
              <a:avLst>
                <a:gd name="adj1" fmla="val 50000"/>
                <a:gd name="adj2" fmla="val 7140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6"/>
            <p:cNvSpPr/>
            <p:nvPr/>
          </p:nvSpPr>
          <p:spPr>
            <a:xfrm>
              <a:off x="1121760" y="3800520"/>
              <a:ext cx="401040" cy="956880"/>
            </a:xfrm>
            <a:prstGeom prst="upDownArrow">
              <a:avLst>
                <a:gd name="adj1" fmla="val 50000"/>
                <a:gd name="adj2" fmla="val 47499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7"/>
            <p:cNvSpPr/>
            <p:nvPr/>
          </p:nvSpPr>
          <p:spPr>
            <a:xfrm>
              <a:off x="559800" y="5232960"/>
              <a:ext cx="321480" cy="558000"/>
            </a:xfrm>
            <a:custGeom>
              <a:avLst/>
              <a:gdLst>
                <a:gd name="textAreaLeft" fmla="*/ 42840 w 321480"/>
                <a:gd name="textAreaRight" fmla="*/ 278640 w 321480"/>
                <a:gd name="textAreaTop" fmla="*/ 97560 h 558000"/>
                <a:gd name="textAreaBottom" fmla="*/ 404640 h 5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1065240" y="5203080"/>
              <a:ext cx="64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R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4"/>
          <p:cNvSpPr/>
          <p:nvPr/>
        </p:nvSpPr>
        <p:spPr>
          <a:xfrm>
            <a:off x="2743200" y="2698920"/>
            <a:ext cx="5832360" cy="1281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APPLICAZIONE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PER CORREZIONE ERRORE DI SET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magini 2_0"/>
          <p:cNvPicPr/>
          <p:nvPr/>
        </p:nvPicPr>
        <p:blipFill>
          <a:blip r:embed="rId1"/>
          <a:srcRect l="0" t="81206" r="0" b="2820"/>
          <a:stretch/>
        </p:blipFill>
        <p:spPr>
          <a:xfrm>
            <a:off x="71280" y="115920"/>
            <a:ext cx="9001440" cy="1603440"/>
          </a:xfrm>
          <a:prstGeom prst="rect">
            <a:avLst/>
          </a:prstGeom>
          <a:ln w="0">
            <a:noFill/>
          </a:ln>
        </p:spPr>
      </p:pic>
      <p:sp>
        <p:nvSpPr>
          <p:cNvPr id="106" name="Oval 30"/>
          <p:cNvSpPr/>
          <p:nvPr/>
        </p:nvSpPr>
        <p:spPr>
          <a:xfrm>
            <a:off x="2556000" y="333360"/>
            <a:ext cx="792000" cy="122400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059280" y="1413000"/>
            <a:ext cx="1055520" cy="125388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1"/>
          <p:cNvSpPr/>
          <p:nvPr/>
        </p:nvSpPr>
        <p:spPr>
          <a:xfrm>
            <a:off x="6516720" y="333360"/>
            <a:ext cx="792000" cy="1224000"/>
          </a:xfrm>
          <a:prstGeom prst="ellipse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3"/>
          <p:cNvSpPr/>
          <p:nvPr/>
        </p:nvSpPr>
        <p:spPr>
          <a:xfrm flipH="1">
            <a:off x="6019560" y="1428840"/>
            <a:ext cx="857160" cy="12380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28"/>
          <p:cNvSpPr/>
          <p:nvPr/>
        </p:nvSpPr>
        <p:spPr>
          <a:xfrm>
            <a:off x="468360" y="549360"/>
            <a:ext cx="574560" cy="2156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29"/>
          <p:cNvSpPr/>
          <p:nvPr/>
        </p:nvSpPr>
        <p:spPr>
          <a:xfrm>
            <a:off x="468360" y="981000"/>
            <a:ext cx="57456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30"/>
          <p:cNvSpPr/>
          <p:nvPr/>
        </p:nvSpPr>
        <p:spPr>
          <a:xfrm>
            <a:off x="4500720" y="549360"/>
            <a:ext cx="576000" cy="2156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31"/>
          <p:cNvSpPr/>
          <p:nvPr/>
        </p:nvSpPr>
        <p:spPr>
          <a:xfrm>
            <a:off x="4500720" y="981000"/>
            <a:ext cx="576000" cy="216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114800"/>
            <a:ext cx="533520" cy="7621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4680360" y="4952880"/>
            <a:ext cx="3445200" cy="489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Century Schoolbook"/>
              </a:rPr>
              <a:t>Registrazione shif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04920" y="6019920"/>
            <a:ext cx="8686800" cy="7077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Gli shifts vengono applicati e registrati per tutti e tre gli ass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X (lat), Z (lng), e Y (v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ttangolo 1"/>
          <p:cNvSpPr/>
          <p:nvPr/>
        </p:nvSpPr>
        <p:spPr>
          <a:xfrm>
            <a:off x="755640" y="189000"/>
            <a:ext cx="7643880" cy="100764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empio di registrazione degli shifts per ogni paz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1773360"/>
          <a:ext cx="7704000" cy="4176720"/>
        </p:xfrm>
        <a:graphic>
          <a:graphicData uri="http://schemas.openxmlformats.org/drawingml/2006/table">
            <a:tbl>
              <a:tblPr/>
              <a:tblGrid>
                <a:gridCol w="942840"/>
                <a:gridCol w="893880"/>
                <a:gridCol w="892080"/>
                <a:gridCol w="843120"/>
                <a:gridCol w="876240"/>
                <a:gridCol w="895320"/>
                <a:gridCol w="893880"/>
                <a:gridCol w="844560"/>
                <a:gridCol w="622080"/>
              </a:tblGrid>
              <a:tr h="2998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edu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BCT automatic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BCT manua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(vr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(l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(la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(vr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(lng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(lat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deg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deg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00000" y="1413000"/>
          <a:ext cx="7417080" cy="4190760"/>
        </p:xfrm>
        <a:graphic>
          <a:graphicData uri="http://schemas.openxmlformats.org/drawingml/2006/table">
            <a:tbl>
              <a:tblPr/>
              <a:tblGrid>
                <a:gridCol w="1541520"/>
                <a:gridCol w="808200"/>
                <a:gridCol w="733320"/>
                <a:gridCol w="662040"/>
                <a:gridCol w="733320"/>
                <a:gridCol w="808200"/>
                <a:gridCol w="734760"/>
                <a:gridCol w="733680"/>
                <a:gridCol w="662040"/>
              </a:tblGrid>
              <a:tr h="19836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ed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BCT automat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BCT manu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(vr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(lng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(l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Y(vr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Z(lng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X(la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o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deg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c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[deg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EDIA (Σ pa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0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EVIAZIONE STANDARD (σ pa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grpSp>
        <p:nvGrpSpPr>
          <p:cNvPr id="120" name="Group 165"/>
          <p:cNvGrpSpPr/>
          <p:nvPr/>
        </p:nvGrpSpPr>
        <p:grpSpPr>
          <a:xfrm>
            <a:off x="900000" y="4005360"/>
            <a:ext cx="5112000" cy="1589760"/>
            <a:chOff x="900000" y="4005360"/>
            <a:chExt cx="5112000" cy="1589760"/>
          </a:xfrm>
        </p:grpSpPr>
        <p:sp>
          <p:nvSpPr>
            <p:cNvPr id="121" name="CasellaDiTesto 4"/>
            <p:cNvSpPr/>
            <p:nvPr/>
          </p:nvSpPr>
          <p:spPr>
            <a:xfrm>
              <a:off x="3357720" y="5211720"/>
              <a:ext cx="2654280" cy="3834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000000"/>
                  </a:solidFill>
                  <a:latin typeface="Century Schoolbook"/>
                </a:rPr>
                <a:t>Errore sistema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66"/>
            <p:cNvSpPr/>
            <p:nvPr/>
          </p:nvSpPr>
          <p:spPr>
            <a:xfrm>
              <a:off x="900000" y="4005360"/>
              <a:ext cx="1555920" cy="536400"/>
            </a:xfrm>
            <a:prstGeom prst="rect">
              <a:avLst/>
            </a:prstGeom>
            <a:noFill/>
            <a:ln w="507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68"/>
            <p:cNvSpPr/>
            <p:nvPr/>
          </p:nvSpPr>
          <p:spPr>
            <a:xfrm>
              <a:off x="2455920" y="4541760"/>
              <a:ext cx="819000" cy="1005120"/>
            </a:xfrm>
            <a:prstGeom prst="line">
              <a:avLst/>
            </a:prstGeom>
            <a:ln w="507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64"/>
          <p:cNvGrpSpPr/>
          <p:nvPr/>
        </p:nvGrpSpPr>
        <p:grpSpPr>
          <a:xfrm>
            <a:off x="900000" y="4581360"/>
            <a:ext cx="5112000" cy="2054880"/>
            <a:chOff x="900000" y="4581360"/>
            <a:chExt cx="5112000" cy="2054880"/>
          </a:xfrm>
        </p:grpSpPr>
        <p:sp>
          <p:nvSpPr>
            <p:cNvPr id="125" name="CasellaDiTesto 4"/>
            <p:cNvSpPr/>
            <p:nvPr/>
          </p:nvSpPr>
          <p:spPr>
            <a:xfrm>
              <a:off x="3780000" y="6237360"/>
              <a:ext cx="2232000" cy="3988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entury Schoolbook"/>
                </a:rPr>
                <a:t>Errore rand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3"/>
            <p:cNvSpPr/>
            <p:nvPr/>
          </p:nvSpPr>
          <p:spPr>
            <a:xfrm>
              <a:off x="900000" y="4581360"/>
              <a:ext cx="1511280" cy="1008360"/>
            </a:xfrm>
            <a:prstGeom prst="rect">
              <a:avLst/>
            </a:prstGeom>
            <a:noFill/>
            <a:ln w="507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4"/>
            <p:cNvSpPr/>
            <p:nvPr/>
          </p:nvSpPr>
          <p:spPr>
            <a:xfrm>
              <a:off x="2411280" y="5589720"/>
              <a:ext cx="1297080" cy="934920"/>
            </a:xfrm>
            <a:prstGeom prst="line">
              <a:avLst/>
            </a:prstGeom>
            <a:ln w="5076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7"/>
          <p:cNvSpPr/>
          <p:nvPr/>
        </p:nvSpPr>
        <p:spPr>
          <a:xfrm>
            <a:off x="324000" y="189000"/>
            <a:ext cx="84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Calcolo </a:t>
            </a:r>
            <a:r>
              <a:rPr b="0" lang="it-IT" sz="2600" spc="-1" strike="noStrike">
                <a:solidFill>
                  <a:srgbClr val="cc0066"/>
                </a:solidFill>
                <a:latin typeface="Century Schoolbook"/>
              </a:rPr>
              <a:t>errore sistematico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e </a:t>
            </a:r>
            <a:r>
              <a:rPr b="0" lang="it-IT" sz="2600" spc="-1" strike="noStrike">
                <a:solidFill>
                  <a:srgbClr val="cc0066"/>
                </a:solidFill>
                <a:latin typeface="Century Schoolbook"/>
              </a:rPr>
              <a:t>random</a:t>
            </a:r>
            <a:r>
              <a:rPr b="0" lang="it-IT" sz="2600" spc="-1" strike="noStrike">
                <a:solidFill>
                  <a:srgbClr val="000000"/>
                </a:solidFill>
                <a:latin typeface="Century Schoolbook"/>
              </a:rPr>
              <a:t> di set up e di organ motion per il </a:t>
            </a:r>
            <a:r>
              <a:rPr b="0" lang="it-IT" sz="2600" spc="-1" strike="noStrike" u="sng">
                <a:solidFill>
                  <a:srgbClr val="000000"/>
                </a:solidFill>
                <a:uFillTx/>
                <a:latin typeface="Century Schoolbook"/>
              </a:rPr>
              <a:t>singolo paz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19:37Z</dcterms:created>
  <dc:creator>saracostantini</dc:creator>
  <dc:description/>
  <dc:language>en-US</dc:language>
  <cp:lastModifiedBy>tecno</cp:lastModifiedBy>
  <dcterms:modified xsi:type="dcterms:W3CDTF">2010-11-13T09:14:4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