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D57-BA16-47B4-A15A-57CC07AE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AA8-77DB-4628-9A72-E60C9238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58A-7767-468C-9EDB-98F0D66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16F-08BB-45B6-8E66-A1719184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D13-D060-4F7F-9FF0-044487E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246-BBBC-48BF-A263-D728882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0D3-91B9-4493-A353-E422B25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794-3589-4C96-BC93-7FBE311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6B7-E4AA-45E8-A109-CD278AE1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E74-6669-4C1A-A3C4-20C5390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497-5DD5-42C5-8E2D-7099341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DDA-ECCC-47B2-9A3B-89C2002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936-FFBE-4A35-A70E-DC361BF826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AIRO 2010"/>
          <p:cNvPicPr/>
          <p:nvPr/>
        </p:nvPicPr>
        <p:blipFill>
          <a:blip r:embed="rId1"/>
          <a:stretch/>
        </p:blipFill>
        <p:spPr>
          <a:xfrm>
            <a:off x="250920" y="1773360"/>
            <a:ext cx="8893080" cy="37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l-GR" sz="4400" spc="-1" strike="noStrike">
                <a:solidFill>
                  <a:srgbClr val="e5ffff"/>
                </a:solidFill>
                <a:latin typeface="Tahoma"/>
              </a:rPr>
              <a:t>β</a:t>
            </a:r>
            <a:r>
              <a:rPr b="1" i="1" lang="it-IT" sz="4400" spc="-1" strike="noStrike">
                <a:solidFill>
                  <a:srgbClr val="e5ffff"/>
                </a:solidFill>
                <a:latin typeface="Tahoma"/>
              </a:rPr>
              <a:t>-catenina e Gli1 come marcatori prognostici nel Glioblastoma</a:t>
            </a:r>
            <a:r>
              <a:rPr b="1" i="1" lang="it-IT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86064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. Rossi, L. Magnoni,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Tahoma"/>
              </a:rPr>
              <a:t>P. Tin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, E. Mori, P.Tosi, G. Oliveri, E. Cosci, L. Pirtoli, C. Miracco, A. Bakk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Università degli Studi di Siena -Siena Biotech S.p.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ahoma"/>
              </a:rPr>
              <a:t>AIRO Napoli 13-16 Novembre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7" descr="logo_siena"/>
          <p:cNvPicPr/>
          <p:nvPr/>
        </p:nvPicPr>
        <p:blipFill>
          <a:blip r:embed="rId2"/>
          <a:stretch/>
        </p:blipFill>
        <p:spPr>
          <a:xfrm>
            <a:off x="5364000" y="692280"/>
            <a:ext cx="223236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isi"/>
          <p:cNvPicPr/>
          <p:nvPr/>
        </p:nvPicPr>
        <p:blipFill>
          <a:blip r:embed="rId3"/>
          <a:stretch/>
        </p:blipFill>
        <p:spPr>
          <a:xfrm>
            <a:off x="2411280" y="260280"/>
            <a:ext cx="106200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pravvivenza glob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mediana di 12 mesi) con una sopravvivenza del 10% a 2 anni e 2% a 3 an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ttogruppo “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terapia ottim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” con mediana 19.5 mesi vs sottogruppo “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terapia non-ottim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” mediana 7 mesi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p&lt; 0.05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munoistochimic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quasi tutti i casi sono risultati positivi (con positività da moderata a fort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munoistochimica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:positività in 80 casi sui 106 esaminati, di solito meno intensa di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-catenina e prevalentemente nei campioni prelevati alla periferia del tum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51280" y="1980720"/>
            <a:ext cx="349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E’ stata calcolata una matrice di correlazione con l’obiettivo di identificare i marcatori più rappresentativi in termini di sopravvivenza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p53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: non sembra correlarsi alla sopravviv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Ki-67, positività di EGFR e l’età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: hanno un debole valore prognostic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I valori di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totale e Gli1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:    mostrano una </a:t>
            </a:r>
            <a:r>
              <a:rPr b="0" lang="it-IT" sz="1200" spc="-1" strike="noStrike">
                <a:solidFill>
                  <a:srgbClr val="ff3300"/>
                </a:solidFill>
                <a:latin typeface="Tahoma"/>
              </a:rPr>
              <a:t>forte correlazione inversa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con la sopravvivenz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ffffff"/>
                </a:solidFill>
                <a:latin typeface="Tahoma"/>
              </a:rPr>
              <a:t>coeff di correlazione ≤-0,65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La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citoplasmatica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e l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nucleare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mostrano una </a:t>
            </a:r>
            <a:r>
              <a:rPr b="0" lang="it-IT" sz="1200" spc="-1" strike="noStrike">
                <a:solidFill>
                  <a:srgbClr val="ff3300"/>
                </a:solidFill>
                <a:latin typeface="Tahoma"/>
              </a:rPr>
              <a:t>buona correlazione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con la sopravviv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ffffff"/>
                </a:solidFill>
                <a:latin typeface="Tahoma"/>
              </a:rPr>
              <a:t>coeff di correlazione ≤ -0.5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4" descr="Correlation"/>
          <p:cNvPicPr/>
          <p:nvPr/>
        </p:nvPicPr>
        <p:blipFill>
          <a:blip r:embed="rId1"/>
          <a:stretch/>
        </p:blipFill>
        <p:spPr>
          <a:xfrm>
            <a:off x="457200" y="1763640"/>
            <a:ext cx="5194440" cy="4186440"/>
          </a:xfrm>
          <a:prstGeom prst="rect">
            <a:avLst/>
          </a:prstGeom>
          <a:ln w="0">
            <a:noFill/>
          </a:ln>
        </p:spPr>
      </p:pic>
      <p:sp>
        <p:nvSpPr>
          <p:cNvPr id="70" name="Line 15"/>
          <p:cNvSpPr/>
          <p:nvPr/>
        </p:nvSpPr>
        <p:spPr>
          <a:xfrm flipH="1" flipV="1">
            <a:off x="5076360" y="2421000"/>
            <a:ext cx="14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2771640" y="2205000"/>
            <a:ext cx="324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2195640" y="2349360"/>
            <a:ext cx="3816360" cy="86364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1763640" y="1989000"/>
            <a:ext cx="86364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1403280" y="3213000"/>
            <a:ext cx="504720" cy="144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1908000" y="3789360"/>
            <a:ext cx="4032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5292720" y="3789360"/>
            <a:ext cx="647640" cy="100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5---NEW-Gli1&amp;bCatTotA vs Survival"/>
          <p:cNvPicPr/>
          <p:nvPr/>
        </p:nvPicPr>
        <p:blipFill>
          <a:blip r:embed="rId1"/>
          <a:stretch/>
        </p:blipFill>
        <p:spPr>
          <a:xfrm>
            <a:off x="1619280" y="1792440"/>
            <a:ext cx="5832360" cy="497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4788000" y="1916280"/>
            <a:ext cx="431640" cy="288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4788000" y="4221000"/>
            <a:ext cx="431640" cy="289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Validità dei modelli predit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Modello di regressione linea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 non sembra fittare adeguatamente il trend dei dati in e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Modello di classificazione ad alb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più flessibile rispetto al precedente): mostra una notevole capacità predittiva, identificando mediante una RPA (recursive partitioning analysis) , i principali fattori prognostic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Gli1 e 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catenina total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: principali markers prognostici tra quelli analizzati sono infatti presenti nel </a:t>
            </a:r>
            <a:r>
              <a:rPr b="1" lang="it-IT" sz="2000" spc="-1" strike="noStrike" u="sng">
                <a:solidFill>
                  <a:srgbClr val="ff3300"/>
                </a:solidFill>
                <a:uFillTx/>
                <a:latin typeface="Tahoma"/>
              </a:rPr>
              <a:t>90%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1" lang="it-IT" sz="2000" spc="-1" strike="noStrike" u="sng">
                <a:solidFill>
                  <a:srgbClr val="ff3300"/>
                </a:solidFill>
                <a:uFillTx/>
                <a:latin typeface="Tahoma"/>
              </a:rPr>
              <a:t>75%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rispettivamente degli alberi di classificazione più altamente predittiv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GFR ,p53, Ki-67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:presenti in meno del 3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Valori di cut-off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identificati per Gli1 (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ercentuale di positività = 15%)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catenina totale (valore =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35% di positiv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) al di sopra dei quali si ha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una forte associazione con una prognosi inferiore ai 12 mesi ( pazienti short-surviv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6--SimulationBoxPlotPresentPercentageClassificationTree"/>
          <p:cNvPicPr/>
          <p:nvPr/>
        </p:nvPicPr>
        <p:blipFill>
          <a:blip r:embed="rId1"/>
          <a:stretch/>
        </p:blipFill>
        <p:spPr>
          <a:xfrm>
            <a:off x="179280" y="1197000"/>
            <a:ext cx="4254480" cy="306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---SimulationBoxPlotCutValuesTreeRoot"/>
          <p:cNvPicPr/>
          <p:nvPr/>
        </p:nvPicPr>
        <p:blipFill>
          <a:blip r:embed="rId2"/>
          <a:stretch/>
        </p:blipFill>
        <p:spPr>
          <a:xfrm>
            <a:off x="4967280" y="1268280"/>
            <a:ext cx="417672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Oval 9"/>
          <p:cNvSpPr/>
          <p:nvPr/>
        </p:nvSpPr>
        <p:spPr>
          <a:xfrm>
            <a:off x="6877080" y="3933720"/>
            <a:ext cx="287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8244000" y="3933720"/>
            <a:ext cx="287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569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Non sembra esistere una correlazione statisticamente significativ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tra gli alti livelli espressivi di Gli1 e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-catenina totale e i 2 sottogruppi terapeutici adiuvanti (ottimale e sub-ottima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Gli1vsSurvival-SiNoTerapia"/>
          <p:cNvPicPr/>
          <p:nvPr/>
        </p:nvPicPr>
        <p:blipFill>
          <a:blip r:embed="rId1"/>
          <a:stretch/>
        </p:blipFill>
        <p:spPr>
          <a:xfrm>
            <a:off x="250920" y="1413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-catvssurvival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2808000"/>
          </a:xfrm>
          <a:prstGeom prst="rect">
            <a:avLst/>
          </a:prstGeom>
          <a:ln w="0">
            <a:noFill/>
          </a:ln>
        </p:spPr>
      </p:pic>
      <p:sp>
        <p:nvSpPr>
          <p:cNvPr id="96" name="Line 10"/>
          <p:cNvSpPr/>
          <p:nvPr/>
        </p:nvSpPr>
        <p:spPr>
          <a:xfrm>
            <a:off x="755640" y="3357720"/>
            <a:ext cx="2879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219640" y="3141720"/>
            <a:ext cx="2879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lti livelli di espressione per Gli 1 e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 mostrano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notevole capacità prognostica negativ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e sembrano agir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indipendentement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da una terapia post-operatoria combinata più o meno aggressiv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nche nel gruppo dei pazienti selezionati in cui è stata possibile una terapia ottimale e che hanno avuto una migliore sopravvivenza (mediana di sopravvivenza 19,5 mesi vs 7 mesi nel gruppo terapia  sub-ottimale), l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positività di </a:t>
            </a:r>
            <a:r>
              <a:rPr b="0" lang="el-GR" sz="18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-catenina e Gli 1 definisce, perciò, una caratterizzazione prognostica sfavorevol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’ probabile che l’attivazione aberrante delle pathways quali Wnt e Hedgehog, indicati da alti livelli espressivi di Gli1 e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, </a:t>
            </a:r>
            <a:r>
              <a:rPr b="1" lang="it-IT" sz="1800" spc="-1" strike="noStrike" u="sng">
                <a:solidFill>
                  <a:srgbClr val="ff3300"/>
                </a:solidFill>
                <a:uFillTx/>
                <a:latin typeface="Tahoma"/>
              </a:rPr>
              <a:t>favorisca la sopravvivenza delle GSCCs e ciò si traduca in una maggiore aggressività e resistenza alle terapie convenzionali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erapie capaci di agire selettivamente su questi pathways  potrebbero migliorare la prognosi dei pazienti affetti da GB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4" descr="siena-luna"/>
          <p:cNvPicPr/>
          <p:nvPr/>
        </p:nvPicPr>
        <p:blipFill>
          <a:blip r:embed="rId1"/>
          <a:stretch/>
        </p:blipFill>
        <p:spPr>
          <a:xfrm>
            <a:off x="1476360" y="0"/>
            <a:ext cx="6337440" cy="65246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843280" y="4286160"/>
            <a:ext cx="45244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zie per l'attenzione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Premes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B caratterizzato da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prognosi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infaust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nonostante il miglioramento delle terapia integrata (RT e CH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ecessità di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comprensione dei meccanismi biologico-molecolar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alla base di questa resistenza terapeu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on esistono attualmente markers biologici nel GB con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funzione prognostica inequivocabil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(EGFR, p53, Ki-67), eccezion fatta per la metilazione del promotore di MGM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esenza di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forte eterogeneità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cellulare intra- e inter-tumore nei G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a resistenza alla terapia e la cattiva prognosi sono probabilmente legate alla presenza di sottopopolazioni celllulari quali l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GSCCs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it-IT" sz="1800" spc="-1" strike="noStrike">
                <a:solidFill>
                  <a:srgbClr val="ffff00"/>
                </a:solidFill>
                <a:latin typeface="Tahoma"/>
              </a:rPr>
              <a:t>gliomas stem cancer cells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) con notevoli capacità di autorinnovamento  e resistenza celllulare agli agenti terapeutic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Premess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centi studi evidenziano, nel GB, l’importanza di  pathways di segnale,quali :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Wnt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Hedgehog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, che giocano un ruolo fondamentale nei processi di omeostasi e rinnovamento cellulare nelle GSCC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-catenin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proteina multifunzionale  che nella sua forma libera agisce come fattore di trascrizione nella pathway Wnt che  sembra favorire lo sviluppo dei processi di motilità, crescita e capacità d’invasione tumoral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Gli1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fattore di trascrizione il cui aumento dei livelli di espressione è associato ad un attivazione della pathway Hedgehog che regola la trascrizione di geni implicati nei processi di iniziazione tumorale, invasione e capacità metasta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’aberrante attivazione di queste pathways, caratteristici per le GSCCs, e rappresentati dall’iperespressione di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 e Gli1, potrebbe svolgere un ruolo fondamentale nell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determinazione delle caratteristiche di aggressività biologica, e di conseguenza, clinica ne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Scopo del lav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bbiamo valutato,  nella nostra casistica di GBs, la correlazione tra i livelli di espressione di questi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due markers biologic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 </a:t>
            </a:r>
            <a:r>
              <a:rPr b="0" lang="el-GR" sz="3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-catenina e Gli1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) , altri markers biologici “classici” quali p53, Ki-67 e EGFR, con la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sopravvivenza complessiv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97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Casistica composta da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106 pazienti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sottoposti ad intervento chirurgico di asportazione della neoplasia (40 pz sottoposti a resezione totale vs e 66 pz a resezione parziale) e come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terapia adiuvant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:  RT+CHT integrata (TMZ concomitante + sequenziale) o solo R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uddivisione in 2 sottogruppi terapeutici adiuvanti: terapia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“ottim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”( 41 pz, RT&gt;60Gy + almeno TMZ concomitante) vs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“non ottim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”( 65 pz, tutti gli altr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same istologico dimostrava </a:t>
            </a:r>
            <a:r>
              <a:rPr b="0" lang="it-IT" sz="1600" spc="-1" strike="noStrike">
                <a:solidFill>
                  <a:srgbClr val="ff3300"/>
                </a:solidFill>
                <a:latin typeface="Tahoma"/>
              </a:rPr>
              <a:t>HGG di grado IV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(GB) secondo la WHO Classif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f00"/>
                </a:solidFill>
                <a:uFillTx/>
                <a:latin typeface="Tahoma"/>
              </a:rPr>
              <a:t>Valutazione mediante colorazione immunoistochimica dell’espressione dei markers su pezzi istologici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metodo streptavidina-biotina su sezioni di tessuto fissati in formalina e inclusi in paraffi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re-trattattamento a seconda degli anticorpi testati (bagno con buffer citrato per </a:t>
            </a: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-catenina  o EDTA per Gli1 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cubazione con anticorpi specifici per i marker testat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ilevazione epitopi mediante l’utilizzo di opportuni cromogeni a seconda dell’anticorpo utilizza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I controlli negativi sono stati eseguiti rimpiazzando gli anticorpi testati con immunoglubiline di siero non immune alla stessa concentrazione dell’anticorpo testato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Valutazione dell’espressione dei markers</a:t>
            </a: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-53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% di nuclei positivi su tutte le cellule tumorali in 10 HPF (1HPF= 0.16 mm2) (at rand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Ki-67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% di nuclei positivi su i nuclei totali in almeno 10 HPF (zone a più alta proliferazion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ositività EGFR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secondo uno score dato dalla numero di cellule positive (0=nessuna, 1= positiva in &lt;50%, 2=positiva &gt;50%) e dall’intensità della colorazione (0=negativa; 1=debole; 2=moderata; 3=fo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Valutazione quantitativa della </a:t>
            </a:r>
            <a:r>
              <a:rPr b="0" lang="el-GR" sz="24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-catenina e positività di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livelli di espressione per i due markers (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tot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ositività di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 sono stati calcolati come l’area di colorazione positiva normalizzata in percentuale rispetto alla superficie totale dei campi analizzati con un programma di analisi di immagine computerizzato su sezioni istologiche immunocolor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oltre è stata effettuata una valutazione semi-quantitativa per l’espressione dell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citoplasmatic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score 0-3)  e l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nuclear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% nuclei positiv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9" descr="3---Figure 3- Gli-1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---figure2-BetaCaten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84360" y="57340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lorazione immuno-istochimica per Gli1 su sezioni d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859280" y="5805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lorazione immuno-istochimica per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-catenina su sezioni d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Analisi stati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atrice di correlazione tra i vari parametri    analizzati 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air-wise Pearson correlation coeffici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alisi della sopravvivenza mediante 2 modelli:</a:t>
            </a: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Modello di regressione line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Modello di classificazione ad alb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7:46:25Z</dcterms:created>
  <dc:creator>.</dc:creator>
  <dc:description/>
  <dc:language>en-US</dc:language>
  <cp:lastModifiedBy>tecno</cp:lastModifiedBy>
  <dcterms:modified xsi:type="dcterms:W3CDTF">2010-11-14T11:14:46Z</dcterms:modified>
  <cp:revision>25</cp:revision>
  <dc:subject/>
  <dc:title>Titolo</dc:title>
</cp:coreProperties>
</file>