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180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868644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44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64C58-5E3A-4D0B-8A68-98685526084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7FCC0-F862-475F-B7C8-EF1304A51A5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-14220720" y="-11796840"/>
            <a:ext cx="16611480" cy="124603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4C081-6281-46E5-9CF0-2E1D5E7381B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17F82-9F99-46A3-9788-AAD0FD95A59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D2C56-5A68-4171-8287-8C97CF96847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B0D51-D514-49D9-92EC-CFCE030E80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B2A60-9565-4DF6-8DF7-931C8EB4772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ADC8F-F5AF-461F-BD6A-EF53581F3CA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758AD-B79C-4F22-A0D2-8E6D4B8CFC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BD637-7CCB-41DF-872C-ED0F2599D7B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61444-1EF4-4BD2-85AF-F6A2C187E0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CC2FF-F730-44CB-96FE-07F200639A4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4680" y="4680"/>
            <a:ext cx="180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BBB12-7ACE-4574-9679-4393F44CE61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FCD90-768A-449F-9A93-9AC274062BE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56A15-46FA-435E-B807-7457D7FDEA9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2C977-F49D-4D41-9C6E-26284FE3D1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C0816-1554-4B1B-AA8B-DC807A13FF1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143080" y="69372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05A28-9452-4CC8-90DD-E7558815F08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1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30C7F-F9C5-4497-89CB-4FAB060A28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F6C5A-CAF4-4D3D-A559-2B5F08030FD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92CB0-8224-47B4-8AF6-A06E37E98806}" type="slidenum">
              <a:rPr b="0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923760" y="685800"/>
            <a:ext cx="501192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A6975-523B-401E-B51E-9FC6E673E557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1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48D02-646D-4E2A-B668-BA70A2AF5C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C0C57-53C4-42DB-A181-D69BEA62413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1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B1679-95E4-4CCC-9B21-7589F99D6E8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AE524-8D6A-4057-AAA1-182F34D0433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-14220720" y="-11796840"/>
            <a:ext cx="16611480" cy="1246032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0557B-04FA-4E8A-9D8E-3F21AF61DFA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-14220720" y="-11796840"/>
            <a:ext cx="16611480" cy="1246032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95896-9EFD-4BA9-A59D-DAC5BDD8005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-14219280" y="-11796840"/>
            <a:ext cx="16600680" cy="124524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93928-61AD-462D-8307-4765972B0810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C510A-7CB4-4DF2-B696-508B49F2F9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2BFDF-B1BB-4EBC-BCEE-9623B08D99A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F3327-346F-4E89-963B-84365A985D5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-14220720" y="-11796840"/>
            <a:ext cx="16610040" cy="124588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7088E-BD3D-4452-BB0A-304013BA6A3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B3A0A-4965-4506-A374-DA65C2D41B5F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-14217480" y="-11796840"/>
            <a:ext cx="16579800" cy="124351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204EA-DCE9-44B1-BFE3-25D0894B046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C1DD0-B6EA-4139-976C-29ACC7F946A2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2"/>
          <p:cNvSpPr/>
          <p:nvPr/>
        </p:nvSpPr>
        <p:spPr>
          <a:xfrm>
            <a:off x="-11798280" y="-11796840"/>
            <a:ext cx="11736360" cy="1243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60AF1-7B22-493B-BAD0-0E44CB6F238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-14219280" y="-11796840"/>
            <a:ext cx="16597440" cy="124491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3C536-76C0-439A-94CE-2F0FF57BB1D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7EDAA-8F09-4946-827C-BB1D323E958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3FD40-CDED-409F-8C26-CD88480280E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BBA92-51FC-4929-91C8-42CEA8B9153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C482A-472B-4D4E-9D9D-DF9E0714BD2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2143080" y="69372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6CA86-99A7-4459-A3E9-3919BA24C2A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-14219280" y="-11796840"/>
            <a:ext cx="16594200" cy="124462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B33F4-BE7A-4ADD-8687-33692EFADF6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3D851-9DD4-4B4E-8B5D-C2E07D419F1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0B2A5-6AE6-43B6-8B75-22BA0D49CF2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95DBD-EB32-458E-933C-A9EE50292F66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FA413-0DF9-44FC-8BBB-D5E37535B3E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BEDB5-55A3-4601-A8B6-B08C2BC58CB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93B3B-ABBE-434A-A4F1-2F6F944A019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F9CB3-4555-4889-A52A-C791D2703F7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60B34-E778-44EC-8922-CDE57B034DA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C0118-DF07-4C33-A529-E8F4ACD3F227}" type="slidenum"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"/>
          <p:cNvSpPr/>
          <p:nvPr/>
        </p:nvSpPr>
        <p:spPr>
          <a:xfrm>
            <a:off x="3886200" y="8686800"/>
            <a:ext cx="29624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FD3D7-47BF-4D99-A611-351F182FCAD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CA485-FBC5-4B34-9255-9C9BBC1BCC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4D20F-49BE-49CF-8B76-6FF74766222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279D7-5E26-47E4-B5EE-7C03F2081C15}" type="slidenum"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3886200" y="8686800"/>
            <a:ext cx="29624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84AE8-5ED4-470B-BE0B-BF10B5CABC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7EC73-9AC6-41C3-BD39-5055FD55A3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3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2A81F-4138-4300-A293-1660337D266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155D2-8628-4698-83F7-6AF766083BC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54D2B-856D-488A-8997-98901388FEA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B64D1-79A4-4D64-BDB5-C90A21FA5FE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67F9D-7044-43AD-B2AD-B09F9C57EFC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55489-A23D-4885-B001-E7EAEE55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7416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7416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35520"/>
            <a:ext cx="817416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BA126-135F-4C1C-9C11-0CA660BE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7416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8880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398880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35520"/>
            <a:ext cx="398880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45800" y="3935520"/>
            <a:ext cx="398880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2F9D8-0DA2-4399-93F6-A3A292AE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7416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196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21280" y="1600200"/>
            <a:ext cx="263196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85000" y="1600200"/>
            <a:ext cx="263196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35520"/>
            <a:ext cx="263196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21280" y="3935520"/>
            <a:ext cx="263196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85000" y="3935520"/>
            <a:ext cx="263196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F0439-F423-4D55-B219-6B8C01B5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7416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74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C668-5302-4105-B9FA-5B087918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7416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7416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9D830-AD0C-4A17-9D66-0F8ACD4A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7416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8880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398880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BB3E-913C-4BF2-A12B-5CAE7879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7416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0566A-8BF0-4B6C-9078-FB3507D0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1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F86BA-6102-4104-9699-D75F8722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7416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8880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398880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35520"/>
            <a:ext cx="398880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810F0-E6EE-4561-94E9-2DBE810C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7416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8880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398880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45800" y="3935520"/>
            <a:ext cx="398880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66058-4E23-4008-B212-51A5DB57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7416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8880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398880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35520"/>
            <a:ext cx="817416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BFE06-798B-4E03-A09A-15A5BA05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600"/>
            <a:ext cx="207792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07828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0DA128-C33C-463F-93FB-B234E13BC206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4640" cy="6843600"/>
            <a:chOff x="0" y="0"/>
            <a:chExt cx="9134640" cy="6843600"/>
          </a:xfrm>
        </p:grpSpPr>
        <p:grpSp>
          <p:nvGrpSpPr>
            <p:cNvPr id="3" name="Group 4"/>
            <p:cNvGrpSpPr/>
            <p:nvPr/>
          </p:nvGrpSpPr>
          <p:grpSpPr>
            <a:xfrm>
              <a:off x="2742480" y="3540240"/>
              <a:ext cx="6378840" cy="3303360"/>
              <a:chOff x="2742480" y="3540240"/>
              <a:chExt cx="6378840" cy="330336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2480" y="4196880"/>
                <a:ext cx="4568400" cy="26463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09240" y="4237920"/>
                <a:ext cx="1992960" cy="128520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597200" y="5306040"/>
                <a:ext cx="4516200" cy="1535400"/>
              </a:xfrm>
              <a:prstGeom prst="pie">
                <a:avLst/>
              </a:pr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56360" y="3540240"/>
                <a:ext cx="4764960" cy="330336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33400" y="3677760"/>
                <a:ext cx="1975320" cy="855000"/>
              </a:xfrm>
              <a:prstGeom prst="pie">
                <a:avLst/>
              </a:pr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67880" y="2128680"/>
              <a:ext cx="2894760" cy="2440080"/>
            </a:xfrm>
            <a:prstGeom prst="pie">
              <a:avLst/>
            </a:pr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0" y="0"/>
              <a:ext cx="913464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7416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4004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7416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0" y="285840"/>
            <a:ext cx="891540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1000"/>
              </a:lnSpc>
              <a:spcBef>
                <a:spcPts val="21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Tahoma"/>
              </a:rPr>
              <a:t>RANDOMIZED PHASE III</a:t>
            </a: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 FACTORIAL</a:t>
            </a:r>
            <a:r>
              <a:rPr b="1" lang="it-IT" sz="3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spcBef>
                <a:spcPts val="21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4 ARM  </a:t>
            </a:r>
            <a:r>
              <a:rPr b="1" lang="it-IT" sz="3400" spc="-1" strike="noStrike">
                <a:solidFill>
                  <a:srgbClr val="ffff00"/>
                </a:solidFill>
                <a:latin typeface="Tahoma"/>
              </a:rPr>
              <a:t>TRIAL </a:t>
            </a: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in LA H&amp;N SC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Induction TPF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llowed by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RT+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T  or  RT+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CETUXIM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er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RT+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T  or  RT+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CETUXIMAB</a:t>
            </a:r>
            <a:r>
              <a:rPr b="1" lang="it-IT" sz="3200" spc="-1" strike="noStrike">
                <a:solidFill>
                  <a:srgbClr val="ffff00"/>
                </a:solidFill>
                <a:latin typeface="Tahoma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edbd2d"/>
                </a:solidFill>
                <a:latin typeface="Tahoma"/>
              </a:rPr>
              <a:t> </a:t>
            </a:r>
            <a:r>
              <a:rPr b="1" lang="it-IT" sz="2600" spc="-1" strike="noStrike">
                <a:solidFill>
                  <a:srgbClr val="edbd2d"/>
                </a:solidFill>
                <a:latin typeface="Tahoma"/>
                <a:ea typeface="Arial Unicode MS"/>
              </a:rPr>
              <a:t>Maria Grazia Gh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edbd2d"/>
                </a:solidFill>
                <a:latin typeface="Tahoma"/>
                <a:ea typeface="Arial Unicode MS"/>
              </a:rPr>
              <a:t>     </a:t>
            </a:r>
            <a:r>
              <a:rPr b="1" lang="it-IT" sz="2600" spc="-1" strike="noStrike">
                <a:solidFill>
                  <a:srgbClr val="edbd2d"/>
                </a:solidFill>
                <a:latin typeface="Tahoma"/>
                <a:ea typeface="Arial Unicode MS"/>
              </a:rPr>
              <a:t>Divisione di Oncologia-Venezia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edbd2d"/>
                </a:solidFill>
                <a:latin typeface="Tahoma"/>
                <a:ea typeface="Arial Unicode MS"/>
              </a:rPr>
              <a:t>         </a:t>
            </a:r>
            <a:r>
              <a:rPr b="1" lang="it-IT" sz="2600" spc="-1" strike="noStrike">
                <a:solidFill>
                  <a:srgbClr val="edbd2d"/>
                </a:solidFill>
                <a:latin typeface="Tahoma"/>
                <a:ea typeface="Arial Unicode MS"/>
              </a:rPr>
              <a:t>Perugia, 1 ottobre 2010</a:t>
            </a:r>
            <a:r>
              <a:rPr b="1" lang="it-IT" sz="2800" spc="-1" strike="noStrike">
                <a:solidFill>
                  <a:srgbClr val="edbd2d"/>
                </a:solidFill>
                <a:latin typeface="Tahoma"/>
                <a:ea typeface="Arial Unicode MS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" name="Object 2"/>
          <p:cNvGraphicFramePr/>
          <p:nvPr/>
        </p:nvGraphicFramePr>
        <p:xfrm>
          <a:off x="685800" y="5040360"/>
          <a:ext cx="11145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040360"/>
                    <a:ext cx="11145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0" y="6429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                   </a:t>
            </a:r>
            <a:r>
              <a:rPr b="1" lang="en-GB" sz="40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Chemoradiotherapy:</a:t>
            </a:r>
            <a:br>
              <a:rPr sz="3400"/>
            </a:br>
            <a:r>
              <a:rPr b="1" lang="en-GB" sz="3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    </a:t>
            </a:r>
            <a:r>
              <a:rPr b="1" lang="en-GB" sz="28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Grade 3/</a:t>
            </a:r>
            <a:r>
              <a:rPr b="1" lang="en-GB" sz="2800" spc="-1" strike="noStrike">
                <a:solidFill>
                  <a:srgbClr val="ffff00"/>
                </a:solidFill>
                <a:latin typeface="Tahoma"/>
              </a:rPr>
              <a:t>4 non-hematological toxicity 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NCI-CTC 2 )</a:t>
            </a:r>
            <a:r>
              <a:rPr b="1" lang="ar-SA" sz="1800" spc="-1" strike="noStrike">
                <a:solidFill>
                  <a:srgbClr val="ffff00"/>
                </a:solidFill>
                <a:latin typeface="Tahoma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4436640" y="6095880"/>
            <a:ext cx="34542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no Grade 4 toxicity in either ar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701640" y="2075040"/>
            <a:ext cx="7814880" cy="4255560"/>
            <a:chOff x="701640" y="2075040"/>
            <a:chExt cx="7814880" cy="4255560"/>
          </a:xfrm>
        </p:grpSpPr>
        <p:sp>
          <p:nvSpPr>
            <p:cNvPr id="208" name="Rectangle 4"/>
            <p:cNvSpPr/>
            <p:nvPr/>
          </p:nvSpPr>
          <p:spPr>
            <a:xfrm>
              <a:off x="5626080" y="3463200"/>
              <a:ext cx="2885400" cy="423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8 (18.2)</a:t>
              </a:r>
              <a:r>
                <a:rPr b="1" lang="ar-SA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5"/>
            <p:cNvSpPr/>
            <p:nvPr/>
          </p:nvSpPr>
          <p:spPr>
            <a:xfrm>
              <a:off x="3345840" y="3463200"/>
              <a:ext cx="2282040" cy="423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6 (12.2)</a:t>
              </a:r>
              <a:r>
                <a:rPr b="1" lang="ar-SA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701640" y="3463200"/>
              <a:ext cx="264564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k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5626080" y="5924520"/>
              <a:ext cx="2885400" cy="404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3345840" y="5924520"/>
              <a:ext cx="2282040" cy="404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701640" y="5924520"/>
              <a:ext cx="26456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Nausea/vomiting</a:t>
              </a:r>
              <a:r>
                <a:rPr b="1" lang="en-GB" sz="180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5626080" y="5518440"/>
              <a:ext cx="2885400" cy="405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3345840" y="5518440"/>
              <a:ext cx="2282040" cy="405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2 (4)</a:t>
              </a:r>
              <a:r>
                <a:rPr b="1" lang="ar-SA" sz="17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701640" y="5518440"/>
              <a:ext cx="264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Anorexia</a:t>
              </a:r>
              <a:r>
                <a:rPr b="1" lang="en-GB" sz="180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5626080" y="5113800"/>
              <a:ext cx="2885400" cy="404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1 (2)</a:t>
              </a:r>
              <a:r>
                <a:rPr b="1" lang="ar-SA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3345840" y="5113800"/>
              <a:ext cx="2282040" cy="404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2 (4)</a:t>
              </a:r>
              <a:r>
                <a:rPr b="1" lang="ar-SA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15"/>
            <p:cNvSpPr/>
            <p:nvPr/>
          </p:nvSpPr>
          <p:spPr>
            <a:xfrm>
              <a:off x="701640" y="5113800"/>
              <a:ext cx="26456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Oedema</a:t>
              </a:r>
              <a:r>
                <a:rPr b="1" lang="en-GB" sz="180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16"/>
            <p:cNvSpPr/>
            <p:nvPr/>
          </p:nvSpPr>
          <p:spPr>
            <a:xfrm>
              <a:off x="5626080" y="4710600"/>
              <a:ext cx="2885400" cy="404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7"/>
            <p:cNvSpPr/>
            <p:nvPr/>
          </p:nvSpPr>
          <p:spPr>
            <a:xfrm>
              <a:off x="3345840" y="4710600"/>
              <a:ext cx="2282040" cy="404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1 (2)</a:t>
              </a:r>
              <a:r>
                <a:rPr b="1" lang="ar-SA" sz="17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8"/>
            <p:cNvSpPr/>
            <p:nvPr/>
          </p:nvSpPr>
          <p:spPr>
            <a:xfrm>
              <a:off x="701640" y="4710600"/>
              <a:ext cx="26456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Hyperglycaemia</a:t>
              </a:r>
              <a:r>
                <a:rPr b="1" lang="en-GB" sz="180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9"/>
            <p:cNvSpPr/>
            <p:nvPr/>
          </p:nvSpPr>
          <p:spPr>
            <a:xfrm>
              <a:off x="5626080" y="2075040"/>
              <a:ext cx="2885400" cy="518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spcBef>
                  <a:spcPts val="550"/>
                </a:spcBef>
                <a:spcAft>
                  <a:spcPts val="550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99"/>
                  </a:solidFill>
                  <a:latin typeface="Arial"/>
                  <a:ea typeface="ＭＳ Ｐゴシック"/>
                </a:rPr>
                <a:t>TPF</a:t>
              </a:r>
              <a:r>
                <a:rPr b="1" lang="en-GB" sz="2200" spc="-1" strike="noStrike">
                  <a:solidFill>
                    <a:srgbClr val="000099"/>
                  </a:solidFill>
                  <a:latin typeface="Arial"/>
                </a:rPr>
                <a:t>→CT/RT</a:t>
              </a:r>
              <a:r>
                <a:rPr b="1" lang="en-GB" sz="2200" spc="-1" strike="noStrike">
                  <a:solidFill>
                    <a:srgbClr val="000099"/>
                  </a:solidFill>
                  <a:latin typeface="Arial"/>
                  <a:ea typeface="ＭＳ Ｐゴシック"/>
                </a:rPr>
                <a:t> (n = 44)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20"/>
            <p:cNvSpPr/>
            <p:nvPr/>
          </p:nvSpPr>
          <p:spPr>
            <a:xfrm>
              <a:off x="3345840" y="2075040"/>
              <a:ext cx="2282040" cy="518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spcBef>
                  <a:spcPts val="550"/>
                </a:spcBef>
                <a:spcAft>
                  <a:spcPts val="550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99"/>
                  </a:solidFill>
                  <a:latin typeface="Arial"/>
                  <a:ea typeface="ＭＳ Ｐゴシック"/>
                </a:rPr>
                <a:t>CT/RT</a:t>
              </a:r>
              <a:r>
                <a:rPr b="0" lang="en-GB" sz="2200" spc="-1" strike="noStrike">
                  <a:solidFill>
                    <a:srgbClr val="000099"/>
                  </a:solidFill>
                  <a:latin typeface="Arial"/>
                  <a:ea typeface="ＭＳ Ｐゴシック"/>
                </a:rPr>
                <a:t> </a:t>
              </a:r>
              <a:r>
                <a:rPr b="1" lang="en-GB" sz="2200" spc="-1" strike="noStrike">
                  <a:solidFill>
                    <a:srgbClr val="000099"/>
                  </a:solidFill>
                  <a:latin typeface="Arial"/>
                  <a:ea typeface="ＭＳ Ｐゴシック"/>
                </a:rPr>
                <a:t>(n = 49)</a:t>
              </a:r>
              <a:r>
                <a:rPr b="0" lang="en-GB" sz="2200" spc="-1" strike="noStrike">
                  <a:solidFill>
                    <a:srgbClr val="000099"/>
                  </a:solidFill>
                  <a:latin typeface="Arial"/>
                  <a:ea typeface="ＭＳ Ｐゴシック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21"/>
            <p:cNvSpPr/>
            <p:nvPr/>
          </p:nvSpPr>
          <p:spPr>
            <a:xfrm>
              <a:off x="701640" y="2075040"/>
              <a:ext cx="264564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spcBef>
                  <a:spcPts val="550"/>
                </a:spcBef>
                <a:spcAft>
                  <a:spcPts val="550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oxicity</a:t>
              </a:r>
              <a:r>
                <a:rPr b="0" lang="en-GB" sz="2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, n (%)</a:t>
              </a:r>
              <a:r>
                <a:rPr b="0" lang="ar-SA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22"/>
            <p:cNvSpPr/>
            <p:nvPr/>
          </p:nvSpPr>
          <p:spPr>
            <a:xfrm>
              <a:off x="5626080" y="4305960"/>
              <a:ext cx="2885400" cy="404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2 (4.5)</a:t>
              </a:r>
              <a:r>
                <a:rPr b="1" lang="ar-SA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23"/>
            <p:cNvSpPr/>
            <p:nvPr/>
          </p:nvSpPr>
          <p:spPr>
            <a:xfrm>
              <a:off x="5626080" y="3884040"/>
              <a:ext cx="2885400" cy="423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2 (4.5)</a:t>
              </a:r>
              <a:r>
                <a:rPr b="1" lang="ar-SA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24"/>
            <p:cNvSpPr/>
            <p:nvPr/>
          </p:nvSpPr>
          <p:spPr>
            <a:xfrm>
              <a:off x="5626080" y="3041280"/>
              <a:ext cx="2885400" cy="423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9 (20.4)</a:t>
              </a:r>
              <a:r>
                <a:rPr b="1" lang="ar-SA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25"/>
            <p:cNvSpPr/>
            <p:nvPr/>
          </p:nvSpPr>
          <p:spPr>
            <a:xfrm>
              <a:off x="5626080" y="2595240"/>
              <a:ext cx="2885400" cy="447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  <a:ea typeface="ＭＳ Ｐゴシック"/>
                </a:rPr>
                <a:t>12 (27.2)</a:t>
              </a:r>
              <a:r>
                <a:rPr b="1" lang="ar-SA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26"/>
            <p:cNvSpPr/>
            <p:nvPr/>
          </p:nvSpPr>
          <p:spPr>
            <a:xfrm>
              <a:off x="3345840" y="4305960"/>
              <a:ext cx="2282040" cy="404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7"/>
            <p:cNvSpPr/>
            <p:nvPr/>
          </p:nvSpPr>
          <p:spPr>
            <a:xfrm>
              <a:off x="701640" y="4305960"/>
              <a:ext cx="264564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ry mouth</a:t>
              </a:r>
              <a:r>
                <a:rPr b="1" lang="en-GB" sz="180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28"/>
            <p:cNvSpPr/>
            <p:nvPr/>
          </p:nvSpPr>
          <p:spPr>
            <a:xfrm>
              <a:off x="3345840" y="3884040"/>
              <a:ext cx="2282040" cy="423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1 (2)</a:t>
              </a:r>
              <a:r>
                <a:rPr b="1" lang="ar-SA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29"/>
            <p:cNvSpPr/>
            <p:nvPr/>
          </p:nvSpPr>
          <p:spPr>
            <a:xfrm>
              <a:off x="701640" y="3884040"/>
              <a:ext cx="264564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Weight loss</a:t>
              </a:r>
              <a:r>
                <a:rPr b="1" lang="en-GB" sz="180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30"/>
            <p:cNvSpPr/>
            <p:nvPr/>
          </p:nvSpPr>
          <p:spPr>
            <a:xfrm>
              <a:off x="3345840" y="3041280"/>
              <a:ext cx="2282040" cy="423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10 (20.4)</a:t>
              </a:r>
              <a:r>
                <a:rPr b="1" lang="ar-SA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31"/>
            <p:cNvSpPr/>
            <p:nvPr/>
          </p:nvSpPr>
          <p:spPr>
            <a:xfrm>
              <a:off x="701640" y="3041280"/>
              <a:ext cx="264564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ysphag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32"/>
            <p:cNvSpPr/>
            <p:nvPr/>
          </p:nvSpPr>
          <p:spPr>
            <a:xfrm>
              <a:off x="3345840" y="2595240"/>
              <a:ext cx="2282040" cy="447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  <a:ea typeface="ＭＳ Ｐゴシック"/>
                </a:rPr>
                <a:t>18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  <a:ea typeface="ＭＳ Ｐゴシック"/>
                </a:rPr>
                <a:t>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  <a:ea typeface="ＭＳ Ｐゴシック"/>
                </a:rPr>
                <a:t>(36.7)</a:t>
              </a:r>
              <a:r>
                <a:rPr b="1" lang="ar-SA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33"/>
            <p:cNvSpPr/>
            <p:nvPr/>
          </p:nvSpPr>
          <p:spPr>
            <a:xfrm>
              <a:off x="701640" y="2595240"/>
              <a:ext cx="2645640" cy="4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25"/>
                </a:spcBef>
                <a:spcAft>
                  <a:spcPts val="42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tomatit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701640" y="2075040"/>
              <a:ext cx="7813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>
              <a:off x="701640" y="6329520"/>
              <a:ext cx="7813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>
              <a:off x="701640" y="2075040"/>
              <a:ext cx="1440" cy="518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37"/>
            <p:cNvSpPr/>
            <p:nvPr/>
          </p:nvSpPr>
          <p:spPr>
            <a:xfrm>
              <a:off x="8515080" y="2075040"/>
              <a:ext cx="1440" cy="518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701640" y="3041280"/>
              <a:ext cx="1440" cy="3286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39"/>
            <p:cNvSpPr/>
            <p:nvPr/>
          </p:nvSpPr>
          <p:spPr>
            <a:xfrm>
              <a:off x="8515080" y="3041280"/>
              <a:ext cx="1440" cy="3286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40"/>
            <p:cNvSpPr/>
            <p:nvPr/>
          </p:nvSpPr>
          <p:spPr>
            <a:xfrm>
              <a:off x="701640" y="2595240"/>
              <a:ext cx="1440" cy="447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41"/>
            <p:cNvSpPr/>
            <p:nvPr/>
          </p:nvSpPr>
          <p:spPr>
            <a:xfrm>
              <a:off x="8515080" y="2595240"/>
              <a:ext cx="1440" cy="447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42"/>
            <p:cNvSpPr/>
            <p:nvPr/>
          </p:nvSpPr>
          <p:spPr>
            <a:xfrm>
              <a:off x="701640" y="2595240"/>
              <a:ext cx="7813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Rectangle 43"/>
          <p:cNvSpPr/>
          <p:nvPr/>
        </p:nvSpPr>
        <p:spPr>
          <a:xfrm>
            <a:off x="665280" y="2271600"/>
            <a:ext cx="713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44"/>
          <p:cNvSpPr/>
          <p:nvPr/>
        </p:nvSpPr>
        <p:spPr>
          <a:xfrm>
            <a:off x="727200" y="2666880"/>
            <a:ext cx="7148520" cy="1270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45"/>
          <p:cNvGraphicFramePr/>
          <p:nvPr/>
        </p:nvGraphicFramePr>
        <p:xfrm>
          <a:off x="357120" y="214200"/>
          <a:ext cx="86508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214200"/>
                    <a:ext cx="8650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714240" y="500040"/>
            <a:ext cx="739152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304920" y="1522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Compliance with CT/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403200" y="1612800"/>
            <a:ext cx="42418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4"/>
          <p:cNvSpPr/>
          <p:nvPr/>
        </p:nvSpPr>
        <p:spPr>
          <a:xfrm>
            <a:off x="403200" y="1612800"/>
            <a:ext cx="1440" cy="747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8677440" y="1612800"/>
            <a:ext cx="1440" cy="747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403200" y="2360520"/>
            <a:ext cx="1440" cy="48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8677440" y="2360520"/>
            <a:ext cx="1440" cy="48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8"/>
          <p:cNvSpPr/>
          <p:nvPr/>
        </p:nvSpPr>
        <p:spPr>
          <a:xfrm>
            <a:off x="403200" y="2846520"/>
            <a:ext cx="1440" cy="3036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9"/>
          <p:cNvSpPr/>
          <p:nvPr/>
        </p:nvSpPr>
        <p:spPr>
          <a:xfrm>
            <a:off x="8677440" y="2846520"/>
            <a:ext cx="1440" cy="3036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0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7920000" cy="48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Object 11"/>
          <p:cNvGraphicFramePr/>
          <p:nvPr/>
        </p:nvGraphicFramePr>
        <p:xfrm>
          <a:off x="179280" y="179280"/>
          <a:ext cx="935280" cy="9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79280"/>
                    <a:ext cx="93528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12"/>
          <p:cNvSpPr/>
          <p:nvPr/>
        </p:nvSpPr>
        <p:spPr>
          <a:xfrm>
            <a:off x="592200" y="5029200"/>
            <a:ext cx="7148520" cy="90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258840" y="720720"/>
            <a:ext cx="8381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360360" y="1800360"/>
            <a:ext cx="815328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Three cycles of TPF induction therapy: is a feasible treatment option and does not compromise the delivery of subsequent chemoradiotherap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The difference in CR in favor of TPF induction therapy (28.8%; p=0.004) justifies the starting of the Phase III part of the stu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Object 3"/>
          <p:cNvGraphicFramePr/>
          <p:nvPr/>
        </p:nvGraphicFramePr>
        <p:xfrm>
          <a:off x="179280" y="360360"/>
          <a:ext cx="93528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60360"/>
                    <a:ext cx="935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"/>
          <p:cNvSpPr/>
          <p:nvPr/>
        </p:nvSpPr>
        <p:spPr>
          <a:xfrm>
            <a:off x="2627280" y="1844640"/>
            <a:ext cx="393840" cy="2833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RANDOM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324000" y="3716280"/>
            <a:ext cx="25430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Tahoma"/>
              </a:rPr>
              <a:t>Stage  III,IV</a:t>
            </a:r>
            <a:br>
              <a:rPr sz="1800"/>
            </a:br>
            <a:r>
              <a:rPr b="1" lang="en-GB" sz="1800" spc="-1" strike="noStrike">
                <a:solidFill>
                  <a:srgbClr val="66ff33"/>
                </a:solidFill>
                <a:latin typeface="Tahoma"/>
              </a:rPr>
              <a:t>stratification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Tahoma"/>
              </a:rPr>
              <a:t>T stage, N stage, Primary tumor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3"/>
          <p:cNvSpPr/>
          <p:nvPr/>
        </p:nvSpPr>
        <p:spPr>
          <a:xfrm flipV="1">
            <a:off x="3059280" y="2370240"/>
            <a:ext cx="863280" cy="566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4427640" y="1484280"/>
            <a:ext cx="7596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427640" y="1916280"/>
            <a:ext cx="15228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427640" y="2349360"/>
            <a:ext cx="106668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95640" y="1484280"/>
            <a:ext cx="38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66ff33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995640" y="1844640"/>
            <a:ext cx="39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66ff33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4067280" y="2205000"/>
            <a:ext cx="33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66ff33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 flipV="1">
            <a:off x="5796000" y="1649520"/>
            <a:ext cx="863640" cy="6062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6588000" y="3860640"/>
            <a:ext cx="1800360" cy="2923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7807320" y="3522600"/>
            <a:ext cx="2154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68ae"/>
                </a:solidFill>
                <a:latin typeface="Times New Roman"/>
              </a:rPr>
              <a:t>           </a:t>
            </a:r>
            <a:r>
              <a:rPr b="0" lang="it-IT" sz="2000" spc="-1" strike="noStrike">
                <a:solidFill>
                  <a:srgbClr val="0068a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1066680" y="5429160"/>
            <a:ext cx="705672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8956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4720"/>
                <a:tab algn="l" pos="9414000"/>
                <a:tab algn="l" pos="986328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ndpoi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8956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4720"/>
                <a:tab algn="l" pos="9414000"/>
                <a:tab algn="l" pos="986328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ahoma"/>
              </a:rPr>
              <a:t>3y OS Induction vs no induction: A1+A2   vs B1+B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8956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4720"/>
                <a:tab algn="l" pos="9414000"/>
                <a:tab algn="l" pos="986328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ahoma"/>
              </a:rPr>
              <a:t>G3-4 in field toxicity : A1+B1  vs A2+B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8956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4720"/>
                <a:tab algn="l" pos="9414000"/>
                <a:tab algn="l" pos="986328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304920" y="2438280"/>
            <a:ext cx="28400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quamous Cell Cancer of the     Head and Nec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8101080" y="1268280"/>
            <a:ext cx="7596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6732720" y="1268280"/>
            <a:ext cx="7596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17"/>
          <p:cNvSpPr/>
          <p:nvPr/>
        </p:nvSpPr>
        <p:spPr>
          <a:xfrm>
            <a:off x="2987640" y="3213000"/>
            <a:ext cx="1224000" cy="7923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6659640" y="1628640"/>
            <a:ext cx="2154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68ae"/>
                </a:solidFill>
                <a:latin typeface="Times New Roman"/>
              </a:rPr>
              <a:t>           </a:t>
            </a:r>
            <a:r>
              <a:rPr b="0" lang="it-IT" sz="2000" spc="-1" strike="noStrike">
                <a:solidFill>
                  <a:srgbClr val="0068a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6732720" y="1628640"/>
            <a:ext cx="1726920" cy="2923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6588000" y="3500280"/>
            <a:ext cx="7632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8028000" y="3500280"/>
            <a:ext cx="7632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7094160" y="112536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7020000" y="350028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179280" y="18900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ahoma"/>
              </a:rPr>
              <a:t>GSTTC PHASE III ONGOING STUDY</a:t>
            </a:r>
            <a:r>
              <a:rPr b="1" lang="it-IT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25"/>
          <p:cNvSpPr/>
          <p:nvPr/>
        </p:nvSpPr>
        <p:spPr>
          <a:xfrm>
            <a:off x="5796000" y="2205000"/>
            <a:ext cx="576360" cy="432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6659640" y="2852640"/>
            <a:ext cx="1800000" cy="2923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27"/>
          <p:cNvSpPr/>
          <p:nvPr/>
        </p:nvSpPr>
        <p:spPr>
          <a:xfrm>
            <a:off x="6629400" y="2514600"/>
            <a:ext cx="76320" cy="36828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28"/>
          <p:cNvSpPr/>
          <p:nvPr/>
        </p:nvSpPr>
        <p:spPr>
          <a:xfrm>
            <a:off x="6858000" y="2514600"/>
            <a:ext cx="76320" cy="36828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29"/>
          <p:cNvSpPr/>
          <p:nvPr/>
        </p:nvSpPr>
        <p:spPr>
          <a:xfrm>
            <a:off x="7086600" y="2514600"/>
            <a:ext cx="73080" cy="36828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30"/>
          <p:cNvSpPr/>
          <p:nvPr/>
        </p:nvSpPr>
        <p:spPr>
          <a:xfrm>
            <a:off x="8153280" y="2514600"/>
            <a:ext cx="76320" cy="36828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31"/>
          <p:cNvSpPr/>
          <p:nvPr/>
        </p:nvSpPr>
        <p:spPr>
          <a:xfrm>
            <a:off x="8388360" y="2492280"/>
            <a:ext cx="76320" cy="36828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2"/>
          <p:cNvSpPr/>
          <p:nvPr/>
        </p:nvSpPr>
        <p:spPr>
          <a:xfrm>
            <a:off x="7308720" y="2492280"/>
            <a:ext cx="76320" cy="36828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33"/>
          <p:cNvSpPr/>
          <p:nvPr/>
        </p:nvSpPr>
        <p:spPr>
          <a:xfrm>
            <a:off x="6372000" y="2060640"/>
            <a:ext cx="22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C C C C C C C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34"/>
          <p:cNvSpPr/>
          <p:nvPr/>
        </p:nvSpPr>
        <p:spPr>
          <a:xfrm>
            <a:off x="7620120" y="2514600"/>
            <a:ext cx="75960" cy="36828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5"/>
          <p:cNvSpPr/>
          <p:nvPr/>
        </p:nvSpPr>
        <p:spPr>
          <a:xfrm>
            <a:off x="7924680" y="2514600"/>
            <a:ext cx="76320" cy="36828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36"/>
          <p:cNvSpPr/>
          <p:nvPr/>
        </p:nvSpPr>
        <p:spPr>
          <a:xfrm>
            <a:off x="4211640" y="3860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NO 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37"/>
          <p:cNvSpPr/>
          <p:nvPr/>
        </p:nvSpPr>
        <p:spPr>
          <a:xfrm flipV="1">
            <a:off x="5724360" y="3809880"/>
            <a:ext cx="863640" cy="4622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8"/>
          <p:cNvSpPr/>
          <p:nvPr/>
        </p:nvSpPr>
        <p:spPr>
          <a:xfrm>
            <a:off x="5724360" y="4221000"/>
            <a:ext cx="576360" cy="432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39"/>
          <p:cNvSpPr/>
          <p:nvPr/>
        </p:nvSpPr>
        <p:spPr>
          <a:xfrm>
            <a:off x="6588000" y="5084640"/>
            <a:ext cx="1800360" cy="2923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40"/>
          <p:cNvSpPr/>
          <p:nvPr/>
        </p:nvSpPr>
        <p:spPr>
          <a:xfrm>
            <a:off x="6228000" y="4365720"/>
            <a:ext cx="23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C C C C C C C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41"/>
          <p:cNvSpPr/>
          <p:nvPr/>
        </p:nvSpPr>
        <p:spPr>
          <a:xfrm>
            <a:off x="7524720" y="4724280"/>
            <a:ext cx="76320" cy="36828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42"/>
          <p:cNvSpPr/>
          <p:nvPr/>
        </p:nvSpPr>
        <p:spPr>
          <a:xfrm>
            <a:off x="6404040" y="4680000"/>
            <a:ext cx="75960" cy="36828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43"/>
          <p:cNvSpPr/>
          <p:nvPr/>
        </p:nvSpPr>
        <p:spPr>
          <a:xfrm>
            <a:off x="6764400" y="4680000"/>
            <a:ext cx="75960" cy="36828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44"/>
          <p:cNvSpPr/>
          <p:nvPr/>
        </p:nvSpPr>
        <p:spPr>
          <a:xfrm>
            <a:off x="7020000" y="4680000"/>
            <a:ext cx="75960" cy="36828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45"/>
          <p:cNvSpPr/>
          <p:nvPr/>
        </p:nvSpPr>
        <p:spPr>
          <a:xfrm>
            <a:off x="7304040" y="4672080"/>
            <a:ext cx="76320" cy="36828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46"/>
          <p:cNvSpPr/>
          <p:nvPr/>
        </p:nvSpPr>
        <p:spPr>
          <a:xfrm>
            <a:off x="7812000" y="4724280"/>
            <a:ext cx="76320" cy="36828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47"/>
          <p:cNvSpPr/>
          <p:nvPr/>
        </p:nvSpPr>
        <p:spPr>
          <a:xfrm>
            <a:off x="8028000" y="4724280"/>
            <a:ext cx="76320" cy="36828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48"/>
          <p:cNvSpPr/>
          <p:nvPr/>
        </p:nvSpPr>
        <p:spPr>
          <a:xfrm>
            <a:off x="8317080" y="4724280"/>
            <a:ext cx="75960" cy="36828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49"/>
          <p:cNvSpPr/>
          <p:nvPr/>
        </p:nvSpPr>
        <p:spPr>
          <a:xfrm>
            <a:off x="8532720" y="148428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50"/>
          <p:cNvSpPr/>
          <p:nvPr/>
        </p:nvSpPr>
        <p:spPr>
          <a:xfrm>
            <a:off x="8532720" y="270828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51"/>
          <p:cNvSpPr/>
          <p:nvPr/>
        </p:nvSpPr>
        <p:spPr>
          <a:xfrm>
            <a:off x="8532720" y="378936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B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52"/>
          <p:cNvSpPr/>
          <p:nvPr/>
        </p:nvSpPr>
        <p:spPr>
          <a:xfrm>
            <a:off x="8532720" y="494172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B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Object 53"/>
          <p:cNvGraphicFramePr/>
          <p:nvPr/>
        </p:nvGraphicFramePr>
        <p:xfrm>
          <a:off x="179280" y="900000"/>
          <a:ext cx="935280" cy="9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0000"/>
                    <a:ext cx="93528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Studio spontaneo di fase I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457200" y="1600200"/>
            <a:ext cx="8229600" cy="46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2840" indent="-312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3128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296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ahoma"/>
              </a:rPr>
              <a:t>Promotore: AVAPO Ricerche - Venez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840" indent="-31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28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296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840" indent="-312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3128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296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ahoma"/>
              </a:rPr>
              <a:t>Sperimentatore principale: A. Paccagnel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840" indent="-31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28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296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840" indent="-312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3128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296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ahoma"/>
              </a:rPr>
              <a:t>CE coordinatore:  Oncologia Venez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840" indent="-31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28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296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840" indent="-312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3128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296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ahoma"/>
              </a:rPr>
              <a:t>Gestione dello studio: IRFM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840" indent="-31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28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296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840" indent="-31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28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296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7740720" y="1301760"/>
            <a:ext cx="780840" cy="85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Object 4"/>
          <p:cNvGraphicFramePr/>
          <p:nvPr/>
        </p:nvGraphicFramePr>
        <p:xfrm>
          <a:off x="7788240" y="3071880"/>
          <a:ext cx="934920" cy="9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88240" y="3071880"/>
                    <a:ext cx="9349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7" name="Picture 5" descr=""/>
          <p:cNvPicPr/>
          <p:nvPr/>
        </p:nvPicPr>
        <p:blipFill>
          <a:blip r:embed="rId4"/>
          <a:stretch/>
        </p:blipFill>
        <p:spPr>
          <a:xfrm>
            <a:off x="6000840" y="4572000"/>
            <a:ext cx="242568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0" y="-985680"/>
            <a:ext cx="91440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Phase III: Statistical considerations 1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Neodj. vs no-Neoadj. </a:t>
            </a:r>
            <a:br>
              <a:rPr sz="3200"/>
            </a:br>
            <a:r>
              <a:rPr b="1" lang="en-GB" sz="2800" spc="-1" strike="noStrike">
                <a:solidFill>
                  <a:srgbClr val="ffff00"/>
                </a:solidFill>
                <a:latin typeface="Tahoma"/>
              </a:rPr>
              <a:t>(A1-A2 vs B1-B2)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804960" y="329724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6788160" y="329724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539640" y="2340000"/>
            <a:ext cx="809964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350 (175 per arm) pts required to detect a difference of 15% in 3 year overall survival in favour of the induction arm (from 45% to 60%). Power=0.85; HR=0.64; type I error of 0.05, two-sided.</a:t>
            </a:r>
            <a:r>
              <a:rPr b="1" lang="en-GB" sz="2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- Accrual 3y + 2y follow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79280" y="3959280"/>
            <a:ext cx="882036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Object 6"/>
          <p:cNvGraphicFramePr/>
          <p:nvPr/>
        </p:nvGraphicFramePr>
        <p:xfrm>
          <a:off x="179280" y="720720"/>
          <a:ext cx="93528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20720"/>
                    <a:ext cx="935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0" y="82440"/>
            <a:ext cx="914400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Statistical considerations 2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RT/CT  vs  RT/CETUXIMAB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(A1-B1 vs A2-B2)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804960" y="329724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6788160" y="329724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539640" y="1800360"/>
            <a:ext cx="809964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s for second primary endpoint, a number of 350  patients will provide a power of 80% to detect a difference of 15% (from 50% to 35%) in grade 3-4 in-field mucosal toxicity in favour of Cetuxima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etuximab arm not balanced by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Object 5"/>
          <p:cNvGraphicFramePr/>
          <p:nvPr/>
        </p:nvGraphicFramePr>
        <p:xfrm>
          <a:off x="179280" y="720720"/>
          <a:ext cx="93528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20720"/>
                    <a:ext cx="935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1428840" y="571680"/>
            <a:ext cx="73911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ahoma"/>
                <a:ea typeface="Tahoma"/>
              </a:rPr>
              <a:t>ARRUOLAMENTO  AL 30/09/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285920" y="5572080"/>
            <a:ext cx="650088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  <a:ea typeface="Tahoma"/>
              </a:rPr>
              <a:t>321 PAZIENTI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  <a:ea typeface="Tahoma"/>
              </a:rPr>
              <a:t>(fase II + fase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5" descr=""/>
          <p:cNvPicPr/>
          <p:nvPr/>
        </p:nvPicPr>
        <p:blipFill>
          <a:blip r:embed="rId1"/>
          <a:stretch/>
        </p:blipFill>
        <p:spPr>
          <a:xfrm>
            <a:off x="360360" y="1584360"/>
            <a:ext cx="8450280" cy="38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6" name="Object 6"/>
          <p:cNvGraphicFramePr/>
          <p:nvPr/>
        </p:nvGraphicFramePr>
        <p:xfrm>
          <a:off x="179280" y="179280"/>
          <a:ext cx="935280" cy="9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79280"/>
                    <a:ext cx="93528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6"/>
          <p:cNvSpPr/>
          <p:nvPr/>
        </p:nvSpPr>
        <p:spPr>
          <a:xfrm>
            <a:off x="1214280" y="5357880"/>
            <a:ext cx="742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900000" y="571680"/>
            <a:ext cx="7743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ahoma"/>
                <a:ea typeface="Tahoma"/>
              </a:rPr>
              <a:t>STATUS DEI CENTRI AL 30/09/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1214280" y="5357880"/>
            <a:ext cx="742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9" descr=""/>
          <p:cNvPicPr/>
          <p:nvPr/>
        </p:nvPicPr>
        <p:blipFill>
          <a:blip r:embed="rId1"/>
          <a:stretch/>
        </p:blipFill>
        <p:spPr>
          <a:xfrm>
            <a:off x="357120" y="1913040"/>
            <a:ext cx="7851960" cy="366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7" name="Object 10"/>
          <p:cNvGraphicFramePr/>
          <p:nvPr/>
        </p:nvGraphicFramePr>
        <p:xfrm>
          <a:off x="179280" y="720720"/>
          <a:ext cx="93528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720720"/>
                    <a:ext cx="935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720720" y="720720"/>
            <a:ext cx="792000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it-IT" sz="4000" spc="-1" strike="noStrike">
                <a:solidFill>
                  <a:srgbClr val="ffff00"/>
                </a:solidFill>
                <a:latin typeface="Tahoma"/>
              </a:rPr>
              <a:t>Emend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950e"/>
                </a:solidFill>
                <a:latin typeface="Tahoma"/>
              </a:rPr>
              <a:t>420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(210 per arm) pts required to detect a difference of 12% in 3 year overall survival in favour of the induction arm. </a:t>
            </a:r>
            <a:r>
              <a:rPr b="1" lang="en-GB" sz="2400" spc="-1" strike="noStrike">
                <a:solidFill>
                  <a:srgbClr val="ffd320"/>
                </a:solidFill>
                <a:latin typeface="Tahoma"/>
              </a:rPr>
              <a:t>Power=0.80;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R=0.675; type I error of 0.05, two-sided.</a:t>
            </a:r>
            <a:r>
              <a:rPr b="1" lang="en-GB" sz="2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d320"/>
                </a:solidFill>
                <a:latin typeface="Tahoma"/>
              </a:rPr>
              <a:t>- Accrual 4y + 2y follow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0" name="Object 2"/>
          <p:cNvGraphicFramePr/>
          <p:nvPr/>
        </p:nvGraphicFramePr>
        <p:xfrm>
          <a:off x="325440" y="539640"/>
          <a:ext cx="934920" cy="9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539640"/>
                    <a:ext cx="9349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0" y="1620000"/>
            <a:ext cx="2057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7520" indent="-47520">
              <a:lnSpc>
                <a:spcPct val="100000"/>
              </a:lnSpc>
              <a:buClr>
                <a:srgbClr val="ccff66"/>
              </a:buClr>
              <a:buFont typeface="Tekton Pro"/>
              <a:buChar char="•"/>
              <a:tabLst>
                <a:tab algn="l" pos="47520"/>
                <a:tab algn="l" pos="49536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ekton Pro"/>
              </a:rPr>
              <a:t>SCHN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7520" indent="-47520">
              <a:lnSpc>
                <a:spcPct val="100000"/>
              </a:lnSpc>
              <a:tabLst>
                <a:tab algn="l" pos="0"/>
                <a:tab algn="l" pos="47520"/>
                <a:tab algn="l" pos="49536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ekton Pro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Tekton Pro"/>
              </a:rPr>
              <a:t>stage III,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7520" indent="-47520">
              <a:lnSpc>
                <a:spcPct val="100000"/>
              </a:lnSpc>
              <a:tabLst>
                <a:tab algn="l" pos="0"/>
                <a:tab algn="l" pos="47520"/>
                <a:tab algn="l" pos="49536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7520" indent="-47520">
              <a:lnSpc>
                <a:spcPct val="100000"/>
              </a:lnSpc>
              <a:buClr>
                <a:srgbClr val="ccff66"/>
              </a:buClr>
              <a:buFont typeface="Tekton Pro"/>
              <a:buChar char="•"/>
              <a:tabLst>
                <a:tab algn="l" pos="47520"/>
                <a:tab algn="l" pos="49536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ekton Pro"/>
              </a:rPr>
              <a:t>Stratif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7520" indent="-47520">
              <a:lnSpc>
                <a:spcPct val="100000"/>
              </a:lnSpc>
              <a:tabLst>
                <a:tab algn="l" pos="0"/>
                <a:tab algn="l" pos="47520"/>
                <a:tab algn="l" pos="49536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ekton Pro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ekton Pro"/>
              </a:rPr>
              <a:t>T s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7520" indent="-47520">
              <a:lnSpc>
                <a:spcPct val="100000"/>
              </a:lnSpc>
              <a:tabLst>
                <a:tab algn="l" pos="0"/>
                <a:tab algn="l" pos="47520"/>
                <a:tab algn="l" pos="49536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ekton Pro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ekton Pro"/>
              </a:rPr>
              <a:t>N s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7520" indent="-47520">
              <a:lnSpc>
                <a:spcPct val="100000"/>
              </a:lnSpc>
              <a:tabLst>
                <a:tab algn="l" pos="0"/>
                <a:tab algn="l" pos="47520"/>
                <a:tab algn="l" pos="49536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ekton Pro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ekton Pro"/>
              </a:rPr>
              <a:t>Primary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7520" indent="-47520">
              <a:lnSpc>
                <a:spcPct val="100000"/>
              </a:lnSpc>
              <a:tabLst>
                <a:tab algn="l" pos="0"/>
                <a:tab algn="l" pos="47520"/>
                <a:tab algn="l" pos="49536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7520" indent="-47520">
              <a:lnSpc>
                <a:spcPct val="100000"/>
              </a:lnSpc>
              <a:tabLst>
                <a:tab algn="l" pos="0"/>
                <a:tab algn="l" pos="47520"/>
                <a:tab algn="l" pos="49536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ekton Pro"/>
              </a:rPr>
              <a:t>Larynx and naso exclu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7520" indent="-47520">
              <a:lnSpc>
                <a:spcPct val="100000"/>
              </a:lnSpc>
              <a:tabLst>
                <a:tab algn="l" pos="0"/>
                <a:tab algn="l" pos="47520"/>
                <a:tab algn="l" pos="49536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666960" y="3063960"/>
            <a:ext cx="2127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815480" y="2425680"/>
            <a:ext cx="331560" cy="288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Tekton Pro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1979640" y="2965320"/>
            <a:ext cx="3941640" cy="16192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79280" y="6119640"/>
            <a:ext cx="54864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1° : radiological CR at end of treatm</a:t>
            </a:r>
            <a:r>
              <a:rPr b="1" lang="it-IT" sz="1800" spc="-1" strike="noStrike">
                <a:solidFill>
                  <a:srgbClr val="ffff00"/>
                </a:solidFill>
                <a:latin typeface="Trebuchet MS"/>
              </a:rPr>
              <a:t>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V="1">
            <a:off x="2160720" y="2039760"/>
            <a:ext cx="484200" cy="4240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5029200" y="2413080"/>
            <a:ext cx="685800" cy="14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019920" y="4470480"/>
            <a:ext cx="1800000" cy="29196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6019920" y="4089240"/>
            <a:ext cx="75960" cy="3686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7315200" y="4089240"/>
            <a:ext cx="76320" cy="3686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5741280" y="3174840"/>
            <a:ext cx="1998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onventional 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2971800" y="2719440"/>
            <a:ext cx="45720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2971800" y="1803240"/>
            <a:ext cx="76320" cy="3686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2971800" y="2260440"/>
            <a:ext cx="76320" cy="3686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2590920" y="1803240"/>
            <a:ext cx="3045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Trebuchet MS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Trebuchet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5867280" y="2260440"/>
            <a:ext cx="1800360" cy="2923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7238880" y="1879560"/>
            <a:ext cx="7632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5867280" y="1879560"/>
            <a:ext cx="7632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6172200" y="1803240"/>
            <a:ext cx="9144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Trebuchet MS"/>
              </a:rPr>
              <a:t>PF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20"/>
          <p:cNvSpPr/>
          <p:nvPr/>
        </p:nvSpPr>
        <p:spPr>
          <a:xfrm>
            <a:off x="6382800" y="3938760"/>
            <a:ext cx="564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1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Trebuchet MS"/>
              </a:rPr>
              <a:t>PF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1"/>
          <p:cNvSpPr/>
          <p:nvPr/>
        </p:nvSpPr>
        <p:spPr>
          <a:xfrm>
            <a:off x="2887200" y="1879560"/>
            <a:ext cx="15537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it-IT" sz="1400" spc="-1" strike="noStrike">
                <a:solidFill>
                  <a:srgbClr val="ffffff"/>
                </a:solidFill>
                <a:latin typeface="Trebuchet MS"/>
              </a:rPr>
              <a:t>(75 mg/m² d1)</a:t>
            </a:r>
            <a:r>
              <a:rPr b="1" lang="ar-SA" sz="1400" spc="-1" strike="noStrike">
                <a:solidFill>
                  <a:srgbClr val="ffffff"/>
                </a:solidFill>
                <a:latin typeface="Trebuchet MS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2"/>
          <p:cNvSpPr/>
          <p:nvPr/>
        </p:nvSpPr>
        <p:spPr>
          <a:xfrm>
            <a:off x="3031200" y="2260440"/>
            <a:ext cx="141660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1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rebuchet MS"/>
              </a:rPr>
              <a:t>(80 mg/m² d1)</a:t>
            </a:r>
            <a:r>
              <a:rPr b="1" lang="ar-SA" sz="1400" spc="-1" strike="noStrike">
                <a:solidFill>
                  <a:srgbClr val="ffffff"/>
                </a:solidFill>
                <a:latin typeface="Trebuchet MS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3260520" y="2641680"/>
            <a:ext cx="194688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it-IT" sz="1400" spc="-1" strike="noStrike">
                <a:solidFill>
                  <a:srgbClr val="ffffff"/>
                </a:solidFill>
                <a:latin typeface="Trebuchet MS"/>
              </a:rPr>
              <a:t>(800 mg/m² 96h CI)</a:t>
            </a:r>
            <a:r>
              <a:rPr b="1" lang="ar-SA" sz="1400" spc="-1" strike="noStrike">
                <a:solidFill>
                  <a:srgbClr val="ffffff"/>
                </a:solidFill>
                <a:latin typeface="Trebuchet MS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24"/>
          <p:cNvSpPr/>
          <p:nvPr/>
        </p:nvSpPr>
        <p:spPr>
          <a:xfrm>
            <a:off x="5181480" y="5308560"/>
            <a:ext cx="457200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rebuchet MS"/>
              </a:rPr>
              <a:t>*PF:</a:t>
            </a:r>
            <a:r>
              <a:rPr b="1" lang="en-GB" sz="1600" spc="-1" strike="noStrike">
                <a:solidFill>
                  <a:srgbClr val="ccff66"/>
                </a:solidFill>
                <a:latin typeface="Trebuchet MS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rebuchet MS"/>
              </a:rPr>
              <a:t>Cisplatin (20 mg/m² d1-4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rebuchet MS"/>
              </a:rPr>
              <a:t>5-FU (800 mg/m² 96h CI)</a:t>
            </a:r>
            <a:r>
              <a:rPr b="1" lang="ar-SA" sz="1600" spc="-1" strike="noStrike">
                <a:solidFill>
                  <a:srgbClr val="ffffff"/>
                </a:solidFill>
                <a:latin typeface="Trebuchet M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2747520" y="3071880"/>
            <a:ext cx="22046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rebuchet MS"/>
              </a:rPr>
              <a:t>Q 3 weeks x 3 cyc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-1143000" y="5219640"/>
            <a:ext cx="690228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71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Neck dissection in N2-3 pts with pC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on primary site at the end of CT\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7"/>
          <p:cNvSpPr/>
          <p:nvPr/>
        </p:nvSpPr>
        <p:spPr>
          <a:xfrm>
            <a:off x="1079640" y="179280"/>
            <a:ext cx="766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Design of the phase II par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of the stu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Object 28"/>
          <p:cNvGraphicFramePr/>
          <p:nvPr/>
        </p:nvGraphicFramePr>
        <p:xfrm>
          <a:off x="144360" y="179280"/>
          <a:ext cx="935280" cy="9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79280"/>
                    <a:ext cx="93528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642960" y="20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Studi concorren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3" name="Object 2"/>
          <p:cNvGraphicFramePr/>
          <p:nvPr/>
        </p:nvGraphicFramePr>
        <p:xfrm>
          <a:off x="325440" y="539640"/>
          <a:ext cx="934920" cy="9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539640"/>
                    <a:ext cx="9349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838080" y="179280"/>
            <a:ext cx="77058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lang="it-IT" sz="3200" spc="-1" strike="noStrike">
                <a:solidFill>
                  <a:srgbClr val="ffff00"/>
                </a:solidFill>
                <a:latin typeface="Tahoma"/>
              </a:rPr>
              <a:t>ONGOING PHASE III STUD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10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ahoma"/>
                <a:ea typeface="MS Gothic"/>
              </a:rPr>
              <a:t> </a:t>
            </a:r>
            <a:r>
              <a:rPr b="1" lang="it-IT" sz="3200" spc="-1" strike="noStrike">
                <a:solidFill>
                  <a:srgbClr val="ffff00"/>
                </a:solidFill>
                <a:latin typeface="Tahoma"/>
                <a:ea typeface="MS Gothic"/>
              </a:rPr>
              <a:t>CT/RT +/- INDUCTION 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60360" y="1619280"/>
          <a:ext cx="8462880" cy="7427880"/>
        </p:xfrm>
        <a:graphic>
          <a:graphicData uri="http://schemas.openxmlformats.org/drawingml/2006/table">
            <a:tbl>
              <a:tblPr/>
              <a:tblGrid>
                <a:gridCol w="1868400"/>
                <a:gridCol w="4124520"/>
                <a:gridCol w="1506600"/>
                <a:gridCol w="963360"/>
              </a:tblGrid>
              <a:tr h="2682360">
                <a:tc>
                  <a:txBody>
                    <a:bodyPr lIns="90000" rIns="90000" tIns="2036520" bIns="46800" anchor="t">
                      <a:noAutofit/>
                    </a:bodyPr>
                    <a:p>
                      <a:pPr>
                        <a:lnSpc>
                          <a:spcPct val="2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6088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6088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6088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360">
                <a:tc>
                  <a:txBody>
                    <a:bodyPr lIns="90000" rIns="90000" tIns="2036520" bIns="46800" anchor="t">
                      <a:noAutofit/>
                    </a:bodyPr>
                    <a:p>
                      <a:pPr>
                        <a:lnSpc>
                          <a:spcPct val="2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6088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6088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6088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360">
                <a:tc>
                  <a:txBody>
                    <a:bodyPr lIns="90000" rIns="90000" tIns="2036520" bIns="46800" anchor="t">
                      <a:noAutofit/>
                    </a:bodyPr>
                    <a:p>
                      <a:pPr>
                        <a:lnSpc>
                          <a:spcPct val="2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6088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6088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6088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Text Box 15"/>
          <p:cNvSpPr/>
          <p:nvPr/>
        </p:nvSpPr>
        <p:spPr>
          <a:xfrm>
            <a:off x="425520" y="3967200"/>
            <a:ext cx="13748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700" spc="-1" strike="noStrike">
                <a:solidFill>
                  <a:srgbClr val="ffff00"/>
                </a:solidFill>
                <a:latin typeface="Garamond"/>
              </a:rPr>
              <a:t>SWOG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700" spc="-1" strike="noStrike">
                <a:solidFill>
                  <a:srgbClr val="ffff00"/>
                </a:solidFill>
                <a:latin typeface="Garamond"/>
              </a:rPr>
              <a:t>ECO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6"/>
          <p:cNvSpPr/>
          <p:nvPr/>
        </p:nvSpPr>
        <p:spPr>
          <a:xfrm>
            <a:off x="2160720" y="5040360"/>
            <a:ext cx="37796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TPF             DDP x 3/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DDP x 3/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360360" y="3635280"/>
            <a:ext cx="140328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Garamond"/>
              </a:rPr>
              <a:t>Deci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Garamond"/>
              </a:rPr>
              <a:t>Chica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433440" y="1981080"/>
            <a:ext cx="17254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Paradig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U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2160720" y="3600360"/>
            <a:ext cx="34192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TPF                DFH/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DFH/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20"/>
          <p:cNvSpPr/>
          <p:nvPr/>
        </p:nvSpPr>
        <p:spPr>
          <a:xfrm>
            <a:off x="2282760" y="1979640"/>
            <a:ext cx="72565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TPF           Cb w /RT (C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Txt w /RT (no C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DDPx2/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21"/>
          <p:cNvSpPr/>
          <p:nvPr/>
        </p:nvSpPr>
        <p:spPr>
          <a:xfrm>
            <a:off x="3059280" y="3780000"/>
            <a:ext cx="72072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22"/>
          <p:cNvSpPr/>
          <p:nvPr/>
        </p:nvSpPr>
        <p:spPr>
          <a:xfrm>
            <a:off x="3059280" y="2160720"/>
            <a:ext cx="72072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23"/>
          <p:cNvSpPr/>
          <p:nvPr/>
        </p:nvSpPr>
        <p:spPr>
          <a:xfrm>
            <a:off x="2879640" y="5219640"/>
            <a:ext cx="722520" cy="1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24"/>
          <p:cNvSpPr/>
          <p:nvPr/>
        </p:nvSpPr>
        <p:spPr>
          <a:xfrm>
            <a:off x="3060720" y="2340000"/>
            <a:ext cx="719280" cy="360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5"/>
          <p:cNvSpPr/>
          <p:nvPr/>
        </p:nvSpPr>
        <p:spPr>
          <a:xfrm>
            <a:off x="6480000" y="5040360"/>
            <a:ext cx="14400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Resec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oropharyn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6"/>
          <p:cNvSpPr/>
          <p:nvPr/>
        </p:nvSpPr>
        <p:spPr>
          <a:xfrm>
            <a:off x="6480000" y="3600360"/>
            <a:ext cx="2490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Resec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Unresec 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6581880" y="1755720"/>
            <a:ext cx="1877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Resectab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Unres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28"/>
          <p:cNvSpPr/>
          <p:nvPr/>
        </p:nvSpPr>
        <p:spPr>
          <a:xfrm>
            <a:off x="8099280" y="5040360"/>
            <a:ext cx="72072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2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29"/>
          <p:cNvSpPr/>
          <p:nvPr/>
        </p:nvSpPr>
        <p:spPr>
          <a:xfrm>
            <a:off x="8099280" y="3600360"/>
            <a:ext cx="72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3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0"/>
          <p:cNvSpPr/>
          <p:nvPr/>
        </p:nvSpPr>
        <p:spPr>
          <a:xfrm>
            <a:off x="8099280" y="1800360"/>
            <a:ext cx="5781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3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31"/>
          <p:cNvSpPr/>
          <p:nvPr/>
        </p:nvSpPr>
        <p:spPr>
          <a:xfrm>
            <a:off x="14195520" y="7391520"/>
            <a:ext cx="7705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ONGOING  PHASE III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COMPARING CT/RT +/- INDUCTION 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3717440" y="8831160"/>
          <a:ext cx="8463240" cy="7346880"/>
        </p:xfrm>
        <a:graphic>
          <a:graphicData uri="http://schemas.openxmlformats.org/drawingml/2006/table">
            <a:tbl>
              <a:tblPr/>
              <a:tblGrid>
                <a:gridCol w="1868760"/>
                <a:gridCol w="4124160"/>
                <a:gridCol w="1460520"/>
                <a:gridCol w="1009800"/>
              </a:tblGrid>
              <a:tr h="2655000">
                <a:tc>
                  <a:txBody>
                    <a:bodyPr lIns="90000" rIns="90000" tIns="2036520" bIns="46800" anchor="t">
                      <a:noAutofit/>
                    </a:bodyPr>
                    <a:p>
                      <a:pPr>
                        <a:lnSpc>
                          <a:spcPct val="2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3352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3352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3352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5000">
                <a:tc>
                  <a:txBody>
                    <a:bodyPr lIns="90000" rIns="90000" tIns="2036520" bIns="46800" anchor="t">
                      <a:noAutofit/>
                    </a:bodyPr>
                    <a:p>
                      <a:pPr>
                        <a:lnSpc>
                          <a:spcPct val="2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3352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3352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3352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5000">
                <a:tc>
                  <a:txBody>
                    <a:bodyPr lIns="90000" rIns="90000" tIns="2036520" bIns="46800" anchor="t">
                      <a:noAutofit/>
                    </a:bodyPr>
                    <a:p>
                      <a:pPr>
                        <a:lnSpc>
                          <a:spcPct val="2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3352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3352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3352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Text Box 45"/>
          <p:cNvSpPr/>
          <p:nvPr/>
        </p:nvSpPr>
        <p:spPr>
          <a:xfrm>
            <a:off x="13782600" y="7829640"/>
            <a:ext cx="1374840" cy="20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700" spc="-1" strike="noStrike">
                <a:solidFill>
                  <a:srgbClr val="ffff00"/>
                </a:solidFill>
                <a:latin typeface="Garamond"/>
              </a:rPr>
              <a:t>SWOG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700" spc="-1" strike="noStrike">
                <a:solidFill>
                  <a:srgbClr val="ffff00"/>
                </a:solidFill>
                <a:latin typeface="Garamond"/>
              </a:rPr>
              <a:t>ECO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46"/>
          <p:cNvSpPr/>
          <p:nvPr/>
        </p:nvSpPr>
        <p:spPr>
          <a:xfrm>
            <a:off x="15697080" y="9012240"/>
            <a:ext cx="360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TPF             DDP x 3/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DDP x 3/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7"/>
          <p:cNvSpPr/>
          <p:nvPr/>
        </p:nvSpPr>
        <p:spPr>
          <a:xfrm>
            <a:off x="13811400" y="10452240"/>
            <a:ext cx="1346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Garamond"/>
              </a:rPr>
              <a:t>Deci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Garamond"/>
              </a:rPr>
              <a:t>Chica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48"/>
          <p:cNvSpPr/>
          <p:nvPr/>
        </p:nvSpPr>
        <p:spPr>
          <a:xfrm>
            <a:off x="13717440" y="11891880"/>
            <a:ext cx="16513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Paradig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U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49"/>
          <p:cNvSpPr/>
          <p:nvPr/>
        </p:nvSpPr>
        <p:spPr>
          <a:xfrm>
            <a:off x="15697080" y="10631520"/>
            <a:ext cx="34941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TPF                DFH/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DFH/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50"/>
          <p:cNvSpPr/>
          <p:nvPr/>
        </p:nvSpPr>
        <p:spPr>
          <a:xfrm>
            <a:off x="15602040" y="11879280"/>
            <a:ext cx="72565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TPF           Cb w /RT (C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Txt w /RT (no C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Cb w/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51"/>
          <p:cNvSpPr/>
          <p:nvPr/>
        </p:nvSpPr>
        <p:spPr>
          <a:xfrm>
            <a:off x="16417800" y="9191520"/>
            <a:ext cx="720720" cy="1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52"/>
          <p:cNvSpPr/>
          <p:nvPr/>
        </p:nvSpPr>
        <p:spPr>
          <a:xfrm>
            <a:off x="16597440" y="10810800"/>
            <a:ext cx="720720" cy="1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3"/>
          <p:cNvSpPr/>
          <p:nvPr/>
        </p:nvSpPr>
        <p:spPr>
          <a:xfrm>
            <a:off x="16417800" y="9191520"/>
            <a:ext cx="720720" cy="1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54"/>
          <p:cNvSpPr/>
          <p:nvPr/>
        </p:nvSpPr>
        <p:spPr>
          <a:xfrm>
            <a:off x="16417800" y="9191520"/>
            <a:ext cx="720720" cy="1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>
            <a:off x="16417800" y="12071520"/>
            <a:ext cx="54144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16417800" y="12252240"/>
            <a:ext cx="540000" cy="360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57"/>
          <p:cNvSpPr/>
          <p:nvPr/>
        </p:nvSpPr>
        <p:spPr>
          <a:xfrm>
            <a:off x="19658160" y="9012240"/>
            <a:ext cx="1409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Resec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oropharyn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58"/>
          <p:cNvSpPr/>
          <p:nvPr/>
        </p:nvSpPr>
        <p:spPr>
          <a:xfrm>
            <a:off x="19688040" y="10452240"/>
            <a:ext cx="26704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Resec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Unresec 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59"/>
          <p:cNvSpPr/>
          <p:nvPr/>
        </p:nvSpPr>
        <p:spPr>
          <a:xfrm>
            <a:off x="19757880" y="12028320"/>
            <a:ext cx="18781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Resectab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Unres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60"/>
          <p:cNvSpPr/>
          <p:nvPr/>
        </p:nvSpPr>
        <p:spPr>
          <a:xfrm>
            <a:off x="21277440" y="9012240"/>
            <a:ext cx="5778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2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61"/>
          <p:cNvSpPr/>
          <p:nvPr/>
        </p:nvSpPr>
        <p:spPr>
          <a:xfrm>
            <a:off x="21277440" y="10632960"/>
            <a:ext cx="5778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3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62"/>
          <p:cNvSpPr/>
          <p:nvPr/>
        </p:nvSpPr>
        <p:spPr>
          <a:xfrm>
            <a:off x="21277440" y="12071520"/>
            <a:ext cx="577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3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63"/>
          <p:cNvSpPr/>
          <p:nvPr/>
        </p:nvSpPr>
        <p:spPr>
          <a:xfrm flipV="1">
            <a:off x="2519280" y="1969560"/>
            <a:ext cx="2606760" cy="12798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64"/>
          <p:cNvSpPr/>
          <p:nvPr/>
        </p:nvSpPr>
        <p:spPr>
          <a:xfrm>
            <a:off x="2700360" y="1979640"/>
            <a:ext cx="2340000" cy="12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5" name="Object 65"/>
          <p:cNvGraphicFramePr/>
          <p:nvPr/>
        </p:nvGraphicFramePr>
        <p:xfrm>
          <a:off x="179280" y="360360"/>
          <a:ext cx="93528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60360"/>
                    <a:ext cx="935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360360" y="181080"/>
            <a:ext cx="8415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114480" y="1619280"/>
            <a:ext cx="606240" cy="539640"/>
          </a:xfrm>
          <a:prstGeom prst="rect">
            <a:avLst/>
          </a:prstGeom>
          <a:ln w="0">
            <a:noFill/>
          </a:ln>
        </p:spPr>
      </p:pic>
      <p:sp>
        <p:nvSpPr>
          <p:cNvPr id="409" name="AutoShape 3"/>
          <p:cNvSpPr/>
          <p:nvPr/>
        </p:nvSpPr>
        <p:spPr>
          <a:xfrm>
            <a:off x="874800" y="1079640"/>
            <a:ext cx="2004840" cy="459000"/>
          </a:xfrm>
          <a:prstGeom prst="roundRect">
            <a:avLst>
              <a:gd name="adj" fmla="val 47190"/>
            </a:avLst>
          </a:prstGeom>
          <a:solidFill>
            <a:srgbClr val="fc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b065a"/>
                </a:solidFill>
                <a:latin typeface="Verdana"/>
                <a:ea typeface="Arial"/>
              </a:rPr>
              <a:t>CT/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4"/>
          <p:cNvSpPr/>
          <p:nvPr/>
        </p:nvSpPr>
        <p:spPr>
          <a:xfrm>
            <a:off x="812880" y="2421000"/>
            <a:ext cx="2066760" cy="459000"/>
          </a:xfrm>
          <a:prstGeom prst="roundRect">
            <a:avLst>
              <a:gd name="adj" fmla="val 47190"/>
            </a:avLst>
          </a:prstGeom>
          <a:solidFill>
            <a:srgbClr val="d81cb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Arial"/>
              </a:rPr>
              <a:t>TPF in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5"/>
          <p:cNvSpPr/>
          <p:nvPr/>
        </p:nvSpPr>
        <p:spPr>
          <a:xfrm>
            <a:off x="900000" y="1800360"/>
            <a:ext cx="1819440" cy="360360"/>
          </a:xfrm>
          <a:prstGeom prst="roundRect">
            <a:avLst>
              <a:gd name="adj" fmla="val 47190"/>
            </a:avLst>
          </a:prstGeom>
          <a:solidFill>
            <a:srgbClr val="009de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Arial"/>
              </a:rPr>
              <a:t>PF in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360360" y="287964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439 stage III-IV unresec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181080" y="360360"/>
            <a:ext cx="88581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XRP 69: Hitt et al, ASCO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V="1">
            <a:off x="539640" y="1368000"/>
            <a:ext cx="358920" cy="304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684360" y="1916280"/>
            <a:ext cx="215640" cy="1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468360" y="2133720"/>
            <a:ext cx="358560" cy="287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1"/>
          <p:cNvSpPr/>
          <p:nvPr/>
        </p:nvSpPr>
        <p:spPr>
          <a:xfrm>
            <a:off x="3575160" y="2060640"/>
            <a:ext cx="2004840" cy="459000"/>
          </a:xfrm>
          <a:prstGeom prst="roundRect">
            <a:avLst>
              <a:gd name="adj" fmla="val 47190"/>
            </a:avLst>
          </a:prstGeom>
          <a:solidFill>
            <a:srgbClr val="fc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b065a"/>
                </a:solidFill>
                <a:latin typeface="Verdana"/>
                <a:ea typeface="Arial"/>
              </a:rPr>
              <a:t>CT/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2700360" y="1979640"/>
            <a:ext cx="900000" cy="179280"/>
          </a:xfrm>
          <a:prstGeom prst="line">
            <a:avLst/>
          </a:prstGeom>
          <a:ln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13"/>
          <p:cNvSpPr/>
          <p:nvPr/>
        </p:nvSpPr>
        <p:spPr>
          <a:xfrm flipV="1">
            <a:off x="2879640" y="2313000"/>
            <a:ext cx="720720" cy="233280"/>
          </a:xfrm>
          <a:prstGeom prst="line">
            <a:avLst/>
          </a:prstGeom>
          <a:ln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79280" y="2700360"/>
          <a:ext cx="8791560" cy="4084560"/>
        </p:xfrm>
        <a:graphic>
          <a:graphicData uri="http://schemas.openxmlformats.org/drawingml/2006/table">
            <a:tbl>
              <a:tblPr/>
              <a:tblGrid>
                <a:gridCol w="1897200"/>
                <a:gridCol w="1174680"/>
                <a:gridCol w="1873440"/>
                <a:gridCol w="1812600"/>
                <a:gridCol w="2033640"/>
              </a:tblGrid>
              <a:tr h="1807560">
                <a:tc>
                  <a:txBody>
                    <a:bodyPr lIns="90000" rIns="90000" tIns="11379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Median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HR vs CT/R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379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T/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(11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379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F + CT/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(12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379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PF+ CT/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(11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379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otal in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PF+PF (23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2560">
                <a:tc>
                  <a:txBody>
                    <a:bodyPr lIns="90000" rIns="90000" tIns="216108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108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108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108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108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Text Box 25"/>
          <p:cNvSpPr/>
          <p:nvPr/>
        </p:nvSpPr>
        <p:spPr>
          <a:xfrm>
            <a:off x="539640" y="4500720"/>
            <a:ext cx="1403640" cy="18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T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6"/>
          <p:cNvSpPr/>
          <p:nvPr/>
        </p:nvSpPr>
        <p:spPr>
          <a:xfrm>
            <a:off x="2197080" y="4500720"/>
            <a:ext cx="86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5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3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7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7"/>
          <p:cNvSpPr/>
          <p:nvPr/>
        </p:nvSpPr>
        <p:spPr>
          <a:xfrm>
            <a:off x="3240000" y="4460760"/>
            <a:ext cx="19796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2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0.60 (0.44-0.80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8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33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8"/>
          <p:cNvSpPr/>
          <p:nvPr/>
        </p:nvSpPr>
        <p:spPr>
          <a:xfrm>
            <a:off x="5435640" y="4500720"/>
            <a:ext cx="1403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3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0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37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29"/>
          <p:cNvSpPr/>
          <p:nvPr/>
        </p:nvSpPr>
        <p:spPr>
          <a:xfrm>
            <a:off x="7380360" y="4500720"/>
            <a:ext cx="1403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2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8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37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30"/>
          <p:cNvSpPr/>
          <p:nvPr/>
        </p:nvSpPr>
        <p:spPr>
          <a:xfrm>
            <a:off x="5219640" y="4859280"/>
            <a:ext cx="18306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0.55 (0.41-0.75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31"/>
          <p:cNvSpPr/>
          <p:nvPr/>
        </p:nvSpPr>
        <p:spPr>
          <a:xfrm>
            <a:off x="7199280" y="4859280"/>
            <a:ext cx="1773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0.57 (0.45-0.74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32"/>
          <p:cNvSpPr/>
          <p:nvPr/>
        </p:nvSpPr>
        <p:spPr>
          <a:xfrm>
            <a:off x="3424320" y="5580000"/>
            <a:ext cx="176832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0.83 (0.61-1.13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33"/>
          <p:cNvSpPr/>
          <p:nvPr/>
        </p:nvSpPr>
        <p:spPr>
          <a:xfrm>
            <a:off x="5224320" y="5580000"/>
            <a:ext cx="17733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0.74 (0.53-1.02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34"/>
          <p:cNvSpPr/>
          <p:nvPr/>
        </p:nvSpPr>
        <p:spPr>
          <a:xfrm>
            <a:off x="7199280" y="5580000"/>
            <a:ext cx="17733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0.79 (0.60-1.03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35"/>
          <p:cNvSpPr/>
          <p:nvPr/>
        </p:nvSpPr>
        <p:spPr>
          <a:xfrm>
            <a:off x="3411360" y="6480000"/>
            <a:ext cx="1773360" cy="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0.87 (0.62-1.24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5224320" y="6480000"/>
            <a:ext cx="1773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0.82 (0.57-1.18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37"/>
          <p:cNvSpPr/>
          <p:nvPr/>
        </p:nvSpPr>
        <p:spPr>
          <a:xfrm>
            <a:off x="7199280" y="6480000"/>
            <a:ext cx="17733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0.85 (0.63-1.15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38"/>
          <p:cNvSpPr/>
          <p:nvPr/>
        </p:nvSpPr>
        <p:spPr>
          <a:xfrm>
            <a:off x="2160720" y="3419640"/>
            <a:ext cx="7019640" cy="900000"/>
          </a:xfrm>
          <a:prstGeom prst="rect">
            <a:avLst/>
          </a:prstGeom>
          <a:noFill/>
          <a:ln w="64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39"/>
          <p:cNvSpPr/>
          <p:nvPr/>
        </p:nvSpPr>
        <p:spPr>
          <a:xfrm>
            <a:off x="2340000" y="2700360"/>
            <a:ext cx="59403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Tahoma"/>
              </a:rPr>
              <a:t>439 randomiz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Tahoma"/>
              </a:rPr>
              <a:t>353 analyz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6" name="Object 40"/>
          <p:cNvGraphicFramePr/>
          <p:nvPr/>
        </p:nvGraphicFramePr>
        <p:xfrm>
          <a:off x="146160" y="179280"/>
          <a:ext cx="753840" cy="72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Object 4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60" y="179280"/>
                    <a:ext cx="7538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720720" y="243036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ahoma"/>
              </a:rPr>
              <a:t>GRAZIE 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9" name="Object 2"/>
          <p:cNvGraphicFramePr/>
          <p:nvPr/>
        </p:nvGraphicFramePr>
        <p:xfrm>
          <a:off x="146160" y="179280"/>
          <a:ext cx="934920" cy="9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79280"/>
                    <a:ext cx="9349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304920" y="6094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     </a:t>
            </a:r>
            <a:r>
              <a:rPr b="1" lang="en-GB" sz="40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Statistical considerations</a:t>
            </a:r>
            <a:r>
              <a:rPr b="1" lang="en-GB" sz="4400" spc="-1" strike="noStrike">
                <a:solidFill>
                  <a:srgbClr val="5abfff"/>
                </a:solidFill>
                <a:latin typeface="Tahoma"/>
                <a:ea typeface="ＭＳ Ｐゴシック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0492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307800"/>
                <a:tab algn="l" pos="755640"/>
                <a:tab algn="l" pos="1204920"/>
                <a:tab algn="l" pos="1654200"/>
                <a:tab algn="l" pos="2103480"/>
                <a:tab algn="l" pos="2552760"/>
                <a:tab algn="l" pos="3002040"/>
                <a:tab algn="l" pos="3451320"/>
                <a:tab algn="l" pos="3900600"/>
                <a:tab algn="l" pos="4349880"/>
                <a:tab algn="l" pos="4799160"/>
                <a:tab algn="l" pos="5248440"/>
                <a:tab algn="l" pos="5697360"/>
                <a:tab algn="l" pos="6146640"/>
                <a:tab algn="l" pos="6595920"/>
                <a:tab algn="l" pos="7045200"/>
                <a:tab algn="l" pos="7494480"/>
                <a:tab algn="l" pos="7943760"/>
                <a:tab algn="l" pos="8393040"/>
                <a:tab algn="l" pos="8842320"/>
                <a:tab algn="l" pos="9291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ssuming CR = 30% in chemoradiotherapy alone arm, to detect a difference of 15% in favour of the experimental arm (90% power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307800"/>
                <a:tab algn="l" pos="755640"/>
                <a:tab algn="l" pos="1204920"/>
                <a:tab algn="l" pos="1654200"/>
                <a:tab algn="l" pos="2103480"/>
                <a:tab algn="l" pos="2552760"/>
                <a:tab algn="l" pos="3002040"/>
                <a:tab algn="l" pos="3451320"/>
                <a:tab algn="l" pos="3900600"/>
                <a:tab algn="l" pos="4349880"/>
                <a:tab algn="l" pos="4799160"/>
                <a:tab algn="l" pos="5248440"/>
                <a:tab algn="l" pos="5697360"/>
                <a:tab algn="l" pos="6146640"/>
                <a:tab algn="l" pos="6595920"/>
                <a:tab algn="l" pos="7045200"/>
                <a:tab algn="l" pos="7494480"/>
                <a:tab algn="l" pos="7943760"/>
                <a:tab algn="l" pos="8393040"/>
                <a:tab algn="l" pos="8842320"/>
                <a:tab algn="l" pos="9291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3 evaluable patients per arm requi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07800"/>
                <a:tab algn="l" pos="755640"/>
                <a:tab algn="l" pos="1204920"/>
                <a:tab algn="l" pos="1654200"/>
                <a:tab algn="l" pos="2103480"/>
                <a:tab algn="l" pos="2552760"/>
                <a:tab algn="l" pos="3002040"/>
                <a:tab algn="l" pos="3451320"/>
                <a:tab algn="l" pos="3900600"/>
                <a:tab algn="l" pos="4349880"/>
                <a:tab algn="l" pos="4799160"/>
                <a:tab algn="l" pos="5248440"/>
                <a:tab algn="l" pos="5697360"/>
                <a:tab algn="l" pos="6146640"/>
                <a:tab algn="l" pos="6595920"/>
                <a:tab algn="l" pos="7045200"/>
                <a:tab algn="l" pos="7494480"/>
                <a:tab algn="l" pos="7943760"/>
                <a:tab algn="l" pos="8393040"/>
                <a:tab algn="l" pos="8842320"/>
                <a:tab algn="l" pos="9291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307800"/>
                <a:tab algn="l" pos="755640"/>
                <a:tab algn="l" pos="1204920"/>
                <a:tab algn="l" pos="1654200"/>
                <a:tab algn="l" pos="2103480"/>
                <a:tab algn="l" pos="2552760"/>
                <a:tab algn="l" pos="3002040"/>
                <a:tab algn="l" pos="3451320"/>
                <a:tab algn="l" pos="3900600"/>
                <a:tab algn="l" pos="4349880"/>
                <a:tab algn="l" pos="4799160"/>
                <a:tab algn="l" pos="5248440"/>
                <a:tab algn="l" pos="5697360"/>
                <a:tab algn="l" pos="6146640"/>
                <a:tab algn="l" pos="6595920"/>
                <a:tab algn="l" pos="7045200"/>
                <a:tab algn="l" pos="7494480"/>
                <a:tab algn="l" pos="7943760"/>
                <a:tab algn="l" pos="8393040"/>
                <a:tab algn="l" pos="8842320"/>
                <a:tab algn="l" pos="9291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aking into account 10% non-evaluable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307800"/>
                <a:tab algn="l" pos="755640"/>
                <a:tab algn="l" pos="1204920"/>
                <a:tab algn="l" pos="1654200"/>
                <a:tab algn="l" pos="2103480"/>
                <a:tab algn="l" pos="2552760"/>
                <a:tab algn="l" pos="3002040"/>
                <a:tab algn="l" pos="3451320"/>
                <a:tab algn="l" pos="3900600"/>
                <a:tab algn="l" pos="4349880"/>
                <a:tab algn="l" pos="4799160"/>
                <a:tab algn="l" pos="5248440"/>
                <a:tab algn="l" pos="5697360"/>
                <a:tab algn="l" pos="6146640"/>
                <a:tab algn="l" pos="6595920"/>
                <a:tab algn="l" pos="7045200"/>
                <a:tab algn="l" pos="7494480"/>
                <a:tab algn="l" pos="7943760"/>
                <a:tab algn="l" pos="8393040"/>
                <a:tab algn="l" pos="8842320"/>
                <a:tab algn="l" pos="9291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tal of 96 patients enro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7800" indent="-307800">
              <a:lnSpc>
                <a:spcPct val="71000"/>
              </a:lnSpc>
              <a:spcBef>
                <a:spcPts val="601"/>
              </a:spcBef>
              <a:tabLst>
                <a:tab algn="l" pos="0"/>
                <a:tab algn="l" pos="307800"/>
                <a:tab algn="l" pos="755640"/>
                <a:tab algn="l" pos="1204920"/>
                <a:tab algn="l" pos="1654200"/>
                <a:tab algn="l" pos="2103480"/>
                <a:tab algn="l" pos="2552760"/>
                <a:tab algn="l" pos="3002040"/>
                <a:tab algn="l" pos="3451320"/>
                <a:tab algn="l" pos="3900600"/>
                <a:tab algn="l" pos="4349880"/>
                <a:tab algn="l" pos="4799160"/>
                <a:tab algn="l" pos="5248440"/>
                <a:tab algn="l" pos="5697360"/>
                <a:tab algn="l" pos="6146640"/>
                <a:tab algn="l" pos="6595920"/>
                <a:tab algn="l" pos="7045200"/>
                <a:tab algn="l" pos="7494480"/>
                <a:tab algn="l" pos="7943760"/>
                <a:tab algn="l" pos="8393040"/>
                <a:tab algn="l" pos="8842320"/>
                <a:tab algn="l" pos="9291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804960" y="329724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788160" y="329724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Object 5"/>
          <p:cNvGraphicFramePr/>
          <p:nvPr/>
        </p:nvGraphicFramePr>
        <p:xfrm>
          <a:off x="325440" y="360360"/>
          <a:ext cx="93492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360360"/>
                    <a:ext cx="9349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58840" y="360360"/>
            <a:ext cx="83818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ahoma"/>
              </a:rPr>
              <a:t>Main inclusion cri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304920" y="1979640"/>
            <a:ext cx="851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290520"/>
                <a:tab algn="l" pos="73836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resectable SCC of the oral cavity, oropharynx, hypopharyn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290520"/>
                <a:tab algn="l" pos="73836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tage III or IV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Arial"/>
              </a:rPr>
              <a:t>–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0  (T1N2 exclud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290520"/>
                <a:tab algn="l" pos="73836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t least one measurable le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290520"/>
                <a:tab algn="l" pos="73836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ge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Arial"/>
              </a:rPr>
              <a:t>≥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18 yea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290520"/>
                <a:tab algn="l" pos="73836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ECOG 0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Arial"/>
              </a:rPr>
              <a:t>–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290520"/>
                <a:tab algn="l" pos="73836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Life expectancy &gt;6 mon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290520"/>
                <a:tab algn="l" pos="73836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dequate haematological, hepatic and renal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325440" y="360360"/>
          <a:ext cx="93492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360360"/>
                    <a:ext cx="9349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176040" y="1800360"/>
            <a:ext cx="8643960" cy="3555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7929720" y="357120"/>
            <a:ext cx="971280" cy="1324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3"/>
          <a:stretch/>
        </p:blipFill>
        <p:spPr>
          <a:xfrm>
            <a:off x="900000" y="5580000"/>
            <a:ext cx="7467840" cy="714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539640" y="189000"/>
            <a:ext cx="79200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ahoma"/>
              </a:rPr>
              <a:t>RESULTS OF THE PHASE II PA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ahoma"/>
              </a:rPr>
              <a:t>OF THE STUDY</a:t>
            </a:r>
            <a:r>
              <a:rPr b="1" lang="it-IT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Object 5"/>
          <p:cNvGraphicFramePr/>
          <p:nvPr/>
        </p:nvGraphicFramePr>
        <p:xfrm>
          <a:off x="146160" y="720720"/>
          <a:ext cx="934920" cy="9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6160" y="720720"/>
                    <a:ext cx="9349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304920" y="144360"/>
            <a:ext cx="83818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 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Objective response after    chemoradio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8715600" cy="30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5572080" y="3071880"/>
            <a:ext cx="1214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=0.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179280" y="720720"/>
          <a:ext cx="93528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720720"/>
                    <a:ext cx="935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720720" y="17928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Induction TPF: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en-GB" sz="2800" spc="-1" strike="noStrike">
                <a:solidFill>
                  <a:srgbClr val="ffff00"/>
                </a:solidFill>
                <a:latin typeface="Tahoma"/>
              </a:rPr>
              <a:t>Grade 3</a:t>
            </a:r>
            <a:r>
              <a:rPr b="1" lang="en-GB" sz="2800" spc="-1" strike="noStrike">
                <a:solidFill>
                  <a:srgbClr val="ffff00"/>
                </a:solidFill>
                <a:latin typeface="Tahoma"/>
                <a:ea typeface="Arial"/>
              </a:rPr>
              <a:t>/4 hematological toxicity 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  <a:ea typeface="Arial"/>
              </a:rPr>
              <a:t>(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NCI-CTC 2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682280" y="5462640"/>
            <a:ext cx="24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 baseline="30000">
                <a:solidFill>
                  <a:srgbClr val="ffc000"/>
                </a:solidFill>
                <a:latin typeface="Arial"/>
              </a:rPr>
              <a:t>a</a:t>
            </a:r>
            <a:r>
              <a:rPr b="1" lang="en-GB" sz="1600" spc="-1" strike="noStrike">
                <a:solidFill>
                  <a:srgbClr val="ffc000"/>
                </a:solidFill>
                <a:latin typeface="Arial"/>
              </a:rPr>
              <a:t> Antibiotic prophylax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1447920" y="1620720"/>
            <a:ext cx="6190920" cy="3657240"/>
            <a:chOff x="1447920" y="1620720"/>
            <a:chExt cx="6190920" cy="3657240"/>
          </a:xfrm>
        </p:grpSpPr>
        <p:sp>
          <p:nvSpPr>
            <p:cNvPr id="120" name="Rectangle 4"/>
            <p:cNvSpPr/>
            <p:nvPr/>
          </p:nvSpPr>
          <p:spPr>
            <a:xfrm>
              <a:off x="4786920" y="4135680"/>
              <a:ext cx="27694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 (2)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1523520" y="4641480"/>
              <a:ext cx="3263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latelets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4794840" y="2893320"/>
              <a:ext cx="2769480" cy="5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4 (8)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 baseline="30000">
                  <a:solidFill>
                    <a:srgbClr val="ffc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1523520" y="2818800"/>
              <a:ext cx="3263040" cy="5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Febrile neutropen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4786920" y="4676400"/>
              <a:ext cx="2769480" cy="5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1 (2)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1447920" y="4032360"/>
              <a:ext cx="3262680" cy="5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Hemoglobin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4794840" y="3499200"/>
              <a:ext cx="276948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8 (16)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1523520" y="3426480"/>
              <a:ext cx="3263040" cy="5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eukopen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4870800" y="2361600"/>
              <a:ext cx="2768040" cy="5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6 (52)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1523520" y="2344320"/>
              <a:ext cx="326304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Neutropen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4786920" y="1620720"/>
              <a:ext cx="276948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Incidence, n  (%)</a:t>
              </a:r>
              <a:r>
                <a:rPr b="1" lang="ar-S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1523520" y="1620720"/>
              <a:ext cx="326304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>
              <a:off x="1523520" y="1620720"/>
              <a:ext cx="60361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>
              <a:off x="1523520" y="5276520"/>
              <a:ext cx="60361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>
              <a:off x="1523520" y="1620720"/>
              <a:ext cx="1440" cy="365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>
              <a:off x="7560000" y="1620720"/>
              <a:ext cx="1080" cy="365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>
              <a:off x="1523520" y="2344320"/>
              <a:ext cx="60361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37" name="Object 21"/>
          <p:cNvGraphicFramePr/>
          <p:nvPr/>
        </p:nvGraphicFramePr>
        <p:xfrm>
          <a:off x="146160" y="360360"/>
          <a:ext cx="93492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360360"/>
                    <a:ext cx="9349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0" y="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fff00"/>
                </a:solidFill>
                <a:latin typeface="Tahoma"/>
              </a:rPr>
              <a:t>Induction TPF:</a:t>
            </a:r>
            <a:br>
              <a:rPr sz="3400"/>
            </a:br>
            <a:r>
              <a:rPr b="1" lang="en-GB" sz="2800" spc="-1" strike="noStrike">
                <a:solidFill>
                  <a:srgbClr val="ffff00"/>
                </a:solidFill>
                <a:latin typeface="Tahoma"/>
              </a:rPr>
              <a:t>Grade 3/</a:t>
            </a:r>
            <a:r>
              <a:rPr b="1" lang="en-GB" sz="2800" spc="-1" strike="noStrike">
                <a:solidFill>
                  <a:srgbClr val="ffff00"/>
                </a:solidFill>
                <a:latin typeface="Tahoma"/>
                <a:ea typeface="Arial"/>
              </a:rPr>
              <a:t>4 non-hematological toxicity 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  <a:ea typeface="Arial"/>
              </a:rPr>
              <a:t>(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NCI-CTC 2)</a:t>
            </a:r>
            <a:r>
              <a:rPr b="1" lang="ar-SA" sz="1800" spc="-1" strike="noStrike">
                <a:solidFill>
                  <a:srgbClr val="ffff00"/>
                </a:solidFill>
                <a:latin typeface="Tahoma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6185880" y="6248520"/>
            <a:ext cx="21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no Grade 4 toxic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1868400" y="1260360"/>
            <a:ext cx="6224400" cy="4838400"/>
            <a:chOff x="1868400" y="1260360"/>
            <a:chExt cx="6224400" cy="4838400"/>
          </a:xfrm>
        </p:grpSpPr>
        <p:sp>
          <p:nvSpPr>
            <p:cNvPr id="142" name="Rectangle 4"/>
            <p:cNvSpPr/>
            <p:nvPr/>
          </p:nvSpPr>
          <p:spPr>
            <a:xfrm>
              <a:off x="5302800" y="5703840"/>
              <a:ext cx="27867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1 (2)</a:t>
              </a:r>
              <a:r>
                <a:rPr b="1" lang="ar-SA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5"/>
            <p:cNvSpPr/>
            <p:nvPr/>
          </p:nvSpPr>
          <p:spPr>
            <a:xfrm>
              <a:off x="1868400" y="5703840"/>
              <a:ext cx="343260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</a:rPr>
                <a:t>Phlebitis</a:t>
              </a:r>
              <a:r>
                <a:rPr b="1" lang="en-GB" sz="1900" spc="-1" strike="noStrike" baseline="30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6"/>
            <p:cNvSpPr/>
            <p:nvPr/>
          </p:nvSpPr>
          <p:spPr>
            <a:xfrm>
              <a:off x="5302800" y="5310000"/>
              <a:ext cx="2786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3 (6)</a:t>
              </a:r>
              <a:r>
                <a:rPr b="1" lang="ar-SA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1868400" y="5310000"/>
              <a:ext cx="3432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</a:rPr>
                <a:t>Stomatitis</a:t>
              </a:r>
              <a:r>
                <a:rPr b="1" lang="en-GB" sz="1900" spc="-1" strike="noStrike" baseline="30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8"/>
            <p:cNvSpPr/>
            <p:nvPr/>
          </p:nvSpPr>
          <p:spPr>
            <a:xfrm>
              <a:off x="5302800" y="4916520"/>
              <a:ext cx="2786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1 (2)</a:t>
              </a:r>
              <a:r>
                <a:rPr b="1" lang="ar-SA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9"/>
            <p:cNvSpPr/>
            <p:nvPr/>
          </p:nvSpPr>
          <p:spPr>
            <a:xfrm>
              <a:off x="1868400" y="4916520"/>
              <a:ext cx="3432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</a:rPr>
                <a:t>Skin</a:t>
              </a:r>
              <a:r>
                <a:rPr b="1" lang="en-GB" sz="1900" spc="-1" strike="noStrike" baseline="30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5302800" y="4523040"/>
              <a:ext cx="27867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1 (2)</a:t>
              </a:r>
              <a:r>
                <a:rPr b="1" lang="ar-SA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11"/>
            <p:cNvSpPr/>
            <p:nvPr/>
          </p:nvSpPr>
          <p:spPr>
            <a:xfrm>
              <a:off x="1868400" y="4523040"/>
              <a:ext cx="343260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</a:rPr>
                <a:t>Trismus</a:t>
              </a:r>
              <a:r>
                <a:rPr b="1" lang="en-GB" sz="1900" spc="-1" strike="noStrike" baseline="30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2"/>
            <p:cNvSpPr/>
            <p:nvPr/>
          </p:nvSpPr>
          <p:spPr>
            <a:xfrm>
              <a:off x="5302800" y="4131360"/>
              <a:ext cx="27867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1 (2)</a:t>
              </a:r>
              <a:r>
                <a:rPr b="1" lang="ar-SA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3"/>
            <p:cNvSpPr/>
            <p:nvPr/>
          </p:nvSpPr>
          <p:spPr>
            <a:xfrm>
              <a:off x="1868400" y="4131360"/>
              <a:ext cx="343260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</a:rPr>
                <a:t>Hyperglycaemi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4"/>
            <p:cNvSpPr/>
            <p:nvPr/>
          </p:nvSpPr>
          <p:spPr>
            <a:xfrm>
              <a:off x="5302800" y="3737520"/>
              <a:ext cx="2786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1 (2)</a:t>
              </a:r>
              <a:r>
                <a:rPr b="1" lang="ar-SA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5"/>
            <p:cNvSpPr/>
            <p:nvPr/>
          </p:nvSpPr>
          <p:spPr>
            <a:xfrm>
              <a:off x="1868400" y="3737520"/>
              <a:ext cx="3432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</a:rPr>
                <a:t>Hypocalcaemi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6"/>
            <p:cNvSpPr/>
            <p:nvPr/>
          </p:nvSpPr>
          <p:spPr>
            <a:xfrm>
              <a:off x="5302800" y="3346920"/>
              <a:ext cx="2786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1 (2)</a:t>
              </a:r>
              <a:r>
                <a:rPr b="1" lang="ar-SA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7"/>
            <p:cNvSpPr/>
            <p:nvPr/>
          </p:nvSpPr>
          <p:spPr>
            <a:xfrm>
              <a:off x="1868400" y="3346920"/>
              <a:ext cx="3432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</a:rPr>
                <a:t>Anorexia</a:t>
              </a:r>
              <a:r>
                <a:rPr b="1" lang="en-GB" sz="1900" spc="-1" strike="noStrike" baseline="30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18"/>
            <p:cNvSpPr/>
            <p:nvPr/>
          </p:nvSpPr>
          <p:spPr>
            <a:xfrm>
              <a:off x="5302800" y="2955240"/>
              <a:ext cx="2786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1 (2)</a:t>
              </a:r>
              <a:r>
                <a:rPr b="1" lang="ar-SA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9"/>
            <p:cNvSpPr/>
            <p:nvPr/>
          </p:nvSpPr>
          <p:spPr>
            <a:xfrm>
              <a:off x="1868400" y="2955240"/>
              <a:ext cx="3432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</a:rPr>
                <a:t>Vomiting</a:t>
              </a:r>
              <a:r>
                <a:rPr b="1" lang="en-GB" sz="1900" spc="-1" strike="noStrike" baseline="30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20"/>
            <p:cNvSpPr/>
            <p:nvPr/>
          </p:nvSpPr>
          <p:spPr>
            <a:xfrm>
              <a:off x="5302800" y="2559960"/>
              <a:ext cx="27867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2 (4.3)</a:t>
              </a:r>
              <a:r>
                <a:rPr b="1" lang="ar-SA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21"/>
            <p:cNvSpPr/>
            <p:nvPr/>
          </p:nvSpPr>
          <p:spPr>
            <a:xfrm>
              <a:off x="1868400" y="2559960"/>
              <a:ext cx="343260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</a:rPr>
                <a:t>Nausea</a:t>
              </a:r>
              <a:r>
                <a:rPr b="1" lang="en-GB" sz="1900" spc="-1" strike="noStrike" baseline="30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22"/>
            <p:cNvSpPr/>
            <p:nvPr/>
          </p:nvSpPr>
          <p:spPr>
            <a:xfrm>
              <a:off x="5302800" y="2168280"/>
              <a:ext cx="27867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1868400" y="2168280"/>
              <a:ext cx="343260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24"/>
            <p:cNvSpPr/>
            <p:nvPr/>
          </p:nvSpPr>
          <p:spPr>
            <a:xfrm>
              <a:off x="5302800" y="1775880"/>
              <a:ext cx="2786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</a:rPr>
                <a:t>1 (2)</a:t>
              </a:r>
              <a:r>
                <a:rPr b="1" lang="ar-SA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25"/>
            <p:cNvSpPr/>
            <p:nvPr/>
          </p:nvSpPr>
          <p:spPr>
            <a:xfrm>
              <a:off x="1868400" y="1775880"/>
              <a:ext cx="3432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Arial"/>
                </a:rPr>
                <a:t>Asthenia</a:t>
              </a:r>
              <a:r>
                <a:rPr b="1" lang="en-GB" sz="1900" spc="-1" strike="noStrike" baseline="30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26"/>
            <p:cNvSpPr/>
            <p:nvPr/>
          </p:nvSpPr>
          <p:spPr>
            <a:xfrm>
              <a:off x="5302800" y="1260360"/>
              <a:ext cx="27867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Incidence, n  (%)</a:t>
              </a:r>
              <a:r>
                <a:rPr b="1" lang="ar-S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27"/>
            <p:cNvSpPr/>
            <p:nvPr/>
          </p:nvSpPr>
          <p:spPr>
            <a:xfrm>
              <a:off x="1868400" y="1260360"/>
              <a:ext cx="3432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28"/>
            <p:cNvSpPr/>
            <p:nvPr/>
          </p:nvSpPr>
          <p:spPr>
            <a:xfrm>
              <a:off x="1868400" y="1260360"/>
              <a:ext cx="62233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1868400" y="6097320"/>
              <a:ext cx="62233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1868400" y="1260360"/>
              <a:ext cx="1440" cy="515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>
              <a:off x="8091720" y="1260360"/>
              <a:ext cx="1080" cy="515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32"/>
            <p:cNvSpPr/>
            <p:nvPr/>
          </p:nvSpPr>
          <p:spPr>
            <a:xfrm>
              <a:off x="1868400" y="1775880"/>
              <a:ext cx="1440" cy="393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33"/>
            <p:cNvSpPr/>
            <p:nvPr/>
          </p:nvSpPr>
          <p:spPr>
            <a:xfrm>
              <a:off x="8091720" y="1775880"/>
              <a:ext cx="1080" cy="393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34"/>
            <p:cNvSpPr/>
            <p:nvPr/>
          </p:nvSpPr>
          <p:spPr>
            <a:xfrm>
              <a:off x="1868400" y="2168280"/>
              <a:ext cx="1440" cy="3927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35"/>
            <p:cNvSpPr/>
            <p:nvPr/>
          </p:nvSpPr>
          <p:spPr>
            <a:xfrm>
              <a:off x="8091720" y="2168280"/>
              <a:ext cx="1080" cy="3927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36"/>
            <p:cNvSpPr/>
            <p:nvPr/>
          </p:nvSpPr>
          <p:spPr>
            <a:xfrm>
              <a:off x="1868400" y="1775880"/>
              <a:ext cx="62233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75" name="Object 37"/>
          <p:cNvGraphicFramePr/>
          <p:nvPr/>
        </p:nvGraphicFramePr>
        <p:xfrm>
          <a:off x="146160" y="1079640"/>
          <a:ext cx="93492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079640"/>
                    <a:ext cx="9349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0" y="571680"/>
            <a:ext cx="9144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Chemoradiotherapy: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Grade 3</a:t>
            </a:r>
            <a:r>
              <a:rPr b="1" lang="en-GB" sz="2800" spc="-1" strike="noStrike">
                <a:solidFill>
                  <a:srgbClr val="ffff00"/>
                </a:solidFill>
                <a:latin typeface="Tahoma"/>
              </a:rPr>
              <a:t>/4 hematological toxicity 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NCI-CTC 2 )</a:t>
            </a:r>
            <a:r>
              <a:rPr b="1" lang="ar-SA" sz="1800" spc="-1" strike="noStrike">
                <a:solidFill>
                  <a:srgbClr val="ffff00"/>
                </a:solidFill>
                <a:latin typeface="Tahoma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4893840" y="6019920"/>
            <a:ext cx="34542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no Grade 4 toxicity in either ar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714240" y="2286000"/>
            <a:ext cx="7787880" cy="4190760"/>
            <a:chOff x="714240" y="2286000"/>
            <a:chExt cx="7787880" cy="4190760"/>
          </a:xfrm>
        </p:grpSpPr>
        <p:sp>
          <p:nvSpPr>
            <p:cNvPr id="180" name="Rectangle 4"/>
            <p:cNvSpPr/>
            <p:nvPr/>
          </p:nvSpPr>
          <p:spPr>
            <a:xfrm>
              <a:off x="5537520" y="5037480"/>
              <a:ext cx="2962800" cy="718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  <a:ea typeface="ＭＳ Ｐゴシック"/>
                </a:rPr>
                <a:t>2 (4)</a:t>
              </a:r>
              <a:r>
                <a:rPr b="1" lang="ar-SA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5"/>
            <p:cNvSpPr/>
            <p:nvPr/>
          </p:nvSpPr>
          <p:spPr>
            <a:xfrm>
              <a:off x="3358440" y="5037480"/>
              <a:ext cx="2180520" cy="718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  <a:ea typeface="ＭＳ Ｐゴシック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714240" y="5037480"/>
              <a:ext cx="264564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Hemoglobin</a:t>
              </a:r>
              <a:r>
                <a:rPr b="1" lang="en-GB" sz="180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7"/>
            <p:cNvSpPr/>
            <p:nvPr/>
          </p:nvSpPr>
          <p:spPr>
            <a:xfrm>
              <a:off x="5537520" y="4252320"/>
              <a:ext cx="2962800" cy="786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3 (6)</a:t>
              </a:r>
              <a:r>
                <a:rPr b="1" lang="ar-SA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8"/>
            <p:cNvSpPr/>
            <p:nvPr/>
          </p:nvSpPr>
          <p:spPr>
            <a:xfrm>
              <a:off x="3358440" y="4252320"/>
              <a:ext cx="2180520" cy="786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6 (12)</a:t>
              </a:r>
              <a:r>
                <a:rPr b="1" lang="ar-SA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714240" y="3533040"/>
              <a:ext cx="2645640" cy="78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Febrile neutropen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5537520" y="5756400"/>
              <a:ext cx="2962800" cy="718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2 (4)</a:t>
              </a:r>
              <a:r>
                <a:rPr b="1" lang="ar-SA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3358440" y="5756400"/>
              <a:ext cx="2180520" cy="718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2 (4)</a:t>
              </a:r>
              <a:r>
                <a:rPr b="1" lang="ar-SA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12"/>
            <p:cNvSpPr/>
            <p:nvPr/>
          </p:nvSpPr>
          <p:spPr>
            <a:xfrm>
              <a:off x="714240" y="5756400"/>
              <a:ext cx="264564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latelets</a:t>
              </a:r>
              <a:r>
                <a:rPr b="1" lang="en-GB" sz="180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13"/>
            <p:cNvSpPr/>
            <p:nvPr/>
          </p:nvSpPr>
          <p:spPr>
            <a:xfrm>
              <a:off x="5537520" y="2286000"/>
              <a:ext cx="2962800" cy="566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spcBef>
                  <a:spcPts val="550"/>
                </a:spcBef>
                <a:spcAft>
                  <a:spcPts val="550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99"/>
                  </a:solidFill>
                  <a:latin typeface="Arial"/>
                  <a:ea typeface="ＭＳ Ｐゴシック"/>
                </a:rPr>
                <a:t>TPF</a:t>
              </a:r>
              <a:r>
                <a:rPr b="1" lang="en-GB" sz="2200" spc="-1" strike="noStrike">
                  <a:solidFill>
                    <a:srgbClr val="000099"/>
                  </a:solidFill>
                  <a:latin typeface="Arial"/>
                </a:rPr>
                <a:t>→CT/RT</a:t>
              </a:r>
              <a:r>
                <a:rPr b="1" lang="en-GB" sz="2200" spc="-1" strike="noStrike">
                  <a:solidFill>
                    <a:srgbClr val="000099"/>
                  </a:solidFill>
                  <a:latin typeface="Arial"/>
                  <a:ea typeface="ＭＳ Ｐゴシック"/>
                </a:rPr>
                <a:t> (n = 44)</a:t>
              </a:r>
              <a:r>
                <a:rPr b="1" lang="ar-SA" sz="22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14"/>
            <p:cNvSpPr/>
            <p:nvPr/>
          </p:nvSpPr>
          <p:spPr>
            <a:xfrm>
              <a:off x="3358440" y="2286000"/>
              <a:ext cx="2180520" cy="566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spcBef>
                  <a:spcPts val="550"/>
                </a:spcBef>
                <a:spcAft>
                  <a:spcPts val="550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99"/>
                  </a:solidFill>
                  <a:latin typeface="Arial"/>
                  <a:ea typeface="ＭＳ Ｐゴシック"/>
                </a:rPr>
                <a:t>CT/RT (n = 49)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15"/>
            <p:cNvSpPr/>
            <p:nvPr/>
          </p:nvSpPr>
          <p:spPr>
            <a:xfrm>
              <a:off x="714240" y="2286000"/>
              <a:ext cx="26456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spcBef>
                  <a:spcPts val="550"/>
                </a:spcBef>
                <a:spcAft>
                  <a:spcPts val="550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oxicity</a:t>
              </a:r>
              <a:r>
                <a:rPr b="0" lang="en-GB" sz="2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, n (%)</a:t>
              </a:r>
              <a:r>
                <a:rPr b="0" lang="ar-SA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16"/>
            <p:cNvSpPr/>
            <p:nvPr/>
          </p:nvSpPr>
          <p:spPr>
            <a:xfrm>
              <a:off x="5537520" y="3567960"/>
              <a:ext cx="2962800" cy="686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17"/>
            <p:cNvSpPr/>
            <p:nvPr/>
          </p:nvSpPr>
          <p:spPr>
            <a:xfrm>
              <a:off x="5537520" y="2852280"/>
              <a:ext cx="2962800" cy="717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2 (4)</a:t>
              </a:r>
              <a:r>
                <a:rPr b="1" lang="ar-SA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18"/>
            <p:cNvSpPr/>
            <p:nvPr/>
          </p:nvSpPr>
          <p:spPr>
            <a:xfrm>
              <a:off x="3358440" y="3567960"/>
              <a:ext cx="2180520" cy="686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19"/>
            <p:cNvSpPr/>
            <p:nvPr/>
          </p:nvSpPr>
          <p:spPr>
            <a:xfrm>
              <a:off x="714240" y="4139640"/>
              <a:ext cx="26456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eukopen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20"/>
            <p:cNvSpPr/>
            <p:nvPr/>
          </p:nvSpPr>
          <p:spPr>
            <a:xfrm>
              <a:off x="3358440" y="2852280"/>
              <a:ext cx="2180520" cy="717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4 (8)</a:t>
              </a:r>
              <a:r>
                <a:rPr b="1" lang="ar-SA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21"/>
            <p:cNvSpPr/>
            <p:nvPr/>
          </p:nvSpPr>
          <p:spPr>
            <a:xfrm>
              <a:off x="714240" y="2849040"/>
              <a:ext cx="26456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Neutropen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>
              <a:off x="714240" y="2286000"/>
              <a:ext cx="7786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23"/>
            <p:cNvSpPr/>
            <p:nvPr/>
          </p:nvSpPr>
          <p:spPr>
            <a:xfrm>
              <a:off x="714240" y="6475680"/>
              <a:ext cx="7786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>
              <a:off x="714240" y="2286000"/>
              <a:ext cx="1440" cy="418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25"/>
            <p:cNvSpPr/>
            <p:nvPr/>
          </p:nvSpPr>
          <p:spPr>
            <a:xfrm>
              <a:off x="8500680" y="2286000"/>
              <a:ext cx="1440" cy="418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6"/>
            <p:cNvSpPr/>
            <p:nvPr/>
          </p:nvSpPr>
          <p:spPr>
            <a:xfrm>
              <a:off x="714240" y="2852280"/>
              <a:ext cx="7786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3" name="Object 27"/>
          <p:cNvGraphicFramePr/>
          <p:nvPr/>
        </p:nvGraphicFramePr>
        <p:xfrm>
          <a:off x="179280" y="360360"/>
          <a:ext cx="93528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60360"/>
                    <a:ext cx="935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mastromauro</dc:creator>
  <dc:description/>
  <dc:language>en-US</dc:language>
  <cp:lastModifiedBy>domenicogenovesi</cp:lastModifiedBy>
  <dcterms:modified xsi:type="dcterms:W3CDTF">2010-11-26T17:05:50Z</dcterms:modified>
  <cp:revision>39</cp:revision>
  <dc:subject/>
  <dc:title>Diapositiva 1</dc:title>
</cp:coreProperties>
</file>