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67B3F-3CC2-4764-B64F-C3A077093A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6BDCB-27E8-4582-B8AE-3F975D9F0CC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51394-4267-4DF2-8F6F-5E88D5320B5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0D14F-86D2-41DF-BB70-DB39AA8F831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34E67-4FA6-48C1-84DC-47CC1FD48D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24132-99AD-458B-BF93-275AB3BCF4C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9D8B0-D916-455A-BE45-51FCFA75B5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D52E9-1549-42A2-B151-77E9FD9A4B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FEC08-FFFF-407F-93A2-C1BA90F2E43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C8E92-83AE-4CC6-9A55-FA2AB4FEEC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FE854-F822-4F83-9895-5FB2BF7110A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3459E-C8AB-4F23-A1CE-9BADFCDFD3F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0EA82-C3B2-42CC-A4A4-CD58A091DEC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30B21-B901-469A-8D71-586052C143F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B1B50-BA6F-4EDF-9378-4480CE06D43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4A02B-4147-4B14-8102-19957C53B48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B9FB1-9F51-4706-9CE3-740347A555F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4EED6-A832-4C69-A7FA-D1B0A5B4D2D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42112-DF18-457D-B418-5D858011F87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72FBD-64C8-49BF-905F-FEE87A83823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01668-C666-4280-A7F6-32A216231F8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64BD0-4C36-4734-B911-B0BBD6CE5AE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10AD3-033E-4AB9-8CA9-5C77C978DAD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25DB7-B386-42B8-B5B2-DAA888CB206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519CE-9D83-401B-8853-A9D74C886EB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5255A-B3BD-4728-AAFD-6E2F30E539D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8CE19-45EE-4942-9129-467A0F8E896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394E1-9503-4771-943F-6CC1F2AAFF0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7ABAB-FE7C-401F-8F27-8DDFCF11419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C0881-3474-43D0-97A6-88A10554377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511B1-724C-41DB-BB07-9952F7274F3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4BE5B-114C-4BCF-8E85-561CBF5F0F8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30128-6CF9-4090-9E70-2E67133B053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72094-2750-40E8-980B-B4567A5026A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C938E-741D-42D6-9661-9EF5D6CD84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519E6-92A7-48F4-B281-0FF19A2FF1D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F7C57-375A-45AC-88D6-EDBC0D7406D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0EB8C-EB87-4CC9-A8AC-6995C7637B4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2CDC8-C5C9-4E5D-833E-278FE7CD86D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1383D-CE9D-46E7-BCEC-C7B63F80EBA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B4CF3-3403-430C-A4FA-DEB13CA95BA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F4532-0A20-48F1-8527-3106E42827E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6F82-3B1E-4598-BD7C-D59E9750998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1D0AF-9063-45E3-83EE-EE911B2D687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A8E18-3B4D-4C17-B4CC-868FBBF6254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90891-46FB-462F-9755-77E200A5A2C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1989C-59F0-44E3-8E24-2E03942E2D4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AECA0-1803-4C86-9B84-D27D98CA548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9E111-CB99-47C4-9767-761E98DE39B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B05B0-12F4-46B7-9ECD-2054D1B7F86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1667F-4794-4B0A-BB8A-042C16C4939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62A92-ACB4-4B55-A935-A6D8BDD15C3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10F9-22A9-4084-99FF-2C553885A73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76214-07E9-4C88-A3DE-1A3FEBD2E4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73A1D-19C6-4AD4-AB04-58FFA2401A8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23E0F-98E1-45A3-80DA-EFBC720DDB0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D28F-1C8F-4000-BEE0-0A5C9F42484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AD677-DD68-4300-86E3-2EBB979F873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E7FE6-7743-4F9C-AE96-0AA905126C3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CEF-1374-4F12-8F6B-28B96E66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98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87520"/>
            <a:ext cx="77598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E4F-738F-4976-A344-AE62EFE9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875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640" y="41875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330-FF93-492B-9FCF-5CA2B469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4984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980720"/>
            <a:ext cx="24984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2800" y="1980720"/>
            <a:ext cx="24984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87520"/>
            <a:ext cx="24984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187520"/>
            <a:ext cx="24984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2800" y="4187520"/>
            <a:ext cx="24984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534-8B7F-4696-8B28-59532AFC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5980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F59-14AA-4297-8B44-3510D0C6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598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207-1465-47C1-8E03-D604BBA3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697-08D2-47BE-BB23-64E900E8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947-1577-4BBF-9655-03DB3717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6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CE8-1834-4FCC-8CE3-39294BE3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875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AA1-C954-4434-BF2A-1FF2ECAC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640" y="41875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E2B-3F46-4D01-BEEF-A91F7F5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640" y="1980720"/>
            <a:ext cx="37864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87520"/>
            <a:ext cx="775980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4745-97EC-4C49-B022-64B5027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598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F160CC-7041-453B-B486-3F1809F7DE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4016520"/>
            <a:ext cx="6120000" cy="16984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L. Lastruc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U.O. Radioterapia Ospedale San Donato Are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7829640" y="6265800"/>
            <a:ext cx="117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781680" y="3200400"/>
            <a:ext cx="19465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28520" y="457200"/>
            <a:ext cx="8558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1752480" cy="1135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1738080" cy="1112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762120" y="2133720"/>
            <a:ext cx="1752480" cy="10587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3200400" y="236232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rado 1: eritema della muco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200400" y="342900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rado 2: ulcere isolate e presenza di pseudomembr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00400" y="4495680"/>
            <a:ext cx="563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rado 3: ulcere confluenti e presenza di pseudomembrane.  Sanguinamento in seguito a traumi li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200400" y="563868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Grado 4: necrosi dei tessuti, sanguinamento spontaneo. Pericolo di vi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85800" y="1538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Tossicità sec. CTC AE versione 3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28600" y="1523880"/>
            <a:ext cx="8686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Fattori di rischio, andamento e costi della mucosite Elting L. 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(IJROBP 2007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tudio retrospettivo su 204 pazienti con H and N cancer trattati con RT +- 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90720" y="2706840"/>
            <a:ext cx="76197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Comic Sans MS"/>
              </a:rPr>
              <a:t>Fattori di rischio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91% dei pazienti presenta mucosite, il 66% con G3-G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ssociazione con CT aumenta il risch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sede della neoplasia: orofaringe e cavo orale vs laringe ed ipofari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ipo di radioterapia: 3DCRT vs IMRT (solo alla univariata)</a:t>
            </a:r>
            <a:r>
              <a:rPr b="0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razionamento alte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990720" y="2743200"/>
            <a:ext cx="7238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Comic Sans MS"/>
              </a:rPr>
              <a:t>Decorso clinico: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mucosite persiste per almeno 5 settimane e il grado 3-4 della mucosite per più di 2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l picco max è alla V settimana di terapia. Nei pazienti che hanno ricevuto CT la mucosite persiste  fino alla VII settima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interruzioni della RT sono nella quasi totalità associate a mucosite grado 3-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28600" y="1523880"/>
            <a:ext cx="8686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Fattori di rischio, andamento e costi della mucosite Elting L. 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(IJROBP 2007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tudio retrospettivo su 204 pazienti con H and N cancer trattati con RT +- 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04920" y="2343240"/>
            <a:ext cx="8839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Comic Sans MS"/>
              </a:rPr>
              <a:t>Risoluzione della mucosi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n differenze riguardo il tipo di radioterapia (3DCRT vs IMRT) per cui i pazienti sono considerati insi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28600" y="1523880"/>
            <a:ext cx="8686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Fattori di rischio, andamento e costi della mucosite Elting L. 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(IJROBP 2007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tudio retrospettivo su 204 pazienti con H and N cancer trattati con RT +- 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609480" y="3429000"/>
            <a:ext cx="7313400" cy="3039840"/>
            <a:chOff x="609480" y="3429000"/>
            <a:chExt cx="7313400" cy="3039840"/>
          </a:xfrm>
        </p:grpSpPr>
        <p:sp>
          <p:nvSpPr>
            <p:cNvPr id="196" name="Rectangle 11"/>
            <p:cNvSpPr/>
            <p:nvPr/>
          </p:nvSpPr>
          <p:spPr>
            <a:xfrm>
              <a:off x="5484240" y="4313880"/>
              <a:ext cx="24372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4.3 giorni (range 3-10)</a:t>
              </a:r>
              <a:r>
                <a:rPr b="0" lang="ar-SA" sz="1600" spc="-1" strike="noStrike">
                  <a:solidFill>
                    <a:srgbClr val="ffff00"/>
                  </a:solidFill>
                  <a:latin typeface="Comic Sans MS"/>
                  <a:ea typeface="Arial"/>
                </a:rPr>
                <a:t>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3047040" y="4313880"/>
              <a:ext cx="24372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5.8 giorni (range 3-11)</a:t>
              </a:r>
              <a:r>
                <a:rPr b="0" lang="ar-SA" sz="1600" spc="-1" strike="noStrike">
                  <a:solidFill>
                    <a:srgbClr val="ffffff"/>
                  </a:solidFill>
                  <a:latin typeface="Comic Sans MS"/>
                  <a:ea typeface="Arial"/>
                </a:rPr>
                <a:t>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609480" y="4313880"/>
              <a:ext cx="24375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Interruzion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5484240" y="4775400"/>
              <a:ext cx="243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5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047040" y="4775400"/>
              <a:ext cx="243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3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609480" y="4775400"/>
              <a:ext cx="243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Perdita di pes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5484240" y="5198760"/>
              <a:ext cx="24372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5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3047040" y="5198760"/>
              <a:ext cx="24372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3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609480" y="5198760"/>
              <a:ext cx="243756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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P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5484240" y="562068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88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3047040" y="562068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5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22"/>
            <p:cNvSpPr/>
            <p:nvPr/>
          </p:nvSpPr>
          <p:spPr>
            <a:xfrm>
              <a:off x="609480" y="5620680"/>
              <a:ext cx="2437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Disfag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23"/>
            <p:cNvSpPr/>
            <p:nvPr/>
          </p:nvSpPr>
          <p:spPr>
            <a:xfrm>
              <a:off x="5484240" y="6044400"/>
              <a:ext cx="243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7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24"/>
            <p:cNvSpPr/>
            <p:nvPr/>
          </p:nvSpPr>
          <p:spPr>
            <a:xfrm>
              <a:off x="3047040" y="6044400"/>
              <a:ext cx="2437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8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25"/>
            <p:cNvSpPr/>
            <p:nvPr/>
          </p:nvSpPr>
          <p:spPr>
            <a:xfrm>
              <a:off x="609480" y="6044400"/>
              <a:ext cx="243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Infezion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5484240" y="389016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4.3 g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27"/>
            <p:cNvSpPr/>
            <p:nvPr/>
          </p:nvSpPr>
          <p:spPr>
            <a:xfrm>
              <a:off x="3047040" y="389016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5.5 g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28"/>
            <p:cNvSpPr/>
            <p:nvPr/>
          </p:nvSpPr>
          <p:spPr>
            <a:xfrm>
              <a:off x="609480" y="3890160"/>
              <a:ext cx="2437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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tempo di trattamen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29"/>
            <p:cNvSpPr/>
            <p:nvPr/>
          </p:nvSpPr>
          <p:spPr>
            <a:xfrm>
              <a:off x="5484240" y="3429000"/>
              <a:ext cx="24372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RT-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30"/>
            <p:cNvSpPr/>
            <p:nvPr/>
          </p:nvSpPr>
          <p:spPr>
            <a:xfrm>
              <a:off x="3047040" y="3429000"/>
              <a:ext cx="24372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RT esclusi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31"/>
            <p:cNvSpPr/>
            <p:nvPr/>
          </p:nvSpPr>
          <p:spPr>
            <a:xfrm>
              <a:off x="609480" y="3429000"/>
              <a:ext cx="243756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609480" y="3429000"/>
              <a:ext cx="2437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33"/>
            <p:cNvSpPr/>
            <p:nvPr/>
          </p:nvSpPr>
          <p:spPr>
            <a:xfrm>
              <a:off x="609480" y="6467760"/>
              <a:ext cx="2437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34"/>
            <p:cNvSpPr/>
            <p:nvPr/>
          </p:nvSpPr>
          <p:spPr>
            <a:xfrm>
              <a:off x="609480" y="3429000"/>
              <a:ext cx="1440" cy="46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35"/>
            <p:cNvSpPr/>
            <p:nvPr/>
          </p:nvSpPr>
          <p:spPr>
            <a:xfrm>
              <a:off x="7921440" y="3429000"/>
              <a:ext cx="1440" cy="46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36"/>
            <p:cNvSpPr/>
            <p:nvPr/>
          </p:nvSpPr>
          <p:spPr>
            <a:xfrm>
              <a:off x="3047040" y="342900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37"/>
            <p:cNvSpPr/>
            <p:nvPr/>
          </p:nvSpPr>
          <p:spPr>
            <a:xfrm>
              <a:off x="609480" y="3890160"/>
              <a:ext cx="144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38"/>
            <p:cNvSpPr/>
            <p:nvPr/>
          </p:nvSpPr>
          <p:spPr>
            <a:xfrm>
              <a:off x="5484240" y="342900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>
              <a:off x="7921440" y="3890160"/>
              <a:ext cx="144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09480" y="4313880"/>
              <a:ext cx="1440" cy="46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7921440" y="4313880"/>
              <a:ext cx="1440" cy="46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>
              <a:off x="609480" y="4775400"/>
              <a:ext cx="1440" cy="42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7921440" y="4775400"/>
              <a:ext cx="1440" cy="42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>
              <a:off x="609480" y="5198760"/>
              <a:ext cx="1440" cy="421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>
              <a:off x="7921440" y="5198760"/>
              <a:ext cx="1440" cy="421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>
              <a:off x="609480" y="5620680"/>
              <a:ext cx="144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>
              <a:off x="7921440" y="5620680"/>
              <a:ext cx="144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>
              <a:off x="609480" y="6044400"/>
              <a:ext cx="1440" cy="42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49"/>
            <p:cNvSpPr/>
            <p:nvPr/>
          </p:nvSpPr>
          <p:spPr>
            <a:xfrm>
              <a:off x="7921440" y="6044400"/>
              <a:ext cx="1440" cy="42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>
              <a:off x="3047040" y="646776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5484240" y="646776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>
              <a:off x="3047040" y="3429000"/>
              <a:ext cx="1080" cy="303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3"/>
            <p:cNvSpPr/>
            <p:nvPr/>
          </p:nvSpPr>
          <p:spPr>
            <a:xfrm>
              <a:off x="5484240" y="3429000"/>
              <a:ext cx="1080" cy="303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609480" y="3890160"/>
              <a:ext cx="7311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55"/>
            <p:cNvSpPr/>
            <p:nvPr/>
          </p:nvSpPr>
          <p:spPr>
            <a:xfrm>
              <a:off x="609480" y="4313880"/>
              <a:ext cx="731196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56"/>
            <p:cNvSpPr/>
            <p:nvPr/>
          </p:nvSpPr>
          <p:spPr>
            <a:xfrm>
              <a:off x="609480" y="4775400"/>
              <a:ext cx="731196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57"/>
            <p:cNvSpPr/>
            <p:nvPr/>
          </p:nvSpPr>
          <p:spPr>
            <a:xfrm>
              <a:off x="609480" y="5198760"/>
              <a:ext cx="7311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58"/>
            <p:cNvSpPr/>
            <p:nvPr/>
          </p:nvSpPr>
          <p:spPr>
            <a:xfrm>
              <a:off x="609480" y="5620680"/>
              <a:ext cx="7311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59"/>
            <p:cNvSpPr/>
            <p:nvPr/>
          </p:nvSpPr>
          <p:spPr>
            <a:xfrm>
              <a:off x="609480" y="6044400"/>
              <a:ext cx="731196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80880" y="2286000"/>
            <a:ext cx="8458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Comic Sans MS"/>
              </a:rPr>
              <a:t>Costi della mucosi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mplessivamente aumento dei costi:     giorni di ricovero e visite al P.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l 23% dei pz con G3-4 ricover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T esclusiva pz con mucosite G3-4    n° di visite odontoiatriche, nutrizionali, terapia antalgica, necessita’ di PEG ec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T-CT non differenze di costi tra G1-2 e G3-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umento delle risorse rispetto a sola 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129920" y="26668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3812400" y="33526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535680" y="43434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457200" y="4876920"/>
            <a:ext cx="6934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T                                     RT-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enza mucosit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4646$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         28660$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n mucosit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20624$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 34706$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228600" y="1523880"/>
            <a:ext cx="8686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Fattori di rischio, andamento e costi della mucosite Elting L. 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(IJROBP 2007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tudio retrospettivo su 204 pazienti con H and N cancer trattati con RT +- 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90720" y="2643120"/>
            <a:ext cx="761976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ff00"/>
                </a:solidFill>
                <a:latin typeface="Comic Sans MS"/>
              </a:rPr>
              <a:t>Conclusion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radioterapia nelle neoplasie del distretto testa-collo determina mucosite virtualmente in tutti i pazien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mucosite orale è associata a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dolore sev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significativa perdita di p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incremento nell’uso di risor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aumento dei c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ecessità di strategie preven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1219320" y="548640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228600" y="1630440"/>
            <a:ext cx="8686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Fattori di rischio, andamento e costi della mucosite Elting L.  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(IJROBP 2007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studio retrospettivo su 204 pazienti con H and N cancer trattati con RT +- 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80880" y="1371600"/>
            <a:ext cx="85345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Patient-reported Measurement of Oral Mucositis in Head and Neck Cancer patient treated with Radiotherapy with or without Chemotherapy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Elting L. (Cancer 2008)</a:t>
            </a:r>
            <a:r>
              <a:rPr b="1" lang="ar-SA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Studio prospettico in pz con neoplasia del testa collo trattati con RT± CT, con valutazione del rischio, severita’ ed esiti riportati dai pazienti (241 pz)</a:t>
            </a:r>
            <a:r>
              <a:rPr b="1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685800" y="3048120"/>
            <a:ext cx="6858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 qs studio il paziente dopo la valutazione basale, compila ogni giorno un questionario relativamente alla mucosite ‘MTS’. Inoltre viene valutata la QOL, la funzionalità faringo-laringea, perdita di peso  e l’uso di analgesi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10"/>
          <p:cNvGrpSpPr/>
          <p:nvPr/>
        </p:nvGrpSpPr>
        <p:grpSpPr>
          <a:xfrm>
            <a:off x="685800" y="4038480"/>
            <a:ext cx="7313400" cy="3122280"/>
            <a:chOff x="685800" y="4038480"/>
            <a:chExt cx="7313400" cy="3122280"/>
          </a:xfrm>
        </p:grpSpPr>
        <p:sp>
          <p:nvSpPr>
            <p:cNvPr id="278" name="Rectangle 11"/>
            <p:cNvSpPr/>
            <p:nvPr/>
          </p:nvSpPr>
          <p:spPr>
            <a:xfrm>
              <a:off x="5560560" y="5000040"/>
              <a:ext cx="243720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VI settima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2"/>
            <p:cNvSpPr/>
            <p:nvPr/>
          </p:nvSpPr>
          <p:spPr>
            <a:xfrm>
              <a:off x="3123000" y="5000040"/>
              <a:ext cx="24375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VI settima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3"/>
            <p:cNvSpPr/>
            <p:nvPr/>
          </p:nvSpPr>
          <p:spPr>
            <a:xfrm>
              <a:off x="685800" y="5000040"/>
              <a:ext cx="243720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Picco 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4"/>
            <p:cNvSpPr/>
            <p:nvPr/>
          </p:nvSpPr>
          <p:spPr>
            <a:xfrm>
              <a:off x="5560560" y="546156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5"/>
            <p:cNvSpPr/>
            <p:nvPr/>
          </p:nvSpPr>
          <p:spPr>
            <a:xfrm>
              <a:off x="3123000" y="5461560"/>
              <a:ext cx="2437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16"/>
            <p:cNvSpPr/>
            <p:nvPr/>
          </p:nvSpPr>
          <p:spPr>
            <a:xfrm>
              <a:off x="685800" y="546156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MTS 3-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17"/>
            <p:cNvSpPr/>
            <p:nvPr/>
          </p:nvSpPr>
          <p:spPr>
            <a:xfrm>
              <a:off x="5560560" y="5885280"/>
              <a:ext cx="24372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7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18"/>
            <p:cNvSpPr/>
            <p:nvPr/>
          </p:nvSpPr>
          <p:spPr>
            <a:xfrm>
              <a:off x="3123000" y="5885280"/>
              <a:ext cx="243756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8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9"/>
            <p:cNvSpPr/>
            <p:nvPr/>
          </p:nvSpPr>
          <p:spPr>
            <a:xfrm>
              <a:off x="685800" y="5885280"/>
              <a:ext cx="243720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CT n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0"/>
            <p:cNvSpPr/>
            <p:nvPr/>
          </p:nvSpPr>
          <p:spPr>
            <a:xfrm>
              <a:off x="5560560" y="6307200"/>
              <a:ext cx="24372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90%      p=.6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3123000" y="6307200"/>
              <a:ext cx="2437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88%      p=.0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22"/>
            <p:cNvSpPr/>
            <p:nvPr/>
          </p:nvSpPr>
          <p:spPr>
            <a:xfrm>
              <a:off x="685800" y="6307200"/>
              <a:ext cx="24372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CT s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23"/>
            <p:cNvSpPr/>
            <p:nvPr/>
          </p:nvSpPr>
          <p:spPr>
            <a:xfrm>
              <a:off x="5560560" y="673092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24"/>
            <p:cNvSpPr/>
            <p:nvPr/>
          </p:nvSpPr>
          <p:spPr>
            <a:xfrm>
              <a:off x="3123000" y="6730920"/>
              <a:ext cx="243756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25"/>
            <p:cNvSpPr/>
            <p:nvPr/>
          </p:nvSpPr>
          <p:spPr>
            <a:xfrm>
              <a:off x="685800" y="6730920"/>
              <a:ext cx="243720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26"/>
            <p:cNvSpPr/>
            <p:nvPr/>
          </p:nvSpPr>
          <p:spPr>
            <a:xfrm>
              <a:off x="5560560" y="4576320"/>
              <a:ext cx="24372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98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27"/>
            <p:cNvSpPr/>
            <p:nvPr/>
          </p:nvSpPr>
          <p:spPr>
            <a:xfrm>
              <a:off x="3123000" y="4576320"/>
              <a:ext cx="24375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9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28"/>
            <p:cNvSpPr/>
            <p:nvPr/>
          </p:nvSpPr>
          <p:spPr>
            <a:xfrm>
              <a:off x="685800" y="4576320"/>
              <a:ext cx="24372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Rischio di mucosi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29"/>
            <p:cNvSpPr/>
            <p:nvPr/>
          </p:nvSpPr>
          <p:spPr>
            <a:xfrm>
              <a:off x="5560560" y="4114440"/>
              <a:ext cx="243720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laringe, ipofaring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30"/>
            <p:cNvSpPr/>
            <p:nvPr/>
          </p:nvSpPr>
          <p:spPr>
            <a:xfrm>
              <a:off x="3123000" y="4114440"/>
              <a:ext cx="24375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cavo-orale, orofaring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31"/>
            <p:cNvSpPr/>
            <p:nvPr/>
          </p:nvSpPr>
          <p:spPr>
            <a:xfrm>
              <a:off x="685800" y="4114440"/>
              <a:ext cx="243720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32"/>
            <p:cNvSpPr/>
            <p:nvPr/>
          </p:nvSpPr>
          <p:spPr>
            <a:xfrm>
              <a:off x="685800" y="411444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33"/>
            <p:cNvSpPr/>
            <p:nvPr/>
          </p:nvSpPr>
          <p:spPr>
            <a:xfrm>
              <a:off x="685800" y="715464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4"/>
            <p:cNvSpPr/>
            <p:nvPr/>
          </p:nvSpPr>
          <p:spPr>
            <a:xfrm>
              <a:off x="685800" y="4114440"/>
              <a:ext cx="1080" cy="461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35"/>
            <p:cNvSpPr/>
            <p:nvPr/>
          </p:nvSpPr>
          <p:spPr>
            <a:xfrm>
              <a:off x="7998120" y="4114440"/>
              <a:ext cx="1080" cy="461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36"/>
            <p:cNvSpPr/>
            <p:nvPr/>
          </p:nvSpPr>
          <p:spPr>
            <a:xfrm>
              <a:off x="3123000" y="4114440"/>
              <a:ext cx="2437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37"/>
            <p:cNvSpPr/>
            <p:nvPr/>
          </p:nvSpPr>
          <p:spPr>
            <a:xfrm>
              <a:off x="685800" y="4576320"/>
              <a:ext cx="1080" cy="42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38"/>
            <p:cNvSpPr/>
            <p:nvPr/>
          </p:nvSpPr>
          <p:spPr>
            <a:xfrm>
              <a:off x="5560560" y="411444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39"/>
            <p:cNvSpPr/>
            <p:nvPr/>
          </p:nvSpPr>
          <p:spPr>
            <a:xfrm>
              <a:off x="7998120" y="4576320"/>
              <a:ext cx="1080" cy="42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40"/>
            <p:cNvSpPr/>
            <p:nvPr/>
          </p:nvSpPr>
          <p:spPr>
            <a:xfrm>
              <a:off x="685800" y="5000040"/>
              <a:ext cx="1080" cy="461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1"/>
            <p:cNvSpPr/>
            <p:nvPr/>
          </p:nvSpPr>
          <p:spPr>
            <a:xfrm>
              <a:off x="7998120" y="5000040"/>
              <a:ext cx="1080" cy="461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42"/>
            <p:cNvSpPr/>
            <p:nvPr/>
          </p:nvSpPr>
          <p:spPr>
            <a:xfrm>
              <a:off x="685800" y="5461560"/>
              <a:ext cx="108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43"/>
            <p:cNvSpPr/>
            <p:nvPr/>
          </p:nvSpPr>
          <p:spPr>
            <a:xfrm>
              <a:off x="7998120" y="5461560"/>
              <a:ext cx="108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44"/>
            <p:cNvSpPr/>
            <p:nvPr/>
          </p:nvSpPr>
          <p:spPr>
            <a:xfrm>
              <a:off x="685800" y="5885280"/>
              <a:ext cx="1080" cy="42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45"/>
            <p:cNvSpPr/>
            <p:nvPr/>
          </p:nvSpPr>
          <p:spPr>
            <a:xfrm>
              <a:off x="7998120" y="5885280"/>
              <a:ext cx="1080" cy="42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46"/>
            <p:cNvSpPr/>
            <p:nvPr/>
          </p:nvSpPr>
          <p:spPr>
            <a:xfrm>
              <a:off x="685800" y="6307200"/>
              <a:ext cx="1080" cy="42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47"/>
            <p:cNvSpPr/>
            <p:nvPr/>
          </p:nvSpPr>
          <p:spPr>
            <a:xfrm>
              <a:off x="7998120" y="6307200"/>
              <a:ext cx="1080" cy="423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48"/>
            <p:cNvSpPr/>
            <p:nvPr/>
          </p:nvSpPr>
          <p:spPr>
            <a:xfrm>
              <a:off x="685800" y="6730920"/>
              <a:ext cx="108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49"/>
            <p:cNvSpPr/>
            <p:nvPr/>
          </p:nvSpPr>
          <p:spPr>
            <a:xfrm>
              <a:off x="7998120" y="6730920"/>
              <a:ext cx="1080" cy="42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0"/>
            <p:cNvSpPr/>
            <p:nvPr/>
          </p:nvSpPr>
          <p:spPr>
            <a:xfrm>
              <a:off x="3123000" y="6856200"/>
              <a:ext cx="243756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1"/>
            <p:cNvSpPr/>
            <p:nvPr/>
          </p:nvSpPr>
          <p:spPr>
            <a:xfrm>
              <a:off x="5560560" y="7154640"/>
              <a:ext cx="2437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2"/>
            <p:cNvSpPr/>
            <p:nvPr/>
          </p:nvSpPr>
          <p:spPr>
            <a:xfrm>
              <a:off x="3123000" y="4038480"/>
              <a:ext cx="1440" cy="2658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53"/>
            <p:cNvSpPr/>
            <p:nvPr/>
          </p:nvSpPr>
          <p:spPr>
            <a:xfrm>
              <a:off x="5560560" y="4114440"/>
              <a:ext cx="1080" cy="2589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54"/>
            <p:cNvSpPr/>
            <p:nvPr/>
          </p:nvSpPr>
          <p:spPr>
            <a:xfrm>
              <a:off x="685800" y="4576320"/>
              <a:ext cx="731232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55"/>
            <p:cNvSpPr/>
            <p:nvPr/>
          </p:nvSpPr>
          <p:spPr>
            <a:xfrm>
              <a:off x="685800" y="5000040"/>
              <a:ext cx="73123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685800" y="5461560"/>
              <a:ext cx="73123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57"/>
            <p:cNvSpPr/>
            <p:nvPr/>
          </p:nvSpPr>
          <p:spPr>
            <a:xfrm>
              <a:off x="685800" y="5885280"/>
              <a:ext cx="731232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58"/>
            <p:cNvSpPr/>
            <p:nvPr/>
          </p:nvSpPr>
          <p:spPr>
            <a:xfrm>
              <a:off x="685800" y="6307200"/>
              <a:ext cx="731232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59"/>
            <p:cNvSpPr/>
            <p:nvPr/>
          </p:nvSpPr>
          <p:spPr>
            <a:xfrm>
              <a:off x="685800" y="6730920"/>
              <a:ext cx="73123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Rectangle 60"/>
          <p:cNvSpPr/>
          <p:nvPr/>
        </p:nvSpPr>
        <p:spPr>
          <a:xfrm>
            <a:off x="68580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isult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685800" y="1371600"/>
            <a:ext cx="79246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Patient-reported Measurement of Oral Mucositis in Head and Neck Cancer patient treated with Radiotherapy with or without Chemotherap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Elting L. (Cancer 2008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09480" y="4191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n differenze tra i gruppi per rischio e trattamento per cui valutati insieme relativamente al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TS 0,2 vs 3,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1219320" y="2514600"/>
            <a:ext cx="6017760" cy="1615680"/>
            <a:chOff x="1219320" y="2514600"/>
            <a:chExt cx="6017760" cy="1615680"/>
          </a:xfrm>
        </p:grpSpPr>
        <p:sp>
          <p:nvSpPr>
            <p:cNvPr id="338" name="Rectangle 11"/>
            <p:cNvSpPr/>
            <p:nvPr/>
          </p:nvSpPr>
          <p:spPr>
            <a:xfrm>
              <a:off x="5230080" y="3715560"/>
              <a:ext cx="20055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85%    p=.7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224880" y="3715560"/>
              <a:ext cx="200520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75%</a:t>
              </a: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219320" y="3715560"/>
              <a:ext cx="20055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230080" y="3301920"/>
              <a:ext cx="20055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concom. bo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3224880" y="3301920"/>
              <a:ext cx="200520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no concom boos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6"/>
            <p:cNvSpPr/>
            <p:nvPr/>
          </p:nvSpPr>
          <p:spPr>
            <a:xfrm>
              <a:off x="1219320" y="3301920"/>
              <a:ext cx="20055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5230080" y="2927880"/>
              <a:ext cx="20055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88%    p=.4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8"/>
            <p:cNvSpPr/>
            <p:nvPr/>
          </p:nvSpPr>
          <p:spPr>
            <a:xfrm>
              <a:off x="3224880" y="2927880"/>
              <a:ext cx="200520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7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1219320" y="2927880"/>
              <a:ext cx="200556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‘</a:t>
              </a: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MTS’ 3-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20"/>
            <p:cNvSpPr/>
            <p:nvPr/>
          </p:nvSpPr>
          <p:spPr>
            <a:xfrm>
              <a:off x="5230080" y="2514600"/>
              <a:ext cx="20055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IM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21"/>
            <p:cNvSpPr/>
            <p:nvPr/>
          </p:nvSpPr>
          <p:spPr>
            <a:xfrm>
              <a:off x="3224880" y="2514600"/>
              <a:ext cx="200520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R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22"/>
            <p:cNvSpPr/>
            <p:nvPr/>
          </p:nvSpPr>
          <p:spPr>
            <a:xfrm>
              <a:off x="1219320" y="2514600"/>
              <a:ext cx="200556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1219320" y="2514600"/>
              <a:ext cx="2005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4"/>
            <p:cNvSpPr/>
            <p:nvPr/>
          </p:nvSpPr>
          <p:spPr>
            <a:xfrm>
              <a:off x="1219320" y="2927880"/>
              <a:ext cx="60163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1219320" y="3301920"/>
              <a:ext cx="60163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>
              <a:off x="1219320" y="3715560"/>
              <a:ext cx="60163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7"/>
            <p:cNvSpPr/>
            <p:nvPr/>
          </p:nvSpPr>
          <p:spPr>
            <a:xfrm>
              <a:off x="1219320" y="4129200"/>
              <a:ext cx="2005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8"/>
            <p:cNvSpPr/>
            <p:nvPr/>
          </p:nvSpPr>
          <p:spPr>
            <a:xfrm>
              <a:off x="1219320" y="2514600"/>
              <a:ext cx="1080" cy="41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3224880" y="2514600"/>
              <a:ext cx="1080" cy="1614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>
              <a:off x="5230080" y="2514600"/>
              <a:ext cx="1440" cy="1614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235640" y="2514600"/>
              <a:ext cx="1440" cy="41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32"/>
            <p:cNvSpPr/>
            <p:nvPr/>
          </p:nvSpPr>
          <p:spPr>
            <a:xfrm>
              <a:off x="3224880" y="2514600"/>
              <a:ext cx="2005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33"/>
            <p:cNvSpPr/>
            <p:nvPr/>
          </p:nvSpPr>
          <p:spPr>
            <a:xfrm>
              <a:off x="1219320" y="2927880"/>
              <a:ext cx="1080" cy="373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34"/>
            <p:cNvSpPr/>
            <p:nvPr/>
          </p:nvSpPr>
          <p:spPr>
            <a:xfrm>
              <a:off x="5230080" y="2514600"/>
              <a:ext cx="2005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7235640" y="2927880"/>
              <a:ext cx="1440" cy="373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>
              <a:off x="1219320" y="3301920"/>
              <a:ext cx="1080" cy="41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37"/>
            <p:cNvSpPr/>
            <p:nvPr/>
          </p:nvSpPr>
          <p:spPr>
            <a:xfrm>
              <a:off x="7235640" y="3301920"/>
              <a:ext cx="1440" cy="41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>
              <a:off x="1219320" y="3715560"/>
              <a:ext cx="1080" cy="41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39"/>
            <p:cNvSpPr/>
            <p:nvPr/>
          </p:nvSpPr>
          <p:spPr>
            <a:xfrm>
              <a:off x="7235640" y="3715560"/>
              <a:ext cx="1440" cy="41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>
              <a:off x="3224880" y="4129200"/>
              <a:ext cx="20052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>
              <a:off x="5230080" y="4129200"/>
              <a:ext cx="20055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42"/>
          <p:cNvGrpSpPr/>
          <p:nvPr/>
        </p:nvGrpSpPr>
        <p:grpSpPr>
          <a:xfrm>
            <a:off x="838080" y="4876920"/>
            <a:ext cx="6170400" cy="1674360"/>
            <a:chOff x="838080" y="4876920"/>
            <a:chExt cx="6170400" cy="1674360"/>
          </a:xfrm>
        </p:grpSpPr>
        <p:sp>
          <p:nvSpPr>
            <p:cNvPr id="370" name="Rectangle 43"/>
            <p:cNvSpPr/>
            <p:nvPr/>
          </p:nvSpPr>
          <p:spPr>
            <a:xfrm>
              <a:off x="4950720" y="613152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44"/>
            <p:cNvSpPr/>
            <p:nvPr/>
          </p:nvSpPr>
          <p:spPr>
            <a:xfrm>
              <a:off x="2894400" y="613152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3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45"/>
            <p:cNvSpPr/>
            <p:nvPr/>
          </p:nvSpPr>
          <p:spPr>
            <a:xfrm>
              <a:off x="838080" y="613152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non uso di analgesici</a:t>
              </a: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46"/>
            <p:cNvSpPr/>
            <p:nvPr/>
          </p:nvSpPr>
          <p:spPr>
            <a:xfrm>
              <a:off x="4950720" y="571320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5 Kg     p=.0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2894400" y="571320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2 K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48"/>
            <p:cNvSpPr/>
            <p:nvPr/>
          </p:nvSpPr>
          <p:spPr>
            <a:xfrm>
              <a:off x="838080" y="571320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perdita di pes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49"/>
            <p:cNvSpPr/>
            <p:nvPr/>
          </p:nvSpPr>
          <p:spPr>
            <a:xfrm>
              <a:off x="4950720" y="529488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40%     p=.00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50"/>
            <p:cNvSpPr/>
            <p:nvPr/>
          </p:nvSpPr>
          <p:spPr>
            <a:xfrm>
              <a:off x="2894400" y="529488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1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51"/>
            <p:cNvSpPr/>
            <p:nvPr/>
          </p:nvSpPr>
          <p:spPr>
            <a:xfrm>
              <a:off x="838080" y="529488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PE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2"/>
            <p:cNvSpPr/>
            <p:nvPr/>
          </p:nvSpPr>
          <p:spPr>
            <a:xfrm>
              <a:off x="4950720" y="487692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MTS 3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2894400" y="487692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MTS 0,2</a:t>
              </a:r>
              <a:r>
                <a:rPr b="1" lang="en-GB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838080" y="4876920"/>
              <a:ext cx="2056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55"/>
            <p:cNvSpPr/>
            <p:nvPr/>
          </p:nvSpPr>
          <p:spPr>
            <a:xfrm>
              <a:off x="838080" y="4876920"/>
              <a:ext cx="20563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56"/>
            <p:cNvSpPr/>
            <p:nvPr/>
          </p:nvSpPr>
          <p:spPr>
            <a:xfrm>
              <a:off x="838080" y="6549840"/>
              <a:ext cx="2056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57"/>
            <p:cNvSpPr/>
            <p:nvPr/>
          </p:nvSpPr>
          <p:spPr>
            <a:xfrm>
              <a:off x="838080" y="487692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58"/>
            <p:cNvSpPr/>
            <p:nvPr/>
          </p:nvSpPr>
          <p:spPr>
            <a:xfrm>
              <a:off x="7007040" y="487692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59"/>
            <p:cNvSpPr/>
            <p:nvPr/>
          </p:nvSpPr>
          <p:spPr>
            <a:xfrm>
              <a:off x="4950720" y="4876920"/>
              <a:ext cx="1440" cy="1672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60"/>
            <p:cNvSpPr/>
            <p:nvPr/>
          </p:nvSpPr>
          <p:spPr>
            <a:xfrm>
              <a:off x="838080" y="5713200"/>
              <a:ext cx="616896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61"/>
            <p:cNvSpPr/>
            <p:nvPr/>
          </p:nvSpPr>
          <p:spPr>
            <a:xfrm>
              <a:off x="838080" y="6131520"/>
              <a:ext cx="6168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>
              <a:off x="2894400" y="4876920"/>
              <a:ext cx="1440" cy="1672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63"/>
            <p:cNvSpPr/>
            <p:nvPr/>
          </p:nvSpPr>
          <p:spPr>
            <a:xfrm>
              <a:off x="838080" y="5294880"/>
              <a:ext cx="616896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64"/>
            <p:cNvSpPr/>
            <p:nvPr/>
          </p:nvSpPr>
          <p:spPr>
            <a:xfrm>
              <a:off x="2894400" y="4876920"/>
              <a:ext cx="20563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65"/>
            <p:cNvSpPr/>
            <p:nvPr/>
          </p:nvSpPr>
          <p:spPr>
            <a:xfrm>
              <a:off x="838080" y="529488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66"/>
            <p:cNvSpPr/>
            <p:nvPr/>
          </p:nvSpPr>
          <p:spPr>
            <a:xfrm>
              <a:off x="4950720" y="4876920"/>
              <a:ext cx="20563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67"/>
            <p:cNvSpPr/>
            <p:nvPr/>
          </p:nvSpPr>
          <p:spPr>
            <a:xfrm>
              <a:off x="7007040" y="529488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838080" y="571320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>
              <a:off x="7007040" y="571320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70"/>
            <p:cNvSpPr/>
            <p:nvPr/>
          </p:nvSpPr>
          <p:spPr>
            <a:xfrm>
              <a:off x="838080" y="613152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71"/>
            <p:cNvSpPr/>
            <p:nvPr/>
          </p:nvSpPr>
          <p:spPr>
            <a:xfrm>
              <a:off x="7007040" y="6131520"/>
              <a:ext cx="1440" cy="41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2894400" y="6549840"/>
              <a:ext cx="2056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>
              <a:off x="4950720" y="6549840"/>
              <a:ext cx="2056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685800" y="1371600"/>
            <a:ext cx="79246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Patient-reported Measurement of Oral Mucositis in Head and Neck Cancer patient treated with Radiotherapy with or without Chemotherap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Elting L. (Cancer 2008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685800" y="4267080"/>
            <a:ext cx="76201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QOL scende già durante la prima settimana fino alla VI che coincide con il max punteggio di MTS. Dopo 6 settimane tutti i questionari di QOL salgono e comunque rimangono piu’ bassi rispetto ai livelli basali anche dopo 3 settimane dalla fine della 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10"/>
          <p:cNvGrpSpPr/>
          <p:nvPr/>
        </p:nvGrpSpPr>
        <p:grpSpPr>
          <a:xfrm>
            <a:off x="1143000" y="2286000"/>
            <a:ext cx="5179680" cy="1827000"/>
            <a:chOff x="1143000" y="2286000"/>
            <a:chExt cx="5179680" cy="1827000"/>
          </a:xfrm>
        </p:grpSpPr>
        <p:sp>
          <p:nvSpPr>
            <p:cNvPr id="411" name="Rectangle 11"/>
            <p:cNvSpPr/>
            <p:nvPr/>
          </p:nvSpPr>
          <p:spPr>
            <a:xfrm>
              <a:off x="4417560" y="3453840"/>
              <a:ext cx="19033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27%      p=.0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12"/>
            <p:cNvSpPr/>
            <p:nvPr/>
          </p:nvSpPr>
          <p:spPr>
            <a:xfrm>
              <a:off x="3097440" y="3453840"/>
              <a:ext cx="13197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1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1143000" y="3453840"/>
              <a:ext cx="19544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uso di antimicotic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4417560" y="2794680"/>
              <a:ext cx="1903320" cy="6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70%      p=.00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3097440" y="2794680"/>
              <a:ext cx="1319760" cy="6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4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16"/>
            <p:cNvSpPr/>
            <p:nvPr/>
          </p:nvSpPr>
          <p:spPr>
            <a:xfrm>
              <a:off x="1143000" y="2794680"/>
              <a:ext cx="1954440" cy="6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uso di oppioid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4417560" y="2286000"/>
              <a:ext cx="1903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MTS 3,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8"/>
            <p:cNvSpPr/>
            <p:nvPr/>
          </p:nvSpPr>
          <p:spPr>
            <a:xfrm>
              <a:off x="3097440" y="2286000"/>
              <a:ext cx="13197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00"/>
                  </a:solidFill>
                  <a:latin typeface="Comic Sans MS"/>
                </a:rPr>
                <a:t>MTS 0,2</a:t>
              </a:r>
              <a:r>
                <a:rPr b="1" lang="en-GB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9"/>
            <p:cNvSpPr/>
            <p:nvPr/>
          </p:nvSpPr>
          <p:spPr>
            <a:xfrm>
              <a:off x="1143000" y="2286000"/>
              <a:ext cx="19544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0"/>
            <p:cNvSpPr/>
            <p:nvPr/>
          </p:nvSpPr>
          <p:spPr>
            <a:xfrm>
              <a:off x="1143000" y="2286000"/>
              <a:ext cx="1954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1"/>
            <p:cNvSpPr/>
            <p:nvPr/>
          </p:nvSpPr>
          <p:spPr>
            <a:xfrm>
              <a:off x="1143000" y="2794680"/>
              <a:ext cx="517824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2"/>
            <p:cNvSpPr/>
            <p:nvPr/>
          </p:nvSpPr>
          <p:spPr>
            <a:xfrm>
              <a:off x="1143000" y="3453840"/>
              <a:ext cx="517824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3"/>
            <p:cNvSpPr/>
            <p:nvPr/>
          </p:nvSpPr>
          <p:spPr>
            <a:xfrm>
              <a:off x="1143000" y="4111920"/>
              <a:ext cx="1954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4"/>
            <p:cNvSpPr/>
            <p:nvPr/>
          </p:nvSpPr>
          <p:spPr>
            <a:xfrm>
              <a:off x="1143000" y="2286000"/>
              <a:ext cx="1080" cy="508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5"/>
            <p:cNvSpPr/>
            <p:nvPr/>
          </p:nvSpPr>
          <p:spPr>
            <a:xfrm>
              <a:off x="3097440" y="2286000"/>
              <a:ext cx="1080" cy="182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"/>
            <p:cNvSpPr/>
            <p:nvPr/>
          </p:nvSpPr>
          <p:spPr>
            <a:xfrm>
              <a:off x="4417560" y="2286000"/>
              <a:ext cx="1080" cy="182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"/>
            <p:cNvSpPr/>
            <p:nvPr/>
          </p:nvSpPr>
          <p:spPr>
            <a:xfrm>
              <a:off x="6321240" y="2286000"/>
              <a:ext cx="1440" cy="508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8"/>
            <p:cNvSpPr/>
            <p:nvPr/>
          </p:nvSpPr>
          <p:spPr>
            <a:xfrm>
              <a:off x="3097440" y="2286000"/>
              <a:ext cx="13197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1143000" y="2794680"/>
              <a:ext cx="1080" cy="659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0"/>
            <p:cNvSpPr/>
            <p:nvPr/>
          </p:nvSpPr>
          <p:spPr>
            <a:xfrm>
              <a:off x="4417560" y="2286000"/>
              <a:ext cx="19033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>
              <a:off x="6321240" y="2794680"/>
              <a:ext cx="1440" cy="659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2"/>
            <p:cNvSpPr/>
            <p:nvPr/>
          </p:nvSpPr>
          <p:spPr>
            <a:xfrm>
              <a:off x="1143000" y="3453840"/>
              <a:ext cx="1080" cy="657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>
              <a:off x="6321240" y="3453840"/>
              <a:ext cx="1440" cy="657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>
              <a:off x="3097440" y="4111920"/>
              <a:ext cx="131976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5"/>
            <p:cNvSpPr/>
            <p:nvPr/>
          </p:nvSpPr>
          <p:spPr>
            <a:xfrm>
              <a:off x="4417560" y="4111920"/>
              <a:ext cx="190332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685800" y="1371600"/>
            <a:ext cx="79246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Patient-reported Measurement of Oral Mucositis in Head and Neck Cancer patient treated with Radiotherapy with or without Chemotherap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Elting L. (Cancer 2008)</a:t>
            </a:r>
            <a:r>
              <a:rPr b="1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838080" y="2514600"/>
            <a:ext cx="75438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Conclusion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Virtualmente tutti i pazienti sottoposti a RT per HNC con o senza chemioterapia sviluppano una mucosite di grado severo che riduce QOL e richiede l’uso di analgesici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La mucosite di grado severo e’ associata a perdita di peso e conseguente necessita’ di PEG o al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Non c’è differenza di rischio per le diverse sedi a differenza dei precedenti d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Non differenza di rischio e severita’ per RT convenzionale e IM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Non differenza di rischio e severita’ tra RT e RT-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L’uso di oppioidi spesso non è sufficiente alla palliazione dei sinto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Necessita’ di agenti che riducano l’incidenza e la severita’ della mucosi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13916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65040" y="4752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1703520"/>
            <a:ext cx="693432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Goal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del trattamento delle neoplasie è 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cura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della malat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A volte gli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ffetti collaterali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hanno un impatto importante sul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qualità di vita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sia durante che dopo la terapia (Chirurgia, radioterapia, chemioterapi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ucosit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è uno degli effetti collaterali che h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aggior impatto sulla qualità di vita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è infatti ricordata dai pazienti come il peggior effetto collate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42920" y="1052640"/>
            <a:ext cx="5545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919920" y="6343560"/>
            <a:ext cx="1751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685800" y="179712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MRT e Muco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219320" y="2743200"/>
            <a:ext cx="701028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MRT non sembra variare il rischio e la severità della mucosit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cuni autori hanno evidenziato dei vantaggi (Chao KS, Yao M) nell’utilizzo dell’IMRT.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 risultati di uno studio prospettico non hanno  confermato la riduzione del rischio di mucosite con IMRT (Lee NY 2006)                                            La mucosite di grado severo è risultata rispettivamente 66% e 72%   con IMRT e  CB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tro studio prospettico  ha evidenziato  una piu’ bassa incidenza di mucosite di grado 3-4 con IMRT  (Vergeer  M. R. 200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66680" y="2590920"/>
            <a:ext cx="723924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Controllo del dolore: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olti centri utilizzano sciacqui con soluzione salina, ghiaccio e gel topici contenenti anestetico come </a:t>
            </a:r>
            <a:r>
              <a:rPr b="0" i="1" lang="en-GB" sz="1600" spc="-1" strike="noStrike">
                <a:solidFill>
                  <a:srgbClr val="ffffff"/>
                </a:solidFill>
                <a:latin typeface="Comic Sans MS"/>
              </a:rPr>
              <a:t>lidocaina viscos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al 2%. La lidocaina può essere miscelata con </a:t>
            </a:r>
            <a:r>
              <a:rPr b="0" i="1" lang="en-GB" sz="1600" spc="-1" strike="noStrike">
                <a:solidFill>
                  <a:srgbClr val="ffffff"/>
                </a:solidFill>
                <a:latin typeface="Comic Sans MS"/>
              </a:rPr>
              <a:t>difenidramin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e con agente lenitivo di copertura come Maalox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i sono altri agenti che aderiscono alle mucosa e riducono il dolore formando una pellicola protettiva sulla mucosa ulcerata. Di questi il più studiato è il </a:t>
            </a:r>
            <a:r>
              <a:rPr b="0" i="1" lang="en-GB" sz="1600" spc="-1" strike="noStrike">
                <a:solidFill>
                  <a:srgbClr val="ffffff"/>
                </a:solidFill>
                <a:latin typeface="Comic Sans MS"/>
              </a:rPr>
              <a:t>sucralfato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. Le </a:t>
            </a: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linee guida  MASCC/ISOO (Mucositis Study Group of the Multinational Association for Supportive Care in Cancer e International Sociey of Oral Oncology) (Cancer 2007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on ne raccomandano l’uso per la mancanza di efficacia prov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Oltre alla terapia locale molti pazienti richiedono analgesia sistemica con uso di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oppioid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66680" y="2590920"/>
            <a:ext cx="723924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Supporto nutrizionale: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’apporto nutrizionale può essere severamente compromesso dalla mucosite a cui si aggiunge la disgeusi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’ essenziale che </a:t>
            </a:r>
            <a:r>
              <a:rPr b="0" i="1" lang="en-GB" sz="1600" spc="-1" strike="noStrike">
                <a:solidFill>
                  <a:srgbClr val="ffffff"/>
                </a:solidFill>
                <a:latin typeface="Comic Sans MS"/>
              </a:rPr>
              <a:t>l’apporto nutrizionel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e il </a:t>
            </a:r>
            <a:r>
              <a:rPr b="0" i="1" lang="en-GB" sz="1600" spc="-1" strike="noStrike">
                <a:solidFill>
                  <a:srgbClr val="ffffff"/>
                </a:solidFill>
                <a:latin typeface="Comic Sans MS"/>
              </a:rPr>
              <a:t>peso del pazient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sia strettamente monitorat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na dieta semiliquida e supplementi liquidi sono piu’ tollerati della normale diet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e si ipotizza lo sviluppo di grave mucosite        gastrostomia profilattica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5362560" y="487692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1066680" y="2133720"/>
            <a:ext cx="739152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Igiene orale: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profilassi antimicrobic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puo’ essere utile in questi pazienti in quanto la colonizzazione batterica può esacerbare la mucosi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iversi studi hanno dimostrato che una buona igiene orale può ridurre la severità della muco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 profilassi orale può ridurre le infezioni da patogeni opportunisti e può ridurre il rischio di sep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linee guida MASCC/ISOO raccomandano l’uso di spazzolino morbido, sciacqui non medicati (soluzione salina o bicarbonato) ed educazione del paziente e del personale sull’importanza dell’igiene or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ciacqui con </a:t>
            </a:r>
            <a:r>
              <a:rPr b="0" i="1" lang="en-GB" sz="1600" spc="-1" strike="noStrike">
                <a:solidFill>
                  <a:srgbClr val="ffffff"/>
                </a:solidFill>
                <a:latin typeface="Comic Sans MS"/>
              </a:rPr>
              <a:t>clorexidin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non hanno dimostrato efficacia anche se sono utilizzati in alcuni centr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linee guida MASCC/ISOO non raccomandano l’uso di clorexidina per il non sufficiente livello di evidenz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1066680" y="2133720"/>
            <a:ext cx="73915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Igiene orale: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nistatina sosp. orale non riduce la severità della mucosi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’uso di </a:t>
            </a:r>
            <a:r>
              <a:rPr b="1" i="1" lang="en-GB" sz="1600" spc="-1" strike="noStrike">
                <a:solidFill>
                  <a:srgbClr val="ffff00"/>
                </a:solidFill>
                <a:latin typeface="Comic Sans MS"/>
              </a:rPr>
              <a:t>fluconazolo per via sistemic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riduce significativamente sia le candidosi che l’incidenza di mucosite severa (15% vs 45% tra pazienti trattati con o senza antimicotico)</a:t>
            </a:r>
            <a:r>
              <a:rPr b="0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linee guida MASCC/ISOO  non raccomandano l’uso di compresse di antibiotici orodispersibili  o acyclovir per prevenire la muco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066680" y="2133720"/>
            <a:ext cx="73915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Palliazione della xerostomia: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bere acqua e utilizzo di saliva artificia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ciacqui con una soluzione di bicarbonato di sodio in una tazza di acqua calda diverse volte al giorno per pulire e lubrificare i tessu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hew gum senza zucchero per stimolare la saliv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uso di anticolinergici se necess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990720" y="2590920"/>
            <a:ext cx="731520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Crioterapi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le linee guida MASCC/ISOO raccomandano l’uso della crioterapia in pazienti che ricevono 5FU in bo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Fattori di crescit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 palifermin registrato per le mucositi orali nei pazienti sottoposti  a trapianto di cellule staminali autolog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Agenti antiinfiammatori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la </a:t>
            </a: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benzidamin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idrocloridrato è un antinfiammatorio non steroideo che inibisce le citochine pro-infiammatorie compreso TNF-</a:t>
            </a: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. In uno studio di fase III la benzidamina ha ridotto la severita’ della mucosite in paziente sottoposti a RT con dose &gt; di 50 Gy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linee guida MASCC/ISOO raccomandano l’uso di questo agente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990720" y="2209680"/>
            <a:ext cx="3352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Terapia della mucosi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990720" y="2209680"/>
            <a:ext cx="7315200" cy="36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ffff00"/>
                </a:solidFill>
                <a:uFillTx/>
                <a:latin typeface="Comic Sans MS"/>
              </a:rPr>
              <a:t>Terapia della mucosi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sospensioni orali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on L-glutamina (Saforis) che riducono il danno della mucosa   riducendo la produzione di citochine pro-infiammatorie e l’apoptosi legata alle citochine e può promuovere la guarigione stimolando la sintesi di collagene e fibrobla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antiossidanti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amifost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aserterapia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: diversi studi hanno indicato che la laser terapia  riduce la severità della mucosite anche se il meccanismo non è chiaro. E’ ipotizzato che il laser abbassi il livello  dei radicali liberi dell’ossigeno e/o delle citochine pro-infiammatorie. Nonostante i risultati incoraggianti le linee guida MASCC/ISOO ne suggeriscono l’uso solo in centri specializz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457200" y="15685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anagement of Oral Mucositis in patients with cancer (Dent Clin North Am 2008)</a:t>
            </a:r>
            <a:r>
              <a:rPr b="1" lang="ar-SA" sz="1600" spc="-1" strike="noStrike">
                <a:solidFill>
                  <a:srgbClr val="ffff00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533520" y="16146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Palifer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762120" y="2514600"/>
            <a:ext cx="7086600" cy="18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Palifermin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(fattore di crescita dei cheratinociti) è il primo farmaco biologico approvato per la mucosite ora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i sono evidenze di livello 2 che supportano l’uso di palifermin nella mucosite nel trapianto di cellule staminali autolog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i sono evidenze di livello 2 anche per l’uso di Palifermin nelle mucositi nei pz con tumori solidi (colon-retto e testa-collo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762120" y="4800600"/>
            <a:ext cx="769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Brizel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(JCO 2008) studio randomizzato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durata della fase ulcerativa della mucosite è piu’ breve nei pz trattati con Palifermin. Inoltre &gt; efficacia nell’iperfrazionamento rispetto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1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685800" y="13716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Palifer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762120" y="1981080"/>
            <a:ext cx="769608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Lee</a:t>
            </a: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Int J Radiat Oncol Biol Phys 2008) studio multicentrico randomizz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ucosite severa  54% palifermin vs 69% placebo   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p=.041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urata media della mucosite severa 5 gg per palifermin vs 26 gg per place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762120" y="3352680"/>
            <a:ext cx="77724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Henke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Radiother Oncol. 2008) studio multicentrico randomizzato fase 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cidenza della mucosite severa 51% con Palifermin vs 67% con placebo 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p=.0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urata media della mucosite severa 4.5 gg (palifermin) vs 22 gg (placebo)</a:t>
            </a:r>
            <a:r>
              <a:rPr b="0" lang="ar-SA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762120" y="4800600"/>
            <a:ext cx="7086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i sono dati a supporto dell’uso di Palifermin nelle neoplasie testa -col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Ostacoli: -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osto del farm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-palifermin è fattore di crescita e le cellule tumorali potrebbero avere recettori per KGF e stimolare la crescita del tumore (non dati a supporto di tale ipotesi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937640" y="62625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65040" y="4752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60360" y="1619280"/>
            <a:ext cx="809928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ucosit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è un processo patologico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olto frequente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5-90%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nei trattamenti oncologici, a volt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ottovalut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In particolare è molto frequente nella cura delle neoplasie d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distretto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testa-collo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che ricevono un trattamento radioterapico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50-90%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ar-SA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E' un processo infiammatorio caratterizzato d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vari gradi di intensità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dall'arrossamento alla formazione di piccole ulcere isolate e quindi confluenti fino al quadro di necro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Ci sono diversi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strumenti per la valutazione del grado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della mucosite (NCI-CTCAE, WHO, RTOG ecc.), nessuno dei quali è accettato universalmente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083120" y="2205000"/>
            <a:ext cx="349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921360" y="625320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26160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85800" y="13716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Cetuximab e muco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8" descr=""/>
          <p:cNvPicPr/>
          <p:nvPr/>
        </p:nvPicPr>
        <p:blipFill>
          <a:blip r:embed="rId1"/>
          <a:stretch/>
        </p:blipFill>
        <p:spPr>
          <a:xfrm>
            <a:off x="1447920" y="2495520"/>
            <a:ext cx="6324480" cy="1771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9"/>
          <p:cNvSpPr/>
          <p:nvPr/>
        </p:nvSpPr>
        <p:spPr>
          <a:xfrm>
            <a:off x="1523880" y="19810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Bonner J. A. The Lancet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1523880" y="47242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erlano M. Annals of oncology, 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295280" y="518148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Cisplatin-based chemoradiation plus cetuximab in locally advanced head and neck cancer: a phase II clinical stu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1447920" y="5943600"/>
            <a:ext cx="5790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’ riportata una % elevata di stomatite di grado III-IV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65% dei pazienti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7164360" y="647712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838080" y="3276720"/>
            <a:ext cx="7696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1523880" y="1981080"/>
            <a:ext cx="6096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636560" y="17431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Conclusion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1676520" y="2438280"/>
            <a:ext cx="632448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mucosite e’ un importante complicazione, a volte </a:t>
            </a:r>
            <a:r>
              <a:rPr b="0" i="1" lang="en-GB" sz="1600" spc="-1" strike="noStrike">
                <a:solidFill>
                  <a:srgbClr val="ffff00"/>
                </a:solidFill>
                <a:latin typeface="Comic Sans MS"/>
              </a:rPr>
              <a:t>dose-limitante della terap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lesioni mucositiche sono dolorose, alterano la nutrizione e la qualità di vi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 patogenesi è </a:t>
            </a: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multifattorial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e comples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ttualmente viene gestita soprattutto con </a:t>
            </a: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misure palliative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come il controllo del dolore, supporto nutrizionale e il mantenimento di una buona igiene or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i sono in studio vari agenti terapeutici promettenti che agiscono a diversi livelli del processo patolog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’ auspicabile lo sviluppo di algoritmi per la valutazione del rischio di mucosite clinicamente significativa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713916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65040" y="4752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60360" y="1809720"/>
            <a:ext cx="809928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Negli studi piu' recenti viene data maggior importanza ai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dati riportati dal pazient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sia come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benessere general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come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funzionalità faringo-laringea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valutazione del dol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Utile 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valutazione basal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dello stato del paz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ucosit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si manifesta con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dolor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disfagia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con conseguente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perdita di peso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malessere general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riduzione del PS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ucosite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 ha un impatto sostanziale sul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costo della c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083120" y="2205000"/>
            <a:ext cx="349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993000" y="618660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261600" y="9367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380880" y="1309680"/>
            <a:ext cx="5608800" cy="4089240"/>
          </a:xfrm>
          <a:prstGeom prst="rect">
            <a:avLst/>
          </a:prstGeom>
          <a:ln w="28440">
            <a:solidFill>
              <a:srgbClr val="ff0000"/>
            </a:solidFill>
            <a:round/>
          </a:ln>
        </p:spPr>
      </p:pic>
      <p:sp>
        <p:nvSpPr>
          <p:cNvPr id="84" name="Text Box 6"/>
          <p:cNvSpPr/>
          <p:nvPr/>
        </p:nvSpPr>
        <p:spPr>
          <a:xfrm>
            <a:off x="304920" y="57913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Comic Sans MS"/>
              </a:rPr>
              <a:t>L'epitelio orale è un tessuto a costante rinnovamento nel quale le cellule dello strato basale proliferano e migrano verso la superfi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61600" y="7621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098760" y="2008080"/>
            <a:ext cx="3006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epitelio squamoso stratifica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6896880" y="3227400"/>
            <a:ext cx="1585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amina prop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560640" y="4218120"/>
            <a:ext cx="22550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matrice extracellul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5484960" y="2209680"/>
            <a:ext cx="6127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 flipH="1" flipV="1">
            <a:off x="5560560" y="3122640"/>
            <a:ext cx="1374840" cy="2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 flipH="1">
            <a:off x="5560560" y="3352680"/>
            <a:ext cx="1374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5636880" y="3352680"/>
            <a:ext cx="12985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5560560" y="4343400"/>
            <a:ext cx="9939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7240680" y="647856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240680" y="6478560"/>
            <a:ext cx="17510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5580000" cy="4064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5943600" y="1371600"/>
            <a:ext cx="34322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Rt e/o ct        danno diretto alle cellule basali e della lamina propria      morte ce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Produzione di specie reattive dell'ossigeno ROS      danno diretto ed indiretto stimolando fattori di trascrizione     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NF-k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Up regolation geni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TNF-</a:t>
            </a:r>
            <a:r>
              <a:rPr b="1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, IL-1</a:t>
            </a:r>
            <a:r>
              <a:rPr b="1" lang="en-GB" sz="1600" spc="-1" strike="noStrike">
                <a:solidFill>
                  <a:srgbClr val="ffff00"/>
                </a:solidFill>
                <a:latin typeface="Lucida Grande"/>
              </a:rPr>
              <a:t>β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IL-6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(citochine pro-infiam)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anno  tissutale ed apoptosi e feed-back pos su effetto iniziale di RT . Stimola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molecole di adesione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che attraverso la cicloossigenasi 2 portano ad angiogenesi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TNF-</a:t>
            </a: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attiva anche la via della ceramide, delle caspasi e NF-kB </a:t>
            </a:r>
            <a:r>
              <a:rPr b="0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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7775640" y="242100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6767640" y="195264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095880" y="3141720"/>
            <a:ext cx="276480" cy="206280"/>
          </a:xfrm>
          <a:custGeom>
            <a:avLst/>
            <a:gdLst>
              <a:gd name="textAreaLeft" fmla="*/ 34560 w 276480"/>
              <a:gd name="textAreaRight" fmla="*/ 241920 w 27648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8172360" y="2925720"/>
            <a:ext cx="276480" cy="206280"/>
          </a:xfrm>
          <a:custGeom>
            <a:avLst/>
            <a:gdLst>
              <a:gd name="textAreaLeft" fmla="*/ 34560 w 276480"/>
              <a:gd name="textAreaRight" fmla="*/ 241920 w 27648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8628120" y="330840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191360" y="367992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7128000" y="148608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8820000" y="1079640"/>
            <a:ext cx="1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8334360" y="3146400"/>
            <a:ext cx="276120" cy="20628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04920" y="5562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elle citochine pro-infiammator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Attivazione dei macrofagi con produzione di </a:t>
            </a:r>
            <a:r>
              <a:rPr b="1" lang="en-GB" sz="1600" spc="-1" strike="noStrike">
                <a:solidFill>
                  <a:srgbClr val="ffff00"/>
                </a:solidFill>
                <a:latin typeface="Comic Sans MS"/>
              </a:rPr>
              <a:t>metalloproteinasi    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anno tissutale diretto,  ulteriore produzione di TNF- </a:t>
            </a:r>
            <a:r>
              <a:rPr b="1" lang="en-GB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 e amplificazione del processo. A questo punto tessuto biologicamente alterato ma che puo’ apparire norma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6353280" y="5867280"/>
            <a:ext cx="276120" cy="206640"/>
          </a:xfrm>
          <a:custGeom>
            <a:avLst/>
            <a:gdLst>
              <a:gd name="textAreaLeft" fmla="*/ 34560 w 276120"/>
              <a:gd name="textAreaRight" fmla="*/ 241920 w 276120"/>
              <a:gd name="textAreaTop" fmla="*/ 51480 h 206640"/>
              <a:gd name="textAreaBottom" fmla="*/ 155160 h 206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3261600" y="7621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391520" y="6402240"/>
            <a:ext cx="1751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400720" cy="3505320"/>
          </a:xfrm>
          <a:prstGeom prst="rect">
            <a:avLst/>
          </a:prstGeom>
          <a:ln w="28440">
            <a:solidFill>
              <a:srgbClr val="ff0000"/>
            </a:solidFill>
            <a:round/>
          </a:ln>
        </p:spPr>
      </p:pic>
      <p:sp>
        <p:nvSpPr>
          <p:cNvPr id="122" name="Text Box 7"/>
          <p:cNvSpPr/>
          <p:nvPr/>
        </p:nvSpPr>
        <p:spPr>
          <a:xfrm>
            <a:off x="380880" y="5410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52280" y="5105520"/>
            <a:ext cx="87631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I batteri presenti nel cavo orale colonizzano l’ulcera e rilasciano prodotti di degradazione cellulare che penetrano nel connettivo e stimolano il rilascio di altre citochi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urante questa fase abbiamo un abbondante infiltrato infiammatori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L’ulcera puo’ essere ricoperta da un essudato fibrinoso con abbondanti batteri chiamato  ‘pseudomembrane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261600" y="7621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5715000" y="1295280"/>
            <a:ext cx="3429000" cy="7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10 giorni dalla somministrazione di farmaci stomatotossic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o alla dose cumulativa di  30 G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708660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867280" y="2362320"/>
            <a:ext cx="31244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anno all’integrita’ dell’epitel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583320" y="3048120"/>
            <a:ext cx="12765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ulcer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5791320" y="3727440"/>
            <a:ext cx="3429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perdita della barriera che protegge le terminazioni nervo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6828840" y="4522680"/>
            <a:ext cx="7995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dol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7086600" y="2666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7086600" y="3352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70866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6781680" y="4495680"/>
            <a:ext cx="9144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164360" y="6402240"/>
            <a:ext cx="1751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562720" cy="3598920"/>
          </a:xfrm>
          <a:prstGeom prst="rect">
            <a:avLst/>
          </a:prstGeom>
          <a:ln w="28440">
            <a:solidFill>
              <a:srgbClr val="ff0000"/>
            </a:solidFill>
            <a:round/>
          </a:ln>
        </p:spPr>
      </p:pic>
      <p:sp>
        <p:nvSpPr>
          <p:cNvPr id="142" name="Text Box 7"/>
          <p:cNvSpPr/>
          <p:nvPr/>
        </p:nvSpPr>
        <p:spPr>
          <a:xfrm>
            <a:off x="380880" y="518148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Nella maggior parte dei casi, la guarigione avviene spontaneamente dopo circa 3 settimane dalla fine della RT. L’epitelio migra dai margini dell’ulcera come conseguenza di un segnale da parte di cellule mesenchimali e della matrice extracellulare che det. proliferazione, migrazione e differenzi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261600" y="7621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7145280" y="6262560"/>
            <a:ext cx="1828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6445080" y="41972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42920" y="836640"/>
            <a:ext cx="5545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2127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993000" y="6281640"/>
            <a:ext cx="1751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Comic Sans MS"/>
              </a:rPr>
              <a:t>Perugia 1/10/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2519280" y="1979640"/>
            <a:ext cx="4392720" cy="3567240"/>
          </a:xfrm>
          <a:prstGeom prst="rect">
            <a:avLst/>
          </a:prstGeom>
          <a:ln w="28440">
            <a:solidFill>
              <a:srgbClr val="ff0000"/>
            </a:solidFill>
            <a:round/>
          </a:ln>
        </p:spPr>
      </p:pic>
      <p:sp>
        <p:nvSpPr>
          <p:cNvPr id="151" name="Text Box 7"/>
          <p:cNvSpPr/>
          <p:nvPr/>
        </p:nvSpPr>
        <p:spPr>
          <a:xfrm>
            <a:off x="76320" y="76320"/>
            <a:ext cx="8991360" cy="609480"/>
          </a:xfrm>
          <a:prstGeom prst="rect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 neoplasie localmente avanzate del distretto testa-collo: dalla cura alle terapie di suppor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185640" y="936720"/>
            <a:ext cx="26128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ff00"/>
                </a:solidFill>
                <a:uFillTx/>
                <a:latin typeface="Comic Sans MS"/>
              </a:rPr>
              <a:t>Tossicità muc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domenicogenovesi</cp:lastModifiedBy>
  <dcterms:modified xsi:type="dcterms:W3CDTF">2010-11-26T17:07:50Z</dcterms:modified>
  <cp:revision>3</cp:revision>
  <dc:subject/>
  <dc:title>Incidenza e fattori associati con l’insorgenza di grave tossicità acuta e tardiva dopo radio-chemioterapia per tumore della testa-collo localmente avanzato: analisi della casistica di 168 pazienti trattati presso la U.O. di Radioterapia dell’Ospedale San Donato di Arezzo</dc:title>
</cp:coreProperties>
</file>