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oogle.it/imgres?imgurl=http://www.cineclandestino.it/public/image/2009/2009/11/In%2520sala/Un%2520alibi%2520perfetto/Un-alibi-perfetto-testo.jpg&amp;imgrefurl=http://www.cineclandestino.it/articolo.asp%3Fsez%3D1%26art%3D4516&amp;usg=__Ed0F8k5b2WDzrLEnf9dX57G_pkU=&amp;h=784&amp;w=1024&amp;sz=66&amp;hl=it&amp;start=3&amp;zoom=1&amp;tbnid=RVFNHsw-p59i7M:&amp;tbnh=115&amp;tbnw=150&amp;prev=/images%3Fq%3Daccompagnare%2Bper%2Bmano%26um%3D1%26hl%3Dit%26sa%3DG%26tbs%3Disch:1&amp;um=1&amp;itbs=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98320" y="190440"/>
            <a:ext cx="7645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rcRect l="74712" t="0" r="0" b="4121"/>
          <a:stretch/>
        </p:blipFill>
        <p:spPr>
          <a:xfrm>
            <a:off x="0" y="896760"/>
            <a:ext cx="3319560" cy="57279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rcRect l="0" t="0" r="49416" b="4118"/>
          <a:stretch/>
        </p:blipFill>
        <p:spPr>
          <a:xfrm>
            <a:off x="3454560" y="622440"/>
            <a:ext cx="5689440" cy="6019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6613560"/>
            <a:ext cx="16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a Rosa Bosc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69840"/>
          <a:ext cx="13003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9840"/>
                    <a:ext cx="1300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8775720" y="64911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803680" y="0"/>
            <a:ext cx="63403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261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648640" y="62118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1800" y="2400480"/>
            <a:ext cx="703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720" y="1714680"/>
            <a:ext cx="81025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Contesto: presa in carico del paziente oncologico in radioterapia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(all’interno del percorso di c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Attività/funzioni dell’inferm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organizza il dossier clinico del paz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raccoglie i dati sulla cartella infermieri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ntrolla e integra le inform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nsegna di opuscoli informativi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pianifica l’assiste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………………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instaura una relazione d’aiuto personaliz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720" y="863640"/>
            <a:ext cx="79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) L’accoglienza del paziente in radiotera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032280" y="0"/>
            <a:ext cx="61117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273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31640" y="45720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’infermiere instaura una relazione d’aiuto personalizzat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03320" y="2857680"/>
            <a:ext cx="341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346040"/>
            <a:ext cx="4280040" cy="4675680"/>
          </a:xfrm>
          <a:prstGeom prst="rect">
            <a:avLst/>
          </a:prstGeom>
          <a:solidFill>
            <a:srgbClr val="fdf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e dette, documen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agrafica del paz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sami esegui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apie esegu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puntamenti da prend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sami da 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apie da 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3080" y="981000"/>
            <a:ext cx="4930920" cy="5833440"/>
          </a:xfrm>
          <a:prstGeom prst="rect">
            <a:avLst/>
          </a:prstGeom>
          <a:solidFill>
            <a:srgbClr val="c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se non dette, non documen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municazione diagnosi (si-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nsapevolezza della malatt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spet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upporto della famig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a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ecedenti esperienz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96360" y="6211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906640" y="0"/>
            <a:ext cx="623736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285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586720" y="621180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9800" y="952560"/>
            <a:ext cx="831852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Ecco quindi che instaurare una relazione d’aiuto personalizzata   signif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ulare la comunicazione sui tempi del paz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coltare il paziente nelle parole, nelle pause, negli umori, negli atteggi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ercare le informazioni “senza forz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re le informazioni in modo comprensibile   e “accettabile emotivamente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730600" y="0"/>
            <a:ext cx="641340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295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83760" y="6211800"/>
            <a:ext cx="6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3080" y="1231920"/>
            <a:ext cx="83181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cco quindi che instaurare una relazione d’aiuto personalizzata  richie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mpa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tt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man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gni volta, per ogni paziente, sempre di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560" y="0"/>
            <a:ext cx="609444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305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08960" y="6211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187280"/>
            <a:ext cx="831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cco quindi che instaurare una relazione d’aiuto personalizzata  significa camminare su un terreno mobile, da percorrere sempre con grande prudenza ed attenzio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7120" y="3265560"/>
            <a:ext cx="786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cco che per ridurre la complessità, l’incertezza, le difficoltà, c’è bisogno di condividere le competenze, le regole professionali, gli approfondimenti e le intuizioni, ... gli strumenti di lavoro che devono rilevare anche le percezioni, le cose dette e non dette all’u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021120" y="0"/>
            <a:ext cx="612288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316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6760" y="6211800"/>
            <a:ext cx="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6560" y="1536840"/>
            <a:ext cx="77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amo ad analizzare due momenti fondamentali del percorso di cura ed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0560" y="341640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 L’accoglienza del paziente in rad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08280" y="4290840"/>
            <a:ext cx="46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La relazione tra i serv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846520" y="0"/>
            <a:ext cx="629748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328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558280" y="62118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22400" y="735120"/>
            <a:ext cx="46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) La relazione tra i serv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880" y="1305000"/>
            <a:ext cx="8272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nda: quanto tempo consumiamo per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notare le visite, gli esami ai nostri pazie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lazionarci con i servizi diagnostici per avere i referti nei tempi celeri necessari alle terapie, alle diagno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lazionarci con i reparti, ambulatori da cui proviene il paziente per capire, approfondire ciò che è stato fat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33640" y="0"/>
            <a:ext cx="621036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339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485200" y="621180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6160" y="73512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) La relazione tra i servizi, in sinte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040" y="1770120"/>
            <a:ext cx="8272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nto tempo consumiamo per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ccompagnare il paziente nel suo percorso clinico e tentare di ridurre le sue difficoltà?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6640" y="3859200"/>
            <a:ext cx="8113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nti ostacoli incontriamo 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i rapporti con i colleghi, con i servizi, nel tentare di coordinare il percorso organizzativo del paz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95160" y="2081160"/>
            <a:ext cx="7807320" cy="363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igliorare il coordinamento tra i servizi che partecipano al  Percorso clinico e assistenziale del paziente onc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 partic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igliorare la comunicazione tra i servizi che in questo percorso dovrebbero collaborare per accompagnare il paz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351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499600" y="621180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28800" y="1378080"/>
            <a:ext cx="709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08400" y="15526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’è bisogno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2989440" y="0"/>
            <a:ext cx="61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43080" y="1041480"/>
            <a:ext cx="2898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... quanta fatica 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00680" y="3583080"/>
            <a:ext cx="2243160" cy="2890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179880" y="0"/>
            <a:ext cx="59641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365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8513640" y="622476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17440"/>
            <a:ext cx="27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e f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0600" y="1263600"/>
            <a:ext cx="32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rsa a staff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338720"/>
            <a:ext cx="713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’Infermiere case manager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e segue ed accompagna il paziente nel percorso ospedaliero e lo “consegna” all’infermiere case manager d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12760" y="1784520"/>
            <a:ext cx="4676760" cy="204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484520" y="725400"/>
            <a:ext cx="465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ove il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stimone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è il percorso del paziente, le sue attese, le sue competen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 affrontare 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89000"/>
            <a:ext cx="882360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48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93840" y="2495520"/>
            <a:ext cx="8445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.... vorrà essere soprattutto un momento di confronto e di crescita culturale con una particolare attenzione rivolta non solo ai percorsi diagnostico-terapeutici, ma anche alla gestione del dolore, alla palliazione e alle terapie di supporto, perché il nostro comune obiettivo resta </a:t>
            </a: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il miglioramento della qualità di vita dei nostri pazienti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 .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97160" y="1650960"/>
            <a:ext cx="71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Obiettivo del Congresso A.I.I.R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75720" y="62247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377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46"/>
          <p:cNvSpPr/>
          <p:nvPr/>
        </p:nvSpPr>
        <p:spPr>
          <a:xfrm>
            <a:off x="3467160" y="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5120" y="6229440"/>
            <a:ext cx="7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8880" y="1406520"/>
            <a:ext cx="70675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tri modelli organizzati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part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ensità di 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tazione infermieristica programmata in area oncolo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386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46"/>
          <p:cNvSpPr/>
          <p:nvPr/>
        </p:nvSpPr>
        <p:spPr>
          <a:xfrm>
            <a:off x="3467160" y="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85120" y="6229440"/>
            <a:ext cx="7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811080"/>
            <a:ext cx="76186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 so se esiste il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DELLO ideal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 certo il percor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ve essere condiviso, nella documentazione, nei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ve prevedere incontri formalizzati tra i servizi per monitorare i percorsi e migliorar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ve far sentire gli infermieri (e tutti i professionisti) parte dello stesso gruppo di lavoro anche se dedicati a servizi e reparti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395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8340840" y="6141960"/>
            <a:ext cx="8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3840" y="841320"/>
            <a:ext cx="83278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Dobbiamo essere un gruppo solidale, multi - professionale, integrato, multidisciplin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accompagnare il paziente in questo percor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in questo viaggio fatto di malattia, speranza, delusione, incertezz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piccole gioie e grandi pa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di lunghe attese 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3424320" y="0"/>
            <a:ext cx="57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404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499600" y="620064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3560" y="1679400"/>
            <a:ext cx="77360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c3300"/>
                </a:solidFill>
                <a:latin typeface="Arial"/>
              </a:rPr>
              <a:t>Il vero viaggio di scop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c3300"/>
                </a:solidFill>
                <a:latin typeface="Arial"/>
              </a:rPr>
              <a:t>non consiste nel cercare nuove ter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c3300"/>
                </a:solidFill>
                <a:latin typeface="Arial"/>
              </a:rPr>
              <a:t>ma nell’avere nuovi occhi.</a:t>
            </a: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Arial"/>
              </a:rPr>
              <a:t>Marcel Pro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32640" y="5297400"/>
            <a:ext cx="3411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Ringrazio per l’att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Maria Rosa Bos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6"/>
          <p:cNvSpPr/>
          <p:nvPr/>
        </p:nvSpPr>
        <p:spPr>
          <a:xfrm>
            <a:off x="3409920" y="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57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2">
            <a:hlinkClick r:id="rId1" action="ppaction://hlinksldjump"/>
          </p:cNvPr>
          <p:cNvSpPr/>
          <p:nvPr/>
        </p:nvSpPr>
        <p:spPr>
          <a:xfrm>
            <a:off x="3251160" y="676440"/>
            <a:ext cx="3138480" cy="4633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sa in carico dell’utente nel repa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3341520" y="1476360"/>
            <a:ext cx="2945160" cy="95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276720" y="3543480"/>
            <a:ext cx="2984400" cy="572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erapie e Interventi assistenzia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Mediche – Chirurgiche - Radioterapi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ltre Terapie /assist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524720" y="2390760"/>
            <a:ext cx="1316160" cy="72072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parazione ed assistenza all'esec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419640" y="4452840"/>
            <a:ext cx="2739960" cy="1251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tazione trat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4032360" y="5861160"/>
            <a:ext cx="2506680" cy="261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missione ordin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2"/>
          <p:cNvCxnSpPr>
            <a:stCxn id="61" idx="2"/>
            <a:endCxn id="62" idx="0"/>
          </p:cNvCxnSpPr>
          <p:nvPr/>
        </p:nvCxnSpPr>
        <p:spPr>
          <a:xfrm flipH="1">
            <a:off x="4814280" y="1139400"/>
            <a:ext cx="68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4"/>
          <p:cNvCxnSpPr>
            <a:stCxn id="62" idx="2"/>
            <a:endCxn id="69" idx="0"/>
          </p:cNvCxnSpPr>
          <p:nvPr/>
        </p:nvCxnSpPr>
        <p:spPr>
          <a:xfrm flipH="1">
            <a:off x="4808160" y="2431800"/>
            <a:ext cx="720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15"/>
          <p:cNvCxnSpPr>
            <a:stCxn id="65" idx="1"/>
            <a:endCxn id="71" idx="3"/>
          </p:cNvCxnSpPr>
          <p:nvPr/>
        </p:nvCxnSpPr>
        <p:spPr>
          <a:xfrm rot="10800000">
            <a:off x="2842560" y="4982400"/>
            <a:ext cx="577080" cy="96120"/>
          </a:xfrm>
          <a:prstGeom prst="bentConnector3">
            <a:avLst>
              <a:gd name="adj1" fmla="val 501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AutoShape 24"/>
          <p:cNvSpPr/>
          <p:nvPr/>
        </p:nvSpPr>
        <p:spPr>
          <a:xfrm>
            <a:off x="6840360" y="5892840"/>
            <a:ext cx="1943280" cy="533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i e terap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-dimis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9"/>
          <p:cNvSpPr/>
          <p:nvPr/>
        </p:nvSpPr>
        <p:spPr>
          <a:xfrm>
            <a:off x="3316320" y="2746440"/>
            <a:ext cx="2984400" cy="5810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rtame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umentali - Consulen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0"/>
          <p:cNvSpPr/>
          <p:nvPr/>
        </p:nvSpPr>
        <p:spPr>
          <a:xfrm>
            <a:off x="746280" y="1182600"/>
            <a:ext cx="1304640" cy="31752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nto Socco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1"/>
          <p:cNvSpPr/>
          <p:nvPr/>
        </p:nvSpPr>
        <p:spPr>
          <a:xfrm>
            <a:off x="746280" y="492120"/>
            <a:ext cx="1279440" cy="28728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2"/>
          <p:cNvCxnSpPr>
            <a:stCxn id="76" idx="3"/>
            <a:endCxn id="61" idx="1"/>
          </p:cNvCxnSpPr>
          <p:nvPr/>
        </p:nvCxnSpPr>
        <p:spPr>
          <a:xfrm flipV="1">
            <a:off x="2037960" y="907200"/>
            <a:ext cx="1213560" cy="90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AutoShape 34"/>
          <p:cNvSpPr/>
          <p:nvPr/>
        </p:nvSpPr>
        <p:spPr>
          <a:xfrm>
            <a:off x="746280" y="1574640"/>
            <a:ext cx="1292040" cy="46692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mbulatorio divis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744480" y="2516040"/>
            <a:ext cx="1319400" cy="94464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ulenze,  trasferimenti da altre strut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36"/>
          <p:cNvCxnSpPr>
            <a:stCxn id="73" idx="3"/>
            <a:endCxn id="61" idx="1"/>
          </p:cNvCxnSpPr>
          <p:nvPr/>
        </p:nvCxnSpPr>
        <p:spPr>
          <a:xfrm flipV="1">
            <a:off x="2050920" y="907560"/>
            <a:ext cx="1200960" cy="434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37"/>
          <p:cNvCxnSpPr>
            <a:stCxn id="77" idx="3"/>
            <a:endCxn id="61" idx="1"/>
          </p:cNvCxnSpPr>
          <p:nvPr/>
        </p:nvCxnSpPr>
        <p:spPr>
          <a:xfrm flipV="1">
            <a:off x="2063880" y="907920"/>
            <a:ext cx="1187640" cy="208188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38"/>
          <p:cNvSpPr/>
          <p:nvPr/>
        </p:nvSpPr>
        <p:spPr>
          <a:xfrm rot="16200000">
            <a:off x="-835200" y="123732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sso dell’utente dall’es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43"/>
          <p:cNvCxnSpPr>
            <a:stCxn id="63" idx="2"/>
            <a:endCxn id="65" idx="0"/>
          </p:cNvCxnSpPr>
          <p:nvPr/>
        </p:nvCxnSpPr>
        <p:spPr>
          <a:xfrm flipH="1" rot="16200000">
            <a:off x="4609440" y="4273920"/>
            <a:ext cx="337320" cy="20880"/>
          </a:xfrm>
          <a:prstGeom prst="bentConnector3">
            <a:avLst>
              <a:gd name="adj1" fmla="val 494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44"/>
          <p:cNvCxnSpPr>
            <a:stCxn id="74" idx="1"/>
            <a:endCxn id="73" idx="1"/>
          </p:cNvCxnSpPr>
          <p:nvPr/>
        </p:nvCxnSpPr>
        <p:spPr>
          <a:xfrm flipH="1" flipV="1" rot="10800000">
            <a:off x="745920" y="636480"/>
            <a:ext cx="2160" cy="705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45"/>
          <p:cNvCxnSpPr>
            <a:stCxn id="74" idx="1"/>
            <a:endCxn id="76" idx="1"/>
          </p:cNvCxnSpPr>
          <p:nvPr/>
        </p:nvCxnSpPr>
        <p:spPr>
          <a:xfrm flipH="1" flipV="1" rot="10800000">
            <a:off x="745920" y="635400"/>
            <a:ext cx="2160" cy="117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46"/>
          <p:cNvSpPr/>
          <p:nvPr/>
        </p:nvSpPr>
        <p:spPr>
          <a:xfrm>
            <a:off x="1960560" y="189000"/>
            <a:ext cx="71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SEMPIO di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>
            <a:hlinkClick r:id="rId2" action="ppaction://hlinksldjump"/>
          </p:cNvPr>
          <p:cNvSpPr/>
          <p:nvPr/>
        </p:nvSpPr>
        <p:spPr>
          <a:xfrm>
            <a:off x="6067440" y="669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>
            <a:hlinkClick r:id="rId3" action="ppaction://hlinksldjump"/>
          </p:cNvPr>
          <p:cNvSpPr/>
          <p:nvPr/>
        </p:nvSpPr>
        <p:spPr>
          <a:xfrm>
            <a:off x="1544400" y="1171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0">
            <a:hlinkClick r:id="rId4" action="ppaction://hlinksldjump"/>
          </p:cNvPr>
          <p:cNvSpPr/>
          <p:nvPr/>
        </p:nvSpPr>
        <p:spPr>
          <a:xfrm>
            <a:off x="6065640" y="2759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>
            <a:hlinkClick r:id="rId5" action="ppaction://hlinksldjump"/>
          </p:cNvPr>
          <p:cNvSpPr/>
          <p:nvPr/>
        </p:nvSpPr>
        <p:spPr>
          <a:xfrm>
            <a:off x="6075360" y="3706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5">
            <a:hlinkClick r:id="rId6" action="ppaction://hlinksldjump"/>
          </p:cNvPr>
          <p:cNvSpPr/>
          <p:nvPr/>
        </p:nvSpPr>
        <p:spPr>
          <a:xfrm>
            <a:off x="5346720" y="4753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6"/>
          <p:cNvSpPr/>
          <p:nvPr/>
        </p:nvSpPr>
        <p:spPr>
          <a:xfrm>
            <a:off x="611280" y="3921120"/>
            <a:ext cx="990360" cy="28728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57"/>
          <p:cNvCxnSpPr>
            <a:endCxn id="90" idx="3"/>
          </p:cNvCxnSpPr>
          <p:nvPr/>
        </p:nvCxnSpPr>
        <p:spPr>
          <a:xfrm rot="10800000">
            <a:off x="1600920" y="4065480"/>
            <a:ext cx="2610720" cy="6433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59"/>
          <p:cNvSpPr/>
          <p:nvPr/>
        </p:nvSpPr>
        <p:spPr>
          <a:xfrm>
            <a:off x="1258920" y="5581800"/>
            <a:ext cx="1873080" cy="647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ente autosuffi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0"/>
          <p:cNvCxnSpPr>
            <a:stCxn id="94" idx="2"/>
            <a:endCxn id="66" idx="1"/>
          </p:cNvCxnSpPr>
          <p:nvPr/>
        </p:nvCxnSpPr>
        <p:spPr>
          <a:xfrm flipH="1" rot="16200000">
            <a:off x="3595680" y="5556960"/>
            <a:ext cx="1656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AutoShape 61"/>
          <p:cNvSpPr/>
          <p:nvPr/>
        </p:nvSpPr>
        <p:spPr>
          <a:xfrm>
            <a:off x="4032360" y="6278400"/>
            <a:ext cx="2506680" cy="262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missione prote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62"/>
          <p:cNvCxnSpPr>
            <a:stCxn id="92" idx="2"/>
            <a:endCxn id="95" idx="1"/>
          </p:cNvCxnSpPr>
          <p:nvPr/>
        </p:nvCxnSpPr>
        <p:spPr>
          <a:xfrm flipH="1" rot="16200000">
            <a:off x="3023640" y="5401080"/>
            <a:ext cx="181440" cy="183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63"/>
          <p:cNvSpPr/>
          <p:nvPr/>
        </p:nvSpPr>
        <p:spPr>
          <a:xfrm>
            <a:off x="3013920" y="570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1859040" y="6199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65"/>
          <p:cNvCxnSpPr>
            <a:stCxn id="66" idx="3"/>
            <a:endCxn id="72" idx="1"/>
          </p:cNvCxnSpPr>
          <p:nvPr/>
        </p:nvCxnSpPr>
        <p:spPr>
          <a:xfrm>
            <a:off x="6538680" y="5992560"/>
            <a:ext cx="302040" cy="167040"/>
          </a:xfrm>
          <a:prstGeom prst="bentConnector3">
            <a:avLst>
              <a:gd name="adj1" fmla="val 494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66"/>
          <p:cNvCxnSpPr>
            <a:stCxn id="95" idx="3"/>
            <a:endCxn id="72" idx="1"/>
          </p:cNvCxnSpPr>
          <p:nvPr/>
        </p:nvCxnSpPr>
        <p:spPr>
          <a:xfrm flipV="1">
            <a:off x="6538680" y="6159600"/>
            <a:ext cx="302040" cy="250920"/>
          </a:xfrm>
          <a:prstGeom prst="bentConnector3">
            <a:avLst>
              <a:gd name="adj1" fmla="val 494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Text Box 67">
            <a:hlinkClick r:id="rId7" action="ppaction://hlinksldjump"/>
          </p:cNvPr>
          <p:cNvSpPr/>
          <p:nvPr/>
        </p:nvSpPr>
        <p:spPr>
          <a:xfrm>
            <a:off x="6189840" y="580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8">
            <a:hlinkClick r:id="rId8" action="ppaction://hlinksldjump"/>
          </p:cNvPr>
          <p:cNvSpPr/>
          <p:nvPr/>
        </p:nvSpPr>
        <p:spPr>
          <a:xfrm>
            <a:off x="6202440" y="627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0"/>
          <p:cNvSpPr/>
          <p:nvPr/>
        </p:nvSpPr>
        <p:spPr>
          <a:xfrm>
            <a:off x="746280" y="852480"/>
            <a:ext cx="1292040" cy="28728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5"/>
          <p:cNvSpPr/>
          <p:nvPr/>
        </p:nvSpPr>
        <p:spPr>
          <a:xfrm>
            <a:off x="3852720" y="1685880"/>
            <a:ext cx="8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gnosi me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4711680" y="1662120"/>
            <a:ext cx="126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sistenziali infermieris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7">
            <a:hlinkClick r:id="rId9" action="ppaction://hlinksldjump"/>
          </p:cNvPr>
          <p:cNvSpPr/>
          <p:nvPr/>
        </p:nvSpPr>
        <p:spPr>
          <a:xfrm>
            <a:off x="1549440" y="492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8">
            <a:hlinkClick r:id="rId10" action="ppaction://hlinksldjump"/>
          </p:cNvPr>
          <p:cNvSpPr/>
          <p:nvPr/>
        </p:nvSpPr>
        <p:spPr>
          <a:xfrm>
            <a:off x="1542960" y="846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9">
            <a:hlinkClick r:id="rId11" action="ppaction://hlinksldjump"/>
          </p:cNvPr>
          <p:cNvSpPr/>
          <p:nvPr/>
        </p:nvSpPr>
        <p:spPr>
          <a:xfrm>
            <a:off x="1525680" y="2395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0">
            <a:hlinkClick r:id="rId12" action="ppaction://hlinksldjump"/>
          </p:cNvPr>
          <p:cNvSpPr/>
          <p:nvPr/>
        </p:nvSpPr>
        <p:spPr>
          <a:xfrm>
            <a:off x="1525680" y="1571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1">
            <a:hlinkClick r:id="rId13" action="ppaction://hlinksldjump"/>
          </p:cNvPr>
          <p:cNvSpPr/>
          <p:nvPr/>
        </p:nvSpPr>
        <p:spPr>
          <a:xfrm>
            <a:off x="4654440" y="1508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3"/>
          <p:cNvSpPr/>
          <p:nvPr/>
        </p:nvSpPr>
        <p:spPr>
          <a:xfrm>
            <a:off x="1476360" y="4767120"/>
            <a:ext cx="1366920" cy="432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anificazione della dimis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84"/>
          <p:cNvCxnSpPr>
            <a:stCxn id="71" idx="2"/>
            <a:endCxn id="92" idx="0"/>
          </p:cNvCxnSpPr>
          <p:nvPr/>
        </p:nvCxnSpPr>
        <p:spPr>
          <a:xfrm flipH="1" rot="16200000">
            <a:off x="1985760" y="5372640"/>
            <a:ext cx="383400" cy="3564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 Box 85">
            <a:hlinkClick r:id="rId14" action="ppaction://hlinksldjump"/>
          </p:cNvPr>
          <p:cNvSpPr/>
          <p:nvPr/>
        </p:nvSpPr>
        <p:spPr>
          <a:xfrm>
            <a:off x="2629080" y="4767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6">
            <a:hlinkClick r:id="rId15" action="ppaction://hlinksldjump"/>
          </p:cNvPr>
          <p:cNvSpPr/>
          <p:nvPr/>
        </p:nvSpPr>
        <p:spPr>
          <a:xfrm>
            <a:off x="2368800" y="5668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>
            <a:hlinkClick r:id="rId16" action="ppaction://hlinksldjump"/>
          </p:cNvPr>
          <p:cNvSpPr/>
          <p:nvPr/>
        </p:nvSpPr>
        <p:spPr>
          <a:xfrm>
            <a:off x="8536320" y="59961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88"/>
          <p:cNvCxnSpPr/>
          <p:nvPr/>
        </p:nvCxnSpPr>
        <p:spPr>
          <a:xfrm flipV="1">
            <a:off x="6300720" y="2822040"/>
            <a:ext cx="1224720" cy="286560"/>
          </a:xfrm>
          <a:prstGeom prst="curvedConnector5">
            <a:avLst>
              <a:gd name="adj1" fmla="val 49926"/>
              <a:gd name="adj2" fmla="val 49937"/>
              <a:gd name="adj3" fmla="val 49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Line 89"/>
          <p:cNvSpPr/>
          <p:nvPr/>
        </p:nvSpPr>
        <p:spPr>
          <a:xfrm>
            <a:off x="4788000" y="1643040"/>
            <a:ext cx="0" cy="649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0"/>
          <p:cNvCxnSpPr>
            <a:stCxn id="102" idx="1"/>
            <a:endCxn id="73" idx="1"/>
          </p:cNvCxnSpPr>
          <p:nvPr/>
        </p:nvCxnSpPr>
        <p:spPr>
          <a:xfrm flipH="1" flipV="1" rot="10800000">
            <a:off x="745920" y="995760"/>
            <a:ext cx="2160" cy="345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AutoShape 92"/>
          <p:cNvSpPr/>
          <p:nvPr/>
        </p:nvSpPr>
        <p:spPr>
          <a:xfrm>
            <a:off x="860400" y="2143080"/>
            <a:ext cx="1190520" cy="31752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93"/>
          <p:cNvCxnSpPr>
            <a:stCxn id="74" idx="0"/>
            <a:endCxn id="117" idx="1"/>
          </p:cNvCxnSpPr>
          <p:nvPr/>
        </p:nvCxnSpPr>
        <p:spPr>
          <a:xfrm rot="5400000">
            <a:off x="231840" y="1148400"/>
            <a:ext cx="1782000" cy="526320"/>
          </a:xfrm>
          <a:prstGeom prst="bentConnector4">
            <a:avLst>
              <a:gd name="adj1" fmla="val -14427"/>
              <a:gd name="adj2" fmla="val 1652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95"/>
          <p:cNvCxnSpPr>
            <a:stCxn id="117" idx="0"/>
            <a:endCxn id="76" idx="2"/>
          </p:cNvCxnSpPr>
          <p:nvPr/>
        </p:nvCxnSpPr>
        <p:spPr>
          <a:xfrm flipH="1" flipV="1">
            <a:off x="1391400" y="1995120"/>
            <a:ext cx="64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4"/>
          <p:cNvCxnSpPr/>
          <p:nvPr/>
        </p:nvCxnSpPr>
        <p:spPr>
          <a:xfrm>
            <a:off x="4787640" y="3255480"/>
            <a:ext cx="2088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AutoShape 24"/>
          <p:cNvSpPr/>
          <p:nvPr/>
        </p:nvSpPr>
        <p:spPr>
          <a:xfrm>
            <a:off x="6878520" y="4762440"/>
            <a:ext cx="1943280" cy="533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83480" y="5334120"/>
            <a:ext cx="482760" cy="546120"/>
          </a:xfrm>
          <a:custGeom>
            <a:avLst/>
            <a:gdLst>
              <a:gd name="textAreaLeft" fmla="*/ 0 w 482760"/>
              <a:gd name="textAreaRight" fmla="*/ 483120 w 48276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bdf5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1034000">
            <a:off x="7327440" y="5320800"/>
            <a:ext cx="482760" cy="546120"/>
          </a:xfrm>
          <a:custGeom>
            <a:avLst/>
            <a:gdLst>
              <a:gd name="textAreaLeft" fmla="*/ 0 w 482760"/>
              <a:gd name="textAreaRight" fmla="*/ 483120 w 48276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bdf5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75720" y="64911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348120" y="6329520"/>
            <a:ext cx="1663200" cy="563400"/>
            <a:chOff x="-348120" y="6329520"/>
            <a:chExt cx="1663200" cy="563400"/>
          </a:xfrm>
        </p:grpSpPr>
        <p:sp>
          <p:nvSpPr>
            <p:cNvPr id="127" name=""/>
            <p:cNvSpPr/>
            <p:nvPr/>
          </p:nvSpPr>
          <p:spPr>
            <a:xfrm>
              <a:off x="-341280" y="632952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00" y="648648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346320" y="657216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348120" y="645624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0"/>
            <a:ext cx="914400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2560" indent="-682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Mappe dei processi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a gestione del paziente onc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ese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680" y="961920"/>
            <a:ext cx="2747880" cy="74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7280" y="3144960"/>
            <a:ext cx="2622600" cy="74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PEDAL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2760" y="5519880"/>
            <a:ext cx="3689280" cy="74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-OSPEDAL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9200" y="754200"/>
            <a:ext cx="3612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zione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bilizzazione della comu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26760" y="2087640"/>
            <a:ext cx="2403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T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ABILI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2200" y="1751040"/>
            <a:ext cx="1643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nto socc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05080" y="2197080"/>
            <a:ext cx="1312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tera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abora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5080" y="2995560"/>
            <a:ext cx="1312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nc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hiru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top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otera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720" y="3938760"/>
            <a:ext cx="1491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lungode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riabili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5800" y="4513320"/>
            <a:ext cx="11649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fisia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logop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psic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18400" y="5272200"/>
            <a:ext cx="2325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5760" indent="-1857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DH/ambul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ungodeg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strutture prot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ad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18240" y="3292560"/>
            <a:ext cx="1052280" cy="11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91000" y="2496960"/>
            <a:ext cx="138132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23040" y="1927080"/>
            <a:ext cx="1382400" cy="27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9560" y="3870360"/>
            <a:ext cx="111276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76760" y="4451400"/>
            <a:ext cx="1195560" cy="3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77960" y="5516640"/>
            <a:ext cx="2355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ABILI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4160" y="4451400"/>
            <a:ext cx="1195560" cy="3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64160" y="4451400"/>
            <a:ext cx="1195560" cy="3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76840" y="5676840"/>
            <a:ext cx="876240" cy="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29480" y="5956200"/>
            <a:ext cx="672840" cy="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6261120"/>
            <a:ext cx="876240" cy="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94640" y="541008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75720" y="62247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440" y="1219320"/>
            <a:ext cx="457200" cy="5079960"/>
          </a:xfrm>
          <a:custGeom>
            <a:avLst/>
            <a:gdLst>
              <a:gd name="textAreaLeft" fmla="*/ 61200 w 457200"/>
              <a:gd name="textAreaRight" fmla="*/ 396000 w 457200"/>
              <a:gd name="textAreaTop" fmla="*/ 888840 h 5079960"/>
              <a:gd name="textAreaBottom" fmla="*/ 3683160 h 507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df5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580400">
            <a:off x="8521200" y="1028160"/>
            <a:ext cx="457200" cy="5079960"/>
          </a:xfrm>
          <a:custGeom>
            <a:avLst/>
            <a:gdLst>
              <a:gd name="textAreaLeft" fmla="*/ 61200 w 457200"/>
              <a:gd name="textAreaRight" fmla="*/ 396000 w 457200"/>
              <a:gd name="textAreaTop" fmla="*/ 888840 h 5079960"/>
              <a:gd name="textAreaBottom" fmla="*/ 3683160 h 507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df5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31120" y="468360"/>
            <a:ext cx="2612880" cy="393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3743280"/>
            <a:ext cx="4137120" cy="3114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26640" y="659880"/>
            <a:ext cx="54104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 malattia oncologica costringe il paziente a rivedere  l’immagine di sé, il proprio ruolo sociale nella famiglia, negli affetti, con gli amici, nel lavo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788320" y="655308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0680" y="4203720"/>
            <a:ext cx="382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.. lo costringe a convivere con una malattia che si evolverà in tempi e modi ... non sempre pre-defi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56160" y="2922480"/>
            <a:ext cx="1755720" cy="1346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6"/>
          <p:cNvSpPr/>
          <p:nvPr/>
        </p:nvSpPr>
        <p:spPr>
          <a:xfrm>
            <a:off x="2989440" y="0"/>
            <a:ext cx="61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corso clinico e assistenzial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92400" y="0"/>
            <a:ext cx="605160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168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775720" y="62247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49160"/>
            <a:ext cx="689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paziente oncologico chie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 Competenza profess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 Competenza rela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1360" y="3386160"/>
            <a:ext cx="663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hi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i essere accompagnato nei percorsi di cur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nelle emozion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nelle attese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964200" y="890640"/>
            <a:ext cx="2179800" cy="1635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Mostra immagine a dimensione intera"/>
          <p:cNvPicPr/>
          <p:nvPr/>
        </p:nvPicPr>
        <p:blipFill>
          <a:blip r:embed="rId2"/>
          <a:stretch/>
        </p:blipFill>
        <p:spPr>
          <a:xfrm>
            <a:off x="154080" y="3429000"/>
            <a:ext cx="2455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78000" y="0"/>
            <a:ext cx="606600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181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75720" y="62118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1640" y="1104840"/>
            <a:ext cx="6829560" cy="311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etenze professionali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tivazione al lavoro        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etenze relazionali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compagnamento     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ssere Infermiere in ambito onc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2233800">
            <a:off x="5330520" y="2003040"/>
            <a:ext cx="351792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to-selezion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93720" y="4486320"/>
            <a:ext cx="831960" cy="125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09720" y="4702320"/>
            <a:ext cx="831600" cy="1250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125360" y="4917960"/>
            <a:ext cx="831960" cy="1251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341360" y="5133960"/>
            <a:ext cx="831960" cy="1251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557360" y="5349960"/>
            <a:ext cx="831960" cy="1251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6120" y="360684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3840" y="635040"/>
            <a:ext cx="53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rmettetemi una piccola semplif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16320" y="5657760"/>
            <a:ext cx="2685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 grande fuga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5326200" y="5718240"/>
            <a:ext cx="32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0a3"/>
                </a:solidFill>
                <a:latin typeface="Arial"/>
              </a:rPr>
              <a:t>Esiste il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41480" y="0"/>
            <a:ext cx="630252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201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75720" y="62118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607120" y="663480"/>
            <a:ext cx="6067440" cy="5585040"/>
            <a:chOff x="2607120" y="663480"/>
            <a:chExt cx="6067440" cy="5585040"/>
          </a:xfrm>
        </p:grpSpPr>
        <p:sp>
          <p:nvSpPr>
            <p:cNvPr id="208" name="_s119864"/>
            <p:cNvSpPr/>
            <p:nvPr/>
          </p:nvSpPr>
          <p:spPr>
            <a:xfrm flipH="1" flipV="1">
              <a:off x="4791240" y="1344240"/>
              <a:ext cx="745560" cy="18604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19863"/>
            <p:cNvSpPr/>
            <p:nvPr/>
          </p:nvSpPr>
          <p:spPr>
            <a:xfrm>
              <a:off x="4390560" y="814680"/>
              <a:ext cx="603720" cy="547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formatizzazi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19860"/>
            <p:cNvSpPr/>
            <p:nvPr/>
          </p:nvSpPr>
          <p:spPr>
            <a:xfrm flipH="1" flipV="1">
              <a:off x="4045680" y="1734480"/>
              <a:ext cx="1400760" cy="15166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9859"/>
            <p:cNvSpPr/>
            <p:nvPr/>
          </p:nvSpPr>
          <p:spPr>
            <a:xfrm>
              <a:off x="3555000" y="1252440"/>
              <a:ext cx="603720" cy="547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rritor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19858"/>
            <p:cNvSpPr/>
            <p:nvPr/>
          </p:nvSpPr>
          <p:spPr>
            <a:xfrm flipH="1" flipV="1">
              <a:off x="3494160" y="2333520"/>
              <a:ext cx="1887120" cy="9910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19857"/>
            <p:cNvSpPr/>
            <p:nvPr/>
          </p:nvSpPr>
          <p:spPr>
            <a:xfrm>
              <a:off x="2935440" y="1922760"/>
              <a:ext cx="603720" cy="547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speda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19842"/>
            <p:cNvSpPr/>
            <p:nvPr/>
          </p:nvSpPr>
          <p:spPr>
            <a:xfrm flipH="1" flipV="1">
              <a:off x="3201480" y="3067560"/>
              <a:ext cx="2146320" cy="34524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19841"/>
            <p:cNvSpPr/>
            <p:nvPr/>
          </p:nvSpPr>
          <p:spPr>
            <a:xfrm>
              <a:off x="2607120" y="2744640"/>
              <a:ext cx="603000" cy="5479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ermie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19840"/>
            <p:cNvSpPr/>
            <p:nvPr/>
          </p:nvSpPr>
          <p:spPr>
            <a:xfrm flipH="1">
              <a:off x="3201120" y="3507480"/>
              <a:ext cx="2148840" cy="34092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19839"/>
            <p:cNvSpPr/>
            <p:nvPr/>
          </p:nvSpPr>
          <p:spPr>
            <a:xfrm>
              <a:off x="2607120" y="3619800"/>
              <a:ext cx="603000" cy="547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nic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19844"/>
            <p:cNvSpPr/>
            <p:nvPr/>
          </p:nvSpPr>
          <p:spPr>
            <a:xfrm flipH="1">
              <a:off x="3495960" y="3594960"/>
              <a:ext cx="1889640" cy="9874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19843"/>
            <p:cNvSpPr/>
            <p:nvPr/>
          </p:nvSpPr>
          <p:spPr>
            <a:xfrm>
              <a:off x="2935440" y="4441680"/>
              <a:ext cx="603720" cy="547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Arial"/>
                </a:rPr>
                <a:t>os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19838"/>
            <p:cNvSpPr/>
            <p:nvPr/>
          </p:nvSpPr>
          <p:spPr>
            <a:xfrm flipH="1">
              <a:off x="4050360" y="3666960"/>
              <a:ext cx="1402920" cy="151272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19837"/>
            <p:cNvSpPr/>
            <p:nvPr/>
          </p:nvSpPr>
          <p:spPr>
            <a:xfrm>
              <a:off x="3555000" y="5112720"/>
              <a:ext cx="603720" cy="547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dic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19836"/>
            <p:cNvSpPr/>
            <p:nvPr/>
          </p:nvSpPr>
          <p:spPr>
            <a:xfrm flipH="1">
              <a:off x="4795920" y="3711960"/>
              <a:ext cx="747720" cy="185796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19835"/>
            <p:cNvSpPr/>
            <p:nvPr/>
          </p:nvSpPr>
          <p:spPr>
            <a:xfrm>
              <a:off x="4390560" y="5549760"/>
              <a:ext cx="603720" cy="547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inee gui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19834"/>
            <p:cNvSpPr/>
            <p:nvPr/>
          </p:nvSpPr>
          <p:spPr>
            <a:xfrm>
              <a:off x="5643360" y="3726360"/>
              <a:ext cx="1800" cy="197856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19833"/>
            <p:cNvSpPr/>
            <p:nvPr/>
          </p:nvSpPr>
          <p:spPr>
            <a:xfrm>
              <a:off x="5339160" y="5701320"/>
              <a:ext cx="603000" cy="547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tocolli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19856"/>
            <p:cNvSpPr/>
            <p:nvPr/>
          </p:nvSpPr>
          <p:spPr>
            <a:xfrm>
              <a:off x="5747040" y="3707640"/>
              <a:ext cx="743040" cy="18604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19855"/>
            <p:cNvSpPr/>
            <p:nvPr/>
          </p:nvSpPr>
          <p:spPr>
            <a:xfrm>
              <a:off x="6287400" y="5549760"/>
              <a:ext cx="603720" cy="5479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ganismi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fessional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19854"/>
            <p:cNvSpPr/>
            <p:nvPr/>
          </p:nvSpPr>
          <p:spPr>
            <a:xfrm>
              <a:off x="5834880" y="3660840"/>
              <a:ext cx="1400400" cy="15166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19853"/>
            <p:cNvSpPr/>
            <p:nvPr/>
          </p:nvSpPr>
          <p:spPr>
            <a:xfrm>
              <a:off x="7122960" y="5112720"/>
              <a:ext cx="603720" cy="5472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ociazion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olontaria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19852"/>
            <p:cNvSpPr/>
            <p:nvPr/>
          </p:nvSpPr>
          <p:spPr>
            <a:xfrm>
              <a:off x="5900040" y="3589200"/>
              <a:ext cx="1887120" cy="98964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19851"/>
            <p:cNvSpPr/>
            <p:nvPr/>
          </p:nvSpPr>
          <p:spPr>
            <a:xfrm>
              <a:off x="7742520" y="4441680"/>
              <a:ext cx="603000" cy="54792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amigl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19850"/>
            <p:cNvSpPr/>
            <p:nvPr/>
          </p:nvSpPr>
          <p:spPr>
            <a:xfrm>
              <a:off x="5933880" y="3501360"/>
              <a:ext cx="2146320" cy="3430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19849"/>
            <p:cNvSpPr/>
            <p:nvPr/>
          </p:nvSpPr>
          <p:spPr>
            <a:xfrm>
              <a:off x="8071560" y="3619800"/>
              <a:ext cx="603000" cy="54792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isor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19848"/>
            <p:cNvSpPr/>
            <p:nvPr/>
          </p:nvSpPr>
          <p:spPr>
            <a:xfrm flipV="1">
              <a:off x="5933880" y="3063960"/>
              <a:ext cx="2144160" cy="34344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19847"/>
            <p:cNvSpPr/>
            <p:nvPr/>
          </p:nvSpPr>
          <p:spPr>
            <a:xfrm>
              <a:off x="8071560" y="2744640"/>
              <a:ext cx="603000" cy="5479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ble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19846"/>
            <p:cNvSpPr/>
            <p:nvPr/>
          </p:nvSpPr>
          <p:spPr>
            <a:xfrm flipV="1">
              <a:off x="5897520" y="2331360"/>
              <a:ext cx="1885320" cy="98748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19845"/>
            <p:cNvSpPr/>
            <p:nvPr/>
          </p:nvSpPr>
          <p:spPr>
            <a:xfrm>
              <a:off x="7742520" y="1922760"/>
              <a:ext cx="603000" cy="54792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hi fa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he co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19832"/>
            <p:cNvSpPr/>
            <p:nvPr/>
          </p:nvSpPr>
          <p:spPr>
            <a:xfrm flipV="1">
              <a:off x="5830200" y="1734840"/>
              <a:ext cx="1398240" cy="151272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19831"/>
            <p:cNvSpPr/>
            <p:nvPr/>
          </p:nvSpPr>
          <p:spPr>
            <a:xfrm>
              <a:off x="7122960" y="1252440"/>
              <a:ext cx="603720" cy="54792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fili di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uol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19830"/>
            <p:cNvSpPr/>
            <p:nvPr/>
          </p:nvSpPr>
          <p:spPr>
            <a:xfrm flipV="1">
              <a:off x="5739840" y="1346400"/>
              <a:ext cx="745560" cy="185616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19829"/>
            <p:cNvSpPr/>
            <p:nvPr/>
          </p:nvSpPr>
          <p:spPr>
            <a:xfrm>
              <a:off x="6287400" y="814680"/>
              <a:ext cx="603720" cy="5479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petenz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19828"/>
            <p:cNvSpPr/>
            <p:nvPr/>
          </p:nvSpPr>
          <p:spPr>
            <a:xfrm flipV="1">
              <a:off x="5638680" y="1211400"/>
              <a:ext cx="0" cy="1974960"/>
            </a:xfrm>
            <a:prstGeom prst="line">
              <a:avLst/>
            </a:prstGeom>
            <a:ln w="38160">
              <a:solidFill>
                <a:srgbClr val="fbdf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19827"/>
            <p:cNvSpPr/>
            <p:nvPr/>
          </p:nvSpPr>
          <p:spPr>
            <a:xfrm>
              <a:off x="5336640" y="663480"/>
              <a:ext cx="603720" cy="54792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ppa dei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cess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19826"/>
            <p:cNvSpPr/>
            <p:nvPr/>
          </p:nvSpPr>
          <p:spPr>
            <a:xfrm>
              <a:off x="5336640" y="3186720"/>
              <a:ext cx="603720" cy="54720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z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52280" y="1917720"/>
            <a:ext cx="210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lto è già stato scritto, detto, condiviso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71920" y="0"/>
            <a:ext cx="6472080" cy="3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i emergenti nella gestione del paziente onc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618240"/>
            <a:ext cx="9142560" cy="238320"/>
          </a:xfrm>
          <a:prstGeom prst="rect">
            <a:avLst/>
          </a:prstGeom>
          <a:solidFill>
            <a:srgbClr val="fa7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-332280" y="6294600"/>
            <a:ext cx="1663200" cy="563400"/>
            <a:chOff x="-332280" y="6294600"/>
            <a:chExt cx="1663200" cy="563400"/>
          </a:xfrm>
        </p:grpSpPr>
        <p:sp>
          <p:nvSpPr>
            <p:cNvPr id="249" name=""/>
            <p:cNvSpPr/>
            <p:nvPr/>
          </p:nvSpPr>
          <p:spPr>
            <a:xfrm>
              <a:off x="-325440" y="6294600"/>
              <a:ext cx="1656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Lucida Sans"/>
                </a:rPr>
                <a:t>REGIONE  VENE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5040" y="6451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330480" y="6537240"/>
              <a:ext cx="1661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ucida Sans"/>
                </a:rPr>
                <a:t>ROVI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-332280" y="6421320"/>
              <a:ext cx="1648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53880" indent="-35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Lucida Sans"/>
                </a:rPr>
                <a:t>AZIENDA ULSS 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775720" y="62118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6560" y="1000080"/>
            <a:ext cx="7759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 allora quali possono essere questi problemi?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oviamo ad analizzare due momenti fondamentali del percorso di cura ed organizz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93760" y="4475160"/>
            <a:ext cx="79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) L’accoglienza del paziente in radiotera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5680" y="5205240"/>
            <a:ext cx="46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) La relazione tra i serv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8:42:22Z</dcterms:created>
  <dc:creator>marcolongo.adriano</dc:creator>
  <dc:description/>
  <dc:language>en-US</dc:language>
  <cp:lastModifiedBy>boscolo.mariarosa</cp:lastModifiedBy>
  <dcterms:modified xsi:type="dcterms:W3CDTF">2010-10-15T08:30:09Z</dcterms:modified>
  <cp:revision>112</cp:revision>
  <dc:subject/>
  <dc:title>Diapositiva 1</dc:title>
</cp:coreProperties>
</file>