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-360" y="-8088480"/>
            <a:ext cx="360" cy="175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615-C286-4491-8751-F9FF7EB4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D1E-E6E8-4B4C-ACEE-D05FE608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48D-2772-44A4-8779-625457DD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071-CCC1-405C-AC1E-8D23EAAC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863F-986A-4D35-95D2-BECAABA1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FE70-EE18-4CBB-B156-9744BB69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E3EF-A400-415E-B11C-5B20745F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963F-FD70-41A4-83FA-4B68771B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A5C7-7A77-498C-82DC-4A9E7FB5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372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5780-249B-49E5-AFAE-055F24D1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E772-B79B-4883-BC97-A36373BF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632-ABD3-4A05-8352-152EDFB1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B0A3-5D31-40C2-914C-0E128913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1545-2576-41DF-A7D3-4D70521D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856D-F663-48ED-B3E8-BEE657BA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8577-209E-4456-8438-3B6BB222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88B7-4B0A-4FED-A109-41A8DF2D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51A-F576-4051-8519-BA70113A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CD6-31F2-42B8-BDC3-234BEBE8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C72-2880-4A3B-8D9E-60A3D725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372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19F-8E7B-46A0-B8D1-C88C214A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DE1-8068-4705-BEEE-C712101E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ECE-A33B-402E-9AC8-51FD9BAD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600-2AD6-492D-992E-A332D4A1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1546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0720"/>
            <a:ext cx="765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5960" indent="-43992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0600" indent="-401760"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77960" indent="-38268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66760" indent="-38736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66760" indent="-387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66760" indent="-387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5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B7B6B-19A0-4103-86B4-04D62F2050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BBAD538-AB8C-433A-B68A-0C9942A1A2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5000" cy="2513160"/>
            <a:chOff x="0" y="914400"/>
            <a:chExt cx="8685000" cy="2513160"/>
          </a:xfrm>
        </p:grpSpPr>
        <p:sp>
          <p:nvSpPr>
            <p:cNvPr id="49" name=""/>
            <p:cNvSpPr/>
            <p:nvPr/>
          </p:nvSpPr>
          <p:spPr>
            <a:xfrm>
              <a:off x="228240" y="914400"/>
              <a:ext cx="2513880" cy="251316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5800"/>
              <a:ext cx="4723200" cy="1142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1800" y="1675800"/>
              <a:ext cx="4723200" cy="114228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120" y="1523520"/>
              <a:ext cx="228240" cy="14482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7280" y="1209240"/>
              <a:ext cx="261360" cy="13705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3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-444600"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5960" indent="-43992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0600" indent="-401760"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77960" indent="-38268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66760" indent="-387360">
              <a:lnSpc>
                <a:spcPct val="87000"/>
              </a:lnSpc>
              <a:spcBef>
                <a:spcPts val="799"/>
              </a:spcBef>
              <a:buClr>
                <a:srgbClr val="999933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66760" indent="-387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66760" indent="-387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2048400"/>
            <a:ext cx="7777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MBULATORIO INFERMIERISTICO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340000" y="4046400"/>
            <a:ext cx="6400800" cy="16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Dott.ssa Maria Padovan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stituto Oncologico Venet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0800" y="4076640"/>
            <a:ext cx="1374840" cy="16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509040"/>
            <a:ext cx="8596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Crit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3272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2421000"/>
            <a:ext cx="7201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appatura delle Competenze Tecnico-Professionali ovvero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etenze Distintiv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Specialistiche in grado di offrire, un’Assistenza Infermieristica “Avanzata” ai pazienti-cittadini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509040"/>
            <a:ext cx="712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Modello Assistenz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3272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628640"/>
            <a:ext cx="7848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292929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700280"/>
            <a:ext cx="77756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L’assistenza sanitaria ospedaliera è, per sua natura, interprofessionale; quindi richiede un sistema organizzativo che mantenga la coerenza fra gli operatori rispetto agli obiettivi e agli interventi da erogare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Agire in un contesto di elevata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interdipendenza richiede un alto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grado di flessibilità organizzativa 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professionale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44440"/>
            <a:ext cx="7128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Finalita’ del Ruolo dell’infermi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3272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784872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292929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92929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GESTISCE i percorsi assistenziali garantendo la continuità delle cure e l’integrazione multiprofessionale,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coinvolgendo la persona e la famiglia / care givers, in cooperazione con il medico specialista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92929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ATTUA interventi di educazione alla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salute, di self-care e interventi per la prevenzione e la promozione della qualità della vita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509040"/>
            <a:ext cx="8596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Il Proge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3272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628640"/>
            <a:ext cx="7848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292929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1700280"/>
            <a:ext cx="7775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844640"/>
            <a:ext cx="7705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Impiego di nuovo modello organizzativo che vede nell’Infermiere dell’Ambulatorio il professionista capace di esercitare la completa presa in carico della programmazione e gestione dell’intero percorso clinico assistenziale e,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agendo in sinergia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con gli Specialisti dell’Equipe Multidiscipl. di garantire il controllo di tutto il processo attraverso strumenti creati ad hoc.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50480" y="472680"/>
            <a:ext cx="8596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l Proge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632720" cy="39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Times New Roman"/>
              </a:rPr>
              <a:t>Strutturazione ambulatorio infermieristico basato sul modello delle prestazioni infermieristich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Times New Roman"/>
              </a:rPr>
              <a:t>Il modello delle prestazioni infermieristiche è adottato quale quadro teorico di riferimen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Times New Roman"/>
              </a:rPr>
              <a:t>La cartella infermieristica è integrata con quella med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Times New Roman"/>
              </a:rPr>
              <a:t>Adozione di  percorsi clinico assistenziali condivis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50480" y="472680"/>
            <a:ext cx="8596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Strate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345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Differenziazione delle liste di attesa rispetto ai bisogni dei pazient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Razionalizzazione dell’offerta di serviz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Realizzazione di percorsi diagnostici terapeutic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Coinvolgimento dei pazient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50480" y="472680"/>
            <a:ext cx="8596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Strate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632720" cy="48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Definire le prestazioni da inserire nell’ambulatorio infermieristic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Definire le competenze necessarie (Job description) per fornire le prestazion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Definire le procedure per la richiesta, l’erogazione, la documentazione della prestazione infermieristic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Definire le modalità di redicontazione dell’attività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50480" y="472680"/>
            <a:ext cx="8596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Obietti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632720" cy="46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Assicurare la continuità assistenziale secondo il modello delle prestazioni infermieristich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Fornire interventi di  educazione sanitaria e trasmettere sicurezza al paziente per ridurre lo stress che la malattia oncologica comport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Ridurre i tempi di attesa e le liste di attes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50480" y="472680"/>
            <a:ext cx="8596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Obietti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201080" cy="40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involgere il gruppo professionale verso una pratica infermieristica professionalizzante ed avanza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rasferire nella pratica infermieristica i risultati di evidenze scientifich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50480" y="-14760"/>
            <a:ext cx="8596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mbiti di attività dell’ambulatorio infermieris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56144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tossicità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Mucosi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Gestione C.V.C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Medicazion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Gestione terapie oral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Gestione stomi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rimozioni punti sutura,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prelievi ematochimici e biologici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punto di ascolto per gli utenti e familiar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509040"/>
            <a:ext cx="8596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Il Probl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632720" cy="418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292929"/>
              </a:buClr>
              <a:buFont typeface="Times New Roman"/>
              <a:buChar char="•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Aumento della malattia oncologica che comporta a parità di offerta, un aumento dei tempi di attesa anche in relazione alla Non modificazione dei servizi ambulatoriali e dei D.H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92929"/>
              </a:buClr>
              <a:buFont typeface="Times New Roman"/>
              <a:buChar char="•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I tempi di attesa sono uno dei  determinanti della qualità percepita ed una delle problematiche più diffus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92929"/>
              </a:buClr>
              <a:buFont typeface="Times New Roman"/>
              <a:buChar char="•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La riduzione dei ricoveri ospedalieri comporta un aumento della domanda di assistenza infermieristic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92929"/>
              </a:buClr>
              <a:buFont typeface="Times New Roman"/>
              <a:buChar char="•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L’ evoluzione delle conoscenze scientifiche ed il miglioramento della qualità della vita fanno emergere nuovi bisogn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50480" y="-14760"/>
            <a:ext cx="8489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mbiti di attività dell’ambulatorio infermieris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TRIAGE TELEFONIC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CONSULENZE AD ALTRE UNITÀ  OPERAT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EDUCAZIONE SANITAR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COUNSELING GENETICO (team multidisciplinar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EDUCAZIONE ALIMENTARE   (team multidisciplinar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EDUCAZIONE SESSUALE (team multidisciplinar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50480" y="533880"/>
            <a:ext cx="8489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dicatori di verif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2720" cy="46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7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89000"/>
            <a:ext cx="8209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292929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Appropriatezza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92929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Pertinenza con i bisogni del paziente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292929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Rispetto delle condizioni organizzative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2000880"/>
            <a:ext cx="7777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Grazie per l’ attenzion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0800" y="4076640"/>
            <a:ext cx="1374840" cy="163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187200"/>
            <a:ext cx="7488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Evoluzione della Professione Infermieri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632720" cy="49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292929"/>
                </a:solidFill>
                <a:latin typeface="Times New Roman"/>
              </a:rPr>
              <a:t>la legge 42/99 e la legge 251/00 hanno portato al riconoscimento dell’assistenza infermieristica sul piano dell’iter formativo, dello stato giuridico e dell’autonomia professionale, valorizzando e responsabilizzando le funzioni e il ruolo dell’infermiere e permettendogli di uscire dalla struttura ospedaliera.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632720" cy="45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Times New Roman"/>
              </a:rPr>
              <a:t>Il medico opera in “termini di diagnosi”, essendo questo il presupposto dell’atto medico, se è vero, come lo è, che l’intervento terapeutico può competere anche ad altre professioni od arti sanitarie, sempre, però e solo, previa indicazione diagnostica del medico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92929"/>
                </a:solidFill>
                <a:latin typeface="Times New Roman"/>
              </a:rPr>
              <a:t>E IL RUOLO DEGLI INFERMIERI NEL TRIAGE, NEL 118?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7416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Times New Roman"/>
              </a:rPr>
              <a:t>Legge 26 Febbraio 1999, N. 42 “ Disposizioni In Materia Di Professioni Sanitarie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5640" y="569880"/>
            <a:ext cx="85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Una consider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3272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’Emilia Romagna nella direttiva dei criteri di organizzazione della funzione di lungodegenza post acuzie del 28 luglio 1997 dice che “la responsabilità organizzativa e gestionale deve essere di norma affidata al personale infermieristico, fermo restando la supervisione e responsabilità clinica dei singoli medici responsabili dei degenti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509040"/>
            <a:ext cx="8596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Il Conte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3272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1773360"/>
            <a:ext cx="612000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292929"/>
                </a:solidFill>
                <a:latin typeface="Times New Roman"/>
              </a:rPr>
              <a:t>Radioterapia</a:t>
            </a: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292929"/>
                </a:solidFill>
                <a:latin typeface="Times New Roman"/>
              </a:rPr>
              <a:t>Oncologia</a:t>
            </a: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292929"/>
                </a:solidFill>
                <a:latin typeface="Times New Roman"/>
              </a:rPr>
              <a:t>Chirurgia Oncologica</a:t>
            </a: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292929"/>
                </a:solidFill>
                <a:latin typeface="Times New Roman"/>
              </a:rPr>
              <a:t>Unità per i Tumori Ereditari</a:t>
            </a: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509040"/>
            <a:ext cx="8596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Criteri Assistenzi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3272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628640"/>
            <a:ext cx="7848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844640"/>
            <a:ext cx="73454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292929"/>
                </a:solidFill>
                <a:latin typeface="Times New Roman"/>
              </a:rPr>
              <a:t>FASE ACUTA: il bisogno di assistenza medica è maggiormente rappresentato per prevalenza e per intensità</a:t>
            </a: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292929"/>
                </a:solidFill>
                <a:latin typeface="Times New Roman"/>
              </a:rPr>
              <a:t>FASE POST-ACUTA: il bisogno di</a:t>
            </a: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292929"/>
                </a:solidFill>
                <a:latin typeface="Times New Roman"/>
              </a:rPr>
              <a:t>assistenza infermieristica è quello maggiormente rappresentato per prevalenza e per intensità</a:t>
            </a: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509040"/>
            <a:ext cx="8596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Ambulatorio Infermieri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3272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133720"/>
            <a:ext cx="61200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292929"/>
                </a:solidFill>
                <a:latin typeface="Times New Roman"/>
              </a:rPr>
              <a:t>Determina lo spostamento di intere aree di competenza e responsabilità, dall’ambito medico a quello infermieristico</a:t>
            </a:r>
            <a:endParaRPr b="0" lang="en-US" sz="3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509040"/>
            <a:ext cx="7272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I Presupp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3272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4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2133720"/>
            <a:ext cx="6120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068560"/>
            <a:ext cx="856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292929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Ruolo Attivo e Responsabile Dell’infermier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•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Competenze Specifich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•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Elevato Livello di Integrazion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•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Funzione di Promozione della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Continuità   Clinico Assistenzial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•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Forte Spinta Motivazionale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 CONGRESSO NAZIONALE A.I.I.R.O., ROVIGO 15 E 16 OTTOBRE 201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</cp:lastModifiedBy>
  <dcterms:modified xsi:type="dcterms:W3CDTF">2010-10-15T06:28:13Z</dcterms:modified>
  <cp:revision>55</cp:revision>
  <dc:subject/>
  <dc:title>Presentazione di PowerPoint</dc:title>
</cp:coreProperties>
</file>