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26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5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94784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CBB6-B5EC-47C2-A3FB-53A2C8AFC03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egnaposto numero diapositiva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8850-BD8A-47CC-921A-9973883EFC2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egnaposto numero diapositiva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F484-A9B9-4A9C-84A1-D29B7736806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egnaposto numero diapositiva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A0F0-AFC6-45E0-9C44-35851842F56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egnaposto numero diapositiva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15B8-F4BB-401B-9BA9-267F88C07D3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egnaposto numero diapositiva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374B-C69A-457E-B441-A25B955B70B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egnaposto numero diapositiva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8DA7-6516-40C2-BF98-CB460075029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egnaposto numero diapositiva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BA02-A321-439D-BC6D-87B3FC3039D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egnaposto numero diapositiva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D8B0-188E-466A-8F1D-63A3EB371EF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egnaposto numero diapositiva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6C7A-063C-47B1-8B9B-B1BB46CF48D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egnaposto numero diapositiva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1E77-B000-475B-A97B-657154EF5B7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egnaposto numero diapositiva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4704-B66A-4300-8B12-37F1E016A02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egnaposto numero diapositiva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20AB-1167-4D2B-850C-FED5E16AB5F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egnaposto numero diapositiva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4E43-E02D-46BF-B57E-D0A40A882F2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688A-8558-431A-B98D-28804092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5C8C-ED2A-4EE5-8573-B1412949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E750-5040-430A-A565-12D63C4C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CCA8-0D9B-437A-B9C1-6CE39281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A9DD-E2DA-4F83-845D-D8764508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1CB8-7CD7-4129-B424-3F258AD8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4C38-3614-48A3-B4A6-FA2F55F2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53AF-56D2-4737-BC35-00245DBE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6366-8D78-461C-AFFE-43406E0A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DC5F-6688-4611-BCAF-E8531194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7747-9402-4192-B8C2-7A8B3260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5BD7-13CE-4BDD-8515-535D121E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5950-4CFF-4DAE-91C7-B72B0228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AD89-74F1-4B86-A3B3-4425BAED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7AA4-CFF7-454C-87D0-654CA920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423D-CF09-44D1-8333-AD2FF6AB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CE8F-F6A7-4609-90BF-5D30AC59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7B24-16AF-4A6A-80F1-134273ED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949F-466D-4303-8599-8B8AC2C1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0B7A-4A8E-44B5-982A-44FF41E9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800A-FA5C-4627-AD6B-552CFF01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A0AD-9954-4505-9F92-CE93EB6D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79FF-9CC8-4C4B-8DB1-B0EC9D4E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4FD5-8A1B-446D-80C2-3EE06D00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4411-0764-4636-8791-D67786BFB72E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i="1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i="1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C236-96D6-4829-9503-F5E95C5E23B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CB19-E11D-433A-B7DE-3C5235234834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i="1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i="1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A2C5-A73F-4AD7-988A-614514C656F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1640" y="2662200"/>
            <a:ext cx="4343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pidemiologia, Storia Naturale e Fattori Prognostici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CasellaDiTesto 4"/>
          <p:cNvSpPr/>
          <p:nvPr/>
        </p:nvSpPr>
        <p:spPr>
          <a:xfrm>
            <a:off x="5702760" y="548640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Marco D’Alessandro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6" name="Picture 14" descr="asl_pescara"/>
          <p:cNvPicPr/>
          <p:nvPr/>
        </p:nvPicPr>
        <p:blipFill>
          <a:blip r:embed="rId1"/>
          <a:stretch/>
        </p:blipFill>
        <p:spPr>
          <a:xfrm>
            <a:off x="7796160" y="0"/>
            <a:ext cx="1347840" cy="1552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6"/>
          <p:cNvSpPr/>
          <p:nvPr/>
        </p:nvSpPr>
        <p:spPr>
          <a:xfrm>
            <a:off x="5181480" y="1143000"/>
            <a:ext cx="2438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U.O. Radioterapia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0000"/>
                </a:solidFill>
                <a:latin typeface="Comic Sans MS"/>
              </a:rPr>
              <a:t>W-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Age standardised mortality </a:t>
            </a:r>
            <a:r>
              <a:rPr b="1" lang="nl-BE" sz="2400" spc="-1" strike="noStrike">
                <a:solidFill>
                  <a:srgbClr val="ff0000"/>
                </a:solidFill>
                <a:latin typeface="Comic Sans MS"/>
              </a:rPr>
              <a:t>from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and incidence </a:t>
            </a:r>
            <a:r>
              <a:rPr b="1" lang="nl-BE" sz="2400" spc="-1" strike="noStrike">
                <a:solidFill>
                  <a:srgbClr val="ff0000"/>
                </a:solidFill>
                <a:latin typeface="Comic Sans MS"/>
              </a:rPr>
              <a:t>of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cervical cancer 27 </a:t>
            </a:r>
            <a:r>
              <a:rPr b="1" lang="nl-BE" sz="2400" spc="-1" strike="noStrike">
                <a:solidFill>
                  <a:srgbClr val="ff0000"/>
                </a:solidFill>
                <a:latin typeface="Comic Sans MS"/>
              </a:rPr>
              <a:t>Member states of the EU (2004)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8440" y="1093680"/>
            <a:ext cx="9144000" cy="54309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106200" y="6567480"/>
            <a:ext cx="463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ffffff"/>
                </a:solidFill>
                <a:latin typeface="Tahoma"/>
              </a:rPr>
              <a:t>Arbyn M. et al, Ann of  Oncol 2007 Aug; 18(8): 1423-5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7840" y="250560"/>
            <a:ext cx="8418600" cy="639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4" descr="asl_pescara"/>
          <p:cNvPicPr/>
          <p:nvPr/>
        </p:nvPicPr>
        <p:blipFill>
          <a:blip r:embed="rId2"/>
          <a:stretch/>
        </p:blipFill>
        <p:spPr>
          <a:xfrm>
            <a:off x="8078760" y="0"/>
            <a:ext cx="1065240" cy="1111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14360" y="520560"/>
            <a:ext cx="82296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ndamento globale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119160" y="1809720"/>
            <a:ext cx="3959280" cy="37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INCIDENZA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e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MORTALITA’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hanno subito un declino in molti paesi sviluppati, fin dal 1960, per via dei programmi di screening.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imangono alte, invece, in molti paesi dell’America Centro-Sud, Africa, Asia, Est-Europa. 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rcRect l="0" t="0" r="0" b="14564"/>
          <a:stretch/>
        </p:blipFill>
        <p:spPr>
          <a:xfrm>
            <a:off x="4606920" y="1758960"/>
            <a:ext cx="4299120" cy="4734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876920" y="6593040"/>
            <a:ext cx="346716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Global Cancer Facts </a:t>
            </a:r>
            <a:r>
              <a:rPr b="1" i="1" lang="en-US" sz="800" spc="-1" strike="noStrike">
                <a:solidFill>
                  <a:srgbClr val="ffffff"/>
                </a:solidFill>
                <a:latin typeface="Tahoma"/>
              </a:rPr>
              <a:t>&amp; Figures 2007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numero diapositiva 1"/>
          <p:cNvSpPr/>
          <p:nvPr/>
        </p:nvSpPr>
        <p:spPr>
          <a:xfrm>
            <a:off x="8089920" y="6121440"/>
            <a:ext cx="946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609F-E37A-485A-BBB6-1E653BB5FF65}" type="slidenum">
              <a:rPr b="0" lang="en-US" sz="3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401760" y="104760"/>
            <a:ext cx="8285040" cy="6394320"/>
          </a:xfrm>
          <a:prstGeom prst="rect">
            <a:avLst/>
          </a:prstGeom>
          <a:ln w="0">
            <a:noFill/>
          </a:ln>
        </p:spPr>
      </p:pic>
      <p:sp>
        <p:nvSpPr>
          <p:cNvPr id="171" name="Ovale 3"/>
          <p:cNvSpPr/>
          <p:nvPr/>
        </p:nvSpPr>
        <p:spPr>
          <a:xfrm>
            <a:off x="5297400" y="2997360"/>
            <a:ext cx="2819520" cy="266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6583320"/>
            <a:ext cx="5605560" cy="246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ffff"/>
                </a:solidFill>
                <a:latin typeface="Tahoma"/>
              </a:rPr>
              <a:t>Epidemiologia </a:t>
            </a:r>
            <a:r>
              <a:rPr b="1" i="1" lang="en-US" sz="1000" spc="-1" strike="noStrike">
                <a:solidFill>
                  <a:srgbClr val="ffffff"/>
                </a:solidFill>
                <a:latin typeface="Tahoma"/>
              </a:rPr>
              <a:t>&amp; Prevenzione. I tumori in Italia – Rapporto 2009</a:t>
            </a:r>
            <a:endParaRPr b="0" i="1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08080" y="190440"/>
            <a:ext cx="8418240" cy="651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14" descr="asl_pescara"/>
          <p:cNvPicPr/>
          <p:nvPr/>
        </p:nvPicPr>
        <p:blipFill>
          <a:blip r:embed="rId2"/>
          <a:stretch/>
        </p:blipFill>
        <p:spPr>
          <a:xfrm>
            <a:off x="8116920" y="0"/>
            <a:ext cx="1027080" cy="10699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649440" y="1747800"/>
            <a:ext cx="7569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sa può spiegare così grandi differenze nel mondo?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versità di fattori di rischio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prevalenza infezione HPV)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ffusione del pap-test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7840" y="250920"/>
            <a:ext cx="8418600" cy="646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14" descr="asl_pescara"/>
          <p:cNvPicPr/>
          <p:nvPr/>
        </p:nvPicPr>
        <p:blipFill>
          <a:blip r:embed="rId2"/>
          <a:stretch/>
        </p:blipFill>
        <p:spPr>
          <a:xfrm>
            <a:off x="8118360" y="0"/>
            <a:ext cx="1025640" cy="12492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792000" y="1077840"/>
            <a:ext cx="81536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i circa 40 tipi di HPV ritrovati nel tratto genitale: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spcBef>
                <a:spcPts val="1250"/>
              </a:spcBef>
              <a:buClr>
                <a:srgbClr val="ff66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15 ad alto rischio in relazione alla associazione con carcinomi invasivi: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16,18,31,33,35,39,45,51,52,56,58,59,68,73,82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spcBef>
                <a:spcPts val="1250"/>
              </a:spcBef>
              <a:buClr>
                <a:srgbClr val="00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3 come probabili HR: 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6,53,66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-12 come a basso rischio: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6,11,40,42,43,44,54,61,70,72,81, CP6108.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Rectangle 1032"/>
          <p:cNvSpPr/>
          <p:nvPr/>
        </p:nvSpPr>
        <p:spPr>
          <a:xfrm>
            <a:off x="271440" y="6355800"/>
            <a:ext cx="887256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Munoz N. et al. Epidemiologic classification of  Human Papillomavirus Types Asociated with Cervical Cancer. N Engl J Med. 2003 Feb 6;348(6):518-27.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693720" y="376200"/>
            <a:ext cx="821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PV e Carcinoma della cervice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68C4-76A3-4CDC-88D7-4AD161E764D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67840" y="250560"/>
            <a:ext cx="8418600" cy="646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14" descr="asl_pescara"/>
          <p:cNvPicPr/>
          <p:nvPr/>
        </p:nvPicPr>
        <p:blipFill>
          <a:blip r:embed="rId2"/>
          <a:stretch/>
        </p:blipFill>
        <p:spPr>
          <a:xfrm>
            <a:off x="8072280" y="0"/>
            <a:ext cx="1071720" cy="11174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693720" y="606600"/>
            <a:ext cx="821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PV e Carcinoma della cervice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1" name="Picture 9" descr="M850448-Cervical_cancer_cell,_SEM-SPL"/>
          <p:cNvPicPr/>
          <p:nvPr/>
        </p:nvPicPr>
        <p:blipFill>
          <a:blip r:embed="rId3"/>
          <a:stretch/>
        </p:blipFill>
        <p:spPr>
          <a:xfrm>
            <a:off x="-14400" y="0"/>
            <a:ext cx="1779840" cy="1255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30" descr=""/>
          <p:cNvPicPr/>
          <p:nvPr/>
        </p:nvPicPr>
        <p:blipFill>
          <a:blip r:embed="rId4"/>
          <a:stretch/>
        </p:blipFill>
        <p:spPr>
          <a:xfrm>
            <a:off x="5221440" y="1852560"/>
            <a:ext cx="3922560" cy="40705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13"/>
          <p:cNvSpPr/>
          <p:nvPr/>
        </p:nvSpPr>
        <p:spPr>
          <a:xfrm>
            <a:off x="4581360" y="6507000"/>
            <a:ext cx="33624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Tahoma"/>
              </a:rPr>
              <a:t>Clifford GM et al. British Journal of Cancer, 88:63-73 (2003)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Rettangolo 6"/>
          <p:cNvSpPr/>
          <p:nvPr/>
        </p:nvSpPr>
        <p:spPr>
          <a:xfrm>
            <a:off x="4529160" y="6643800"/>
            <a:ext cx="346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Tahoma"/>
              </a:rPr>
              <a:t>IARC Monographs, Vol 90, 2007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Rectangle 126"/>
          <p:cNvSpPr/>
          <p:nvPr/>
        </p:nvSpPr>
        <p:spPr>
          <a:xfrm>
            <a:off x="5221440" y="1477800"/>
            <a:ext cx="3922560" cy="357480"/>
          </a:xfrm>
          <a:prstGeom prst="rect">
            <a:avLst/>
          </a:prstGeom>
          <a:solidFill>
            <a:srgbClr val="683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ffff00"/>
                </a:solidFill>
                <a:latin typeface="Comic Sans MS"/>
              </a:rPr>
              <a:t>Prevalenza mondiale di diversi tipi di Papillomavirus</a:t>
            </a:r>
            <a:endParaRPr b="0" i="1" lang="en-US" sz="1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357120" y="1378080"/>
            <a:ext cx="4518000" cy="477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Comic Sans MS"/>
              </a:rPr>
              <a:t>HPV: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causa necessaria per lo sviluppo di SIL e del Carcinoma Cervicale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ffff"/>
                </a:solidFill>
                <a:latin typeface="Comic Sans MS"/>
              </a:rPr>
              <a:t>(Munoz N. J Clin Virol 2000, Oct:19)</a:t>
            </a:r>
            <a:endParaRPr b="0" i="1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Il carcinoma cervicale è il primo cancro ad essere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riconosciuto dall’ OMS</a:t>
            </a: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come pressocchè totalmente riconducibile ad un’ infezione  (infezione genitale da HPV).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&gt;75%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delle donne sessualmente attive si infetta nel corso della vita con un picco di prevalenza di giovani fino  a 25 anni di età.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HPV 16 e 18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alto rischio (responsabili di oltre il 75% dei casi di cancro invasivo).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Il tipo </a:t>
            </a: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16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ha prevalenza maggiore nel mondo, seguito dal 18.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320" y="403200"/>
            <a:ext cx="8418600" cy="6454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14" descr="asl_pescara"/>
          <p:cNvPicPr/>
          <p:nvPr/>
        </p:nvPicPr>
        <p:blipFill>
          <a:blip r:embed="rId2"/>
          <a:stretch/>
        </p:blipFill>
        <p:spPr>
          <a:xfrm>
            <a:off x="8265960" y="0"/>
            <a:ext cx="878040" cy="1079640"/>
          </a:xfrm>
          <a:prstGeom prst="rect">
            <a:avLst/>
          </a:prstGeom>
          <a:ln w="0">
            <a:noFill/>
          </a:ln>
        </p:spPr>
      </p:pic>
      <p:sp>
        <p:nvSpPr>
          <p:cNvPr id="201" name="Rettangolo 6"/>
          <p:cNvSpPr/>
          <p:nvPr/>
        </p:nvSpPr>
        <p:spPr>
          <a:xfrm>
            <a:off x="363600" y="6329520"/>
            <a:ext cx="878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Tahoma"/>
              </a:rPr>
              <a:t>Frazer IH, Cox JT, Mayeaux EJ, Franco EL, et al. Advances in prevention of cervical cancer and other Human Papillomavirus-related diseases. </a:t>
            </a: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Ped Infect Dis J 2006; 25:S65-81.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446040" y="2857680"/>
            <a:ext cx="8277120" cy="30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uso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di EP per lungo periodo (&gt; 10 aa)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40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alta parità (&gt;5 figli) 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40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giovane età al primo rapporto sessuale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40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giovane età alla prima gravidanza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40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eta  (carenza di vit.C, carotenoidi)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40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ltre infezioni (Clamidia Trachomatis)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40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levato numero di partners sessuali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40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mmunosoppressione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40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umo di tabacco (presenza di nitrosamine nel muco cervicale).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533520" y="561960"/>
            <a:ext cx="742932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La maggior parte (70-90%) delle infezioni è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transitoria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: il virus viene eliminato dal SI prima di sviluppare un effetto patogeno.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Persistenza dell’infezione: condizione necessaria per l’evoluzione verso il carcinoma.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La probabilità di progressione è correlata anche a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co-fattori:</a:t>
            </a: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79840" cy="69436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8200" y="250920"/>
            <a:ext cx="8228160" cy="648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043000" y="479520"/>
            <a:ext cx="58356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revenzione delle patologie causate da HPV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85680" y="1297080"/>
            <a:ext cx="5224680" cy="45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rmAutofit fontScale="96000"/>
          </a:bodyPr>
          <a:p>
            <a:pPr lvl="1" marL="713160" indent="-274320" algn="just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Prevenzione primaria (vaccino):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riduce il rischio di ammalarsi, evitando l’infezione  da HPV.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- Approvato nelle giovani donne tra 9-26 anni. 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- Riduce il rischio di infezione, cancro cervicale ed altre malattie correlate all’HPV (Gardasil), anche tra le donne di 25-45 anni.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Prevenzione secondaria (screening):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strategia di “diagnosi precoce” con Programmi di screening, per il cancro invasivo, basati sul Pap-test.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428760" y="6294600"/>
            <a:ext cx="8253360" cy="337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Petrelli NJ et al. Clinical Cancer Advances 2009: Major Research Advances in Cancer Treatment, Prevention and Screening-A Report from the American Society of Clinical Oncology. Journal of Clinical Oncology 27:6052-6069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838840" y="1452600"/>
            <a:ext cx="3305160" cy="24224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813280" y="4641840"/>
            <a:ext cx="3330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-114480" y="-42840"/>
            <a:ext cx="9375840" cy="7039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egnaposto numero diapositiva 5"/>
          <p:cNvSpPr/>
          <p:nvPr/>
        </p:nvSpPr>
        <p:spPr>
          <a:xfrm>
            <a:off x="6564240" y="6270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8F3E-A302-41DD-98C3-616CB2702AA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479840" cy="69436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3480" y="383760"/>
            <a:ext cx="8418600" cy="647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14" descr="asl_pescara"/>
          <p:cNvPicPr/>
          <p:nvPr/>
        </p:nvPicPr>
        <p:blipFill>
          <a:blip r:embed="rId2"/>
          <a:stretch/>
        </p:blipFill>
        <p:spPr>
          <a:xfrm>
            <a:off x="7810560" y="0"/>
            <a:ext cx="1333440" cy="13906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"/>
          <p:cNvSpPr/>
          <p:nvPr/>
        </p:nvSpPr>
        <p:spPr>
          <a:xfrm>
            <a:off x="858960" y="627120"/>
            <a:ext cx="7273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arcinoma invasivo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toria natural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453960" y="1984320"/>
            <a:ext cx="4430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Diretta</a:t>
            </a:r>
            <a:r>
              <a:rPr b="0" i="1" lang="it-IT" sz="16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i="1" lang="it-IT" sz="1600" spc="-1" strike="noStrike">
                <a:solidFill>
                  <a:srgbClr val="ffffff"/>
                </a:solidFill>
                <a:latin typeface="Comic Sans MS"/>
              </a:rPr>
              <a:t>contiguità-continuità):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fornici vaginali adiacenti e da qui ai tessuti paracervicali e parametriali con invasione diretta di vescica e/o retto,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canale cervicale, cavità endometriale, parte alta della vagina. 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Linfatica</a:t>
            </a:r>
            <a:r>
              <a:rPr b="0" i="1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-   LN pelvici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-   LN retroperitoneali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- Estensione a corpo utero, vagina e parametri anche per via linfatica (negli stadi avanzati)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Ematica</a:t>
            </a: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(rara e tardiva)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0" name="Picture 4" descr="peduncolo2"/>
          <p:cNvPicPr/>
          <p:nvPr/>
        </p:nvPicPr>
        <p:blipFill>
          <a:blip r:embed="rId3"/>
          <a:stretch/>
        </p:blipFill>
        <p:spPr>
          <a:xfrm>
            <a:off x="5192640" y="2108160"/>
            <a:ext cx="3678480" cy="3063960"/>
          </a:xfrm>
          <a:prstGeom prst="rect">
            <a:avLst/>
          </a:prstGeom>
          <a:ln w="57240">
            <a:solidFill>
              <a:srgbClr val="666699"/>
            </a:solidFill>
            <a:miter/>
          </a:ln>
        </p:spPr>
      </p:pic>
      <p:sp>
        <p:nvSpPr>
          <p:cNvPr id="221" name="Rectangle 13"/>
          <p:cNvSpPr/>
          <p:nvPr/>
        </p:nvSpPr>
        <p:spPr>
          <a:xfrm>
            <a:off x="376200" y="1488960"/>
            <a:ext cx="8494920" cy="5711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33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33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33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33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33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33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33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5165640" y="5364000"/>
            <a:ext cx="376884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G. Bonadonna et al. Medicina Oncologica, VIII Edizione.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225360" y="6389640"/>
            <a:ext cx="652932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Perez and Brady’s. Principles and Practice of Radiation Oncology. Fifth Edition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1395360" y="1324080"/>
            <a:ext cx="158436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Diffusione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67840" y="438120"/>
            <a:ext cx="8418600" cy="629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Dimensione del probl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13%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 delle neoplasie che interessano le don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10%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dei decessi per cancr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L’incidenza tende ad aumentare per aumento dell’aspettativa di vita e delle malattie legate all’età, come il Ca dell’ endometrio che è la  neoplasia più diffusa dell’apparato genitale femmini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14" descr="asl_pescara"/>
          <p:cNvPicPr/>
          <p:nvPr/>
        </p:nvPicPr>
        <p:blipFill>
          <a:blip r:embed="rId2"/>
          <a:stretch/>
        </p:blipFill>
        <p:spPr>
          <a:xfrm>
            <a:off x="8026560" y="0"/>
            <a:ext cx="1117440" cy="1165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9600" y="6427800"/>
            <a:ext cx="4897440" cy="2156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Gale Encyclopedia of cancer 2002. Belinda Rowland Ph.D. The Gale Group Inc. Gale, Detroit.</a:t>
            </a:r>
            <a:r>
              <a:rPr b="0" i="1" lang="it-IT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7840" y="250920"/>
            <a:ext cx="8418600" cy="649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14" descr="asl_pescara"/>
          <p:cNvPicPr/>
          <p:nvPr/>
        </p:nvPicPr>
        <p:blipFill>
          <a:blip r:embed="rId2"/>
          <a:stretch/>
        </p:blipFill>
        <p:spPr>
          <a:xfrm>
            <a:off x="8016840" y="0"/>
            <a:ext cx="1127160" cy="11746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82600" y="6499080"/>
            <a:ext cx="4673520" cy="246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ffff"/>
                </a:solidFill>
                <a:latin typeface="Tahoma"/>
              </a:rPr>
              <a:t>G. Bonadonna et al. Medicina Oncologica, VIII Edizione.</a:t>
            </a:r>
            <a:endParaRPr b="0" i="1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4027320" y="6529320"/>
            <a:ext cx="523404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ffff"/>
                </a:solidFill>
                <a:latin typeface="Tahoma"/>
              </a:rPr>
              <a:t>Perez and Brady’s. Principles and Practice of Radiation Oncology. Fifth Edition</a:t>
            </a:r>
            <a:endParaRPr b="0" i="1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1" name="Picture 9" descr="peduncolo5"/>
          <p:cNvPicPr/>
          <p:nvPr/>
        </p:nvPicPr>
        <p:blipFill>
          <a:blip r:embed="rId3"/>
          <a:stretch/>
        </p:blipFill>
        <p:spPr>
          <a:xfrm>
            <a:off x="609480" y="1957320"/>
            <a:ext cx="3730680" cy="36943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893880" y="5676840"/>
            <a:ext cx="30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1-peduncolo iliaco esterno</a:t>
            </a:r>
            <a:endParaRPr b="0" i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2-peduncolo posteriore</a:t>
            </a:r>
            <a:endParaRPr b="0" i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-peduncolo iliaco interno</a:t>
            </a:r>
            <a:endParaRPr b="0" i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3" name="Picture 17" descr="DA3DB10C66FF2"/>
          <p:cNvPicPr/>
          <p:nvPr/>
        </p:nvPicPr>
        <p:blipFill>
          <a:blip r:embed="rId4"/>
          <a:srcRect l="1970" t="0" r="54641" b="0"/>
          <a:stretch/>
        </p:blipFill>
        <p:spPr>
          <a:xfrm>
            <a:off x="5137200" y="1938240"/>
            <a:ext cx="3516120" cy="36784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8"/>
          <p:cNvSpPr/>
          <p:nvPr/>
        </p:nvSpPr>
        <p:spPr>
          <a:xfrm>
            <a:off x="4680000" y="5702400"/>
            <a:ext cx="39718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it-IT" sz="1000" spc="-1" strike="noStrike">
                <a:solidFill>
                  <a:srgbClr val="ffffff"/>
                </a:solidFill>
                <a:latin typeface="Tahoma"/>
              </a:rPr>
              <a:t>Henrikson E. The lymphatic spread of carcinoma of the cervix and of the body of the uterus: a study of 420 necropsies. </a:t>
            </a:r>
            <a:endParaRPr b="0" i="1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it-IT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it-IT" sz="1000" spc="-1" strike="noStrike">
                <a:solidFill>
                  <a:srgbClr val="ffffff"/>
                </a:solidFill>
                <a:latin typeface="Tahoma"/>
              </a:rPr>
              <a:t>Am J Obstet Gynecol</a:t>
            </a:r>
            <a:r>
              <a:rPr b="0" lang="it-IT" sz="1000" spc="-1" strike="noStrike">
                <a:solidFill>
                  <a:srgbClr val="ffffff"/>
                </a:solidFill>
                <a:latin typeface="Tahoma"/>
              </a:rPr>
              <a:t> 1949;58:924–942</a:t>
            </a:r>
            <a:endParaRPr b="0" i="1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434880" y="522360"/>
            <a:ext cx="7202520" cy="1113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Le </a:t>
            </a:r>
            <a:r>
              <a:rPr b="1" i="1" lang="it-IT" sz="1800" spc="-1" strike="noStrike">
                <a:solidFill>
                  <a:srgbClr val="ffffff"/>
                </a:solidFill>
                <a:latin typeface="Comic Sans MS"/>
              </a:rPr>
              <a:t>metastasi ai linfonodi regionali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sono correlate allo stadio ma non sempre con una sequenza ordinata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La </a:t>
            </a: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diffusione per via linfatica retroperitoneale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 è precoce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e rappresenta la via predominante di diffusione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7840" y="250560"/>
            <a:ext cx="8418600" cy="66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14" descr="asl_pescara"/>
          <p:cNvPicPr/>
          <p:nvPr/>
        </p:nvPicPr>
        <p:blipFill>
          <a:blip r:embed="rId2"/>
          <a:stretch/>
        </p:blipFill>
        <p:spPr>
          <a:xfrm>
            <a:off x="8159760" y="0"/>
            <a:ext cx="984240" cy="102564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533520" y="3943440"/>
            <a:ext cx="4308480" cy="916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I linfonodi inguinali sono interessati solo quando la neoplasia interessa il terzo inferiore della vagina. 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5278320" y="5848200"/>
            <a:ext cx="3681360" cy="531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Comic Sans MS"/>
              </a:rPr>
              <a:t>Ricostruzione 3D dei LN pelvici e iliaci comuni in pz con coinvolgimento della vagina distale. </a:t>
            </a:r>
            <a:r>
              <a:rPr b="1" i="1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it-IT" sz="1200" spc="-1" strike="noStrike">
                <a:solidFill>
                  <a:srgbClr val="ffffff"/>
                </a:solidFill>
                <a:latin typeface="Comic Sans MS"/>
              </a:rPr>
              <a:t>Immagine portale. </a:t>
            </a:r>
            <a:endParaRPr b="0" i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558720" y="766800"/>
            <a:ext cx="8293320" cy="2442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Dai LN paracervicali ai LN pelvici: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otturatori (gruppo mediale degli iliaci esterni) superficiali, iliaci esterni, iliaci comuni superficiali, parametriali, iliaci interni, otturatori profondi, iliaci comuni profondi, presacrali.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Da questi può diffondere a:</a:t>
            </a:r>
            <a:r>
              <a:rPr b="1" lang="it-IT" sz="18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LN aortici (paracavali, paraortici, interaortocavali, precavali, retrocavali, preaortici, retroaortici).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4613400" y="6537240"/>
            <a:ext cx="424944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Perez and Brady’s. Principles and Practice of Radiation Oncology. Fifth Edition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rcRect l="49305" t="740" r="3361" b="0"/>
          <a:stretch/>
        </p:blipFill>
        <p:spPr>
          <a:xfrm>
            <a:off x="5359320" y="3648240"/>
            <a:ext cx="3438720" cy="2124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600440" y="6683400"/>
            <a:ext cx="334188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G. Bonadonna et al. Medicina Oncologica, VIII Edizione.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6276960"/>
            <a:ext cx="4156200" cy="580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7628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Benedetti-Panici P, Maneschi F, Scambia G, et al. Lymphatic spread of cervical cancer: an anatomical and pathological study based on 225 radical hysterectomies with systematic pelvic and aortic lymphadenectomy. Gynecol Oncol 1996;62:19–24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7840" y="250560"/>
            <a:ext cx="8418600" cy="66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14" descr="asl_pescara"/>
          <p:cNvPicPr/>
          <p:nvPr/>
        </p:nvPicPr>
        <p:blipFill>
          <a:blip r:embed="rId2"/>
          <a:stretch/>
        </p:blipFill>
        <p:spPr>
          <a:xfrm>
            <a:off x="8186760" y="0"/>
            <a:ext cx="1012680" cy="105552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2"/>
          <p:cNvSpPr/>
          <p:nvPr/>
        </p:nvSpPr>
        <p:spPr>
          <a:xfrm>
            <a:off x="776160" y="1671480"/>
            <a:ext cx="7170840" cy="5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TORIA NATURALE-diffusione a distanza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0" y="352440"/>
            <a:ext cx="7780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La disseminazione 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per VIA EMATICA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avviene attraverso il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plesso venoso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e le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vene paracervicali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. E’ correlata allo stadio ma non sempre segue una sequenza ordinata.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eno frequente (&lt;10%) ma relativamente comune negli stadi più avanzati.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93760" y="2435400"/>
          <a:ext cx="8850240" cy="3743280"/>
        </p:xfrm>
        <a:graphic>
          <a:graphicData uri="http://schemas.openxmlformats.org/drawingml/2006/table">
            <a:tbl>
              <a:tblPr/>
              <a:tblGrid>
                <a:gridCol w="2867040"/>
                <a:gridCol w="598320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cinoma of the Uterine Cervix (Mallinckrodt Institute of Radiology 1959-86): Anatomic Site of First Metastasis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te                                                             N. of Patients with Distant Metastases (n=322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ung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9 (21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ara-aortic nodes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7 (11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bdominal Cavity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6 (8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upraclavicular nodes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1 (7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pine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1 (7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astrointestinal tract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 (4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iver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 (4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nguinal Nodes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 (3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iscellaneous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1 (35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rom Fagundes H, Perez CA, Grigsby PW, et al. Distant metastases after irradiation alone in carcinoma of the uterine cervix. </a:t>
                      </a: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nt J Radiat Oncol Biol Phys 1992;24:197-204.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4670280" y="6467400"/>
            <a:ext cx="447372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Perez and Brady’s. Principles and Practice of Radiation Oncology. Fifth Edition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4660920" y="6643800"/>
            <a:ext cx="422280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G. Bonadonna et al. Medicina Oncologica, VIII Edizione.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7840" y="250560"/>
            <a:ext cx="8418600" cy="66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14" descr="asl_pescara"/>
          <p:cNvPicPr/>
          <p:nvPr/>
        </p:nvPicPr>
        <p:blipFill>
          <a:blip r:embed="rId2"/>
          <a:stretch/>
        </p:blipFill>
        <p:spPr>
          <a:xfrm>
            <a:off x="8024760" y="0"/>
            <a:ext cx="1119240" cy="11653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38040" y="254160"/>
            <a:ext cx="8348760" cy="63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PRINCIPALI TRATTAMENTI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CHIRURGIA 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RADIOTERAPIA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CHEMIOTERAPIA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mic Sans MS"/>
              </a:rPr>
              <a:t>Efficaci sia per il controllo locale della malattia che per i risultati sulla sopravvivenza.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ffff"/>
                </a:solidFill>
                <a:uFillTx/>
                <a:latin typeface="Comic Sans MS"/>
              </a:rPr>
              <a:t>CHIRURGIA</a:t>
            </a: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utilizzata prevalentemente nella malattia in fase iniziale, ha importante ruolo nella valutazione dei fattori istopatologici che hanno un significato prognostico.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ffff"/>
                </a:solidFill>
                <a:uFillTx/>
                <a:latin typeface="Comic Sans MS"/>
              </a:rPr>
              <a:t>RADIOTERAPIA</a:t>
            </a: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viene utilizzata prevalentemente in stadi più avanzati.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ffff"/>
                </a:solidFill>
                <a:uFillTx/>
                <a:latin typeface="Comic Sans MS"/>
              </a:rPr>
              <a:t>CHEMIOTERAPIA</a:t>
            </a: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1" lang="it-IT" sz="1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utilizzata in neoadiuvante, adiuvante o concomitante alla radioterapia. 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Gli stadi iniziali trattati con chirurgia possono richiedere l’ausilio di trattamenti adiuvanti in base alla individuazione dei fattori di rischio istologici.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-360" y="250560"/>
            <a:ext cx="8418600" cy="66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14" descr="asl_pescara"/>
          <p:cNvPicPr/>
          <p:nvPr/>
        </p:nvPicPr>
        <p:blipFill>
          <a:blip r:embed="rId2"/>
          <a:stretch/>
        </p:blipFill>
        <p:spPr>
          <a:xfrm>
            <a:off x="8086680" y="0"/>
            <a:ext cx="1057320" cy="11016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2"/>
          <p:cNvSpPr/>
          <p:nvPr/>
        </p:nvSpPr>
        <p:spPr>
          <a:xfrm>
            <a:off x="1874880" y="415800"/>
            <a:ext cx="52387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ROGNOSI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71600" y="1663560"/>
          <a:ext cx="8286480" cy="4408560"/>
        </p:xfrm>
        <a:graphic>
          <a:graphicData uri="http://schemas.openxmlformats.org/drawingml/2006/table">
            <a:tbl>
              <a:tblPr/>
              <a:tblGrid>
                <a:gridCol w="8286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attori prognostici nel carcinoma della cervice uterina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ignificativi (influenzano la sopravvivenza)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tadio clinico FIGO (per gli stadi più iniziali il livello di infiltrazione stromale ed estensione orizzontale)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nteressamento dei linfonodi pelvici 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nteressamento dei linfonodi lomboaortici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mensione del  tumor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odello di crescita tumoral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nvasione dei parametri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nvasione linfovascolar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ipo istologico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ignificatività incerta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loidia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ipo di HPV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perespressione di COX-2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649440" y="6039000"/>
            <a:ext cx="4230360" cy="36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252360" y="6445080"/>
            <a:ext cx="610884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G. Bonadonna et al. Medicina Oncologica, VIII Edizione.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67840" y="250560"/>
            <a:ext cx="8418600" cy="648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14" descr="asl_pescara"/>
          <p:cNvPicPr/>
          <p:nvPr/>
        </p:nvPicPr>
        <p:blipFill>
          <a:blip r:embed="rId2"/>
          <a:stretch/>
        </p:blipFill>
        <p:spPr>
          <a:xfrm>
            <a:off x="8105760" y="0"/>
            <a:ext cx="1038240" cy="10825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530280" y="655560"/>
            <a:ext cx="744372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TADIO</a:t>
            </a:r>
            <a:br>
              <a:rPr sz="2400"/>
            </a:br>
            <a:br>
              <a:rPr sz="2400"/>
            </a:b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rettamente correlato al rischio di metastasi linfonodali e alla sopravvivenza. 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La sopravvivenza si riduce all’aumentare dello stadio.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662040" y="2209680"/>
          <a:ext cx="7988400" cy="4037040"/>
        </p:xfrm>
        <a:graphic>
          <a:graphicData uri="http://schemas.openxmlformats.org/drawingml/2006/table">
            <a:tbl>
              <a:tblPr/>
              <a:tblGrid>
                <a:gridCol w="4224240"/>
                <a:gridCol w="3764160"/>
              </a:tblGrid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cinoma spinocellulare della cervice uterina.   Sopravvivenza a 5 anni sec. stadio FIGO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tadio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opravvivenza a 5 anni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A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7,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A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4,8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B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9,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B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5,7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IA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3,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IB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5,8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IIA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9,7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IIB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1,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VA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2.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VB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.3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52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al 26 th FIGO Annual Report 200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79840" cy="694368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59840" y="0"/>
            <a:ext cx="8418600" cy="669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14" descr="asl_pescara"/>
          <p:cNvPicPr/>
          <p:nvPr/>
        </p:nvPicPr>
        <p:blipFill>
          <a:blip r:embed="rId2"/>
          <a:stretch/>
        </p:blipFill>
        <p:spPr>
          <a:xfrm>
            <a:off x="8004240" y="0"/>
            <a:ext cx="1139760" cy="1187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469800" y="519120"/>
            <a:ext cx="8115480" cy="2466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PROFONDITA’ DI INVASIONE STROMALE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fferenzia   IA1 (&lt; 3 mm) da   IA2 (&gt; 3 &lt; 5 mm). 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orrelata al rischio di metastasi LN e di recidiva locale (così come 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l’estensione orizzontale):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&lt; 3 mm: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N+ 0.2%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3-5 mm: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N+ 6.8%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6-10 mm: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N+ 14%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10-20mm: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N+ 46%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57200" y="4684680"/>
            <a:ext cx="840420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ff0066"/>
                </a:solidFill>
                <a:latin typeface="Comic Sans MS"/>
              </a:rPr>
              <a:t>               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ISTOLOGIA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Molti studi</a:t>
            </a: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non hanno dimostrato correlazioni significative tra i vari istotipi. 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Recente studio, differenza nella sopravvivenza a 5 anni: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Adenocarcinoma 69.7%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Carcinoma squamoso 60.5%.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Carcinoma a piccole cellule 35.7%.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374760" y="6365880"/>
            <a:ext cx="737856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Jergin C. et al. Incidence, Mortality and Prognostic Factors of Small Cell Carcinoma of the Cervix. Obstet Gynecol 2008 Jun; 111(6):1394-02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4427640" y="6643800"/>
            <a:ext cx="248292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Sigo. Linee Guida in Oncologia Ginecologica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>
            <a:off x="477720" y="3251160"/>
            <a:ext cx="8393400" cy="1098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INVASIONE LINFOVASCOLARE (LVSI)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La presenza di invasione degli spazi LV, pur non potendo essere considerato un fattore prognostico indipendente in termini di sopravvivenza e di recidiva ,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può influenzare il piano terapeutico.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268200" y="163440"/>
            <a:ext cx="8875800" cy="669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546120" y="1108080"/>
            <a:ext cx="8105760" cy="19875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47760" y="6521040"/>
            <a:ext cx="8585280" cy="337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7628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Benedetti-Panici P, Maneschi F, Scambia G, et al. Lymphatic spread of cervical cancer: an anatomical and pathological study based on 225 radical hysterectomies with systematic pelvic and aortic lymphadenectomy. Gynecol Oncol 1996;62:19–24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555480" y="3147840"/>
            <a:ext cx="3810240" cy="398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0000"/>
                </a:solidFill>
                <a:latin typeface="Tahoma"/>
              </a:rPr>
              <a:t>A.</a:t>
            </a:r>
            <a:r>
              <a:rPr b="1" i="1" lang="it-IT" sz="1000" spc="-1" strike="noStrike">
                <a:solidFill>
                  <a:srgbClr val="ffffff"/>
                </a:solidFill>
                <a:latin typeface="Tahoma"/>
              </a:rPr>
              <a:t> Distribution of pelvic node metastases in 14 patients with stage IB to IIA cervical cancer, tumor size &lt;4 cm </a:t>
            </a:r>
            <a:endParaRPr b="0" i="1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4808520" y="3132000"/>
            <a:ext cx="3825720" cy="550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0000"/>
                </a:solidFill>
                <a:latin typeface="Tahoma"/>
              </a:rPr>
              <a:t>B.</a:t>
            </a:r>
            <a:r>
              <a:rPr b="1" i="1" lang="it-IT" sz="1000" spc="-1" strike="noStrike">
                <a:solidFill>
                  <a:srgbClr val="ffffff"/>
                </a:solidFill>
                <a:latin typeface="Tahoma"/>
              </a:rPr>
              <a:t> Distribuition of pelvic node metastasis in 38 patients with locally advanced cervical cancer treated with neoadjuvant chemotherapy. </a:t>
            </a:r>
            <a:endParaRPr b="0" i="1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685080" y="709560"/>
            <a:ext cx="6582960" cy="312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rincipale fattore prognostico correlato a sopravvivenza e recidive. 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1992240" y="230040"/>
            <a:ext cx="59342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TATO LINFONODALE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563400" y="3787920"/>
            <a:ext cx="4015080" cy="17524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4529160" y="3789360"/>
            <a:ext cx="4106880" cy="17622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593640" y="5618160"/>
            <a:ext cx="3810240" cy="398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0000"/>
                </a:solidFill>
                <a:latin typeface="Comic Sans MS"/>
              </a:rPr>
              <a:t>C.</a:t>
            </a:r>
            <a:r>
              <a:rPr b="1" i="1" lang="it-IT" sz="1000" spc="-1" strike="noStrike">
                <a:solidFill>
                  <a:srgbClr val="ffffff"/>
                </a:solidFill>
                <a:latin typeface="Comic Sans MS"/>
              </a:rPr>
              <a:t> Distribution of aortiic node metastases in 2 patients with stage IB to IIA cervical cancer, tumor size &lt;4 cm </a:t>
            </a:r>
            <a:endParaRPr b="0" i="1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4822920" y="5627520"/>
            <a:ext cx="3825720" cy="550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0000"/>
                </a:solidFill>
                <a:latin typeface="Comic Sans MS"/>
              </a:rPr>
              <a:t>D.</a:t>
            </a:r>
            <a:r>
              <a:rPr b="1" i="1" lang="it-IT" sz="1000" spc="-1" strike="noStrike">
                <a:solidFill>
                  <a:srgbClr val="ffffff"/>
                </a:solidFill>
                <a:latin typeface="Comic Sans MS"/>
              </a:rPr>
              <a:t> Distribuition of aortic node metastasis in 5 patients with locally advanced cervical cancer treated with neoadjuvant chemotherapy. </a:t>
            </a:r>
            <a:endParaRPr b="0" i="1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546120" y="5318280"/>
            <a:ext cx="338040" cy="246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i="1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8377200" y="5294160"/>
            <a:ext cx="338040" cy="246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i="1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3457440" y="2089080"/>
            <a:ext cx="997200" cy="3556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806400" y="1471680"/>
            <a:ext cx="1092240" cy="368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7305840" y="2065320"/>
            <a:ext cx="1068120" cy="3556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4633920" y="1471680"/>
            <a:ext cx="1104840" cy="344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4697280" y="2185920"/>
            <a:ext cx="974880" cy="379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833400" y="2173320"/>
            <a:ext cx="1031760" cy="368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585720" y="4538520"/>
            <a:ext cx="879480" cy="331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4664160" y="4572000"/>
            <a:ext cx="866520" cy="357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1762200" y="3801960"/>
            <a:ext cx="1412640" cy="273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5823000" y="3905280"/>
            <a:ext cx="1627200" cy="250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513240" y="4527720"/>
            <a:ext cx="1046160" cy="355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>
            <a:off x="7677000" y="4594320"/>
            <a:ext cx="938520" cy="296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7840" y="221760"/>
            <a:ext cx="8875800" cy="649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1636560" y="469800"/>
            <a:ext cx="59342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TATO LINFONODALE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717480" y="846000"/>
          <a:ext cx="8016840" cy="2878200"/>
        </p:xfrm>
        <a:graphic>
          <a:graphicData uri="http://schemas.openxmlformats.org/drawingml/2006/table">
            <a:tbl>
              <a:tblPr/>
              <a:tblGrid>
                <a:gridCol w="1779480"/>
                <a:gridCol w="2229120"/>
                <a:gridCol w="4008240"/>
              </a:tblGrid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requenza indicativa delle metastasi linfonodali istologiche nel Ca della cervice uterina *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tadio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 </a:t>
                      </a: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tastasi linfonodali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elviche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omboaortiche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b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Ia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Ib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</a:t>
                      </a: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II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-29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-38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6-57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7-50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-6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,5-29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4-34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* Dati della letteratura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4842000" y="2346480"/>
            <a:ext cx="93600" cy="639720"/>
          </a:xfrm>
          <a:custGeom>
            <a:avLst/>
            <a:gdLst>
              <a:gd name="textAreaLeft" fmla="*/ 0 w 93600"/>
              <a:gd name="textAreaRight" fmla="*/ 33840 w 93600"/>
              <a:gd name="textAreaTop" fmla="*/ 16560 h 639720"/>
              <a:gd name="textAreaBottom" fmla="*/ 62316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717480" y="4305240"/>
          <a:ext cx="8007120" cy="1550880"/>
        </p:xfrm>
        <a:graphic>
          <a:graphicData uri="http://schemas.openxmlformats.org/drawingml/2006/table">
            <a:tbl>
              <a:tblPr/>
              <a:tblGrid>
                <a:gridCol w="4003920"/>
                <a:gridCol w="4003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nteressamento linfonodal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opravvivenza a 5 anni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+ pelvici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5-78%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+ para-aortici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-40%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+ pelvici e para-aortici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-18%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888840" y="3889440"/>
            <a:ext cx="749304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Comic Sans MS"/>
              </a:rPr>
              <a:t>Sopravvivenza a 5 anni in funzione dell’interessamento linfonodale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619200" y="6022800"/>
            <a:ext cx="8283600" cy="580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A parità di stadio clinico, le pz operate con LN+, hanno una sopravvivenza a 5 aa di circa la metà delle pz con LN -.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4468680" y="6629400"/>
            <a:ext cx="222408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ffffff"/>
                </a:solidFill>
                <a:latin typeface="Comic Sans MS"/>
              </a:rPr>
              <a:t>26 th FIGO Annual Report 2006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271440" y="469800"/>
            <a:ext cx="86518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254160" y="303120"/>
          <a:ext cx="8508600" cy="2744640"/>
        </p:xfrm>
        <a:graphic>
          <a:graphicData uri="http://schemas.openxmlformats.org/drawingml/2006/table">
            <a:tbl>
              <a:tblPr/>
              <a:tblGrid>
                <a:gridCol w="2632320"/>
                <a:gridCol w="1252800"/>
                <a:gridCol w="1431360"/>
                <a:gridCol w="1505880"/>
                <a:gridCol w="1686240"/>
              </a:tblGrid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opravvivenza a 5 anni nei confronti dello stato LN Pelvici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+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. casi   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opravv.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. casi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opravv.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iu e Meigs, 199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1                                   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8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iver, 197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1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8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5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rtinbeau, 198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6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2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3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guchi, 1987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9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1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9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lgado, 199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4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6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4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urghardt, 199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9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9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7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4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258840" y="3030480"/>
          <a:ext cx="8516880" cy="3675240"/>
        </p:xfrm>
        <a:graphic>
          <a:graphicData uri="http://schemas.openxmlformats.org/drawingml/2006/table">
            <a:tbl>
              <a:tblPr/>
              <a:tblGrid>
                <a:gridCol w="2620800"/>
                <a:gridCol w="2702160"/>
                <a:gridCol w="1474560"/>
                <a:gridCol w="1719360"/>
              </a:tblGrid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opravvivenza a 5 anni nei confronti dello stato LN paraortici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tadio FIGO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. casi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opravv.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ubin, 198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B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7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rookland, 198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B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8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rawford, 1987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B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o Vecchio, 1989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B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ughes, 198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B2-IV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9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iver, 198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B2-IV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elander, 198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B2-IV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5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erman, 198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B2-IV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8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5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odsczaki, 199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B2-IV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igliotti, 199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B2-IV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5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190080"/>
            <a:ext cx="8542440" cy="666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4" descr="asl_pescara"/>
          <p:cNvPicPr/>
          <p:nvPr/>
        </p:nvPicPr>
        <p:blipFill>
          <a:blip r:embed="rId2"/>
          <a:stretch/>
        </p:blipFill>
        <p:spPr>
          <a:xfrm>
            <a:off x="8163000" y="0"/>
            <a:ext cx="981000" cy="1022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227160"/>
            <a:ext cx="7362720" cy="53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RCINOMA DELLA CERVICE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INCIDENZA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NEL MONDO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~500.000 nuovi casi/anno con differenze geografiche  di incidenza  dovute 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ai programmi di screening (</a:t>
            </a:r>
            <a:r>
              <a:rPr b="0" lang="en-US" sz="1400" spc="-1" strike="noStrike">
                <a:solidFill>
                  <a:srgbClr val="ff0000"/>
                </a:solidFill>
                <a:latin typeface="Comic Sans MS"/>
                <a:ea typeface="Arial"/>
              </a:rPr>
              <a:t>l’80% dei casi nei Paesi in via di Sviluppo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).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  <a:ea typeface="Arial"/>
              </a:rPr>
              <a:t>3° causa di morte nelle donne (&gt;50% muore per malattia).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USA 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Comic Sans MS"/>
              </a:rPr>
              <a:t>Incidenza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omic Sans MS"/>
              </a:rPr>
              <a:t>: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8.2/100.000/anno.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Comic Sans MS"/>
              </a:rPr>
              <a:t>Mortalità: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.5/100.000/anno.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Stimati, nel 2009, 11.270 nuovi casi con 4.070 morti per malattia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EUROPA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Comic Sans MS"/>
              </a:rPr>
              <a:t>Incidenza: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3.2/100.000/anno (più di 33.000 nuovi casi). 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Comic Sans MS"/>
              </a:rPr>
              <a:t>Mortalità: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5.9/100.000/anno (circa 15.000 donne).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Tahoma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Tahoma"/>
              </a:rPr>
              <a:t>ITALIA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Tahoma"/>
              </a:rPr>
              <a:t>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Comic Sans MS"/>
                <a:ea typeface="Tahoma"/>
              </a:rPr>
              <a:t>Incidenza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omic Sans MS"/>
                <a:ea typeface="Tahoma"/>
              </a:rPr>
              <a:t>: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Tahoma"/>
              </a:rPr>
              <a:t>     </a:t>
            </a:r>
            <a:r>
              <a:rPr b="0" lang="en-US" sz="1400" spc="-1" strike="noStrike">
                <a:solidFill>
                  <a:srgbClr val="ff0000"/>
                </a:solidFill>
                <a:latin typeface="Comic Sans MS"/>
                <a:ea typeface="Tahoma"/>
              </a:rPr>
              <a:t>9.8/100.000/anno (3.418 nuovi casi ogni anno)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Tahoma"/>
              </a:rPr>
              <a:t>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Comic Sans MS"/>
                <a:ea typeface="Tahoma"/>
              </a:rPr>
              <a:t>Mortalità: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Tahoma"/>
              </a:rPr>
              <a:t>     </a:t>
            </a:r>
            <a:r>
              <a:rPr b="0" lang="en-US" sz="1400" spc="-1" strike="noStrike">
                <a:solidFill>
                  <a:srgbClr val="ff0000"/>
                </a:solidFill>
                <a:latin typeface="Comic Sans MS"/>
                <a:ea typeface="Tahoma"/>
              </a:rPr>
              <a:t>1.186 nel 2002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185760" y="6138720"/>
            <a:ext cx="290844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2.Global Cancer Facts </a:t>
            </a:r>
            <a:r>
              <a:rPr b="1" i="1" lang="en-US" sz="800" spc="-1" strike="noStrike">
                <a:solidFill>
                  <a:srgbClr val="ffffff"/>
                </a:solidFill>
                <a:latin typeface="Tahoma"/>
              </a:rPr>
              <a:t>&amp; Figures 2007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93680" y="5958000"/>
            <a:ext cx="824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1.Ferlay J. Et al. eds. Globocan 2002; Cancer incidence,  mortality and prevalence worldwide. IARC Cancer Base N.5 version 2.0. IARC Press, Lyon 2004. 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Text Box 106"/>
          <p:cNvSpPr/>
          <p:nvPr/>
        </p:nvSpPr>
        <p:spPr>
          <a:xfrm>
            <a:off x="179280" y="6311880"/>
            <a:ext cx="354960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3.Cancer Facts </a:t>
            </a:r>
            <a:r>
              <a:rPr b="1" i="1" lang="en-US" sz="800" spc="-1" strike="noStrike">
                <a:solidFill>
                  <a:srgbClr val="ffffff"/>
                </a:solidFill>
                <a:latin typeface="Tahoma"/>
              </a:rPr>
              <a:t>&amp; Figures 2009 (American Cancer Society)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Text Box 106"/>
          <p:cNvSpPr/>
          <p:nvPr/>
        </p:nvSpPr>
        <p:spPr>
          <a:xfrm>
            <a:off x="7413480" y="4051440"/>
            <a:ext cx="1602000" cy="400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0000"/>
                </a:solidFill>
                <a:latin typeface="Tahoma"/>
              </a:rPr>
              <a:t>Surveillance, Epidemiology 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0000"/>
                </a:solidFill>
                <a:latin typeface="Tahoma"/>
              </a:rPr>
              <a:t>and End Results (SEER)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169920" y="6485040"/>
            <a:ext cx="872964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Tahoma"/>
              </a:rPr>
              <a:t>4.Haie-Meder C. et al. Cervical cancer: ESMO Clinical Recommendations for diagnosis, treatment and follow-up. Annals of Oncology 20 (Supp 4):iv27-iv28, 2009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184320" y="6643800"/>
            <a:ext cx="830412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Tahoma"/>
              </a:rPr>
              <a:t>5.AIRTum: i Tumori in Italia – Rapporto 2006. I dati di inidenza e mortalità dei Registri Tumori generali, 1998-2002. Epidemiol Prev, Suppl 2: 1-148, 2006.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70800" y="2181240"/>
          <a:ext cx="1284120" cy="1828800"/>
        </p:xfrm>
        <a:graphic>
          <a:graphicData uri="http://schemas.openxmlformats.org/drawingml/2006/table">
            <a:tbl>
              <a:tblPr/>
              <a:tblGrid>
                <a:gridCol w="515880"/>
                <a:gridCol w="76824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10199"/>
                          </a:solidFill>
                          <a:latin typeface="Comic Sans MS"/>
                        </a:rPr>
                        <a:t>&lt;20</a:t>
                      </a:r>
                      <a:endParaRPr b="0" i="1" lang="en-US" sz="9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c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10199"/>
                          </a:solidFill>
                          <a:latin typeface="Comic Sans MS"/>
                        </a:rPr>
                        <a:t>0.2%</a:t>
                      </a:r>
                      <a:endParaRPr b="0" i="1" lang="en-US" sz="9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ca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10199"/>
                          </a:solidFill>
                          <a:latin typeface="Comic Sans MS"/>
                        </a:rPr>
                        <a:t>20-34</a:t>
                      </a:r>
                      <a:endParaRPr b="0" i="1" lang="en-US" sz="9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c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10199"/>
                          </a:solidFill>
                          <a:latin typeface="Comic Sans MS"/>
                        </a:rPr>
                        <a:t>14.9%</a:t>
                      </a:r>
                      <a:endParaRPr b="0" i="1" lang="en-US" sz="9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ca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10199"/>
                          </a:solidFill>
                          <a:latin typeface="Comic Sans MS"/>
                        </a:rPr>
                        <a:t>35-44</a:t>
                      </a:r>
                      <a:endParaRPr b="0" i="1" lang="en-US" sz="9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c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10199"/>
                          </a:solidFill>
                          <a:latin typeface="Comic Sans MS"/>
                        </a:rPr>
                        <a:t>26.2%</a:t>
                      </a:r>
                      <a:endParaRPr b="0" i="1" lang="en-US" sz="9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ca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10199"/>
                          </a:solidFill>
                          <a:latin typeface="Comic Sans MS"/>
                        </a:rPr>
                        <a:t>45-54</a:t>
                      </a:r>
                      <a:endParaRPr b="0" i="1" lang="en-US" sz="9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c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10199"/>
                          </a:solidFill>
                          <a:latin typeface="Comic Sans MS"/>
                        </a:rPr>
                        <a:t>23.5%</a:t>
                      </a:r>
                      <a:endParaRPr b="0" i="1" lang="en-US" sz="9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ca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10199"/>
                          </a:solidFill>
                          <a:latin typeface="Comic Sans MS"/>
                        </a:rPr>
                        <a:t>55-64</a:t>
                      </a:r>
                      <a:endParaRPr b="0" i="1" lang="en-US" sz="9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c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10199"/>
                          </a:solidFill>
                          <a:latin typeface="Comic Sans MS"/>
                        </a:rPr>
                        <a:t>15.8%</a:t>
                      </a:r>
                      <a:endParaRPr b="0" i="1" lang="en-US" sz="9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ca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10199"/>
                          </a:solidFill>
                          <a:latin typeface="Comic Sans MS"/>
                        </a:rPr>
                        <a:t>65-74</a:t>
                      </a:r>
                      <a:endParaRPr b="0" i="1" lang="en-US" sz="9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c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10199"/>
                          </a:solidFill>
                          <a:latin typeface="Comic Sans MS"/>
                        </a:rPr>
                        <a:t>10.4%</a:t>
                      </a:r>
                      <a:endParaRPr b="0" i="1" lang="en-US" sz="9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ca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10199"/>
                          </a:solidFill>
                          <a:latin typeface="Comic Sans MS"/>
                        </a:rPr>
                        <a:t>75-84</a:t>
                      </a:r>
                      <a:endParaRPr b="0" i="1" lang="en-US" sz="9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c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10199"/>
                          </a:solidFill>
                          <a:latin typeface="Comic Sans MS"/>
                        </a:rPr>
                        <a:t>6.6%</a:t>
                      </a:r>
                      <a:endParaRPr b="0" i="1" lang="en-US" sz="9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ca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10199"/>
                          </a:solidFill>
                          <a:latin typeface="Comic Sans MS"/>
                        </a:rPr>
                        <a:t>&gt;85</a:t>
                      </a:r>
                      <a:endParaRPr b="0" i="1" lang="en-US" sz="9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c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10199"/>
                          </a:solidFill>
                          <a:latin typeface="Comic Sans MS"/>
                        </a:rPr>
                        <a:t>2.5%</a:t>
                      </a:r>
                      <a:endParaRPr b="0" i="1" lang="en-US" sz="9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ca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7561440" y="1924200"/>
          <a:ext cx="1299960" cy="242640"/>
        </p:xfrm>
        <a:graphic>
          <a:graphicData uri="http://schemas.openxmlformats.org/drawingml/2006/table">
            <a:tbl>
              <a:tblPr/>
              <a:tblGrid>
                <a:gridCol w="514080"/>
                <a:gridCol w="785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65700"/>
                          </a:solidFill>
                          <a:latin typeface="Tahoma"/>
                        </a:rPr>
                        <a:t>Età </a:t>
                      </a:r>
                      <a:endParaRPr b="0" i="1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b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65700"/>
                          </a:solidFill>
                          <a:latin typeface="Tahoma"/>
                        </a:rPr>
                        <a:t>Incidenza</a:t>
                      </a:r>
                      <a:endParaRPr b="0" i="1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b37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7481880" y="2616120"/>
            <a:ext cx="1247760" cy="530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67840" y="250560"/>
            <a:ext cx="8418600" cy="66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318960" y="1339920"/>
            <a:ext cx="82296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314280" y="271440"/>
            <a:ext cx="8229600" cy="61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DIMENSIONE DEL TUMORE  -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Correlazione tra dimensione del tumore e 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&gt;  Invasione linfonodale 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&gt;  Recidive e/o metastasi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&lt;  Sopravvivenza a 5 anni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OINVOLGIMENTO PARAMETRIALE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7.7% dei casi di neoplasia in stadio iniziale. 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T &gt; 2cm (14% p=0.001).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Grading (G3: 12%, G1/2: 3%, p= 0.01).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LVSI: (12% p=0.002).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N+ pelvici (31% p&lt; 0.001).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&lt;  SOPRAVVIVENZA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it-IT" sz="16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it-IT" sz="16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it-IT" sz="1600" spc="-1" strike="noStrike">
                <a:solidFill>
                  <a:srgbClr val="ff0066"/>
                </a:solidFill>
                <a:latin typeface="Comic Sans MS"/>
              </a:rPr>
              <a:t>	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293760" y="6643800"/>
            <a:ext cx="868356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Frumovitz M. Parametrial Involvement in Radical Hysterectomy Specimens for Women With Early Stage Cervical Cancer. Obstet Gynecol 2009 Jul: 114(1):93-99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4830840" y="839880"/>
          <a:ext cx="3743280" cy="1092240"/>
        </p:xfrm>
        <a:graphic>
          <a:graphicData uri="http://schemas.openxmlformats.org/drawingml/2006/table">
            <a:tbl>
              <a:tblPr/>
              <a:tblGrid>
                <a:gridCol w="2168280"/>
                <a:gridCol w="157500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chio di LN+ in funzione del diametro tumorale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metro tumorale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+ pelvici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 3 cm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-21%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 3 cm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-44%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Text Box 4"/>
          <p:cNvSpPr/>
          <p:nvPr/>
        </p:nvSpPr>
        <p:spPr>
          <a:xfrm>
            <a:off x="317520" y="6507000"/>
            <a:ext cx="230976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FIGO Annual Report 2006; vol. 26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4229280" y="285840"/>
            <a:ext cx="4203360" cy="337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RAPPORTO TUMORE/CERVICE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128600" y="2281320"/>
          <a:ext cx="6791400" cy="1911240"/>
        </p:xfrm>
        <a:graphic>
          <a:graphicData uri="http://schemas.openxmlformats.org/drawingml/2006/table">
            <a:tbl>
              <a:tblPr/>
              <a:tblGrid>
                <a:gridCol w="1357560"/>
                <a:gridCol w="1358640"/>
                <a:gridCol w="1359000"/>
                <a:gridCol w="1359000"/>
                <a:gridCol w="13572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pporto %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K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inocell.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. casi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pravv.%5 aa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. casi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pravv. %5 aa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20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-40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-60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-80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-100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"/>
          <p:cNvSpPr/>
          <p:nvPr/>
        </p:nvSpPr>
        <p:spPr>
          <a:xfrm>
            <a:off x="7174080" y="4299120"/>
            <a:ext cx="170496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Burghardt e Girardi, 1994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67840" y="250560"/>
            <a:ext cx="8875800" cy="66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3098880" y="298440"/>
            <a:ext cx="31208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ONCLUSIONI   I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473040" y="1316160"/>
            <a:ext cx="836604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Stratificazione delle categorie di rischio in base ai presenza fattori prognostici: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u="sng">
                <a:solidFill>
                  <a:srgbClr val="ff0000"/>
                </a:solidFill>
                <a:uFillTx/>
                <a:latin typeface="Tahoma"/>
              </a:rPr>
              <a:t>Basso rischio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IA1, IA2, IB1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u="sng">
                <a:solidFill>
                  <a:srgbClr val="ff0000"/>
                </a:solidFill>
                <a:uFillTx/>
                <a:latin typeface="Tahoma"/>
              </a:rPr>
              <a:t>Rischio intermedio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Se presenti almeno 2 dei 3 fattori patologici: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Invasione dello spazio linfovascolare, tumore maggiore di 4 cm, invasione di &gt;1/3 dello stroma cervicale.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u="sng">
                <a:solidFill>
                  <a:srgbClr val="ff0000"/>
                </a:solidFill>
                <a:uFillTx/>
                <a:latin typeface="Tahoma"/>
              </a:rPr>
              <a:t>Alto rischio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Margini positivi, estensione ai tessuti molli, paravaginali o paracervicali, cupola vaginale, LN pelvici positivi.</a:t>
            </a:r>
            <a:r>
              <a:rPr b="1" i="1" lang="it-IT" sz="18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Rettangolo 3"/>
          <p:cNvSpPr/>
          <p:nvPr/>
        </p:nvSpPr>
        <p:spPr>
          <a:xfrm>
            <a:off x="409680" y="6350040"/>
            <a:ext cx="8102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Tahoma"/>
              </a:rPr>
              <a:t>Harry J. et al. Prevention, Diagnosis and Treatment of Cervical Cancer. Mayo Clinic Proc. 2007;82(12):1566-1574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Rettangolo 3"/>
          <p:cNvSpPr/>
          <p:nvPr/>
        </p:nvSpPr>
        <p:spPr>
          <a:xfrm>
            <a:off x="406440" y="6572160"/>
            <a:ext cx="8102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Tahoma"/>
              </a:rPr>
              <a:t>Practice Guidelines in Oncology-v.1.2010. National Comprehensive Cancer Network.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44" name="Picture 14" descr="asl_pescara"/>
          <p:cNvPicPr/>
          <p:nvPr/>
        </p:nvPicPr>
        <p:blipFill>
          <a:blip r:embed="rId2"/>
          <a:stretch/>
        </p:blipFill>
        <p:spPr>
          <a:xfrm>
            <a:off x="8178840" y="0"/>
            <a:ext cx="9651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67840" y="250560"/>
            <a:ext cx="8875800" cy="66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7248600" y="2957400"/>
          <a:ext cx="1419120" cy="1943280"/>
        </p:xfrm>
        <a:graphic>
          <a:graphicData uri="http://schemas.openxmlformats.org/drawingml/2006/table">
            <a:tbl>
              <a:tblPr/>
              <a:tblGrid>
                <a:gridCol w="606240"/>
                <a:gridCol w="81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23100"/>
                          </a:solidFill>
                          <a:latin typeface="Comic Sans MS"/>
                        </a:rPr>
                        <a:t>&lt;20</a:t>
                      </a:r>
                      <a:endParaRPr b="0" i="1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c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23100"/>
                          </a:solidFill>
                          <a:latin typeface="Comic Sans MS"/>
                        </a:rPr>
                        <a:t>0%</a:t>
                      </a:r>
                      <a:endParaRPr b="0" i="1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ca0">
                        <a:alpha val="50000"/>
                      </a:srgbClr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23100"/>
                          </a:solidFill>
                          <a:latin typeface="Comic Sans MS"/>
                        </a:rPr>
                        <a:t>20-34</a:t>
                      </a:r>
                      <a:endParaRPr b="0" i="1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c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23100"/>
                          </a:solidFill>
                          <a:latin typeface="Comic Sans MS"/>
                        </a:rPr>
                        <a:t>1.5%</a:t>
                      </a:r>
                      <a:endParaRPr b="0" i="1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ca0">
                        <a:alpha val="50000"/>
                      </a:srgbClr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23100"/>
                          </a:solidFill>
                          <a:latin typeface="Comic Sans MS"/>
                        </a:rPr>
                        <a:t>35-44</a:t>
                      </a:r>
                      <a:endParaRPr b="0" i="1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c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23100"/>
                          </a:solidFill>
                          <a:latin typeface="Comic Sans MS"/>
                        </a:rPr>
                        <a:t>6.4%</a:t>
                      </a:r>
                      <a:endParaRPr b="0" i="1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ca0">
                        <a:alpha val="50000"/>
                      </a:srgbClr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23100"/>
                          </a:solidFill>
                          <a:latin typeface="Comic Sans MS"/>
                        </a:rPr>
                        <a:t>45-54</a:t>
                      </a:r>
                      <a:endParaRPr b="0" i="1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c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23100"/>
                          </a:solidFill>
                          <a:latin typeface="Comic Sans MS"/>
                        </a:rPr>
                        <a:t>19.0%</a:t>
                      </a:r>
                      <a:endParaRPr b="0" i="1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ca0">
                        <a:alpha val="50000"/>
                      </a:srgbClr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23100"/>
                          </a:solidFill>
                          <a:latin typeface="Comic Sans MS"/>
                        </a:rPr>
                        <a:t>55-64</a:t>
                      </a:r>
                      <a:endParaRPr b="0" i="1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c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23100"/>
                          </a:solidFill>
                          <a:latin typeface="Comic Sans MS"/>
                        </a:rPr>
                        <a:t>29.9%</a:t>
                      </a:r>
                      <a:endParaRPr b="0" i="1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ca0">
                        <a:alpha val="50000"/>
                      </a:srgbClr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23100"/>
                          </a:solidFill>
                          <a:latin typeface="Comic Sans MS"/>
                        </a:rPr>
                        <a:t>65-74</a:t>
                      </a:r>
                      <a:endParaRPr b="0" i="1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c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23100"/>
                          </a:solidFill>
                          <a:latin typeface="Comic Sans MS"/>
                        </a:rPr>
                        <a:t>10.4%</a:t>
                      </a:r>
                      <a:endParaRPr b="0" i="1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ca0">
                        <a:alpha val="50000"/>
                      </a:srgbClr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23100"/>
                          </a:solidFill>
                          <a:latin typeface="Comic Sans MS"/>
                        </a:rPr>
                        <a:t>75-84</a:t>
                      </a:r>
                      <a:endParaRPr b="0" i="1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c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23100"/>
                          </a:solidFill>
                          <a:latin typeface="Comic Sans MS"/>
                        </a:rPr>
                        <a:t>6.6%</a:t>
                      </a:r>
                      <a:endParaRPr b="0" i="1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ca0">
                        <a:alpha val="50000"/>
                      </a:srgbClr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23100"/>
                          </a:solidFill>
                          <a:latin typeface="Comic Sans MS"/>
                        </a:rPr>
                        <a:t>&gt;85</a:t>
                      </a:r>
                      <a:endParaRPr b="0" i="1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c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23100"/>
                          </a:solidFill>
                          <a:latin typeface="Comic Sans MS"/>
                        </a:rPr>
                        <a:t>2.5%</a:t>
                      </a:r>
                      <a:endParaRPr b="0" i="1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ca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7219800" y="2714760"/>
          <a:ext cx="1449000" cy="242640"/>
        </p:xfrm>
        <a:graphic>
          <a:graphicData uri="http://schemas.openxmlformats.org/drawingml/2006/table">
            <a:tbl>
              <a:tblPr/>
              <a:tblGrid>
                <a:gridCol w="1449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663300"/>
                          </a:solidFill>
                          <a:latin typeface="Comic Sans MS"/>
                        </a:rPr>
                        <a:t>Età      Incidenza</a:t>
                      </a:r>
                      <a:endParaRPr b="0" i="1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sp>
        <p:nvSpPr>
          <p:cNvPr id="350" name="Text Box 11"/>
          <p:cNvSpPr/>
          <p:nvPr/>
        </p:nvSpPr>
        <p:spPr>
          <a:xfrm>
            <a:off x="477720" y="3960720"/>
            <a:ext cx="6050160" cy="879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Comic Sans MS"/>
              </a:rPr>
              <a:t>2002-2006:</a:t>
            </a:r>
            <a:r>
              <a:rPr b="0" lang="it-IT" sz="1500" spc="-1" strike="noStrike">
                <a:solidFill>
                  <a:srgbClr val="ff0000"/>
                </a:solidFill>
                <a:latin typeface="Comic Sans MS"/>
              </a:rPr>
              <a:t> età mediana alla diagnosi 62 aa e alla morte 72 aa.</a:t>
            </a:r>
            <a:endParaRPr b="0" i="1" lang="en-US" sz="15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 u="sng">
                <a:solidFill>
                  <a:srgbClr val="ffffff"/>
                </a:solidFill>
                <a:uFillTx/>
                <a:latin typeface="Comic Sans MS"/>
              </a:rPr>
              <a:t>Incidenza:</a:t>
            </a:r>
            <a:r>
              <a:rPr b="1" lang="it-IT" sz="1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15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500" spc="-1" strike="noStrike">
                <a:solidFill>
                  <a:srgbClr val="ffffff"/>
                </a:solidFill>
                <a:latin typeface="Comic Sans MS"/>
              </a:rPr>
              <a:t>23.3/100.000/anno.</a:t>
            </a:r>
            <a:endParaRPr b="0" i="1" lang="en-US" sz="15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 u="sng">
                <a:solidFill>
                  <a:srgbClr val="ffffff"/>
                </a:solidFill>
                <a:uFillTx/>
                <a:latin typeface="Comic Sans MS"/>
              </a:rPr>
              <a:t>Mortalità:</a:t>
            </a:r>
            <a:r>
              <a:rPr b="1" lang="it-IT" sz="1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15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it-IT" sz="1500" spc="-1" strike="noStrike">
                <a:solidFill>
                  <a:srgbClr val="ffffff"/>
                </a:solidFill>
                <a:latin typeface="Comic Sans MS"/>
              </a:rPr>
              <a:t>4.1/100.000/anno.</a:t>
            </a:r>
            <a:endParaRPr b="0" i="1" lang="en-US" sz="1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Text Box 106"/>
          <p:cNvSpPr/>
          <p:nvPr/>
        </p:nvSpPr>
        <p:spPr>
          <a:xfrm>
            <a:off x="298440" y="6491160"/>
            <a:ext cx="332892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1.Cancer Facts </a:t>
            </a:r>
            <a:r>
              <a:rPr b="1" i="1" lang="en-US" sz="800" spc="-1" strike="noStrike">
                <a:solidFill>
                  <a:srgbClr val="ffffff"/>
                </a:solidFill>
                <a:latin typeface="Tahoma"/>
              </a:rPr>
              <a:t>&amp; Figures 2009 (American Cancer Society);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2" name="Text Box 107"/>
          <p:cNvSpPr/>
          <p:nvPr/>
        </p:nvSpPr>
        <p:spPr>
          <a:xfrm>
            <a:off x="6338880" y="6500880"/>
            <a:ext cx="291960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3.SEER: Surveillance Epidemiology and End Results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420840" y="3056040"/>
            <a:ext cx="6121080" cy="495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Comic Sans MS"/>
              </a:rPr>
              <a:t>INCIDENZA/MORTALITA’ SEER</a:t>
            </a:r>
            <a:r>
              <a:rPr b="1" i="1" lang="it-IT" sz="18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1" i="1" lang="it-IT" sz="1400" spc="-1" strike="noStrike">
                <a:solidFill>
                  <a:srgbClr val="b2b2b2"/>
                </a:solidFill>
                <a:latin typeface="Comic Sans MS"/>
              </a:rPr>
              <a:t>(</a:t>
            </a:r>
            <a:r>
              <a:rPr b="1" i="1" lang="it-IT" sz="1400" spc="-1" strike="noStrike">
                <a:solidFill>
                  <a:srgbClr val="ffffff"/>
                </a:solidFill>
                <a:latin typeface="Comic Sans MS"/>
              </a:rPr>
              <a:t>National Cancer Institute’s Surveillance, Epidemiology and End Results)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501480" y="5168880"/>
            <a:ext cx="8410680" cy="1039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omic Sans MS"/>
              </a:rPr>
              <a:t>Negli US,  42.160 nuovi casi stimati nel 2009 (6%) con 7.780 (3%) morti per malattia. </a:t>
            </a:r>
            <a:endParaRPr b="0" i="1" lang="en-US" sz="15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1500" spc="-1" strike="noStrike">
                <a:solidFill>
                  <a:srgbClr val="ff0000"/>
                </a:solidFill>
                <a:latin typeface="Comic Sans MS"/>
              </a:rPr>
              <a:t>Mortalità stabile dal 1991</a:t>
            </a:r>
            <a:r>
              <a:rPr b="0" lang="en-US" sz="1500" spc="-1" strike="noStrike">
                <a:solidFill>
                  <a:srgbClr val="ffffff"/>
                </a:solidFill>
                <a:latin typeface="Comic Sans MS"/>
              </a:rPr>
              <a:t>, dopo una diminuzione media di 1.6% per anno dal 1975 al 1991. </a:t>
            </a:r>
            <a:endParaRPr b="0" i="1" lang="en-US" sz="1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1940040" y="328680"/>
            <a:ext cx="49003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Carcinoma endometrio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Rettangolo 8"/>
          <p:cNvSpPr/>
          <p:nvPr/>
        </p:nvSpPr>
        <p:spPr>
          <a:xfrm>
            <a:off x="3352680" y="6488280"/>
            <a:ext cx="323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2.Cancer Statistics</a:t>
            </a:r>
            <a:r>
              <a:rPr b="1" i="1" lang="en-US" sz="800" spc="-1" strike="noStrike">
                <a:solidFill>
                  <a:srgbClr val="ffffff"/>
                </a:solidFill>
                <a:latin typeface="Tahoma"/>
              </a:rPr>
              <a:t> 2009. American Cancer Society 2009;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57" name="Picture 14" descr="asl_pescara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8888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384120" y="1082520"/>
            <a:ext cx="8489880" cy="1701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938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omic Sans MS"/>
              </a:rPr>
              <a:t>Settima neoplasia</a:t>
            </a:r>
            <a:r>
              <a:rPr b="0" lang="en-US" sz="1500" spc="-1" strike="noStrike">
                <a:solidFill>
                  <a:srgbClr val="ffffff"/>
                </a:solidFill>
                <a:latin typeface="Comic Sans MS"/>
              </a:rPr>
              <a:t> più comune con </a:t>
            </a:r>
            <a:r>
              <a:rPr b="0" lang="en-US" sz="1500" spc="-1" strike="noStrike">
                <a:solidFill>
                  <a:srgbClr val="ffffff"/>
                </a:solidFill>
                <a:latin typeface="Comic Sans MS"/>
                <a:ea typeface="Arial"/>
              </a:rPr>
              <a:t>differenze geografiche  di incidenza dovuta ai fattori di rischio</a:t>
            </a:r>
            <a:r>
              <a:rPr b="0" lang="en-US" sz="15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i="1" lang="en-US" sz="15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spcBef>
                <a:spcPts val="938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omic Sans MS"/>
              </a:rPr>
              <a:t>Incidenza più bassa nei Paesi meno Sviluppati</a:t>
            </a:r>
            <a:r>
              <a:rPr b="0" lang="en-US" sz="1500" spc="-1" strike="noStrike">
                <a:solidFill>
                  <a:srgbClr val="ffffff"/>
                </a:solidFill>
                <a:latin typeface="Comic Sans MS"/>
              </a:rPr>
              <a:t> per fattori di rischio meno comuni, ma mortalità specifica per malattia più elevata.</a:t>
            </a:r>
            <a:endParaRPr b="0" i="1" lang="en-US" sz="15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spcBef>
                <a:spcPts val="938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omic Sans MS"/>
              </a:rPr>
              <a:t>L’incidenza aumenta con l’aumentare dell’aspettativa di vita</a:t>
            </a:r>
            <a:r>
              <a:rPr b="0" lang="en-US" sz="1500" spc="-1" strike="noStrike">
                <a:solidFill>
                  <a:srgbClr val="ffffff"/>
                </a:solidFill>
                <a:latin typeface="Comic Sans MS"/>
              </a:rPr>
              <a:t> e questo incremento è stato associato con l’obesità a la scarsa attività fisica.</a:t>
            </a:r>
            <a:endParaRPr b="0" i="1" lang="en-US" sz="1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9" name=""/>
          <p:cNvSpPr/>
          <p:nvPr/>
        </p:nvSpPr>
        <p:spPr>
          <a:xfrm>
            <a:off x="7191360" y="3924360"/>
            <a:ext cx="1371600" cy="3142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67840" y="193320"/>
            <a:ext cx="8875800" cy="649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14" descr="asl_pescara"/>
          <p:cNvPicPr/>
          <p:nvPr/>
        </p:nvPicPr>
        <p:blipFill>
          <a:blip r:embed="rId2"/>
          <a:stretch/>
        </p:blipFill>
        <p:spPr>
          <a:xfrm>
            <a:off x="8124840" y="0"/>
            <a:ext cx="1019160" cy="10810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5"/>
          <p:cNvSpPr/>
          <p:nvPr/>
        </p:nvSpPr>
        <p:spPr>
          <a:xfrm>
            <a:off x="2552760" y="281160"/>
            <a:ext cx="28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UNIONE EUROPEA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5" name="CasellaDiTesto 3"/>
          <p:cNvSpPr/>
          <p:nvPr/>
        </p:nvSpPr>
        <p:spPr>
          <a:xfrm>
            <a:off x="469800" y="969840"/>
            <a:ext cx="84582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ffff"/>
                </a:solidFill>
                <a:uFillTx/>
                <a:latin typeface="Comic Sans MS"/>
              </a:rPr>
              <a:t>Incidenza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 16 casi/100.00 donne/anno (range 13-24).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ffff"/>
                </a:solidFill>
                <a:uFillTx/>
                <a:latin typeface="Comic Sans MS"/>
              </a:rPr>
              <a:t>Mortalità</a:t>
            </a: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4-5 casi/100.000/anno (9.000/anno). 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Il rischio di sviluppare un carcinoma endometriale, nel corso della vita, è  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~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1.7-2% e l’incidenza continua ad aumentare in molti paesi sviluppati.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3446640" y="385920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TALIA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317520" y="5011560"/>
            <a:ext cx="8826480" cy="1059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Incidenza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1" lang="en-US" sz="1800" spc="-1" strike="noStrike">
                <a:solidFill>
                  <a:srgbClr val="b2b2b2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n totale di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7.756 nuovi casi/anno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5-6% di tutti i tumori femminili)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Mortalità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1" lang="en-US" sz="18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el 2002,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67 decessi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per tumore del corpo dell’utero oltre a 1756 decessi per tumore dell’utero n.a.s.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68" name="Picture 6" descr="j0405826"/>
          <p:cNvPicPr/>
          <p:nvPr/>
        </p:nvPicPr>
        <p:blipFill>
          <a:blip r:embed="rId3"/>
          <a:stretch/>
        </p:blipFill>
        <p:spPr>
          <a:xfrm>
            <a:off x="5024520" y="3470400"/>
            <a:ext cx="1049400" cy="108108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5"/>
          <p:cNvSpPr/>
          <p:nvPr/>
        </p:nvSpPr>
        <p:spPr>
          <a:xfrm>
            <a:off x="6378120" y="6462720"/>
            <a:ext cx="217872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AIRTum, I Tumori in Italia, Rapporto 2006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7035840" y="2895480"/>
            <a:ext cx="166212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ESMO Clinical Reccomendation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rcRect l="0" t="0" r="-410" b="18547"/>
          <a:stretch/>
        </p:blipFill>
        <p:spPr>
          <a:xfrm>
            <a:off x="339840" y="216000"/>
            <a:ext cx="8394480" cy="59166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77840" y="6473880"/>
            <a:ext cx="6519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ffff"/>
                </a:solidFill>
                <a:latin typeface="Tahoma"/>
              </a:rPr>
              <a:t>Epidemiologia &amp; Prevenzioneanno 33(1-2) gennaio-aprile 2009 supplemento 2</a:t>
            </a:r>
            <a:endParaRPr b="0" i="1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"/>
          <p:cNvSpPr/>
          <p:nvPr/>
        </p:nvSpPr>
        <p:spPr>
          <a:xfrm>
            <a:off x="5981760" y="3517920"/>
            <a:ext cx="1307880" cy="64764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67840" y="193320"/>
            <a:ext cx="8875800" cy="649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1003320" y="274680"/>
            <a:ext cx="7602480" cy="5856120"/>
          </a:xfrm>
          <a:prstGeom prst="rect">
            <a:avLst/>
          </a:prstGeom>
          <a:ln w="0">
            <a:noFill/>
          </a:ln>
        </p:spPr>
      </p:pic>
      <p:sp>
        <p:nvSpPr>
          <p:cNvPr id="378" name="CasellaDiTesto 5"/>
          <p:cNvSpPr/>
          <p:nvPr/>
        </p:nvSpPr>
        <p:spPr>
          <a:xfrm>
            <a:off x="403200" y="6219720"/>
            <a:ext cx="862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ffff"/>
                </a:solidFill>
                <a:latin typeface="Tahoma"/>
              </a:rPr>
              <a:t>AIRTum 2003-05 Rapporto tra i tassi standardizzati di incidenza dei registri del Nord e del Sud Italia per donne e per principali sedi tumorali. Epidemiologia &amp; Prevenzione  anno 33 (1-2) gennaio-aprile 2009 supplemento 2.</a:t>
            </a:r>
            <a:endParaRPr b="0" i="1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Freccia a destra 4"/>
          <p:cNvSpPr/>
          <p:nvPr/>
        </p:nvSpPr>
        <p:spPr>
          <a:xfrm>
            <a:off x="1017720" y="4254480"/>
            <a:ext cx="1104840" cy="106560"/>
          </a:xfrm>
          <a:prstGeom prst="rightArrow">
            <a:avLst>
              <a:gd name="adj1" fmla="val 50000"/>
              <a:gd name="adj2" fmla="val 6557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177840" y="165240"/>
            <a:ext cx="8737560" cy="6248160"/>
          </a:xfrm>
          <a:prstGeom prst="rect">
            <a:avLst/>
          </a:prstGeom>
          <a:ln w="0">
            <a:noFill/>
          </a:ln>
        </p:spPr>
      </p:pic>
      <p:sp>
        <p:nvSpPr>
          <p:cNvPr id="382" name="Ovale 4"/>
          <p:cNvSpPr/>
          <p:nvPr/>
        </p:nvSpPr>
        <p:spPr>
          <a:xfrm>
            <a:off x="6445080" y="2851200"/>
            <a:ext cx="2082960" cy="190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192240" y="6512040"/>
            <a:ext cx="5391000" cy="246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ffff"/>
                </a:solidFill>
                <a:latin typeface="Tahoma"/>
              </a:rPr>
              <a:t>Epidemiologia </a:t>
            </a:r>
            <a:r>
              <a:rPr b="1" i="1" lang="en-US" sz="1000" spc="-1" strike="noStrike">
                <a:solidFill>
                  <a:srgbClr val="ffffff"/>
                </a:solidFill>
                <a:latin typeface="Tahoma"/>
              </a:rPr>
              <a:t>&amp; Prevenzione. I tumori in Italia – Rapporto 2009</a:t>
            </a:r>
            <a:endParaRPr b="0" i="1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290520" y="88920"/>
            <a:ext cx="8580600" cy="6261120"/>
          </a:xfrm>
          <a:prstGeom prst="rect">
            <a:avLst/>
          </a:prstGeom>
          <a:ln w="0">
            <a:noFill/>
          </a:ln>
        </p:spPr>
      </p:pic>
      <p:sp>
        <p:nvSpPr>
          <p:cNvPr id="385" name="Ovale 4"/>
          <p:cNvSpPr/>
          <p:nvPr/>
        </p:nvSpPr>
        <p:spPr>
          <a:xfrm>
            <a:off x="5326200" y="3076560"/>
            <a:ext cx="29844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"/>
          <p:cNvSpPr/>
          <p:nvPr/>
        </p:nvSpPr>
        <p:spPr>
          <a:xfrm>
            <a:off x="297000" y="6540480"/>
            <a:ext cx="5111640" cy="246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ffff"/>
                </a:solidFill>
                <a:latin typeface="Tahoma"/>
              </a:rPr>
              <a:t>Epidemiologia </a:t>
            </a:r>
            <a:r>
              <a:rPr b="1" i="1" lang="en-US" sz="1000" spc="-1" strike="noStrike">
                <a:solidFill>
                  <a:srgbClr val="ffffff"/>
                </a:solidFill>
                <a:latin typeface="Tahoma"/>
              </a:rPr>
              <a:t>&amp; Prevenzione. I tumori in Italia – Rapporto 2009</a:t>
            </a:r>
            <a:endParaRPr b="0" i="1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67840" y="193320"/>
            <a:ext cx="8875800" cy="649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538200" y="457200"/>
          <a:ext cx="8461440" cy="5600880"/>
        </p:xfrm>
        <a:graphic>
          <a:graphicData uri="http://schemas.openxmlformats.org/drawingml/2006/table">
            <a:tbl>
              <a:tblPr/>
              <a:tblGrid>
                <a:gridCol w="4979880"/>
                <a:gridCol w="3481560"/>
              </a:tblGrid>
              <a:tr h="1093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Risk Factors for endometrial cancer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Factors increasing risk                                  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actors decreasing risk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creasing ag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and multiparity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Long term exposure to unopposed oestrogens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moking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Residence in North America or Europ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ral-contraceptive us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High concentrations of oestrogens postmenop.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hysical activity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Metabolic syndrome (obesity, diabetes)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et of some phyto-oestrogens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Years of menstruation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Nulliparity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History of breast cancer 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Long-term use of Tamoxifen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HNPCC family syndrom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HRT with less than 12-14 days of progestagens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irst-degree relative with endometrial cancer 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Early menarche, late menopaus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91" name="Text Box 10"/>
          <p:cNvSpPr/>
          <p:nvPr/>
        </p:nvSpPr>
        <p:spPr>
          <a:xfrm>
            <a:off x="4506840" y="6643800"/>
            <a:ext cx="429120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Amant F. et al. Endometrial Cancer. Lancet 2005; 366:491-505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28440" y="282600"/>
          <a:ext cx="9067680" cy="6245280"/>
        </p:xfrm>
        <a:graphic>
          <a:graphicData uri="http://schemas.openxmlformats.org/drawingml/2006/table">
            <a:tbl>
              <a:tblPr/>
              <a:tblGrid>
                <a:gridCol w="2752560"/>
                <a:gridCol w="2952720"/>
                <a:gridCol w="3362400"/>
              </a:tblGrid>
              <a:tr h="6955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atteristiche   eziopatogenetiche,   cliniche  e   morfologiche   del   carcinoma   endometriale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STROGENO CORRELATO &gt;80%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                  </a:t>
                      </a:r>
                      <a:r>
                        <a:rPr b="1" i="1" lang="en-US" sz="13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IPO 1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3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ON ESTROGENO CORRELATO </a:t>
                      </a:r>
                      <a:r>
                        <a:rPr b="1" i="1" lang="en-US" sz="1300" spc="-1" strike="noStrike">
                          <a:solidFill>
                            <a:srgbClr val="ff0000"/>
                          </a:solidFill>
                          <a:latin typeface="Comic Sans MS"/>
                          <a:ea typeface="Tahoma"/>
                        </a:rPr>
                        <a:t>~10%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3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                      </a:t>
                      </a:r>
                      <a:r>
                        <a:rPr b="1" i="1" lang="it-IT" sz="13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IPO 2 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strogeni esogeni non bilanciati o endogeni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tato menopausale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eri-postmenopausa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ostmenopausa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attori di rischio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besità, disordini epatici, infertilità, TAM, DM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attori protettivi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tà parità, OC di combinazione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perplasia endometrio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sente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ssente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ipo istologico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DK Endometroide e varianti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stotipi speciali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ading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80%) G1-G2&gt;G3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60%) G3&gt;G2&gt;G1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nfiltrazione miometrio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0-M1-M2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2-M1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ta linfonodali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ositività citologia peritoneale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.extrauterina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117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Prognosi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odificata da Kurman R. e Norris H.J., 1987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AVOREVOLE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FAVOREVOLE</a:t>
                      </a: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3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93" name=""/>
          <p:cNvSpPr/>
          <p:nvPr/>
        </p:nvSpPr>
        <p:spPr>
          <a:xfrm>
            <a:off x="114480" y="6643800"/>
            <a:ext cx="314136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G. Bonadonna et al. Medicina Oncologica, VIII Edizione.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4506840" y="6643800"/>
            <a:ext cx="429120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Amant F. et al. Endometrial Cancer. Lancet 2005; 366:491-505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701880" y="130320"/>
            <a:ext cx="17211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TALIA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rcRect l="0" t="0" r="1292" b="19801"/>
          <a:stretch/>
        </p:blipFill>
        <p:spPr>
          <a:xfrm>
            <a:off x="358920" y="811080"/>
            <a:ext cx="8470800" cy="5435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32280" y="4554360"/>
            <a:ext cx="1231920" cy="57168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163440" y="6500880"/>
            <a:ext cx="5322960" cy="30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ffff"/>
                </a:solidFill>
                <a:latin typeface="Tahoma"/>
              </a:rPr>
              <a:t>Epidemiologia </a:t>
            </a:r>
            <a:r>
              <a:rPr b="1" i="1" lang="en-US" sz="1000" spc="-1" strike="noStrike">
                <a:solidFill>
                  <a:srgbClr val="ffffff"/>
                </a:solidFill>
                <a:latin typeface="Tahoma"/>
              </a:rPr>
              <a:t>&amp; Prevenzione</a:t>
            </a:r>
            <a:r>
              <a:rPr b="1" i="1" lang="it-IT" sz="1000" spc="-1" strike="noStrike">
                <a:solidFill>
                  <a:srgbClr val="ffffff"/>
                </a:solidFill>
                <a:latin typeface="Tahoma"/>
              </a:rPr>
              <a:t> anno 33 (1-2) gennaio-aprile 2009 supplemento 2</a:t>
            </a:r>
            <a:endParaRPr b="0" i="1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1" name="Picture 14" descr="asl_pescara"/>
          <p:cNvPicPr/>
          <p:nvPr/>
        </p:nvPicPr>
        <p:blipFill>
          <a:blip r:embed="rId2"/>
          <a:stretch/>
        </p:blipFill>
        <p:spPr>
          <a:xfrm>
            <a:off x="8391600" y="0"/>
            <a:ext cx="752400" cy="7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valarni_stimulace"/>
          <p:cNvPicPr/>
          <p:nvPr/>
        </p:nvPicPr>
        <p:blipFill>
          <a:blip r:embed="rId1"/>
          <a:srcRect l="55182" t="52880" r="1512" b="6749"/>
          <a:stretch/>
        </p:blipFill>
        <p:spPr>
          <a:xfrm>
            <a:off x="2022480" y="2205000"/>
            <a:ext cx="4368960" cy="2825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ffffff"/>
            </a:outerShdw>
          </a:effectLst>
        </p:spPr>
      </p:pic>
      <p:sp>
        <p:nvSpPr>
          <p:cNvPr id="396" name="Rectangle 3"/>
          <p:cNvSpPr/>
          <p:nvPr/>
        </p:nvSpPr>
        <p:spPr>
          <a:xfrm>
            <a:off x="4110120" y="3065400"/>
            <a:ext cx="129960" cy="1797120"/>
          </a:xfrm>
          <a:prstGeom prst="rect">
            <a:avLst/>
          </a:pr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824280" y="2806560"/>
            <a:ext cx="239760" cy="590760"/>
          </a:xfrm>
          <a:prstGeom prst="rect">
            <a:avLst/>
          </a:pr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4033800" y="2827440"/>
            <a:ext cx="216000" cy="793800"/>
          </a:xfrm>
          <a:prstGeom prst="rect">
            <a:avLst/>
          </a:pr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2369520" y="162000"/>
            <a:ext cx="2997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TORIA NATURALE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Vie di diffusione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2882880" y="1271520"/>
            <a:ext cx="2305080" cy="65412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egato, polmoni, ossa,  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ervello (rara e propria 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ella fase terminale)  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1" name="Line 12"/>
          <p:cNvSpPr/>
          <p:nvPr/>
        </p:nvSpPr>
        <p:spPr>
          <a:xfrm flipV="1">
            <a:off x="4297320" y="2620440"/>
            <a:ext cx="1452600" cy="3589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Line 14"/>
          <p:cNvSpPr/>
          <p:nvPr/>
        </p:nvSpPr>
        <p:spPr>
          <a:xfrm flipV="1">
            <a:off x="3897360" y="1982880"/>
            <a:ext cx="0" cy="5522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Line 17"/>
          <p:cNvSpPr/>
          <p:nvPr/>
        </p:nvSpPr>
        <p:spPr>
          <a:xfrm flipH="1">
            <a:off x="2750760" y="3432240"/>
            <a:ext cx="793800" cy="239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Line 19"/>
          <p:cNvSpPr/>
          <p:nvPr/>
        </p:nvSpPr>
        <p:spPr>
          <a:xfrm>
            <a:off x="5900760" y="5560920"/>
            <a:ext cx="720720" cy="0"/>
          </a:xfrm>
          <a:prstGeom prst="line">
            <a:avLst/>
          </a:prstGeom>
          <a:ln w="507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5" name="Text Box 20"/>
          <p:cNvSpPr/>
          <p:nvPr/>
        </p:nvSpPr>
        <p:spPr>
          <a:xfrm>
            <a:off x="6656400" y="5386320"/>
            <a:ext cx="1881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Tahoma"/>
              </a:rPr>
              <a:t>Diffusione linfatica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6" name="Line 21"/>
          <p:cNvSpPr/>
          <p:nvPr/>
        </p:nvSpPr>
        <p:spPr>
          <a:xfrm>
            <a:off x="5900760" y="5289480"/>
            <a:ext cx="720720" cy="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Text Box 22"/>
          <p:cNvSpPr/>
          <p:nvPr/>
        </p:nvSpPr>
        <p:spPr>
          <a:xfrm>
            <a:off x="6657840" y="5097600"/>
            <a:ext cx="11178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Diretta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8" name="Line 23"/>
          <p:cNvSpPr/>
          <p:nvPr/>
        </p:nvSpPr>
        <p:spPr>
          <a:xfrm>
            <a:off x="5925960" y="5838840"/>
            <a:ext cx="72108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Text Box 24"/>
          <p:cNvSpPr/>
          <p:nvPr/>
        </p:nvSpPr>
        <p:spPr>
          <a:xfrm>
            <a:off x="6654240" y="5689440"/>
            <a:ext cx="21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ff"/>
                </a:solidFill>
                <a:latin typeface="Tahoma"/>
              </a:rPr>
              <a:t>Diffusione ematogena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165240" y="3570120"/>
            <a:ext cx="2568600" cy="1159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Miometrio, canale cervicale, esocervice, tube, vagina, parametri. vescica, retto, cavità peritoneale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5975280" y="1121760"/>
            <a:ext cx="3168720" cy="167436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10199"/>
                </a:solidFill>
                <a:latin typeface="Tahoma"/>
              </a:rPr>
              <a:t>linfonodi pelvici (otturatori, iliaci interni, esterni, comuni) attraverso il legamento largo e i parametri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10199"/>
                </a:solidFill>
                <a:latin typeface="Tahoma"/>
              </a:rPr>
              <a:t>linfonodi paraortici attraverso il legamento infundibolo-pelvico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10199"/>
                </a:solidFill>
                <a:latin typeface="Tahoma"/>
              </a:rPr>
              <a:t>linfonodi inguinali, attraverso il legamento rotondo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Line 15"/>
          <p:cNvSpPr/>
          <p:nvPr/>
        </p:nvSpPr>
        <p:spPr>
          <a:xfrm flipH="1">
            <a:off x="2502000" y="2922480"/>
            <a:ext cx="915840" cy="1116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3" name=""/>
          <p:cNvSpPr/>
          <p:nvPr/>
        </p:nvSpPr>
        <p:spPr>
          <a:xfrm>
            <a:off x="223920" y="2111040"/>
            <a:ext cx="2120760" cy="1159560"/>
          </a:xfrm>
          <a:prstGeom prst="rect">
            <a:avLst/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00"/>
                </a:solidFill>
                <a:latin typeface="Tahoma"/>
              </a:rPr>
              <a:t>Cellule neoplastiche disseminano nel lume tubarico poi nelle ovaie e cavità peritoneale.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Line 15"/>
          <p:cNvSpPr/>
          <p:nvPr/>
        </p:nvSpPr>
        <p:spPr>
          <a:xfrm>
            <a:off x="5938920" y="6134040"/>
            <a:ext cx="716040" cy="3240"/>
          </a:xfrm>
          <a:prstGeom prst="line">
            <a:avLst/>
          </a:prstGeom>
          <a:ln w="507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Text Box 20"/>
          <p:cNvSpPr/>
          <p:nvPr/>
        </p:nvSpPr>
        <p:spPr>
          <a:xfrm>
            <a:off x="6717960" y="5961240"/>
            <a:ext cx="15706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Tahoma"/>
              </a:rPr>
              <a:t>Impianto libero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6" name=""/>
          <p:cNvSpPr/>
          <p:nvPr/>
        </p:nvSpPr>
        <p:spPr>
          <a:xfrm>
            <a:off x="6072120" y="6643800"/>
            <a:ext cx="307188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G. Bonadonna et al. Medicina Oncologica, VIII Edizione.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5845320" y="3697200"/>
            <a:ext cx="1792080" cy="3747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99"/>
                </a:solidFill>
                <a:latin typeface="Tahoma"/>
              </a:rPr>
              <a:t>Vagina, ovaie, tube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4653000" y="3622680"/>
            <a:ext cx="1089000" cy="22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"/>
          <p:cNvSpPr/>
          <p:nvPr/>
        </p:nvSpPr>
        <p:spPr>
          <a:xfrm>
            <a:off x="446040" y="5106960"/>
            <a:ext cx="2884680" cy="1683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SEDI + FREQUENTI: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Pelvi 30%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-LN iliaci e lomboaortici (50%)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-Fegato (18%)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-Peritoneo (18%)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-Ossa (16%)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-Polmone (11%)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04FE-4811-4F60-8612-F2C1B25DAAF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479840" cy="69436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25000" y="439200"/>
            <a:ext cx="8418600" cy="641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1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Comic Sans MS"/>
              </a:rPr>
              <a:t>Stadio patologico FIGO</a:t>
            </a:r>
            <a:r>
              <a:rPr b="1" i="1" lang="it-IT" sz="20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il + importante  e significativo fattore predittivo dell’outco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1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Comic Sans MS"/>
              </a:rPr>
              <a:t>LN+ pelvici e/o paraortici</a:t>
            </a:r>
            <a:r>
              <a:rPr b="1" i="1" lang="it-IT" sz="20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1" i="1" lang="it-IT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influenzano le percentuali di recidive, RFS e 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1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Comic Sans MS"/>
              </a:rPr>
              <a:t>Istotipo, G, M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1" i="1" lang="it-IT" sz="2000" spc="-1" strike="noStrike">
                <a:solidFill>
                  <a:srgbClr val="ff0000"/>
                </a:solidFill>
                <a:latin typeface="Comic Sans MS"/>
              </a:rPr>
              <a:t>LVSI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in caso di  LN-, fattori istopatologici che influenzano maggiormente LC e OS.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1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Comic Sans MS"/>
              </a:rPr>
              <a:t>Età</a:t>
            </a:r>
            <a:r>
              <a:rPr b="1" i="1" lang="it-IT" sz="20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importante FP</a:t>
            </a: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in molti studi. </a:t>
            </a: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Comic Sans MS"/>
              </a:rPr>
              <a:t>Coinvolgimento annessi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Comic Sans MS"/>
              </a:rPr>
              <a:t>Estensione istmo-cervice</a:t>
            </a:r>
            <a:r>
              <a:rPr b="1" i="1" lang="it-IT" sz="2000" spc="-1" strike="noStrike">
                <a:solidFill>
                  <a:srgbClr val="ffffff"/>
                </a:solidFill>
                <a:latin typeface="Comic Sans MS"/>
              </a:rPr>
              <a:t> (invasione stroma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Comic Sans MS"/>
              </a:rPr>
              <a:t>Citologia peritone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Comic Sans MS"/>
              </a:rPr>
              <a:t>Dimensioni del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2670120" y="523800"/>
            <a:ext cx="40086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Fattori prognostici (FP)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Text Box 10"/>
          <p:cNvSpPr/>
          <p:nvPr/>
        </p:nvSpPr>
        <p:spPr>
          <a:xfrm>
            <a:off x="374760" y="6624720"/>
            <a:ext cx="429084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4.Amant F. et al. Endometrial Cancer. Lancet 2005; 366:491-505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385920" y="6469200"/>
            <a:ext cx="440820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3.Perez and Brady’s. Principles and Practice of Radiation Oncology. Fifth Edition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6" name=""/>
          <p:cNvSpPr/>
          <p:nvPr/>
        </p:nvSpPr>
        <p:spPr>
          <a:xfrm>
            <a:off x="392040" y="6321600"/>
            <a:ext cx="779148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2.Creasman WT, Morrow CP, Bundy BN, et al., Surgical pathologic spread patterns of endometrial cancer. Cancer 1987; 60:2035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7" name=""/>
          <p:cNvSpPr/>
          <p:nvPr/>
        </p:nvSpPr>
        <p:spPr>
          <a:xfrm>
            <a:off x="414360" y="6019560"/>
            <a:ext cx="8548560" cy="337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1.Morrow DH.</a:t>
            </a:r>
            <a:r>
              <a:rPr b="0" i="1" lang="it-IT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Relationship between surgical-pathological risk factors and outcome in clinical stage I and II carcinoma of endometrium:a Gynecologic Oncology Group Study. Gynecol Oncol 1991;40:55-65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67840" y="193320"/>
            <a:ext cx="8875800" cy="649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4570560" y="6578640"/>
            <a:ext cx="429084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Amant et al. Endometrial Cancer. Lancet 2005; 366:491-505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2" name=""/>
          <p:cNvSpPr/>
          <p:nvPr/>
        </p:nvSpPr>
        <p:spPr>
          <a:xfrm>
            <a:off x="736560" y="1274760"/>
            <a:ext cx="7886880" cy="387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La decisione di </a:t>
            </a:r>
            <a:r>
              <a:rPr b="1" i="1" lang="it-IT" sz="2000" spc="-1" strike="noStrike">
                <a:solidFill>
                  <a:srgbClr val="ffffff"/>
                </a:solidFill>
                <a:latin typeface="Comic Sans MS"/>
              </a:rPr>
              <a:t>trattamenti adiuvanti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dopo chirurgia standard (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laparotomia: isterectomia totale extrafasciale + annessiectomia bilaterale + asportazione 1/3 sup. della vagina + washing peritoneal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± linfadenectomia pelvica e lomboaortica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dipende dalla presenza di alcuni fattori di rischio.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La  presenza di determinati FP può aumentare la percentuale di recidive con riduzione della sopravvivenza.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67840" y="207720"/>
            <a:ext cx="8875800" cy="649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393840" y="1273320"/>
            <a:ext cx="822960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858960" y="1617840"/>
          <a:ext cx="7454880" cy="4429080"/>
        </p:xfrm>
        <a:graphic>
          <a:graphicData uri="http://schemas.openxmlformats.org/drawingml/2006/table">
            <a:tbl>
              <a:tblPr/>
              <a:tblGrid>
                <a:gridCol w="3471840"/>
                <a:gridCol w="3983040"/>
              </a:tblGrid>
              <a:tr h="385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cinoma dell´endometrio. Sopravvivenza a 5 anni sec. lo stadio FIGO</a:t>
                      </a: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tadio 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opravvivenza a 5 anni (%)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a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,8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b                                                                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,1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c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,4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Ia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,3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Ib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,2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</a:t>
                      </a: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IIa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,2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</a:t>
                      </a: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IIb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,9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</a:t>
                      </a: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IIc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,2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Va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,5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Vb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,1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a 25° FIGO Annual Report 2006.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8" name=""/>
          <p:cNvSpPr/>
          <p:nvPr/>
        </p:nvSpPr>
        <p:spPr>
          <a:xfrm>
            <a:off x="441360" y="6240600"/>
            <a:ext cx="776592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el I stadio la sopravvivenza è influenzata da G e da M.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630360" y="736560"/>
            <a:ext cx="82296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a stadiazione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GO 1988) è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chirurgica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d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è il più importante fattore  predittivo della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opravvivenza a 5 anni.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3641760" y="243000"/>
            <a:ext cx="135900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TADIO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67840" y="207720"/>
            <a:ext cx="8875800" cy="649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393840" y="495360"/>
            <a:ext cx="82296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ff0000"/>
                </a:solidFill>
                <a:latin typeface="Comic Sans MS"/>
              </a:rPr>
              <a:t>Carcinoma dell´endometrio. Sopravvivenza a 5 anni secondo Stadio e Grado Istologico. Pazienti trattate negli anni 1996-1998.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</a:rPr>
              <a:t>  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596880" y="1654200"/>
          <a:ext cx="8109000" cy="4410000"/>
        </p:xfrm>
        <a:graphic>
          <a:graphicData uri="http://schemas.openxmlformats.org/drawingml/2006/table">
            <a:tbl>
              <a:tblPr/>
              <a:tblGrid>
                <a:gridCol w="3025800"/>
                <a:gridCol w="2106720"/>
                <a:gridCol w="2976480"/>
              </a:tblGrid>
              <a:tr h="35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tadio/Grado 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. pazienti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opravvivenza a 5 anni (%)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-G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47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,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-G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74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,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-G3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3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,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-G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,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-G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,9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-G3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,3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-G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9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,7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-G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,3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-G3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,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-G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,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-G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,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-G3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,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a 25° FIGO Annual Report 2003.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67840" y="193320"/>
            <a:ext cx="8875800" cy="649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336600" y="647640"/>
            <a:ext cx="82296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INVASIONE MIOMETRIALE</a:t>
            </a: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436680" y="2552760"/>
          <a:ext cx="7858080" cy="2614680"/>
        </p:xfrm>
        <a:graphic>
          <a:graphicData uri="http://schemas.openxmlformats.org/drawingml/2006/table">
            <a:tbl>
              <a:tblPr/>
              <a:tblGrid>
                <a:gridCol w="1731960"/>
                <a:gridCol w="1422360"/>
                <a:gridCol w="1487520"/>
                <a:gridCol w="1655640"/>
                <a:gridCol w="1560600"/>
              </a:tblGrid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ISTOLOGICAL  GRADE AND DEPTH OF INVASION IN CLINICAL STAGE                            I ENDOMETRIAL CARCINOMA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pth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ade 1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ade 2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ade 3 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otal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ndometrium</a:t>
                      </a:r>
                      <a:r>
                        <a:rPr b="1" i="1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nly    </a:t>
                      </a:r>
                      <a:r>
                        <a:rPr b="1" i="1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                               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4 (24%)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 (11%)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 (7%)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6 (14%)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uperficial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6 (53%)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1 (45%)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4 (35%)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81 (45%)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iddle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2 (12%)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9 (24%)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4 (16%)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5 (19%)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ep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8 (10%)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7 (20%)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4 (42%)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9 (22%)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otal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80 (100%)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88 (100%)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3 (100%)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1 (100%)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451" name=""/>
          <p:cNvSpPr/>
          <p:nvPr/>
        </p:nvSpPr>
        <p:spPr>
          <a:xfrm>
            <a:off x="447840" y="5772240"/>
            <a:ext cx="779112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From Creasman WT, Morrow CP, Bundy BN, et al., Surgical pathologic spread patterns of endometrial cancer. Cancer 1987; 60:2035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376200" y="949320"/>
            <a:ext cx="764856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iù comune nei tumori ad alto grado.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3" name=""/>
          <p:cNvSpPr/>
          <p:nvPr/>
        </p:nvSpPr>
        <p:spPr>
          <a:xfrm>
            <a:off x="318960" y="1258920"/>
            <a:ext cx="8067960" cy="1305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Tumori ben differenziati tendono a limitarsi all’endometrio.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M2 associata a   del rischio di recidive e a   della sopravvivenza a 5 anni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(80% M0 vs 60% in M2).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2147760" y="1614240"/>
            <a:ext cx="9720" cy="266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"/>
          <p:cNvSpPr/>
          <p:nvPr/>
        </p:nvSpPr>
        <p:spPr>
          <a:xfrm>
            <a:off x="5151600" y="1662120"/>
            <a:ext cx="9360" cy="254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"/>
          <p:cNvSpPr/>
          <p:nvPr/>
        </p:nvSpPr>
        <p:spPr>
          <a:xfrm>
            <a:off x="452520" y="5987880"/>
            <a:ext cx="779148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Jones HW et al., Treatment of adenocarcinoma of the endometrium. Obstet Gynecol Surv 1975;30:147-69.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67840" y="193320"/>
            <a:ext cx="8875800" cy="649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457200" y="466560"/>
            <a:ext cx="837072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GRADING, INFILTRAZIONE MIOMETRIALE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E METASTASI LINFONODALI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Incidenza di invasione miometriale maggiore nel G3 rispetto a G1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Con l’aumentare di G aumenta l’incidenza recidive vaginali e  di metastasi LN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L’incidenza di coinvolgimento LN tende ad essere parallela al G e allo Stadio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419040" y="6208560"/>
            <a:ext cx="806760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Creasman WT, Morrow CP, Bundy BN, et al., Surgical pathologic spread patterns of endometrial cancer. Cancer 1987; 60:2035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361800" y="2933640"/>
          <a:ext cx="8534520" cy="3038400"/>
        </p:xfrm>
        <a:graphic>
          <a:graphicData uri="http://schemas.openxmlformats.org/drawingml/2006/table">
            <a:tbl>
              <a:tblPr/>
              <a:tblGrid>
                <a:gridCol w="1859040"/>
                <a:gridCol w="1104840"/>
                <a:gridCol w="1114560"/>
                <a:gridCol w="1104840"/>
                <a:gridCol w="1123920"/>
                <a:gridCol w="1133640"/>
                <a:gridCol w="1093680"/>
              </a:tblGrid>
              <a:tr h="5299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ADE, DEPH  OF INVASION AND METASTASES IN ENDOMETRIAL CARCINOMA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ade 1 (n=180)</a:t>
                      </a:r>
                      <a:endParaRPr b="0" i="1" lang="en-US" sz="15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ade 2 (n=288)</a:t>
                      </a:r>
                      <a:endParaRPr b="0" i="1" lang="en-US" sz="15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ade 3  (n=153)</a:t>
                      </a:r>
                      <a:endParaRPr b="0" i="1" lang="en-US" sz="15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pth of invasion                                                              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ortic Node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elvic Node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ortic Node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elvic Node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ortic Node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elvic Node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ndometrium only (n=86)</a:t>
                      </a:r>
                      <a:endParaRPr b="0" i="1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 (0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 (0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 (3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 (3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 (0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 (0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uperficial (n=281)</a:t>
                      </a:r>
                      <a:endParaRPr b="0" i="1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 (1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 (3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 (4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 (5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(4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 (9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iddle (n=115)</a:t>
                      </a:r>
                      <a:endParaRPr b="0" i="1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 (5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 (0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 (0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 (9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 (0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 (4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ep (n=139)</a:t>
                      </a:r>
                      <a:endParaRPr b="0" i="1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 (6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(11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 (14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 (19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 (23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2 (34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463" name=""/>
          <p:cNvSpPr/>
          <p:nvPr/>
        </p:nvSpPr>
        <p:spPr>
          <a:xfrm>
            <a:off x="433440" y="6411960"/>
            <a:ext cx="524016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Aalders J et al, Obstet Gynecol 1980 Oct;56(4):419-27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2C51-4A0B-4CFC-8A7F-64BF23E1C1B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67840" y="193320"/>
            <a:ext cx="8875800" cy="649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457200" y="277920"/>
            <a:ext cx="82296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LINFONODI PELVICI E PARAAORTICI</a:t>
            </a:r>
            <a:r>
              <a:rPr b="0" lang="en-US" sz="2000" spc="-1" strike="noStrike">
                <a:solidFill>
                  <a:srgbClr val="b2b2b2"/>
                </a:solidFill>
                <a:latin typeface="Tahoma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457200" y="1066680"/>
            <a:ext cx="8229600" cy="54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Valore prognostico riconosciuto dello stato LN, incerto ruolo terapeutico della linfadenectomia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~10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% nel I-II stadio LN+ pelvici e/o paraortici.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Probabilità di LN+ correlata a: istotipo, G, M, LVIS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Metastasi isolate ai LN lomboaortici sono rare, ma possono essere interessate contemporaneamente sia le stazioni pelviche che lomboaortiche.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In presenza di metastasi ai LN pelvici circa il 30-50% dei casi ha metastasi ai LN lomboaortici.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LN+ pelvici: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sopravv. a 5 aa 70-80%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LN+ para-aortici: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sopravv. a 5 aa 30-40%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0" name="CasellaDiTesto 3"/>
          <p:cNvSpPr/>
          <p:nvPr/>
        </p:nvSpPr>
        <p:spPr>
          <a:xfrm>
            <a:off x="4578480" y="6583320"/>
            <a:ext cx="340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Zaino R.J., Int J Gynecol Pathol, Vol.28, N.1, January 2009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67840" y="193320"/>
            <a:ext cx="8875800" cy="649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393840" y="495360"/>
            <a:ext cx="82296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ISTOLOGIA 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493560" y="1476360"/>
          <a:ext cx="8321760" cy="3978360"/>
        </p:xfrm>
        <a:graphic>
          <a:graphicData uri="http://schemas.openxmlformats.org/drawingml/2006/table">
            <a:tbl>
              <a:tblPr/>
              <a:tblGrid>
                <a:gridCol w="3746520"/>
                <a:gridCol w="973440"/>
                <a:gridCol w="1198440"/>
                <a:gridCol w="2403360"/>
              </a:tblGrid>
              <a:tr h="631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cinoma dell’endometrio.   </a:t>
                      </a: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opravvivenza a 5 anni secondo il tipo istologico.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azienti trattate negli anni 1996-98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stotipo   </a:t>
                      </a:r>
                      <a:r>
                        <a:rPr b="1" i="1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                                                                 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requenza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. pazienti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opravvivenza a 5 anni (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denocarcinoma endometrioid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ahoma"/>
                        </a:rPr>
                        <a:t>~</a:t>
                      </a: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85%)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.321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81.2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cinoma adenosquamoso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ahoma"/>
                        </a:rPr>
                        <a:t>~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%)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7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6.1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denocarcinoma sieroso papillar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ahoma"/>
                        </a:rPr>
                        <a:t>~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%)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35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8.4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denocarcinoma a cellule chiar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ahoma"/>
                        </a:rPr>
                        <a:t>~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%)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85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9.7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denocarcinoma mucinoso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ahoma"/>
                        </a:rPr>
                        <a:t>~1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%)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4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6.2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cinoma spinocellular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ahoma"/>
                        </a:rPr>
                        <a:t>~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1%)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8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6.1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cinoma misto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ahoma"/>
                        </a:rPr>
                        <a:t>~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1%)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cinoma indifferenziato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ahoma"/>
                        </a:rPr>
                        <a:t>~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1%)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Da 25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ahoma"/>
                        </a:rPr>
                        <a:t>º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FIGO Annual Report, 2003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76" name=""/>
          <p:cNvSpPr/>
          <p:nvPr/>
        </p:nvSpPr>
        <p:spPr>
          <a:xfrm>
            <a:off x="4494240" y="6345360"/>
            <a:ext cx="462744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G. Bonadonna et al. Medicina Oncologica, VIII Edizione.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5273640" y="4471920"/>
            <a:ext cx="88920" cy="558720"/>
          </a:xfrm>
          <a:custGeom>
            <a:avLst/>
            <a:gdLst>
              <a:gd name="textAreaLeft" fmla="*/ 0 w 88920"/>
              <a:gd name="textAreaRight" fmla="*/ 32040 w 88920"/>
              <a:gd name="textAreaTop" fmla="*/ 14400 h 558720"/>
              <a:gd name="textAreaBottom" fmla="*/ 544320 h 55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"/>
          <p:cNvSpPr/>
          <p:nvPr/>
        </p:nvSpPr>
        <p:spPr>
          <a:xfrm>
            <a:off x="5284800" y="4581360"/>
            <a:ext cx="297000" cy="36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9" name=""/>
          <p:cNvSpPr/>
          <p:nvPr/>
        </p:nvSpPr>
        <p:spPr>
          <a:xfrm>
            <a:off x="5337000" y="4605480"/>
            <a:ext cx="914400" cy="337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285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"/>
          <p:cNvSpPr/>
          <p:nvPr/>
        </p:nvSpPr>
        <p:spPr>
          <a:xfrm>
            <a:off x="6407280" y="4595760"/>
            <a:ext cx="914400" cy="337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50.4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67840" y="193680"/>
            <a:ext cx="8875800" cy="666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533520" y="2300400"/>
            <a:ext cx="845172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ff0066"/>
                </a:solidFill>
                <a:latin typeface="Comic Sans MS"/>
              </a:rPr>
              <a:t>          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ESTENSIONE ALL'ISTMO E ALLA CERVICE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solitamente neoplasie  G3, M2, LVIS+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probabilità più elevata di LN+ (23-35%)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prognosi povera in quanto può condizionare: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la diffusione attraverso la ricca rete linfatica propria della cervice uterina; 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la diffusione, per via linfatica o per estensione diretta, alle strutture parametriali 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la diffusione vaginale. </a:t>
            </a:r>
            <a:endParaRPr b="0" i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Sopravvivenza maggiore in caso di solo coinvolgimento ghiandolare vs invasione stromale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316080" y="6132240"/>
            <a:ext cx="8548560" cy="337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1.Morrow DH.</a:t>
            </a:r>
            <a:r>
              <a:rPr b="0" i="1" lang="it-IT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Relationship between surgical-pathological risk factors and outcome in clinical stage I and II carcinoma of endometrium:a Gynecologic Oncology Group Study. Gynecol Oncol 1991;40:55-65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330120" y="177840"/>
            <a:ext cx="869976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91120" indent="-59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ff0066"/>
                </a:solidFill>
                <a:latin typeface="Comic Sans MS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591120" indent="-5911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ETA’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591120" indent="-5911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591120" indent="-5911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&gt; 65 aa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        alta incidenza di G3, istotipi sfavorevoli e stadio più avanzato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591120" indent="-59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591120" indent="-591120" algn="just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≤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65 aa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   maggiore sopravvivenza (93.5% vs 86.2%, P&lt;.001) e minore percentuale di recidive.          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it-IT" sz="800" spc="-1" strike="noStrike">
                <a:solidFill>
                  <a:srgbClr val="ffffff"/>
                </a:solidFill>
                <a:latin typeface="Comic Sans MS"/>
              </a:rPr>
              <a:t>John K. Chan et al, Cancer 2006;107:1823-30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328680" y="6643800"/>
            <a:ext cx="417816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4.DiSaia PJ et al. Am J Obstet Gynecol 1985; 55:1753-7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309600" y="6453360"/>
            <a:ext cx="273060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3.Aalders et al, Obstet Gynecol 1980;56:419-46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2009880" y="1212840"/>
            <a:ext cx="291960" cy="9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1976400" y="1757520"/>
            <a:ext cx="291960" cy="9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1" name="CasellaDiTesto 3"/>
          <p:cNvSpPr/>
          <p:nvPr/>
        </p:nvSpPr>
        <p:spPr>
          <a:xfrm>
            <a:off x="5467320" y="6329520"/>
            <a:ext cx="340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2.Zaino R.J., Int J Gynecol Pathol, Vol.28, N.1, January 2009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355680" y="228600"/>
            <a:ext cx="8356680" cy="6070680"/>
          </a:xfrm>
          <a:prstGeom prst="rect">
            <a:avLst/>
          </a:prstGeom>
          <a:ln w="0">
            <a:noFill/>
          </a:ln>
        </p:spPr>
      </p:pic>
      <p:sp>
        <p:nvSpPr>
          <p:cNvPr id="134" name="Freccia a destra 4"/>
          <p:cNvSpPr/>
          <p:nvPr/>
        </p:nvSpPr>
        <p:spPr>
          <a:xfrm>
            <a:off x="431640" y="3657600"/>
            <a:ext cx="1308240" cy="76320"/>
          </a:xfrm>
          <a:prstGeom prst="rightArrow">
            <a:avLst>
              <a:gd name="adj1" fmla="val 50000"/>
              <a:gd name="adj2" fmla="val 4991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CasellaDiTesto 5"/>
          <p:cNvSpPr/>
          <p:nvPr/>
        </p:nvSpPr>
        <p:spPr>
          <a:xfrm>
            <a:off x="0" y="6389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ffff"/>
                </a:solidFill>
                <a:latin typeface="Tahoma"/>
              </a:rPr>
              <a:t>AIRTum 2003-05 Rapporto tra i tassi standardizzati di incidenza dei registri del Nord e del Sud Italia per donne e per principali sedi tumorali. Epidemiologia </a:t>
            </a:r>
            <a:r>
              <a:rPr b="1" i="1" lang="en-US" sz="1000" spc="-1" strike="noStrike">
                <a:solidFill>
                  <a:srgbClr val="ffffff"/>
                </a:solidFill>
                <a:latin typeface="Tahoma"/>
              </a:rPr>
              <a:t>&amp; Prevenzione</a:t>
            </a:r>
            <a:r>
              <a:rPr b="1" i="1" lang="it-IT" sz="1000" spc="-1" strike="noStrike">
                <a:solidFill>
                  <a:srgbClr val="ffffff"/>
                </a:solidFill>
                <a:latin typeface="Tahoma"/>
              </a:rPr>
              <a:t> anno 33 (1-2) gennaio-aprile 2009 supplemento 2.</a:t>
            </a:r>
            <a:endParaRPr b="0" i="1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67840" y="193680"/>
            <a:ext cx="8875800" cy="666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3"/>
          <p:cNvSpPr/>
          <p:nvPr/>
        </p:nvSpPr>
        <p:spPr>
          <a:xfrm>
            <a:off x="457200" y="533520"/>
            <a:ext cx="8253360" cy="23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66"/>
                </a:solidFill>
                <a:latin typeface="Comic Sans MS"/>
              </a:rPr>
              <a:t>      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Invasione dello spazio vascolare - Interessamento degli annessi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Diffusione intraperitoneale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LVSI: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FP indipendente, sebbene l’invasione aumenta in G3, M2. 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Presente in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ahoma"/>
              </a:rPr>
              <a:t>~37% delle neoplasie e nel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15% degli stadi iniziali; </a:t>
            </a: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associato ad un incremento delle recidive  (anche extrapelviche) e della mortalità.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Pz con LVSI hanno  50% LN+. 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La probabilità di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coinvolgimento degli annessi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aumenta in caso di invasione miometriale ed estensione all’istmo-cervice. 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4408560" y="6512040"/>
            <a:ext cx="455940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4.Hanson MB et al, Cancer 1985, 55:1753-7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316080" y="6480000"/>
            <a:ext cx="399096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2.Abeler VM et al. Cancer 1992;2:9-22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4406760" y="6688080"/>
            <a:ext cx="478980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5.Creasman WT et al. Am J Obstet Gynecol 1981;141:921-9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482760" y="4927680"/>
          <a:ext cx="8229600" cy="1217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90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Diffusione intraperitoneale e rischio di N+ pelvico e PA 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N+ pelvici (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N+ PA (%)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ff intraperit -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%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%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Diff intraperit +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%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%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493560" y="3273480"/>
          <a:ext cx="8219880" cy="1647720"/>
        </p:xfrm>
        <a:graphic>
          <a:graphicData uri="http://schemas.openxmlformats.org/drawingml/2006/table">
            <a:tbl>
              <a:tblPr/>
              <a:tblGrid>
                <a:gridCol w="2714400"/>
                <a:gridCol w="2756160"/>
                <a:gridCol w="2749320"/>
              </a:tblGrid>
              <a:tr h="276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nvasione degli spazi linfovascolari (LVSI) e annessi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cidiva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ortalità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VSI -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%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%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nnessi -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%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VSI +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4%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%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nnessi +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8%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-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501" name="Text Box 10"/>
          <p:cNvSpPr/>
          <p:nvPr/>
        </p:nvSpPr>
        <p:spPr>
          <a:xfrm>
            <a:off x="318960" y="6648480"/>
            <a:ext cx="353232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3.Amant F. et al. Endometrial Cancer. Lancet 2005; 366:491-505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2" name="CasellaDiTesto 3"/>
          <p:cNvSpPr/>
          <p:nvPr/>
        </p:nvSpPr>
        <p:spPr>
          <a:xfrm>
            <a:off x="336600" y="6278400"/>
            <a:ext cx="340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1.Zaino R.J., Int J Gynecol Pathol, Vol.28, N.1, January 2009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67840" y="193680"/>
            <a:ext cx="8875800" cy="666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457200" y="185760"/>
            <a:ext cx="853272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66"/>
                </a:solidFill>
                <a:latin typeface="Comic Sans MS"/>
              </a:rPr>
              <a:t>                           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66"/>
                </a:solidFill>
                <a:latin typeface="Comic Sans MS"/>
              </a:rPr>
              <a:t>                     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Citologia peritoneale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(malattia extrapelvica).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Molte controversie sul valore prognostico!!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Positiva nel 16% del I stadio clinico  e nel 60 % in caso di coinvolgimento annessiale, frequentemente associata a: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G3, M2, malattia extrauterina.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Pz con citologia peritoneale positiva sono a rischio teorico di sviluppare recidiva in cavità peritoneale.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Dimensioni del T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FP significativo di LN+ e sopravvivenza. 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Nel I stadio: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T ≤ 2 cm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LN+  5.7%         OS 5 aa  98%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T &gt; 2 cm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LN+ 21.7%         OS 5 aa  84%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T che si coinvolge l’intera superficie endometriale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LN+   40%</a:t>
            </a:r>
            <a:r>
              <a:rPr b="0" lang="it-IT" sz="1600" spc="-1" strike="noStrike">
                <a:solidFill>
                  <a:srgbClr val="ff0066"/>
                </a:solidFill>
                <a:latin typeface="Comic Sans MS"/>
              </a:rPr>
              <a:t>        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OS  5 aa 64%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0066"/>
                </a:solidFill>
                <a:latin typeface="Comic Sans MS"/>
              </a:rPr>
              <a:t>     </a:t>
            </a:r>
            <a:r>
              <a:rPr b="0" lang="it-IT" sz="16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0066"/>
                </a:solidFill>
                <a:latin typeface="Comic Sans MS"/>
              </a:rPr>
              <a:t>	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Fattori prognostici biologici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Lo studio di variabili biologiche (K-ras, pTEN, </a:t>
            </a:r>
            <a:r>
              <a:rPr b="0" lang="el-GR" sz="1600" spc="-1" strike="noStrike">
                <a:solidFill>
                  <a:srgbClr val="ffffff"/>
                </a:solidFill>
                <a:latin typeface="Comic Sans MS"/>
              </a:rPr>
              <a:t>β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-catenina, instabilità dei microsatelliti, p53, erbB2) è ancora oggetto di ricerca clinica.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Lo studio dei Recettori Ormonali (ER/PR) può essere fatto in previsione di una OT.</a:t>
            </a: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7" name="CasellaDiTesto 2"/>
          <p:cNvSpPr/>
          <p:nvPr/>
        </p:nvSpPr>
        <p:spPr>
          <a:xfrm>
            <a:off x="282600" y="6461280"/>
            <a:ext cx="332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2.Creasman WT et al., Am J Obstet Gynecol 1981;141:921-9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8" name="CasellaDiTesto 3"/>
          <p:cNvSpPr/>
          <p:nvPr/>
        </p:nvSpPr>
        <p:spPr>
          <a:xfrm>
            <a:off x="4484520" y="6643800"/>
            <a:ext cx="265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5.Lurain JR et al . Obstet Gynecol 1989;74:175-9 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9" name="CasellaDiTesto 2"/>
          <p:cNvSpPr/>
          <p:nvPr/>
        </p:nvSpPr>
        <p:spPr>
          <a:xfrm>
            <a:off x="4459320" y="6445080"/>
            <a:ext cx="428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4.Lewis GC, Bundy B. Surgery for endometrial cancer. Cancer 1981; 48:568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0" name="CasellaDiTesto 2"/>
          <p:cNvSpPr/>
          <p:nvPr/>
        </p:nvSpPr>
        <p:spPr>
          <a:xfrm>
            <a:off x="282600" y="6632640"/>
            <a:ext cx="332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3.Schink JC et al. Obstet Gynecol 1987 Aug;70(2):216-9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1" name="CasellaDiTesto 3"/>
          <p:cNvSpPr/>
          <p:nvPr/>
        </p:nvSpPr>
        <p:spPr>
          <a:xfrm>
            <a:off x="311040" y="6278400"/>
            <a:ext cx="340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1.Zaino R.J., Int J Gynecol Pathol, Vol.28, N.1, January 2009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4480200" cy="694368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67840" y="193320"/>
            <a:ext cx="8875800" cy="649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507960" y="457200"/>
            <a:ext cx="84074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Conclusioni II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Nella neoplasia confinata all’utero (I stadio, 75% dei casi), in accordo con i fattori prognostici, le pz possono essere suddivise in 3 categorie di rischio nei confronti del rischio di recidiva  e della sopravvivenza: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Comic Sans MS"/>
              </a:rPr>
              <a:t>basso rischio</a:t>
            </a:r>
            <a:r>
              <a:rPr b="0" lang="it-IT" sz="1800" spc="-1" strike="noStrike" u="sng">
                <a:solidFill>
                  <a:srgbClr val="ff0000"/>
                </a:solidFill>
                <a:uFillTx/>
                <a:latin typeface="Comic Sans MS"/>
              </a:rPr>
              <a:t>: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stadio Ia/Ib, G 1 o G 2, endometrioide.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it-IT" sz="1800" spc="-1" strike="noStrike">
                <a:solidFill>
                  <a:srgbClr val="ffffff"/>
                </a:solidFill>
                <a:latin typeface="Comic Sans MS"/>
              </a:rPr>
              <a:t>No terapia adiuvante.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Comic Sans MS"/>
              </a:rPr>
              <a:t>rischio intermedio: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stadio Ic,  G 1 o G 2, endometrioide.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stadio Ia/Ib, G 3, endometrioide.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it-IT" sz="1800" spc="-1" strike="noStrike">
                <a:solidFill>
                  <a:srgbClr val="ffffff"/>
                </a:solidFill>
                <a:latin typeface="Comic Sans MS"/>
              </a:rPr>
              <a:t>EBRT pelvica adiuvante riduce il rischio di recidive locali ma non impatta sulla OS.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Comic Sans MS"/>
              </a:rPr>
              <a:t>alto rischio</a:t>
            </a:r>
            <a:r>
              <a:rPr b="0" lang="it-IT" sz="1800" spc="-1" strike="noStrike" u="sng">
                <a:solidFill>
                  <a:srgbClr val="ff0000"/>
                </a:solidFill>
                <a:uFillTx/>
                <a:latin typeface="Comic Sans MS"/>
              </a:rPr>
              <a:t>:</a:t>
            </a:r>
            <a:r>
              <a:rPr b="0" lang="it-IT" sz="18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stadio Ic, grado 3, endometrioide.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stadio Ia, Ib, Ic, sieroso-papillare o a cellule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chiare o a piccole cellule o indifferenziato.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it-IT" sz="1800" spc="-1" strike="noStrike">
                <a:solidFill>
                  <a:srgbClr val="ffffff"/>
                </a:solidFill>
                <a:latin typeface="Comic Sans MS"/>
              </a:rPr>
              <a:t>RT/CT adiuvante raccomandata.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6337440"/>
            <a:ext cx="880128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Baekelandt </a:t>
            </a:r>
            <a:r>
              <a:rPr b="1" i="1" lang="en-US" sz="800" spc="-1" strike="noStrike">
                <a:solidFill>
                  <a:srgbClr val="ffffff"/>
                </a:solidFill>
                <a:latin typeface="Tahoma"/>
              </a:rPr>
              <a:t>&amp; MM et al. Endometrial carcinoma: ESMO Clinical Reccomandation for diagnosis, treatment and follow-up. Annals of Oncology 20:iv29-iv31, 2009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1755720" y="2149560"/>
            <a:ext cx="6095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80880" y="165240"/>
            <a:ext cx="8356680" cy="6146640"/>
          </a:xfrm>
          <a:prstGeom prst="rect">
            <a:avLst/>
          </a:prstGeom>
          <a:ln w="0">
            <a:noFill/>
          </a:ln>
        </p:spPr>
      </p:pic>
      <p:sp>
        <p:nvSpPr>
          <p:cNvPr id="138" name="Ovale 4"/>
          <p:cNvSpPr/>
          <p:nvPr/>
        </p:nvSpPr>
        <p:spPr>
          <a:xfrm>
            <a:off x="6286680" y="4305240"/>
            <a:ext cx="2286000" cy="190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318960" y="6443640"/>
            <a:ext cx="5505480" cy="246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ffff"/>
                </a:solidFill>
                <a:latin typeface="Tahoma"/>
              </a:rPr>
              <a:t>Epidemiologia </a:t>
            </a:r>
            <a:r>
              <a:rPr b="1" i="1" lang="en-US" sz="1000" spc="-1" strike="noStrike">
                <a:solidFill>
                  <a:srgbClr val="ffffff"/>
                </a:solidFill>
                <a:latin typeface="Tahoma"/>
              </a:rPr>
              <a:t>&amp; Prevenzione. I tumori in Italia – Rapporto 2009</a:t>
            </a:r>
            <a:endParaRPr b="0" i="1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378000" y="934920"/>
          <a:ext cx="8181720" cy="5680080"/>
        </p:xfrm>
        <a:graphic>
          <a:graphicData uri="http://schemas.openxmlformats.org/drawingml/2006/table">
            <a:tbl>
              <a:tblPr/>
              <a:tblGrid>
                <a:gridCol w="1482480"/>
                <a:gridCol w="1970280"/>
                <a:gridCol w="2681280"/>
                <a:gridCol w="204768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A’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IDENZA 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 100.000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POLAZIONE FEMMINILE 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TALIANA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MERO DI CASI 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 CERVICE 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-4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331,063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-9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303,603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-14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1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379,026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-19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1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404,389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-24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4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70,091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-29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8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938,484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-34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1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289,167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9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-39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2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392,657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8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-44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2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286,308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5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-49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2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015,641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7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-54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4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887,488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2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-59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0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917,781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7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-64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7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707,702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-69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5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727,599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1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-74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7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94,401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5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-79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7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400,564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4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-84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4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117,123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2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+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6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22,484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2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E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7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,085,571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7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9d3b9"/>
                    </a:solidFill>
                  </a:tcPr>
                </a:tc>
              </a:tr>
            </a:tbl>
          </a:graphicData>
        </a:graphic>
      </p:graphicFrame>
      <p:sp>
        <p:nvSpPr>
          <p:cNvPr id="141" name="Rectangle 111"/>
          <p:cNvSpPr/>
          <p:nvPr/>
        </p:nvSpPr>
        <p:spPr>
          <a:xfrm>
            <a:off x="380880" y="3643200"/>
            <a:ext cx="8204400" cy="546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Text Box 112"/>
          <p:cNvSpPr/>
          <p:nvPr/>
        </p:nvSpPr>
        <p:spPr>
          <a:xfrm>
            <a:off x="507960" y="165240"/>
            <a:ext cx="80010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Age-stratified incidence and number of new case of cervical cancer in Italy, 2005 (based on AIRT data 1998-2002 and ISTAT 2005)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12800" y="477720"/>
            <a:ext cx="3627360" cy="459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Comic Sans MS"/>
              </a:rPr>
              <a:t>International Variation in Age-Standardized Cervical Cancer Incidence Rates</a:t>
            </a:r>
            <a:endParaRPr b="0" i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4930" r="-163" b="9462"/>
          <a:stretch/>
        </p:blipFill>
        <p:spPr>
          <a:xfrm>
            <a:off x="0" y="984240"/>
            <a:ext cx="5315040" cy="5283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42880" y="6381720"/>
            <a:ext cx="297180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Tahoma"/>
              </a:rPr>
              <a:t>Global Cancer Facts </a:t>
            </a:r>
            <a:r>
              <a:rPr b="1" i="1" lang="en-US" sz="800" spc="-1" strike="noStrike">
                <a:solidFill>
                  <a:srgbClr val="ffffff"/>
                </a:solidFill>
                <a:latin typeface="Tahoma"/>
              </a:rPr>
              <a:t>&amp; Figures 2007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2"/>
          <a:srcRect l="40745" t="11586" r="7302" b="12739"/>
          <a:stretch/>
        </p:blipFill>
        <p:spPr>
          <a:xfrm>
            <a:off x="5299200" y="985680"/>
            <a:ext cx="3902040" cy="5281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3"/>
          <a:srcRect l="6109" t="77401" r="80905" b="0"/>
          <a:stretch/>
        </p:blipFill>
        <p:spPr>
          <a:xfrm>
            <a:off x="7601040" y="4560840"/>
            <a:ext cx="1387440" cy="1359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408640" y="638280"/>
            <a:ext cx="3735360" cy="291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Comic Sans MS"/>
              </a:rPr>
              <a:t>Cervix uteri: ASR (per 100.000) (All ages)</a:t>
            </a:r>
            <a:endParaRPr b="0" i="1" lang="en-US" sz="13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-414360" y="1963800"/>
          <a:ext cx="515628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14360" y="1963800"/>
                    <a:ext cx="515628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0" y="1101600"/>
            <a:ext cx="44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Cervical Cancer Cases, Annually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228600"/>
            <a:ext cx="7696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rvical Cancer Cases Worldwide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98360" y="6137280"/>
            <a:ext cx="857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ahoma"/>
              </a:rPr>
              <a:t>Source: J. Ferlay et al., International Agency for Research on Cancer, WHO, GLOBOCAN 2002 Database, 2004.</a:t>
            </a:r>
            <a:endParaRPr b="0" i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29160" y="1401840"/>
          <a:ext cx="4764240" cy="40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29160" y="1401840"/>
                    <a:ext cx="4764240" cy="40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3889080" y="5529240"/>
            <a:ext cx="5414040" cy="21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ates are age-standardized, meaning they permit international comparison in spite of varying age structures.</a:t>
            </a:r>
            <a:endParaRPr b="0" i="1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5262480" y="110160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tes per 100,000 women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08:59:42Z</dcterms:created>
  <dc:creator>Nautonnier</dc:creator>
  <dc:description/>
  <dc:language>en-US</dc:language>
  <cp:lastModifiedBy>visiruse</cp:lastModifiedBy>
  <dcterms:modified xsi:type="dcterms:W3CDTF">2010-02-17T17:03:19Z</dcterms:modified>
  <cp:revision>1315</cp:revision>
  <dc:subject/>
  <dc:title>Diapositiva 1</dc:title>
</cp:coreProperties>
</file>