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8.wmf" ContentType="image/x-wmf"/>
  <Override PartName="/ppt/media/image56.png" ContentType="image/png"/>
  <Override PartName="/ppt/media/image54.wmf" ContentType="image/x-wmf"/>
  <Override PartName="/ppt/media/image52.png" ContentType="image/png"/>
  <Override PartName="/ppt/media/image50.gif" ContentType="image/gif"/>
  <Override PartName="/ppt/media/image10.wmf" ContentType="image/x-wmf"/>
  <Override PartName="/ppt/media/image53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.png" ContentType="image/png"/>
  <Override PartName="/ppt/media/image27.png" ContentType="image/png"/>
  <Override PartName="/ppt/media/image6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29.wmf" ContentType="image/x-wmf"/>
  <Override PartName="/ppt/media/image31.png" ContentType="image/png"/>
  <Override PartName="/ppt/media/image24.png" ContentType="image/png"/>
  <Override PartName="/ppt/media/image64.wmf" ContentType="image/x-wmf"/>
  <Override PartName="/ppt/media/image17.png" ContentType="image/png"/>
  <Override PartName="/ppt/media/image72.jpeg" ContentType="image/jpeg"/>
  <Override PartName="/ppt/media/image16.wmf" ContentType="image/x-wmf"/>
  <Override PartName="/ppt/media/image55.png" ContentType="image/png"/>
  <Override PartName="/ppt/media/image71.png" ContentType="image/png"/>
  <Override PartName="/ppt/media/image69.wmf" ContentType="image/x-wmf"/>
  <Override PartName="/ppt/media/image70.jpeg" ContentType="image/jpeg"/>
  <Override PartName="/ppt/media/image68.png" ContentType="image/png"/>
  <Override PartName="/ppt/media/image25.wmf" ContentType="image/x-wmf"/>
  <Override PartName="/ppt/media/image62.wmf" ContentType="image/x-wmf"/>
  <Override PartName="/ppt/media/image22.png" ContentType="image/png"/>
  <Override PartName="/ppt/media/image20.wmf" ContentType="image/x-wmf"/>
  <Override PartName="/ppt/media/image63.png" ContentType="image/png"/>
  <Override PartName="/ppt/media/image61.wmf" ContentType="image/x-wmf"/>
  <Override PartName="/ppt/media/image21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3.wmf" ContentType="image/x-wmf"/>
  <Override PartName="/ppt/media/image66.png" ContentType="image/png"/>
  <Override PartName="/ppt/media/image5.wmf" ContentType="image/x-wmf"/>
  <Override PartName="/ppt/media/image35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60.wmf" ContentType="image/x-wmf"/>
  <Override PartName="/ppt/media/image38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1.png" ContentType="image/png"/>
  <Override PartName="/ppt/media/image13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0.png" ContentType="image/png"/>
  <Override PartName="/ppt/media/image32.png" ContentType="image/png"/>
  <Override PartName="/ppt/media/image34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2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903B-E7EC-4563-8C2C-7C9A4DE57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e have a low rate of locoregional as well distant progressions/recurrences. Indeed, as an example of exclusive CT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ifel,JCO, 2004 (RTOG 90-01), with a median FU of 4.6 yrs (56mo., doubled) reported 55/194 (28.3%) recurrences + 9 (4.6%) second primary tumo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coregional failure  20/194 (10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istant failure  22/194 (11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ixed (distant+pelvic) 13/194 (6.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cond primary 9 (4.6%) (in our series we have 1 possible second primary instead of 1 distant recur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at is the reason why an adequate and reliable staging work up is of clinical relev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at is the reason why an adequate and reliable staging work up is of clinical relev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rate of rec and mortality is quite simlar to that reported for patients with the same charactersitics undergoing radical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0% of recurrence in the pelvis and half of recurrence at distant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articolarmente interessanti in CO sembra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- approcci che inibiscono la neoangiogene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- approci di terapia genica finalizzati a ricostituire la funzione di inportanti geni oncosoppressori saltati (i.e p53) O bloccanti la funzione di oncogeni amplificati (i.e Her-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679-10BC-4F28-9838-DCC45EF5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EDA-BF39-4665-91C1-5176497C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FD0-D471-4588-9FE9-A1D74396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D0B-EF5E-42D6-92CB-F834F575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652-3EE2-469D-B03F-B49CDAA5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D2D-C5DD-40A2-AF96-294F772D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F36-FE2C-4831-ACA5-F368225E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1CE-ECD4-4B36-B8AF-9E0A27FA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9A5-E2AB-4B87-AE24-8B9A544F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3B0-0ED3-4E46-BFCE-ED470FB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33C-096B-4782-BD93-C47CEBB7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A9D-C6CB-4033-816A-5EEF5CA3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687C-EA76-4A87-8531-73A93C9CEF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png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it.wikipedia.org/wiki/Immagine:Flag_of_Italy.svg" TargetMode="External"/><Relationship Id="rId3" Type="http://schemas.openxmlformats.org/officeDocument/2006/relationships/image" Target="../media/image42.png"/><Relationship Id="rId4" Type="http://schemas.openxmlformats.org/officeDocument/2006/relationships/hyperlink" Target="http://www.google.com/imgres?imgurl=http://ds_ostra.ilcannocchiale.it/blogs/bloggerarchimg/DS_OSTRA/bandiera_francese.jpg&amp;imgrefurl=http://ds_ostra.ilcannocchiale.it/2005/05/21/referendum_il_29_maggio_in_fra.html&amp;h=210&amp;w=309&amp;sz=3&amp;tbnid=A6Tgp65J7-UJ::&amp;tbnh=80&amp;tbnw=117&amp;prev=/images%3Fq%3Dbandiera%2Bfrancese&amp;usg=__RxPGbQb_kAzF2Ctn4HwgUonGKMs=&amp;sa=X&amp;oi=image_result&amp;resnum=5&amp;ct=image&amp;cd=1" TargetMode="External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47.png"/><Relationship Id="rId13" Type="http://schemas.openxmlformats.org/officeDocument/2006/relationships/image" Target="../media/image47.png"/><Relationship Id="rId14" Type="http://schemas.openxmlformats.org/officeDocument/2006/relationships/image" Target="../media/image47.png"/><Relationship Id="rId15" Type="http://schemas.openxmlformats.org/officeDocument/2006/relationships/image" Target="../media/image47.png"/><Relationship Id="rId16" Type="http://schemas.openxmlformats.org/officeDocument/2006/relationships/image" Target="../media/image47.png"/><Relationship Id="rId17" Type="http://schemas.openxmlformats.org/officeDocument/2006/relationships/image" Target="../media/image47.png"/><Relationship Id="rId18" Type="http://schemas.openxmlformats.org/officeDocument/2006/relationships/image" Target="../media/image47.png"/><Relationship Id="rId19" Type="http://schemas.openxmlformats.org/officeDocument/2006/relationships/image" Target="../media/image47.png"/><Relationship Id="rId20" Type="http://schemas.openxmlformats.org/officeDocument/2006/relationships/image" Target="../media/image47.png"/><Relationship Id="rId21" Type="http://schemas.openxmlformats.org/officeDocument/2006/relationships/image" Target="../media/image47.png"/><Relationship Id="rId22" Type="http://schemas.openxmlformats.org/officeDocument/2006/relationships/image" Target="../media/image47.png"/><Relationship Id="rId23" Type="http://schemas.openxmlformats.org/officeDocument/2006/relationships/image" Target="../media/image47.png"/><Relationship Id="rId24" Type="http://schemas.openxmlformats.org/officeDocument/2006/relationships/image" Target="../media/image47.png"/><Relationship Id="rId25" Type="http://schemas.openxmlformats.org/officeDocument/2006/relationships/image" Target="../media/image47.png"/><Relationship Id="rId26" Type="http://schemas.openxmlformats.org/officeDocument/2006/relationships/image" Target="../media/image47.png"/><Relationship Id="rId27" Type="http://schemas.openxmlformats.org/officeDocument/2006/relationships/image" Target="../media/image47.png"/><Relationship Id="rId28" Type="http://schemas.openxmlformats.org/officeDocument/2006/relationships/image" Target="../media/image47.png"/><Relationship Id="rId29" Type="http://schemas.openxmlformats.org/officeDocument/2006/relationships/image" Target="../media/image47.png"/><Relationship Id="rId30" Type="http://schemas.openxmlformats.org/officeDocument/2006/relationships/image" Target="../media/image47.png"/><Relationship Id="rId31" Type="http://schemas.openxmlformats.org/officeDocument/2006/relationships/image" Target="../media/image47.png"/><Relationship Id="rId32" Type="http://schemas.openxmlformats.org/officeDocument/2006/relationships/image" Target="../media/image47.png"/><Relationship Id="rId33" Type="http://schemas.openxmlformats.org/officeDocument/2006/relationships/image" Target="../media/image47.png"/><Relationship Id="rId34" Type="http://schemas.openxmlformats.org/officeDocument/2006/relationships/image" Target="../media/image47.png"/><Relationship Id="rId35" Type="http://schemas.openxmlformats.org/officeDocument/2006/relationships/image" Target="../media/image47.png"/><Relationship Id="rId36" Type="http://schemas.openxmlformats.org/officeDocument/2006/relationships/image" Target="../media/image47.png"/><Relationship Id="rId37" Type="http://schemas.openxmlformats.org/officeDocument/2006/relationships/image" Target="../media/image47.png"/><Relationship Id="rId38" Type="http://schemas.openxmlformats.org/officeDocument/2006/relationships/image" Target="../media/image47.png"/><Relationship Id="rId39" Type="http://schemas.openxmlformats.org/officeDocument/2006/relationships/image" Target="../media/image47.png"/><Relationship Id="rId40" Type="http://schemas.openxmlformats.org/officeDocument/2006/relationships/image" Target="../media/image47.png"/><Relationship Id="rId41" Type="http://schemas.openxmlformats.org/officeDocument/2006/relationships/image" Target="../media/image47.png"/><Relationship Id="rId42" Type="http://schemas.openxmlformats.org/officeDocument/2006/relationships/image" Target="../media/image47.png"/><Relationship Id="rId43" Type="http://schemas.openxmlformats.org/officeDocument/2006/relationships/image" Target="../media/image47.png"/><Relationship Id="rId44" Type="http://schemas.openxmlformats.org/officeDocument/2006/relationships/image" Target="../media/image47.png"/><Relationship Id="rId45" Type="http://schemas.openxmlformats.org/officeDocument/2006/relationships/image" Target="../media/image47.png"/><Relationship Id="rId46" Type="http://schemas.openxmlformats.org/officeDocument/2006/relationships/image" Target="../media/image47.png"/><Relationship Id="rId47" Type="http://schemas.openxmlformats.org/officeDocument/2006/relationships/image" Target="../media/image47.png"/><Relationship Id="rId48" Type="http://schemas.openxmlformats.org/officeDocument/2006/relationships/image" Target="../media/image47.png"/><Relationship Id="rId49" Type="http://schemas.openxmlformats.org/officeDocument/2006/relationships/image" Target="../media/image47.png"/><Relationship Id="rId50" Type="http://schemas.openxmlformats.org/officeDocument/2006/relationships/image" Target="../media/image47.png"/><Relationship Id="rId51" Type="http://schemas.openxmlformats.org/officeDocument/2006/relationships/image" Target="../media/image47.png"/><Relationship Id="rId52" Type="http://schemas.openxmlformats.org/officeDocument/2006/relationships/image" Target="../media/image47.png"/><Relationship Id="rId53" Type="http://schemas.openxmlformats.org/officeDocument/2006/relationships/image" Target="../media/image47.png"/><Relationship Id="rId54" Type="http://schemas.openxmlformats.org/officeDocument/2006/relationships/image" Target="../media/image47.png"/><Relationship Id="rId55" Type="http://schemas.openxmlformats.org/officeDocument/2006/relationships/image" Target="../media/image47.png"/><Relationship Id="rId56" Type="http://schemas.openxmlformats.org/officeDocument/2006/relationships/image" Target="../media/image47.png"/><Relationship Id="rId57" Type="http://schemas.openxmlformats.org/officeDocument/2006/relationships/image" Target="../media/image48.png"/><Relationship Id="rId58" Type="http://schemas.openxmlformats.org/officeDocument/2006/relationships/image" Target="../media/image48.png"/><Relationship Id="rId59" Type="http://schemas.openxmlformats.org/officeDocument/2006/relationships/image" Target="../media/image48.png"/><Relationship Id="rId60" Type="http://schemas.openxmlformats.org/officeDocument/2006/relationships/image" Target="../media/image48.png"/><Relationship Id="rId61" Type="http://schemas.openxmlformats.org/officeDocument/2006/relationships/image" Target="../media/image48.png"/><Relationship Id="rId62" Type="http://schemas.openxmlformats.org/officeDocument/2006/relationships/image" Target="../media/image48.png"/><Relationship Id="rId63" Type="http://schemas.openxmlformats.org/officeDocument/2006/relationships/image" Target="../media/image48.png"/><Relationship Id="rId64" Type="http://schemas.openxmlformats.org/officeDocument/2006/relationships/image" Target="../media/image48.png"/><Relationship Id="rId65" Type="http://schemas.openxmlformats.org/officeDocument/2006/relationships/image" Target="../media/image48.png"/><Relationship Id="rId66" Type="http://schemas.openxmlformats.org/officeDocument/2006/relationships/image" Target="../media/image48.png"/><Relationship Id="rId67" Type="http://schemas.openxmlformats.org/officeDocument/2006/relationships/image" Target="../media/image48.png"/><Relationship Id="rId68" Type="http://schemas.openxmlformats.org/officeDocument/2006/relationships/image" Target="../media/image48.png"/><Relationship Id="rId69" Type="http://schemas.openxmlformats.org/officeDocument/2006/relationships/image" Target="../media/image48.png"/><Relationship Id="rId70" Type="http://schemas.openxmlformats.org/officeDocument/2006/relationships/image" Target="../media/image48.png"/><Relationship Id="rId71" Type="http://schemas.openxmlformats.org/officeDocument/2006/relationships/image" Target="../media/image48.png"/><Relationship Id="rId72" Type="http://schemas.openxmlformats.org/officeDocument/2006/relationships/image" Target="../media/image48.png"/><Relationship Id="rId73" Type="http://schemas.openxmlformats.org/officeDocument/2006/relationships/image" Target="../media/image48.png"/><Relationship Id="rId74" Type="http://schemas.openxmlformats.org/officeDocument/2006/relationships/image" Target="../media/image48.png"/><Relationship Id="rId75" Type="http://schemas.openxmlformats.org/officeDocument/2006/relationships/image" Target="../media/image48.png"/><Relationship Id="rId76" Type="http://schemas.openxmlformats.org/officeDocument/2006/relationships/image" Target="../media/image48.png"/><Relationship Id="rId77" Type="http://schemas.openxmlformats.org/officeDocument/2006/relationships/image" Target="../media/image48.png"/><Relationship Id="rId78" Type="http://schemas.openxmlformats.org/officeDocument/2006/relationships/image" Target="../media/image48.png"/><Relationship Id="rId79" Type="http://schemas.openxmlformats.org/officeDocument/2006/relationships/image" Target="../media/image48.png"/><Relationship Id="rId80" Type="http://schemas.openxmlformats.org/officeDocument/2006/relationships/image" Target="../media/image48.png"/><Relationship Id="rId81" Type="http://schemas.openxmlformats.org/officeDocument/2006/relationships/image" Target="../media/image48.png"/><Relationship Id="rId82" Type="http://schemas.openxmlformats.org/officeDocument/2006/relationships/image" Target="../media/image48.png"/><Relationship Id="rId83" Type="http://schemas.openxmlformats.org/officeDocument/2006/relationships/image" Target="../media/image48.png"/><Relationship Id="rId84" Type="http://schemas.openxmlformats.org/officeDocument/2006/relationships/image" Target="../media/image48.png"/><Relationship Id="rId85" Type="http://schemas.openxmlformats.org/officeDocument/2006/relationships/image" Target="../media/image48.png"/><Relationship Id="rId86" Type="http://schemas.openxmlformats.org/officeDocument/2006/relationships/image" Target="../media/image48.png"/><Relationship Id="rId87" Type="http://schemas.openxmlformats.org/officeDocument/2006/relationships/image" Target="../media/image48.png"/><Relationship Id="rId88" Type="http://schemas.openxmlformats.org/officeDocument/2006/relationships/image" Target="../media/image48.png"/><Relationship Id="rId89" Type="http://schemas.openxmlformats.org/officeDocument/2006/relationships/image" Target="../media/image48.png"/><Relationship Id="rId90" Type="http://schemas.openxmlformats.org/officeDocument/2006/relationships/image" Target="../media/image48.png"/><Relationship Id="rId91" Type="http://schemas.openxmlformats.org/officeDocument/2006/relationships/image" Target="../media/image48.png"/><Relationship Id="rId92" Type="http://schemas.openxmlformats.org/officeDocument/2006/relationships/image" Target="../media/image48.png"/><Relationship Id="rId93" Type="http://schemas.openxmlformats.org/officeDocument/2006/relationships/image" Target="../media/image48.png"/><Relationship Id="rId94" Type="http://schemas.openxmlformats.org/officeDocument/2006/relationships/image" Target="../media/image48.png"/><Relationship Id="rId95" Type="http://schemas.openxmlformats.org/officeDocument/2006/relationships/image" Target="../media/image48.png"/><Relationship Id="rId96" Type="http://schemas.openxmlformats.org/officeDocument/2006/relationships/image" Target="../media/image48.png"/><Relationship Id="rId97" Type="http://schemas.openxmlformats.org/officeDocument/2006/relationships/image" Target="../media/image48.png"/><Relationship Id="rId98" Type="http://schemas.openxmlformats.org/officeDocument/2006/relationships/image" Target="../media/image48.png"/><Relationship Id="rId99" Type="http://schemas.openxmlformats.org/officeDocument/2006/relationships/image" Target="../media/image48.png"/><Relationship Id="rId100" Type="http://schemas.openxmlformats.org/officeDocument/2006/relationships/image" Target="../media/image48.png"/><Relationship Id="rId101" Type="http://schemas.openxmlformats.org/officeDocument/2006/relationships/image" Target="../media/image48.png"/><Relationship Id="rId102" Type="http://schemas.openxmlformats.org/officeDocument/2006/relationships/image" Target="../media/image48.png"/><Relationship Id="rId103" Type="http://schemas.openxmlformats.org/officeDocument/2006/relationships/image" Target="../media/image48.png"/><Relationship Id="rId104" Type="http://schemas.openxmlformats.org/officeDocument/2006/relationships/image" Target="../media/image48.png"/><Relationship Id="rId105" Type="http://schemas.openxmlformats.org/officeDocument/2006/relationships/image" Target="../media/image48.png"/><Relationship Id="rId106" Type="http://schemas.openxmlformats.org/officeDocument/2006/relationships/image" Target="../media/image48.png"/><Relationship Id="rId107" Type="http://schemas.openxmlformats.org/officeDocument/2006/relationships/image" Target="../media/image48.png"/><Relationship Id="rId108" Type="http://schemas.openxmlformats.org/officeDocument/2006/relationships/image" Target="../media/image48.png"/><Relationship Id="rId109" Type="http://schemas.openxmlformats.org/officeDocument/2006/relationships/image" Target="../media/image48.png"/><Relationship Id="rId110" Type="http://schemas.openxmlformats.org/officeDocument/2006/relationships/image" Target="../media/image48.png"/><Relationship Id="rId111" Type="http://schemas.openxmlformats.org/officeDocument/2006/relationships/image" Target="../media/image48.png"/><Relationship Id="rId112" Type="http://schemas.openxmlformats.org/officeDocument/2006/relationships/image" Target="../media/image48.png"/><Relationship Id="rId113" Type="http://schemas.openxmlformats.org/officeDocument/2006/relationships/image" Target="../media/image48.png"/><Relationship Id="rId114" Type="http://schemas.openxmlformats.org/officeDocument/2006/relationships/image" Target="../media/image48.png"/><Relationship Id="rId115" Type="http://schemas.openxmlformats.org/officeDocument/2006/relationships/image" Target="../media/image48.png"/><Relationship Id="rId116" Type="http://schemas.openxmlformats.org/officeDocument/2006/relationships/image" Target="../media/image48.png"/><Relationship Id="rId117" Type="http://schemas.openxmlformats.org/officeDocument/2006/relationships/image" Target="../media/image48.png"/><Relationship Id="rId118" Type="http://schemas.openxmlformats.org/officeDocument/2006/relationships/image" Target="../media/image48.png"/><Relationship Id="rId119" Type="http://schemas.openxmlformats.org/officeDocument/2006/relationships/image" Target="../media/image48.png"/><Relationship Id="rId120" Type="http://schemas.openxmlformats.org/officeDocument/2006/relationships/image" Target="../media/image48.png"/><Relationship Id="rId121" Type="http://schemas.openxmlformats.org/officeDocument/2006/relationships/image" Target="../media/image48.png"/><Relationship Id="rId122" Type="http://schemas.openxmlformats.org/officeDocument/2006/relationships/image" Target="../media/image48.png"/><Relationship Id="rId123" Type="http://schemas.openxmlformats.org/officeDocument/2006/relationships/image" Target="../media/image48.png"/><Relationship Id="rId124" Type="http://schemas.openxmlformats.org/officeDocument/2006/relationships/image" Target="../media/image48.png"/><Relationship Id="rId125" Type="http://schemas.openxmlformats.org/officeDocument/2006/relationships/image" Target="../media/image48.png"/><Relationship Id="rId126" Type="http://schemas.openxmlformats.org/officeDocument/2006/relationships/image" Target="../media/image48.png"/><Relationship Id="rId127" Type="http://schemas.openxmlformats.org/officeDocument/2006/relationships/image" Target="../media/image48.png"/><Relationship Id="rId128" Type="http://schemas.openxmlformats.org/officeDocument/2006/relationships/image" Target="../media/image48.png"/><Relationship Id="rId129" Type="http://schemas.openxmlformats.org/officeDocument/2006/relationships/image" Target="../media/image48.png"/><Relationship Id="rId130" Type="http://schemas.openxmlformats.org/officeDocument/2006/relationships/image" Target="../media/image48.png"/><Relationship Id="rId131" Type="http://schemas.openxmlformats.org/officeDocument/2006/relationships/image" Target="../media/image48.png"/><Relationship Id="rId132" Type="http://schemas.openxmlformats.org/officeDocument/2006/relationships/image" Target="../media/image48.png"/><Relationship Id="rId133" Type="http://schemas.openxmlformats.org/officeDocument/2006/relationships/image" Target="../media/image48.png"/><Relationship Id="rId134" Type="http://schemas.openxmlformats.org/officeDocument/2006/relationships/image" Target="../media/image48.png"/><Relationship Id="rId135" Type="http://schemas.openxmlformats.org/officeDocument/2006/relationships/image" Target="../media/image48.png"/><Relationship Id="rId136" Type="http://schemas.openxmlformats.org/officeDocument/2006/relationships/image" Target="../media/image48.png"/><Relationship Id="rId137" Type="http://schemas.openxmlformats.org/officeDocument/2006/relationships/image" Target="../media/image48.png"/><Relationship Id="rId138" Type="http://schemas.openxmlformats.org/officeDocument/2006/relationships/image" Target="../media/image48.png"/><Relationship Id="rId139" Type="http://schemas.openxmlformats.org/officeDocument/2006/relationships/image" Target="../media/image48.png"/><Relationship Id="rId140" Type="http://schemas.openxmlformats.org/officeDocument/2006/relationships/image" Target="../media/image48.png"/><Relationship Id="rId141" Type="http://schemas.openxmlformats.org/officeDocument/2006/relationships/image" Target="../media/image48.png"/><Relationship Id="rId142" Type="http://schemas.openxmlformats.org/officeDocument/2006/relationships/image" Target="../media/image48.png"/><Relationship Id="rId143" Type="http://schemas.openxmlformats.org/officeDocument/2006/relationships/image" Target="../media/image48.png"/><Relationship Id="rId144" Type="http://schemas.openxmlformats.org/officeDocument/2006/relationships/image" Target="../media/image48.png"/><Relationship Id="rId145" Type="http://schemas.openxmlformats.org/officeDocument/2006/relationships/image" Target="../media/image48.png"/><Relationship Id="rId146" Type="http://schemas.openxmlformats.org/officeDocument/2006/relationships/image" Target="../media/image48.png"/><Relationship Id="rId147" Type="http://schemas.openxmlformats.org/officeDocument/2006/relationships/image" Target="../media/image48.png"/><Relationship Id="rId148" Type="http://schemas.openxmlformats.org/officeDocument/2006/relationships/image" Target="../media/image48.png"/><Relationship Id="rId149" Type="http://schemas.openxmlformats.org/officeDocument/2006/relationships/image" Target="../media/image48.png"/><Relationship Id="rId150" Type="http://schemas.openxmlformats.org/officeDocument/2006/relationships/image" Target="../media/image48.png"/><Relationship Id="rId151" Type="http://schemas.openxmlformats.org/officeDocument/2006/relationships/image" Target="../media/image48.png"/><Relationship Id="rId152" Type="http://schemas.openxmlformats.org/officeDocument/2006/relationships/image" Target="../media/image48.png"/><Relationship Id="rId153" Type="http://schemas.openxmlformats.org/officeDocument/2006/relationships/image" Target="../media/image48.png"/><Relationship Id="rId154" Type="http://schemas.openxmlformats.org/officeDocument/2006/relationships/image" Target="../media/image48.png"/><Relationship Id="rId155" Type="http://schemas.openxmlformats.org/officeDocument/2006/relationships/image" Target="../media/image48.png"/><Relationship Id="rId156" Type="http://schemas.openxmlformats.org/officeDocument/2006/relationships/image" Target="../media/image48.png"/><Relationship Id="rId157" Type="http://schemas.openxmlformats.org/officeDocument/2006/relationships/image" Target="../media/image48.png"/><Relationship Id="rId158" Type="http://schemas.openxmlformats.org/officeDocument/2006/relationships/image" Target="../media/image48.png"/><Relationship Id="rId159" Type="http://schemas.openxmlformats.org/officeDocument/2006/relationships/image" Target="../media/image48.png"/><Relationship Id="rId160" Type="http://schemas.openxmlformats.org/officeDocument/2006/relationships/image" Target="../media/image48.png"/><Relationship Id="rId161" Type="http://schemas.openxmlformats.org/officeDocument/2006/relationships/image" Target="../media/image48.png"/><Relationship Id="rId162" Type="http://schemas.openxmlformats.org/officeDocument/2006/relationships/image" Target="../media/image48.png"/><Relationship Id="rId163" Type="http://schemas.openxmlformats.org/officeDocument/2006/relationships/image" Target="../media/image48.png"/><Relationship Id="rId164" Type="http://schemas.openxmlformats.org/officeDocument/2006/relationships/image" Target="../media/image48.png"/><Relationship Id="rId165" Type="http://schemas.openxmlformats.org/officeDocument/2006/relationships/image" Target="../media/image48.png"/><Relationship Id="rId166" Type="http://schemas.openxmlformats.org/officeDocument/2006/relationships/image" Target="../media/image48.png"/><Relationship Id="rId167" Type="http://schemas.openxmlformats.org/officeDocument/2006/relationships/image" Target="../media/image48.png"/><Relationship Id="rId168" Type="http://schemas.openxmlformats.org/officeDocument/2006/relationships/image" Target="../media/image48.png"/><Relationship Id="rId169" Type="http://schemas.openxmlformats.org/officeDocument/2006/relationships/image" Target="../media/image49.png"/><Relationship Id="rId170" Type="http://schemas.openxmlformats.org/officeDocument/2006/relationships/image" Target="../media/image49.png"/><Relationship Id="rId171" Type="http://schemas.openxmlformats.org/officeDocument/2006/relationships/image" Target="../media/image49.png"/><Relationship Id="rId172" Type="http://schemas.openxmlformats.org/officeDocument/2006/relationships/image" Target="../media/image49.png"/><Relationship Id="rId173" Type="http://schemas.openxmlformats.org/officeDocument/2006/relationships/image" Target="../media/image49.png"/><Relationship Id="rId174" Type="http://schemas.openxmlformats.org/officeDocument/2006/relationships/image" Target="../media/image49.png"/><Relationship Id="rId175" Type="http://schemas.openxmlformats.org/officeDocument/2006/relationships/image" Target="../media/image49.png"/><Relationship Id="rId176" Type="http://schemas.openxmlformats.org/officeDocument/2006/relationships/image" Target="../media/image49.png"/><Relationship Id="rId177" Type="http://schemas.openxmlformats.org/officeDocument/2006/relationships/image" Target="../media/image49.png"/><Relationship Id="rId178" Type="http://schemas.openxmlformats.org/officeDocument/2006/relationships/image" Target="../media/image49.png"/><Relationship Id="rId179" Type="http://schemas.openxmlformats.org/officeDocument/2006/relationships/image" Target="../media/image49.png"/><Relationship Id="rId180" Type="http://schemas.openxmlformats.org/officeDocument/2006/relationships/image" Target="../media/image49.png"/><Relationship Id="rId181" Type="http://schemas.openxmlformats.org/officeDocument/2006/relationships/image" Target="../media/image49.png"/><Relationship Id="rId182" Type="http://schemas.openxmlformats.org/officeDocument/2006/relationships/image" Target="../media/image49.png"/><Relationship Id="rId183" Type="http://schemas.openxmlformats.org/officeDocument/2006/relationships/image" Target="../media/image49.png"/><Relationship Id="rId184" Type="http://schemas.openxmlformats.org/officeDocument/2006/relationships/image" Target="../media/image49.png"/><Relationship Id="rId185" Type="http://schemas.openxmlformats.org/officeDocument/2006/relationships/image" Target="../media/image49.png"/><Relationship Id="rId186" Type="http://schemas.openxmlformats.org/officeDocument/2006/relationships/image" Target="../media/image49.png"/><Relationship Id="rId187" Type="http://schemas.openxmlformats.org/officeDocument/2006/relationships/image" Target="../media/image49.png"/><Relationship Id="rId188" Type="http://schemas.openxmlformats.org/officeDocument/2006/relationships/image" Target="../media/image49.png"/><Relationship Id="rId189" Type="http://schemas.openxmlformats.org/officeDocument/2006/relationships/image" Target="../media/image49.png"/><Relationship Id="rId190" Type="http://schemas.openxmlformats.org/officeDocument/2006/relationships/image" Target="../media/image49.png"/><Relationship Id="rId191" Type="http://schemas.openxmlformats.org/officeDocument/2006/relationships/image" Target="../media/image49.png"/><Relationship Id="rId192" Type="http://schemas.openxmlformats.org/officeDocument/2006/relationships/image" Target="../media/image49.png"/><Relationship Id="rId193" Type="http://schemas.openxmlformats.org/officeDocument/2006/relationships/image" Target="../media/image49.png"/><Relationship Id="rId194" Type="http://schemas.openxmlformats.org/officeDocument/2006/relationships/image" Target="../media/image49.png"/><Relationship Id="rId195" Type="http://schemas.openxmlformats.org/officeDocument/2006/relationships/image" Target="../media/image49.png"/><Relationship Id="rId196" Type="http://schemas.openxmlformats.org/officeDocument/2006/relationships/image" Target="../media/image49.png"/><Relationship Id="rId197" Type="http://schemas.openxmlformats.org/officeDocument/2006/relationships/image" Target="../media/image49.png"/><Relationship Id="rId198" Type="http://schemas.openxmlformats.org/officeDocument/2006/relationships/image" Target="../media/image49.png"/><Relationship Id="rId199" Type="http://schemas.openxmlformats.org/officeDocument/2006/relationships/image" Target="../media/image49.png"/><Relationship Id="rId200" Type="http://schemas.openxmlformats.org/officeDocument/2006/relationships/image" Target="../media/image49.png"/><Relationship Id="rId201" Type="http://schemas.openxmlformats.org/officeDocument/2006/relationships/image" Target="../media/image49.png"/><Relationship Id="rId202" Type="http://schemas.openxmlformats.org/officeDocument/2006/relationships/image" Target="../media/image49.png"/><Relationship Id="rId203" Type="http://schemas.openxmlformats.org/officeDocument/2006/relationships/image" Target="../media/image49.png"/><Relationship Id="rId204" Type="http://schemas.openxmlformats.org/officeDocument/2006/relationships/image" Target="../media/image49.png"/><Relationship Id="rId205" Type="http://schemas.openxmlformats.org/officeDocument/2006/relationships/image" Target="../media/image49.png"/><Relationship Id="rId206" Type="http://schemas.openxmlformats.org/officeDocument/2006/relationships/image" Target="../media/image49.png"/><Relationship Id="rId207" Type="http://schemas.openxmlformats.org/officeDocument/2006/relationships/image" Target="../media/image49.png"/><Relationship Id="rId208" Type="http://schemas.openxmlformats.org/officeDocument/2006/relationships/image" Target="../media/image49.png"/><Relationship Id="rId209" Type="http://schemas.openxmlformats.org/officeDocument/2006/relationships/image" Target="../media/image49.png"/><Relationship Id="rId210" Type="http://schemas.openxmlformats.org/officeDocument/2006/relationships/image" Target="../media/image49.png"/><Relationship Id="rId211" Type="http://schemas.openxmlformats.org/officeDocument/2006/relationships/image" Target="../media/image49.png"/><Relationship Id="rId212" Type="http://schemas.openxmlformats.org/officeDocument/2006/relationships/image" Target="../media/image49.png"/><Relationship Id="rId213" Type="http://schemas.openxmlformats.org/officeDocument/2006/relationships/image" Target="../media/image49.png"/><Relationship Id="rId214" Type="http://schemas.openxmlformats.org/officeDocument/2006/relationships/image" Target="../media/image49.png"/><Relationship Id="rId215" Type="http://schemas.openxmlformats.org/officeDocument/2006/relationships/image" Target="../media/image49.png"/><Relationship Id="rId216" Type="http://schemas.openxmlformats.org/officeDocument/2006/relationships/image" Target="../media/image49.png"/><Relationship Id="rId217" Type="http://schemas.openxmlformats.org/officeDocument/2006/relationships/image" Target="../media/image49.png"/><Relationship Id="rId218" Type="http://schemas.openxmlformats.org/officeDocument/2006/relationships/image" Target="../media/image49.png"/><Relationship Id="rId219" Type="http://schemas.openxmlformats.org/officeDocument/2006/relationships/image" Target="../media/image49.png"/><Relationship Id="rId220" Type="http://schemas.openxmlformats.org/officeDocument/2006/relationships/image" Target="../media/image49.png"/><Relationship Id="rId221" Type="http://schemas.openxmlformats.org/officeDocument/2006/relationships/image" Target="../media/image49.png"/><Relationship Id="rId222" Type="http://schemas.openxmlformats.org/officeDocument/2006/relationships/image" Target="../media/image49.png"/><Relationship Id="rId223" Type="http://schemas.openxmlformats.org/officeDocument/2006/relationships/image" Target="../media/image49.png"/><Relationship Id="rId224" Type="http://schemas.openxmlformats.org/officeDocument/2006/relationships/image" Target="../media/image49.png"/><Relationship Id="rId225" Type="http://schemas.openxmlformats.org/officeDocument/2006/relationships/image" Target="../media/image49.png"/><Relationship Id="rId226" Type="http://schemas.openxmlformats.org/officeDocument/2006/relationships/image" Target="../media/image49.png"/><Relationship Id="rId227" Type="http://schemas.openxmlformats.org/officeDocument/2006/relationships/image" Target="../media/image49.png"/><Relationship Id="rId228" Type="http://schemas.openxmlformats.org/officeDocument/2006/relationships/image" Target="../media/image49.png"/><Relationship Id="rId229" Type="http://schemas.openxmlformats.org/officeDocument/2006/relationships/image" Target="../media/image49.png"/><Relationship Id="rId230" Type="http://schemas.openxmlformats.org/officeDocument/2006/relationships/image" Target="../media/image49.png"/><Relationship Id="rId231" Type="http://schemas.openxmlformats.org/officeDocument/2006/relationships/image" Target="../media/image49.png"/><Relationship Id="rId232" Type="http://schemas.openxmlformats.org/officeDocument/2006/relationships/image" Target="../media/image49.png"/><Relationship Id="rId233" Type="http://schemas.openxmlformats.org/officeDocument/2006/relationships/image" Target="../media/image49.png"/><Relationship Id="rId234" Type="http://schemas.openxmlformats.org/officeDocument/2006/relationships/image" Target="../media/image49.png"/><Relationship Id="rId235" Type="http://schemas.openxmlformats.org/officeDocument/2006/relationships/image" Target="../media/image49.png"/><Relationship Id="rId236" Type="http://schemas.openxmlformats.org/officeDocument/2006/relationships/image" Target="../media/image49.png"/><Relationship Id="rId237" Type="http://schemas.openxmlformats.org/officeDocument/2006/relationships/image" Target="../media/image49.png"/><Relationship Id="rId238" Type="http://schemas.openxmlformats.org/officeDocument/2006/relationships/image" Target="../media/image49.png"/><Relationship Id="rId239" Type="http://schemas.openxmlformats.org/officeDocument/2006/relationships/image" Target="../media/image49.png"/><Relationship Id="rId240" Type="http://schemas.openxmlformats.org/officeDocument/2006/relationships/image" Target="../media/image49.png"/><Relationship Id="rId241" Type="http://schemas.openxmlformats.org/officeDocument/2006/relationships/image" Target="../media/image49.png"/><Relationship Id="rId242" Type="http://schemas.openxmlformats.org/officeDocument/2006/relationships/image" Target="../media/image49.png"/><Relationship Id="rId243" Type="http://schemas.openxmlformats.org/officeDocument/2006/relationships/image" Target="../media/image49.png"/><Relationship Id="rId244" Type="http://schemas.openxmlformats.org/officeDocument/2006/relationships/image" Target="../media/image49.png"/><Relationship Id="rId245" Type="http://schemas.openxmlformats.org/officeDocument/2006/relationships/image" Target="../media/image49.png"/><Relationship Id="rId246" Type="http://schemas.openxmlformats.org/officeDocument/2006/relationships/image" Target="../media/image49.png"/><Relationship Id="rId247" Type="http://schemas.openxmlformats.org/officeDocument/2006/relationships/image" Target="../media/image49.png"/><Relationship Id="rId248" Type="http://schemas.openxmlformats.org/officeDocument/2006/relationships/image" Target="../media/image49.png"/><Relationship Id="rId249" Type="http://schemas.openxmlformats.org/officeDocument/2006/relationships/image" Target="../media/image49.png"/><Relationship Id="rId250" Type="http://schemas.openxmlformats.org/officeDocument/2006/relationships/image" Target="../media/image49.png"/><Relationship Id="rId251" Type="http://schemas.openxmlformats.org/officeDocument/2006/relationships/image" Target="../media/image49.png"/><Relationship Id="rId252" Type="http://schemas.openxmlformats.org/officeDocument/2006/relationships/image" Target="../media/image49.png"/><Relationship Id="rId253" Type="http://schemas.openxmlformats.org/officeDocument/2006/relationships/image" Target="../media/image49.png"/><Relationship Id="rId254" Type="http://schemas.openxmlformats.org/officeDocument/2006/relationships/image" Target="../media/image49.png"/><Relationship Id="rId255" Type="http://schemas.openxmlformats.org/officeDocument/2006/relationships/image" Target="../media/image49.png"/><Relationship Id="rId256" Type="http://schemas.openxmlformats.org/officeDocument/2006/relationships/image" Target="../media/image49.png"/><Relationship Id="rId257" Type="http://schemas.openxmlformats.org/officeDocument/2006/relationships/image" Target="../media/image49.png"/><Relationship Id="rId258" Type="http://schemas.openxmlformats.org/officeDocument/2006/relationships/image" Target="../media/image49.png"/><Relationship Id="rId259" Type="http://schemas.openxmlformats.org/officeDocument/2006/relationships/image" Target="../media/image49.png"/><Relationship Id="rId260" Type="http://schemas.openxmlformats.org/officeDocument/2006/relationships/image" Target="../media/image49.png"/><Relationship Id="rId261" Type="http://schemas.openxmlformats.org/officeDocument/2006/relationships/image" Target="../media/image49.png"/><Relationship Id="rId262" Type="http://schemas.openxmlformats.org/officeDocument/2006/relationships/image" Target="../media/image49.png"/><Relationship Id="rId263" Type="http://schemas.openxmlformats.org/officeDocument/2006/relationships/image" Target="../media/image49.png"/><Relationship Id="rId264" Type="http://schemas.openxmlformats.org/officeDocument/2006/relationships/image" Target="../media/image49.png"/><Relationship Id="rId265" Type="http://schemas.openxmlformats.org/officeDocument/2006/relationships/image" Target="../media/image49.png"/><Relationship Id="rId266" Type="http://schemas.openxmlformats.org/officeDocument/2006/relationships/image" Target="../media/image49.png"/><Relationship Id="rId267" Type="http://schemas.openxmlformats.org/officeDocument/2006/relationships/image" Target="../media/image49.png"/><Relationship Id="rId268" Type="http://schemas.openxmlformats.org/officeDocument/2006/relationships/image" Target="../media/image49.png"/><Relationship Id="rId269" Type="http://schemas.openxmlformats.org/officeDocument/2006/relationships/image" Target="../media/image49.png"/><Relationship Id="rId270" Type="http://schemas.openxmlformats.org/officeDocument/2006/relationships/image" Target="../media/image49.png"/><Relationship Id="rId271" Type="http://schemas.openxmlformats.org/officeDocument/2006/relationships/image" Target="../media/image49.png"/><Relationship Id="rId272" Type="http://schemas.openxmlformats.org/officeDocument/2006/relationships/image" Target="../media/image49.png"/><Relationship Id="rId273" Type="http://schemas.openxmlformats.org/officeDocument/2006/relationships/image" Target="../media/image49.png"/><Relationship Id="rId274" Type="http://schemas.openxmlformats.org/officeDocument/2006/relationships/image" Target="../media/image49.png"/><Relationship Id="rId275" Type="http://schemas.openxmlformats.org/officeDocument/2006/relationships/image" Target="../media/image49.png"/><Relationship Id="rId276" Type="http://schemas.openxmlformats.org/officeDocument/2006/relationships/image" Target="../media/image49.png"/><Relationship Id="rId277" Type="http://schemas.openxmlformats.org/officeDocument/2006/relationships/image" Target="../media/image49.png"/><Relationship Id="rId278" Type="http://schemas.openxmlformats.org/officeDocument/2006/relationships/image" Target="../media/image49.png"/><Relationship Id="rId279" Type="http://schemas.openxmlformats.org/officeDocument/2006/relationships/image" Target="../media/image49.png"/><Relationship Id="rId280" Type="http://schemas.openxmlformats.org/officeDocument/2006/relationships/image" Target="../media/image49.png"/><Relationship Id="rId281" Type="http://schemas.openxmlformats.org/officeDocument/2006/relationships/image" Target="../media/image49.png"/><Relationship Id="rId282" Type="http://schemas.openxmlformats.org/officeDocument/2006/relationships/image" Target="../media/image49.png"/><Relationship Id="rId283" Type="http://schemas.openxmlformats.org/officeDocument/2006/relationships/image" Target="../media/image49.png"/><Relationship Id="rId284" Type="http://schemas.openxmlformats.org/officeDocument/2006/relationships/image" Target="../media/image49.png"/><Relationship Id="rId285" Type="http://schemas.openxmlformats.org/officeDocument/2006/relationships/image" Target="../media/image49.png"/><Relationship Id="rId286" Type="http://schemas.openxmlformats.org/officeDocument/2006/relationships/image" Target="../media/image49.png"/><Relationship Id="rId287" Type="http://schemas.openxmlformats.org/officeDocument/2006/relationships/image" Target="../media/image49.png"/><Relationship Id="rId288" Type="http://schemas.openxmlformats.org/officeDocument/2006/relationships/image" Target="../media/image49.png"/><Relationship Id="rId289" Type="http://schemas.openxmlformats.org/officeDocument/2006/relationships/image" Target="../media/image49.png"/><Relationship Id="rId290" Type="http://schemas.openxmlformats.org/officeDocument/2006/relationships/image" Target="../media/image49.png"/><Relationship Id="rId291" Type="http://schemas.openxmlformats.org/officeDocument/2006/relationships/image" Target="../media/image49.png"/><Relationship Id="rId292" Type="http://schemas.openxmlformats.org/officeDocument/2006/relationships/image" Target="../media/image49.png"/><Relationship Id="rId293" Type="http://schemas.openxmlformats.org/officeDocument/2006/relationships/image" Target="../media/image49.png"/><Relationship Id="rId294" Type="http://schemas.openxmlformats.org/officeDocument/2006/relationships/image" Target="../media/image49.png"/><Relationship Id="rId295" Type="http://schemas.openxmlformats.org/officeDocument/2006/relationships/image" Target="../media/image49.png"/><Relationship Id="rId296" Type="http://schemas.openxmlformats.org/officeDocument/2006/relationships/image" Target="../media/image49.png"/><Relationship Id="rId297" Type="http://schemas.openxmlformats.org/officeDocument/2006/relationships/image" Target="../media/image49.png"/><Relationship Id="rId298" Type="http://schemas.openxmlformats.org/officeDocument/2006/relationships/image" Target="../media/image49.png"/><Relationship Id="rId299" Type="http://schemas.openxmlformats.org/officeDocument/2006/relationships/image" Target="../media/image49.png"/><Relationship Id="rId300" Type="http://schemas.openxmlformats.org/officeDocument/2006/relationships/image" Target="../media/image49.png"/><Relationship Id="rId301" Type="http://schemas.openxmlformats.org/officeDocument/2006/relationships/image" Target="../media/image49.png"/><Relationship Id="rId302" Type="http://schemas.openxmlformats.org/officeDocument/2006/relationships/image" Target="../media/image49.png"/><Relationship Id="rId303" Type="http://schemas.openxmlformats.org/officeDocument/2006/relationships/image" Target="../media/image49.png"/><Relationship Id="rId304" Type="http://schemas.openxmlformats.org/officeDocument/2006/relationships/image" Target="../media/image49.png"/><Relationship Id="rId305" Type="http://schemas.openxmlformats.org/officeDocument/2006/relationships/image" Target="../media/image49.png"/><Relationship Id="rId306" Type="http://schemas.openxmlformats.org/officeDocument/2006/relationships/image" Target="../media/image49.png"/><Relationship Id="rId307" Type="http://schemas.openxmlformats.org/officeDocument/2006/relationships/image" Target="../media/image49.png"/><Relationship Id="rId308" Type="http://schemas.openxmlformats.org/officeDocument/2006/relationships/image" Target="../media/image49.png"/><Relationship Id="rId309" Type="http://schemas.openxmlformats.org/officeDocument/2006/relationships/image" Target="../media/image49.png"/><Relationship Id="rId310" Type="http://schemas.openxmlformats.org/officeDocument/2006/relationships/image" Target="../media/image49.png"/><Relationship Id="rId311" Type="http://schemas.openxmlformats.org/officeDocument/2006/relationships/image" Target="../media/image49.png"/><Relationship Id="rId312" Type="http://schemas.openxmlformats.org/officeDocument/2006/relationships/image" Target="../media/image49.png"/><Relationship Id="rId313" Type="http://schemas.openxmlformats.org/officeDocument/2006/relationships/image" Target="../media/image49.png"/><Relationship Id="rId314" Type="http://schemas.openxmlformats.org/officeDocument/2006/relationships/image" Target="../media/image49.png"/><Relationship Id="rId315" Type="http://schemas.openxmlformats.org/officeDocument/2006/relationships/image" Target="../media/image49.png"/><Relationship Id="rId316" Type="http://schemas.openxmlformats.org/officeDocument/2006/relationships/image" Target="../media/image49.png"/><Relationship Id="rId317" Type="http://schemas.openxmlformats.org/officeDocument/2006/relationships/image" Target="../media/image49.png"/><Relationship Id="rId318" Type="http://schemas.openxmlformats.org/officeDocument/2006/relationships/image" Target="../media/image49.png"/><Relationship Id="rId319" Type="http://schemas.openxmlformats.org/officeDocument/2006/relationships/image" Target="../media/image49.png"/><Relationship Id="rId320" Type="http://schemas.openxmlformats.org/officeDocument/2006/relationships/image" Target="../media/image49.png"/><Relationship Id="rId321" Type="http://schemas.openxmlformats.org/officeDocument/2006/relationships/image" Target="../media/image49.png"/><Relationship Id="rId322" Type="http://schemas.openxmlformats.org/officeDocument/2006/relationships/image" Target="../media/image49.png"/><Relationship Id="rId323" Type="http://schemas.openxmlformats.org/officeDocument/2006/relationships/image" Target="../media/image49.png"/><Relationship Id="rId324" Type="http://schemas.openxmlformats.org/officeDocument/2006/relationships/image" Target="../media/image49.png"/><Relationship Id="rId325" Type="http://schemas.openxmlformats.org/officeDocument/2006/relationships/image" Target="../media/image49.png"/><Relationship Id="rId326" Type="http://schemas.openxmlformats.org/officeDocument/2006/relationships/image" Target="../media/image49.png"/><Relationship Id="rId327" Type="http://schemas.openxmlformats.org/officeDocument/2006/relationships/image" Target="../media/image49.png"/><Relationship Id="rId328" Type="http://schemas.openxmlformats.org/officeDocument/2006/relationships/image" Target="../media/image49.png"/><Relationship Id="rId329" Type="http://schemas.openxmlformats.org/officeDocument/2006/relationships/image" Target="../media/image49.png"/><Relationship Id="rId330" Type="http://schemas.openxmlformats.org/officeDocument/2006/relationships/image" Target="../media/image49.png"/><Relationship Id="rId331" Type="http://schemas.openxmlformats.org/officeDocument/2006/relationships/image" Target="../media/image49.png"/><Relationship Id="rId332" Type="http://schemas.openxmlformats.org/officeDocument/2006/relationships/image" Target="../media/image49.png"/><Relationship Id="rId333" Type="http://schemas.openxmlformats.org/officeDocument/2006/relationships/image" Target="../media/image49.png"/><Relationship Id="rId334" Type="http://schemas.openxmlformats.org/officeDocument/2006/relationships/image" Target="../media/image49.png"/><Relationship Id="rId335" Type="http://schemas.openxmlformats.org/officeDocument/2006/relationships/image" Target="../media/image49.png"/><Relationship Id="rId336" Type="http://schemas.openxmlformats.org/officeDocument/2006/relationships/image" Target="../media/image49.png"/><Relationship Id="rId337" Type="http://schemas.openxmlformats.org/officeDocument/2006/relationships/image" Target="../media/image49.png"/><Relationship Id="rId338" Type="http://schemas.openxmlformats.org/officeDocument/2006/relationships/image" Target="../media/image49.png"/><Relationship Id="rId339" Type="http://schemas.openxmlformats.org/officeDocument/2006/relationships/image" Target="../media/image49.png"/><Relationship Id="rId340" Type="http://schemas.openxmlformats.org/officeDocument/2006/relationships/image" Target="../media/image49.png"/><Relationship Id="rId341" Type="http://schemas.openxmlformats.org/officeDocument/2006/relationships/image" Target="../media/image49.png"/><Relationship Id="rId342" Type="http://schemas.openxmlformats.org/officeDocument/2006/relationships/image" Target="../media/image49.png"/><Relationship Id="rId343" Type="http://schemas.openxmlformats.org/officeDocument/2006/relationships/image" Target="../media/image49.png"/><Relationship Id="rId34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png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image" Target="../media/image68.png"/><Relationship Id="rId4" Type="http://schemas.openxmlformats.org/officeDocument/2006/relationships/image" Target="../media/image69.wmf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hyperlink" Target="http://caonline.amcancersoc.org/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wmf"/><Relationship Id="rId13" Type="http://schemas.openxmlformats.org/officeDocument/2006/relationships/image" Target="../media/image24.png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7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8.png"/><Relationship Id="rId20" Type="http://schemas.openxmlformats.org/officeDocument/2006/relationships/image" Target="../media/image29.wmf"/><Relationship Id="rId21" Type="http://schemas.openxmlformats.org/officeDocument/2006/relationships/image" Target="../media/image30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1701720"/>
            <a:ext cx="8213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Times New Roman"/>
              </a:rPr>
              <a:t>Le terapie integrate nei  tumori della cervice uterina: Chiru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3200" y="393372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Gabriella Ferrand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2880" y="0"/>
            <a:ext cx="8610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66"/>
                </a:solidFill>
                <a:latin typeface="Times New Roman"/>
              </a:rPr>
              <a:t>CHIETI, 18 Febbraio, 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62320" y="4641840"/>
            <a:ext cx="914400" cy="85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6120" y="5427720"/>
            <a:ext cx="78847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Times New Roman"/>
              </a:rPr>
              <a:t>Dipartimento per la Tutela della Salute della Donna e della Vita Nascente, Ro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Centro di Ricerca e Formazione ad Alta Tecnologia nelle Scienze Biomed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imes New Roman"/>
              </a:rPr>
              <a:t>Dipartimento di Oncologia, </a:t>
            </a:r>
            <a:r>
              <a:rPr b="1" i="1" lang="en-GB" sz="1800" spc="-1" strike="noStrike">
                <a:solidFill>
                  <a:srgbClr val="ff0000"/>
                </a:solidFill>
                <a:latin typeface="Times New Roman"/>
              </a:rPr>
              <a:t>Campoba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67760" y="6351480"/>
            <a:ext cx="5175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 Antiqua"/>
              </a:rPr>
              <a:t>Università Cattolica del Sacro Cu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81560" cy="1079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140520" y="0"/>
            <a:ext cx="3003480" cy="1062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85760" y="1173240"/>
            <a:ext cx="4159080" cy="2590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77840" y="3894120"/>
            <a:ext cx="4316400" cy="2624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5222880" y="1479600"/>
            <a:ext cx="3921120" cy="2317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>
            <a:off x="3981240" y="3984480"/>
            <a:ext cx="301320" cy="311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976560" y="4464000"/>
            <a:ext cx="301680" cy="311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4730760" y="4162320"/>
            <a:ext cx="4413240" cy="2327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632560" y="5138640"/>
            <a:ext cx="233280" cy="46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5608800"/>
            <a:ext cx="233280" cy="46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015920" y="2781360"/>
            <a:ext cx="4133880" cy="16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0" name="" descr="Bandiera italian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762120"/>
            <a:ext cx="2521080" cy="1682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http://ds_ostra.ilcannocchiale.it/2005/05/21/referendum_il_29_maggio_in_fra.htm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4960800"/>
            <a:ext cx="2440080" cy="1667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1992240" y="687240"/>
            <a:ext cx="4267440" cy="19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4876920" y="2994120"/>
            <a:ext cx="4267080" cy="186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2895480" y="4813200"/>
            <a:ext cx="3502080" cy="18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13320" y="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INTEGRATED THERAPIES: A 3-MOD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9160" y="2344680"/>
            <a:ext cx="9024840" cy="31395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3200" spc="-1" strike="noStrike" u="sng">
                <a:solidFill>
                  <a:srgbClr val="ff3300"/>
                </a:solidFill>
                <a:uFillTx/>
                <a:latin typeface="Times New Roman"/>
              </a:rPr>
              <a:t>Potential 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Removal o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emo/radioresis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t foci of disease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of pathological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Different pattern of toxicity /complic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Psychological impact of </a:t>
            </a: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“being free of disea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1440" y="252360"/>
            <a:ext cx="8610480" cy="1831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Times New Roman"/>
              </a:rPr>
              <a:t>RADICAL SURGERY</a:t>
            </a:r>
            <a:r>
              <a:rPr b="1" lang="it-IT" sz="3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ff66"/>
                </a:solidFill>
                <a:latin typeface="Times New Roman"/>
              </a:rPr>
              <a:t>POST-CHEMORADIATION: RATIONA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42920" y="176040"/>
            <a:ext cx="8893080" cy="550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66"/>
                </a:solidFill>
                <a:latin typeface="Times New Roman"/>
              </a:rPr>
              <a:t>Preoperative Chemoradiotherapy in LACC pat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55800" y="489276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39.6 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73400" y="5473800"/>
            <a:ext cx="172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459080" y="2960640"/>
            <a:ext cx="791280" cy="701280"/>
            <a:chOff x="1459080" y="2960640"/>
            <a:chExt cx="791280" cy="701280"/>
          </a:xfrm>
        </p:grpSpPr>
        <p:grpSp>
          <p:nvGrpSpPr>
            <p:cNvPr id="272" name=""/>
            <p:cNvGrpSpPr/>
            <p:nvPr/>
          </p:nvGrpSpPr>
          <p:grpSpPr>
            <a:xfrm>
              <a:off x="1685880" y="2960640"/>
              <a:ext cx="118440" cy="701280"/>
              <a:chOff x="1685880" y="2960640"/>
              <a:chExt cx="118440" cy="70128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1685880" y="2960640"/>
                <a:ext cx="113760" cy="698400"/>
                <a:chOff x="1685880" y="2960640"/>
                <a:chExt cx="113760" cy="698400"/>
              </a:xfrm>
            </p:grpSpPr>
            <p:pic>
              <p:nvPicPr>
                <p:cNvPr id="274" name="" descr=""/>
                <p:cNvPicPr/>
                <p:nvPr/>
              </p:nvPicPr>
              <p:blipFill>
                <a:blip r:embed="rId1"/>
                <a:srcRect l="0" t="0" r="37736" b="0"/>
                <a:stretch/>
              </p:blipFill>
              <p:spPr>
                <a:xfrm>
                  <a:off x="1685880" y="2960640"/>
                  <a:ext cx="113760" cy="1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2"/>
                <a:srcRect l="0" t="0" r="37736" b="0"/>
                <a:stretch/>
              </p:blipFill>
              <p:spPr>
                <a:xfrm>
                  <a:off x="1685880" y="306576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3"/>
                <a:srcRect l="0" t="0" r="37736" b="0"/>
                <a:stretch/>
              </p:blipFill>
              <p:spPr>
                <a:xfrm>
                  <a:off x="1685880" y="317016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4"/>
                <a:srcRect l="0" t="0" r="37736" b="0"/>
                <a:stretch/>
              </p:blipFill>
              <p:spPr>
                <a:xfrm>
                  <a:off x="1685880" y="327492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5"/>
                <a:srcRect l="0" t="0" r="37736" b="0"/>
                <a:stretch/>
              </p:blipFill>
              <p:spPr>
                <a:xfrm>
                  <a:off x="1685880" y="337968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6"/>
                <a:srcRect l="0" t="0" r="37736" b="0"/>
                <a:stretch/>
              </p:blipFill>
              <p:spPr>
                <a:xfrm>
                  <a:off x="1685880" y="348408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7"/>
                <a:srcRect l="0" t="0" r="37736" b="37736"/>
                <a:stretch/>
              </p:blipFill>
              <p:spPr>
                <a:xfrm>
                  <a:off x="1685880" y="3588840"/>
                  <a:ext cx="113760" cy="7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1" name=""/>
              <p:cNvSpPr/>
              <p:nvPr/>
            </p:nvSpPr>
            <p:spPr>
              <a:xfrm>
                <a:off x="1685880" y="2960640"/>
                <a:ext cx="118440" cy="7012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908000" y="2960640"/>
              <a:ext cx="116640" cy="701280"/>
              <a:chOff x="1908000" y="2960640"/>
              <a:chExt cx="116640" cy="7012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908000" y="2960640"/>
                <a:ext cx="114120" cy="698400"/>
                <a:chOff x="1908000" y="2960640"/>
                <a:chExt cx="114120" cy="698400"/>
              </a:xfrm>
            </p:grpSpPr>
            <p:pic>
              <p:nvPicPr>
                <p:cNvPr id="284" name="" descr=""/>
                <p:cNvPicPr/>
                <p:nvPr/>
              </p:nvPicPr>
              <p:blipFill>
                <a:blip r:embed="rId8"/>
                <a:srcRect l="0" t="0" r="37736" b="0"/>
                <a:stretch/>
              </p:blipFill>
              <p:spPr>
                <a:xfrm>
                  <a:off x="1908000" y="2960640"/>
                  <a:ext cx="114120" cy="1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9"/>
                <a:srcRect l="0" t="0" r="37736" b="0"/>
                <a:stretch/>
              </p:blipFill>
              <p:spPr>
                <a:xfrm>
                  <a:off x="1908000" y="3065760"/>
                  <a:ext cx="1141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10"/>
                <a:srcRect l="0" t="0" r="37736" b="0"/>
                <a:stretch/>
              </p:blipFill>
              <p:spPr>
                <a:xfrm>
                  <a:off x="1908000" y="3170160"/>
                  <a:ext cx="1141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11"/>
                <a:srcRect l="0" t="0" r="37736" b="0"/>
                <a:stretch/>
              </p:blipFill>
              <p:spPr>
                <a:xfrm>
                  <a:off x="1908000" y="3274920"/>
                  <a:ext cx="1141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12"/>
                <a:srcRect l="0" t="0" r="37736" b="0"/>
                <a:stretch/>
              </p:blipFill>
              <p:spPr>
                <a:xfrm>
                  <a:off x="1908000" y="3379680"/>
                  <a:ext cx="1141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13"/>
                <a:srcRect l="0" t="0" r="37736" b="0"/>
                <a:stretch/>
              </p:blipFill>
              <p:spPr>
                <a:xfrm>
                  <a:off x="1908000" y="3484080"/>
                  <a:ext cx="1141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14"/>
                <a:srcRect l="0" t="0" r="37736" b="37736"/>
                <a:stretch/>
              </p:blipFill>
              <p:spPr>
                <a:xfrm>
                  <a:off x="1908000" y="3588840"/>
                  <a:ext cx="114120" cy="7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1" name=""/>
              <p:cNvSpPr/>
              <p:nvPr/>
            </p:nvSpPr>
            <p:spPr>
              <a:xfrm>
                <a:off x="1908000" y="2960640"/>
                <a:ext cx="116640" cy="7012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35160" y="2960640"/>
              <a:ext cx="115200" cy="701280"/>
              <a:chOff x="2135160" y="2960640"/>
              <a:chExt cx="115200" cy="7012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2135160" y="2960640"/>
                <a:ext cx="110520" cy="698400"/>
                <a:chOff x="2135160" y="2960640"/>
                <a:chExt cx="110520" cy="698400"/>
              </a:xfrm>
            </p:grpSpPr>
            <p:pic>
              <p:nvPicPr>
                <p:cNvPr id="294" name="" descr=""/>
                <p:cNvPicPr/>
                <p:nvPr/>
              </p:nvPicPr>
              <p:blipFill>
                <a:blip r:embed="rId15"/>
                <a:srcRect l="0" t="0" r="50472" b="0"/>
                <a:stretch/>
              </p:blipFill>
              <p:spPr>
                <a:xfrm>
                  <a:off x="2135160" y="2960640"/>
                  <a:ext cx="110520" cy="1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16"/>
                <a:srcRect l="0" t="0" r="50472" b="0"/>
                <a:stretch/>
              </p:blipFill>
              <p:spPr>
                <a:xfrm>
                  <a:off x="2135160" y="3065760"/>
                  <a:ext cx="1105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17"/>
                <a:srcRect l="0" t="0" r="50472" b="0"/>
                <a:stretch/>
              </p:blipFill>
              <p:spPr>
                <a:xfrm>
                  <a:off x="2135160" y="3170160"/>
                  <a:ext cx="1105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18"/>
                <a:srcRect l="0" t="0" r="50472" b="0"/>
                <a:stretch/>
              </p:blipFill>
              <p:spPr>
                <a:xfrm>
                  <a:off x="2135160" y="3274920"/>
                  <a:ext cx="1105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19"/>
                <a:srcRect l="0" t="0" r="50472" b="0"/>
                <a:stretch/>
              </p:blipFill>
              <p:spPr>
                <a:xfrm>
                  <a:off x="2135160" y="3379680"/>
                  <a:ext cx="1105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20"/>
                <a:srcRect l="0" t="0" r="50472" b="0"/>
                <a:stretch/>
              </p:blipFill>
              <p:spPr>
                <a:xfrm>
                  <a:off x="2135160" y="3484080"/>
                  <a:ext cx="11052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21"/>
                <a:srcRect l="0" t="0" r="50472" b="37736"/>
                <a:stretch/>
              </p:blipFill>
              <p:spPr>
                <a:xfrm>
                  <a:off x="2135160" y="3588840"/>
                  <a:ext cx="110520" cy="7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1" name=""/>
              <p:cNvSpPr/>
              <p:nvPr/>
            </p:nvSpPr>
            <p:spPr>
              <a:xfrm>
                <a:off x="2135160" y="2960640"/>
                <a:ext cx="115200" cy="7012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459080" y="2960640"/>
              <a:ext cx="118440" cy="701280"/>
              <a:chOff x="1459080" y="2960640"/>
              <a:chExt cx="118440" cy="7012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1459080" y="2960640"/>
                <a:ext cx="113760" cy="698400"/>
                <a:chOff x="1459080" y="2960640"/>
                <a:chExt cx="113760" cy="698400"/>
              </a:xfrm>
            </p:grpSpPr>
            <p:pic>
              <p:nvPicPr>
                <p:cNvPr id="304" name="" descr=""/>
                <p:cNvPicPr/>
                <p:nvPr/>
              </p:nvPicPr>
              <p:blipFill>
                <a:blip r:embed="rId22"/>
                <a:srcRect l="0" t="0" r="37736" b="0"/>
                <a:stretch/>
              </p:blipFill>
              <p:spPr>
                <a:xfrm>
                  <a:off x="1459080" y="2960640"/>
                  <a:ext cx="113760" cy="1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23"/>
                <a:srcRect l="0" t="0" r="37736" b="0"/>
                <a:stretch/>
              </p:blipFill>
              <p:spPr>
                <a:xfrm>
                  <a:off x="1459080" y="306576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24"/>
                <a:srcRect l="0" t="0" r="37736" b="0"/>
                <a:stretch/>
              </p:blipFill>
              <p:spPr>
                <a:xfrm>
                  <a:off x="1459080" y="317016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25"/>
                <a:srcRect l="0" t="0" r="37736" b="0"/>
                <a:stretch/>
              </p:blipFill>
              <p:spPr>
                <a:xfrm>
                  <a:off x="1459080" y="327492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26"/>
                <a:srcRect l="0" t="0" r="37736" b="0"/>
                <a:stretch/>
              </p:blipFill>
              <p:spPr>
                <a:xfrm>
                  <a:off x="1459080" y="337968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27"/>
                <a:srcRect l="0" t="0" r="37736" b="0"/>
                <a:stretch/>
              </p:blipFill>
              <p:spPr>
                <a:xfrm>
                  <a:off x="1459080" y="3484080"/>
                  <a:ext cx="1137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28"/>
                <a:srcRect l="0" t="0" r="37736" b="37736"/>
                <a:stretch/>
              </p:blipFill>
              <p:spPr>
                <a:xfrm>
                  <a:off x="1459080" y="3588840"/>
                  <a:ext cx="113760" cy="7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1" name=""/>
              <p:cNvSpPr/>
              <p:nvPr/>
            </p:nvSpPr>
            <p:spPr>
              <a:xfrm>
                <a:off x="1459080" y="2960640"/>
                <a:ext cx="118440" cy="7012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620040" y="2960640"/>
            <a:ext cx="790200" cy="701280"/>
            <a:chOff x="6620040" y="2960640"/>
            <a:chExt cx="790200" cy="701280"/>
          </a:xfrm>
        </p:grpSpPr>
        <p:grpSp>
          <p:nvGrpSpPr>
            <p:cNvPr id="313" name=""/>
            <p:cNvGrpSpPr/>
            <p:nvPr/>
          </p:nvGrpSpPr>
          <p:grpSpPr>
            <a:xfrm>
              <a:off x="6843960" y="2960640"/>
              <a:ext cx="117000" cy="701280"/>
              <a:chOff x="6843960" y="2960640"/>
              <a:chExt cx="117000" cy="70128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6843960" y="2960640"/>
                <a:ext cx="114480" cy="698400"/>
                <a:chOff x="6843960" y="2960640"/>
                <a:chExt cx="114480" cy="698400"/>
              </a:xfrm>
            </p:grpSpPr>
            <p:pic>
              <p:nvPicPr>
                <p:cNvPr id="315" name="" descr=""/>
                <p:cNvPicPr/>
                <p:nvPr/>
              </p:nvPicPr>
              <p:blipFill>
                <a:blip r:embed="rId29"/>
                <a:srcRect l="0" t="0" r="37736" b="0"/>
                <a:stretch/>
              </p:blipFill>
              <p:spPr>
                <a:xfrm>
                  <a:off x="6843960" y="2960640"/>
                  <a:ext cx="114480" cy="1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30"/>
                <a:srcRect l="0" t="0" r="37736" b="0"/>
                <a:stretch/>
              </p:blipFill>
              <p:spPr>
                <a:xfrm>
                  <a:off x="6843960" y="3065760"/>
                  <a:ext cx="11448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31"/>
                <a:srcRect l="0" t="0" r="37736" b="0"/>
                <a:stretch/>
              </p:blipFill>
              <p:spPr>
                <a:xfrm>
                  <a:off x="6843960" y="3170160"/>
                  <a:ext cx="11448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32"/>
                <a:srcRect l="0" t="0" r="37736" b="0"/>
                <a:stretch/>
              </p:blipFill>
              <p:spPr>
                <a:xfrm>
                  <a:off x="6843960" y="3274920"/>
                  <a:ext cx="11448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33"/>
                <a:srcRect l="0" t="0" r="37736" b="0"/>
                <a:stretch/>
              </p:blipFill>
              <p:spPr>
                <a:xfrm>
                  <a:off x="6843960" y="3379680"/>
                  <a:ext cx="11448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34"/>
                <a:srcRect l="0" t="0" r="37736" b="0"/>
                <a:stretch/>
              </p:blipFill>
              <p:spPr>
                <a:xfrm>
                  <a:off x="6843960" y="3484080"/>
                  <a:ext cx="11448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35"/>
                <a:srcRect l="0" t="0" r="37736" b="37736"/>
                <a:stretch/>
              </p:blipFill>
              <p:spPr>
                <a:xfrm>
                  <a:off x="6843960" y="3588840"/>
                  <a:ext cx="114480" cy="7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2" name=""/>
              <p:cNvSpPr/>
              <p:nvPr/>
            </p:nvSpPr>
            <p:spPr>
              <a:xfrm>
                <a:off x="6843960" y="2960640"/>
                <a:ext cx="117000" cy="7012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7067880" y="2960640"/>
              <a:ext cx="123120" cy="701280"/>
              <a:chOff x="7067880" y="2960640"/>
              <a:chExt cx="123120" cy="7012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7067880" y="2960640"/>
                <a:ext cx="118440" cy="698400"/>
                <a:chOff x="7067880" y="2960640"/>
                <a:chExt cx="118440" cy="698400"/>
              </a:xfrm>
            </p:grpSpPr>
            <p:pic>
              <p:nvPicPr>
                <p:cNvPr id="325" name="" descr=""/>
                <p:cNvPicPr/>
                <p:nvPr/>
              </p:nvPicPr>
              <p:blipFill>
                <a:blip r:embed="rId36"/>
                <a:srcRect l="0" t="0" r="37736" b="0"/>
                <a:stretch/>
              </p:blipFill>
              <p:spPr>
                <a:xfrm>
                  <a:off x="7067880" y="2960640"/>
                  <a:ext cx="118440" cy="1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37"/>
                <a:srcRect l="0" t="0" r="37736" b="0"/>
                <a:stretch/>
              </p:blipFill>
              <p:spPr>
                <a:xfrm>
                  <a:off x="7067880" y="3065760"/>
                  <a:ext cx="11844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38"/>
                <a:srcRect l="0" t="0" r="37736" b="0"/>
                <a:stretch/>
              </p:blipFill>
              <p:spPr>
                <a:xfrm>
                  <a:off x="7067880" y="3170160"/>
                  <a:ext cx="11844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39"/>
                <a:srcRect l="0" t="0" r="37736" b="0"/>
                <a:stretch/>
              </p:blipFill>
              <p:spPr>
                <a:xfrm>
                  <a:off x="7067880" y="3274920"/>
                  <a:ext cx="11844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40"/>
                <a:srcRect l="0" t="0" r="37736" b="0"/>
                <a:stretch/>
              </p:blipFill>
              <p:spPr>
                <a:xfrm>
                  <a:off x="7067880" y="3379680"/>
                  <a:ext cx="11844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41"/>
                <a:srcRect l="0" t="0" r="37736" b="0"/>
                <a:stretch/>
              </p:blipFill>
              <p:spPr>
                <a:xfrm>
                  <a:off x="7067880" y="3484080"/>
                  <a:ext cx="11844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42"/>
                <a:srcRect l="0" t="0" r="37736" b="37736"/>
                <a:stretch/>
              </p:blipFill>
              <p:spPr>
                <a:xfrm>
                  <a:off x="7067880" y="3588840"/>
                  <a:ext cx="118440" cy="7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32" name=""/>
              <p:cNvSpPr/>
              <p:nvPr/>
            </p:nvSpPr>
            <p:spPr>
              <a:xfrm>
                <a:off x="7067880" y="2960640"/>
                <a:ext cx="123120" cy="7012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299360" y="2960640"/>
              <a:ext cx="110880" cy="701280"/>
              <a:chOff x="7299360" y="2960640"/>
              <a:chExt cx="110880" cy="70128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7299360" y="2960640"/>
                <a:ext cx="106200" cy="698400"/>
                <a:chOff x="7299360" y="2960640"/>
                <a:chExt cx="106200" cy="698400"/>
              </a:xfrm>
            </p:grpSpPr>
            <p:pic>
              <p:nvPicPr>
                <p:cNvPr id="335" name="" descr=""/>
                <p:cNvPicPr/>
                <p:nvPr/>
              </p:nvPicPr>
              <p:blipFill>
                <a:blip r:embed="rId43"/>
                <a:srcRect l="0" t="0" r="50472" b="0"/>
                <a:stretch/>
              </p:blipFill>
              <p:spPr>
                <a:xfrm>
                  <a:off x="7299360" y="2960640"/>
                  <a:ext cx="106200" cy="1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44"/>
                <a:srcRect l="0" t="0" r="50472" b="0"/>
                <a:stretch/>
              </p:blipFill>
              <p:spPr>
                <a:xfrm>
                  <a:off x="7299360" y="3065760"/>
                  <a:ext cx="10620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45"/>
                <a:srcRect l="0" t="0" r="50472" b="0"/>
                <a:stretch/>
              </p:blipFill>
              <p:spPr>
                <a:xfrm>
                  <a:off x="7299360" y="3170160"/>
                  <a:ext cx="10620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46"/>
                <a:srcRect l="0" t="0" r="50472" b="0"/>
                <a:stretch/>
              </p:blipFill>
              <p:spPr>
                <a:xfrm>
                  <a:off x="7299360" y="3274920"/>
                  <a:ext cx="10620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47"/>
                <a:srcRect l="0" t="0" r="50472" b="0"/>
                <a:stretch/>
              </p:blipFill>
              <p:spPr>
                <a:xfrm>
                  <a:off x="7299360" y="3379680"/>
                  <a:ext cx="10620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48"/>
                <a:srcRect l="0" t="0" r="50472" b="0"/>
                <a:stretch/>
              </p:blipFill>
              <p:spPr>
                <a:xfrm>
                  <a:off x="7299360" y="3484080"/>
                  <a:ext cx="10620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49"/>
                <a:srcRect l="0" t="0" r="50472" b="37736"/>
                <a:stretch/>
              </p:blipFill>
              <p:spPr>
                <a:xfrm>
                  <a:off x="7299360" y="3588840"/>
                  <a:ext cx="106200" cy="7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42" name=""/>
              <p:cNvSpPr/>
              <p:nvPr/>
            </p:nvSpPr>
            <p:spPr>
              <a:xfrm>
                <a:off x="7299360" y="2960640"/>
                <a:ext cx="110880" cy="7012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20040" y="2960640"/>
              <a:ext cx="122040" cy="701280"/>
              <a:chOff x="6620040" y="2960640"/>
              <a:chExt cx="122040" cy="70128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6620040" y="2960640"/>
                <a:ext cx="117360" cy="698400"/>
                <a:chOff x="6620040" y="2960640"/>
                <a:chExt cx="117360" cy="698400"/>
              </a:xfrm>
            </p:grpSpPr>
            <p:pic>
              <p:nvPicPr>
                <p:cNvPr id="345" name="" descr=""/>
                <p:cNvPicPr/>
                <p:nvPr/>
              </p:nvPicPr>
              <p:blipFill>
                <a:blip r:embed="rId50"/>
                <a:srcRect l="0" t="0" r="37736" b="0"/>
                <a:stretch/>
              </p:blipFill>
              <p:spPr>
                <a:xfrm>
                  <a:off x="6620040" y="2960640"/>
                  <a:ext cx="117360" cy="1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51"/>
                <a:srcRect l="0" t="0" r="37736" b="0"/>
                <a:stretch/>
              </p:blipFill>
              <p:spPr>
                <a:xfrm>
                  <a:off x="6620040" y="3065760"/>
                  <a:ext cx="1173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52"/>
                <a:srcRect l="0" t="0" r="37736" b="0"/>
                <a:stretch/>
              </p:blipFill>
              <p:spPr>
                <a:xfrm>
                  <a:off x="6620040" y="3170160"/>
                  <a:ext cx="1173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53"/>
                <a:srcRect l="0" t="0" r="37736" b="0"/>
                <a:stretch/>
              </p:blipFill>
              <p:spPr>
                <a:xfrm>
                  <a:off x="6620040" y="3274920"/>
                  <a:ext cx="1173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54"/>
                <a:srcRect l="0" t="0" r="37736" b="0"/>
                <a:stretch/>
              </p:blipFill>
              <p:spPr>
                <a:xfrm>
                  <a:off x="6620040" y="3379680"/>
                  <a:ext cx="1173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55"/>
                <a:srcRect l="0" t="0" r="37736" b="0"/>
                <a:stretch/>
              </p:blipFill>
              <p:spPr>
                <a:xfrm>
                  <a:off x="6620040" y="3484080"/>
                  <a:ext cx="11736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56"/>
                <a:srcRect l="0" t="0" r="37736" b="37736"/>
                <a:stretch/>
              </p:blipFill>
              <p:spPr>
                <a:xfrm>
                  <a:off x="6620040" y="3588840"/>
                  <a:ext cx="117360" cy="7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2" name=""/>
              <p:cNvSpPr/>
              <p:nvPr/>
            </p:nvSpPr>
            <p:spPr>
              <a:xfrm>
                <a:off x="6620040" y="2960640"/>
                <a:ext cx="122040" cy="7012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2693880" y="4381560"/>
            <a:ext cx="363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9080" y="2089080"/>
            <a:ext cx="5951520" cy="719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71600" y="2255760"/>
            <a:ext cx="4295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OCHEM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459080" y="4011480"/>
            <a:ext cx="904320" cy="705960"/>
            <a:chOff x="1459080" y="4011480"/>
            <a:chExt cx="904320" cy="705960"/>
          </a:xfrm>
        </p:grpSpPr>
        <p:grpSp>
          <p:nvGrpSpPr>
            <p:cNvPr id="357" name=""/>
            <p:cNvGrpSpPr/>
            <p:nvPr/>
          </p:nvGrpSpPr>
          <p:grpSpPr>
            <a:xfrm>
              <a:off x="1685880" y="4011480"/>
              <a:ext cx="230040" cy="705960"/>
              <a:chOff x="1685880" y="4011480"/>
              <a:chExt cx="230040" cy="7059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685880" y="4011480"/>
                <a:ext cx="226080" cy="703080"/>
                <a:chOff x="1685880" y="4011480"/>
                <a:chExt cx="226080" cy="703080"/>
              </a:xfrm>
            </p:grpSpPr>
            <p:pic>
              <p:nvPicPr>
                <p:cNvPr id="359" name="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1685880" y="4011480"/>
                  <a:ext cx="1987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58"/>
                <a:srcRect l="0" t="0" r="87736" b="0"/>
                <a:stretch/>
              </p:blipFill>
              <p:spPr>
                <a:xfrm>
                  <a:off x="1884600" y="4011480"/>
                  <a:ext cx="273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1685880" y="4116240"/>
                  <a:ext cx="1987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60"/>
                <a:srcRect l="0" t="0" r="87736" b="0"/>
                <a:stretch/>
              </p:blipFill>
              <p:spPr>
                <a:xfrm>
                  <a:off x="1884600" y="4116240"/>
                  <a:ext cx="273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1685880" y="4221000"/>
                  <a:ext cx="1987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62"/>
                <a:srcRect l="0" t="0" r="87736" b="0"/>
                <a:stretch/>
              </p:blipFill>
              <p:spPr>
                <a:xfrm>
                  <a:off x="1884600" y="4221000"/>
                  <a:ext cx="273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1685880" y="4325760"/>
                  <a:ext cx="1987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64"/>
                <a:srcRect l="0" t="0" r="87736" b="0"/>
                <a:stretch/>
              </p:blipFill>
              <p:spPr>
                <a:xfrm>
                  <a:off x="1884600" y="4325760"/>
                  <a:ext cx="273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1685880" y="4430520"/>
                  <a:ext cx="1987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66"/>
                <a:srcRect l="0" t="0" r="87736" b="0"/>
                <a:stretch/>
              </p:blipFill>
              <p:spPr>
                <a:xfrm>
                  <a:off x="1884600" y="4430520"/>
                  <a:ext cx="273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1685880" y="4535280"/>
                  <a:ext cx="1987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68"/>
                <a:srcRect l="0" t="0" r="87736" b="0"/>
                <a:stretch/>
              </p:blipFill>
              <p:spPr>
                <a:xfrm>
                  <a:off x="1884600" y="4535280"/>
                  <a:ext cx="273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69"/>
                <a:srcRect l="0" t="0" r="0" b="25000"/>
                <a:stretch/>
              </p:blipFill>
              <p:spPr>
                <a:xfrm>
                  <a:off x="1685880" y="4640040"/>
                  <a:ext cx="19872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70"/>
                <a:srcRect l="0" t="0" r="87736" b="25000"/>
                <a:stretch/>
              </p:blipFill>
              <p:spPr>
                <a:xfrm>
                  <a:off x="1884600" y="4640040"/>
                  <a:ext cx="2736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73" name=""/>
              <p:cNvSpPr/>
              <p:nvPr/>
            </p:nvSpPr>
            <p:spPr>
              <a:xfrm>
                <a:off x="1685880" y="4011480"/>
                <a:ext cx="230040" cy="7059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908360" y="4011480"/>
              <a:ext cx="231480" cy="705960"/>
              <a:chOff x="1908360" y="4011480"/>
              <a:chExt cx="231480" cy="70596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1908360" y="4011480"/>
                <a:ext cx="226440" cy="703080"/>
                <a:chOff x="1908360" y="4011480"/>
                <a:chExt cx="226440" cy="703080"/>
              </a:xfrm>
            </p:grpSpPr>
            <p:pic>
              <p:nvPicPr>
                <p:cNvPr id="376" name="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1908360" y="4011480"/>
                  <a:ext cx="1954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72"/>
                <a:srcRect l="0" t="0" r="87736" b="0"/>
                <a:stretch/>
              </p:blipFill>
              <p:spPr>
                <a:xfrm>
                  <a:off x="2103840" y="4011480"/>
                  <a:ext cx="309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1908360" y="4116240"/>
                  <a:ext cx="1954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74"/>
                <a:srcRect l="0" t="0" r="87736" b="0"/>
                <a:stretch/>
              </p:blipFill>
              <p:spPr>
                <a:xfrm>
                  <a:off x="2103840" y="4116240"/>
                  <a:ext cx="309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1908360" y="4221000"/>
                  <a:ext cx="1954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76"/>
                <a:srcRect l="0" t="0" r="87736" b="0"/>
                <a:stretch/>
              </p:blipFill>
              <p:spPr>
                <a:xfrm>
                  <a:off x="2103840" y="4221000"/>
                  <a:ext cx="309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1908360" y="4325760"/>
                  <a:ext cx="1954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78"/>
                <a:srcRect l="0" t="0" r="87736" b="0"/>
                <a:stretch/>
              </p:blipFill>
              <p:spPr>
                <a:xfrm>
                  <a:off x="2103840" y="4325760"/>
                  <a:ext cx="309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1908360" y="4430520"/>
                  <a:ext cx="1954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80"/>
                <a:srcRect l="0" t="0" r="87736" b="0"/>
                <a:stretch/>
              </p:blipFill>
              <p:spPr>
                <a:xfrm>
                  <a:off x="2103840" y="4430520"/>
                  <a:ext cx="309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1908360" y="4535280"/>
                  <a:ext cx="1954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82"/>
                <a:srcRect l="0" t="0" r="87736" b="0"/>
                <a:stretch/>
              </p:blipFill>
              <p:spPr>
                <a:xfrm>
                  <a:off x="2103840" y="4535280"/>
                  <a:ext cx="309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83"/>
                <a:srcRect l="0" t="0" r="0" b="25000"/>
                <a:stretch/>
              </p:blipFill>
              <p:spPr>
                <a:xfrm>
                  <a:off x="1908360" y="4640040"/>
                  <a:ext cx="19548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84"/>
                <a:srcRect l="0" t="0" r="87736" b="25000"/>
                <a:stretch/>
              </p:blipFill>
              <p:spPr>
                <a:xfrm>
                  <a:off x="2103840" y="4640040"/>
                  <a:ext cx="3096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90" name=""/>
              <p:cNvSpPr/>
              <p:nvPr/>
            </p:nvSpPr>
            <p:spPr>
              <a:xfrm>
                <a:off x="1908360" y="4011480"/>
                <a:ext cx="231480" cy="7059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1459080" y="4011480"/>
              <a:ext cx="236160" cy="705960"/>
              <a:chOff x="1459080" y="4011480"/>
              <a:chExt cx="236160" cy="70596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1459080" y="4011480"/>
                <a:ext cx="231120" cy="703080"/>
                <a:chOff x="1459080" y="4011480"/>
                <a:chExt cx="231120" cy="703080"/>
              </a:xfrm>
            </p:grpSpPr>
            <p:pic>
              <p:nvPicPr>
                <p:cNvPr id="393" name="" descr="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1459080" y="4011480"/>
                  <a:ext cx="195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86"/>
                <a:srcRect l="0" t="0" r="87736" b="0"/>
                <a:stretch/>
              </p:blipFill>
              <p:spPr>
                <a:xfrm>
                  <a:off x="1654920" y="401148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1459080" y="4116240"/>
                  <a:ext cx="195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88"/>
                <a:srcRect l="0" t="0" r="87736" b="0"/>
                <a:stretch/>
              </p:blipFill>
              <p:spPr>
                <a:xfrm>
                  <a:off x="1654920" y="411624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1459080" y="4221000"/>
                  <a:ext cx="195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90"/>
                <a:srcRect l="0" t="0" r="87736" b="0"/>
                <a:stretch/>
              </p:blipFill>
              <p:spPr>
                <a:xfrm>
                  <a:off x="1654920" y="422100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1459080" y="4325760"/>
                  <a:ext cx="195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2"/>
                <a:srcRect l="0" t="0" r="87736" b="0"/>
                <a:stretch/>
              </p:blipFill>
              <p:spPr>
                <a:xfrm>
                  <a:off x="1654920" y="432576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1459080" y="4430520"/>
                  <a:ext cx="195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94"/>
                <a:srcRect l="0" t="0" r="87736" b="0"/>
                <a:stretch/>
              </p:blipFill>
              <p:spPr>
                <a:xfrm>
                  <a:off x="1654920" y="443052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1459080" y="4535280"/>
                  <a:ext cx="195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96"/>
                <a:srcRect l="0" t="0" r="87736" b="0"/>
                <a:stretch/>
              </p:blipFill>
              <p:spPr>
                <a:xfrm>
                  <a:off x="1654920" y="453528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97"/>
                <a:srcRect l="0" t="0" r="0" b="25000"/>
                <a:stretch/>
              </p:blipFill>
              <p:spPr>
                <a:xfrm>
                  <a:off x="1459080" y="4640040"/>
                  <a:ext cx="19584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98"/>
                <a:srcRect l="0" t="0" r="87736" b="25000"/>
                <a:stretch/>
              </p:blipFill>
              <p:spPr>
                <a:xfrm>
                  <a:off x="1654920" y="4640040"/>
                  <a:ext cx="3528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07" name=""/>
              <p:cNvSpPr/>
              <p:nvPr/>
            </p:nvSpPr>
            <p:spPr>
              <a:xfrm>
                <a:off x="1459080" y="4011480"/>
                <a:ext cx="236160" cy="7059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135160" y="4011480"/>
              <a:ext cx="228240" cy="705960"/>
              <a:chOff x="2135160" y="4011480"/>
              <a:chExt cx="228240" cy="7059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2135160" y="4011480"/>
                <a:ext cx="223560" cy="703080"/>
                <a:chOff x="2135160" y="4011480"/>
                <a:chExt cx="223560" cy="703080"/>
              </a:xfrm>
            </p:grpSpPr>
            <p:pic>
              <p:nvPicPr>
                <p:cNvPr id="410" name="" descr="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2135160" y="4011480"/>
                  <a:ext cx="1965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00"/>
                <a:srcRect l="0" t="0" r="87736" b="0"/>
                <a:stretch/>
              </p:blipFill>
              <p:spPr>
                <a:xfrm>
                  <a:off x="2331720" y="401148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2135160" y="4116240"/>
                  <a:ext cx="1965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102"/>
                <a:srcRect l="0" t="0" r="87736" b="0"/>
                <a:stretch/>
              </p:blipFill>
              <p:spPr>
                <a:xfrm>
                  <a:off x="2331720" y="411624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2135160" y="4221000"/>
                  <a:ext cx="1965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104"/>
                <a:srcRect l="0" t="0" r="87736" b="0"/>
                <a:stretch/>
              </p:blipFill>
              <p:spPr>
                <a:xfrm>
                  <a:off x="2331720" y="422100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105"/>
                <a:stretch/>
              </p:blipFill>
              <p:spPr>
                <a:xfrm>
                  <a:off x="2135160" y="4325760"/>
                  <a:ext cx="1965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106"/>
                <a:srcRect l="0" t="0" r="87736" b="0"/>
                <a:stretch/>
              </p:blipFill>
              <p:spPr>
                <a:xfrm>
                  <a:off x="2331720" y="432576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107"/>
                <a:stretch/>
              </p:blipFill>
              <p:spPr>
                <a:xfrm>
                  <a:off x="2135160" y="4430520"/>
                  <a:ext cx="1965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108"/>
                <a:srcRect l="0" t="0" r="87736" b="0"/>
                <a:stretch/>
              </p:blipFill>
              <p:spPr>
                <a:xfrm>
                  <a:off x="2331720" y="443052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109"/>
                <a:stretch/>
              </p:blipFill>
              <p:spPr>
                <a:xfrm>
                  <a:off x="2135160" y="4535280"/>
                  <a:ext cx="1965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" descr=""/>
                <p:cNvPicPr/>
                <p:nvPr/>
              </p:nvPicPr>
              <p:blipFill>
                <a:blip r:embed="rId110"/>
                <a:srcRect l="0" t="0" r="87736" b="0"/>
                <a:stretch/>
              </p:blipFill>
              <p:spPr>
                <a:xfrm>
                  <a:off x="2331720" y="453528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111"/>
                <a:srcRect l="0" t="0" r="0" b="25000"/>
                <a:stretch/>
              </p:blipFill>
              <p:spPr>
                <a:xfrm>
                  <a:off x="2135160" y="4640040"/>
                  <a:ext cx="19656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" descr=""/>
                <p:cNvPicPr/>
                <p:nvPr/>
              </p:nvPicPr>
              <p:blipFill>
                <a:blip r:embed="rId112"/>
                <a:srcRect l="0" t="0" r="87736" b="25000"/>
                <a:stretch/>
              </p:blipFill>
              <p:spPr>
                <a:xfrm>
                  <a:off x="2331720" y="4640040"/>
                  <a:ext cx="2700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4" name=""/>
              <p:cNvSpPr/>
              <p:nvPr/>
            </p:nvSpPr>
            <p:spPr>
              <a:xfrm>
                <a:off x="2135160" y="4011480"/>
                <a:ext cx="228240" cy="70596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6508800" y="3952800"/>
            <a:ext cx="901440" cy="704520"/>
            <a:chOff x="6508800" y="3952800"/>
            <a:chExt cx="901440" cy="704520"/>
          </a:xfrm>
        </p:grpSpPr>
        <p:grpSp>
          <p:nvGrpSpPr>
            <p:cNvPr id="426" name=""/>
            <p:cNvGrpSpPr/>
            <p:nvPr/>
          </p:nvGrpSpPr>
          <p:grpSpPr>
            <a:xfrm>
              <a:off x="6508800" y="3952800"/>
              <a:ext cx="223560" cy="704520"/>
              <a:chOff x="6508800" y="3952800"/>
              <a:chExt cx="223560" cy="70452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508800" y="3952800"/>
                <a:ext cx="221040" cy="702360"/>
                <a:chOff x="6508800" y="3952800"/>
                <a:chExt cx="221040" cy="702360"/>
              </a:xfrm>
            </p:grpSpPr>
            <p:pic>
              <p:nvPicPr>
                <p:cNvPr id="428" name="" descr=""/>
                <p:cNvPicPr/>
                <p:nvPr/>
              </p:nvPicPr>
              <p:blipFill>
                <a:blip r:embed="rId113"/>
                <a:stretch/>
              </p:blipFill>
              <p:spPr>
                <a:xfrm>
                  <a:off x="6508800" y="395280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114"/>
                <a:srcRect l="0" t="0" r="87736" b="0"/>
                <a:stretch/>
              </p:blipFill>
              <p:spPr>
                <a:xfrm>
                  <a:off x="6705000" y="3952800"/>
                  <a:ext cx="2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115"/>
                <a:stretch/>
              </p:blipFill>
              <p:spPr>
                <a:xfrm>
                  <a:off x="6508800" y="405756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116"/>
                <a:srcRect l="0" t="0" r="87736" b="0"/>
                <a:stretch/>
              </p:blipFill>
              <p:spPr>
                <a:xfrm>
                  <a:off x="6705000" y="4057560"/>
                  <a:ext cx="2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117"/>
                <a:stretch/>
              </p:blipFill>
              <p:spPr>
                <a:xfrm>
                  <a:off x="6508800" y="416268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118"/>
                <a:srcRect l="0" t="0" r="87736" b="0"/>
                <a:stretch/>
              </p:blipFill>
              <p:spPr>
                <a:xfrm>
                  <a:off x="6705000" y="4162680"/>
                  <a:ext cx="2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119"/>
                <a:stretch/>
              </p:blipFill>
              <p:spPr>
                <a:xfrm>
                  <a:off x="6508800" y="426744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120"/>
                <a:srcRect l="0" t="0" r="87736" b="0"/>
                <a:stretch/>
              </p:blipFill>
              <p:spPr>
                <a:xfrm>
                  <a:off x="6705000" y="4267440"/>
                  <a:ext cx="2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" descr=""/>
                <p:cNvPicPr/>
                <p:nvPr/>
              </p:nvPicPr>
              <p:blipFill>
                <a:blip r:embed="rId121"/>
                <a:stretch/>
              </p:blipFill>
              <p:spPr>
                <a:xfrm>
                  <a:off x="6508800" y="437256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122"/>
                <a:srcRect l="0" t="0" r="87736" b="0"/>
                <a:stretch/>
              </p:blipFill>
              <p:spPr>
                <a:xfrm>
                  <a:off x="6705000" y="4372560"/>
                  <a:ext cx="2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123"/>
                <a:stretch/>
              </p:blipFill>
              <p:spPr>
                <a:xfrm>
                  <a:off x="6508800" y="447732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24"/>
                <a:srcRect l="0" t="0" r="87736" b="0"/>
                <a:stretch/>
              </p:blipFill>
              <p:spPr>
                <a:xfrm>
                  <a:off x="6705000" y="4477320"/>
                  <a:ext cx="2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125"/>
                <a:srcRect l="0" t="0" r="0" b="25000"/>
                <a:stretch/>
              </p:blipFill>
              <p:spPr>
                <a:xfrm>
                  <a:off x="6508800" y="4582440"/>
                  <a:ext cx="19620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126"/>
                <a:srcRect l="0" t="0" r="87736" b="25000"/>
                <a:stretch/>
              </p:blipFill>
              <p:spPr>
                <a:xfrm>
                  <a:off x="6705000" y="4582440"/>
                  <a:ext cx="2484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2" name=""/>
              <p:cNvSpPr/>
              <p:nvPr/>
            </p:nvSpPr>
            <p:spPr>
              <a:xfrm>
                <a:off x="6508800" y="3952800"/>
                <a:ext cx="22356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731280" y="3952800"/>
              <a:ext cx="226440" cy="704520"/>
              <a:chOff x="6731280" y="3952800"/>
              <a:chExt cx="226440" cy="70452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731280" y="3952800"/>
                <a:ext cx="221400" cy="702360"/>
                <a:chOff x="6731280" y="3952800"/>
                <a:chExt cx="221400" cy="702360"/>
              </a:xfrm>
            </p:grpSpPr>
            <p:pic>
              <p:nvPicPr>
                <p:cNvPr id="445" name="" descr=""/>
                <p:cNvPicPr/>
                <p:nvPr/>
              </p:nvPicPr>
              <p:blipFill>
                <a:blip r:embed="rId127"/>
                <a:stretch/>
              </p:blipFill>
              <p:spPr>
                <a:xfrm>
                  <a:off x="6731280" y="3952800"/>
                  <a:ext cx="1944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128"/>
                <a:srcRect l="0" t="0" r="87736" b="0"/>
                <a:stretch/>
              </p:blipFill>
              <p:spPr>
                <a:xfrm>
                  <a:off x="6925680" y="395280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129"/>
                <a:stretch/>
              </p:blipFill>
              <p:spPr>
                <a:xfrm>
                  <a:off x="6731280" y="4057560"/>
                  <a:ext cx="1944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130"/>
                <a:srcRect l="0" t="0" r="87736" b="0"/>
                <a:stretch/>
              </p:blipFill>
              <p:spPr>
                <a:xfrm>
                  <a:off x="6925680" y="405756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131"/>
                <a:stretch/>
              </p:blipFill>
              <p:spPr>
                <a:xfrm>
                  <a:off x="6731280" y="4162680"/>
                  <a:ext cx="1944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132"/>
                <a:srcRect l="0" t="0" r="87736" b="0"/>
                <a:stretch/>
              </p:blipFill>
              <p:spPr>
                <a:xfrm>
                  <a:off x="6925680" y="416268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133"/>
                <a:stretch/>
              </p:blipFill>
              <p:spPr>
                <a:xfrm>
                  <a:off x="6731280" y="4267440"/>
                  <a:ext cx="1944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134"/>
                <a:srcRect l="0" t="0" r="87736" b="0"/>
                <a:stretch/>
              </p:blipFill>
              <p:spPr>
                <a:xfrm>
                  <a:off x="6925680" y="426744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6731280" y="4372560"/>
                  <a:ext cx="1944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136"/>
                <a:srcRect l="0" t="0" r="87736" b="0"/>
                <a:stretch/>
              </p:blipFill>
              <p:spPr>
                <a:xfrm>
                  <a:off x="6925680" y="437256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6731280" y="4477320"/>
                  <a:ext cx="1944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" descr=""/>
                <p:cNvPicPr/>
                <p:nvPr/>
              </p:nvPicPr>
              <p:blipFill>
                <a:blip r:embed="rId138"/>
                <a:srcRect l="0" t="0" r="87736" b="0"/>
                <a:stretch/>
              </p:blipFill>
              <p:spPr>
                <a:xfrm>
                  <a:off x="6925680" y="4477320"/>
                  <a:ext cx="2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" descr=""/>
                <p:cNvPicPr/>
                <p:nvPr/>
              </p:nvPicPr>
              <p:blipFill>
                <a:blip r:embed="rId139"/>
                <a:srcRect l="0" t="0" r="0" b="25000"/>
                <a:stretch/>
              </p:blipFill>
              <p:spPr>
                <a:xfrm>
                  <a:off x="6731280" y="4582440"/>
                  <a:ext cx="19440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140"/>
                <a:srcRect l="0" t="0" r="87736" b="25000"/>
                <a:stretch/>
              </p:blipFill>
              <p:spPr>
                <a:xfrm>
                  <a:off x="6925680" y="4582440"/>
                  <a:ext cx="2700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59" name=""/>
              <p:cNvSpPr/>
              <p:nvPr/>
            </p:nvSpPr>
            <p:spPr>
              <a:xfrm>
                <a:off x="6731280" y="3952800"/>
                <a:ext cx="22644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954840" y="3952800"/>
              <a:ext cx="234720" cy="704520"/>
              <a:chOff x="6954840" y="3952800"/>
              <a:chExt cx="234720" cy="70452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6954840" y="3952800"/>
                <a:ext cx="230040" cy="702360"/>
                <a:chOff x="6954840" y="3952800"/>
                <a:chExt cx="230040" cy="702360"/>
              </a:xfrm>
            </p:grpSpPr>
            <p:pic>
              <p:nvPicPr>
                <p:cNvPr id="462" name="" descr="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6954840" y="3952800"/>
                  <a:ext cx="1947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142"/>
                <a:srcRect l="0" t="0" r="87736" b="0"/>
                <a:stretch/>
              </p:blipFill>
              <p:spPr>
                <a:xfrm>
                  <a:off x="7149600" y="395280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6954840" y="4057560"/>
                  <a:ext cx="1947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144"/>
                <a:srcRect l="0" t="0" r="87736" b="0"/>
                <a:stretch/>
              </p:blipFill>
              <p:spPr>
                <a:xfrm>
                  <a:off x="7149600" y="405756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6954840" y="4162680"/>
                  <a:ext cx="1947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146"/>
                <a:srcRect l="0" t="0" r="87736" b="0"/>
                <a:stretch/>
              </p:blipFill>
              <p:spPr>
                <a:xfrm>
                  <a:off x="7149600" y="416268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6954840" y="4267440"/>
                  <a:ext cx="1947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" descr=""/>
                <p:cNvPicPr/>
                <p:nvPr/>
              </p:nvPicPr>
              <p:blipFill>
                <a:blip r:embed="rId148"/>
                <a:srcRect l="0" t="0" r="87736" b="0"/>
                <a:stretch/>
              </p:blipFill>
              <p:spPr>
                <a:xfrm>
                  <a:off x="7149600" y="426744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6954840" y="4372560"/>
                  <a:ext cx="1947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150"/>
                <a:srcRect l="0" t="0" r="87736" b="0"/>
                <a:stretch/>
              </p:blipFill>
              <p:spPr>
                <a:xfrm>
                  <a:off x="7149600" y="437256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6954840" y="4477320"/>
                  <a:ext cx="19476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152"/>
                <a:srcRect l="0" t="0" r="87736" b="0"/>
                <a:stretch/>
              </p:blipFill>
              <p:spPr>
                <a:xfrm>
                  <a:off x="7149600" y="4477320"/>
                  <a:ext cx="352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53"/>
                <a:srcRect l="0" t="0" r="0" b="25000"/>
                <a:stretch/>
              </p:blipFill>
              <p:spPr>
                <a:xfrm>
                  <a:off x="6954840" y="4582440"/>
                  <a:ext cx="19476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54"/>
                <a:srcRect l="0" t="0" r="87736" b="25000"/>
                <a:stretch/>
              </p:blipFill>
              <p:spPr>
                <a:xfrm>
                  <a:off x="7149600" y="4582440"/>
                  <a:ext cx="3528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6" name=""/>
              <p:cNvSpPr/>
              <p:nvPr/>
            </p:nvSpPr>
            <p:spPr>
              <a:xfrm>
                <a:off x="6954840" y="3952800"/>
                <a:ext cx="23472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186680" y="3952800"/>
              <a:ext cx="223560" cy="704520"/>
              <a:chOff x="7186680" y="3952800"/>
              <a:chExt cx="223560" cy="70452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7186680" y="3952800"/>
                <a:ext cx="218880" cy="702360"/>
                <a:chOff x="7186680" y="3952800"/>
                <a:chExt cx="218880" cy="702360"/>
              </a:xfrm>
            </p:grpSpPr>
            <p:pic>
              <p:nvPicPr>
                <p:cNvPr id="479" name="" descr="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7186680" y="395280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156"/>
                <a:srcRect l="0" t="0" r="87736" b="0"/>
                <a:stretch/>
              </p:blipFill>
              <p:spPr>
                <a:xfrm>
                  <a:off x="7382880" y="3952800"/>
                  <a:ext cx="226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7186680" y="405756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158"/>
                <a:srcRect l="0" t="0" r="87736" b="0"/>
                <a:stretch/>
              </p:blipFill>
              <p:spPr>
                <a:xfrm>
                  <a:off x="7382880" y="4057560"/>
                  <a:ext cx="226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7186680" y="416268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160"/>
                <a:srcRect l="0" t="0" r="87736" b="0"/>
                <a:stretch/>
              </p:blipFill>
              <p:spPr>
                <a:xfrm>
                  <a:off x="7382880" y="4162680"/>
                  <a:ext cx="226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7186680" y="426744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162"/>
                <a:srcRect l="0" t="0" r="87736" b="0"/>
                <a:stretch/>
              </p:blipFill>
              <p:spPr>
                <a:xfrm>
                  <a:off x="7382880" y="4267440"/>
                  <a:ext cx="226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163"/>
                <a:stretch/>
              </p:blipFill>
              <p:spPr>
                <a:xfrm>
                  <a:off x="7186680" y="437256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164"/>
                <a:srcRect l="0" t="0" r="87736" b="0"/>
                <a:stretch/>
              </p:blipFill>
              <p:spPr>
                <a:xfrm>
                  <a:off x="7382880" y="4372560"/>
                  <a:ext cx="226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7186680" y="4477320"/>
                  <a:ext cx="1962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166"/>
                <a:srcRect l="0" t="0" r="87736" b="0"/>
                <a:stretch/>
              </p:blipFill>
              <p:spPr>
                <a:xfrm>
                  <a:off x="7382880" y="4477320"/>
                  <a:ext cx="226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167"/>
                <a:srcRect l="0" t="0" r="0" b="25000"/>
                <a:stretch/>
              </p:blipFill>
              <p:spPr>
                <a:xfrm>
                  <a:off x="7186680" y="4582440"/>
                  <a:ext cx="19620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168"/>
                <a:srcRect l="0" t="0" r="87736" b="25000"/>
                <a:stretch/>
              </p:blipFill>
              <p:spPr>
                <a:xfrm>
                  <a:off x="7382880" y="4582440"/>
                  <a:ext cx="2268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3" name=""/>
              <p:cNvSpPr/>
              <p:nvPr/>
            </p:nvSpPr>
            <p:spPr>
              <a:xfrm>
                <a:off x="7186680" y="3952800"/>
                <a:ext cx="22356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3152880" y="5008680"/>
            <a:ext cx="115560" cy="704520"/>
            <a:chOff x="3152880" y="5008680"/>
            <a:chExt cx="115560" cy="704520"/>
          </a:xfrm>
        </p:grpSpPr>
        <p:grpSp>
          <p:nvGrpSpPr>
            <p:cNvPr id="495" name=""/>
            <p:cNvGrpSpPr/>
            <p:nvPr/>
          </p:nvGrpSpPr>
          <p:grpSpPr>
            <a:xfrm>
              <a:off x="3152880" y="5008680"/>
              <a:ext cx="110880" cy="702360"/>
              <a:chOff x="3152880" y="5008680"/>
              <a:chExt cx="110880" cy="702360"/>
            </a:xfrm>
          </p:grpSpPr>
          <p:pic>
            <p:nvPicPr>
              <p:cNvPr id="496" name="" descr=""/>
              <p:cNvPicPr/>
              <p:nvPr/>
            </p:nvPicPr>
            <p:blipFill>
              <a:blip r:embed="rId169"/>
              <a:srcRect l="0" t="0" r="50472" b="0"/>
              <a:stretch/>
            </p:blipFill>
            <p:spPr>
              <a:xfrm>
                <a:off x="3152880" y="500868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" descr=""/>
              <p:cNvPicPr/>
              <p:nvPr/>
            </p:nvPicPr>
            <p:blipFill>
              <a:blip r:embed="rId170"/>
              <a:srcRect l="0" t="0" r="50472" b="0"/>
              <a:stretch/>
            </p:blipFill>
            <p:spPr>
              <a:xfrm>
                <a:off x="3152880" y="511344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" descr=""/>
              <p:cNvPicPr/>
              <p:nvPr/>
            </p:nvPicPr>
            <p:blipFill>
              <a:blip r:embed="rId171"/>
              <a:srcRect l="0" t="0" r="50472" b="0"/>
              <a:stretch/>
            </p:blipFill>
            <p:spPr>
              <a:xfrm>
                <a:off x="3152880" y="521856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" descr=""/>
              <p:cNvPicPr/>
              <p:nvPr/>
            </p:nvPicPr>
            <p:blipFill>
              <a:blip r:embed="rId172"/>
              <a:srcRect l="0" t="0" r="50472" b="0"/>
              <a:stretch/>
            </p:blipFill>
            <p:spPr>
              <a:xfrm>
                <a:off x="3152880" y="532332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" descr=""/>
              <p:cNvPicPr/>
              <p:nvPr/>
            </p:nvPicPr>
            <p:blipFill>
              <a:blip r:embed="rId173"/>
              <a:srcRect l="0" t="0" r="50472" b="0"/>
              <a:stretch/>
            </p:blipFill>
            <p:spPr>
              <a:xfrm>
                <a:off x="3152880" y="542844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" descr=""/>
              <p:cNvPicPr/>
              <p:nvPr/>
            </p:nvPicPr>
            <p:blipFill>
              <a:blip r:embed="rId174"/>
              <a:srcRect l="0" t="0" r="50472" b="0"/>
              <a:stretch/>
            </p:blipFill>
            <p:spPr>
              <a:xfrm>
                <a:off x="3152880" y="553320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" descr=""/>
              <p:cNvPicPr/>
              <p:nvPr/>
            </p:nvPicPr>
            <p:blipFill>
              <a:blip r:embed="rId175"/>
              <a:srcRect l="0" t="0" r="50472" b="37736"/>
              <a:stretch/>
            </p:blipFill>
            <p:spPr>
              <a:xfrm>
                <a:off x="3152880" y="5638320"/>
                <a:ext cx="11088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3" name=""/>
            <p:cNvSpPr/>
            <p:nvPr/>
          </p:nvSpPr>
          <p:spPr>
            <a:xfrm>
              <a:off x="3152880" y="5008680"/>
              <a:ext cx="11556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379680" y="5008680"/>
            <a:ext cx="109440" cy="704520"/>
            <a:chOff x="3379680" y="5008680"/>
            <a:chExt cx="109440" cy="704520"/>
          </a:xfrm>
        </p:grpSpPr>
        <p:grpSp>
          <p:nvGrpSpPr>
            <p:cNvPr id="505" name=""/>
            <p:cNvGrpSpPr/>
            <p:nvPr/>
          </p:nvGrpSpPr>
          <p:grpSpPr>
            <a:xfrm>
              <a:off x="3379680" y="5008680"/>
              <a:ext cx="105480" cy="702360"/>
              <a:chOff x="3379680" y="5008680"/>
              <a:chExt cx="105480" cy="702360"/>
            </a:xfrm>
          </p:grpSpPr>
          <p:pic>
            <p:nvPicPr>
              <p:cNvPr id="506" name="" descr=""/>
              <p:cNvPicPr/>
              <p:nvPr/>
            </p:nvPicPr>
            <p:blipFill>
              <a:blip r:embed="rId176"/>
              <a:srcRect l="0" t="0" r="50472" b="0"/>
              <a:stretch/>
            </p:blipFill>
            <p:spPr>
              <a:xfrm>
                <a:off x="3379680" y="5008680"/>
                <a:ext cx="105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" descr=""/>
              <p:cNvPicPr/>
              <p:nvPr/>
            </p:nvPicPr>
            <p:blipFill>
              <a:blip r:embed="rId177"/>
              <a:srcRect l="0" t="0" r="50472" b="0"/>
              <a:stretch/>
            </p:blipFill>
            <p:spPr>
              <a:xfrm>
                <a:off x="3379680" y="5113440"/>
                <a:ext cx="105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178"/>
              <a:srcRect l="0" t="0" r="50472" b="0"/>
              <a:stretch/>
            </p:blipFill>
            <p:spPr>
              <a:xfrm>
                <a:off x="3379680" y="5218560"/>
                <a:ext cx="105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" descr=""/>
              <p:cNvPicPr/>
              <p:nvPr/>
            </p:nvPicPr>
            <p:blipFill>
              <a:blip r:embed="rId179"/>
              <a:srcRect l="0" t="0" r="50472" b="0"/>
              <a:stretch/>
            </p:blipFill>
            <p:spPr>
              <a:xfrm>
                <a:off x="3379680" y="5323320"/>
                <a:ext cx="105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" descr=""/>
              <p:cNvPicPr/>
              <p:nvPr/>
            </p:nvPicPr>
            <p:blipFill>
              <a:blip r:embed="rId180"/>
              <a:srcRect l="0" t="0" r="50472" b="0"/>
              <a:stretch/>
            </p:blipFill>
            <p:spPr>
              <a:xfrm>
                <a:off x="3379680" y="5428440"/>
                <a:ext cx="105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" descr=""/>
              <p:cNvPicPr/>
              <p:nvPr/>
            </p:nvPicPr>
            <p:blipFill>
              <a:blip r:embed="rId181"/>
              <a:srcRect l="0" t="0" r="50472" b="0"/>
              <a:stretch/>
            </p:blipFill>
            <p:spPr>
              <a:xfrm>
                <a:off x="3379680" y="5533200"/>
                <a:ext cx="105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2" name="" descr=""/>
              <p:cNvPicPr/>
              <p:nvPr/>
            </p:nvPicPr>
            <p:blipFill>
              <a:blip r:embed="rId182"/>
              <a:srcRect l="0" t="0" r="50472" b="37736"/>
              <a:stretch/>
            </p:blipFill>
            <p:spPr>
              <a:xfrm>
                <a:off x="3379680" y="5638320"/>
                <a:ext cx="10548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3" name=""/>
            <p:cNvSpPr/>
            <p:nvPr/>
          </p:nvSpPr>
          <p:spPr>
            <a:xfrm>
              <a:off x="3379680" y="5008680"/>
              <a:ext cx="10944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602160" y="5008680"/>
            <a:ext cx="118440" cy="704520"/>
            <a:chOff x="3602160" y="5008680"/>
            <a:chExt cx="118440" cy="704520"/>
          </a:xfrm>
        </p:grpSpPr>
        <p:grpSp>
          <p:nvGrpSpPr>
            <p:cNvPr id="515" name=""/>
            <p:cNvGrpSpPr/>
            <p:nvPr/>
          </p:nvGrpSpPr>
          <p:grpSpPr>
            <a:xfrm>
              <a:off x="3602160" y="5008680"/>
              <a:ext cx="113760" cy="702360"/>
              <a:chOff x="3602160" y="5008680"/>
              <a:chExt cx="113760" cy="702360"/>
            </a:xfrm>
          </p:grpSpPr>
          <p:pic>
            <p:nvPicPr>
              <p:cNvPr id="516" name="" descr=""/>
              <p:cNvPicPr/>
              <p:nvPr/>
            </p:nvPicPr>
            <p:blipFill>
              <a:blip r:embed="rId183"/>
              <a:srcRect l="0" t="0" r="37736" b="0"/>
              <a:stretch/>
            </p:blipFill>
            <p:spPr>
              <a:xfrm>
                <a:off x="3602160" y="5008680"/>
                <a:ext cx="1137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" descr=""/>
              <p:cNvPicPr/>
              <p:nvPr/>
            </p:nvPicPr>
            <p:blipFill>
              <a:blip r:embed="rId184"/>
              <a:srcRect l="0" t="0" r="37736" b="0"/>
              <a:stretch/>
            </p:blipFill>
            <p:spPr>
              <a:xfrm>
                <a:off x="3602160" y="5113440"/>
                <a:ext cx="1137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" descr=""/>
              <p:cNvPicPr/>
              <p:nvPr/>
            </p:nvPicPr>
            <p:blipFill>
              <a:blip r:embed="rId185"/>
              <a:srcRect l="0" t="0" r="37736" b="0"/>
              <a:stretch/>
            </p:blipFill>
            <p:spPr>
              <a:xfrm>
                <a:off x="3602160" y="5218560"/>
                <a:ext cx="1137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9" name="" descr=""/>
              <p:cNvPicPr/>
              <p:nvPr/>
            </p:nvPicPr>
            <p:blipFill>
              <a:blip r:embed="rId186"/>
              <a:srcRect l="0" t="0" r="37736" b="0"/>
              <a:stretch/>
            </p:blipFill>
            <p:spPr>
              <a:xfrm>
                <a:off x="3602160" y="5323320"/>
                <a:ext cx="1137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0" name="" descr=""/>
              <p:cNvPicPr/>
              <p:nvPr/>
            </p:nvPicPr>
            <p:blipFill>
              <a:blip r:embed="rId187"/>
              <a:srcRect l="0" t="0" r="37736" b="0"/>
              <a:stretch/>
            </p:blipFill>
            <p:spPr>
              <a:xfrm>
                <a:off x="3602160" y="5428440"/>
                <a:ext cx="1137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" descr=""/>
              <p:cNvPicPr/>
              <p:nvPr/>
            </p:nvPicPr>
            <p:blipFill>
              <a:blip r:embed="rId188"/>
              <a:srcRect l="0" t="0" r="37736" b="0"/>
              <a:stretch/>
            </p:blipFill>
            <p:spPr>
              <a:xfrm>
                <a:off x="3602160" y="5533200"/>
                <a:ext cx="1137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" descr=""/>
              <p:cNvPicPr/>
              <p:nvPr/>
            </p:nvPicPr>
            <p:blipFill>
              <a:blip r:embed="rId189"/>
              <a:srcRect l="0" t="0" r="37736" b="37736"/>
              <a:stretch/>
            </p:blipFill>
            <p:spPr>
              <a:xfrm>
                <a:off x="3602160" y="5638320"/>
                <a:ext cx="11376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3" name=""/>
            <p:cNvSpPr/>
            <p:nvPr/>
          </p:nvSpPr>
          <p:spPr>
            <a:xfrm>
              <a:off x="3602160" y="5008680"/>
              <a:ext cx="11844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701800" y="5008680"/>
            <a:ext cx="117360" cy="704520"/>
            <a:chOff x="2701800" y="5008680"/>
            <a:chExt cx="117360" cy="704520"/>
          </a:xfrm>
        </p:grpSpPr>
        <p:grpSp>
          <p:nvGrpSpPr>
            <p:cNvPr id="525" name=""/>
            <p:cNvGrpSpPr/>
            <p:nvPr/>
          </p:nvGrpSpPr>
          <p:grpSpPr>
            <a:xfrm>
              <a:off x="2701800" y="5008680"/>
              <a:ext cx="115200" cy="702360"/>
              <a:chOff x="2701800" y="5008680"/>
              <a:chExt cx="115200" cy="702360"/>
            </a:xfrm>
          </p:grpSpPr>
          <p:pic>
            <p:nvPicPr>
              <p:cNvPr id="526" name="" descr=""/>
              <p:cNvPicPr/>
              <p:nvPr/>
            </p:nvPicPr>
            <p:blipFill>
              <a:blip r:embed="rId190"/>
              <a:srcRect l="0" t="0" r="37736" b="0"/>
              <a:stretch/>
            </p:blipFill>
            <p:spPr>
              <a:xfrm>
                <a:off x="2701800" y="5008680"/>
                <a:ext cx="11520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" descr=""/>
              <p:cNvPicPr/>
              <p:nvPr/>
            </p:nvPicPr>
            <p:blipFill>
              <a:blip r:embed="rId191"/>
              <a:srcRect l="0" t="0" r="37736" b="0"/>
              <a:stretch/>
            </p:blipFill>
            <p:spPr>
              <a:xfrm>
                <a:off x="2701800" y="5113440"/>
                <a:ext cx="11520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" descr=""/>
              <p:cNvPicPr/>
              <p:nvPr/>
            </p:nvPicPr>
            <p:blipFill>
              <a:blip r:embed="rId192"/>
              <a:srcRect l="0" t="0" r="37736" b="0"/>
              <a:stretch/>
            </p:blipFill>
            <p:spPr>
              <a:xfrm>
                <a:off x="2701800" y="5218560"/>
                <a:ext cx="11520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" descr=""/>
              <p:cNvPicPr/>
              <p:nvPr/>
            </p:nvPicPr>
            <p:blipFill>
              <a:blip r:embed="rId193"/>
              <a:srcRect l="0" t="0" r="37736" b="0"/>
              <a:stretch/>
            </p:blipFill>
            <p:spPr>
              <a:xfrm>
                <a:off x="2701800" y="5323320"/>
                <a:ext cx="11520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" descr=""/>
              <p:cNvPicPr/>
              <p:nvPr/>
            </p:nvPicPr>
            <p:blipFill>
              <a:blip r:embed="rId194"/>
              <a:srcRect l="0" t="0" r="37736" b="0"/>
              <a:stretch/>
            </p:blipFill>
            <p:spPr>
              <a:xfrm>
                <a:off x="2701800" y="5428440"/>
                <a:ext cx="11520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" descr=""/>
              <p:cNvPicPr/>
              <p:nvPr/>
            </p:nvPicPr>
            <p:blipFill>
              <a:blip r:embed="rId195"/>
              <a:srcRect l="0" t="0" r="37736" b="0"/>
              <a:stretch/>
            </p:blipFill>
            <p:spPr>
              <a:xfrm>
                <a:off x="2701800" y="5533200"/>
                <a:ext cx="11520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" descr=""/>
              <p:cNvPicPr/>
              <p:nvPr/>
            </p:nvPicPr>
            <p:blipFill>
              <a:blip r:embed="rId196"/>
              <a:srcRect l="0" t="0" r="37736" b="37736"/>
              <a:stretch/>
            </p:blipFill>
            <p:spPr>
              <a:xfrm>
                <a:off x="2701800" y="5638320"/>
                <a:ext cx="11520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3" name=""/>
            <p:cNvSpPr/>
            <p:nvPr/>
          </p:nvSpPr>
          <p:spPr>
            <a:xfrm>
              <a:off x="2701800" y="5008680"/>
              <a:ext cx="11736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925720" y="5008680"/>
            <a:ext cx="118800" cy="704520"/>
            <a:chOff x="2925720" y="5008680"/>
            <a:chExt cx="118800" cy="704520"/>
          </a:xfrm>
        </p:grpSpPr>
        <p:grpSp>
          <p:nvGrpSpPr>
            <p:cNvPr id="535" name=""/>
            <p:cNvGrpSpPr/>
            <p:nvPr/>
          </p:nvGrpSpPr>
          <p:grpSpPr>
            <a:xfrm>
              <a:off x="2925720" y="5008680"/>
              <a:ext cx="114120" cy="702360"/>
              <a:chOff x="2925720" y="5008680"/>
              <a:chExt cx="114120" cy="70236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97"/>
              <a:srcRect l="0" t="0" r="37736" b="0"/>
              <a:stretch/>
            </p:blipFill>
            <p:spPr>
              <a:xfrm>
                <a:off x="2925720" y="500868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" descr=""/>
              <p:cNvPicPr/>
              <p:nvPr/>
            </p:nvPicPr>
            <p:blipFill>
              <a:blip r:embed="rId198"/>
              <a:srcRect l="0" t="0" r="37736" b="0"/>
              <a:stretch/>
            </p:blipFill>
            <p:spPr>
              <a:xfrm>
                <a:off x="2925720" y="511344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" descr=""/>
              <p:cNvPicPr/>
              <p:nvPr/>
            </p:nvPicPr>
            <p:blipFill>
              <a:blip r:embed="rId199"/>
              <a:srcRect l="0" t="0" r="37736" b="0"/>
              <a:stretch/>
            </p:blipFill>
            <p:spPr>
              <a:xfrm>
                <a:off x="2925720" y="521856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" descr=""/>
              <p:cNvPicPr/>
              <p:nvPr/>
            </p:nvPicPr>
            <p:blipFill>
              <a:blip r:embed="rId200"/>
              <a:srcRect l="0" t="0" r="37736" b="0"/>
              <a:stretch/>
            </p:blipFill>
            <p:spPr>
              <a:xfrm>
                <a:off x="2925720" y="532332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" descr=""/>
              <p:cNvPicPr/>
              <p:nvPr/>
            </p:nvPicPr>
            <p:blipFill>
              <a:blip r:embed="rId201"/>
              <a:srcRect l="0" t="0" r="37736" b="0"/>
              <a:stretch/>
            </p:blipFill>
            <p:spPr>
              <a:xfrm>
                <a:off x="2925720" y="542844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" descr=""/>
              <p:cNvPicPr/>
              <p:nvPr/>
            </p:nvPicPr>
            <p:blipFill>
              <a:blip r:embed="rId202"/>
              <a:srcRect l="0" t="0" r="37736" b="0"/>
              <a:stretch/>
            </p:blipFill>
            <p:spPr>
              <a:xfrm>
                <a:off x="2925720" y="553320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" descr=""/>
              <p:cNvPicPr/>
              <p:nvPr/>
            </p:nvPicPr>
            <p:blipFill>
              <a:blip r:embed="rId203"/>
              <a:srcRect l="0" t="0" r="37736" b="37736"/>
              <a:stretch/>
            </p:blipFill>
            <p:spPr>
              <a:xfrm>
                <a:off x="2925720" y="5638320"/>
                <a:ext cx="11412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3" name=""/>
            <p:cNvSpPr/>
            <p:nvPr/>
          </p:nvSpPr>
          <p:spPr>
            <a:xfrm>
              <a:off x="2925720" y="5008680"/>
              <a:ext cx="11880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381560" y="5008680"/>
            <a:ext cx="118800" cy="704520"/>
            <a:chOff x="4381560" y="5008680"/>
            <a:chExt cx="118800" cy="704520"/>
          </a:xfrm>
        </p:grpSpPr>
        <p:grpSp>
          <p:nvGrpSpPr>
            <p:cNvPr id="545" name=""/>
            <p:cNvGrpSpPr/>
            <p:nvPr/>
          </p:nvGrpSpPr>
          <p:grpSpPr>
            <a:xfrm>
              <a:off x="4381560" y="5008680"/>
              <a:ext cx="114120" cy="702360"/>
              <a:chOff x="4381560" y="5008680"/>
              <a:chExt cx="114120" cy="702360"/>
            </a:xfrm>
          </p:grpSpPr>
          <p:pic>
            <p:nvPicPr>
              <p:cNvPr id="546" name="" descr=""/>
              <p:cNvPicPr/>
              <p:nvPr/>
            </p:nvPicPr>
            <p:blipFill>
              <a:blip r:embed="rId204"/>
              <a:srcRect l="0" t="0" r="37736" b="0"/>
              <a:stretch/>
            </p:blipFill>
            <p:spPr>
              <a:xfrm>
                <a:off x="4381560" y="500868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" descr=""/>
              <p:cNvPicPr/>
              <p:nvPr/>
            </p:nvPicPr>
            <p:blipFill>
              <a:blip r:embed="rId205"/>
              <a:srcRect l="0" t="0" r="37736" b="0"/>
              <a:stretch/>
            </p:blipFill>
            <p:spPr>
              <a:xfrm>
                <a:off x="4381560" y="511344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" descr=""/>
              <p:cNvPicPr/>
              <p:nvPr/>
            </p:nvPicPr>
            <p:blipFill>
              <a:blip r:embed="rId206"/>
              <a:srcRect l="0" t="0" r="37736" b="0"/>
              <a:stretch/>
            </p:blipFill>
            <p:spPr>
              <a:xfrm>
                <a:off x="4381560" y="521856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207"/>
              <a:srcRect l="0" t="0" r="37736" b="0"/>
              <a:stretch/>
            </p:blipFill>
            <p:spPr>
              <a:xfrm>
                <a:off x="4381560" y="532332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208"/>
              <a:srcRect l="0" t="0" r="37736" b="0"/>
              <a:stretch/>
            </p:blipFill>
            <p:spPr>
              <a:xfrm>
                <a:off x="4381560" y="542844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" descr=""/>
              <p:cNvPicPr/>
              <p:nvPr/>
            </p:nvPicPr>
            <p:blipFill>
              <a:blip r:embed="rId209"/>
              <a:srcRect l="0" t="0" r="37736" b="0"/>
              <a:stretch/>
            </p:blipFill>
            <p:spPr>
              <a:xfrm>
                <a:off x="4381560" y="553320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210"/>
              <a:srcRect l="0" t="0" r="37736" b="37736"/>
              <a:stretch/>
            </p:blipFill>
            <p:spPr>
              <a:xfrm>
                <a:off x="4381560" y="5638320"/>
                <a:ext cx="11412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3" name=""/>
            <p:cNvSpPr/>
            <p:nvPr/>
          </p:nvSpPr>
          <p:spPr>
            <a:xfrm>
              <a:off x="4381560" y="5008680"/>
              <a:ext cx="11880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600440" y="5008680"/>
            <a:ext cx="118800" cy="704520"/>
            <a:chOff x="4600440" y="5008680"/>
            <a:chExt cx="118800" cy="704520"/>
          </a:xfrm>
        </p:grpSpPr>
        <p:grpSp>
          <p:nvGrpSpPr>
            <p:cNvPr id="555" name=""/>
            <p:cNvGrpSpPr/>
            <p:nvPr/>
          </p:nvGrpSpPr>
          <p:grpSpPr>
            <a:xfrm>
              <a:off x="4600440" y="5008680"/>
              <a:ext cx="114120" cy="702360"/>
              <a:chOff x="4600440" y="5008680"/>
              <a:chExt cx="114120" cy="702360"/>
            </a:xfrm>
          </p:grpSpPr>
          <p:pic>
            <p:nvPicPr>
              <p:cNvPr id="556" name="" descr=""/>
              <p:cNvPicPr/>
              <p:nvPr/>
            </p:nvPicPr>
            <p:blipFill>
              <a:blip r:embed="rId211"/>
              <a:srcRect l="0" t="0" r="37736" b="0"/>
              <a:stretch/>
            </p:blipFill>
            <p:spPr>
              <a:xfrm>
                <a:off x="4600440" y="500868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" descr=""/>
              <p:cNvPicPr/>
              <p:nvPr/>
            </p:nvPicPr>
            <p:blipFill>
              <a:blip r:embed="rId212"/>
              <a:srcRect l="0" t="0" r="37736" b="0"/>
              <a:stretch/>
            </p:blipFill>
            <p:spPr>
              <a:xfrm>
                <a:off x="4600440" y="511344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" descr=""/>
              <p:cNvPicPr/>
              <p:nvPr/>
            </p:nvPicPr>
            <p:blipFill>
              <a:blip r:embed="rId213"/>
              <a:srcRect l="0" t="0" r="37736" b="0"/>
              <a:stretch/>
            </p:blipFill>
            <p:spPr>
              <a:xfrm>
                <a:off x="4600440" y="521856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" descr=""/>
              <p:cNvPicPr/>
              <p:nvPr/>
            </p:nvPicPr>
            <p:blipFill>
              <a:blip r:embed="rId214"/>
              <a:srcRect l="0" t="0" r="37736" b="0"/>
              <a:stretch/>
            </p:blipFill>
            <p:spPr>
              <a:xfrm>
                <a:off x="4600440" y="532332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" descr=""/>
              <p:cNvPicPr/>
              <p:nvPr/>
            </p:nvPicPr>
            <p:blipFill>
              <a:blip r:embed="rId215"/>
              <a:srcRect l="0" t="0" r="37736" b="0"/>
              <a:stretch/>
            </p:blipFill>
            <p:spPr>
              <a:xfrm>
                <a:off x="4600440" y="542844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" descr=""/>
              <p:cNvPicPr/>
              <p:nvPr/>
            </p:nvPicPr>
            <p:blipFill>
              <a:blip r:embed="rId216"/>
              <a:srcRect l="0" t="0" r="37736" b="0"/>
              <a:stretch/>
            </p:blipFill>
            <p:spPr>
              <a:xfrm>
                <a:off x="4600440" y="5533200"/>
                <a:ext cx="1141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" descr=""/>
              <p:cNvPicPr/>
              <p:nvPr/>
            </p:nvPicPr>
            <p:blipFill>
              <a:blip r:embed="rId217"/>
              <a:srcRect l="0" t="0" r="37736" b="37736"/>
              <a:stretch/>
            </p:blipFill>
            <p:spPr>
              <a:xfrm>
                <a:off x="4600440" y="5638320"/>
                <a:ext cx="11412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"/>
            <p:cNvSpPr/>
            <p:nvPr/>
          </p:nvSpPr>
          <p:spPr>
            <a:xfrm>
              <a:off x="4600440" y="5008680"/>
              <a:ext cx="11880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30840" y="5008680"/>
            <a:ext cx="117000" cy="704520"/>
            <a:chOff x="4830840" y="5008680"/>
            <a:chExt cx="117000" cy="704520"/>
          </a:xfrm>
        </p:grpSpPr>
        <p:grpSp>
          <p:nvGrpSpPr>
            <p:cNvPr id="565" name=""/>
            <p:cNvGrpSpPr/>
            <p:nvPr/>
          </p:nvGrpSpPr>
          <p:grpSpPr>
            <a:xfrm>
              <a:off x="4830840" y="5008680"/>
              <a:ext cx="113040" cy="702360"/>
              <a:chOff x="4830840" y="5008680"/>
              <a:chExt cx="113040" cy="702360"/>
            </a:xfrm>
          </p:grpSpPr>
          <p:pic>
            <p:nvPicPr>
              <p:cNvPr id="566" name="" descr=""/>
              <p:cNvPicPr/>
              <p:nvPr/>
            </p:nvPicPr>
            <p:blipFill>
              <a:blip r:embed="rId218"/>
              <a:srcRect l="0" t="0" r="37736" b="0"/>
              <a:stretch/>
            </p:blipFill>
            <p:spPr>
              <a:xfrm>
                <a:off x="4830840" y="5008680"/>
                <a:ext cx="113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7" name="" descr=""/>
              <p:cNvPicPr/>
              <p:nvPr/>
            </p:nvPicPr>
            <p:blipFill>
              <a:blip r:embed="rId219"/>
              <a:srcRect l="0" t="0" r="37736" b="0"/>
              <a:stretch/>
            </p:blipFill>
            <p:spPr>
              <a:xfrm>
                <a:off x="4830840" y="5113440"/>
                <a:ext cx="113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" descr=""/>
              <p:cNvPicPr/>
              <p:nvPr/>
            </p:nvPicPr>
            <p:blipFill>
              <a:blip r:embed="rId220"/>
              <a:srcRect l="0" t="0" r="37736" b="0"/>
              <a:stretch/>
            </p:blipFill>
            <p:spPr>
              <a:xfrm>
                <a:off x="4830840" y="5218560"/>
                <a:ext cx="113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221"/>
              <a:srcRect l="0" t="0" r="37736" b="0"/>
              <a:stretch/>
            </p:blipFill>
            <p:spPr>
              <a:xfrm>
                <a:off x="4830840" y="5323320"/>
                <a:ext cx="113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222"/>
              <a:srcRect l="0" t="0" r="37736" b="0"/>
              <a:stretch/>
            </p:blipFill>
            <p:spPr>
              <a:xfrm>
                <a:off x="4830840" y="5428440"/>
                <a:ext cx="113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" descr=""/>
              <p:cNvPicPr/>
              <p:nvPr/>
            </p:nvPicPr>
            <p:blipFill>
              <a:blip r:embed="rId223"/>
              <a:srcRect l="0" t="0" r="37736" b="0"/>
              <a:stretch/>
            </p:blipFill>
            <p:spPr>
              <a:xfrm>
                <a:off x="4830840" y="5533200"/>
                <a:ext cx="113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2" name="" descr=""/>
              <p:cNvPicPr/>
              <p:nvPr/>
            </p:nvPicPr>
            <p:blipFill>
              <a:blip r:embed="rId224"/>
              <a:srcRect l="0" t="0" r="37736" b="37736"/>
              <a:stretch/>
            </p:blipFill>
            <p:spPr>
              <a:xfrm>
                <a:off x="4830840" y="5638320"/>
                <a:ext cx="11304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3" name=""/>
            <p:cNvSpPr/>
            <p:nvPr/>
          </p:nvSpPr>
          <p:spPr>
            <a:xfrm>
              <a:off x="4830840" y="5008680"/>
              <a:ext cx="11700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932280" y="5008680"/>
            <a:ext cx="115560" cy="704520"/>
            <a:chOff x="3932280" y="5008680"/>
            <a:chExt cx="115560" cy="704520"/>
          </a:xfrm>
        </p:grpSpPr>
        <p:grpSp>
          <p:nvGrpSpPr>
            <p:cNvPr id="575" name=""/>
            <p:cNvGrpSpPr/>
            <p:nvPr/>
          </p:nvGrpSpPr>
          <p:grpSpPr>
            <a:xfrm>
              <a:off x="3932280" y="5008680"/>
              <a:ext cx="110880" cy="702360"/>
              <a:chOff x="3932280" y="5008680"/>
              <a:chExt cx="110880" cy="702360"/>
            </a:xfrm>
          </p:grpSpPr>
          <p:pic>
            <p:nvPicPr>
              <p:cNvPr id="576" name="" descr=""/>
              <p:cNvPicPr/>
              <p:nvPr/>
            </p:nvPicPr>
            <p:blipFill>
              <a:blip r:embed="rId225"/>
              <a:srcRect l="0" t="0" r="50472" b="0"/>
              <a:stretch/>
            </p:blipFill>
            <p:spPr>
              <a:xfrm>
                <a:off x="3932280" y="500868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226"/>
              <a:srcRect l="0" t="0" r="50472" b="0"/>
              <a:stretch/>
            </p:blipFill>
            <p:spPr>
              <a:xfrm>
                <a:off x="3932280" y="511344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" descr=""/>
              <p:cNvPicPr/>
              <p:nvPr/>
            </p:nvPicPr>
            <p:blipFill>
              <a:blip r:embed="rId227"/>
              <a:srcRect l="0" t="0" r="50472" b="0"/>
              <a:stretch/>
            </p:blipFill>
            <p:spPr>
              <a:xfrm>
                <a:off x="3932280" y="521856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" descr=""/>
              <p:cNvPicPr/>
              <p:nvPr/>
            </p:nvPicPr>
            <p:blipFill>
              <a:blip r:embed="rId228"/>
              <a:srcRect l="0" t="0" r="50472" b="0"/>
              <a:stretch/>
            </p:blipFill>
            <p:spPr>
              <a:xfrm>
                <a:off x="3932280" y="532332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" name="" descr=""/>
              <p:cNvPicPr/>
              <p:nvPr/>
            </p:nvPicPr>
            <p:blipFill>
              <a:blip r:embed="rId229"/>
              <a:srcRect l="0" t="0" r="50472" b="0"/>
              <a:stretch/>
            </p:blipFill>
            <p:spPr>
              <a:xfrm>
                <a:off x="3932280" y="542844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" descr=""/>
              <p:cNvPicPr/>
              <p:nvPr/>
            </p:nvPicPr>
            <p:blipFill>
              <a:blip r:embed="rId230"/>
              <a:srcRect l="0" t="0" r="50472" b="0"/>
              <a:stretch/>
            </p:blipFill>
            <p:spPr>
              <a:xfrm>
                <a:off x="3932280" y="553320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231"/>
              <a:srcRect l="0" t="0" r="50472" b="37736"/>
              <a:stretch/>
            </p:blipFill>
            <p:spPr>
              <a:xfrm>
                <a:off x="3932280" y="5638320"/>
                <a:ext cx="11088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3" name=""/>
            <p:cNvSpPr/>
            <p:nvPr/>
          </p:nvSpPr>
          <p:spPr>
            <a:xfrm>
              <a:off x="3932280" y="5008680"/>
              <a:ext cx="11556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154400" y="5008680"/>
            <a:ext cx="115560" cy="704520"/>
            <a:chOff x="4154400" y="5008680"/>
            <a:chExt cx="115560" cy="704520"/>
          </a:xfrm>
        </p:grpSpPr>
        <p:grpSp>
          <p:nvGrpSpPr>
            <p:cNvPr id="585" name=""/>
            <p:cNvGrpSpPr/>
            <p:nvPr/>
          </p:nvGrpSpPr>
          <p:grpSpPr>
            <a:xfrm>
              <a:off x="4154400" y="5008680"/>
              <a:ext cx="110880" cy="702360"/>
              <a:chOff x="4154400" y="5008680"/>
              <a:chExt cx="110880" cy="702360"/>
            </a:xfrm>
          </p:grpSpPr>
          <p:pic>
            <p:nvPicPr>
              <p:cNvPr id="586" name="" descr=""/>
              <p:cNvPicPr/>
              <p:nvPr/>
            </p:nvPicPr>
            <p:blipFill>
              <a:blip r:embed="rId232"/>
              <a:srcRect l="0" t="0" r="37736" b="0"/>
              <a:stretch/>
            </p:blipFill>
            <p:spPr>
              <a:xfrm>
                <a:off x="4154400" y="500868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" descr=""/>
              <p:cNvPicPr/>
              <p:nvPr/>
            </p:nvPicPr>
            <p:blipFill>
              <a:blip r:embed="rId233"/>
              <a:srcRect l="0" t="0" r="37736" b="0"/>
              <a:stretch/>
            </p:blipFill>
            <p:spPr>
              <a:xfrm>
                <a:off x="4154400" y="511344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234"/>
              <a:srcRect l="0" t="0" r="37736" b="0"/>
              <a:stretch/>
            </p:blipFill>
            <p:spPr>
              <a:xfrm>
                <a:off x="4154400" y="521856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9" name="" descr=""/>
              <p:cNvPicPr/>
              <p:nvPr/>
            </p:nvPicPr>
            <p:blipFill>
              <a:blip r:embed="rId235"/>
              <a:srcRect l="0" t="0" r="37736" b="0"/>
              <a:stretch/>
            </p:blipFill>
            <p:spPr>
              <a:xfrm>
                <a:off x="4154400" y="532332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0" name="" descr=""/>
              <p:cNvPicPr/>
              <p:nvPr/>
            </p:nvPicPr>
            <p:blipFill>
              <a:blip r:embed="rId236"/>
              <a:srcRect l="0" t="0" r="37736" b="0"/>
              <a:stretch/>
            </p:blipFill>
            <p:spPr>
              <a:xfrm>
                <a:off x="4154400" y="542844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1" name="" descr=""/>
              <p:cNvPicPr/>
              <p:nvPr/>
            </p:nvPicPr>
            <p:blipFill>
              <a:blip r:embed="rId237"/>
              <a:srcRect l="0" t="0" r="37736" b="0"/>
              <a:stretch/>
            </p:blipFill>
            <p:spPr>
              <a:xfrm>
                <a:off x="4154400" y="5533200"/>
                <a:ext cx="1108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38"/>
              <a:srcRect l="0" t="0" r="37736" b="37736"/>
              <a:stretch/>
            </p:blipFill>
            <p:spPr>
              <a:xfrm>
                <a:off x="4154400" y="5638320"/>
                <a:ext cx="11088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3" name=""/>
            <p:cNvSpPr/>
            <p:nvPr/>
          </p:nvSpPr>
          <p:spPr>
            <a:xfrm>
              <a:off x="4154400" y="5008680"/>
              <a:ext cx="11556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616720" y="5008680"/>
            <a:ext cx="113760" cy="704520"/>
            <a:chOff x="5616720" y="5008680"/>
            <a:chExt cx="113760" cy="704520"/>
          </a:xfrm>
        </p:grpSpPr>
        <p:grpSp>
          <p:nvGrpSpPr>
            <p:cNvPr id="595" name=""/>
            <p:cNvGrpSpPr/>
            <p:nvPr/>
          </p:nvGrpSpPr>
          <p:grpSpPr>
            <a:xfrm>
              <a:off x="5616720" y="5008680"/>
              <a:ext cx="109080" cy="702360"/>
              <a:chOff x="5616720" y="5008680"/>
              <a:chExt cx="109080" cy="702360"/>
            </a:xfrm>
          </p:grpSpPr>
          <p:pic>
            <p:nvPicPr>
              <p:cNvPr id="596" name="" descr=""/>
              <p:cNvPicPr/>
              <p:nvPr/>
            </p:nvPicPr>
            <p:blipFill>
              <a:blip r:embed="rId239"/>
              <a:srcRect l="0" t="0" r="50472" b="0"/>
              <a:stretch/>
            </p:blipFill>
            <p:spPr>
              <a:xfrm>
                <a:off x="5616720" y="5008680"/>
                <a:ext cx="1090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" descr=""/>
              <p:cNvPicPr/>
              <p:nvPr/>
            </p:nvPicPr>
            <p:blipFill>
              <a:blip r:embed="rId240"/>
              <a:srcRect l="0" t="0" r="50472" b="0"/>
              <a:stretch/>
            </p:blipFill>
            <p:spPr>
              <a:xfrm>
                <a:off x="5616720" y="5113440"/>
                <a:ext cx="1090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1"/>
              <a:srcRect l="0" t="0" r="50472" b="0"/>
              <a:stretch/>
            </p:blipFill>
            <p:spPr>
              <a:xfrm>
                <a:off x="5616720" y="5218560"/>
                <a:ext cx="1090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" descr=""/>
              <p:cNvPicPr/>
              <p:nvPr/>
            </p:nvPicPr>
            <p:blipFill>
              <a:blip r:embed="rId242"/>
              <a:srcRect l="0" t="0" r="50472" b="0"/>
              <a:stretch/>
            </p:blipFill>
            <p:spPr>
              <a:xfrm>
                <a:off x="5616720" y="5323320"/>
                <a:ext cx="1090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" descr=""/>
              <p:cNvPicPr/>
              <p:nvPr/>
            </p:nvPicPr>
            <p:blipFill>
              <a:blip r:embed="rId243"/>
              <a:srcRect l="0" t="0" r="50472" b="0"/>
              <a:stretch/>
            </p:blipFill>
            <p:spPr>
              <a:xfrm>
                <a:off x="5616720" y="5428440"/>
                <a:ext cx="1090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" descr=""/>
              <p:cNvPicPr/>
              <p:nvPr/>
            </p:nvPicPr>
            <p:blipFill>
              <a:blip r:embed="rId244"/>
              <a:srcRect l="0" t="0" r="50472" b="0"/>
              <a:stretch/>
            </p:blipFill>
            <p:spPr>
              <a:xfrm>
                <a:off x="5616720" y="5533200"/>
                <a:ext cx="1090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" descr=""/>
              <p:cNvPicPr/>
              <p:nvPr/>
            </p:nvPicPr>
            <p:blipFill>
              <a:blip r:embed="rId245"/>
              <a:srcRect l="0" t="0" r="50472" b="37736"/>
              <a:stretch/>
            </p:blipFill>
            <p:spPr>
              <a:xfrm>
                <a:off x="5616720" y="5638320"/>
                <a:ext cx="10908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3" name=""/>
            <p:cNvSpPr/>
            <p:nvPr/>
          </p:nvSpPr>
          <p:spPr>
            <a:xfrm>
              <a:off x="5616720" y="5008680"/>
              <a:ext cx="11376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846760" y="5008680"/>
            <a:ext cx="107640" cy="704520"/>
            <a:chOff x="5846760" y="5008680"/>
            <a:chExt cx="107640" cy="704520"/>
          </a:xfrm>
        </p:grpSpPr>
        <p:grpSp>
          <p:nvGrpSpPr>
            <p:cNvPr id="605" name=""/>
            <p:cNvGrpSpPr/>
            <p:nvPr/>
          </p:nvGrpSpPr>
          <p:grpSpPr>
            <a:xfrm>
              <a:off x="5846760" y="5008680"/>
              <a:ext cx="102960" cy="702360"/>
              <a:chOff x="5846760" y="5008680"/>
              <a:chExt cx="102960" cy="702360"/>
            </a:xfrm>
          </p:grpSpPr>
          <p:pic>
            <p:nvPicPr>
              <p:cNvPr id="606" name="" descr=""/>
              <p:cNvPicPr/>
              <p:nvPr/>
            </p:nvPicPr>
            <p:blipFill>
              <a:blip r:embed="rId246"/>
              <a:srcRect l="0" t="0" r="50472" b="0"/>
              <a:stretch/>
            </p:blipFill>
            <p:spPr>
              <a:xfrm>
                <a:off x="5846760" y="5008680"/>
                <a:ext cx="1029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247"/>
              <a:srcRect l="0" t="0" r="50472" b="0"/>
              <a:stretch/>
            </p:blipFill>
            <p:spPr>
              <a:xfrm>
                <a:off x="5846760" y="5113440"/>
                <a:ext cx="1029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8" name="" descr=""/>
              <p:cNvPicPr/>
              <p:nvPr/>
            </p:nvPicPr>
            <p:blipFill>
              <a:blip r:embed="rId248"/>
              <a:srcRect l="0" t="0" r="50472" b="0"/>
              <a:stretch/>
            </p:blipFill>
            <p:spPr>
              <a:xfrm>
                <a:off x="5846760" y="5218560"/>
                <a:ext cx="1029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249"/>
              <a:srcRect l="0" t="0" r="50472" b="0"/>
              <a:stretch/>
            </p:blipFill>
            <p:spPr>
              <a:xfrm>
                <a:off x="5846760" y="5323320"/>
                <a:ext cx="1029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" name="" descr=""/>
              <p:cNvPicPr/>
              <p:nvPr/>
            </p:nvPicPr>
            <p:blipFill>
              <a:blip r:embed="rId250"/>
              <a:srcRect l="0" t="0" r="50472" b="0"/>
              <a:stretch/>
            </p:blipFill>
            <p:spPr>
              <a:xfrm>
                <a:off x="5846760" y="5428440"/>
                <a:ext cx="1029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" name="" descr=""/>
              <p:cNvPicPr/>
              <p:nvPr/>
            </p:nvPicPr>
            <p:blipFill>
              <a:blip r:embed="rId251"/>
              <a:srcRect l="0" t="0" r="50472" b="0"/>
              <a:stretch/>
            </p:blipFill>
            <p:spPr>
              <a:xfrm>
                <a:off x="5846760" y="5533200"/>
                <a:ext cx="10296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252"/>
              <a:srcRect l="0" t="0" r="50472" b="37736"/>
              <a:stretch/>
            </p:blipFill>
            <p:spPr>
              <a:xfrm>
                <a:off x="5846760" y="5638320"/>
                <a:ext cx="10296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3" name=""/>
            <p:cNvSpPr/>
            <p:nvPr/>
          </p:nvSpPr>
          <p:spPr>
            <a:xfrm>
              <a:off x="5846760" y="5008680"/>
              <a:ext cx="10764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168880" y="5008680"/>
            <a:ext cx="117000" cy="704520"/>
            <a:chOff x="5168880" y="5008680"/>
            <a:chExt cx="117000" cy="704520"/>
          </a:xfrm>
        </p:grpSpPr>
        <p:grpSp>
          <p:nvGrpSpPr>
            <p:cNvPr id="615" name=""/>
            <p:cNvGrpSpPr/>
            <p:nvPr/>
          </p:nvGrpSpPr>
          <p:grpSpPr>
            <a:xfrm>
              <a:off x="5168880" y="5008680"/>
              <a:ext cx="112320" cy="702360"/>
              <a:chOff x="5168880" y="5008680"/>
              <a:chExt cx="112320" cy="702360"/>
            </a:xfrm>
          </p:grpSpPr>
          <p:pic>
            <p:nvPicPr>
              <p:cNvPr id="616" name="" descr=""/>
              <p:cNvPicPr/>
              <p:nvPr/>
            </p:nvPicPr>
            <p:blipFill>
              <a:blip r:embed="rId253"/>
              <a:srcRect l="0" t="0" r="37736" b="0"/>
              <a:stretch/>
            </p:blipFill>
            <p:spPr>
              <a:xfrm>
                <a:off x="5168880" y="5008680"/>
                <a:ext cx="1123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" descr=""/>
              <p:cNvPicPr/>
              <p:nvPr/>
            </p:nvPicPr>
            <p:blipFill>
              <a:blip r:embed="rId254"/>
              <a:srcRect l="0" t="0" r="37736" b="0"/>
              <a:stretch/>
            </p:blipFill>
            <p:spPr>
              <a:xfrm>
                <a:off x="5168880" y="5113440"/>
                <a:ext cx="1123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" descr=""/>
              <p:cNvPicPr/>
              <p:nvPr/>
            </p:nvPicPr>
            <p:blipFill>
              <a:blip r:embed="rId255"/>
              <a:srcRect l="0" t="0" r="37736" b="0"/>
              <a:stretch/>
            </p:blipFill>
            <p:spPr>
              <a:xfrm>
                <a:off x="5168880" y="5218560"/>
                <a:ext cx="1123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" descr=""/>
              <p:cNvPicPr/>
              <p:nvPr/>
            </p:nvPicPr>
            <p:blipFill>
              <a:blip r:embed="rId256"/>
              <a:srcRect l="0" t="0" r="37736" b="0"/>
              <a:stretch/>
            </p:blipFill>
            <p:spPr>
              <a:xfrm>
                <a:off x="5168880" y="5323320"/>
                <a:ext cx="1123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0" name="" descr=""/>
              <p:cNvPicPr/>
              <p:nvPr/>
            </p:nvPicPr>
            <p:blipFill>
              <a:blip r:embed="rId257"/>
              <a:srcRect l="0" t="0" r="37736" b="0"/>
              <a:stretch/>
            </p:blipFill>
            <p:spPr>
              <a:xfrm>
                <a:off x="5168880" y="5428440"/>
                <a:ext cx="1123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1" name="" descr=""/>
              <p:cNvPicPr/>
              <p:nvPr/>
            </p:nvPicPr>
            <p:blipFill>
              <a:blip r:embed="rId258"/>
              <a:srcRect l="0" t="0" r="37736" b="0"/>
              <a:stretch/>
            </p:blipFill>
            <p:spPr>
              <a:xfrm>
                <a:off x="5168880" y="5533200"/>
                <a:ext cx="11232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" descr=""/>
              <p:cNvPicPr/>
              <p:nvPr/>
            </p:nvPicPr>
            <p:blipFill>
              <a:blip r:embed="rId259"/>
              <a:srcRect l="0" t="0" r="37736" b="37736"/>
              <a:stretch/>
            </p:blipFill>
            <p:spPr>
              <a:xfrm>
                <a:off x="5168880" y="5638320"/>
                <a:ext cx="11232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3" name=""/>
            <p:cNvSpPr/>
            <p:nvPr/>
          </p:nvSpPr>
          <p:spPr>
            <a:xfrm>
              <a:off x="5168880" y="5008680"/>
              <a:ext cx="11700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392800" y="5008680"/>
            <a:ext cx="117000" cy="704520"/>
            <a:chOff x="5392800" y="5008680"/>
            <a:chExt cx="117000" cy="704520"/>
          </a:xfrm>
        </p:grpSpPr>
        <p:grpSp>
          <p:nvGrpSpPr>
            <p:cNvPr id="625" name=""/>
            <p:cNvGrpSpPr/>
            <p:nvPr/>
          </p:nvGrpSpPr>
          <p:grpSpPr>
            <a:xfrm>
              <a:off x="5392800" y="5008680"/>
              <a:ext cx="114480" cy="702360"/>
              <a:chOff x="5392800" y="5008680"/>
              <a:chExt cx="114480" cy="702360"/>
            </a:xfrm>
          </p:grpSpPr>
          <p:pic>
            <p:nvPicPr>
              <p:cNvPr id="626" name="" descr=""/>
              <p:cNvPicPr/>
              <p:nvPr/>
            </p:nvPicPr>
            <p:blipFill>
              <a:blip r:embed="rId260"/>
              <a:srcRect l="0" t="0" r="37736" b="0"/>
              <a:stretch/>
            </p:blipFill>
            <p:spPr>
              <a:xfrm>
                <a:off x="5392800" y="5008680"/>
                <a:ext cx="114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7" name="" descr=""/>
              <p:cNvPicPr/>
              <p:nvPr/>
            </p:nvPicPr>
            <p:blipFill>
              <a:blip r:embed="rId261"/>
              <a:srcRect l="0" t="0" r="37736" b="0"/>
              <a:stretch/>
            </p:blipFill>
            <p:spPr>
              <a:xfrm>
                <a:off x="5392800" y="5113440"/>
                <a:ext cx="114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" descr=""/>
              <p:cNvPicPr/>
              <p:nvPr/>
            </p:nvPicPr>
            <p:blipFill>
              <a:blip r:embed="rId262"/>
              <a:srcRect l="0" t="0" r="37736" b="0"/>
              <a:stretch/>
            </p:blipFill>
            <p:spPr>
              <a:xfrm>
                <a:off x="5392800" y="5218560"/>
                <a:ext cx="114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" descr=""/>
              <p:cNvPicPr/>
              <p:nvPr/>
            </p:nvPicPr>
            <p:blipFill>
              <a:blip r:embed="rId263"/>
              <a:srcRect l="0" t="0" r="37736" b="0"/>
              <a:stretch/>
            </p:blipFill>
            <p:spPr>
              <a:xfrm>
                <a:off x="5392800" y="5323320"/>
                <a:ext cx="114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" descr=""/>
              <p:cNvPicPr/>
              <p:nvPr/>
            </p:nvPicPr>
            <p:blipFill>
              <a:blip r:embed="rId264"/>
              <a:srcRect l="0" t="0" r="37736" b="0"/>
              <a:stretch/>
            </p:blipFill>
            <p:spPr>
              <a:xfrm>
                <a:off x="5392800" y="5428440"/>
                <a:ext cx="114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1" name="" descr=""/>
              <p:cNvPicPr/>
              <p:nvPr/>
            </p:nvPicPr>
            <p:blipFill>
              <a:blip r:embed="rId265"/>
              <a:srcRect l="0" t="0" r="37736" b="0"/>
              <a:stretch/>
            </p:blipFill>
            <p:spPr>
              <a:xfrm>
                <a:off x="5392800" y="5533200"/>
                <a:ext cx="11448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" descr=""/>
              <p:cNvPicPr/>
              <p:nvPr/>
            </p:nvPicPr>
            <p:blipFill>
              <a:blip r:embed="rId266"/>
              <a:srcRect l="0" t="0" r="37736" b="37736"/>
              <a:stretch/>
            </p:blipFill>
            <p:spPr>
              <a:xfrm>
                <a:off x="5392800" y="5638320"/>
                <a:ext cx="11448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3" name=""/>
            <p:cNvSpPr/>
            <p:nvPr/>
          </p:nvSpPr>
          <p:spPr>
            <a:xfrm>
              <a:off x="5392800" y="5008680"/>
              <a:ext cx="11700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429240" y="5008680"/>
            <a:ext cx="980640" cy="704520"/>
            <a:chOff x="6429240" y="5008680"/>
            <a:chExt cx="980640" cy="704520"/>
          </a:xfrm>
        </p:grpSpPr>
        <p:grpSp>
          <p:nvGrpSpPr>
            <p:cNvPr id="635" name=""/>
            <p:cNvGrpSpPr/>
            <p:nvPr/>
          </p:nvGrpSpPr>
          <p:grpSpPr>
            <a:xfrm>
              <a:off x="6429240" y="5008680"/>
              <a:ext cx="115560" cy="704520"/>
              <a:chOff x="6429240" y="5008680"/>
              <a:chExt cx="115560" cy="70452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6429240" y="5008680"/>
                <a:ext cx="110880" cy="702360"/>
                <a:chOff x="6429240" y="5008680"/>
                <a:chExt cx="110880" cy="702360"/>
              </a:xfrm>
            </p:grpSpPr>
            <p:pic>
              <p:nvPicPr>
                <p:cNvPr id="637" name="" descr=""/>
                <p:cNvPicPr/>
                <p:nvPr/>
              </p:nvPicPr>
              <p:blipFill>
                <a:blip r:embed="rId267"/>
                <a:srcRect l="0" t="0" r="37736" b="0"/>
                <a:stretch/>
              </p:blipFill>
              <p:spPr>
                <a:xfrm>
                  <a:off x="6429240" y="500868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68"/>
                <a:srcRect l="0" t="0" r="37736" b="0"/>
                <a:stretch/>
              </p:blipFill>
              <p:spPr>
                <a:xfrm>
                  <a:off x="6429240" y="511344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69"/>
                <a:srcRect l="0" t="0" r="37736" b="0"/>
                <a:stretch/>
              </p:blipFill>
              <p:spPr>
                <a:xfrm>
                  <a:off x="6429240" y="521856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70"/>
                <a:srcRect l="0" t="0" r="37736" b="0"/>
                <a:stretch/>
              </p:blipFill>
              <p:spPr>
                <a:xfrm>
                  <a:off x="6429240" y="532332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71"/>
                <a:srcRect l="0" t="0" r="37736" b="0"/>
                <a:stretch/>
              </p:blipFill>
              <p:spPr>
                <a:xfrm>
                  <a:off x="6429240" y="542844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72"/>
                <a:srcRect l="0" t="0" r="37736" b="0"/>
                <a:stretch/>
              </p:blipFill>
              <p:spPr>
                <a:xfrm>
                  <a:off x="6429240" y="553320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73"/>
                <a:srcRect l="0" t="0" r="37736" b="37736"/>
                <a:stretch/>
              </p:blipFill>
              <p:spPr>
                <a:xfrm>
                  <a:off x="6429240" y="5638320"/>
                  <a:ext cx="11088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44" name=""/>
              <p:cNvSpPr/>
              <p:nvPr/>
            </p:nvSpPr>
            <p:spPr>
              <a:xfrm>
                <a:off x="6429240" y="5008680"/>
                <a:ext cx="11556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651360" y="5008680"/>
              <a:ext cx="122040" cy="704520"/>
              <a:chOff x="6651360" y="5008680"/>
              <a:chExt cx="122040" cy="70452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651360" y="5008680"/>
                <a:ext cx="119880" cy="702360"/>
                <a:chOff x="6651360" y="5008680"/>
                <a:chExt cx="119880" cy="702360"/>
              </a:xfrm>
            </p:grpSpPr>
            <p:pic>
              <p:nvPicPr>
                <p:cNvPr id="647" name="" descr=""/>
                <p:cNvPicPr/>
                <p:nvPr/>
              </p:nvPicPr>
              <p:blipFill>
                <a:blip r:embed="rId274"/>
                <a:srcRect l="0" t="0" r="37736" b="0"/>
                <a:stretch/>
              </p:blipFill>
              <p:spPr>
                <a:xfrm>
                  <a:off x="6651360" y="5008680"/>
                  <a:ext cx="119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275"/>
                <a:srcRect l="0" t="0" r="37736" b="0"/>
                <a:stretch/>
              </p:blipFill>
              <p:spPr>
                <a:xfrm>
                  <a:off x="6651360" y="5113440"/>
                  <a:ext cx="119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276"/>
                <a:srcRect l="0" t="0" r="37736" b="0"/>
                <a:stretch/>
              </p:blipFill>
              <p:spPr>
                <a:xfrm>
                  <a:off x="6651360" y="5218560"/>
                  <a:ext cx="119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277"/>
                <a:srcRect l="0" t="0" r="37736" b="0"/>
                <a:stretch/>
              </p:blipFill>
              <p:spPr>
                <a:xfrm>
                  <a:off x="6651360" y="5323320"/>
                  <a:ext cx="119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278"/>
                <a:srcRect l="0" t="0" r="37736" b="0"/>
                <a:stretch/>
              </p:blipFill>
              <p:spPr>
                <a:xfrm>
                  <a:off x="6651360" y="5428440"/>
                  <a:ext cx="119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279"/>
                <a:srcRect l="0" t="0" r="37736" b="0"/>
                <a:stretch/>
              </p:blipFill>
              <p:spPr>
                <a:xfrm>
                  <a:off x="6651360" y="5533200"/>
                  <a:ext cx="119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280"/>
                <a:srcRect l="0" t="0" r="37736" b="37736"/>
                <a:stretch/>
              </p:blipFill>
              <p:spPr>
                <a:xfrm>
                  <a:off x="6651360" y="5638320"/>
                  <a:ext cx="11988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54" name=""/>
              <p:cNvSpPr/>
              <p:nvPr/>
            </p:nvSpPr>
            <p:spPr>
              <a:xfrm>
                <a:off x="6651360" y="5008680"/>
                <a:ext cx="12204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879960" y="5008680"/>
              <a:ext cx="114120" cy="704520"/>
              <a:chOff x="6879960" y="5008680"/>
              <a:chExt cx="114120" cy="70452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6879960" y="5008680"/>
                <a:ext cx="109440" cy="702360"/>
                <a:chOff x="6879960" y="5008680"/>
                <a:chExt cx="109440" cy="702360"/>
              </a:xfrm>
            </p:grpSpPr>
            <p:pic>
              <p:nvPicPr>
                <p:cNvPr id="657" name="" descr=""/>
                <p:cNvPicPr/>
                <p:nvPr/>
              </p:nvPicPr>
              <p:blipFill>
                <a:blip r:embed="rId281"/>
                <a:srcRect l="0" t="0" r="50472" b="0"/>
                <a:stretch/>
              </p:blipFill>
              <p:spPr>
                <a:xfrm>
                  <a:off x="6879960" y="500868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282"/>
                <a:srcRect l="0" t="0" r="50472" b="0"/>
                <a:stretch/>
              </p:blipFill>
              <p:spPr>
                <a:xfrm>
                  <a:off x="6879960" y="511344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283"/>
                <a:srcRect l="0" t="0" r="50472" b="0"/>
                <a:stretch/>
              </p:blipFill>
              <p:spPr>
                <a:xfrm>
                  <a:off x="6879960" y="521856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284"/>
                <a:srcRect l="0" t="0" r="50472" b="0"/>
                <a:stretch/>
              </p:blipFill>
              <p:spPr>
                <a:xfrm>
                  <a:off x="6879960" y="532332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285"/>
                <a:srcRect l="0" t="0" r="50472" b="0"/>
                <a:stretch/>
              </p:blipFill>
              <p:spPr>
                <a:xfrm>
                  <a:off x="6879960" y="542844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286"/>
                <a:srcRect l="0" t="0" r="50472" b="0"/>
                <a:stretch/>
              </p:blipFill>
              <p:spPr>
                <a:xfrm>
                  <a:off x="6879960" y="553320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287"/>
                <a:srcRect l="0" t="0" r="50472" b="37736"/>
                <a:stretch/>
              </p:blipFill>
              <p:spPr>
                <a:xfrm>
                  <a:off x="6879960" y="5638320"/>
                  <a:ext cx="10944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4" name=""/>
              <p:cNvSpPr/>
              <p:nvPr/>
            </p:nvSpPr>
            <p:spPr>
              <a:xfrm>
                <a:off x="6879960" y="5008680"/>
                <a:ext cx="11412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7292880" y="5008680"/>
              <a:ext cx="117000" cy="704520"/>
              <a:chOff x="7292880" y="5008680"/>
              <a:chExt cx="117000" cy="70452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7292880" y="5008680"/>
                <a:ext cx="114840" cy="702360"/>
                <a:chOff x="7292880" y="5008680"/>
                <a:chExt cx="114840" cy="702360"/>
              </a:xfrm>
            </p:grpSpPr>
            <p:pic>
              <p:nvPicPr>
                <p:cNvPr id="667" name="" descr=""/>
                <p:cNvPicPr/>
                <p:nvPr/>
              </p:nvPicPr>
              <p:blipFill>
                <a:blip r:embed="rId288"/>
                <a:srcRect l="0" t="0" r="37736" b="0"/>
                <a:stretch/>
              </p:blipFill>
              <p:spPr>
                <a:xfrm>
                  <a:off x="7292880" y="5008680"/>
                  <a:ext cx="11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89"/>
                <a:srcRect l="0" t="0" r="37736" b="0"/>
                <a:stretch/>
              </p:blipFill>
              <p:spPr>
                <a:xfrm>
                  <a:off x="7292880" y="5113440"/>
                  <a:ext cx="11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90"/>
                <a:srcRect l="0" t="0" r="37736" b="0"/>
                <a:stretch/>
              </p:blipFill>
              <p:spPr>
                <a:xfrm>
                  <a:off x="7292880" y="5218560"/>
                  <a:ext cx="11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91"/>
                <a:srcRect l="0" t="0" r="37736" b="0"/>
                <a:stretch/>
              </p:blipFill>
              <p:spPr>
                <a:xfrm>
                  <a:off x="7292880" y="5323320"/>
                  <a:ext cx="11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292"/>
                <a:srcRect l="0" t="0" r="37736" b="0"/>
                <a:stretch/>
              </p:blipFill>
              <p:spPr>
                <a:xfrm>
                  <a:off x="7292880" y="5428440"/>
                  <a:ext cx="11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293"/>
                <a:srcRect l="0" t="0" r="37736" b="0"/>
                <a:stretch/>
              </p:blipFill>
              <p:spPr>
                <a:xfrm>
                  <a:off x="7292880" y="5533200"/>
                  <a:ext cx="1148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294"/>
                <a:srcRect l="0" t="0" r="37736" b="37736"/>
                <a:stretch/>
              </p:blipFill>
              <p:spPr>
                <a:xfrm>
                  <a:off x="7292880" y="5638320"/>
                  <a:ext cx="11484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74" name=""/>
              <p:cNvSpPr/>
              <p:nvPr/>
            </p:nvSpPr>
            <p:spPr>
              <a:xfrm>
                <a:off x="7292880" y="5008680"/>
                <a:ext cx="11700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7124400" y="5008680"/>
              <a:ext cx="114120" cy="704520"/>
              <a:chOff x="7124400" y="5008680"/>
              <a:chExt cx="114120" cy="70452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7124400" y="5008680"/>
                <a:ext cx="109440" cy="702360"/>
                <a:chOff x="7124400" y="5008680"/>
                <a:chExt cx="109440" cy="702360"/>
              </a:xfrm>
            </p:grpSpPr>
            <p:pic>
              <p:nvPicPr>
                <p:cNvPr id="677" name="" descr=""/>
                <p:cNvPicPr/>
                <p:nvPr/>
              </p:nvPicPr>
              <p:blipFill>
                <a:blip r:embed="rId295"/>
                <a:srcRect l="0" t="0" r="50472" b="0"/>
                <a:stretch/>
              </p:blipFill>
              <p:spPr>
                <a:xfrm>
                  <a:off x="7124400" y="500868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296"/>
                <a:srcRect l="0" t="0" r="50472" b="0"/>
                <a:stretch/>
              </p:blipFill>
              <p:spPr>
                <a:xfrm>
                  <a:off x="7124400" y="511344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297"/>
                <a:srcRect l="0" t="0" r="50472" b="0"/>
                <a:stretch/>
              </p:blipFill>
              <p:spPr>
                <a:xfrm>
                  <a:off x="7124400" y="521856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298"/>
                <a:srcRect l="0" t="0" r="50472" b="0"/>
                <a:stretch/>
              </p:blipFill>
              <p:spPr>
                <a:xfrm>
                  <a:off x="7124400" y="532332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299"/>
                <a:srcRect l="0" t="0" r="50472" b="0"/>
                <a:stretch/>
              </p:blipFill>
              <p:spPr>
                <a:xfrm>
                  <a:off x="7124400" y="542844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300"/>
                <a:srcRect l="0" t="0" r="50472" b="0"/>
                <a:stretch/>
              </p:blipFill>
              <p:spPr>
                <a:xfrm>
                  <a:off x="7124400" y="5533200"/>
                  <a:ext cx="10944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301"/>
                <a:srcRect l="0" t="0" r="50472" b="37736"/>
                <a:stretch/>
              </p:blipFill>
              <p:spPr>
                <a:xfrm>
                  <a:off x="7124400" y="5638320"/>
                  <a:ext cx="10944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84" name=""/>
              <p:cNvSpPr/>
              <p:nvPr/>
            </p:nvSpPr>
            <p:spPr>
              <a:xfrm>
                <a:off x="7124400" y="5008680"/>
                <a:ext cx="11412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5" name=""/>
          <p:cNvGrpSpPr/>
          <p:nvPr/>
        </p:nvGrpSpPr>
        <p:grpSpPr>
          <a:xfrm>
            <a:off x="6119640" y="5008680"/>
            <a:ext cx="114120" cy="704520"/>
            <a:chOff x="6119640" y="5008680"/>
            <a:chExt cx="114120" cy="704520"/>
          </a:xfrm>
        </p:grpSpPr>
        <p:grpSp>
          <p:nvGrpSpPr>
            <p:cNvPr id="686" name=""/>
            <p:cNvGrpSpPr/>
            <p:nvPr/>
          </p:nvGrpSpPr>
          <p:grpSpPr>
            <a:xfrm>
              <a:off x="6119640" y="5008680"/>
              <a:ext cx="109440" cy="702360"/>
              <a:chOff x="6119640" y="5008680"/>
              <a:chExt cx="109440" cy="702360"/>
            </a:xfrm>
          </p:grpSpPr>
          <p:pic>
            <p:nvPicPr>
              <p:cNvPr id="687" name="" descr=""/>
              <p:cNvPicPr/>
              <p:nvPr/>
            </p:nvPicPr>
            <p:blipFill>
              <a:blip r:embed="rId302"/>
              <a:srcRect l="0" t="0" r="50472" b="0"/>
              <a:stretch/>
            </p:blipFill>
            <p:spPr>
              <a:xfrm>
                <a:off x="6119640" y="5008680"/>
                <a:ext cx="1094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8" name="" descr=""/>
              <p:cNvPicPr/>
              <p:nvPr/>
            </p:nvPicPr>
            <p:blipFill>
              <a:blip r:embed="rId303"/>
              <a:srcRect l="0" t="0" r="50472" b="0"/>
              <a:stretch/>
            </p:blipFill>
            <p:spPr>
              <a:xfrm>
                <a:off x="6119640" y="5113440"/>
                <a:ext cx="1094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" descr=""/>
              <p:cNvPicPr/>
              <p:nvPr/>
            </p:nvPicPr>
            <p:blipFill>
              <a:blip r:embed="rId304"/>
              <a:srcRect l="0" t="0" r="50472" b="0"/>
              <a:stretch/>
            </p:blipFill>
            <p:spPr>
              <a:xfrm>
                <a:off x="6119640" y="5218560"/>
                <a:ext cx="1094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0" name="" descr=""/>
              <p:cNvPicPr/>
              <p:nvPr/>
            </p:nvPicPr>
            <p:blipFill>
              <a:blip r:embed="rId305"/>
              <a:srcRect l="0" t="0" r="50472" b="0"/>
              <a:stretch/>
            </p:blipFill>
            <p:spPr>
              <a:xfrm>
                <a:off x="6119640" y="5323320"/>
                <a:ext cx="1094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1" name="" descr=""/>
              <p:cNvPicPr/>
              <p:nvPr/>
            </p:nvPicPr>
            <p:blipFill>
              <a:blip r:embed="rId306"/>
              <a:srcRect l="0" t="0" r="50472" b="0"/>
              <a:stretch/>
            </p:blipFill>
            <p:spPr>
              <a:xfrm>
                <a:off x="6119640" y="5428440"/>
                <a:ext cx="1094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2" name="" descr=""/>
              <p:cNvPicPr/>
              <p:nvPr/>
            </p:nvPicPr>
            <p:blipFill>
              <a:blip r:embed="rId307"/>
              <a:srcRect l="0" t="0" r="50472" b="0"/>
              <a:stretch/>
            </p:blipFill>
            <p:spPr>
              <a:xfrm>
                <a:off x="6119640" y="5533200"/>
                <a:ext cx="1094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3" name="" descr=""/>
              <p:cNvPicPr/>
              <p:nvPr/>
            </p:nvPicPr>
            <p:blipFill>
              <a:blip r:embed="rId308"/>
              <a:srcRect l="0" t="0" r="50472" b="37736"/>
              <a:stretch/>
            </p:blipFill>
            <p:spPr>
              <a:xfrm>
                <a:off x="6119640" y="5638320"/>
                <a:ext cx="109440" cy="7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4" name=""/>
            <p:cNvSpPr/>
            <p:nvPr/>
          </p:nvSpPr>
          <p:spPr>
            <a:xfrm>
              <a:off x="6119640" y="5008680"/>
              <a:ext cx="114120" cy="7045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459080" y="5008680"/>
            <a:ext cx="1034640" cy="704520"/>
            <a:chOff x="1459080" y="5008680"/>
            <a:chExt cx="1034640" cy="704520"/>
          </a:xfrm>
        </p:grpSpPr>
        <p:grpSp>
          <p:nvGrpSpPr>
            <p:cNvPr id="696" name=""/>
            <p:cNvGrpSpPr/>
            <p:nvPr/>
          </p:nvGrpSpPr>
          <p:grpSpPr>
            <a:xfrm>
              <a:off x="1908360" y="5008680"/>
              <a:ext cx="117000" cy="704520"/>
              <a:chOff x="1908360" y="5008680"/>
              <a:chExt cx="117000" cy="70452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1908360" y="5008680"/>
                <a:ext cx="112320" cy="702360"/>
                <a:chOff x="1908360" y="5008680"/>
                <a:chExt cx="112320" cy="702360"/>
              </a:xfrm>
            </p:grpSpPr>
            <p:pic>
              <p:nvPicPr>
                <p:cNvPr id="698" name="" descr=""/>
                <p:cNvPicPr/>
                <p:nvPr/>
              </p:nvPicPr>
              <p:blipFill>
                <a:blip r:embed="rId309"/>
                <a:srcRect l="0" t="0" r="37736" b="0"/>
                <a:stretch/>
              </p:blipFill>
              <p:spPr>
                <a:xfrm>
                  <a:off x="1908360" y="500868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" descr=""/>
                <p:cNvPicPr/>
                <p:nvPr/>
              </p:nvPicPr>
              <p:blipFill>
                <a:blip r:embed="rId310"/>
                <a:srcRect l="0" t="0" r="37736" b="0"/>
                <a:stretch/>
              </p:blipFill>
              <p:spPr>
                <a:xfrm>
                  <a:off x="1908360" y="511344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" descr=""/>
                <p:cNvPicPr/>
                <p:nvPr/>
              </p:nvPicPr>
              <p:blipFill>
                <a:blip r:embed="rId311"/>
                <a:srcRect l="0" t="0" r="37736" b="0"/>
                <a:stretch/>
              </p:blipFill>
              <p:spPr>
                <a:xfrm>
                  <a:off x="1908360" y="521856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" descr=""/>
                <p:cNvPicPr/>
                <p:nvPr/>
              </p:nvPicPr>
              <p:blipFill>
                <a:blip r:embed="rId312"/>
                <a:srcRect l="0" t="0" r="37736" b="0"/>
                <a:stretch/>
              </p:blipFill>
              <p:spPr>
                <a:xfrm>
                  <a:off x="1908360" y="532332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" descr=""/>
                <p:cNvPicPr/>
                <p:nvPr/>
              </p:nvPicPr>
              <p:blipFill>
                <a:blip r:embed="rId313"/>
                <a:srcRect l="0" t="0" r="37736" b="0"/>
                <a:stretch/>
              </p:blipFill>
              <p:spPr>
                <a:xfrm>
                  <a:off x="1908360" y="542844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314"/>
                <a:srcRect l="0" t="0" r="37736" b="0"/>
                <a:stretch/>
              </p:blipFill>
              <p:spPr>
                <a:xfrm>
                  <a:off x="1908360" y="553320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315"/>
                <a:srcRect l="0" t="0" r="37736" b="37736"/>
                <a:stretch/>
              </p:blipFill>
              <p:spPr>
                <a:xfrm>
                  <a:off x="1908360" y="5638320"/>
                  <a:ext cx="11232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05" name=""/>
              <p:cNvSpPr/>
              <p:nvPr/>
            </p:nvSpPr>
            <p:spPr>
              <a:xfrm>
                <a:off x="1908360" y="5008680"/>
                <a:ext cx="11700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2132280" y="5008680"/>
              <a:ext cx="117000" cy="704520"/>
              <a:chOff x="2132280" y="5008680"/>
              <a:chExt cx="117000" cy="70452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2132280" y="5008680"/>
                <a:ext cx="112320" cy="702360"/>
                <a:chOff x="2132280" y="5008680"/>
                <a:chExt cx="112320" cy="702360"/>
              </a:xfrm>
            </p:grpSpPr>
            <p:pic>
              <p:nvPicPr>
                <p:cNvPr id="708" name="" descr=""/>
                <p:cNvPicPr/>
                <p:nvPr/>
              </p:nvPicPr>
              <p:blipFill>
                <a:blip r:embed="rId316"/>
                <a:srcRect l="0" t="0" r="37736" b="0"/>
                <a:stretch/>
              </p:blipFill>
              <p:spPr>
                <a:xfrm>
                  <a:off x="2132280" y="500868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317"/>
                <a:srcRect l="0" t="0" r="37736" b="0"/>
                <a:stretch/>
              </p:blipFill>
              <p:spPr>
                <a:xfrm>
                  <a:off x="2132280" y="511344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" descr=""/>
                <p:cNvPicPr/>
                <p:nvPr/>
              </p:nvPicPr>
              <p:blipFill>
                <a:blip r:embed="rId318"/>
                <a:srcRect l="0" t="0" r="37736" b="0"/>
                <a:stretch/>
              </p:blipFill>
              <p:spPr>
                <a:xfrm>
                  <a:off x="2132280" y="521856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" descr=""/>
                <p:cNvPicPr/>
                <p:nvPr/>
              </p:nvPicPr>
              <p:blipFill>
                <a:blip r:embed="rId319"/>
                <a:srcRect l="0" t="0" r="37736" b="0"/>
                <a:stretch/>
              </p:blipFill>
              <p:spPr>
                <a:xfrm>
                  <a:off x="2132280" y="532332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320"/>
                <a:srcRect l="0" t="0" r="37736" b="0"/>
                <a:stretch/>
              </p:blipFill>
              <p:spPr>
                <a:xfrm>
                  <a:off x="2132280" y="542844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" descr=""/>
                <p:cNvPicPr/>
                <p:nvPr/>
              </p:nvPicPr>
              <p:blipFill>
                <a:blip r:embed="rId321"/>
                <a:srcRect l="0" t="0" r="37736" b="0"/>
                <a:stretch/>
              </p:blipFill>
              <p:spPr>
                <a:xfrm>
                  <a:off x="2132280" y="5533200"/>
                  <a:ext cx="11232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" descr=""/>
                <p:cNvPicPr/>
                <p:nvPr/>
              </p:nvPicPr>
              <p:blipFill>
                <a:blip r:embed="rId322"/>
                <a:srcRect l="0" t="0" r="37736" b="37736"/>
                <a:stretch/>
              </p:blipFill>
              <p:spPr>
                <a:xfrm>
                  <a:off x="2132280" y="5638320"/>
                  <a:ext cx="11232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15" name=""/>
              <p:cNvSpPr/>
              <p:nvPr/>
            </p:nvSpPr>
            <p:spPr>
              <a:xfrm>
                <a:off x="2132280" y="5008680"/>
                <a:ext cx="11700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1459080" y="5008680"/>
              <a:ext cx="121680" cy="704520"/>
              <a:chOff x="1459080" y="5008680"/>
              <a:chExt cx="121680" cy="70452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1459080" y="5008680"/>
                <a:ext cx="117000" cy="702360"/>
                <a:chOff x="1459080" y="5008680"/>
                <a:chExt cx="117000" cy="702360"/>
              </a:xfrm>
            </p:grpSpPr>
            <p:pic>
              <p:nvPicPr>
                <p:cNvPr id="718" name="" descr=""/>
                <p:cNvPicPr/>
                <p:nvPr/>
              </p:nvPicPr>
              <p:blipFill>
                <a:blip r:embed="rId323"/>
                <a:srcRect l="0" t="0" r="37736" b="0"/>
                <a:stretch/>
              </p:blipFill>
              <p:spPr>
                <a:xfrm>
                  <a:off x="1459080" y="5008680"/>
                  <a:ext cx="11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" descr=""/>
                <p:cNvPicPr/>
                <p:nvPr/>
              </p:nvPicPr>
              <p:blipFill>
                <a:blip r:embed="rId324"/>
                <a:srcRect l="0" t="0" r="37736" b="0"/>
                <a:stretch/>
              </p:blipFill>
              <p:spPr>
                <a:xfrm>
                  <a:off x="1459080" y="5113440"/>
                  <a:ext cx="11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" descr=""/>
                <p:cNvPicPr/>
                <p:nvPr/>
              </p:nvPicPr>
              <p:blipFill>
                <a:blip r:embed="rId325"/>
                <a:srcRect l="0" t="0" r="37736" b="0"/>
                <a:stretch/>
              </p:blipFill>
              <p:spPr>
                <a:xfrm>
                  <a:off x="1459080" y="5218560"/>
                  <a:ext cx="11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" descr=""/>
                <p:cNvPicPr/>
                <p:nvPr/>
              </p:nvPicPr>
              <p:blipFill>
                <a:blip r:embed="rId326"/>
                <a:srcRect l="0" t="0" r="37736" b="0"/>
                <a:stretch/>
              </p:blipFill>
              <p:spPr>
                <a:xfrm>
                  <a:off x="1459080" y="5323320"/>
                  <a:ext cx="11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" descr=""/>
                <p:cNvPicPr/>
                <p:nvPr/>
              </p:nvPicPr>
              <p:blipFill>
                <a:blip r:embed="rId327"/>
                <a:srcRect l="0" t="0" r="37736" b="0"/>
                <a:stretch/>
              </p:blipFill>
              <p:spPr>
                <a:xfrm>
                  <a:off x="1459080" y="5428440"/>
                  <a:ext cx="11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" descr=""/>
                <p:cNvPicPr/>
                <p:nvPr/>
              </p:nvPicPr>
              <p:blipFill>
                <a:blip r:embed="rId328"/>
                <a:srcRect l="0" t="0" r="37736" b="0"/>
                <a:stretch/>
              </p:blipFill>
              <p:spPr>
                <a:xfrm>
                  <a:off x="1459080" y="5533200"/>
                  <a:ext cx="1170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" descr=""/>
                <p:cNvPicPr/>
                <p:nvPr/>
              </p:nvPicPr>
              <p:blipFill>
                <a:blip r:embed="rId329"/>
                <a:srcRect l="0" t="0" r="37736" b="37736"/>
                <a:stretch/>
              </p:blipFill>
              <p:spPr>
                <a:xfrm>
                  <a:off x="1459080" y="5638320"/>
                  <a:ext cx="11700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25" name=""/>
              <p:cNvSpPr/>
              <p:nvPr/>
            </p:nvSpPr>
            <p:spPr>
              <a:xfrm>
                <a:off x="1459080" y="5008680"/>
                <a:ext cx="12168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1687680" y="5008680"/>
              <a:ext cx="113760" cy="704520"/>
              <a:chOff x="1687680" y="5008680"/>
              <a:chExt cx="113760" cy="704520"/>
            </a:xfrm>
          </p:grpSpPr>
          <p:grpSp>
            <p:nvGrpSpPr>
              <p:cNvPr id="727" name=""/>
              <p:cNvGrpSpPr/>
              <p:nvPr/>
            </p:nvGrpSpPr>
            <p:grpSpPr>
              <a:xfrm>
                <a:off x="1687680" y="5008680"/>
                <a:ext cx="109800" cy="702360"/>
                <a:chOff x="1687680" y="5008680"/>
                <a:chExt cx="109800" cy="702360"/>
              </a:xfrm>
            </p:grpSpPr>
            <p:pic>
              <p:nvPicPr>
                <p:cNvPr id="728" name="" descr=""/>
                <p:cNvPicPr/>
                <p:nvPr/>
              </p:nvPicPr>
              <p:blipFill>
                <a:blip r:embed="rId330"/>
                <a:srcRect l="0" t="0" r="50472" b="0"/>
                <a:stretch/>
              </p:blipFill>
              <p:spPr>
                <a:xfrm>
                  <a:off x="1687680" y="5008680"/>
                  <a:ext cx="1098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9" name="" descr=""/>
                <p:cNvPicPr/>
                <p:nvPr/>
              </p:nvPicPr>
              <p:blipFill>
                <a:blip r:embed="rId331"/>
                <a:srcRect l="0" t="0" r="50472" b="0"/>
                <a:stretch/>
              </p:blipFill>
              <p:spPr>
                <a:xfrm>
                  <a:off x="1687680" y="5113440"/>
                  <a:ext cx="1098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0" name="" descr=""/>
                <p:cNvPicPr/>
                <p:nvPr/>
              </p:nvPicPr>
              <p:blipFill>
                <a:blip r:embed="rId332"/>
                <a:srcRect l="0" t="0" r="50472" b="0"/>
                <a:stretch/>
              </p:blipFill>
              <p:spPr>
                <a:xfrm>
                  <a:off x="1687680" y="5218560"/>
                  <a:ext cx="1098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" descr=""/>
                <p:cNvPicPr/>
                <p:nvPr/>
              </p:nvPicPr>
              <p:blipFill>
                <a:blip r:embed="rId333"/>
                <a:srcRect l="0" t="0" r="50472" b="0"/>
                <a:stretch/>
              </p:blipFill>
              <p:spPr>
                <a:xfrm>
                  <a:off x="1687680" y="5323320"/>
                  <a:ext cx="1098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" descr=""/>
                <p:cNvPicPr/>
                <p:nvPr/>
              </p:nvPicPr>
              <p:blipFill>
                <a:blip r:embed="rId334"/>
                <a:srcRect l="0" t="0" r="50472" b="0"/>
                <a:stretch/>
              </p:blipFill>
              <p:spPr>
                <a:xfrm>
                  <a:off x="1687680" y="5428440"/>
                  <a:ext cx="1098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" descr=""/>
                <p:cNvPicPr/>
                <p:nvPr/>
              </p:nvPicPr>
              <p:blipFill>
                <a:blip r:embed="rId335"/>
                <a:srcRect l="0" t="0" r="50472" b="0"/>
                <a:stretch/>
              </p:blipFill>
              <p:spPr>
                <a:xfrm>
                  <a:off x="1687680" y="5533200"/>
                  <a:ext cx="10980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" descr=""/>
                <p:cNvPicPr/>
                <p:nvPr/>
              </p:nvPicPr>
              <p:blipFill>
                <a:blip r:embed="rId336"/>
                <a:srcRect l="0" t="0" r="50472" b="37736"/>
                <a:stretch/>
              </p:blipFill>
              <p:spPr>
                <a:xfrm>
                  <a:off x="1687680" y="5638320"/>
                  <a:ext cx="10980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35" name=""/>
              <p:cNvSpPr/>
              <p:nvPr/>
            </p:nvSpPr>
            <p:spPr>
              <a:xfrm>
                <a:off x="1687680" y="5008680"/>
                <a:ext cx="11376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2378160" y="5008680"/>
              <a:ext cx="115560" cy="704520"/>
              <a:chOff x="2378160" y="5008680"/>
              <a:chExt cx="115560" cy="70452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2378160" y="5008680"/>
                <a:ext cx="110880" cy="702360"/>
                <a:chOff x="2378160" y="5008680"/>
                <a:chExt cx="110880" cy="702360"/>
              </a:xfrm>
            </p:grpSpPr>
            <p:pic>
              <p:nvPicPr>
                <p:cNvPr id="738" name="" descr=""/>
                <p:cNvPicPr/>
                <p:nvPr/>
              </p:nvPicPr>
              <p:blipFill>
                <a:blip r:embed="rId337"/>
                <a:srcRect l="0" t="0" r="50472" b="0"/>
                <a:stretch/>
              </p:blipFill>
              <p:spPr>
                <a:xfrm>
                  <a:off x="2378160" y="500868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" descr=""/>
                <p:cNvPicPr/>
                <p:nvPr/>
              </p:nvPicPr>
              <p:blipFill>
                <a:blip r:embed="rId338"/>
                <a:srcRect l="0" t="0" r="50472" b="0"/>
                <a:stretch/>
              </p:blipFill>
              <p:spPr>
                <a:xfrm>
                  <a:off x="2378160" y="511344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" descr=""/>
                <p:cNvPicPr/>
                <p:nvPr/>
              </p:nvPicPr>
              <p:blipFill>
                <a:blip r:embed="rId339"/>
                <a:srcRect l="0" t="0" r="50472" b="0"/>
                <a:stretch/>
              </p:blipFill>
              <p:spPr>
                <a:xfrm>
                  <a:off x="2378160" y="521856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" descr=""/>
                <p:cNvPicPr/>
                <p:nvPr/>
              </p:nvPicPr>
              <p:blipFill>
                <a:blip r:embed="rId340"/>
                <a:srcRect l="0" t="0" r="50472" b="0"/>
                <a:stretch/>
              </p:blipFill>
              <p:spPr>
                <a:xfrm>
                  <a:off x="2378160" y="532332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" descr=""/>
                <p:cNvPicPr/>
                <p:nvPr/>
              </p:nvPicPr>
              <p:blipFill>
                <a:blip r:embed="rId341"/>
                <a:srcRect l="0" t="0" r="50472" b="0"/>
                <a:stretch/>
              </p:blipFill>
              <p:spPr>
                <a:xfrm>
                  <a:off x="2378160" y="542844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" descr=""/>
                <p:cNvPicPr/>
                <p:nvPr/>
              </p:nvPicPr>
              <p:blipFill>
                <a:blip r:embed="rId342"/>
                <a:srcRect l="0" t="0" r="50472" b="0"/>
                <a:stretch/>
              </p:blipFill>
              <p:spPr>
                <a:xfrm>
                  <a:off x="2378160" y="5533200"/>
                  <a:ext cx="110880" cy="10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" descr=""/>
                <p:cNvPicPr/>
                <p:nvPr/>
              </p:nvPicPr>
              <p:blipFill>
                <a:blip r:embed="rId343"/>
                <a:srcRect l="0" t="0" r="50472" b="37736"/>
                <a:stretch/>
              </p:blipFill>
              <p:spPr>
                <a:xfrm>
                  <a:off x="2378160" y="5638320"/>
                  <a:ext cx="11088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45" name=""/>
              <p:cNvSpPr/>
              <p:nvPr/>
            </p:nvSpPr>
            <p:spPr>
              <a:xfrm>
                <a:off x="2378160" y="5008680"/>
                <a:ext cx="115560" cy="7045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"/>
          <p:cNvSpPr/>
          <p:nvPr/>
        </p:nvSpPr>
        <p:spPr>
          <a:xfrm>
            <a:off x="2487600" y="307980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CDDP 20 mg/mq/day  i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01960" y="3841920"/>
            <a:ext cx="304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5-FU 1 g/mq/day iv for 96 h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075520" y="2394000"/>
            <a:ext cx="770040" cy="3200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232840" y="2460600"/>
            <a:ext cx="456480" cy="30801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07400" y="589932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51120" y="58388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05280" y="5838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72040" y="5838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23400" y="5838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37760" y="5838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929360" y="58388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XI-X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24000" y="1219320"/>
            <a:ext cx="1371600" cy="1143000"/>
            <a:chOff x="324000" y="1219320"/>
            <a:chExt cx="1371600" cy="1143000"/>
          </a:xfrm>
        </p:grpSpPr>
        <p:sp>
          <p:nvSpPr>
            <p:cNvPr id="758" name=""/>
            <p:cNvSpPr/>
            <p:nvPr/>
          </p:nvSpPr>
          <p:spPr>
            <a:xfrm>
              <a:off x="324000" y="1219320"/>
              <a:ext cx="1371600" cy="1143000"/>
            </a:xfrm>
            <a:prstGeom prst="downArrowCallout">
              <a:avLst>
                <a:gd name="adj1" fmla="val 30003"/>
                <a:gd name="adj2" fmla="val 30000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3800" y="1308240"/>
              <a:ext cx="132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Times New Roman"/>
                </a:rPr>
                <a:t>Sta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7770960" y="1386000"/>
            <a:ext cx="183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105680" y="1219320"/>
            <a:ext cx="1604520" cy="1143000"/>
            <a:chOff x="7105680" y="1219320"/>
            <a:chExt cx="1604520" cy="1143000"/>
          </a:xfrm>
        </p:grpSpPr>
        <p:sp>
          <p:nvSpPr>
            <p:cNvPr id="762" name=""/>
            <p:cNvSpPr/>
            <p:nvPr/>
          </p:nvSpPr>
          <p:spPr>
            <a:xfrm>
              <a:off x="7105680" y="1219320"/>
              <a:ext cx="1600200" cy="1143000"/>
            </a:xfrm>
            <a:prstGeom prst="downArrowCallout">
              <a:avLst>
                <a:gd name="adj1" fmla="val 35003"/>
                <a:gd name="adj2" fmla="val 35000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07480" y="1324080"/>
              <a:ext cx="160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Times New Roman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861840" y="523800"/>
            <a:ext cx="1043280" cy="1006560"/>
            <a:chOff x="861840" y="523800"/>
            <a:chExt cx="1043280" cy="1006560"/>
          </a:xfrm>
        </p:grpSpPr>
        <p:sp>
          <p:nvSpPr>
            <p:cNvPr id="765" name=""/>
            <p:cNvSpPr/>
            <p:nvPr/>
          </p:nvSpPr>
          <p:spPr>
            <a:xfrm>
              <a:off x="861840" y="523800"/>
              <a:ext cx="1043280" cy="1006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6" name="" descr=""/>
            <p:cNvPicPr/>
            <p:nvPr/>
          </p:nvPicPr>
          <p:blipFill>
            <a:blip r:embed="rId1"/>
            <a:stretch/>
          </p:blipFill>
          <p:spPr>
            <a:xfrm>
              <a:off x="981360" y="638280"/>
              <a:ext cx="804600" cy="7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7" name=""/>
          <p:cNvSpPr/>
          <p:nvPr/>
        </p:nvSpPr>
        <p:spPr>
          <a:xfrm rot="20244000">
            <a:off x="390960" y="1458720"/>
            <a:ext cx="39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Is the duration of follow-up long enough for reliable conclusi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3656160" y="853920"/>
            <a:ext cx="1828800" cy="7369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21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CTRT (N=18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9" name=""/>
          <p:cNvCxnSpPr>
            <a:endCxn id="770" idx="0"/>
          </p:cNvCxnSpPr>
          <p:nvPr/>
        </p:nvCxnSpPr>
        <p:spPr>
          <a:xfrm>
            <a:off x="4568400" y="1663560"/>
            <a:ext cx="396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>
            <a:off x="1092240" y="1690560"/>
            <a:ext cx="28209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Not-treatment related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complications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(N=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/>
          <p:nvPr/>
        </p:nvCxnSpPr>
        <p:spPr>
          <a:xfrm rot="5400000">
            <a:off x="4041720" y="1545480"/>
            <a:ext cx="208800" cy="80064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773" name=""/>
          <p:cNvSpPr/>
          <p:nvPr/>
        </p:nvSpPr>
        <p:spPr>
          <a:xfrm>
            <a:off x="1550880" y="100080"/>
            <a:ext cx="62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Times New Roman"/>
              </a:rPr>
              <a:t>Flow-chart of the study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487600" y="2603520"/>
            <a:ext cx="4167360" cy="672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Evaluable for clinical response (MRI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±CT/P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N=18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58320" y="389880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74 (40.6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56400" y="389880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101 (55.6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24040" y="38988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3 (1.6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19480" y="38988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4 (2.2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P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200000">
            <a:off x="4449600" y="2837880"/>
            <a:ext cx="243000" cy="3309840"/>
          </a:xfrm>
          <a:custGeom>
            <a:avLst/>
            <a:gdLst>
              <a:gd name="textAreaLeft" fmla="*/ 155160 w 243000"/>
              <a:gd name="textAreaRight" fmla="*/ 243360 w 243000"/>
              <a:gd name="textAreaTop" fmla="*/ 86040 h 3309840"/>
              <a:gd name="textAreaBottom" fmla="*/ 3223800 h 33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70" idx="2"/>
            <a:endCxn id="775" idx="0"/>
          </p:cNvCxnSpPr>
          <p:nvPr/>
        </p:nvCxnSpPr>
        <p:spPr>
          <a:xfrm flipV="1" rot="10800000">
            <a:off x="4571280" y="3298320"/>
            <a:ext cx="1080" cy="60084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80" name=""/>
          <p:cNvCxnSpPr>
            <a:stCxn id="770" idx="2"/>
            <a:endCxn id="774" idx="0"/>
          </p:cNvCxnSpPr>
          <p:nvPr/>
        </p:nvCxnSpPr>
        <p:spPr>
          <a:xfrm rot="5400000">
            <a:off x="3646800" y="2973960"/>
            <a:ext cx="600840" cy="1249920"/>
          </a:xfrm>
          <a:prstGeom prst="bentConnector3">
            <a:avLst>
              <a:gd name="adj1" fmla="val 491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81" name=""/>
          <p:cNvCxnSpPr>
            <a:stCxn id="770" idx="2"/>
            <a:endCxn id="776" idx="0"/>
          </p:cNvCxnSpPr>
          <p:nvPr/>
        </p:nvCxnSpPr>
        <p:spPr>
          <a:xfrm flipH="1" rot="16200000">
            <a:off x="4878000" y="2991240"/>
            <a:ext cx="600840" cy="1215000"/>
          </a:xfrm>
          <a:prstGeom prst="bentConnector3">
            <a:avLst>
              <a:gd name="adj1" fmla="val 491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82" name=""/>
          <p:cNvCxnSpPr>
            <a:stCxn id="770" idx="2"/>
            <a:endCxn id="777" idx="0"/>
          </p:cNvCxnSpPr>
          <p:nvPr/>
        </p:nvCxnSpPr>
        <p:spPr>
          <a:xfrm flipH="1" rot="16200000">
            <a:off x="5625720" y="2243520"/>
            <a:ext cx="600840" cy="2710440"/>
          </a:xfrm>
          <a:prstGeom prst="bentConnector3">
            <a:avLst>
              <a:gd name="adj1" fmla="val 49160"/>
            </a:avLst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783" name=""/>
          <p:cNvSpPr/>
          <p:nvPr/>
        </p:nvSpPr>
        <p:spPr>
          <a:xfrm>
            <a:off x="6344280" y="649116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66"/>
                </a:solidFill>
                <a:latin typeface="Times New Roman"/>
              </a:rPr>
              <a:t>Ferrandina, in prepa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endCxn id="785" idx="0"/>
          </p:cNvCxnSpPr>
          <p:nvPr/>
        </p:nvCxnSpPr>
        <p:spPr>
          <a:xfrm flipH="1">
            <a:off x="4565160" y="4660920"/>
            <a:ext cx="7200" cy="1327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6" name=""/>
          <p:cNvSpPr/>
          <p:nvPr/>
        </p:nvSpPr>
        <p:spPr>
          <a:xfrm>
            <a:off x="1968480" y="4586400"/>
            <a:ext cx="19573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Surgery Refusal (N=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340080" y="5997600"/>
            <a:ext cx="2451240" cy="64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Radical Surgery  (N=1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31920" y="5208480"/>
            <a:ext cx="2692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Severe Co-morbidities                           (N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/>
          <p:nvPr/>
        </p:nvCxnSpPr>
        <p:spPr>
          <a:xfrm rot="5400000">
            <a:off x="4067640" y="5076000"/>
            <a:ext cx="208440" cy="80064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789" name=""/>
          <p:cNvCxnSpPr/>
          <p:nvPr/>
        </p:nvCxnSpPr>
        <p:spPr>
          <a:xfrm rot="5400000">
            <a:off x="4067640" y="4390200"/>
            <a:ext cx="208440" cy="80064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790" name=""/>
          <p:cNvSpPr/>
          <p:nvPr/>
        </p:nvSpPr>
        <p:spPr>
          <a:xfrm>
            <a:off x="5664240" y="809640"/>
            <a:ext cx="36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ccff"/>
                </a:solidFill>
                <a:latin typeface="Times New Roman"/>
              </a:rPr>
              <a:t>Date of diagnosis                  October 1997 – June 200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1280" y="-165240"/>
            <a:ext cx="90727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00"/>
                </a:solidFill>
                <a:latin typeface="Times New Roman"/>
              </a:rPr>
              <a:t>Preoperative chemoradiotherapy in LACC patients </a:t>
            </a:r>
            <a:r>
              <a:rPr b="1" lang="it-IT" sz="2600" spc="-1" strike="noStrike">
                <a:solidFill>
                  <a:srgbClr val="ff6600"/>
                </a:solidFill>
                <a:latin typeface="Times New Roman"/>
              </a:rPr>
              <a:t>(n=18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222120" y="704880"/>
          <a:ext cx="3892320" cy="5663880"/>
        </p:xfrm>
        <a:graphic>
          <a:graphicData uri="http://schemas.openxmlformats.org/drawingml/2006/table">
            <a:tbl>
              <a:tblPr/>
              <a:tblGrid>
                <a:gridCol w="2833920"/>
                <a:gridCol w="105840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linical character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ge </a:t>
                      </a: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edian, ran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 (25-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1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FIGO S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B2-I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A-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(5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6 (73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 (20.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87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Histo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qua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enocarcinoma/adenosqua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4 (94.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(5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.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 (28.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 (41.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 (29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de status </a:t>
                      </a: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i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 (38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114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linical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Change/Pro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 (40.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 (54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(3.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"/>
          <p:cNvSpPr/>
          <p:nvPr/>
        </p:nvSpPr>
        <p:spPr>
          <a:xfrm>
            <a:off x="6684120" y="652140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66"/>
                </a:solidFill>
                <a:latin typeface="Times New Roman"/>
              </a:rPr>
              <a:t>Ferrandina, in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4317840" y="1728720"/>
          <a:ext cx="4826160" cy="4125600"/>
        </p:xfrm>
        <a:graphic>
          <a:graphicData uri="http://schemas.openxmlformats.org/drawingml/2006/table">
            <a:tbl>
              <a:tblPr/>
              <a:tblGrid>
                <a:gridCol w="3576960"/>
                <a:gridCol w="12492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Hysterectomy (Piver clas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ver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 (12.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ver III-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 (66.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elvic Lympha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an No. of lymphnodes removed (ran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an No. of lymphnodes involved (ran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(%) of cases with positive lymph 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>
                      <a:noFill/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 (6-8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(1-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 (12.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>
                      <a:noFill/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ortic Lympha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61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35.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an No. of lymphnodes removed (ran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an No. of lymphnodes involved (ran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(%) of cases with positive lymph 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>
                      <a:noFill/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(1-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(1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 (14.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>
                      <a:noFill/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5" name=""/>
          <p:cNvSpPr/>
          <p:nvPr/>
        </p:nvSpPr>
        <p:spPr>
          <a:xfrm>
            <a:off x="7526160" y="627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6" name=""/>
          <p:cNvGraphicFramePr/>
          <p:nvPr/>
        </p:nvGraphicFramePr>
        <p:xfrm>
          <a:off x="247680" y="1144440"/>
          <a:ext cx="9698040" cy="5275440"/>
        </p:xfrm>
        <a:graphic>
          <a:graphicData uri="http://schemas.openxmlformats.org/drawingml/2006/table">
            <a:tbl>
              <a:tblPr/>
              <a:tblGrid>
                <a:gridCol w="3460680"/>
                <a:gridCol w="6237360"/>
              </a:tblGrid>
              <a:tr h="53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lvic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nt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t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ntral+lat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trapelv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ymph no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raparenchi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iton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distant 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lvic+extrapelv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ortic metasta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24.1</a:t>
                      </a:r>
                      <a:r>
                        <a:rPr b="1" lang="it-IT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%)           (28.3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10.9%)           </a:t>
                      </a:r>
                      <a:r>
                        <a:rPr b="1" lang="it-IT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(10.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(  6.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(  2.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(  1.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  9.8%)           </a:t>
                      </a:r>
                      <a:r>
                        <a:rPr b="1" lang="it-IT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(11.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(  1.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(  2.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 ( 2.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 ( 2.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(3.4%)          </a:t>
                      </a:r>
                      <a:r>
                        <a:rPr b="1" lang="it-IT" sz="24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(13.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  (1.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7" name=""/>
          <p:cNvSpPr/>
          <p:nvPr/>
        </p:nvSpPr>
        <p:spPr>
          <a:xfrm>
            <a:off x="7334280" y="634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82160" y="-360"/>
            <a:ext cx="88059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00"/>
                </a:solidFill>
                <a:latin typeface="Times New Roman"/>
              </a:rPr>
              <a:t>Preoperative Chemoradiotherapy in LACC Patients: Relapse Rat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1000" y="5764320"/>
            <a:ext cx="6269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01880" y="6491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66"/>
                </a:solidFill>
                <a:latin typeface="Times New Roman"/>
              </a:rPr>
              <a:t>Ferrandina, i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371920" y="1422360"/>
            <a:ext cx="53316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5435640" y="5791320"/>
            <a:ext cx="53352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5410080" y="3645000"/>
            <a:ext cx="53352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5359320" y="1828800"/>
            <a:ext cx="53352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-160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eoperative Chemoradiotherapy</a:t>
            </a: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 i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 LACC Patients: </a:t>
            </a:r>
            <a:br>
              <a:rPr sz="2800"/>
            </a:b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DFS and OS</a:t>
            </a:r>
            <a:r>
              <a:rPr b="1" lang="it-IT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46560" y="690480"/>
            <a:ext cx="143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ll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-101520" y="2379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8200" y="638280"/>
            <a:ext cx="1800" cy="2077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43000" y="2716200"/>
            <a:ext cx="25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43000" y="2509920"/>
            <a:ext cx="25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43000" y="2300400"/>
            <a:ext cx="25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3000" y="2095560"/>
            <a:ext cx="25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43000" y="1884240"/>
            <a:ext cx="252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3000" y="1679400"/>
            <a:ext cx="252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3000" y="1469880"/>
            <a:ext cx="25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3000" y="1263600"/>
            <a:ext cx="252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43000" y="1054080"/>
            <a:ext cx="25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43000" y="849240"/>
            <a:ext cx="252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000" y="638280"/>
            <a:ext cx="25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06360" y="2728800"/>
            <a:ext cx="2730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68200" y="2716200"/>
            <a:ext cx="180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33520" y="2716200"/>
            <a:ext cx="144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06400" y="2716200"/>
            <a:ext cx="180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1071720" y="2716200"/>
            <a:ext cx="144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1338120" y="2716200"/>
            <a:ext cx="180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609560" y="2716200"/>
            <a:ext cx="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874880" y="2716200"/>
            <a:ext cx="144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146320" y="2716200"/>
            <a:ext cx="144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411280" y="2716200"/>
            <a:ext cx="180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678040" y="2716200"/>
            <a:ext cx="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949480" y="2716200"/>
            <a:ext cx="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303720" y="2792520"/>
            <a:ext cx="144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8200" y="638280"/>
            <a:ext cx="2789280" cy="614160"/>
          </a:xfrm>
          <a:custGeom>
            <a:avLst/>
            <a:gdLst/>
            <a:ahLst/>
            <a:rect l="l" t="t" r="r" b="b"/>
            <a:pathLst>
              <a:path w="441" h="99">
                <a:moveTo>
                  <a:pt x="0" y="0"/>
                </a:moveTo>
                <a:lnTo>
                  <a:pt x="7" y="0"/>
                </a:lnTo>
                <a:lnTo>
                  <a:pt x="7" y="2"/>
                </a:lnTo>
                <a:lnTo>
                  <a:pt x="11" y="2"/>
                </a:lnTo>
                <a:lnTo>
                  <a:pt x="11" y="3"/>
                </a:lnTo>
                <a:lnTo>
                  <a:pt x="14" y="3"/>
                </a:lnTo>
                <a:lnTo>
                  <a:pt x="14" y="12"/>
                </a:lnTo>
                <a:lnTo>
                  <a:pt x="18" y="12"/>
                </a:lnTo>
                <a:lnTo>
                  <a:pt x="18" y="17"/>
                </a:lnTo>
                <a:lnTo>
                  <a:pt x="21" y="17"/>
                </a:lnTo>
                <a:lnTo>
                  <a:pt x="21" y="27"/>
                </a:lnTo>
                <a:lnTo>
                  <a:pt x="25" y="27"/>
                </a:lnTo>
                <a:lnTo>
                  <a:pt x="25" y="34"/>
                </a:lnTo>
                <a:lnTo>
                  <a:pt x="28" y="34"/>
                </a:lnTo>
                <a:lnTo>
                  <a:pt x="28" y="37"/>
                </a:lnTo>
                <a:lnTo>
                  <a:pt x="32" y="37"/>
                </a:lnTo>
                <a:lnTo>
                  <a:pt x="32" y="37"/>
                </a:lnTo>
                <a:lnTo>
                  <a:pt x="35" y="37"/>
                </a:lnTo>
                <a:lnTo>
                  <a:pt x="35" y="40"/>
                </a:lnTo>
                <a:lnTo>
                  <a:pt x="42" y="40"/>
                </a:lnTo>
                <a:lnTo>
                  <a:pt x="42" y="40"/>
                </a:lnTo>
                <a:lnTo>
                  <a:pt x="46" y="40"/>
                </a:lnTo>
                <a:lnTo>
                  <a:pt x="46" y="44"/>
                </a:lnTo>
                <a:lnTo>
                  <a:pt x="49" y="44"/>
                </a:lnTo>
                <a:lnTo>
                  <a:pt x="49" y="44"/>
                </a:lnTo>
                <a:lnTo>
                  <a:pt x="53" y="44"/>
                </a:lnTo>
                <a:lnTo>
                  <a:pt x="53" y="50"/>
                </a:lnTo>
                <a:lnTo>
                  <a:pt x="56" y="50"/>
                </a:lnTo>
                <a:lnTo>
                  <a:pt x="56" y="54"/>
                </a:lnTo>
                <a:lnTo>
                  <a:pt x="60" y="54"/>
                </a:lnTo>
                <a:lnTo>
                  <a:pt x="60" y="57"/>
                </a:lnTo>
                <a:lnTo>
                  <a:pt x="64" y="57"/>
                </a:lnTo>
                <a:lnTo>
                  <a:pt x="64" y="60"/>
                </a:lnTo>
                <a:lnTo>
                  <a:pt x="67" y="60"/>
                </a:lnTo>
                <a:lnTo>
                  <a:pt x="67" y="60"/>
                </a:lnTo>
                <a:lnTo>
                  <a:pt x="71" y="60"/>
                </a:lnTo>
                <a:lnTo>
                  <a:pt x="71" y="64"/>
                </a:lnTo>
                <a:lnTo>
                  <a:pt x="74" y="64"/>
                </a:lnTo>
                <a:lnTo>
                  <a:pt x="74" y="64"/>
                </a:lnTo>
                <a:lnTo>
                  <a:pt x="78" y="64"/>
                </a:lnTo>
                <a:lnTo>
                  <a:pt x="78" y="74"/>
                </a:lnTo>
                <a:lnTo>
                  <a:pt x="85" y="74"/>
                </a:lnTo>
                <a:lnTo>
                  <a:pt x="85" y="74"/>
                </a:lnTo>
                <a:lnTo>
                  <a:pt x="88" y="74"/>
                </a:lnTo>
                <a:lnTo>
                  <a:pt x="88" y="74"/>
                </a:lnTo>
                <a:lnTo>
                  <a:pt x="92" y="74"/>
                </a:lnTo>
                <a:lnTo>
                  <a:pt x="92" y="74"/>
                </a:lnTo>
                <a:lnTo>
                  <a:pt x="95" y="74"/>
                </a:lnTo>
                <a:lnTo>
                  <a:pt x="95" y="74"/>
                </a:lnTo>
                <a:lnTo>
                  <a:pt x="99" y="74"/>
                </a:lnTo>
                <a:lnTo>
                  <a:pt x="99" y="74"/>
                </a:lnTo>
                <a:lnTo>
                  <a:pt x="113" y="74"/>
                </a:lnTo>
                <a:lnTo>
                  <a:pt x="113" y="75"/>
                </a:lnTo>
                <a:lnTo>
                  <a:pt x="124" y="75"/>
                </a:lnTo>
                <a:lnTo>
                  <a:pt x="124" y="77"/>
                </a:lnTo>
                <a:lnTo>
                  <a:pt x="127" y="77"/>
                </a:lnTo>
                <a:lnTo>
                  <a:pt x="127" y="77"/>
                </a:lnTo>
                <a:lnTo>
                  <a:pt x="131" y="77"/>
                </a:lnTo>
                <a:lnTo>
                  <a:pt x="131" y="77"/>
                </a:lnTo>
                <a:lnTo>
                  <a:pt x="134" y="77"/>
                </a:lnTo>
                <a:lnTo>
                  <a:pt x="134" y="77"/>
                </a:lnTo>
                <a:lnTo>
                  <a:pt x="141" y="77"/>
                </a:lnTo>
                <a:lnTo>
                  <a:pt x="141" y="80"/>
                </a:lnTo>
                <a:lnTo>
                  <a:pt x="145" y="80"/>
                </a:lnTo>
                <a:lnTo>
                  <a:pt x="145" y="80"/>
                </a:lnTo>
                <a:lnTo>
                  <a:pt x="148" y="80"/>
                </a:lnTo>
                <a:lnTo>
                  <a:pt x="148" y="82"/>
                </a:lnTo>
                <a:lnTo>
                  <a:pt x="187" y="82"/>
                </a:lnTo>
                <a:lnTo>
                  <a:pt x="187" y="82"/>
                </a:lnTo>
                <a:lnTo>
                  <a:pt x="194" y="82"/>
                </a:lnTo>
                <a:lnTo>
                  <a:pt x="194" y="82"/>
                </a:lnTo>
                <a:lnTo>
                  <a:pt x="208" y="82"/>
                </a:lnTo>
                <a:lnTo>
                  <a:pt x="208" y="82"/>
                </a:lnTo>
                <a:lnTo>
                  <a:pt x="353" y="82"/>
                </a:lnTo>
                <a:lnTo>
                  <a:pt x="353" y="99"/>
                </a:lnTo>
                <a:lnTo>
                  <a:pt x="441" y="99"/>
                </a:lnTo>
                <a:lnTo>
                  <a:pt x="441" y="99"/>
                </a:lnTo>
              </a:path>
            </a:pathLst>
          </a:custGeom>
          <a:noFill/>
          <a:ln w="284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68200" y="638280"/>
            <a:ext cx="2789280" cy="614160"/>
          </a:xfrm>
          <a:custGeom>
            <a:avLst/>
            <a:gdLst/>
            <a:ahLst/>
            <a:rect l="l" t="t" r="r" b="b"/>
            <a:pathLst>
              <a:path w="441" h="99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8" y="0"/>
                </a:lnTo>
                <a:lnTo>
                  <a:pt x="18" y="0"/>
                </a:lnTo>
                <a:lnTo>
                  <a:pt x="21" y="0"/>
                </a:lnTo>
                <a:lnTo>
                  <a:pt x="21" y="0"/>
                </a:lnTo>
                <a:lnTo>
                  <a:pt x="25" y="0"/>
                </a:lnTo>
                <a:lnTo>
                  <a:pt x="25" y="0"/>
                </a:lnTo>
                <a:lnTo>
                  <a:pt x="28" y="0"/>
                </a:lnTo>
                <a:lnTo>
                  <a:pt x="28" y="3"/>
                </a:lnTo>
                <a:lnTo>
                  <a:pt x="32" y="3"/>
                </a:lnTo>
                <a:lnTo>
                  <a:pt x="32" y="7"/>
                </a:lnTo>
                <a:lnTo>
                  <a:pt x="35" y="7"/>
                </a:lnTo>
                <a:lnTo>
                  <a:pt x="35" y="8"/>
                </a:lnTo>
                <a:lnTo>
                  <a:pt x="42" y="8"/>
                </a:lnTo>
                <a:lnTo>
                  <a:pt x="42" y="10"/>
                </a:lnTo>
                <a:lnTo>
                  <a:pt x="46" y="10"/>
                </a:lnTo>
                <a:lnTo>
                  <a:pt x="46" y="12"/>
                </a:lnTo>
                <a:lnTo>
                  <a:pt x="49" y="12"/>
                </a:lnTo>
                <a:lnTo>
                  <a:pt x="49" y="13"/>
                </a:lnTo>
                <a:lnTo>
                  <a:pt x="53" y="13"/>
                </a:lnTo>
                <a:lnTo>
                  <a:pt x="53" y="18"/>
                </a:lnTo>
                <a:lnTo>
                  <a:pt x="56" y="18"/>
                </a:lnTo>
                <a:lnTo>
                  <a:pt x="56" y="23"/>
                </a:lnTo>
                <a:lnTo>
                  <a:pt x="60" y="23"/>
                </a:lnTo>
                <a:lnTo>
                  <a:pt x="60" y="23"/>
                </a:lnTo>
                <a:lnTo>
                  <a:pt x="64" y="23"/>
                </a:lnTo>
                <a:lnTo>
                  <a:pt x="64" y="23"/>
                </a:lnTo>
                <a:lnTo>
                  <a:pt x="67" y="23"/>
                </a:lnTo>
                <a:lnTo>
                  <a:pt x="67" y="28"/>
                </a:lnTo>
                <a:lnTo>
                  <a:pt x="71" y="28"/>
                </a:lnTo>
                <a:lnTo>
                  <a:pt x="71" y="30"/>
                </a:lnTo>
                <a:lnTo>
                  <a:pt x="74" y="30"/>
                </a:lnTo>
                <a:lnTo>
                  <a:pt x="74" y="34"/>
                </a:lnTo>
                <a:lnTo>
                  <a:pt x="78" y="34"/>
                </a:lnTo>
                <a:lnTo>
                  <a:pt x="78" y="35"/>
                </a:lnTo>
                <a:lnTo>
                  <a:pt x="85" y="35"/>
                </a:lnTo>
                <a:lnTo>
                  <a:pt x="85" y="40"/>
                </a:lnTo>
                <a:lnTo>
                  <a:pt x="88" y="40"/>
                </a:lnTo>
                <a:lnTo>
                  <a:pt x="88" y="44"/>
                </a:lnTo>
                <a:lnTo>
                  <a:pt x="92" y="44"/>
                </a:lnTo>
                <a:lnTo>
                  <a:pt x="92" y="47"/>
                </a:lnTo>
                <a:lnTo>
                  <a:pt x="95" y="47"/>
                </a:lnTo>
                <a:lnTo>
                  <a:pt x="95" y="49"/>
                </a:lnTo>
                <a:lnTo>
                  <a:pt x="99" y="49"/>
                </a:lnTo>
                <a:lnTo>
                  <a:pt x="99" y="50"/>
                </a:lnTo>
                <a:lnTo>
                  <a:pt x="113" y="50"/>
                </a:lnTo>
                <a:lnTo>
                  <a:pt x="113" y="54"/>
                </a:lnTo>
                <a:lnTo>
                  <a:pt x="124" y="54"/>
                </a:lnTo>
                <a:lnTo>
                  <a:pt x="124" y="59"/>
                </a:lnTo>
                <a:lnTo>
                  <a:pt x="127" y="59"/>
                </a:lnTo>
                <a:lnTo>
                  <a:pt x="127" y="60"/>
                </a:lnTo>
                <a:lnTo>
                  <a:pt x="131" y="60"/>
                </a:lnTo>
                <a:lnTo>
                  <a:pt x="131" y="64"/>
                </a:lnTo>
                <a:lnTo>
                  <a:pt x="134" y="64"/>
                </a:lnTo>
                <a:lnTo>
                  <a:pt x="134" y="65"/>
                </a:lnTo>
                <a:lnTo>
                  <a:pt x="141" y="65"/>
                </a:lnTo>
                <a:lnTo>
                  <a:pt x="141" y="65"/>
                </a:lnTo>
                <a:lnTo>
                  <a:pt x="145" y="65"/>
                </a:lnTo>
                <a:lnTo>
                  <a:pt x="145" y="67"/>
                </a:lnTo>
                <a:lnTo>
                  <a:pt x="148" y="67"/>
                </a:lnTo>
                <a:lnTo>
                  <a:pt x="148" y="69"/>
                </a:lnTo>
                <a:lnTo>
                  <a:pt x="187" y="69"/>
                </a:lnTo>
                <a:lnTo>
                  <a:pt x="187" y="72"/>
                </a:lnTo>
                <a:lnTo>
                  <a:pt x="194" y="72"/>
                </a:lnTo>
                <a:lnTo>
                  <a:pt x="194" y="74"/>
                </a:lnTo>
                <a:lnTo>
                  <a:pt x="208" y="74"/>
                </a:lnTo>
                <a:lnTo>
                  <a:pt x="208" y="77"/>
                </a:lnTo>
                <a:lnTo>
                  <a:pt x="353" y="77"/>
                </a:lnTo>
                <a:lnTo>
                  <a:pt x="353" y="77"/>
                </a:lnTo>
                <a:lnTo>
                  <a:pt x="441" y="77"/>
                </a:lnTo>
                <a:lnTo>
                  <a:pt x="441" y="9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1960" y="26352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9120" y="22194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9120" y="18032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9120" y="13892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9120" y="9716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480" y="55728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64600" y="274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2560" y="274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304280" y="274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41040" y="274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418840" y="2732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86840" y="27068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66560" y="29145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82600" y="14670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Entered      Recur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174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42 (24.1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55840" y="1719360"/>
            <a:ext cx="284040" cy="144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01440" y="1598760"/>
            <a:ext cx="33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81400" y="2354400"/>
            <a:ext cx="309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26640" y="224640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2600" y="20383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Death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184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40 (21.7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07920" y="2573280"/>
            <a:ext cx="190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tages IB2-I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11400" y="2949480"/>
            <a:ext cx="1800" cy="207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986200" y="5027760"/>
            <a:ext cx="25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6200" y="4821120"/>
            <a:ext cx="252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986200" y="4611600"/>
            <a:ext cx="25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86200" y="4406760"/>
            <a:ext cx="252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986200" y="4195800"/>
            <a:ext cx="25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986200" y="3990960"/>
            <a:ext cx="25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986200" y="3781440"/>
            <a:ext cx="25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986200" y="3575160"/>
            <a:ext cx="25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86200" y="3365640"/>
            <a:ext cx="25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71720" y="2881440"/>
            <a:ext cx="25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909880" y="2936880"/>
            <a:ext cx="25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948040" y="5040360"/>
            <a:ext cx="2946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3011400" y="5027760"/>
            <a:ext cx="180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3276720" y="5027760"/>
            <a:ext cx="144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3549600" y="5027760"/>
            <a:ext cx="180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3814920" y="5027760"/>
            <a:ext cx="144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081320" y="5027760"/>
            <a:ext cx="180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352760" y="5027760"/>
            <a:ext cx="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4618080" y="5027760"/>
            <a:ext cx="144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889520" y="5027760"/>
            <a:ext cx="144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5154480" y="5027760"/>
            <a:ext cx="180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5421240" y="5027760"/>
            <a:ext cx="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5692680" y="5027760"/>
            <a:ext cx="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5843520" y="5052960"/>
            <a:ext cx="1800" cy="2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55160" y="4946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812320" y="4530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812320" y="41148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12320" y="37004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812320" y="32828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729520" y="28940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95200" y="5094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515760" y="5094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47480" y="5094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84240" y="5094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11280" y="5094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0040" y="50943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09760" y="522612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025800" y="3778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Entered      Recur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139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28 (20.1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099040" y="4030560"/>
            <a:ext cx="284040" cy="180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444640" y="3909960"/>
            <a:ext cx="33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124600" y="4665600"/>
            <a:ext cx="309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69840" y="455760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25800" y="43498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Death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146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27 (18.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3002040" y="2943360"/>
            <a:ext cx="2779560" cy="558720"/>
            <a:chOff x="3002040" y="2943360"/>
            <a:chExt cx="2779560" cy="558720"/>
          </a:xfrm>
        </p:grpSpPr>
        <p:sp>
          <p:nvSpPr>
            <p:cNvPr id="900" name=""/>
            <p:cNvSpPr/>
            <p:nvPr/>
          </p:nvSpPr>
          <p:spPr>
            <a:xfrm>
              <a:off x="3002040" y="2943360"/>
              <a:ext cx="2779560" cy="458640"/>
            </a:xfrm>
            <a:custGeom>
              <a:avLst/>
              <a:gdLst/>
              <a:ahLst/>
              <a:rect l="l" t="t" r="r" b="b"/>
              <a:pathLst>
                <a:path w="440" h="74">
                  <a:moveTo>
                    <a:pt x="0" y="0"/>
                  </a:moveTo>
                  <a:lnTo>
                    <a:pt x="11" y="0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9" y="27"/>
                  </a:lnTo>
                  <a:lnTo>
                    <a:pt x="39" y="30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53" y="32"/>
                  </a:lnTo>
                  <a:lnTo>
                    <a:pt x="53" y="34"/>
                  </a:lnTo>
                  <a:lnTo>
                    <a:pt x="56" y="34"/>
                  </a:lnTo>
                  <a:lnTo>
                    <a:pt x="56" y="37"/>
                  </a:lnTo>
                  <a:lnTo>
                    <a:pt x="60" y="37"/>
                  </a:lnTo>
                  <a:lnTo>
                    <a:pt x="60" y="40"/>
                  </a:lnTo>
                  <a:lnTo>
                    <a:pt x="63" y="40"/>
                  </a:lnTo>
                  <a:lnTo>
                    <a:pt x="63" y="47"/>
                  </a:lnTo>
                  <a:lnTo>
                    <a:pt x="67" y="47"/>
                  </a:lnTo>
                  <a:lnTo>
                    <a:pt x="67" y="47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4" y="47"/>
                  </a:lnTo>
                  <a:lnTo>
                    <a:pt x="74" y="49"/>
                  </a:lnTo>
                  <a:lnTo>
                    <a:pt x="78" y="49"/>
                  </a:lnTo>
                  <a:lnTo>
                    <a:pt x="78" y="52"/>
                  </a:lnTo>
                  <a:lnTo>
                    <a:pt x="81" y="52"/>
                  </a:lnTo>
                  <a:lnTo>
                    <a:pt x="81" y="54"/>
                  </a:lnTo>
                  <a:lnTo>
                    <a:pt x="85" y="54"/>
                  </a:lnTo>
                  <a:lnTo>
                    <a:pt x="85" y="54"/>
                  </a:lnTo>
                  <a:lnTo>
                    <a:pt x="88" y="54"/>
                  </a:lnTo>
                  <a:lnTo>
                    <a:pt x="88" y="54"/>
                  </a:lnTo>
                  <a:lnTo>
                    <a:pt x="95" y="54"/>
                  </a:lnTo>
                  <a:lnTo>
                    <a:pt x="95" y="54"/>
                  </a:lnTo>
                  <a:lnTo>
                    <a:pt x="99" y="54"/>
                  </a:lnTo>
                  <a:lnTo>
                    <a:pt x="99" y="57"/>
                  </a:lnTo>
                  <a:lnTo>
                    <a:pt x="113" y="57"/>
                  </a:lnTo>
                  <a:lnTo>
                    <a:pt x="113" y="59"/>
                  </a:lnTo>
                  <a:lnTo>
                    <a:pt x="123" y="59"/>
                  </a:lnTo>
                  <a:lnTo>
                    <a:pt x="123" y="62"/>
                  </a:lnTo>
                  <a:lnTo>
                    <a:pt x="127" y="62"/>
                  </a:lnTo>
                  <a:lnTo>
                    <a:pt x="127" y="62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34" y="62"/>
                  </a:lnTo>
                  <a:lnTo>
                    <a:pt x="134" y="62"/>
                  </a:lnTo>
                  <a:lnTo>
                    <a:pt x="141" y="62"/>
                  </a:lnTo>
                  <a:lnTo>
                    <a:pt x="141" y="64"/>
                  </a:lnTo>
                  <a:lnTo>
                    <a:pt x="148" y="64"/>
                  </a:lnTo>
                  <a:lnTo>
                    <a:pt x="148" y="67"/>
                  </a:lnTo>
                  <a:lnTo>
                    <a:pt x="187" y="67"/>
                  </a:lnTo>
                  <a:lnTo>
                    <a:pt x="187" y="67"/>
                  </a:lnTo>
                  <a:lnTo>
                    <a:pt x="194" y="67"/>
                  </a:lnTo>
                  <a:lnTo>
                    <a:pt x="194" y="67"/>
                  </a:lnTo>
                  <a:lnTo>
                    <a:pt x="208" y="67"/>
                  </a:lnTo>
                  <a:lnTo>
                    <a:pt x="208" y="67"/>
                  </a:lnTo>
                  <a:lnTo>
                    <a:pt x="211" y="67"/>
                  </a:lnTo>
                  <a:lnTo>
                    <a:pt x="211" y="74"/>
                  </a:lnTo>
                  <a:lnTo>
                    <a:pt x="440" y="74"/>
                  </a:lnTo>
                  <a:lnTo>
                    <a:pt x="440" y="74"/>
                  </a:lnTo>
                </a:path>
              </a:pathLst>
            </a:custGeom>
            <a:noFill/>
            <a:ln w="28440">
              <a:solidFill>
                <a:srgbClr val="33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02040" y="2943360"/>
              <a:ext cx="2779560" cy="558720"/>
            </a:xfrm>
            <a:custGeom>
              <a:avLst/>
              <a:gdLst/>
              <a:ahLst/>
              <a:rect l="l" t="t" r="r" b="b"/>
              <a:pathLst>
                <a:path w="440" h="90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53" y="7"/>
                  </a:lnTo>
                  <a:lnTo>
                    <a:pt x="53" y="10"/>
                  </a:lnTo>
                  <a:lnTo>
                    <a:pt x="56" y="10"/>
                  </a:lnTo>
                  <a:lnTo>
                    <a:pt x="56" y="13"/>
                  </a:lnTo>
                  <a:lnTo>
                    <a:pt x="60" y="13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67" y="17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0" y="23"/>
                  </a:lnTo>
                  <a:lnTo>
                    <a:pt x="74" y="23"/>
                  </a:lnTo>
                  <a:lnTo>
                    <a:pt x="74" y="27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5" y="27"/>
                  </a:lnTo>
                  <a:lnTo>
                    <a:pt x="85" y="28"/>
                  </a:lnTo>
                  <a:lnTo>
                    <a:pt x="88" y="28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5" y="35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113" y="37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23" y="45"/>
                  </a:lnTo>
                  <a:lnTo>
                    <a:pt x="127" y="45"/>
                  </a:lnTo>
                  <a:lnTo>
                    <a:pt x="127" y="47"/>
                  </a:lnTo>
                  <a:lnTo>
                    <a:pt x="130" y="47"/>
                  </a:lnTo>
                  <a:lnTo>
                    <a:pt x="130" y="50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8" y="54"/>
                  </a:lnTo>
                  <a:lnTo>
                    <a:pt x="148" y="55"/>
                  </a:lnTo>
                  <a:lnTo>
                    <a:pt x="187" y="55"/>
                  </a:lnTo>
                  <a:lnTo>
                    <a:pt x="187" y="59"/>
                  </a:lnTo>
                  <a:lnTo>
                    <a:pt x="194" y="59"/>
                  </a:lnTo>
                  <a:lnTo>
                    <a:pt x="194" y="62"/>
                  </a:lnTo>
                  <a:lnTo>
                    <a:pt x="208" y="62"/>
                  </a:lnTo>
                  <a:lnTo>
                    <a:pt x="208" y="67"/>
                  </a:lnTo>
                  <a:lnTo>
                    <a:pt x="211" y="67"/>
                  </a:lnTo>
                  <a:lnTo>
                    <a:pt x="211" y="67"/>
                  </a:lnTo>
                  <a:lnTo>
                    <a:pt x="440" y="67"/>
                  </a:lnTo>
                  <a:lnTo>
                    <a:pt x="440" y="9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2438280" y="334980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0680" y="3090960"/>
            <a:ext cx="167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tages III-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134040" y="317196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37360" y="3584520"/>
            <a:ext cx="1440" cy="2077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211800" y="5662440"/>
            <a:ext cx="25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211800" y="5456160"/>
            <a:ext cx="25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211800" y="5246640"/>
            <a:ext cx="25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211800" y="5041800"/>
            <a:ext cx="25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11800" y="4830840"/>
            <a:ext cx="25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11800" y="4626000"/>
            <a:ext cx="25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211800" y="4416480"/>
            <a:ext cx="25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211800" y="4210200"/>
            <a:ext cx="25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11800" y="4000680"/>
            <a:ext cx="25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211800" y="3795840"/>
            <a:ext cx="255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211800" y="3584520"/>
            <a:ext cx="255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237360" y="5662080"/>
            <a:ext cx="1440" cy="24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081120" y="5581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037920" y="51656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037920" y="47498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037920" y="433548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037920" y="391788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06240" y="363060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411680" y="5835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251400" y="4578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Entered      Recur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14 (40.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25000" y="4805280"/>
            <a:ext cx="284040" cy="180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670600" y="4684680"/>
            <a:ext cx="33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50200" y="5440320"/>
            <a:ext cx="3096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695440" y="533232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251400" y="51498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Death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38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13 (34.2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24760" y="5695920"/>
            <a:ext cx="2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246720" y="5695920"/>
            <a:ext cx="297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6246720" y="5695560"/>
            <a:ext cx="1800" cy="25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994440" y="5695560"/>
            <a:ext cx="0" cy="25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736040" y="5695560"/>
            <a:ext cx="1440" cy="25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8483760" y="5695560"/>
            <a:ext cx="1440" cy="25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9226440" y="5695560"/>
            <a:ext cx="0" cy="25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246720" y="3592440"/>
            <a:ext cx="2543400" cy="885960"/>
          </a:xfrm>
          <a:custGeom>
            <a:avLst/>
            <a:gdLst/>
            <a:ahLst/>
            <a:rect l="l" t="t" r="r" b="b"/>
            <a:pathLst>
              <a:path w="466" h="141">
                <a:moveTo>
                  <a:pt x="0" y="0"/>
                </a:moveTo>
                <a:lnTo>
                  <a:pt x="23" y="0"/>
                </a:lnTo>
                <a:lnTo>
                  <a:pt x="23" y="10"/>
                </a:lnTo>
                <a:lnTo>
                  <a:pt x="46" y="10"/>
                </a:lnTo>
                <a:lnTo>
                  <a:pt x="46" y="30"/>
                </a:lnTo>
                <a:lnTo>
                  <a:pt x="57" y="30"/>
                </a:lnTo>
                <a:lnTo>
                  <a:pt x="57" y="40"/>
                </a:lnTo>
                <a:lnTo>
                  <a:pt x="68" y="40"/>
                </a:lnTo>
                <a:lnTo>
                  <a:pt x="68" y="60"/>
                </a:lnTo>
                <a:lnTo>
                  <a:pt x="80" y="60"/>
                </a:lnTo>
                <a:lnTo>
                  <a:pt x="80" y="70"/>
                </a:lnTo>
                <a:lnTo>
                  <a:pt x="91" y="70"/>
                </a:lnTo>
                <a:lnTo>
                  <a:pt x="91" y="80"/>
                </a:lnTo>
                <a:lnTo>
                  <a:pt x="102" y="80"/>
                </a:lnTo>
                <a:lnTo>
                  <a:pt x="102" y="80"/>
                </a:lnTo>
                <a:lnTo>
                  <a:pt x="114" y="80"/>
                </a:lnTo>
                <a:lnTo>
                  <a:pt x="114" y="90"/>
                </a:lnTo>
                <a:lnTo>
                  <a:pt x="137" y="90"/>
                </a:lnTo>
                <a:lnTo>
                  <a:pt x="137" y="90"/>
                </a:lnTo>
                <a:lnTo>
                  <a:pt x="159" y="90"/>
                </a:lnTo>
                <a:lnTo>
                  <a:pt x="159" y="90"/>
                </a:lnTo>
                <a:lnTo>
                  <a:pt x="171" y="90"/>
                </a:lnTo>
                <a:lnTo>
                  <a:pt x="171" y="121"/>
                </a:lnTo>
                <a:lnTo>
                  <a:pt x="228" y="121"/>
                </a:lnTo>
                <a:lnTo>
                  <a:pt x="228" y="131"/>
                </a:lnTo>
                <a:lnTo>
                  <a:pt x="250" y="131"/>
                </a:lnTo>
                <a:lnTo>
                  <a:pt x="250" y="131"/>
                </a:lnTo>
                <a:lnTo>
                  <a:pt x="273" y="131"/>
                </a:lnTo>
                <a:lnTo>
                  <a:pt x="273" y="131"/>
                </a:lnTo>
                <a:lnTo>
                  <a:pt x="296" y="131"/>
                </a:lnTo>
                <a:lnTo>
                  <a:pt x="296" y="141"/>
                </a:lnTo>
                <a:lnTo>
                  <a:pt x="466" y="141"/>
                </a:lnTo>
                <a:lnTo>
                  <a:pt x="466" y="141"/>
                </a:lnTo>
              </a:path>
            </a:pathLst>
          </a:custGeom>
          <a:noFill/>
          <a:ln w="284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246720" y="3592440"/>
            <a:ext cx="2543400" cy="790560"/>
          </a:xfrm>
          <a:custGeom>
            <a:avLst/>
            <a:gdLst/>
            <a:ahLst/>
            <a:rect l="l" t="t" r="r" b="b"/>
            <a:pathLst>
              <a:path w="466" h="126">
                <a:moveTo>
                  <a:pt x="0" y="0"/>
                </a:moveTo>
                <a:lnTo>
                  <a:pt x="23" y="0"/>
                </a:lnTo>
                <a:lnTo>
                  <a:pt x="23" y="0"/>
                </a:lnTo>
                <a:lnTo>
                  <a:pt x="46" y="0"/>
                </a:lnTo>
                <a:lnTo>
                  <a:pt x="46" y="0"/>
                </a:lnTo>
                <a:lnTo>
                  <a:pt x="57" y="0"/>
                </a:lnTo>
                <a:lnTo>
                  <a:pt x="57" y="0"/>
                </a:lnTo>
                <a:lnTo>
                  <a:pt x="68" y="0"/>
                </a:lnTo>
                <a:lnTo>
                  <a:pt x="68" y="0"/>
                </a:lnTo>
                <a:lnTo>
                  <a:pt x="80" y="0"/>
                </a:lnTo>
                <a:lnTo>
                  <a:pt x="80" y="0"/>
                </a:lnTo>
                <a:lnTo>
                  <a:pt x="91" y="0"/>
                </a:lnTo>
                <a:lnTo>
                  <a:pt x="91" y="0"/>
                </a:lnTo>
                <a:lnTo>
                  <a:pt x="102" y="0"/>
                </a:lnTo>
                <a:lnTo>
                  <a:pt x="102" y="10"/>
                </a:lnTo>
                <a:lnTo>
                  <a:pt x="114" y="10"/>
                </a:lnTo>
                <a:lnTo>
                  <a:pt x="114" y="18"/>
                </a:lnTo>
                <a:lnTo>
                  <a:pt x="137" y="18"/>
                </a:lnTo>
                <a:lnTo>
                  <a:pt x="137" y="28"/>
                </a:lnTo>
                <a:lnTo>
                  <a:pt x="159" y="28"/>
                </a:lnTo>
                <a:lnTo>
                  <a:pt x="159" y="37"/>
                </a:lnTo>
                <a:lnTo>
                  <a:pt x="171" y="37"/>
                </a:lnTo>
                <a:lnTo>
                  <a:pt x="171" y="57"/>
                </a:lnTo>
                <a:lnTo>
                  <a:pt x="228" y="57"/>
                </a:lnTo>
                <a:lnTo>
                  <a:pt x="228" y="57"/>
                </a:lnTo>
                <a:lnTo>
                  <a:pt x="250" y="57"/>
                </a:lnTo>
                <a:lnTo>
                  <a:pt x="250" y="67"/>
                </a:lnTo>
                <a:lnTo>
                  <a:pt x="273" y="67"/>
                </a:lnTo>
                <a:lnTo>
                  <a:pt x="273" y="85"/>
                </a:lnTo>
                <a:lnTo>
                  <a:pt x="296" y="85"/>
                </a:lnTo>
                <a:lnTo>
                  <a:pt x="296" y="104"/>
                </a:lnTo>
                <a:lnTo>
                  <a:pt x="466" y="104"/>
                </a:lnTo>
                <a:lnTo>
                  <a:pt x="466" y="12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230520" y="5765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968520" y="5765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709760" y="5765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444880" y="5765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9186120" y="5765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80" y="6491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66"/>
                </a:solidFill>
                <a:latin typeface="Times New Roman"/>
              </a:rPr>
              <a:t>Ferrandina, i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77840" y="3170160"/>
            <a:ext cx="245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CT/RT+RS    </a:t>
            </a: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90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5-yr DFS    75.5         </a:t>
            </a: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68.0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5-yr OS      77.0         </a:t>
            </a: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7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111480" y="5477040"/>
            <a:ext cx="345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CT/RT+RS    </a:t>
            </a: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90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5-yr DFS    75.5         </a:t>
            </a: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68.0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5-yr OS      77.0         </a:t>
            </a: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7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77120" y="5965920"/>
            <a:ext cx="2908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CT/RT+RS    </a:t>
            </a: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90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5-yr DFS    58.0         </a:t>
            </a: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59.0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5-yr OS      62.0         </a:t>
            </a: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5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"/>
          <p:cNvGrpSpPr/>
          <p:nvPr/>
        </p:nvGrpSpPr>
        <p:grpSpPr>
          <a:xfrm>
            <a:off x="861840" y="523800"/>
            <a:ext cx="1043280" cy="1006560"/>
            <a:chOff x="861840" y="523800"/>
            <a:chExt cx="1043280" cy="1006560"/>
          </a:xfrm>
        </p:grpSpPr>
        <p:sp>
          <p:nvSpPr>
            <p:cNvPr id="950" name=""/>
            <p:cNvSpPr/>
            <p:nvPr/>
          </p:nvSpPr>
          <p:spPr>
            <a:xfrm>
              <a:off x="861840" y="523800"/>
              <a:ext cx="1043280" cy="1006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1" name="" descr=""/>
            <p:cNvPicPr/>
            <p:nvPr/>
          </p:nvPicPr>
          <p:blipFill>
            <a:blip r:embed="rId1"/>
            <a:stretch/>
          </p:blipFill>
          <p:spPr>
            <a:xfrm>
              <a:off x="981360" y="638280"/>
              <a:ext cx="804600" cy="7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"/>
          <p:cNvSpPr/>
          <p:nvPr/>
        </p:nvSpPr>
        <p:spPr>
          <a:xfrm rot="692400">
            <a:off x="4628880" y="1847880"/>
            <a:ext cx="43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Why a 3-modal rather than a 2-modal approa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274400">
            <a:off x="4698360" y="4751280"/>
            <a:ext cx="393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Would it impair on patients’ Q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953680" y="3340080"/>
            <a:ext cx="1222560" cy="1194120"/>
            <a:chOff x="5953680" y="3340080"/>
            <a:chExt cx="1222560" cy="1194120"/>
          </a:xfrm>
        </p:grpSpPr>
        <p:sp>
          <p:nvSpPr>
            <p:cNvPr id="955" name=""/>
            <p:cNvSpPr/>
            <p:nvPr/>
          </p:nvSpPr>
          <p:spPr>
            <a:xfrm rot="689400">
              <a:off x="6043320" y="3433680"/>
              <a:ext cx="1042920" cy="1006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 rot="689400">
              <a:off x="6162840" y="3547800"/>
              <a:ext cx="804600" cy="7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"/>
          <p:cNvSpPr/>
          <p:nvPr/>
        </p:nvSpPr>
        <p:spPr>
          <a:xfrm rot="20635800">
            <a:off x="354240" y="4339800"/>
            <a:ext cx="393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ccff"/>
                </a:solidFill>
                <a:latin typeface="Times New Roman"/>
              </a:rPr>
              <a:t>Would it lead to increased rate and/or severity or different patterns of toxicity (especially after radical surg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rot="20244000">
            <a:off x="390960" y="1458720"/>
            <a:ext cx="39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Is the duration of follow-up long enough for reliable conclusi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6258240" y="711000"/>
            <a:ext cx="1222920" cy="1193760"/>
            <a:chOff x="6258240" y="711000"/>
            <a:chExt cx="1222920" cy="1193760"/>
          </a:xfrm>
        </p:grpSpPr>
        <p:sp>
          <p:nvSpPr>
            <p:cNvPr id="960" name=""/>
            <p:cNvSpPr/>
            <p:nvPr/>
          </p:nvSpPr>
          <p:spPr>
            <a:xfrm rot="689400">
              <a:off x="6347880" y="804600"/>
              <a:ext cx="1043280" cy="1006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1" name="" descr=""/>
            <p:cNvPicPr/>
            <p:nvPr/>
          </p:nvPicPr>
          <p:blipFill>
            <a:blip r:embed="rId3"/>
            <a:stretch/>
          </p:blipFill>
          <p:spPr>
            <a:xfrm rot="689400">
              <a:off x="6467400" y="919080"/>
              <a:ext cx="804600" cy="7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2" name=""/>
          <p:cNvGrpSpPr/>
          <p:nvPr/>
        </p:nvGrpSpPr>
        <p:grpSpPr>
          <a:xfrm>
            <a:off x="1535040" y="3343320"/>
            <a:ext cx="1042920" cy="1006560"/>
            <a:chOff x="1535040" y="3343320"/>
            <a:chExt cx="1042920" cy="1006560"/>
          </a:xfrm>
        </p:grpSpPr>
        <p:sp>
          <p:nvSpPr>
            <p:cNvPr id="963" name=""/>
            <p:cNvSpPr/>
            <p:nvPr/>
          </p:nvSpPr>
          <p:spPr>
            <a:xfrm>
              <a:off x="1535040" y="3343320"/>
              <a:ext cx="1042920" cy="1006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4"/>
            <a:stretch/>
          </p:blipFill>
          <p:spPr>
            <a:xfrm>
              <a:off x="1654560" y="3457800"/>
              <a:ext cx="804600" cy="7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14920" y="3490920"/>
            <a:ext cx="760320" cy="209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46960" y="1398600"/>
            <a:ext cx="2597040" cy="425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CERVICAL CANCER ST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24400" y="692280"/>
          <a:ext cx="3055680" cy="29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0" y="692280"/>
                    <a:ext cx="305568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37000" y="982800"/>
            <a:ext cx="1420920" cy="32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172120" y="982800"/>
            <a:ext cx="1378080" cy="322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3921120" y="3438360"/>
            <a:ext cx="800280" cy="216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529320" y="585720"/>
            <a:ext cx="2614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of incidence of Adenocarcinoma has progressively increased in young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86880" y="3695760"/>
            <a:ext cx="698400" cy="546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635800" y="1365120"/>
            <a:ext cx="741240" cy="2055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927600" y="1373040"/>
            <a:ext cx="755640" cy="20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708600" y="4795920"/>
            <a:ext cx="995400" cy="9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74600" y="255276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Who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91960" y="4016520"/>
            <a:ext cx="90468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0000"/>
                </a:solidFill>
                <a:latin typeface="Times New Roman"/>
              </a:rPr>
              <a:t>20-39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0000"/>
                </a:solidFill>
                <a:latin typeface="Times New Roman"/>
              </a:rPr>
              <a:t>y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508280" y="3670200"/>
            <a:ext cx="393480" cy="470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121440" y="3708360"/>
            <a:ext cx="393840" cy="469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606800" y="3086280"/>
            <a:ext cx="343080" cy="2793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701640"/>
            <a:ext cx="3300120" cy="3155760"/>
            <a:chOff x="0" y="701640"/>
            <a:chExt cx="3300120" cy="3155760"/>
          </a:xfrm>
        </p:grpSpPr>
        <p:grpSp>
          <p:nvGrpSpPr>
            <p:cNvPr id="73" name=""/>
            <p:cNvGrpSpPr/>
            <p:nvPr/>
          </p:nvGrpSpPr>
          <p:grpSpPr>
            <a:xfrm>
              <a:off x="0" y="1409400"/>
              <a:ext cx="3300120" cy="2448000"/>
              <a:chOff x="0" y="1409400"/>
              <a:chExt cx="3300120" cy="2448000"/>
            </a:xfrm>
          </p:grpSpPr>
          <p:graphicFrame>
            <p:nvGraphicFramePr>
              <p:cNvPr id="74" name=""/>
              <p:cNvGraphicFramePr/>
              <p:nvPr/>
            </p:nvGraphicFramePr>
            <p:xfrm>
              <a:off x="0" y="1409400"/>
              <a:ext cx="2080800" cy="24480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1409400"/>
                        <a:ext cx="2080800" cy="24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6" name=""/>
              <p:cNvGraphicFramePr/>
              <p:nvPr/>
            </p:nvGraphicFramePr>
            <p:xfrm>
              <a:off x="2077200" y="1409400"/>
              <a:ext cx="1222920" cy="2448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077200" y="1409400"/>
                        <a:ext cx="1222920" cy="24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" name=""/>
              <p:cNvSpPr/>
              <p:nvPr/>
            </p:nvSpPr>
            <p:spPr>
              <a:xfrm>
                <a:off x="2076120" y="1484640"/>
                <a:ext cx="1175400" cy="20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080" y="701640"/>
              <a:ext cx="3299040" cy="74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440" y="740160"/>
              <a:ext cx="3193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EU, female (age 15–4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New cancers: 106,9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38005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8%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f all CC, and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9%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ge I CC are &lt;40 year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560" y="5705640"/>
            <a:ext cx="9118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oreover, a definite trend toward deferral of childbearing has been documented,  due to social, cultural, and economic rea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33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33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 higher and higher proportion of patients will be diagnosed with CC before having started or completed their childbear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25240" y="312480"/>
            <a:ext cx="806436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00"/>
                </a:solidFill>
                <a:latin typeface="Times New Roman"/>
              </a:rPr>
              <a:t>Residula tumor in LACC Patients submitted to Neoadjuvant Treatment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201600" y="1773360"/>
          <a:ext cx="8207280" cy="3438000"/>
        </p:xfrm>
        <a:graphic>
          <a:graphicData uri="http://schemas.openxmlformats.org/drawingml/2006/table">
            <a:tbl>
              <a:tblPr/>
              <a:tblGrid>
                <a:gridCol w="2435040"/>
                <a:gridCol w="2838600"/>
                <a:gridCol w="2933640"/>
              </a:tblGrid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RESI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UM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hemoradi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Followed by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(n=17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eoadjuvant Chemothera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(n=8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 (43.7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(9.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roscop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 (27.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(11.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crosc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 (28.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 (41.7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7" name=""/>
          <p:cNvSpPr/>
          <p:nvPr/>
        </p:nvSpPr>
        <p:spPr>
          <a:xfrm>
            <a:off x="5033880" y="33764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71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32600" y="33764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21.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975200" y="3328920"/>
            <a:ext cx="144360" cy="638280"/>
          </a:xfrm>
          <a:custGeom>
            <a:avLst/>
            <a:gdLst>
              <a:gd name="textAreaLeft" fmla="*/ 0 w 144360"/>
              <a:gd name="textAreaRight" fmla="*/ 52200 w 144360"/>
              <a:gd name="textAreaTop" fmla="*/ 16560 h 638280"/>
              <a:gd name="textAreaBottom" fmla="*/ 621720 h 6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719840" y="3240000"/>
            <a:ext cx="144720" cy="638280"/>
          </a:xfrm>
          <a:custGeom>
            <a:avLst/>
            <a:gdLst>
              <a:gd name="textAreaLeft" fmla="*/ 0 w 144720"/>
              <a:gd name="textAreaRight" fmla="*/ 52200 w 144720"/>
              <a:gd name="textAreaTop" fmla="*/ 16560 h 638280"/>
              <a:gd name="textAreaBottom" fmla="*/ 621720 h 6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345440" y="636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5193720" y="6553080"/>
            <a:ext cx="40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0066"/>
                </a:solidFill>
                <a:latin typeface="Book Antiqua"/>
              </a:rPr>
              <a:t>Ferrandina, Annals of Surgical Oncology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1057320" y="1731960"/>
          <a:ext cx="7093080" cy="4768920"/>
        </p:xfrm>
        <a:graphic>
          <a:graphicData uri="http://schemas.openxmlformats.org/drawingml/2006/table">
            <a:tbl>
              <a:tblPr/>
              <a:tblGrid>
                <a:gridCol w="1238040"/>
                <a:gridCol w="2373480"/>
                <a:gridCol w="1281240"/>
                <a:gridCol w="1282680"/>
                <a:gridCol w="91764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ff33"/>
                          </a:solidFill>
                          <a:latin typeface="Book Antiqua"/>
                          <a:ea typeface="Times New Roman"/>
                        </a:rPr>
                        <a:t>Lymph node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ff33"/>
                          </a:solidFill>
                          <a:latin typeface="Book Antiqua"/>
                          <a:ea typeface="Times New Roman"/>
                        </a:rPr>
                        <a:t>    </a:t>
                      </a:r>
                      <a:r>
                        <a:rPr b="1" lang="en-GB" sz="1600" spc="-1" strike="noStrike">
                          <a:solidFill>
                            <a:srgbClr val="99ff33"/>
                          </a:solidFill>
                          <a:latin typeface="Book Antiqua"/>
                          <a:ea typeface="Times New Roman"/>
                        </a:rPr>
                        <a:t>CT/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ff33"/>
                          </a:solidFill>
                          <a:latin typeface="Book Antiqua"/>
                          <a:ea typeface="Times New Roman"/>
                        </a:rPr>
                        <a:t>   </a:t>
                      </a:r>
                      <a:r>
                        <a:rPr b="1" lang="en-GB" sz="1600" spc="-1" strike="noStrike">
                          <a:solidFill>
                            <a:srgbClr val="99ff33"/>
                          </a:solidFill>
                          <a:latin typeface="Book Antiqua"/>
                          <a:ea typeface="Times New Roman"/>
                        </a:rPr>
                        <a:t>N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ff33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99ff33"/>
                          </a:solidFill>
                          <a:latin typeface="Book Antiqua"/>
                          <a:ea typeface="Times New Roman"/>
                        </a:rPr>
                        <a:t>p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00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Para-aortic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No. nodes REMO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Median (rang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9 (2-4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14 (7-2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No. (%) of cases with metastatic node involv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4 </a:t>
                      </a:r>
                      <a:r>
                        <a:rPr b="1" lang="en-GB" sz="1500" spc="-1" strike="noStrike">
                          <a:solidFill>
                            <a:srgbClr val="66ff33"/>
                          </a:solidFill>
                          <a:latin typeface="Book Antiqua"/>
                          <a:ea typeface="Times New Roman"/>
                        </a:rPr>
                        <a:t>(12.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3  </a:t>
                      </a:r>
                      <a:r>
                        <a:rPr b="1" lang="en-GB" sz="1500" spc="-1" strike="noStrike">
                          <a:solidFill>
                            <a:srgbClr val="66ff33"/>
                          </a:solidFill>
                          <a:latin typeface="Book Antiqua"/>
                          <a:ea typeface="Times New Roman"/>
                        </a:rPr>
                        <a:t>(13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0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0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Pelvic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No. nodes REMO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Median (rang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37 (13-7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46 (5-8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00"/>
                          </a:solidFill>
                          <a:latin typeface="Book Antiqua"/>
                          <a:ea typeface="Times New Roman"/>
                        </a:rPr>
                        <a:t>0.00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82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No. (%) of cases with metastatic node involv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10 </a:t>
                      </a:r>
                      <a:r>
                        <a:rPr b="1" lang="en-GB" sz="15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(11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12  </a:t>
                      </a:r>
                      <a:r>
                        <a:rPr b="1" lang="en-GB" sz="15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(30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00"/>
                          </a:solidFill>
                          <a:latin typeface="Book Antiqua"/>
                          <a:ea typeface="Times New Roman"/>
                        </a:rPr>
                        <a:t>0.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98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Paramet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No. nodes REMO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Median (rang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3 (1-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 (1-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00"/>
                          </a:solidFill>
                          <a:latin typeface="Book Antiqua"/>
                          <a:ea typeface="Times New Roman"/>
                        </a:rPr>
                        <a:t>0.0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No. (%) of cases with metastatic node involv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1 </a:t>
                      </a:r>
                      <a:r>
                        <a:rPr b="1" lang="en-GB" sz="15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(1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     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5 </a:t>
                      </a:r>
                      <a:r>
                        <a:rPr b="1" lang="en-GB" sz="15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(1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306072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00"/>
                          </a:solidFill>
                          <a:latin typeface="Book Antiqua"/>
                          <a:ea typeface="Times New Roman"/>
                        </a:rPr>
                        <a:t>0.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158760" y="0"/>
            <a:ext cx="8825040" cy="110160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2"/>
          <a:stretch/>
        </p:blipFill>
        <p:spPr>
          <a:xfrm>
            <a:off x="163440" y="1112760"/>
            <a:ext cx="5835600" cy="50328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3"/>
          <a:stretch/>
        </p:blipFill>
        <p:spPr>
          <a:xfrm>
            <a:off x="5994360" y="1057320"/>
            <a:ext cx="2971800" cy="24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25240" y="312480"/>
            <a:ext cx="806436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66"/>
                </a:solidFill>
                <a:latin typeface="Times New Roman"/>
              </a:rPr>
              <a:t>Predictive performance of clinical response</a:t>
            </a:r>
            <a:r>
              <a:rPr b="1" lang="it-IT" sz="3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201600" y="1773360"/>
          <a:ext cx="8207280" cy="2725560"/>
        </p:xfrm>
        <a:graphic>
          <a:graphicData uri="http://schemas.openxmlformats.org/drawingml/2006/table">
            <a:tbl>
              <a:tblPr/>
              <a:tblGrid>
                <a:gridCol w="2435400"/>
                <a:gridCol w="2838240"/>
                <a:gridCol w="2933640"/>
              </a:tblGrid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sidual tumor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bsent 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icrosc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sidual tumor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acrosc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l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al/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>
            <a:off x="7345440" y="636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24080" y="4673520"/>
            <a:ext cx="20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NPV=91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PPV=42.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26720" y="585468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ccff"/>
                </a:solidFill>
                <a:latin typeface="Times New Roman"/>
              </a:rPr>
              <a:t>Potential role of PET/CT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-160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reoperative Chemoradiotherapy</a:t>
            </a:r>
            <a:r>
              <a:rPr b="1" lang="it-IT" sz="2800" spc="-1" strike="noStrike">
                <a:solidFill>
                  <a:srgbClr val="ff6600"/>
                </a:solidFill>
                <a:latin typeface="Times New Roman"/>
              </a:rPr>
              <a:t> i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n LACC Patients: 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Times New Roman"/>
              </a:rPr>
              <a:t>DFS and OS according to pathologic find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1880" y="64911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66"/>
                </a:solidFill>
                <a:latin typeface="Times New Roman"/>
              </a:rPr>
              <a:t>Ferrandina, i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722600" y="1890720"/>
            <a:ext cx="1440" cy="319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89120" y="5081760"/>
            <a:ext cx="33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89120" y="4767120"/>
            <a:ext cx="33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89120" y="4443480"/>
            <a:ext cx="33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89120" y="4129200"/>
            <a:ext cx="33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689120" y="3805200"/>
            <a:ext cx="33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89120" y="3490920"/>
            <a:ext cx="33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689120" y="3166920"/>
            <a:ext cx="33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689120" y="2852640"/>
            <a:ext cx="33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89120" y="2529000"/>
            <a:ext cx="33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89120" y="2214720"/>
            <a:ext cx="33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89120" y="1890720"/>
            <a:ext cx="33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722600" y="5081760"/>
            <a:ext cx="3732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1722600" y="5081400"/>
            <a:ext cx="144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1987560" y="5081400"/>
            <a:ext cx="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251080" y="5081400"/>
            <a:ext cx="144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523960" y="5081400"/>
            <a:ext cx="180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789280" y="5081400"/>
            <a:ext cx="144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3054240" y="5081400"/>
            <a:ext cx="180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3319560" y="5081400"/>
            <a:ext cx="144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3592440" y="5081400"/>
            <a:ext cx="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3855960" y="5081400"/>
            <a:ext cx="180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4121280" y="5081400"/>
            <a:ext cx="144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4386240" y="5081400"/>
            <a:ext cx="144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651200" y="5081400"/>
            <a:ext cx="180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4924440" y="5081400"/>
            <a:ext cx="144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189400" y="5081400"/>
            <a:ext cx="180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454720" y="5081400"/>
            <a:ext cx="0" cy="3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722600" y="1890720"/>
            <a:ext cx="3578040" cy="2562120"/>
          </a:xfrm>
          <a:custGeom>
            <a:avLst/>
            <a:gdLst/>
            <a:ahLst/>
            <a:rect l="l" t="t" r="r" b="b"/>
            <a:pathLst>
              <a:path w="446" h="269">
                <a:moveTo>
                  <a:pt x="0" y="0"/>
                </a:moveTo>
                <a:lnTo>
                  <a:pt x="6" y="0"/>
                </a:lnTo>
                <a:lnTo>
                  <a:pt x="6" y="7"/>
                </a:lnTo>
                <a:lnTo>
                  <a:pt x="8" y="7"/>
                </a:lnTo>
                <a:lnTo>
                  <a:pt x="8" y="7"/>
                </a:lnTo>
                <a:lnTo>
                  <a:pt x="11" y="7"/>
                </a:lnTo>
                <a:lnTo>
                  <a:pt x="11" y="27"/>
                </a:lnTo>
                <a:lnTo>
                  <a:pt x="14" y="27"/>
                </a:lnTo>
                <a:lnTo>
                  <a:pt x="14" y="42"/>
                </a:lnTo>
                <a:lnTo>
                  <a:pt x="17" y="42"/>
                </a:lnTo>
                <a:lnTo>
                  <a:pt x="17" y="70"/>
                </a:lnTo>
                <a:lnTo>
                  <a:pt x="19" y="70"/>
                </a:lnTo>
                <a:lnTo>
                  <a:pt x="19" y="90"/>
                </a:lnTo>
                <a:lnTo>
                  <a:pt x="22" y="90"/>
                </a:lnTo>
                <a:lnTo>
                  <a:pt x="22" y="97"/>
                </a:lnTo>
                <a:lnTo>
                  <a:pt x="28" y="97"/>
                </a:lnTo>
                <a:lnTo>
                  <a:pt x="28" y="104"/>
                </a:lnTo>
                <a:lnTo>
                  <a:pt x="30" y="104"/>
                </a:lnTo>
                <a:lnTo>
                  <a:pt x="30" y="104"/>
                </a:lnTo>
                <a:lnTo>
                  <a:pt x="36" y="104"/>
                </a:lnTo>
                <a:lnTo>
                  <a:pt x="36" y="111"/>
                </a:lnTo>
                <a:lnTo>
                  <a:pt x="42" y="111"/>
                </a:lnTo>
                <a:lnTo>
                  <a:pt x="42" y="132"/>
                </a:lnTo>
                <a:lnTo>
                  <a:pt x="44" y="132"/>
                </a:lnTo>
                <a:lnTo>
                  <a:pt x="44" y="146"/>
                </a:lnTo>
                <a:lnTo>
                  <a:pt x="47" y="146"/>
                </a:lnTo>
                <a:lnTo>
                  <a:pt x="47" y="146"/>
                </a:lnTo>
                <a:lnTo>
                  <a:pt x="50" y="146"/>
                </a:lnTo>
                <a:lnTo>
                  <a:pt x="50" y="154"/>
                </a:lnTo>
                <a:lnTo>
                  <a:pt x="55" y="154"/>
                </a:lnTo>
                <a:lnTo>
                  <a:pt x="55" y="161"/>
                </a:lnTo>
                <a:lnTo>
                  <a:pt x="58" y="161"/>
                </a:lnTo>
                <a:lnTo>
                  <a:pt x="58" y="161"/>
                </a:lnTo>
                <a:lnTo>
                  <a:pt x="61" y="161"/>
                </a:lnTo>
                <a:lnTo>
                  <a:pt x="61" y="168"/>
                </a:lnTo>
                <a:lnTo>
                  <a:pt x="72" y="168"/>
                </a:lnTo>
                <a:lnTo>
                  <a:pt x="72" y="174"/>
                </a:lnTo>
                <a:lnTo>
                  <a:pt x="78" y="174"/>
                </a:lnTo>
                <a:lnTo>
                  <a:pt x="78" y="181"/>
                </a:lnTo>
                <a:lnTo>
                  <a:pt x="89" y="181"/>
                </a:lnTo>
                <a:lnTo>
                  <a:pt x="89" y="181"/>
                </a:lnTo>
                <a:lnTo>
                  <a:pt x="97" y="181"/>
                </a:lnTo>
                <a:lnTo>
                  <a:pt x="97" y="191"/>
                </a:lnTo>
                <a:lnTo>
                  <a:pt x="111" y="191"/>
                </a:lnTo>
                <a:lnTo>
                  <a:pt x="111" y="203"/>
                </a:lnTo>
                <a:lnTo>
                  <a:pt x="116" y="203"/>
                </a:lnTo>
                <a:lnTo>
                  <a:pt x="116" y="203"/>
                </a:lnTo>
                <a:lnTo>
                  <a:pt x="277" y="203"/>
                </a:lnTo>
                <a:lnTo>
                  <a:pt x="277" y="269"/>
                </a:lnTo>
                <a:lnTo>
                  <a:pt x="446" y="269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722600" y="1890720"/>
            <a:ext cx="3578040" cy="171360"/>
          </a:xfrm>
          <a:custGeom>
            <a:avLst/>
            <a:gdLst/>
            <a:ahLst/>
            <a:rect l="l" t="t" r="r" b="b"/>
            <a:pathLst>
              <a:path w="446" h="18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7" y="0"/>
                </a:lnTo>
                <a:lnTo>
                  <a:pt x="19" y="0"/>
                </a:lnTo>
                <a:lnTo>
                  <a:pt x="19" y="0"/>
                </a:lnTo>
                <a:lnTo>
                  <a:pt x="22" y="0"/>
                </a:ln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30" y="0"/>
                </a:lnTo>
                <a:lnTo>
                  <a:pt x="30" y="0"/>
                </a:lnTo>
                <a:lnTo>
                  <a:pt x="36" y="0"/>
                </a:lnTo>
                <a:lnTo>
                  <a:pt x="36" y="0"/>
                </a:lnTo>
                <a:lnTo>
                  <a:pt x="42" y="0"/>
                </a:lnTo>
                <a:lnTo>
                  <a:pt x="42" y="0"/>
                </a:lnTo>
                <a:lnTo>
                  <a:pt x="44" y="0"/>
                </a:lnTo>
                <a:lnTo>
                  <a:pt x="44" y="0"/>
                </a:lnTo>
                <a:lnTo>
                  <a:pt x="47" y="0"/>
                </a:lnTo>
                <a:lnTo>
                  <a:pt x="47" y="5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5"/>
                </a:lnTo>
                <a:lnTo>
                  <a:pt x="58" y="5"/>
                </a:lnTo>
                <a:lnTo>
                  <a:pt x="58" y="8"/>
                </a:lnTo>
                <a:lnTo>
                  <a:pt x="61" y="8"/>
                </a:lnTo>
                <a:lnTo>
                  <a:pt x="61" y="13"/>
                </a:lnTo>
                <a:lnTo>
                  <a:pt x="72" y="13"/>
                </a:lnTo>
                <a:lnTo>
                  <a:pt x="72" y="13"/>
                </a:lnTo>
                <a:lnTo>
                  <a:pt x="78" y="13"/>
                </a:lnTo>
                <a:lnTo>
                  <a:pt x="78" y="13"/>
                </a:lnTo>
                <a:lnTo>
                  <a:pt x="89" y="13"/>
                </a:lnTo>
                <a:lnTo>
                  <a:pt x="89" y="13"/>
                </a:lnTo>
                <a:lnTo>
                  <a:pt x="97" y="13"/>
                </a:lnTo>
                <a:lnTo>
                  <a:pt x="97" y="13"/>
                </a:lnTo>
                <a:lnTo>
                  <a:pt x="111" y="13"/>
                </a:lnTo>
                <a:lnTo>
                  <a:pt x="111" y="13"/>
                </a:lnTo>
                <a:lnTo>
                  <a:pt x="116" y="13"/>
                </a:lnTo>
                <a:lnTo>
                  <a:pt x="116" y="18"/>
                </a:lnTo>
                <a:lnTo>
                  <a:pt x="277" y="18"/>
                </a:lnTo>
                <a:lnTo>
                  <a:pt x="277" y="18"/>
                </a:lnTo>
                <a:lnTo>
                  <a:pt x="446" y="18"/>
                </a:lnTo>
              </a:path>
            </a:pathLst>
          </a:cu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722600" y="1890720"/>
            <a:ext cx="3578040" cy="609480"/>
          </a:xfrm>
          <a:custGeom>
            <a:avLst/>
            <a:gdLst/>
            <a:ahLst/>
            <a:rect l="l" t="t" r="r" b="b"/>
            <a:pathLst>
              <a:path w="446" h="64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8" y="0"/>
                </a:lnTo>
                <a:lnTo>
                  <a:pt x="8" y="7"/>
                </a:lnTo>
                <a:lnTo>
                  <a:pt x="11" y="7"/>
                </a:lnTo>
                <a:lnTo>
                  <a:pt x="11" y="13"/>
                </a:lnTo>
                <a:lnTo>
                  <a:pt x="14" y="13"/>
                </a:lnTo>
                <a:lnTo>
                  <a:pt x="14" y="13"/>
                </a:lnTo>
                <a:lnTo>
                  <a:pt x="17" y="13"/>
                </a:lnTo>
                <a:lnTo>
                  <a:pt x="17" y="28"/>
                </a:lnTo>
                <a:lnTo>
                  <a:pt x="19" y="28"/>
                </a:lnTo>
                <a:lnTo>
                  <a:pt x="19" y="28"/>
                </a:lnTo>
                <a:lnTo>
                  <a:pt x="22" y="28"/>
                </a:lnTo>
                <a:lnTo>
                  <a:pt x="22" y="35"/>
                </a:lnTo>
                <a:lnTo>
                  <a:pt x="28" y="35"/>
                </a:lnTo>
                <a:lnTo>
                  <a:pt x="28" y="35"/>
                </a:lnTo>
                <a:lnTo>
                  <a:pt x="30" y="35"/>
                </a:lnTo>
                <a:lnTo>
                  <a:pt x="30" y="42"/>
                </a:lnTo>
                <a:lnTo>
                  <a:pt x="36" y="42"/>
                </a:lnTo>
                <a:lnTo>
                  <a:pt x="36" y="42"/>
                </a:lnTo>
                <a:lnTo>
                  <a:pt x="42" y="42"/>
                </a:lnTo>
                <a:lnTo>
                  <a:pt x="42" y="42"/>
                </a:lnTo>
                <a:lnTo>
                  <a:pt x="44" y="42"/>
                </a:lnTo>
                <a:lnTo>
                  <a:pt x="44" y="42"/>
                </a:lnTo>
                <a:lnTo>
                  <a:pt x="47" y="42"/>
                </a:lnTo>
                <a:lnTo>
                  <a:pt x="47" y="42"/>
                </a:lnTo>
                <a:lnTo>
                  <a:pt x="50" y="42"/>
                </a:lnTo>
                <a:lnTo>
                  <a:pt x="50" y="57"/>
                </a:lnTo>
                <a:lnTo>
                  <a:pt x="55" y="57"/>
                </a:lnTo>
                <a:lnTo>
                  <a:pt x="55" y="57"/>
                </a:lnTo>
                <a:lnTo>
                  <a:pt x="58" y="57"/>
                </a:lnTo>
                <a:lnTo>
                  <a:pt x="58" y="57"/>
                </a:lnTo>
                <a:lnTo>
                  <a:pt x="61" y="57"/>
                </a:lnTo>
                <a:lnTo>
                  <a:pt x="61" y="57"/>
                </a:lnTo>
                <a:lnTo>
                  <a:pt x="72" y="57"/>
                </a:lnTo>
                <a:lnTo>
                  <a:pt x="72" y="57"/>
                </a:lnTo>
                <a:lnTo>
                  <a:pt x="78" y="57"/>
                </a:lnTo>
                <a:lnTo>
                  <a:pt x="78" y="57"/>
                </a:lnTo>
                <a:lnTo>
                  <a:pt x="89" y="57"/>
                </a:lnTo>
                <a:lnTo>
                  <a:pt x="89" y="64"/>
                </a:lnTo>
                <a:lnTo>
                  <a:pt x="97" y="64"/>
                </a:lnTo>
                <a:lnTo>
                  <a:pt x="97" y="64"/>
                </a:lnTo>
                <a:lnTo>
                  <a:pt x="111" y="64"/>
                </a:lnTo>
                <a:lnTo>
                  <a:pt x="111" y="64"/>
                </a:lnTo>
                <a:lnTo>
                  <a:pt x="116" y="64"/>
                </a:lnTo>
                <a:lnTo>
                  <a:pt x="116" y="64"/>
                </a:lnTo>
                <a:lnTo>
                  <a:pt x="277" y="64"/>
                </a:lnTo>
                <a:lnTo>
                  <a:pt x="277" y="64"/>
                </a:lnTo>
                <a:lnTo>
                  <a:pt x="446" y="6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521720" y="495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63760" y="43164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463760" y="3678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63760" y="3040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463760" y="24019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369800" y="17762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72560" y="5186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189880" y="5186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728080" y="5186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269520" y="5186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05920" y="51865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311720" y="51865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849920" y="51865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46720" y="51865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383120" y="1300320"/>
            <a:ext cx="92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% 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DF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09480" y="546732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787480" y="2849400"/>
            <a:ext cx="284400" cy="18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133800" y="2728800"/>
            <a:ext cx="168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sidual dise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774880" y="3154320"/>
            <a:ext cx="3096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159000" y="3033720"/>
            <a:ext cx="16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copic fo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762280" y="3471840"/>
            <a:ext cx="3096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159000" y="3338640"/>
            <a:ext cx="166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scop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396040" y="1876320"/>
            <a:ext cx="155520" cy="741600"/>
          </a:xfrm>
          <a:custGeom>
            <a:avLst/>
            <a:gdLst>
              <a:gd name="textAreaLeft" fmla="*/ 0 w 155520"/>
              <a:gd name="textAreaRight" fmla="*/ 56160 w 155520"/>
              <a:gd name="textAreaTop" fmla="*/ 19080 h 741600"/>
              <a:gd name="textAreaBottom" fmla="*/ 722520 h 74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628600" y="21448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p value=0.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9" name=""/>
          <p:cNvGraphicFramePr/>
          <p:nvPr/>
        </p:nvGraphicFramePr>
        <p:xfrm>
          <a:off x="76320" y="717480"/>
          <a:ext cx="3863880" cy="4164120"/>
        </p:xfrm>
        <a:graphic>
          <a:graphicData uri="http://schemas.openxmlformats.org/drawingml/2006/table">
            <a:tbl>
              <a:tblPr/>
              <a:tblGrid>
                <a:gridCol w="1349280"/>
                <a:gridCol w="393840"/>
                <a:gridCol w="979200"/>
                <a:gridCol w="11415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NTRAOPE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. 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Gastro-intest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mediately repairable injury of rec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rin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mediately repairable injury of ureter (n=3) and bladder (n=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terus-Vagina-Vul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erine perforation not requiring surg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asc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mediately repairable inj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0" name=""/>
          <p:cNvSpPr/>
          <p:nvPr/>
        </p:nvSpPr>
        <p:spPr>
          <a:xfrm>
            <a:off x="2160" y="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RS after CT/RT:</a:t>
            </a: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1" name=""/>
          <p:cNvGraphicFramePr/>
          <p:nvPr/>
        </p:nvGraphicFramePr>
        <p:xfrm>
          <a:off x="4073400" y="68400"/>
          <a:ext cx="5007240" cy="6748200"/>
        </p:xfrm>
        <a:graphic>
          <a:graphicData uri="http://schemas.openxmlformats.org/drawingml/2006/table">
            <a:tbl>
              <a:tblPr/>
              <a:tblGrid>
                <a:gridCol w="1220760"/>
                <a:gridCol w="427320"/>
                <a:gridCol w="976320"/>
                <a:gridCol w="238284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ARLY TOXI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. 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Gastro-intest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ronic obstruction not requiring surg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onic obstruction requiring surgery (n=1), Fistula (n=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rin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reteral stenosis requiring surgery with  subsequent  normal renal function  (n=6), Uretero-vaginal fistula requiring surgery with subsequent normal renal function (n=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retero-vaginal fistula with permanent nephrostomy (n=1), ureteral stenosis with subsequent inadequate renal function (N=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ute renal fail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uta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und dehiscence requiring surg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lvic soft t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lvic abscess requiring surgical drain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asc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ymphocele (n=7), thrombophlebitis (n=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lmonary embolism without functional sequela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eeding requiring major surg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europat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(Tipo di carattere testo asiati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urological sensory symptom with mild functional impair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2" name=""/>
          <p:cNvGraphicFramePr/>
          <p:nvPr/>
        </p:nvGraphicFramePr>
        <p:xfrm>
          <a:off x="2075040" y="571680"/>
          <a:ext cx="6256080" cy="5748120"/>
        </p:xfrm>
        <a:graphic>
          <a:graphicData uri="http://schemas.openxmlformats.org/drawingml/2006/table">
            <a:tbl>
              <a:tblPr/>
              <a:tblGrid>
                <a:gridCol w="1469880"/>
                <a:gridCol w="542880"/>
                <a:gridCol w="1117440"/>
                <a:gridCol w="312588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ATE TOXI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. 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Gastro-intest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ronic obstruction not requiring surgery (n=2), Persistent signs or symptoms of rectal origin (n=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tal perfo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rin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maturia requiring hospitalization (n=2), Urinary retention requiring self-catheterization (n=3), Urinary incontinence (n=3), Ureteral stenosis requiring surgery with subsequent  normal renal function  (n=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incontinence (n=1), Ureteral stenosis with subsequent  inadequate renal function (n=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uta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und dehiscence not requiring surg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on-specif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pticem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3" name=""/>
          <p:cNvSpPr/>
          <p:nvPr/>
        </p:nvSpPr>
        <p:spPr>
          <a:xfrm>
            <a:off x="2160" y="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RS after CT/RT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4" name=""/>
          <p:cNvGraphicFramePr/>
          <p:nvPr/>
        </p:nvGraphicFramePr>
        <p:xfrm>
          <a:off x="444600" y="0"/>
          <a:ext cx="8051760" cy="3738600"/>
        </p:xfrm>
        <a:graphic>
          <a:graphicData uri="http://schemas.openxmlformats.org/drawingml/2006/table">
            <a:tbl>
              <a:tblPr/>
              <a:tblGrid>
                <a:gridCol w="3225600"/>
                <a:gridCol w="1486080"/>
                <a:gridCol w="1384200"/>
                <a:gridCol w="195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rimbos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Jurado 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Ferrandina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an 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33cc33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an E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nsfusio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reteral stenosis/renal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.5 + 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wel (sub)occl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V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und dehisc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mptomatic  lymphocy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cc33"/>
                      </a:solidFill>
                    </a:lnL>
                    <a:lnR w="5760">
                      <a:solidFill>
                        <a:srgbClr val="33cc33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33cc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5" name=""/>
          <p:cNvSpPr/>
          <p:nvPr/>
        </p:nvSpPr>
        <p:spPr>
          <a:xfrm>
            <a:off x="-48960" y="-763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00" y="4016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226040" y="4267080"/>
            <a:ext cx="4621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24 pts (13%) had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Of 38 G3/4 complications, 17 involv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colon-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cc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Ileal-vaginal fistula,    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Recto-vaginal fistula,  n=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Vesico-vaginal fistula, 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468360" y="3844800"/>
            <a:ext cx="3728880" cy="2914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 flipH="1">
            <a:off x="2463480" y="6388200"/>
            <a:ext cx="3682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3276360" y="6451560"/>
            <a:ext cx="3682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7848720" cy="27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2184480" y="0"/>
            <a:ext cx="5416560" cy="17319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grpSp>
        <p:nvGrpSpPr>
          <p:cNvPr id="1053" name=""/>
          <p:cNvGrpSpPr/>
          <p:nvPr/>
        </p:nvGrpSpPr>
        <p:grpSpPr>
          <a:xfrm>
            <a:off x="387360" y="1282680"/>
            <a:ext cx="6553080" cy="2246400"/>
            <a:chOff x="387360" y="1282680"/>
            <a:chExt cx="6553080" cy="2246400"/>
          </a:xfrm>
        </p:grpSpPr>
        <p:pic>
          <p:nvPicPr>
            <p:cNvPr id="1054" name="" descr=""/>
            <p:cNvPicPr/>
            <p:nvPr/>
          </p:nvPicPr>
          <p:blipFill>
            <a:blip r:embed="rId2"/>
            <a:stretch/>
          </p:blipFill>
          <p:spPr>
            <a:xfrm>
              <a:off x="387360" y="1282680"/>
              <a:ext cx="6553080" cy="2246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5" name=""/>
            <p:cNvSpPr/>
            <p:nvPr/>
          </p:nvSpPr>
          <p:spPr>
            <a:xfrm rot="10800000">
              <a:off x="2722680" y="2057040"/>
              <a:ext cx="453240" cy="115920"/>
            </a:xfrm>
            <a:prstGeom prst="rightArrow">
              <a:avLst>
                <a:gd name="adj1" fmla="val 50000"/>
                <a:gd name="adj2" fmla="val 9774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0800000">
              <a:off x="3177720" y="3179880"/>
              <a:ext cx="453240" cy="115920"/>
            </a:xfrm>
            <a:prstGeom prst="rightArrow">
              <a:avLst>
                <a:gd name="adj1" fmla="val 50000"/>
                <a:gd name="adj2" fmla="val 9774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6461280" y="1662120"/>
            <a:ext cx="2682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lvl="1" marL="48420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it-IT" sz="2200" spc="-1" strike="noStrike">
                <a:solidFill>
                  <a:srgbClr val="ffff00"/>
                </a:solidFill>
                <a:latin typeface="Times New Roman"/>
                <a:ea typeface="ヒラギノ角ゴ Pro W3"/>
              </a:rPr>
              <a:t>LACC and ECC pts showed comparable QoL sc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3"/>
          <a:stretch/>
        </p:blipFill>
        <p:spPr>
          <a:xfrm>
            <a:off x="0" y="3456000"/>
            <a:ext cx="4902120" cy="340200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12600" y="4208400"/>
            <a:ext cx="289260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08240" y="4287960"/>
            <a:ext cx="1698840" cy="44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560" y="5794200"/>
            <a:ext cx="305424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1440" y="3817800"/>
            <a:ext cx="419256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247680" indent="-247680">
              <a:spcBef>
                <a:spcPts val="1125"/>
              </a:spcBef>
              <a:buClr>
                <a:srgbClr val="cd0921"/>
              </a:buClr>
              <a:buFont typeface="Wingdings" charset="2"/>
              <a:buChar char="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Only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  <a:ea typeface="ヒラギノ角ゴ Pro W3"/>
              </a:rPr>
              <a:t>comorbidities and low education level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retain an association with poor score of Physical Component Scale in multivari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spcBef>
                <a:spcPts val="1125"/>
              </a:spcBef>
              <a:buClr>
                <a:srgbClr val="cd0921"/>
              </a:buClr>
              <a:buFont typeface="Wingdings" charset="2"/>
              <a:buChar char="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Poor Mental Component Scale score was significant associated with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  <a:ea typeface="ヒラギノ角ゴ Pro W3"/>
              </a:rPr>
              <a:t>older age and Unemployed/Retired status</a:t>
            </a:r>
            <a:r>
              <a:rPr b="1" lang="it-IT" sz="1800" spc="-1" strike="noStrike">
                <a:solidFill>
                  <a:srgbClr val="cd0921"/>
                </a:solidFill>
                <a:latin typeface="Times New Roman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spcBef>
                <a:spcPts val="1125"/>
              </a:spcBef>
              <a:buClr>
                <a:srgbClr val="cd0921"/>
              </a:buClr>
              <a:buFont typeface="Wingdings" charset="2"/>
              <a:buChar char="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Times New Roman"/>
                <a:ea typeface="ヒラギノ角ゴ Pro W3"/>
              </a:rPr>
              <a:t>Treatment modalities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did not affect QOL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121200" y="6346800"/>
            <a:ext cx="1685880" cy="447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Perspectives: General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57040" y="787320"/>
            <a:ext cx="7467840" cy="47865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Times New Roman"/>
              </a:rPr>
              <a:t>Identify new prognostic factors</a:t>
            </a: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COX-2 status</a:t>
            </a:r>
            <a:r>
              <a:rPr b="1" lang="it-IT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Times New Roman"/>
              </a:rPr>
              <a:t>Improve loc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new chemotherapy drugs, doses,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response biological modifi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increase total dose of ERT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(RM-1, RM-2, ESTER, LARA-1,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I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adjuvant brachy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808080"/>
                </a:solidFill>
                <a:latin typeface="Times New Roman"/>
              </a:rPr>
              <a:t>immun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Target based therapy?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-82440"/>
            <a:ext cx="781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PERSPECTIVES: SURGICAL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0" y="517680"/>
            <a:ext cx="7386480" cy="6397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2"/>
          <a:stretch/>
        </p:blipFill>
        <p:spPr>
          <a:xfrm>
            <a:off x="0" y="1135080"/>
            <a:ext cx="7404120" cy="39528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3"/>
          <a:stretch/>
        </p:blipFill>
        <p:spPr>
          <a:xfrm>
            <a:off x="5348160" y="1349280"/>
            <a:ext cx="2043360" cy="171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4"/>
          <a:stretch/>
        </p:blipFill>
        <p:spPr>
          <a:xfrm>
            <a:off x="0" y="1616040"/>
            <a:ext cx="2608200" cy="338292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5"/>
          <a:stretch/>
        </p:blipFill>
        <p:spPr>
          <a:xfrm>
            <a:off x="2670120" y="1611360"/>
            <a:ext cx="2646360" cy="336708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6"/>
          <a:stretch/>
        </p:blipFill>
        <p:spPr>
          <a:xfrm>
            <a:off x="5429160" y="1636560"/>
            <a:ext cx="3714840" cy="209736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7"/>
          <a:stretch/>
        </p:blipFill>
        <p:spPr>
          <a:xfrm>
            <a:off x="5367240" y="3836880"/>
            <a:ext cx="3776760" cy="269100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6972480" y="3517920"/>
            <a:ext cx="4824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670200" y="2959200"/>
            <a:ext cx="48276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708360" y="3517920"/>
            <a:ext cx="48276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670200" y="4635360"/>
            <a:ext cx="482760" cy="241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023240" y="2984400"/>
            <a:ext cx="482400" cy="241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78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FERTILITY PRESERVATION APPROACHES: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WHICH PATIENTS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 TO BE PROPOSED TO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tients younger than 40 years old with strong desire to retain their fer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o clinical evidence of impaired fer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arly stage lesion (IA2-IIA, small volume tumor 2 cm)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o involvement of upper endocervica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gative lymphnodes: Lymphadenectomy has to precede any conservative approach</a:t>
            </a:r>
            <a:r>
              <a:rPr b="0" i="1" lang="it-IT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                       </a:t>
            </a:r>
            <a:r>
              <a:rPr b="0" i="1" lang="it-IT" sz="2000" spc="-1" strike="noStrike">
                <a:solidFill>
                  <a:srgbClr val="ff0066"/>
                </a:solidFill>
                <a:latin typeface="Times New Roman"/>
              </a:rPr>
              <a:t>(Roy and Plante, 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ccording to these criteria 48% of &lt;40 yrs patients with early c.c. will be eligible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                                                 </a:t>
            </a:r>
            <a:r>
              <a:rPr b="0" i="1" lang="it-IT" sz="2000" spc="-1" strike="noStrike">
                <a:solidFill>
                  <a:srgbClr val="ff0066"/>
                </a:solidFill>
                <a:latin typeface="Times New Roman"/>
              </a:rPr>
              <a:t>(Sonoda,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9080" y="119700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2464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7560" y="-82440"/>
            <a:ext cx="77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PERSPECTIVES: SURGICAL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203040" y="708120"/>
            <a:ext cx="4400640" cy="573084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>
            <a:off x="5008680" y="1130400"/>
            <a:ext cx="3735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NERVE-SPARING  procedures aimed at preserving the sympathetic and para-sympathetic autonomic ner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fibers in order to reduce the rate and severity of bladder, and ano-rec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dysfunction due to  damage of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superior hypogastric  plexus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, or of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the neural part of the cardinal ligament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hypogastric nerves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2786040" y="2654280"/>
            <a:ext cx="4402080" cy="167976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4870440" y="984240"/>
            <a:ext cx="4273560" cy="187812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/>
          <p:cNvPicPr/>
          <p:nvPr/>
        </p:nvPicPr>
        <p:blipFill>
          <a:blip r:embed="rId3"/>
          <a:stretch/>
        </p:blipFill>
        <p:spPr>
          <a:xfrm>
            <a:off x="4981680" y="4229280"/>
            <a:ext cx="4162320" cy="164916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838080" y="5068800"/>
            <a:ext cx="4316400" cy="178920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0" y="851040"/>
            <a:ext cx="2089080" cy="246996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/>
          <p:nvPr/>
        </p:nvSpPr>
        <p:spPr>
          <a:xfrm>
            <a:off x="7560" y="-82440"/>
            <a:ext cx="77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imes New Roman"/>
              </a:rPr>
              <a:t>PERSPECTIVES: SURGICAL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8" name=""/>
          <p:cNvGraphicFramePr/>
          <p:nvPr/>
        </p:nvGraphicFramePr>
        <p:xfrm>
          <a:off x="4724280" y="3505320"/>
          <a:ext cx="433404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505320"/>
                    <a:ext cx="43340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0" name="" descr=""/>
          <p:cNvPicPr/>
          <p:nvPr/>
        </p:nvPicPr>
        <p:blipFill>
          <a:blip r:embed="rId3"/>
          <a:stretch/>
        </p:blipFill>
        <p:spPr>
          <a:xfrm>
            <a:off x="76320" y="91440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-152280" y="4800600"/>
            <a:ext cx="487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ipartimento di Onc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entro di Ricerca e Formazione ad Alta Tecnolog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elle Scienze Biomed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ede di</a:t>
            </a:r>
            <a:r>
              <a:rPr b="1" lang="en-GB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6600"/>
                </a:solidFill>
                <a:latin typeface="Times New Roman"/>
              </a:rPr>
              <a:t>Campob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914400" y="152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ità Cattolica del Sacro Cu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12160" y="1461960"/>
            <a:ext cx="444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Divisione di Ginecologia Onc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Dipartimento per la Tutela della Sal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della Donna e della Vita Na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Policlinico Geme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Sede di </a:t>
            </a:r>
            <a:r>
              <a:rPr b="1" lang="it-IT" sz="2000" spc="-1" strike="noStrike">
                <a:solidFill>
                  <a:srgbClr val="00cc99"/>
                </a:solidFill>
                <a:latin typeface="Times New Roman"/>
              </a:rPr>
              <a:t>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78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FERTILITY PRESERVATION APPROACHES: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WHICH 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APPROAC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2225520"/>
            <a:ext cx="820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Radical trachelec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Vaginal (RV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bdominal (R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9080" y="155736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2136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67080" y="1943280"/>
            <a:ext cx="46101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30644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082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9080" y="75708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3280" y="80820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No.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3280" y="663480"/>
            <a:ext cx="10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edi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f.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85440" y="73512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Re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8560" y="73512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ort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23640" y="655560"/>
            <a:ext cx="145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Abando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R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53960"/>
            <a:ext cx="2006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Times New Roman"/>
              </a:rPr>
              <a:t>Shepherd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Times New Roman"/>
              </a:rPr>
              <a:t>Dargent, 1994,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Times New Roman"/>
              </a:rPr>
              <a:t>Covens,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Times New Roman"/>
              </a:rPr>
              <a:t>Plante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Times New Roman"/>
              </a:rPr>
              <a:t>Burnett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Times New Roman"/>
              </a:rPr>
              <a:t>Schlaerth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1138320"/>
            <a:ext cx="5238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8160" y="1138320"/>
            <a:ext cx="4093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8360" y="1065240"/>
            <a:ext cx="982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5 (4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4 (4.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7 (7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2 (2.8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065240"/>
            <a:ext cx="15872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4 (3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 (3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4 (4.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 (1.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7160" y="1281240"/>
            <a:ext cx="1445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4/30 (1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13/108 (1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0/93 (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10/82 (1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2/21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2 /12 (17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6520" y="454356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4111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-114480"/>
            <a:ext cx="816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Oncologic and Obstetric outcome in early cervical cancer patients undergoing R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1672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38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Total                    412                 51            18 (4.4%)       12 (2.9%)          31/346 (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92640"/>
            <a:ext cx="97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9080" y="444168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38640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434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0" y="5281200"/>
            <a:ext cx="9163080" cy="126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55440" y="52434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00"/>
                </a:solidFill>
                <a:uFillTx/>
                <a:latin typeface="Times New Roman"/>
              </a:rPr>
              <a:t>Pregn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70440" y="524340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1rst trime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miscarri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59320" y="524340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2nd tr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miscarri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28040" y="524340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3rd tr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28200" y="524340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gt;37 w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51721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49800" y="49561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9080" y="50277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7440" y="49561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4956120"/>
            <a:ext cx="129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86520" y="87724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83408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16720" y="1025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06560" y="52308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imes New Roman"/>
              </a:rPr>
              <a:t>Attempts to con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51721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5400" y="5942160"/>
            <a:ext cx="89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Total       </a:t>
            </a:r>
            <a:r>
              <a:rPr b="1" lang="en-GB" sz="2000" spc="-1" strike="noStrike">
                <a:solidFill>
                  <a:srgbClr val="808080"/>
                </a:solidFill>
                <a:latin typeface="Times New Roman"/>
              </a:rPr>
              <a:t>123/308 (40%)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      149/98      24 (16%)    15 (10%)    101 (68%) 73 (7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87700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901800" y="-501480"/>
            <a:ext cx="112395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NACT plus trachelewctomy or cone + pelvic LFNctomy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9676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7944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08000" y="357120"/>
            <a:ext cx="83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. 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108000" y="3556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thor 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yr)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60" y="2209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e (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078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60" y="838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bayashi (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00560" y="35568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ological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2363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-SIL, N- (0-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90840" y="963720"/>
            <a:ext cx="17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response               (at biops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60" y="16812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oni (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54560" y="1743120"/>
            <a:ext cx="158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omplete response 1 Partial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960" y="2363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960" y="990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960" y="17431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                                (1 adj cht)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2200" y="22716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cycles of PIT q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7720" y="9000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cycles of BOMP q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47720" y="18352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T q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8680" y="35712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68480" y="22734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 yrs, T= 4x4, FIGO Stage I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5440" y="895320"/>
            <a:ext cx="170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yrs old woman. Squamous cell carcinoma 3X3 cm C.C (FIGO stage IB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68480" y="174312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= 2-3 cm Adenocarcin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19960" y="34308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s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227016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y of normal menstrual pattern after 4 m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61160" y="87156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wks delivery after 24 mths from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61160" y="169848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pregna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b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2600" y="34452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cological out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49800" y="22716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urrences after 24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9800" y="96372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 after 48 m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86440" y="165276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urrences Median follow-up 20 mths (7-2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68480" y="293832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yrs, T= 3x3, FIGO Stage I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2200" y="34322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 yrs, T= 2x2, FIGO Stage IB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30880" y="2938320"/>
            <a:ext cx="143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response                     N- (0-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8080" y="3535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i of Ca in situ, N-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7040" y="284796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y of normal menstrual pattern after 4 m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15360" y="3537000"/>
            <a:ext cx="15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H-LH normali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13040" y="3933720"/>
            <a:ext cx="6330960" cy="249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2560" y="3873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o (200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960" y="4027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2200" y="39355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cycles of PIT/PET q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70028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19080" y="224640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871800"/>
            <a:ext cx="9163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31560" y="6400800"/>
            <a:ext cx="70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At a follow up of 69 months (10-1245) no recur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825640" y="4659120"/>
            <a:ext cx="6318360" cy="126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2160" y="4697280"/>
            <a:ext cx="215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24% No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14% in si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43% microssc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20% pro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440" y="603360"/>
            <a:ext cx="412920" cy="1726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560" y="-25560"/>
            <a:ext cx="863280" cy="557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C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39960" y="-7920"/>
            <a:ext cx="2260440" cy="520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718160" y="696960"/>
            <a:ext cx="2552760" cy="280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923760" y="646200"/>
            <a:ext cx="2505240" cy="295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657600" y="81288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3209760" y="-6480"/>
            <a:ext cx="5934240" cy="520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5938920" y="2859120"/>
            <a:ext cx="2727360" cy="217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3117960" y="2868480"/>
            <a:ext cx="2724120" cy="2171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492360" y="319104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319104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2874960" y="3094200"/>
            <a:ext cx="243000" cy="17398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047600" y="1023840"/>
            <a:ext cx="6137280" cy="1083960"/>
            <a:chOff x="1047600" y="1023840"/>
            <a:chExt cx="6137280" cy="1083960"/>
          </a:xfrm>
        </p:grpSpPr>
        <p:sp>
          <p:nvSpPr>
            <p:cNvPr id="193" name=""/>
            <p:cNvSpPr/>
            <p:nvPr/>
          </p:nvSpPr>
          <p:spPr>
            <a:xfrm>
              <a:off x="1047600" y="1833120"/>
              <a:ext cx="6137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1"/>
            <a:stretch/>
          </p:blipFill>
          <p:spPr>
            <a:xfrm>
              <a:off x="1896840" y="1870560"/>
              <a:ext cx="263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2"/>
            <a:stretch/>
          </p:blipFill>
          <p:spPr>
            <a:xfrm>
              <a:off x="2826720" y="1898280"/>
              <a:ext cx="3639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3"/>
            <a:stretch/>
          </p:blipFill>
          <p:spPr>
            <a:xfrm>
              <a:off x="3918600" y="1877400"/>
              <a:ext cx="294480" cy="1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4"/>
            <a:stretch/>
          </p:blipFill>
          <p:spPr>
            <a:xfrm>
              <a:off x="5161680" y="1888920"/>
              <a:ext cx="228600" cy="1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5"/>
            <a:stretch/>
          </p:blipFill>
          <p:spPr>
            <a:xfrm>
              <a:off x="6373080" y="1921320"/>
              <a:ext cx="330840" cy="145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9" name=""/>
            <p:cNvGraphicFramePr/>
            <p:nvPr/>
          </p:nvGraphicFramePr>
          <p:xfrm>
            <a:off x="1628640" y="1023840"/>
            <a:ext cx="5547240" cy="8143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628640" y="1023840"/>
                      <a:ext cx="5547240" cy="8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"/>
            <p:cNvGraphicFramePr/>
            <p:nvPr/>
          </p:nvGraphicFramePr>
          <p:xfrm>
            <a:off x="1047600" y="1023840"/>
            <a:ext cx="664920" cy="814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047600" y="1023840"/>
                      <a:ext cx="664920" cy="8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1568880" y="1626840"/>
              <a:ext cx="142848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68480" y="1571400"/>
              <a:ext cx="70092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0"/>
            <a:stretch/>
          </p:blipFill>
          <p:spPr>
            <a:xfrm>
              <a:off x="1119240" y="1112040"/>
              <a:ext cx="467280" cy="20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1009800" y="2085840"/>
            <a:ext cx="81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Although a reduction of Cervical cancer Incidence rates has been documented in the last 5 yr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76680" y="5122800"/>
            <a:ext cx="636732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33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1" i="1" lang="it-IT" sz="2200" spc="-1" strike="noStrike">
                <a:solidFill>
                  <a:srgbClr val="ffffff"/>
                </a:solidFill>
                <a:latin typeface="Times New Roman"/>
              </a:rPr>
              <a:t>.the percentage of patients presenting with </a:t>
            </a:r>
            <a:r>
              <a:rPr b="1" i="1" lang="it-IT" sz="2200" spc="-1" strike="noStrike">
                <a:solidFill>
                  <a:srgbClr val="ffff00"/>
                </a:solidFill>
                <a:latin typeface="Times New Roman"/>
              </a:rPr>
              <a:t>LACC has remained almost unchanged in the same period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33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00"/>
                </a:solidFill>
                <a:latin typeface="Times New Roman"/>
              </a:rPr>
              <a:t>The prognosis of LACC is still dismal with a 5-yr OS of 55-60%%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1"/>
          <a:stretch/>
        </p:blipFill>
        <p:spPr>
          <a:xfrm>
            <a:off x="0" y="4336920"/>
            <a:ext cx="2719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5920" y="9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MANAGEMENT OF LOCALLY ADVANCED CERVICAL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1735200"/>
            <a:ext cx="87314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29640" y="4303800"/>
            <a:ext cx="198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13360" y="1738440"/>
            <a:ext cx="310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Selected bulky IB2 and IIA&gt;4cm; IIB,  IIIA, IIIB, IV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06760" y="2730600"/>
            <a:ext cx="13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imes New Roman"/>
              </a:rPr>
              <a:t>Positive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27840" y="2689200"/>
            <a:ext cx="133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imes New Roman"/>
              </a:rPr>
              <a:t>Negative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03680" y="3857760"/>
            <a:ext cx="128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2200" y="5102280"/>
            <a:ext cx="1684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lvic ERT + concurrent cisplatin CT + BRT                         (point A dose ≥85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2" idx="2"/>
          </p:cNvCxnSpPr>
          <p:nvPr/>
        </p:nvCxnSpPr>
        <p:spPr>
          <a:xfrm flipH="1">
            <a:off x="4649040" y="2319120"/>
            <a:ext cx="1918440" cy="4338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2" idx="2"/>
          </p:cNvCxnSpPr>
          <p:nvPr/>
        </p:nvCxnSpPr>
        <p:spPr>
          <a:xfrm>
            <a:off x="6567480" y="2319120"/>
            <a:ext cx="1645200" cy="37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217440" y="6659640"/>
            <a:ext cx="87314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916360"/>
            <a:ext cx="307188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cal hysterectomy + pelvic lymph node dissection + aortic nodes sampling (category 2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lvic ERT + concurrent cisplatin CT + BRT (point A dose ≥85Gy) (category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lvic ERT + concurrent  cisplatin CHT + BRT (point A dose 75-80G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adjuvant hysterectomy (category 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>
            <a:off x="1655280" y="2111040"/>
            <a:ext cx="1080" cy="7722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38240" y="4249800"/>
            <a:ext cx="128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19840" y="3579840"/>
            <a:ext cx="14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imes New Roman"/>
              </a:rPr>
              <a:t>Only Pelv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40640" y="3349800"/>
            <a:ext cx="0" cy="1650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8920" y="3975120"/>
            <a:ext cx="0" cy="603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24360" y="3540240"/>
            <a:ext cx="14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Di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/>
          <p:nvPr/>
        </p:nvCxnSpPr>
        <p:spPr>
          <a:xfrm>
            <a:off x="5729040" y="3139920"/>
            <a:ext cx="945000" cy="4867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 flipH="1">
            <a:off x="3857400" y="3123720"/>
            <a:ext cx="829440" cy="469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5862600" y="4657680"/>
            <a:ext cx="18306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lvic ERT                               + concurrent cisplatin CT                           + BRT (point A dose ≥85Gy) </a:t>
            </a:r>
            <a:r>
              <a:rPr b="1" lang="en-US" sz="1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ara-aortic lymph nodes RT (45 Gy to CT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0680" y="3986280"/>
            <a:ext cx="11160" cy="563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65000" y="4656240"/>
            <a:ext cx="227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hemotherap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dividualiz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5160" y="175572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IB2; IIA &gt;4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5038200" y="3057480"/>
            <a:ext cx="1080" cy="5832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5045040" y="3881520"/>
            <a:ext cx="11160" cy="639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88840" y="3591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Also ao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73560" y="4681440"/>
            <a:ext cx="17143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lvic ERT + concurrent cisplatin CT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BRT (point A dose ≥85Gy) + extended lymph nodes RT (45 Gy to CT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55840" y="1185840"/>
            <a:ext cx="6240240" cy="466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7520" y="3971880"/>
            <a:ext cx="302904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43600" y="4692600"/>
            <a:ext cx="1724040" cy="1666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28120" y="5089680"/>
            <a:ext cx="1352520" cy="136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54480" y="4667400"/>
            <a:ext cx="1635120" cy="1895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80880" y="100080"/>
            <a:ext cx="2667240" cy="16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43" name=""/>
          <p:cNvGraphicFramePr/>
          <p:nvPr/>
        </p:nvGraphicFramePr>
        <p:xfrm>
          <a:off x="1527120" y="140004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7120" y="14000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0" y="1832040"/>
          <a:ext cx="9144000" cy="502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832040"/>
                    <a:ext cx="914400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3581280" y="198360"/>
            <a:ext cx="5334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Times New Roman"/>
              </a:rPr>
              <a:t>Reduction in the Risk of Death due to Cervical Cancer in Chemoradiotherapy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369120"/>
            <a:ext cx="251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i="1" lang="it-IT" sz="2500" spc="-1" strike="noStrike">
                <a:solidFill>
                  <a:srgbClr val="ff0066"/>
                </a:solidFill>
                <a:latin typeface="Times New Roman"/>
              </a:rPr>
              <a:t>Stehman, 2003</a:t>
            </a:r>
            <a:r>
              <a:rPr b="0" i="1" lang="en-GB" sz="25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ndard</cp:lastModifiedBy>
  <dcterms:modified xsi:type="dcterms:W3CDTF">2010-02-19T08:53:41Z</dcterms:modified>
  <cp:revision>505</cp:revision>
  <dc:subject/>
  <dc:title>PowerPoint Presentation</dc:title>
</cp:coreProperties>
</file>