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12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8.jpeg" ContentType="image/jpe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4.png" ContentType="image/png"/>
  <Override PartName="/ppt/media/image25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998D-E197-42B2-B36B-58713C05079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D018-7716-4D72-92E2-5E3C776DF158}" type="slidenum">
              <a:rPr b="0" lang="en-GB" sz="12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7EA-EB12-45F7-A187-E253729D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540-F4F9-493A-B781-E43F3C01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E3D-D56E-4FA7-80F9-987E26B3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DBC3-AA3D-4249-963C-F9CBED31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304-3754-422C-B579-03C367F9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20E-358B-4D30-8A5F-79A21295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3527-1906-4B82-8697-1CE56805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812-9482-49FE-AFD3-E80D7E20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76B-7764-400B-A7F2-5C8A28C4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22F-C054-4722-B84C-876AE502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BCFB-A76C-4934-98C7-A355B924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68C-4A11-42B9-B4A4-5095A053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D636-9F1B-4044-A388-CFD47A6F18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64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708360" y="907920"/>
            <a:ext cx="4627440" cy="1556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Il trattamento di tumori ginecologici r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88000" y="3357720"/>
            <a:ext cx="2181240" cy="520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ahoma"/>
              </a:rPr>
              <a:t>     </a:t>
            </a: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P.Ol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780000" y="5491080"/>
            <a:ext cx="1439640" cy="136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516640"/>
            <a:ext cx="392436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Fondazione IRC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Istituto Nazionale dei Tumo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ahoma"/>
              </a:rPr>
              <a:t>Mil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324000" y="404640"/>
            <a:ext cx="5040360" cy="5832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3000" y="-8748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Leiomio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211640" y="3549600"/>
            <a:ext cx="52196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63720" y="476280"/>
            <a:ext cx="91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Chirurgia da sola  curativa nelle neoplasie limitate all’ut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213000"/>
            <a:ext cx="92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Il valore della radioterapia sulla pelvi non è stato de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422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E’ in corso uno studio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randomizzato</a:t>
            </a: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 su CT adiuvante  in stadio I 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445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In studi non randomizzati CT adiuvante da sola o in combinazione con RT ha mostrato  miglioramento della sopravviv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12536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08800 h 1214640"/>
              <a:gd name="textAreaBottom" fmla="*/ 89964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426" stAng="-5400000" swAng="-5400000"/>
                <a:lnTo>
                  <a:pt x="0" y="12282"/>
                </a:lnTo>
                <a:arcTo wR="21600" hR="7426" stAng="10800000" swAng="-2651903"/>
                <a:lnTo>
                  <a:pt x="14400" y="21175"/>
                </a:lnTo>
                <a:lnTo>
                  <a:pt x="21600" y="17280"/>
                </a:lnTo>
                <a:lnTo>
                  <a:pt x="14400" y="12535"/>
                </a:lnTo>
                <a:lnTo>
                  <a:pt x="14400" y="14427"/>
                </a:lnTo>
                <a:arcTo wR="21600" hR="7426" stAng="8148097" swAng="2244913"/>
                <a:lnTo>
                  <a:pt x="1187" y="9854"/>
                </a:lnTo>
                <a:arcTo wR="21600" hR="7426" stAng="-10393010" swAng="4993010"/>
                <a:close/>
              </a:path>
              <a:path fill="darkenLess" w="21600" h="21600">
                <a:moveTo>
                  <a:pt x="21600" y="0"/>
                </a:moveTo>
                <a:arcTo wR="21600" hR="7426" stAng="-5400000" swAng="-5400000"/>
                <a:lnTo>
                  <a:pt x="0" y="7426"/>
                </a:lnTo>
                <a:arcTo wR="21600" hR="7426" stAng="10800000" swAng="-406990"/>
                <a:lnTo>
                  <a:pt x="1187" y="9854"/>
                </a:lnTo>
                <a:arcTo wR="21600" hR="7426" stAng="-10393010" swAng="4993010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17000" y="1989000"/>
            <a:ext cx="66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Isterectomia addominale + annessect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19222800">
            <a:off x="-252360" y="2204640"/>
            <a:ext cx="4500360" cy="1015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51280" y="0"/>
            <a:ext cx="52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250920" y="404640"/>
          <a:ext cx="8893080" cy="6315120"/>
        </p:xfrm>
        <a:graphic>
          <a:graphicData uri="http://schemas.openxmlformats.org/drawingml/2006/table">
            <a:tbl>
              <a:tblPr/>
              <a:tblGrid>
                <a:gridCol w="1822320"/>
                <a:gridCol w="2135160"/>
                <a:gridCol w="2735280"/>
                <a:gridCol w="2200320"/>
              </a:tblGrid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Uterine Leiomyosarco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777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Standard</a:t>
                      </a:r>
                      <a:r>
                        <a:rPr b="1" i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Individual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Investiga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Stage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Total abdominal hysterectomy &amp; bilateral salpingo-oophorect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Total abdominal hysterectomy &amp; bilateral salpingo-oophorectom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external pelvic radiation therap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ctr" pos="708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Total abdominal hysterectomy &amp; bilateral salpingo-oophorectom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708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708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external pelvic radiation therap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708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708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adjuvant chemo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Total abdominal hysterect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adjuvant chemo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Myomect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adjuvant chemo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7072200" y="208116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Da considerare sempre Alto G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24000" y="1484280"/>
          <a:ext cx="8568720" cy="3938760"/>
        </p:xfrm>
        <a:graphic>
          <a:graphicData uri="http://schemas.openxmlformats.org/drawingml/2006/table">
            <a:tbl>
              <a:tblPr/>
              <a:tblGrid>
                <a:gridCol w="2332440"/>
                <a:gridCol w="2732760"/>
                <a:gridCol w="35035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Stage 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Total abdominal hysterectomy &amp; bilateral salpingo-oophorect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Total abdominal hysterectomy &amp; bilateral salpingo-oophorectom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external pelvic radiation therapy </a:t>
                      </a:r>
                      <a:r>
                        <a:rPr b="1" lang="en-GB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brachy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ctr" pos="708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Total abdominal hysterectomy &amp; bilateral salpingo-oophorectom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708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708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external pelvic radiation therapy </a:t>
                      </a:r>
                      <a:r>
                        <a:rPr b="1" lang="en-GB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brachy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708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ctr" pos="708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adjuvant chemo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Total abdominal hysterecto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adjuvant chemothera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2217600"/>
        </p:xfrm>
        <a:graphic>
          <a:graphicData uri="http://schemas.openxmlformats.org/drawingml/2006/table">
            <a:tbl>
              <a:tblPr/>
              <a:tblGrid>
                <a:gridCol w="1873080"/>
                <a:gridCol w="2195640"/>
                <a:gridCol w="2813040"/>
                <a:gridCol w="2262240"/>
              </a:tblGrid>
              <a:tr h="22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Stage III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resec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Total abdominal hysterectomy &amp; bilateral salpingo-oophorectomy &amp; excision of gross dis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external pelvic radiation therapy </a:t>
                      </a:r>
                      <a:r>
                        <a:rPr b="1" lang="en-GB" sz="14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brachythera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Total abdominal hysterectomy &amp; bilateral salpingo-oophorectomy &amp; excision of gross dise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external pelvic radiation therapy </a:t>
                      </a:r>
                      <a:r>
                        <a:rPr b="1" lang="en-GB" sz="14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brachythera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chemothera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0" y="2421000"/>
          <a:ext cx="9144000" cy="2946240"/>
        </p:xfrm>
        <a:graphic>
          <a:graphicData uri="http://schemas.openxmlformats.org/drawingml/2006/table">
            <a:tbl>
              <a:tblPr/>
              <a:tblGrid>
                <a:gridCol w="1874880"/>
                <a:gridCol w="2195640"/>
                <a:gridCol w="2811240"/>
                <a:gridCol w="2262240"/>
              </a:tblGrid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Stage III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unresec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External pelvic radiation therapy &amp; intracavitary brachythera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Chemotherapy (anthracycline + Ifosfami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followed b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total abdominal hysterectomy &amp; bilateral salpingo-oophorectomy &amp; excision of gross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Chemotherapy (anthracycline + Ifosfami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followed b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external pelvic radiation therapy </a:t>
                      </a:r>
                      <a:r>
                        <a:rPr b="1" lang="en-GB" sz="1400" spc="-1" strike="noStrike" u="sng">
                          <a:solidFill>
                            <a:srgbClr val="006600"/>
                          </a:solidFill>
                          <a:uFillTx/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 intracavitary brachytherap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0" y="5516640"/>
          <a:ext cx="9144000" cy="1366920"/>
        </p:xfrm>
        <a:graphic>
          <a:graphicData uri="http://schemas.openxmlformats.org/drawingml/2006/table">
            <a:tbl>
              <a:tblPr/>
              <a:tblGrid>
                <a:gridCol w="1873080"/>
                <a:gridCol w="2195640"/>
                <a:gridCol w="2814840"/>
                <a:gridCol w="2260440"/>
              </a:tblGrid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Stage 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Chemotherapy (anthracycli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Surgery/ablation of isolated lung/liver metast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Chemotherapy (anthracycline + Ifosfamid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and/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6600"/>
                          </a:solidFill>
                          <a:latin typeface="Arial"/>
                          <a:ea typeface="Times New Roman"/>
                        </a:rPr>
                        <a:t>Surgery/ablation of isolated lung/liver metast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19440" y="747720"/>
            <a:ext cx="44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Malattia metast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628640"/>
            <a:ext cx="7365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Tahoma"/>
              </a:rPr>
              <a:t>20% leiomiosarcoma uter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Tahoma"/>
              </a:rPr>
              <a:t>50-80% di leiomiosarcoma uterino in stadio I-II  presenta malattia metastatica entro 2 aa dalla diagn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365720"/>
            <a:ext cx="7286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Chirurgia metast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Antracicline/ifosfamide in monochemioterapia o polichemioterap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Gemcitabina/ taxotere (studio GO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Trabectidina ( approvata EM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28480" y="0"/>
            <a:ext cx="67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Sarcoma stromale endomet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692280"/>
            <a:ext cx="7724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0,19 /1000.000donne/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Si intende la forma a basso grado con morfologia che ricorda lo stroma endometriale dell’endometrio in fase prolife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Può esprimere RO per E e 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Neoplasia ormonodipendente per cui è sconsigliata terapia sostitutiva e anche terapia con T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St.I isteroannessiectomia+ 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St II,III isteroannessiectomia + linfoadenectomia pelvica/LA+ OT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± 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OS a 5 aa 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REc 490-60% locale o metasta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2895" r="3368" b="0"/>
          <a:stretch/>
        </p:blipFill>
        <p:spPr>
          <a:xfrm>
            <a:off x="1619280" y="-171360"/>
            <a:ext cx="6265800" cy="3033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40000" y="2878200"/>
            <a:ext cx="4824360" cy="3979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3716280"/>
            <a:ext cx="1873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DiSAIA PJ, WT Creasman. Clinic Gynecologic Oncology  Mosby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27120" y="969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Sarcoma dei tessuti molli dell’apparato ginec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UTERO      1% dei t. maligni gin. 3-7% dei t.ut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Vulva             incidenza annua 1/100.000 d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Ov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851120"/>
            <a:ext cx="676764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Ut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Tahoma"/>
              </a:rPr>
              <a:t>Sarcoma mulleriano misto maligno (MMMT) o carcinosarcoma o tumore mesodermico misto maligno (4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Leiomiosarcoma (L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Sarcoma endometriale stromale (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Adenosarc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440" y="6338880"/>
            <a:ext cx="792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Non studi randomizzati su cui basare evi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3213000"/>
            <a:ext cx="2448000" cy="0"/>
          </a:xfrm>
          <a:prstGeom prst="line">
            <a:avLst/>
          </a:prstGeom>
          <a:ln w="889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3284640"/>
            <a:ext cx="239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In pratica non esiste  più come entità sarcomatosa, ma è considerato un tumore epitel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74760" y="2133720"/>
            <a:ext cx="2564280" cy="6426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9933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asi clini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4920" y="189000"/>
            <a:ext cx="83026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ff00"/>
                </a:solidFill>
                <a:latin typeface="Tahoma"/>
              </a:rPr>
              <a:t>53 aa,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ff00"/>
                </a:solidFill>
                <a:latin typeface="Tahoma"/>
              </a:rPr>
              <a:t>3.2007: isteroannessiectomia bilaterale con diagnosi di leiomiosarcoma uteri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292720" y="3645000"/>
            <a:ext cx="17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Image4"/>
          <p:cNvPicPr/>
          <p:nvPr/>
        </p:nvPicPr>
        <p:blipFill>
          <a:blip r:embed="rId1"/>
          <a:stretch/>
        </p:blipFill>
        <p:spPr>
          <a:xfrm>
            <a:off x="0" y="2205000"/>
            <a:ext cx="6156360" cy="46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+ 6 mesi: comparsa di lesione polmonare unic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389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opzione migliore per questa paziente è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Tahoma"/>
              </a:rPr>
              <a:t>Chirurgia della metastasi polmo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Tahoma"/>
              </a:rPr>
              <a:t>Antraciclina + Ifosf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Tahoma"/>
              </a:rPr>
              <a:t>Antraciclina + Dacarbazi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Gemcitabina + Taxo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Tahoma"/>
              </a:rPr>
              <a:t>Gemcitab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Tahoma"/>
              </a:rPr>
              <a:t>Trabecte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4978440" y="3505320"/>
            <a:ext cx="176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Tahoma"/>
              </a:rPr>
              <a:t>CT con gemcitabina e taxo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9" descr=""/>
          <p:cNvPicPr/>
          <p:nvPr/>
        </p:nvPicPr>
        <p:blipFill>
          <a:blip r:embed="rId1"/>
          <a:srcRect l="0" t="-40188" r="0" b="-40188"/>
          <a:stretch/>
        </p:blipFill>
        <p:spPr>
          <a:xfrm>
            <a:off x="5003640" y="1268280"/>
            <a:ext cx="3848400" cy="4267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"/>
          <p:cNvPicPr/>
          <p:nvPr/>
        </p:nvPicPr>
        <p:blipFill>
          <a:blip r:embed="rId2"/>
          <a:srcRect l="0" t="-45668" r="0" b="-45668"/>
          <a:stretch/>
        </p:blipFill>
        <p:spPr>
          <a:xfrm>
            <a:off x="179280" y="1197000"/>
            <a:ext cx="3848040" cy="4267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0"/>
          <p:cNvSpPr/>
          <p:nvPr/>
        </p:nvSpPr>
        <p:spPr>
          <a:xfrm>
            <a:off x="2007360" y="5835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ヒラギノ角ゴ Pro W3"/>
              </a:rPr>
              <a:t>Ba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6167880" y="57326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ヒラギノ角ゴ Pro W3"/>
              </a:rPr>
              <a:t>+6 ci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2"/>
          <p:cNvSpPr/>
          <p:nvPr/>
        </p:nvSpPr>
        <p:spPr>
          <a:xfrm>
            <a:off x="4427640" y="3924360"/>
            <a:ext cx="519120" cy="0"/>
          </a:xfrm>
          <a:prstGeom prst="line">
            <a:avLst/>
          </a:prstGeom>
          <a:ln w="85680">
            <a:solidFill>
              <a:srgbClr val="0176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37 aa,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5.2002: isteroannessiectomia bilaterale con diagnosi di leiomiosarcoma uterino. Segue chemioterapia adiuvante con antraciclina e ifosfamide </a:t>
            </a:r>
            <a:r>
              <a:rPr b="1" lang="it-IT" sz="28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 RT pelv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+ 2 anni: comparsa di metastasi polmonari bilaterali 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978440" y="3505320"/>
            <a:ext cx="176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opzione migliore per questa paziente è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Tahoma"/>
              </a:rPr>
              <a:t>Gemcitabina + Taxo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Tahoma"/>
              </a:rPr>
              <a:t>Gemcitabina in monochemioterap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Tahoma"/>
              </a:rPr>
              <a:t>Ifosfamide ad alte dosi in infusione prolung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ahoma"/>
              </a:rPr>
              <a:t>Trabected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4978440" y="3505320"/>
            <a:ext cx="176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974520" y="270828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ヒラギノ角ゴ Pro W3"/>
              </a:rPr>
              <a:t>ba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3710520" y="27082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ヒラギノ角ゴ Pro W3"/>
              </a:rPr>
              <a:t>tre ci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2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2239920" cy="18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17"/>
          <p:cNvGraphicFramePr/>
          <p:nvPr/>
        </p:nvGraphicFramePr>
        <p:xfrm>
          <a:off x="2987640" y="404640"/>
          <a:ext cx="2521080" cy="20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404640"/>
                    <a:ext cx="252108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Picture 27" descr=""/>
          <p:cNvPicPr/>
          <p:nvPr/>
        </p:nvPicPr>
        <p:blipFill>
          <a:blip r:embed="rId4"/>
          <a:stretch/>
        </p:blipFill>
        <p:spPr>
          <a:xfrm>
            <a:off x="6516720" y="620640"/>
            <a:ext cx="2336760" cy="1898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8"/>
          <p:cNvSpPr/>
          <p:nvPr/>
        </p:nvSpPr>
        <p:spPr>
          <a:xfrm>
            <a:off x="7023240" y="278136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ヒラギノ角ゴ Pro W3"/>
              </a:rPr>
              <a:t>cinque ci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2484360" y="1628640"/>
            <a:ext cx="517680" cy="0"/>
          </a:xfrm>
          <a:prstGeom prst="line">
            <a:avLst/>
          </a:prstGeom>
          <a:ln w="856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0"/>
          <p:cNvSpPr/>
          <p:nvPr/>
        </p:nvSpPr>
        <p:spPr>
          <a:xfrm>
            <a:off x="5580000" y="1628640"/>
            <a:ext cx="517680" cy="0"/>
          </a:xfrm>
          <a:prstGeom prst="line">
            <a:avLst/>
          </a:prstGeom>
          <a:ln w="856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4437000"/>
            <a:ext cx="75614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Follow-up dopo 6 cic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Prosecuzione del trattamento fino a massima risposta, quindi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Avvio subito di altro regime chemioterap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18"/>
          <p:cNvGraphicFramePr/>
          <p:nvPr/>
        </p:nvGraphicFramePr>
        <p:xfrm>
          <a:off x="468360" y="2335320"/>
          <a:ext cx="25923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35320"/>
                    <a:ext cx="25923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5" name="Picture 19" descr=""/>
          <p:cNvPicPr/>
          <p:nvPr/>
        </p:nvPicPr>
        <p:blipFill>
          <a:blip r:embed="rId3"/>
          <a:stretch/>
        </p:blipFill>
        <p:spPr>
          <a:xfrm>
            <a:off x="3564000" y="2406600"/>
            <a:ext cx="2448000" cy="17733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21"/>
          <p:cNvSpPr/>
          <p:nvPr/>
        </p:nvSpPr>
        <p:spPr>
          <a:xfrm>
            <a:off x="482760" y="484344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ヒラギノ角ゴ Pro W3"/>
              </a:rPr>
              <a:t>  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ヒラギノ角ゴ Pro W3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ヒラギノ角ゴ Pro W3"/>
              </a:rPr>
              <a:t>basale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ヒラギノ角ゴ Pro W3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ヒラギノ角ゴ Pro W3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ヒラギノ角ゴ Pro W3"/>
              </a:rPr>
              <a:t>           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ヒラギノ角ゴ Pro W3"/>
              </a:rPr>
              <a:t>	</a:t>
            </a:r>
            <a:r>
              <a:rPr b="1" lang="en-US" sz="2000" spc="-1" strike="noStrike">
                <a:solidFill>
                  <a:srgbClr val="00ff00"/>
                </a:solidFill>
                <a:latin typeface="Tahoma"/>
                <a:ea typeface="ヒラギノ角ゴ Pro W3"/>
              </a:rPr>
              <a:t>+ 8 cicli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ヒラギノ角ゴ Pro W3"/>
              </a:rPr>
              <a:t>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ヒラギノ角ゴ Pro W3"/>
              </a:rPr>
              <a:t>	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  <a:ea typeface="ヒラギノ角ゴ Pro W3"/>
              </a:rPr>
              <a:t>      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  <a:ea typeface="ヒラギノ角ゴ Pro W3"/>
              </a:rPr>
              <a:t>+ 14 cic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4"/>
          <p:cNvSpPr/>
          <p:nvPr/>
        </p:nvSpPr>
        <p:spPr>
          <a:xfrm>
            <a:off x="108000" y="2133720"/>
            <a:ext cx="863640" cy="122400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3060720" y="2276640"/>
            <a:ext cx="863640" cy="1223640"/>
          </a:xfrm>
          <a:prstGeom prst="line">
            <a:avLst/>
          </a:prstGeom>
          <a:ln w="3168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3" descr=""/>
          <p:cNvPicPr/>
          <p:nvPr/>
        </p:nvPicPr>
        <p:blipFill>
          <a:blip r:embed="rId4"/>
          <a:stretch/>
        </p:blipFill>
        <p:spPr>
          <a:xfrm>
            <a:off x="6477120" y="2252520"/>
            <a:ext cx="2514600" cy="2143440"/>
          </a:xfrm>
          <a:prstGeom prst="rect">
            <a:avLst/>
          </a:prstGeom>
          <a:ln w="0">
            <a:noFill/>
          </a:ln>
        </p:spPr>
      </p:pic>
      <p:sp>
        <p:nvSpPr>
          <p:cNvPr id="140" name="Line 26"/>
          <p:cNvSpPr/>
          <p:nvPr/>
        </p:nvSpPr>
        <p:spPr>
          <a:xfrm>
            <a:off x="6067440" y="2276640"/>
            <a:ext cx="863640" cy="1223640"/>
          </a:xfrm>
          <a:prstGeom prst="line">
            <a:avLst/>
          </a:prstGeom>
          <a:ln w="31680">
            <a:solidFill>
              <a:srgbClr val="00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3087720" y="3417840"/>
            <a:ext cx="517320" cy="0"/>
          </a:xfrm>
          <a:prstGeom prst="line">
            <a:avLst/>
          </a:prstGeom>
          <a:ln w="856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5935680" y="3417840"/>
            <a:ext cx="517680" cy="0"/>
          </a:xfrm>
          <a:prstGeom prst="line">
            <a:avLst/>
          </a:prstGeom>
          <a:ln w="8568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95280" y="333360"/>
            <a:ext cx="82915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54 aa,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15.10.2003: isteroannessiectomia bilaterale con diagnosi di leiomiosarcoma uterino di 8 cm (stadio I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978440" y="3505320"/>
            <a:ext cx="176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Senza titolo0-6"/>
          <p:cNvPicPr/>
          <p:nvPr/>
        </p:nvPicPr>
        <p:blipFill>
          <a:blip r:embed="rId1"/>
          <a:stretch/>
        </p:blipFill>
        <p:spPr>
          <a:xfrm>
            <a:off x="900000" y="1989000"/>
            <a:ext cx="2819520" cy="4648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Image2"/>
          <p:cNvPicPr/>
          <p:nvPr/>
        </p:nvPicPr>
        <p:blipFill>
          <a:blip r:embed="rId2"/>
          <a:stretch/>
        </p:blipFill>
        <p:spPr>
          <a:xfrm>
            <a:off x="4716360" y="3068640"/>
            <a:ext cx="40482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26028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Adeno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004760"/>
            <a:ext cx="860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Tahoma"/>
              </a:rPr>
              <a:t>Defini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Tahoma"/>
              </a:rPr>
              <a:t>Una neoplasia composta da una commistione di componente epiteliale benigna e mesenchimale malig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Tahoma"/>
              </a:rPr>
              <a:t>Epidemiolog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Tahoma"/>
              </a:rPr>
              <a:t>Picco di incidenza in età postmenopausale (60 anni). Descritta associazione con radioterapia ed assunzione di tamoxif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Tahoma"/>
              </a:rPr>
              <a:t>Presentazione mac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Tahoma"/>
              </a:rPr>
              <a:t>Massa polipoide esofitica, unica, aggettante nella cavità endometriale. Possibilità di estensione attraverso la c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Tahoma"/>
              </a:rPr>
              <a:t>Rara insorgenza dal miometrio (da foci di adenomio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Tahoma"/>
              </a:rPr>
              <a:t>Raramente lesioni multiple papill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50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176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Follow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176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RT pelv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176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Chemioterapia adiuvante con Epirubicina + Ifosfamide per 5 cicli </a:t>
            </a:r>
            <a:r>
              <a:rPr b="0" lang="it-IT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 RT pelv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1767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Chemioterapia adiuvante con Gemcitabina + taxotere per 3 cicli </a:t>
            </a:r>
            <a:r>
              <a:rPr b="0" lang="it-IT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 Adriamicina + Dacarbazina per 3 cic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4941720"/>
            <a:ext cx="86756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4.2004 (+6 mesi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comparsa di localizzazioni  polmonari secondarie (3 dx e 2 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6836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402120" indent="-402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ff00"/>
                </a:solidFill>
                <a:latin typeface="Arial"/>
              </a:rPr>
              <a:t>Non segue alcun trattamento complement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ff00"/>
                </a:solidFill>
                <a:latin typeface="Arial"/>
              </a:rPr>
              <a:t>4.2004 (+6 mesi): comparsa di localizzazioni  polmonari secondarie (3 dx e 2 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Chirurgia delle metastasi polmon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                        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Chemioterap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Si avvia chemioterapia con epirubicina e ifosfamide per tre cicli con progr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Fa Ifosfamide da sola ad alte dosi con progr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4978440" y="3505320"/>
            <a:ext cx="17654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2349360"/>
            <a:ext cx="1525320" cy="1214640"/>
          </a:xfrm>
          <a:custGeom>
            <a:avLst/>
            <a:gdLst>
              <a:gd name="textAreaLeft" fmla="*/ 204120 w 1525320"/>
              <a:gd name="textAreaRight" fmla="*/ 1321200 w 1525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9" descr=""/>
          <p:cNvPicPr/>
          <p:nvPr/>
        </p:nvPicPr>
        <p:blipFill>
          <a:blip r:embed="rId1"/>
          <a:stretch/>
        </p:blipFill>
        <p:spPr>
          <a:xfrm>
            <a:off x="235080" y="2413080"/>
            <a:ext cx="3911400" cy="2735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"/>
          <p:cNvPicPr/>
          <p:nvPr/>
        </p:nvPicPr>
        <p:blipFill>
          <a:blip r:embed="rId2"/>
          <a:stretch/>
        </p:blipFill>
        <p:spPr>
          <a:xfrm>
            <a:off x="5013360" y="2338560"/>
            <a:ext cx="3697200" cy="29034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1"/>
          <p:cNvSpPr/>
          <p:nvPr/>
        </p:nvSpPr>
        <p:spPr>
          <a:xfrm>
            <a:off x="1663200" y="53802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ヒラギノ角ゴ Pro W3"/>
              </a:rPr>
              <a:t>Ba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5839200" y="539892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ヒラギノ角ゴ Pro W3"/>
              </a:rPr>
              <a:t>+2 ci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4260960" y="3608280"/>
            <a:ext cx="522000" cy="0"/>
          </a:xfrm>
          <a:prstGeom prst="line">
            <a:avLst/>
          </a:prstGeom>
          <a:ln w="63360">
            <a:solidFill>
              <a:srgbClr val="0176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00ff00"/>
                </a:solidFill>
                <a:latin typeface="Arial"/>
              </a:rPr>
              <a:t>Ifosfamide ad alte dos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2" descr=""/>
          <p:cNvPicPr/>
          <p:nvPr/>
        </p:nvPicPr>
        <p:blipFill>
          <a:blip r:embed="rId1"/>
          <a:stretch/>
        </p:blipFill>
        <p:spPr>
          <a:xfrm>
            <a:off x="619200" y="2666880"/>
            <a:ext cx="3159000" cy="24433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1335240" y="5638680"/>
            <a:ext cx="125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6666"/>
                </a:solidFill>
                <a:latin typeface="Arial"/>
                <a:ea typeface="ヒラギノ角ゴ Pro W3"/>
              </a:rPr>
              <a:t>Ba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4" descr=""/>
          <p:cNvPicPr/>
          <p:nvPr/>
        </p:nvPicPr>
        <p:blipFill>
          <a:blip r:embed="rId2"/>
          <a:stretch/>
        </p:blipFill>
        <p:spPr>
          <a:xfrm>
            <a:off x="5345280" y="2590920"/>
            <a:ext cx="2884320" cy="25970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6437160" y="56577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6666"/>
                </a:solidFill>
                <a:latin typeface="Arial"/>
                <a:ea typeface="ヒラギノ角ゴ Pro W3"/>
              </a:rPr>
              <a:t>+6 ci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6"/>
          <p:cNvSpPr/>
          <p:nvPr/>
        </p:nvSpPr>
        <p:spPr>
          <a:xfrm>
            <a:off x="4160880" y="4030560"/>
            <a:ext cx="523800" cy="0"/>
          </a:xfrm>
          <a:prstGeom prst="line">
            <a:avLst/>
          </a:prstGeom>
          <a:ln w="63360">
            <a:solidFill>
              <a:srgbClr val="0176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ff00"/>
                </a:solidFill>
                <a:latin typeface="Arial"/>
              </a:rPr>
              <a:t>Gemcitabina (gg 1,8,15 q28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55 aa,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1998: isterectomia per fibroma uterino con diagnosi riferita di benignità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2008 (+10 anni):  riscontro di nodulazioni plurime in sede pelvica e di massa intravescicale di 4 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Segue biopsia con diagnosi di sarcoma di stroma endometriale  PGR+ ES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8360" y="4665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Per TVP si esclude il progestinico e si avvia terapia con Letroz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485640" y="2205000"/>
          <a:ext cx="3781440" cy="31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2205000"/>
                    <a:ext cx="3781440" cy="31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Picture 4" descr=""/>
          <p:cNvPicPr/>
          <p:nvPr/>
        </p:nvPicPr>
        <p:blipFill>
          <a:blip r:embed="rId3"/>
          <a:stretch/>
        </p:blipFill>
        <p:spPr>
          <a:xfrm>
            <a:off x="5181480" y="2057400"/>
            <a:ext cx="3544920" cy="325908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>
            <a:off x="4316400" y="3860640"/>
            <a:ext cx="731880" cy="0"/>
          </a:xfrm>
          <a:prstGeom prst="line">
            <a:avLst/>
          </a:prstGeom>
          <a:ln w="114480">
            <a:solidFill>
              <a:srgbClr val="0099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2011320" y="5835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ヒラギノ角ゴ Pro W3"/>
              </a:rPr>
              <a:t>Ba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6171840" y="57326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ヒラギノ角ゴ Pro W3"/>
              </a:rPr>
              <a:t>+5 ci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30 aa,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1995: asportazione di massa uterina + annessi con diagnosi di sarcoma di stroma endometriale PG+ E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Follow-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2003(+8 anni): riscontro di recidiva pelvica + lesioni polmonari plurime. Segue terapia con progestinico e successivamente con Letrozolo con progress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65120" y="2398680"/>
            <a:ext cx="3667320" cy="29196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4952880" y="2470320"/>
            <a:ext cx="3640320" cy="2863800"/>
          </a:xfrm>
          <a:prstGeom prst="rect">
            <a:avLst/>
          </a:prstGeom>
          <a:ln w="0">
            <a:noFill/>
          </a:ln>
        </p:spPr>
      </p:pic>
      <p:sp>
        <p:nvSpPr>
          <p:cNvPr id="176" name="Line 9"/>
          <p:cNvSpPr/>
          <p:nvPr/>
        </p:nvSpPr>
        <p:spPr>
          <a:xfrm>
            <a:off x="4191120" y="4005360"/>
            <a:ext cx="733320" cy="0"/>
          </a:xfrm>
          <a:prstGeom prst="line">
            <a:avLst/>
          </a:prstGeom>
          <a:ln w="114480">
            <a:solidFill>
              <a:srgbClr val="009999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0"/>
          <p:cNvSpPr/>
          <p:nvPr/>
        </p:nvSpPr>
        <p:spPr>
          <a:xfrm>
            <a:off x="2011320" y="58356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ヒラギノ角ゴ Pro W3"/>
              </a:rPr>
              <a:t>Ba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6171840" y="57326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ヒラギノ角ゴ Pro W3"/>
              </a:rPr>
              <a:t>+5 ci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9000"/>
            <a:ext cx="828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Si avvia chemioterapia con antraciclina e Ifosfamide con stazionarietà  mantenuta per 6 cicli e quindi progre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ahoma"/>
              </a:rPr>
              <a:t>Si avvia chemioterapia con Trabecte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164360" cy="3068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260280"/>
            <a:ext cx="493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ET 74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250920" y="1373040"/>
          <a:ext cx="4343400" cy="3353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73040"/>
                    <a:ext cx="43434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419720" y="1371600"/>
            <a:ext cx="4343400" cy="33526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159520" y="4329000"/>
            <a:ext cx="25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Black"/>
              </a:rPr>
              <a:t>Ecteinascidia Turbi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560" y="279360"/>
            <a:ext cx="8153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ECTEINASCIDIN -743 (ET 74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87320" y="501156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5200" indent="-282600">
              <a:lnSpc>
                <a:spcPct val="100000"/>
              </a:lnSpc>
              <a:buClr>
                <a:srgbClr val="cc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New chemical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200" indent="-282600">
              <a:lnSpc>
                <a:spcPct val="100000"/>
              </a:lnSpc>
              <a:buClr>
                <a:srgbClr val="cc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Innovative mechanism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200" indent="-282600">
              <a:lnSpc>
                <a:spcPct val="100000"/>
              </a:lnSpc>
              <a:buClr>
                <a:srgbClr val="cc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No X-resistance </a:t>
            </a:r>
            <a:r>
              <a:rPr b="0" lang="it-IT" sz="2400" spc="-1" strike="noStrike">
                <a:solidFill>
                  <a:srgbClr val="ccffff"/>
                </a:solidFill>
                <a:latin typeface="Arial Black"/>
              </a:rPr>
              <a:t>with </a:t>
            </a: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other natura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200" indent="-282600">
              <a:lnSpc>
                <a:spcPct val="100000"/>
              </a:lnSpc>
              <a:buClr>
                <a:srgbClr val="ccffff"/>
              </a:buClr>
              <a:buFont typeface="Arial Black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Activity in sarcomas </a:t>
            </a:r>
            <a:r>
              <a:rPr b="0" lang="it-IT" sz="2400" spc="-1" strike="noStrike">
                <a:solidFill>
                  <a:srgbClr val="ccffff"/>
                </a:solidFill>
                <a:latin typeface="Arial Black"/>
              </a:rPr>
              <a:t>pre-clinical </a:t>
            </a:r>
            <a:r>
              <a:rPr b="0" lang="en-US" sz="2400" spc="-1" strike="noStrike">
                <a:solidFill>
                  <a:srgbClr val="ccffff"/>
                </a:solidFill>
                <a:latin typeface="Arial Black"/>
              </a:rPr>
              <a:t>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74600"/>
            <a:ext cx="8893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Key points diagnosti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Commistione di neoplasia epiteliale benigna e mesenchimale malig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Componente epiteliale di tipo ghiandolare con possibili aspetti metaplastici (tubarica, mucinosa, squamos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Componente mesenchimale omologa</a:t>
            </a: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 (sarcoma indifferenziato, leiomiosarcoma o sarcoma stromale endometrial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Indice mitotico superiore alle 2 mitosi/10HPF nella componente mesenchim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Componente mesenchimale eterologa</a:t>
            </a: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 (chondrosarcoma, rabdomiosarcoma, osteosarcoma e liposarcoma sono i pattern di differenziane più frequ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Componente sex cord presente in circa il 10% dei ca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Stromal overgrowth corrisponde ad una componente mesenchimale eccedente il 25% della neoplas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Immunofenotip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Desmina e miogenina presenti nella componente mesenchimale a differenziazione rabdomiosarcomat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Proteina S-100 presente nella componente condrosarcomato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Diagnosi differenzia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Tahoma"/>
              </a:rPr>
              <a:t>Carcinosarcoma, adenofibroma uterino, adenomioma polipoide atipico, sarcoma stromale endometriale con differenziazione ghiandol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39760" y="1592280"/>
            <a:ext cx="4203720" cy="2797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72080" y="1573200"/>
            <a:ext cx="4248000" cy="2828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07552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eccanismo d’azione</a:t>
            </a: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2280" y="504036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b73d"/>
                </a:solidFill>
                <a:latin typeface="Tahoma"/>
              </a:rPr>
              <a:t>Legame con specifiche sequenze di basi nel solco minore del DNA e distorsione della catena in direzione del solco maggi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eccanismo d’azione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2280" y="5040360"/>
            <a:ext cx="828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5b73d"/>
                </a:solidFill>
                <a:latin typeface="Tahoma"/>
              </a:rPr>
              <a:t>Danno irreversibile al DNA per impossibilità di riparazione da parte del sistema TC-NER (Transcriptional-coupled Nucleotide Excision repair) reso inefficiente da ET-743 che lo “intrappola” in un complesso addotto-ET743-nucle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992240" y="1311120"/>
            <a:ext cx="512784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2007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Meccanismo d’azione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66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2280" y="5168880"/>
            <a:ext cx="82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b73d"/>
                </a:solidFill>
                <a:latin typeface="Tahoma"/>
              </a:rPr>
              <a:t>Inibizione della RNA polimerasi e quindi della trascrizione di geni inducibili coinvolti nella proliferazione cellu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935000" y="1368360"/>
            <a:ext cx="5221440" cy="33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1184400"/>
            <a:ext cx="9144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958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90720" y="952560"/>
            <a:ext cx="7227720" cy="4937040"/>
          </a:xfrm>
          <a:prstGeom prst="rect">
            <a:avLst/>
          </a:prstGeom>
          <a:ln w="12600">
            <a:solidFill>
              <a:srgbClr val="ff3300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41320" y="1973160"/>
            <a:ext cx="714060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076480" y="5300640"/>
            <a:ext cx="67834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680" algn="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2239920"/>
                <a:tab algn="l" pos="242100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algn="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2239920"/>
                <a:tab algn="l" pos="242100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berta.sanfilippo@istitutotumori.mi.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80" algn="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2239920"/>
                <a:tab algn="l" pos="2421000"/>
                <a:tab algn="l" pos="3235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aolo.casali@istitutotumori.mi.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62000" y="638280"/>
            <a:ext cx="868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66640" y="1179360"/>
            <a:ext cx="828036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https://eonc.istitutotumori.mi.it/RT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4067280" y="3141720"/>
            <a:ext cx="1576440" cy="1827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5280" y="260280"/>
            <a:ext cx="8458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Team multidisciplin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Patologo de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Chirurgo ginecologo o chirurgo dedicato ai sarc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Radioterap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Oncologo medico dedicato ai sarco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116000" y="-315000"/>
            <a:ext cx="75596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RARE TUMOURS DEFINITION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The following tables show comprehensive lists of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topographic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and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morphological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groups (or entities) of tumours, provided with estimates of their occurrence in terms of crude incidence rates (IR) per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100,000/year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with an accuracy of three decimal digi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Each IR is estimated for both the European and the US population (for comparative purposes) and it is based on cases diagnosed in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1995-2002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 (most recent diagnosis period available in the EUROCARE data bas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76280" y="692280"/>
            <a:ext cx="86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Sintomatologi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= a quella dei tumori uterini più com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90440" y="2092320"/>
            <a:ext cx="300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angui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Do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Massa pelv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78720" y="651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7280" y="7128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68280" y="765000"/>
            <a:ext cx="28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Stadi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AJCC/TNM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2133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Sarcomi utero ( include leiomiosarcoma, sarcoma endometriale stromale, adenosarcoma)</a:t>
            </a:r>
            <a:r>
              <a:rPr b="0" lang="it-IT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1800" y="458136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eiomio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13520" y="4797360"/>
            <a:ext cx="24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Tahoma"/>
              </a:rPr>
              <a:t>Adenosarc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331640" y="3429000"/>
            <a:ext cx="1584360" cy="7192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53200" y="3461040"/>
            <a:ext cx="1460520" cy="94572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1341360"/>
          <a:ext cx="9144000" cy="4743360"/>
        </p:xfrm>
        <a:graphic>
          <a:graphicData uri="http://schemas.openxmlformats.org/drawingml/2006/table">
            <a:tbl>
              <a:tblPr/>
              <a:tblGrid>
                <a:gridCol w="1403280"/>
                <a:gridCol w="1873440"/>
                <a:gridCol w="5867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ini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mitato ut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&gt; 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eso oltre utero nella pel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2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ade annes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ade altri tessuti pelv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ade tessuti addominali (non protru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3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a se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3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ù se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4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ade vescica o re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4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276840" y="22068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ff00"/>
                </a:solidFill>
                <a:latin typeface="Tahoma"/>
              </a:rPr>
              <a:t>Leiomiosarcoma e 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1341360"/>
          <a:ext cx="9144000" cy="5138640"/>
        </p:xfrm>
        <a:graphic>
          <a:graphicData uri="http://schemas.openxmlformats.org/drawingml/2006/table">
            <a:tbl>
              <a:tblPr/>
              <a:tblGrid>
                <a:gridCol w="1403280"/>
                <a:gridCol w="1873440"/>
                <a:gridCol w="5867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inizi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mitato ute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mitato endometrio/endocerv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ade &lt;metà miomet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1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ade &gt;metà miomet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eso oltre utero nella pel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2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ade annes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ade altri tessuti pelv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ade tessuti addominali (non protru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3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a se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3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II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iù sed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4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ade vescica o re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4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V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19960" y="22068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Tahoma"/>
              </a:rPr>
              <a:t>Adenocarcin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1:30:58Z</dcterms:created>
  <dc:creator>int</dc:creator>
  <dc:description/>
  <dc:language>en-US</dc:language>
  <cp:lastModifiedBy>int</cp:lastModifiedBy>
  <dcterms:modified xsi:type="dcterms:W3CDTF">2010-02-23T12:51:52Z</dcterms:modified>
  <cp:revision>2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117020364</vt:r8>
  </property>
  <property fmtid="{D5CDD505-2E9C-101B-9397-08002B2CF9AE}" pid="3" name="_AuthorEmail">
    <vt:lpwstr>Patrizia.Olmi@istitutotumori.mi.it</vt:lpwstr>
  </property>
  <property fmtid="{D5CDD505-2E9C-101B-9397-08002B2CF9AE}" pid="4" name="_AuthorEmailDisplayName">
    <vt:lpwstr>Olmi Patrizia</vt:lpwstr>
  </property>
  <property fmtid="{D5CDD505-2E9C-101B-9397-08002B2CF9AE}" pid="5" name="_EmailSubject">
    <vt:lpwstr/>
  </property>
</Properties>
</file>