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wmf" ContentType="image/x-wmf"/>
  <Override PartName="/ppt/media/image22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Helvetica Neue"/>
              </a:rPr>
              <a:t>Click to move the slide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 baseline="-25000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6C3E-EB80-4EE5-8E94-13D79D095723}" type="slidenum">
              <a:rPr b="0" lang="fr-FR" sz="12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AF44-0901-4543-8CD2-9C6E445F9612}" type="slidenum">
              <a:rPr b="0" lang="fr-FR" sz="1200" spc="-1" strike="noStrike" baseline="-25000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826920" y="660240"/>
            <a:ext cx="5204160" cy="34704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28800" y="43527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a-DK" sz="1600" spc="-1" strike="noStrike">
              <a:solidFill>
                <a:srgbClr val="000000"/>
              </a:solidFill>
              <a:latin typeface="Helvetica Neue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49E3-5C2E-4A73-B5D7-10106836ECC6}" type="slidenum">
              <a:rPr b="0" lang="fr-FR" sz="1200" spc="-1" strike="noStrike" baseline="-25000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2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826920" y="660240"/>
            <a:ext cx="5204160" cy="34704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28800" y="4352760"/>
            <a:ext cx="5000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2A62-CF36-42EF-9DBD-420D978A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4EB2-EFC7-491D-B53C-86EB550B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55EAD-995C-4DB1-9E6F-A0E5F27F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D3FEC-2FC2-4CE8-B301-D246DDAB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800000" y="457200"/>
            <a:ext cx="7800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0F1FA-0F00-408F-BABB-A7FBF6DC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5E0B4-DC22-41E4-8C4B-63FD95D7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420CB-FEE2-443E-94F5-F55E012C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DE19A-01EE-4362-9EE9-9EF218CA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0DB0D-6FDD-45E3-8048-870A2152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FDCBA-B4D7-4DE1-83BE-01570B3A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43772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707544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80000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43772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707544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46718-0791-45E1-858F-7F62209B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53F6C-E05A-4C7B-89F4-B2441DEE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556-A454-4B8E-994A-CEB75A36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2CD6F-C453-430D-BE57-B8BD0C36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7BFD0-876B-434B-8575-C874D814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00A7B-8C3F-4F29-ACD2-5721B9A3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ECA36-ED34-4A5E-B6FF-49F11D28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800000" y="457200"/>
            <a:ext cx="7800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49A23-979E-4D43-B9B9-ECF087A2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A6612-7637-493D-A135-BB2DC14A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8087D-B43F-4676-8FD4-B679DE5E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F77D3-7B0C-42DB-8EF9-53384CD3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0E6BF-3F10-4A97-9B85-EDF9AF9B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FC8C7-AF63-448A-8555-6FBD18DB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3772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544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0000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3772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544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C18-8C07-49BE-A929-AF0A3AD2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43772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707544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80000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43772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707544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539E4-C50B-47B2-9AFB-62B3407C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29716-6836-4DCD-80EB-E2AE1CE3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EDFE8-059E-4C2F-95A3-8D547A8B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2BB8C-8322-43DD-BAA9-DFA28704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4475A-1BD8-47D9-AEA3-51E6FEFC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CCABF-ECDB-4D42-8833-F81D33D2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800000" y="457200"/>
            <a:ext cx="7800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B7E38-0B4B-4119-9F29-30826F90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9175B-9866-420E-B116-A8EE3671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E8C89-B283-40FF-A28B-1B07AF53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AC8B1-E201-4AC3-8731-3AA95DC5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8DC2-F5F0-44C3-A475-999A5A6C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35CAE-27A0-4504-B074-D9B093CE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8F675-5477-4CC4-BFBE-AAF0E237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43772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07544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180000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43772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707544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4C9C6-9AF3-4BF5-A0E4-52CF620E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30DEC-901B-442A-8D5F-6A18E094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B1B7A-3721-42D7-9164-414BDC46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AEBCE-3E4B-4FBB-9EDE-28706DCA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36629-92C2-4291-A640-80B7E71A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A93E5-CCE9-4AE0-B318-E6581051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1800000" y="457200"/>
            <a:ext cx="7800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47FCF-7EF3-4171-A4DE-8A404C9B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723B9-5FE8-4CD7-8661-5AAC5D41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31EE-C63B-4872-B039-8C83E332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7FAEE-0829-4301-8E25-248AD36E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CC067-16D6-43A9-976D-5C29BF0F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BE077-D92F-475C-BCDC-104F8BD5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E1740-B934-4FF6-9E27-1CBA9E80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43772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707544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180000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43772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707544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84D12-63B2-40C2-B3B6-7DBC8969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FDDF-E2F1-4828-BABD-0CAE4F57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7ADD-2AEA-42AC-A2E7-E95AEB94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23BA-194C-4363-B52C-6982B46F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00000" y="457200"/>
            <a:ext cx="7800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1699-573C-44D2-8A97-0904CA18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6014-B8BC-499D-957F-3325C952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12C1-09B6-43DC-B900-ABECA772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0224-357B-4BEC-BBBF-B8651858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87F6-B91F-4D9E-A2D0-D67D2F6E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A6D3-21C3-43BC-8978-3B4BEBB7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1887-6220-46D7-9CE0-507FDFA9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3772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544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80000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43772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544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48AD-DEE9-40BD-8A51-87244DEE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6A0C7-380A-4888-97DF-CD979DE6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6EE15-4114-42E7-A942-D167B003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841E2-F967-4FD5-88A1-89920EE5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C7094-BD0B-49C4-A3DF-8FB74E97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FB3E4-4203-4246-920C-B36F4DAD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898-35F3-43D8-B2DC-EE3AC7B7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800000" y="457200"/>
            <a:ext cx="7800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B55D1-36DE-4BAA-A8F1-C94C272E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B6B0B-3AE9-42FD-98F7-19006977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89252-7CAB-4BB3-9B59-D468A2B5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B779C-6D7E-4452-95F8-D0E6133D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0EFEA-283B-4B20-B422-F2B621EC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5A5EB-7014-4787-AF21-6A0AB5A9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3772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07544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80000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43772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07544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BAC56-5323-4F8C-8978-A946F4D0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63BCF-621F-4E3E-B25A-14CF2341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F2186-C355-47BF-BB39-78762140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568A1-DF85-499F-8FFD-788E9CC3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30B-01A4-4437-9283-20B917B2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A1745-126A-47A8-90A1-36743002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AAC69-C879-4C9C-8D5A-18260EC6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800000" y="457200"/>
            <a:ext cx="7800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59D90-9AD3-4491-B97A-569EA0F8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3F379-FD55-4E6E-AA1F-9CDD0122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36F7C-E0F7-4C45-9A44-4591D35E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FCC21-6240-4B65-8E65-97CB3EFD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CEB8E-8B74-4A84-9A5C-A1EEEB99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DD876-AB5B-4034-9DB6-3BE7843F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3772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07544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80000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43772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707544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1F0F8-6D83-41D6-BF57-60A9498E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7E40C-6950-4E3F-AAD6-BCCDB5F2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C0D-5723-413A-95A0-65B48879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BC9DD-7902-4698-9D82-FCD7E6A7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8F612-9450-42BC-AE46-CA4458B5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DD994-05F9-4224-B30B-88EC9206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A5D65-4586-40B1-9293-18D62BD3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800000" y="457200"/>
            <a:ext cx="7800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31E5F-91A4-4328-A4D2-8F9D75F9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43C05-73C2-44E1-AEBC-B25F8B1E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11807-2A02-4F58-84C6-88CDBBC8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6A289-29F5-4764-B4A3-BFE3E50A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E88F4-9888-4918-BF74-B7CDD6C8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0C375-B855-4F91-B9A1-6EF9AEA5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00000" y="457200"/>
            <a:ext cx="7800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5D3C-4706-40D4-AD72-37DA8F32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43772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07544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80000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43772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707544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321F8-8208-4899-8953-DF0FBFFF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09DBD-1936-426E-8180-719AC281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59429-8CA7-4DBE-8786-2DEB0F6F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70779-7879-4564-A0E2-162A8E48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E1EF6-FB87-42B4-BDF6-5E3B4EA7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E465F-D3AE-4D5B-8CEB-EAAF93F1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800000" y="457200"/>
            <a:ext cx="7800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D126B-D21C-43C6-98B6-2CB1A184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13B9B-717D-4608-BBC4-F4A17213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E899D-2C0F-4F35-88E1-C4C1181C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84354-C5C8-4B29-B628-A60C8204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20D-96CE-4E62-BA7A-995D1B67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0289D-06D2-4271-85C0-83762BD1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C4A22-0FFD-44DC-B638-9CF1347C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43772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07544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80000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443772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707544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3FAE6-ACB4-45BA-B643-92115A84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BD8D5-B1D1-40D4-9BA3-21948ECF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2BF67-E38E-45C5-8E60-7D3A5353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E371F-B363-433C-95C2-0CC54C4B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FF063-3C2B-4964-BF8E-50995929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04A8D-0BA0-4570-AAC4-D0F61DE8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800000" y="457200"/>
            <a:ext cx="7800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03AFA-357B-41A6-B8A6-C64FB35F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71BD4-9C11-438A-A199-194EC882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600-D6C6-4E7B-8259-D9C6FEE2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94FB1-79B7-4543-9D78-95DC8ABE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8E3FC-7845-41AF-A281-7FCEF5AA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A7F48-1A95-4139-B422-EF85EECE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A67EC-A4DC-45AD-BDFA-C2CB5710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3772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707544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80000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443772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707544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6072E-AD39-44EC-99E2-5EFD6B8D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13A5D-D4D3-4A96-B979-4DD29637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78C12-8CBB-412B-866A-62E7FA69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246B0-3CAB-41CD-B7C9-617DC08C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8552A-5F03-4AFE-A444-DD3F3D60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CF190-58A2-4F12-B464-51FCC736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C21E-3B21-4012-8C27-22295586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800000" y="457200"/>
            <a:ext cx="7800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AFE42-5B9E-4C69-9F7D-CA558564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E5748-175E-433F-9998-D3CD6C11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9DA5E-C64A-45A5-ACC9-0E5F080A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B61C7-2BED-49DE-85D3-3F58643A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800000" y="3826080"/>
            <a:ext cx="780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C432E-48C4-4B42-B5F1-C542BEB4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797440" y="167652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80000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797440" y="3826080"/>
            <a:ext cx="3806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CE58E-2934-4D2D-B771-DBDA89F6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43772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075440" y="167652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80000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43772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7075440" y="3826080"/>
            <a:ext cx="251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0B156-D3CE-4D81-A756-B8BFD87C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906D2-03A6-45DF-94A3-98991457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9CEBE-9C03-4C1B-A3AD-8B7FEF3B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65A61-3A78-4D39-9564-DF4AF904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Helvetica Neue"/>
              </a:rPr>
              <a:t>Click to edit the title text format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1" marL="857160" indent="-28548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2" marL="12762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3" marL="16956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4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5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6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860E-6615-4959-BE81-5764BAE0C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4"/>
          <p:cNvSpPr/>
          <p:nvPr/>
        </p:nvSpPr>
        <p:spPr>
          <a:xfrm>
            <a:off x="0" y="6215040"/>
            <a:ext cx="10287000" cy="642960"/>
          </a:xfrm>
          <a:prstGeom prst="rect">
            <a:avLst/>
          </a:prstGeom>
          <a:solidFill>
            <a:srgbClr val="bcc1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pic>
        <p:nvPicPr>
          <p:cNvPr id="382" name="Picture 3" descr="institut_curie_logo"/>
          <p:cNvPicPr/>
          <p:nvPr/>
        </p:nvPicPr>
        <p:blipFill>
          <a:blip r:embed="rId2"/>
          <a:stretch/>
        </p:blipFill>
        <p:spPr>
          <a:xfrm>
            <a:off x="9250200" y="6215040"/>
            <a:ext cx="1036800" cy="60804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Helvetica Neue"/>
              </a:rPr>
              <a:t>Click to edit the title text format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1" marL="857160" indent="-28548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2" marL="12762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3" marL="16956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4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5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6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5466-E2D8-4C8F-AFB5-5B2C8DBBE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Helvetica Neue"/>
              </a:rPr>
              <a:t>Click to edit the title text format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1" marL="857160" indent="-28548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2" marL="12762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3" marL="16956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4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5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6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7372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C589-E658-4081-AD77-AFD314186B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Helvetica Neue"/>
              </a:rPr>
              <a:t>Click to edit the title text format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1" marL="857160" indent="-28548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2" marL="12762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3" marL="16956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4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5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6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7372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e5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02DD-DEB3-46EF-A67D-88F75BFC2D0B}" type="slidenum">
              <a:rPr b="0" lang="fr-FR" sz="1400" spc="-1" strike="noStrike">
                <a:solidFill>
                  <a:srgbClr val="5e5e5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0"/>
          <p:cNvSpPr/>
          <p:nvPr/>
        </p:nvSpPr>
        <p:spPr>
          <a:xfrm>
            <a:off x="0" y="0"/>
            <a:ext cx="3943440" cy="6858000"/>
          </a:xfrm>
          <a:prstGeom prst="rect">
            <a:avLst/>
          </a:prstGeom>
          <a:solidFill>
            <a:srgbClr val="bcc1a9">
              <a:alpha val="50000"/>
            </a:srgbClr>
          </a:solidFill>
          <a:ln w="9360">
            <a:solidFill>
              <a:srgbClr val="5e5e5e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pic>
        <p:nvPicPr>
          <p:cNvPr id="42" name="Picture 21" descr="logo_fr copie.pct                                              0008BDA3Macintosh HD                   C711D0E5:"/>
          <p:cNvPicPr/>
          <p:nvPr/>
        </p:nvPicPr>
        <p:blipFill>
          <a:blip r:embed="rId2"/>
          <a:stretch/>
        </p:blipFill>
        <p:spPr>
          <a:xfrm>
            <a:off x="949320" y="4286160"/>
            <a:ext cx="1606680" cy="1401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Helvetica Neue"/>
              </a:rPr>
              <a:t>Click to edit the title text format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1" marL="857160" indent="-28548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2" marL="12762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3" marL="16956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4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5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6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A37F-C0A0-4958-8B94-7C160C53E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4"/>
          <p:cNvSpPr/>
          <p:nvPr/>
        </p:nvSpPr>
        <p:spPr>
          <a:xfrm>
            <a:off x="0" y="6215040"/>
            <a:ext cx="10287000" cy="642960"/>
          </a:xfrm>
          <a:prstGeom prst="rect">
            <a:avLst/>
          </a:prstGeom>
          <a:solidFill>
            <a:srgbClr val="bcc1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Helvetica Neue"/>
              </a:rPr>
              <a:t>Click to edit the title text format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1" marL="857160" indent="-28548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2" marL="12762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3" marL="16956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4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5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6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0CDE-DBFD-45A6-89D8-3A73715C0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4"/>
          <p:cNvSpPr/>
          <p:nvPr/>
        </p:nvSpPr>
        <p:spPr>
          <a:xfrm>
            <a:off x="0" y="6215040"/>
            <a:ext cx="10287000" cy="642960"/>
          </a:xfrm>
          <a:prstGeom prst="rect">
            <a:avLst/>
          </a:prstGeom>
          <a:solidFill>
            <a:srgbClr val="bcc1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pic>
        <p:nvPicPr>
          <p:cNvPr id="127" name="Picture 3" descr="institut_curie_logo"/>
          <p:cNvPicPr/>
          <p:nvPr/>
        </p:nvPicPr>
        <p:blipFill>
          <a:blip r:embed="rId2"/>
          <a:stretch/>
        </p:blipFill>
        <p:spPr>
          <a:xfrm>
            <a:off x="9250200" y="6215040"/>
            <a:ext cx="1036800" cy="608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Helvetica Neue"/>
              </a:rPr>
              <a:t>Click to edit the title text format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1" marL="857160" indent="-28548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2" marL="12762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3" marL="16956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4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5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6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D0F7-0248-4467-9FFC-A9E828C84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4"/>
          <p:cNvSpPr/>
          <p:nvPr/>
        </p:nvSpPr>
        <p:spPr>
          <a:xfrm>
            <a:off x="0" y="6215040"/>
            <a:ext cx="10287000" cy="642960"/>
          </a:xfrm>
          <a:prstGeom prst="rect">
            <a:avLst/>
          </a:prstGeom>
          <a:solidFill>
            <a:srgbClr val="bcc1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Helvetica Neue"/>
              </a:rPr>
              <a:t>Click to edit the title text format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1" marL="857160" indent="-28548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2" marL="12762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3" marL="16956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4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5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6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9EE8-A033-47B9-BE87-CF685E435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4"/>
          <p:cNvSpPr/>
          <p:nvPr/>
        </p:nvSpPr>
        <p:spPr>
          <a:xfrm>
            <a:off x="0" y="6215040"/>
            <a:ext cx="10287000" cy="642960"/>
          </a:xfrm>
          <a:prstGeom prst="rect">
            <a:avLst/>
          </a:prstGeom>
          <a:solidFill>
            <a:srgbClr val="bcc1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pic>
        <p:nvPicPr>
          <p:cNvPr id="212" name="Picture 3" descr="institut_curie_logo"/>
          <p:cNvPicPr/>
          <p:nvPr/>
        </p:nvPicPr>
        <p:blipFill>
          <a:blip r:embed="rId2"/>
          <a:stretch/>
        </p:blipFill>
        <p:spPr>
          <a:xfrm>
            <a:off x="9250200" y="6215040"/>
            <a:ext cx="1036800" cy="6080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Helvetica Neue"/>
              </a:rPr>
              <a:t>Click to edit the title text format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1" marL="857160" indent="-28548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2" marL="12762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3" marL="16956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4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5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6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9432-9F40-491D-8D85-86196DC11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4"/>
          <p:cNvSpPr/>
          <p:nvPr/>
        </p:nvSpPr>
        <p:spPr>
          <a:xfrm>
            <a:off x="0" y="6215040"/>
            <a:ext cx="10287000" cy="642960"/>
          </a:xfrm>
          <a:prstGeom prst="rect">
            <a:avLst/>
          </a:prstGeom>
          <a:solidFill>
            <a:srgbClr val="bcc1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Helvetica Neue"/>
              </a:rPr>
              <a:t>Click to edit the title text format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1" marL="857160" indent="-28548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2" marL="12762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3" marL="16956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4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5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6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384D-601B-4829-A842-BB1B8E118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4"/>
          <p:cNvSpPr/>
          <p:nvPr/>
        </p:nvSpPr>
        <p:spPr>
          <a:xfrm>
            <a:off x="0" y="6215040"/>
            <a:ext cx="10287000" cy="642960"/>
          </a:xfrm>
          <a:prstGeom prst="rect">
            <a:avLst/>
          </a:prstGeom>
          <a:solidFill>
            <a:srgbClr val="bcc1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pic>
        <p:nvPicPr>
          <p:cNvPr id="297" name="Picture 3" descr="institut_curie_logo"/>
          <p:cNvPicPr/>
          <p:nvPr/>
        </p:nvPicPr>
        <p:blipFill>
          <a:blip r:embed="rId2"/>
          <a:stretch/>
        </p:blipFill>
        <p:spPr>
          <a:xfrm>
            <a:off x="9250200" y="6215040"/>
            <a:ext cx="1036800" cy="6080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Helvetica Neue"/>
              </a:rPr>
              <a:t>Click to edit the title text format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1" marL="857160" indent="-28548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2" marL="12762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3" marL="16956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4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5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6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C6FD-6F3E-47B0-ABAE-BCEED63C7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4"/>
          <p:cNvSpPr/>
          <p:nvPr/>
        </p:nvSpPr>
        <p:spPr>
          <a:xfrm>
            <a:off x="0" y="6215040"/>
            <a:ext cx="10287000" cy="642960"/>
          </a:xfrm>
          <a:prstGeom prst="rect">
            <a:avLst/>
          </a:prstGeom>
          <a:solidFill>
            <a:srgbClr val="bcc1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Helvetica Neue"/>
              </a:rPr>
              <a:t>Click to edit the title text format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1" marL="857160" indent="-28548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2" marL="12762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3" marL="169560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4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5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6" marL="2114640" indent="-228600">
              <a:spcBef>
                <a:spcPts val="300"/>
              </a:spcBef>
              <a:buClr>
                <a:srgbClr val="5e5e5e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5e5e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0544-FB54-40FB-8D78-A9E5F3125C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00360" y="3981600"/>
            <a:ext cx="4529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5e5e5e"/>
                </a:solidFill>
                <a:latin typeface="Helvetica Neue"/>
              </a:rPr>
              <a:t>A Fourquet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5e5e5e"/>
                </a:solidFill>
                <a:latin typeface="Helvetica Neue"/>
              </a:rPr>
              <a:t>Department of Radiation Oncology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4071600" y="533160"/>
            <a:ext cx="600084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c6600"/>
                </a:solidFill>
                <a:latin typeface="Helvetica Neue"/>
              </a:rPr>
              <a:t>Should PMRT be standard for all patients with 1-3 positive nodes?</a:t>
            </a:r>
            <a:endParaRPr b="0" lang="en-US" sz="4000" spc="-1" strike="noStrike">
              <a:solidFill>
                <a:srgbClr val="cc66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Espace réservé du numéro de diapositive 4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0EDC-396B-4D63-98CA-B605F3911031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6600"/>
                </a:solidFill>
                <a:latin typeface="Helvetica Neue"/>
              </a:rPr>
              <a:t>DBCCG 82. Irradiation fields arrangement</a:t>
            </a:r>
            <a:br>
              <a:rPr sz="3200"/>
            </a:br>
            <a:r>
              <a:rPr b="1" lang="fr-FR" sz="1800" spc="-1" strike="noStrike">
                <a:solidFill>
                  <a:srgbClr val="cc6600"/>
                </a:solidFill>
                <a:latin typeface="Helvetica Neue"/>
              </a:rPr>
              <a:t>Højris I et al. </a:t>
            </a:r>
            <a:r>
              <a:rPr b="1" i="1" lang="fr-FR" sz="1800" spc="-1" strike="noStrike">
                <a:solidFill>
                  <a:srgbClr val="cc6600"/>
                </a:solidFill>
                <a:latin typeface="Helvetica Neue"/>
              </a:rPr>
              <a:t>Lancet</a:t>
            </a:r>
            <a:r>
              <a:rPr b="1" lang="fr-FR" sz="1800" spc="-1" strike="noStrike">
                <a:solidFill>
                  <a:srgbClr val="cc6600"/>
                </a:solidFill>
                <a:latin typeface="Helvetica Neue"/>
              </a:rPr>
              <a:t>, 1999</a:t>
            </a:r>
            <a:endParaRPr b="0" lang="en-US" sz="1800" spc="-1" strike="noStrike">
              <a:solidFill>
                <a:srgbClr val="cc6600"/>
              </a:solidFill>
              <a:latin typeface="Helvetica Neue"/>
            </a:endParaRPr>
          </a:p>
        </p:txBody>
      </p:sp>
      <p:pic>
        <p:nvPicPr>
          <p:cNvPr id="547" name="Image 4" descr="Image16.jpg"/>
          <p:cNvPicPr/>
          <p:nvPr/>
        </p:nvPicPr>
        <p:blipFill>
          <a:blip r:embed="rId1"/>
          <a:stretch/>
        </p:blipFill>
        <p:spPr>
          <a:xfrm>
            <a:off x="2595600" y="1531800"/>
            <a:ext cx="509580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Espace réservé du numéro de diapositive 4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EF80-1D21-4DDC-B75A-C9D3ADF2D729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fr-FR" sz="2800" spc="-1" strike="noStrike">
                <a:solidFill>
                  <a:srgbClr val="cc6600"/>
                </a:solidFill>
                <a:latin typeface="Helvetica Neue"/>
              </a:rPr>
              <a:t>Danish trial. </a:t>
            </a:r>
            <a:r>
              <a:rPr b="1" i="1" lang="fr-FR" sz="2800" spc="-1" strike="noStrike">
                <a:solidFill>
                  <a:srgbClr val="cc6600"/>
                </a:solidFill>
                <a:latin typeface="Helvetica Neue"/>
              </a:rPr>
              <a:t>Premenopause. </a:t>
            </a:r>
            <a:r>
              <a:rPr b="1" lang="fr-FR" sz="2800" spc="-1" strike="noStrike">
                <a:solidFill>
                  <a:srgbClr val="cc6600"/>
                </a:solidFill>
                <a:latin typeface="Helvetica Neue"/>
              </a:rPr>
              <a:t> </a:t>
            </a:r>
            <a:br>
              <a:rPr sz="2800"/>
            </a:br>
            <a:r>
              <a:rPr b="1" lang="fr-FR" sz="2800" spc="-1" strike="noStrike">
                <a:solidFill>
                  <a:srgbClr val="cc6600"/>
                </a:solidFill>
                <a:latin typeface="Helvetica Neue"/>
              </a:rPr>
              <a:t>Median follow-up 10 years</a:t>
            </a:r>
            <a:br>
              <a:rPr sz="2800"/>
            </a:br>
            <a:endParaRPr b="0" lang="en-US" sz="2800" spc="-1" strike="noStrike">
              <a:solidFill>
                <a:srgbClr val="cc6600"/>
              </a:solidFill>
              <a:latin typeface="Helvetica Neu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198440" y="1071720"/>
          <a:ext cx="7888320" cy="5040000"/>
        </p:xfrm>
        <a:graphic>
          <a:graphicData uri="http://schemas.openxmlformats.org/drawingml/2006/table">
            <a:tbl>
              <a:tblPr/>
              <a:tblGrid>
                <a:gridCol w="3500640"/>
                <a:gridCol w="1611360"/>
                <a:gridCol w="1609560"/>
                <a:gridCol w="1166760"/>
              </a:tblGrid>
              <a:tr h="537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MF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MF + RT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856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852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oregional failures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969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one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metastases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tases alone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year DFS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0.001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year OS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0.001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Espace réservé du numéro de diapositive 5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A478-99B0-4D7A-BC13-F01A65DAA34E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14280" y="457200"/>
            <a:ext cx="7801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6600"/>
                </a:solidFill>
                <a:latin typeface="Helvetica Neue"/>
              </a:rPr>
              <a:t>Local recurrences after mastectomy</a:t>
            </a:r>
            <a:br>
              <a:rPr sz="3200"/>
            </a:b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9680" y="1571760"/>
            <a:ext cx="928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150000"/>
              </a:lnSpc>
              <a:spcBef>
                <a:spcPts val="349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e5e5e"/>
                </a:solidFill>
                <a:latin typeface="Helvetica Neue"/>
              </a:rPr>
              <a:t>DBCG 82 b&amp;c postmastectomy radiotherapy study</a:t>
            </a:r>
            <a:endParaRPr b="0" lang="en-US" sz="2800" spc="-1" strike="noStrike">
              <a:solidFill>
                <a:srgbClr val="5e5e5e"/>
              </a:solidFill>
              <a:latin typeface="Helvetica Neue"/>
            </a:endParaRPr>
          </a:p>
          <a:p>
            <a:pPr marL="190440" indent="-190440">
              <a:lnSpc>
                <a:spcPct val="150000"/>
              </a:lnSpc>
              <a:spcBef>
                <a:spcPts val="349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e5e5e"/>
                </a:solidFill>
                <a:latin typeface="Helvetica Neue"/>
              </a:rPr>
              <a:t>3083 pts. </a:t>
            </a:r>
            <a:endParaRPr b="0" lang="en-US" sz="2800" spc="-1" strike="noStrike">
              <a:solidFill>
                <a:srgbClr val="5e5e5e"/>
              </a:solidFill>
              <a:latin typeface="Helvetica Neue"/>
            </a:endParaRPr>
          </a:p>
          <a:p>
            <a:pPr marL="190440" indent="-190440">
              <a:lnSpc>
                <a:spcPct val="150000"/>
              </a:lnSpc>
              <a:spcBef>
                <a:spcPts val="349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e5e5e"/>
                </a:solidFill>
                <a:latin typeface="Helvetica Neue"/>
              </a:rPr>
              <a:t>Mastectomy + Chemotherapy or Tamoxifen</a:t>
            </a:r>
            <a:endParaRPr b="0" lang="en-US" sz="2800" spc="-1" strike="noStrike">
              <a:solidFill>
                <a:srgbClr val="5e5e5e"/>
              </a:solidFill>
              <a:latin typeface="Helvetica Neue"/>
            </a:endParaRPr>
          </a:p>
          <a:p>
            <a:pPr marL="19044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e5e5e"/>
                </a:solidFill>
                <a:latin typeface="Helvetica Neue"/>
              </a:rPr>
              <a:t>	</a:t>
            </a:r>
            <a:r>
              <a:rPr b="1" lang="fr-FR" sz="2800" spc="-1" strike="noStrike">
                <a:solidFill>
                  <a:srgbClr val="5e5e5e"/>
                </a:solidFill>
                <a:latin typeface="Helvetica Neue"/>
              </a:rPr>
              <a:t>	</a:t>
            </a:r>
            <a:r>
              <a:rPr b="1" lang="fr-FR" sz="2800" spc="-1" strike="noStrike">
                <a:solidFill>
                  <a:srgbClr val="5e5e5e"/>
                </a:solidFill>
                <a:latin typeface="Helvetica Neue"/>
              </a:rPr>
              <a:t>Radiotherapy</a:t>
            </a:r>
            <a:r>
              <a:rPr b="1" lang="fr-FR" sz="2800" spc="-1" strike="noStrike">
                <a:solidFill>
                  <a:srgbClr val="5e5e5e"/>
                </a:solidFill>
                <a:latin typeface="Helvetica Neue"/>
              </a:rPr>
              <a:t>	</a:t>
            </a:r>
            <a:r>
              <a:rPr b="1" lang="fr-FR" sz="2800" spc="-1" strike="noStrike">
                <a:solidFill>
                  <a:srgbClr val="5e5e5e"/>
                </a:solidFill>
                <a:latin typeface="Helvetica Neue"/>
              </a:rPr>
              <a:t>	</a:t>
            </a:r>
            <a:r>
              <a:rPr b="1" lang="fr-FR" sz="2800" spc="-1" strike="noStrike">
                <a:solidFill>
                  <a:srgbClr val="5e5e5e"/>
                </a:solidFill>
                <a:latin typeface="Helvetica Neue"/>
              </a:rPr>
              <a:t>	</a:t>
            </a:r>
            <a:r>
              <a:rPr b="1" lang="fr-FR" sz="2800" spc="-1" strike="noStrike">
                <a:solidFill>
                  <a:srgbClr val="5e5e5e"/>
                </a:solidFill>
                <a:latin typeface="Helvetica Neue"/>
              </a:rPr>
              <a:t>1538 pts</a:t>
            </a:r>
            <a:endParaRPr b="0" lang="en-US" sz="2800" spc="-1" strike="noStrike">
              <a:solidFill>
                <a:srgbClr val="5e5e5e"/>
              </a:solidFill>
              <a:latin typeface="Helvetica Neue"/>
            </a:endParaRPr>
          </a:p>
          <a:p>
            <a:pPr marL="19044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e5e5e"/>
                </a:solidFill>
                <a:latin typeface="Helvetica Neue"/>
              </a:rPr>
              <a:t>	</a:t>
            </a:r>
            <a:r>
              <a:rPr b="1" lang="fr-FR" sz="2800" spc="-1" strike="noStrike">
                <a:solidFill>
                  <a:srgbClr val="5e5e5e"/>
                </a:solidFill>
                <a:latin typeface="Helvetica Neue"/>
              </a:rPr>
              <a:t>	</a:t>
            </a:r>
            <a:r>
              <a:rPr b="1" lang="fr-FR" sz="2800" spc="-1" strike="noStrike">
                <a:solidFill>
                  <a:srgbClr val="5e5e5e"/>
                </a:solidFill>
                <a:latin typeface="Helvetica Neue"/>
              </a:rPr>
              <a:t>No radiotherapy</a:t>
            </a:r>
            <a:r>
              <a:rPr b="1" lang="fr-FR" sz="2800" spc="-1" strike="noStrike">
                <a:solidFill>
                  <a:srgbClr val="5e5e5e"/>
                </a:solidFill>
                <a:latin typeface="Helvetica Neue"/>
              </a:rPr>
              <a:t>	</a:t>
            </a:r>
            <a:r>
              <a:rPr b="1" lang="fr-FR" sz="2800" spc="-1" strike="noStrike">
                <a:solidFill>
                  <a:srgbClr val="5e5e5e"/>
                </a:solidFill>
                <a:latin typeface="Helvetica Neue"/>
              </a:rPr>
              <a:t>	</a:t>
            </a:r>
            <a:r>
              <a:rPr b="1" lang="fr-FR" sz="2800" spc="-1" strike="noStrike">
                <a:solidFill>
                  <a:srgbClr val="5e5e5e"/>
                </a:solidFill>
                <a:latin typeface="Helvetica Neue"/>
              </a:rPr>
              <a:t>	</a:t>
            </a:r>
            <a:r>
              <a:rPr b="1" lang="fr-FR" sz="2800" spc="-1" strike="noStrike">
                <a:solidFill>
                  <a:srgbClr val="5e5e5e"/>
                </a:solidFill>
                <a:latin typeface="Helvetica Neue"/>
              </a:rPr>
              <a:t>1545 pts</a:t>
            </a:r>
            <a:endParaRPr b="0" lang="en-US" sz="28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54" name="ZoneTexte 5"/>
          <p:cNvSpPr/>
          <p:nvPr/>
        </p:nvSpPr>
        <p:spPr>
          <a:xfrm>
            <a:off x="677880" y="6345360"/>
            <a:ext cx="64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e5e5e"/>
                </a:solidFill>
                <a:latin typeface="Helvetica Neue"/>
                <a:ea typeface="Arial"/>
              </a:rPr>
              <a:t>Nielsen HM et al. </a:t>
            </a:r>
            <a:r>
              <a:rPr b="1" i="1" lang="fr-FR" sz="1800" spc="-1" strike="noStrike">
                <a:solidFill>
                  <a:srgbClr val="5e5e5e"/>
                </a:solidFill>
                <a:latin typeface="Helvetica Neue"/>
                <a:ea typeface="Arial"/>
              </a:rPr>
              <a:t>Radiother Oncol </a:t>
            </a:r>
            <a:r>
              <a:rPr b="1" lang="fr-FR" sz="1800" spc="-1" strike="noStrike">
                <a:solidFill>
                  <a:srgbClr val="5e5e5e"/>
                </a:solidFill>
                <a:latin typeface="Helvetica Neue"/>
                <a:ea typeface="Arial"/>
              </a:rPr>
              <a:t>2006; </a:t>
            </a:r>
            <a:r>
              <a:rPr b="1" i="1" lang="fr-FR" sz="1800" spc="-1" strike="noStrike">
                <a:solidFill>
                  <a:srgbClr val="5e5e5e"/>
                </a:solidFill>
                <a:latin typeface="Helvetica Neue"/>
                <a:ea typeface="Arial"/>
              </a:rPr>
              <a:t>J Clin Oncol </a:t>
            </a:r>
            <a:r>
              <a:rPr b="1" lang="fr-FR" sz="1800" spc="-1" strike="noStrike">
                <a:solidFill>
                  <a:srgbClr val="5e5e5e"/>
                </a:solidFill>
                <a:latin typeface="Helvetica Neue"/>
                <a:ea typeface="Arial"/>
              </a:rPr>
              <a:t>2007</a:t>
            </a:r>
            <a:endParaRPr b="0" lang="en-US" sz="1800" spc="-1" strike="noStrike">
              <a:solidFill>
                <a:srgbClr val="5e5e5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Espace réservé du numéro de diapositive 5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5939-41F5-4FC4-B6F1-8DAF4F8C52A3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8440" y="152280"/>
            <a:ext cx="1022832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Helvetica Neue"/>
              </a:rPr>
              <a:t>DBCG 82 b&amp;c</a:t>
            </a:r>
            <a:r>
              <a:rPr b="0" lang="da-DK" sz="1800" spc="-1" strike="noStrike">
                <a:solidFill>
                  <a:srgbClr val="cc6600"/>
                </a:solidFill>
                <a:latin typeface="Helvetica Neue"/>
              </a:rPr>
              <a:t>  </a:t>
            </a:r>
            <a:br>
              <a:rPr sz="1800"/>
            </a:br>
            <a:r>
              <a:rPr b="1" lang="da-DK" sz="3200" spc="-1" strike="noStrike">
                <a:solidFill>
                  <a:srgbClr val="ffffcc"/>
                </a:solidFill>
                <a:latin typeface="Helvetica Neue"/>
              </a:rPr>
              <a:t>Loco-regional recurrences (LRR)</a:t>
            </a:r>
            <a:r>
              <a:rPr b="0" lang="da-DK" sz="3200" spc="-1" strike="noStrike">
                <a:solidFill>
                  <a:srgbClr val="cc66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graphicFrame>
        <p:nvGraphicFramePr>
          <p:cNvPr id="557" name="Object 3"/>
          <p:cNvGraphicFramePr/>
          <p:nvPr/>
        </p:nvGraphicFramePr>
        <p:xfrm>
          <a:off x="998640" y="830160"/>
          <a:ext cx="8362800" cy="56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830160"/>
                    <a:ext cx="8362800" cy="56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9" name="Group 4"/>
          <p:cNvGrpSpPr/>
          <p:nvPr/>
        </p:nvGrpSpPr>
        <p:grpSpPr>
          <a:xfrm>
            <a:off x="9320040" y="6308640"/>
            <a:ext cx="734760" cy="355680"/>
            <a:chOff x="9320040" y="6308640"/>
            <a:chExt cx="734760" cy="355680"/>
          </a:xfrm>
        </p:grpSpPr>
        <p:pic>
          <p:nvPicPr>
            <p:cNvPr id="560" name="Object 5" descr=""/>
            <p:cNvPicPr/>
            <p:nvPr/>
          </p:nvPicPr>
          <p:blipFill>
            <a:blip r:embed="rId3"/>
            <a:stretch/>
          </p:blipFill>
          <p:spPr>
            <a:xfrm>
              <a:off x="9320040" y="6433920"/>
              <a:ext cx="438120" cy="2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6" descr="auh4"/>
            <p:cNvPicPr/>
            <p:nvPr/>
          </p:nvPicPr>
          <p:blipFill>
            <a:blip r:embed="rId4"/>
            <a:stretch/>
          </p:blipFill>
          <p:spPr>
            <a:xfrm>
              <a:off x="9785160" y="6308640"/>
              <a:ext cx="269640" cy="345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Espace réservé du numéro de diapositive 5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6D27-6D9A-4D41-86A4-83AFD588ABEE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440" y="-360"/>
            <a:ext cx="102283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Helvetica Neue"/>
              </a:rPr>
              <a:t>DBCG 82 b&amp;c</a:t>
            </a:r>
            <a:r>
              <a:rPr b="0" lang="da-DK" sz="3200" spc="-1" strike="noStrike">
                <a:solidFill>
                  <a:srgbClr val="cc6600"/>
                </a:solidFill>
                <a:latin typeface="Helvetica Neue"/>
              </a:rPr>
              <a:t> </a:t>
            </a:r>
            <a:br>
              <a:rPr sz="3200"/>
            </a:br>
            <a:r>
              <a:rPr b="1" lang="da-DK" sz="2000" spc="-1" strike="noStrike">
                <a:solidFill>
                  <a:srgbClr val="ffffcc"/>
                </a:solidFill>
                <a:latin typeface="Helvetica Neue"/>
              </a:rPr>
              <a:t>Distant metastases subsequent to LRR as first event</a:t>
            </a:r>
            <a:endParaRPr b="0" lang="en-US" sz="2000" spc="-1" strike="noStrike">
              <a:solidFill>
                <a:srgbClr val="cc6600"/>
              </a:solidFill>
              <a:latin typeface="Helvetica Neue"/>
            </a:endParaRPr>
          </a:p>
        </p:txBody>
      </p:sp>
      <p:graphicFrame>
        <p:nvGraphicFramePr>
          <p:cNvPr id="564" name="Object 3"/>
          <p:cNvGraphicFramePr/>
          <p:nvPr/>
        </p:nvGraphicFramePr>
        <p:xfrm>
          <a:off x="571680" y="1098720"/>
          <a:ext cx="10837800" cy="645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098720"/>
                    <a:ext cx="1083780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6" name="Group 4"/>
          <p:cNvGrpSpPr/>
          <p:nvPr/>
        </p:nvGrpSpPr>
        <p:grpSpPr>
          <a:xfrm>
            <a:off x="9320040" y="6308640"/>
            <a:ext cx="734760" cy="355680"/>
            <a:chOff x="9320040" y="6308640"/>
            <a:chExt cx="734760" cy="355680"/>
          </a:xfrm>
        </p:grpSpPr>
        <p:pic>
          <p:nvPicPr>
            <p:cNvPr id="567" name="Object 5" descr=""/>
            <p:cNvPicPr/>
            <p:nvPr/>
          </p:nvPicPr>
          <p:blipFill>
            <a:blip r:embed="rId3"/>
            <a:stretch/>
          </p:blipFill>
          <p:spPr>
            <a:xfrm>
              <a:off x="9320040" y="6433920"/>
              <a:ext cx="438120" cy="2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6" descr="auh4"/>
            <p:cNvPicPr/>
            <p:nvPr/>
          </p:nvPicPr>
          <p:blipFill>
            <a:blip r:embed="rId4"/>
            <a:stretch/>
          </p:blipFill>
          <p:spPr>
            <a:xfrm>
              <a:off x="9785160" y="6308640"/>
              <a:ext cx="269640" cy="345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Espace réservé du numéro de diapositive 4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24E3-9670-44EC-A5DF-153DA2CD7973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57160" y="388440"/>
            <a:ext cx="8601120" cy="4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cc6600"/>
                </a:solidFill>
                <a:latin typeface="Helvetica Neue"/>
              </a:rPr>
              <a:t>BC trial. Outcome following local recurrences</a:t>
            </a:r>
            <a:endParaRPr b="0" lang="en-US" sz="2800" spc="-1" strike="noStrike">
              <a:solidFill>
                <a:srgbClr val="cc6600"/>
              </a:solidFill>
              <a:latin typeface="Helvetica Neue"/>
            </a:endParaRPr>
          </a:p>
        </p:txBody>
      </p:sp>
      <p:pic>
        <p:nvPicPr>
          <p:cNvPr id="571" name="Image 4" descr="Image14.jpg"/>
          <p:cNvPicPr/>
          <p:nvPr/>
        </p:nvPicPr>
        <p:blipFill>
          <a:blip r:embed="rId1"/>
          <a:stretch/>
        </p:blipFill>
        <p:spPr>
          <a:xfrm>
            <a:off x="2214720" y="870120"/>
            <a:ext cx="5800680" cy="5202000"/>
          </a:xfrm>
          <a:prstGeom prst="rect">
            <a:avLst/>
          </a:prstGeom>
          <a:ln w="0">
            <a:noFill/>
          </a:ln>
        </p:spPr>
      </p:pic>
      <p:sp>
        <p:nvSpPr>
          <p:cNvPr id="572" name="ZoneTexte 4"/>
          <p:cNvSpPr/>
          <p:nvPr/>
        </p:nvSpPr>
        <p:spPr>
          <a:xfrm>
            <a:off x="1030680" y="6429240"/>
            <a:ext cx="42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5e5e5e"/>
                </a:solidFill>
                <a:latin typeface="Helvetica Neue"/>
              </a:rPr>
              <a:t>Ragaz J et al. </a:t>
            </a:r>
            <a:r>
              <a:rPr b="1" i="1" lang="fr-FR" sz="1800" spc="-1" strike="noStrike">
                <a:solidFill>
                  <a:srgbClr val="5e5e5e"/>
                </a:solidFill>
                <a:latin typeface="Helvetica Neue"/>
              </a:rPr>
              <a:t>J Natl Cancer Inst</a:t>
            </a:r>
            <a:r>
              <a:rPr b="1" lang="fr-FR" sz="1800" spc="-1" strike="noStrike">
                <a:solidFill>
                  <a:srgbClr val="5e5e5e"/>
                </a:solidFill>
                <a:latin typeface="Helvetica Neue"/>
              </a:rPr>
              <a:t>, 2005</a:t>
            </a:r>
            <a:endParaRPr b="0" lang="en-US" sz="1800" spc="-1" strike="noStrike">
              <a:solidFill>
                <a:srgbClr val="5e5e5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Espace réservé du numéro de diapositive 5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1EF5-C352-4BF0-BBC0-0AC7FB010BF1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6600"/>
                </a:solidFill>
                <a:latin typeface="Helvetica Neue"/>
              </a:rPr>
              <a:t>DBCCG trials combined analysis</a:t>
            </a:r>
            <a:br>
              <a:rPr sz="3200"/>
            </a:b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230000"/>
              </a:lnSpc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Trials 82b (premenopause) and 82c (postmenopause)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190440" indent="-190440">
              <a:lnSpc>
                <a:spcPct val="230000"/>
              </a:lnSpc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1152 pN+ patients with  ≥  8 nodes removed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190440" indent="-190440">
              <a:lnSpc>
                <a:spcPct val="230000"/>
              </a:lnSpc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Median follow-up: 18 years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76" name="ZoneTexte 4"/>
          <p:cNvSpPr/>
          <p:nvPr/>
        </p:nvSpPr>
        <p:spPr>
          <a:xfrm>
            <a:off x="1534680" y="6357960"/>
            <a:ext cx="47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e5e5e"/>
                </a:solidFill>
                <a:latin typeface="Helvetica Neue"/>
              </a:rPr>
              <a:t>Overgaard M et al. </a:t>
            </a:r>
            <a:r>
              <a:rPr b="1" i="1" lang="fr-FR" sz="1800" spc="-1" strike="noStrike">
                <a:solidFill>
                  <a:srgbClr val="5e5e5e"/>
                </a:solidFill>
                <a:latin typeface="Helvetica Neue"/>
              </a:rPr>
              <a:t>Radiother Oncol</a:t>
            </a:r>
            <a:r>
              <a:rPr b="1" lang="fr-FR" sz="1800" spc="-1" strike="noStrike">
                <a:solidFill>
                  <a:srgbClr val="5e5e5e"/>
                </a:solidFill>
                <a:latin typeface="Helvetica Neue"/>
              </a:rPr>
              <a:t>, 2007</a:t>
            </a:r>
            <a:endParaRPr b="0" lang="en-US" sz="1800" spc="-1" strike="noStrike">
              <a:solidFill>
                <a:srgbClr val="5e5e5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Espace réservé du numéro de diapositive 4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BF11-EC92-43ED-ACB3-F06341B312D1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8012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6600"/>
                </a:solidFill>
                <a:latin typeface="Helvetica Neue"/>
              </a:rPr>
              <a:t>DBCCG 82 b&amp;c. Locoregional recurrences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pic>
        <p:nvPicPr>
          <p:cNvPr id="579" name="Image 4" descr="Image13.jpg"/>
          <p:cNvPicPr/>
          <p:nvPr/>
        </p:nvPicPr>
        <p:blipFill>
          <a:blip r:embed="rId1"/>
          <a:stretch/>
        </p:blipFill>
        <p:spPr>
          <a:xfrm>
            <a:off x="739800" y="1446120"/>
            <a:ext cx="88074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Espace réservé du numéro de diapositive 4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382A-179A-4964-BBF4-D8FB82817CB2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7801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6600"/>
                </a:solidFill>
                <a:latin typeface="Helvetica Neue"/>
              </a:rPr>
              <a:t>DBCCG 82 b&amp;c. Overall survival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pic>
        <p:nvPicPr>
          <p:cNvPr id="582" name="Image 4" descr="Image12.jpg"/>
          <p:cNvPicPr/>
          <p:nvPr/>
        </p:nvPicPr>
        <p:blipFill>
          <a:blip r:embed="rId1"/>
          <a:stretch/>
        </p:blipFill>
        <p:spPr>
          <a:xfrm>
            <a:off x="345960" y="1293840"/>
            <a:ext cx="95950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71120" y="4377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ctr">
            <a:noAutofit/>
          </a:bodyPr>
          <a:p>
            <a:pPr indent="0"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fr-FR" sz="3200" spc="-1" strike="noStrike">
                <a:solidFill>
                  <a:srgbClr val="cc6600"/>
                </a:solidFill>
                <a:latin typeface="Helvetica Neue"/>
              </a:rPr>
              <a:t>British Columbia Trial</a:t>
            </a:r>
            <a:br>
              <a:rPr sz="3200"/>
            </a:b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11400" y="1600200"/>
            <a:ext cx="7680240" cy="45259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marL="385920" indent="-385920">
              <a:lnSpc>
                <a:spcPct val="120000"/>
              </a:lnSpc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Arial"/>
              </a:rPr>
              <a:t>318 premenopausal patients with at least 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38592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5e5e5e"/>
                </a:solidFill>
                <a:latin typeface="Arial"/>
              </a:rPr>
              <a:t>one involved axillary node.</a:t>
            </a:r>
            <a:br>
              <a:rPr sz="2400"/>
            </a:b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385920" indent="-385920">
              <a:lnSpc>
                <a:spcPct val="100000"/>
              </a:lnSpc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Arial"/>
              </a:rPr>
              <a:t>Mastectomy and AND followed by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2" marL="12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Arial"/>
              </a:rPr>
              <a:t>CMF x 12 or x 6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2" marL="12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Arial"/>
              </a:rPr>
              <a:t>vs.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2" marL="12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Arial"/>
              </a:rPr>
              <a:t>CMF and Chest wall and 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2" marL="12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Arial"/>
              </a:rPr>
              <a:t>regional nodes irradiation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85" name="ZoneTexte 3"/>
          <p:cNvSpPr/>
          <p:nvPr/>
        </p:nvSpPr>
        <p:spPr>
          <a:xfrm>
            <a:off x="1370520" y="6345360"/>
            <a:ext cx="641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e5e5e"/>
                </a:solidFill>
                <a:latin typeface="Helvetica Neue"/>
              </a:rPr>
              <a:t>Ragaz J </a:t>
            </a:r>
            <a:r>
              <a:rPr b="1" i="1" lang="fr-FR" sz="1800" spc="-1" strike="noStrike">
                <a:solidFill>
                  <a:srgbClr val="5e5e5e"/>
                </a:solidFill>
                <a:latin typeface="Helvetica Neue"/>
              </a:rPr>
              <a:t>et al</a:t>
            </a:r>
            <a:r>
              <a:rPr b="1" lang="fr-FR" sz="1800" spc="-1" strike="noStrike">
                <a:solidFill>
                  <a:srgbClr val="5e5e5e"/>
                </a:solidFill>
                <a:latin typeface="Helvetica Neue"/>
              </a:rPr>
              <a:t>. </a:t>
            </a:r>
            <a:r>
              <a:rPr b="1" i="1" lang="fr-FR" sz="1800" spc="-1" strike="noStrike">
                <a:solidFill>
                  <a:srgbClr val="5e5e5e"/>
                </a:solidFill>
                <a:latin typeface="Helvetica Neue"/>
              </a:rPr>
              <a:t> N Engl J Med</a:t>
            </a:r>
            <a:r>
              <a:rPr b="1" lang="fr-FR" sz="1800" spc="-1" strike="noStrike">
                <a:solidFill>
                  <a:srgbClr val="5e5e5e"/>
                </a:solidFill>
                <a:latin typeface="Helvetica Neue"/>
              </a:rPr>
              <a:t>, 1997, </a:t>
            </a:r>
            <a:r>
              <a:rPr b="1" i="1" lang="fr-FR" sz="1800" spc="-1" strike="noStrike">
                <a:solidFill>
                  <a:srgbClr val="5e5e5e"/>
                </a:solidFill>
                <a:latin typeface="Helvetica Neue"/>
              </a:rPr>
              <a:t>J Natl Cancer Inst</a:t>
            </a:r>
            <a:r>
              <a:rPr b="1" lang="fr-FR" sz="1800" spc="-1" strike="noStrike">
                <a:solidFill>
                  <a:srgbClr val="5e5e5e"/>
                </a:solidFill>
                <a:latin typeface="Helvetica Neue"/>
              </a:rPr>
              <a:t>, 2005</a:t>
            </a:r>
            <a:endParaRPr b="0" lang="en-US" sz="1800" spc="-1" strike="noStrike">
              <a:solidFill>
                <a:srgbClr val="5e5e5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Espace réservé du numéro de diapositive 5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9CEC-5CD7-4B5C-A776-E2CFF517CED5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6600"/>
                </a:solidFill>
                <a:latin typeface="Helvetica Neue"/>
              </a:rPr>
              <a:t>Why 1 to 3 nodes?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Low rate of regional recurrences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190440" indent="-190440"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Survival related to the number of involved nodes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190440" indent="-190440"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Toxicity of regional nodes irradiation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7801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6600"/>
                </a:solidFill>
                <a:latin typeface="Helvetica Neue"/>
              </a:rPr>
              <a:t>Canadian trial </a:t>
            </a:r>
            <a:br>
              <a:rPr sz="2800"/>
            </a:br>
            <a:r>
              <a:rPr b="1" lang="fr-FR" sz="2800" spc="-1" strike="noStrike">
                <a:solidFill>
                  <a:srgbClr val="cc6600"/>
                </a:solidFill>
                <a:latin typeface="Helvetica Neue"/>
              </a:rPr>
              <a:t>Median follow-up: 20.8 years</a:t>
            </a:r>
            <a:endParaRPr b="0" lang="en-US" sz="2800" spc="-1" strike="noStrike">
              <a:solidFill>
                <a:srgbClr val="cc6600"/>
              </a:solidFill>
              <a:latin typeface="Helvetica Neue"/>
            </a:endParaRPr>
          </a:p>
        </p:txBody>
      </p:sp>
      <p:graphicFrame>
        <p:nvGraphicFramePr>
          <p:cNvPr id="587" name="Object 3"/>
          <p:cNvGraphicFramePr/>
          <p:nvPr/>
        </p:nvGraphicFramePr>
        <p:xfrm>
          <a:off x="1125360" y="1420920"/>
          <a:ext cx="8018640" cy="450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1420920"/>
                    <a:ext cx="801864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Espace réservé du numéro de diapositive 5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06B1-CBFD-4963-B8B8-10809216C088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85560" y="285480"/>
            <a:ext cx="7800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6600"/>
                </a:solidFill>
                <a:latin typeface="Helvetica Neue"/>
              </a:rPr>
              <a:t>British Columbia trial. 1-3 pN+</a:t>
            </a:r>
            <a:endParaRPr b="0" lang="en-US" sz="28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1039680" y="1214280"/>
            <a:ext cx="39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Helvetica Neue"/>
              </a:rPr>
              <a:t>Locoregional + distant disease free survival</a:t>
            </a:r>
            <a:endParaRPr b="0" lang="en-US" sz="20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5683320" y="13795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Helvetica Neue"/>
              </a:rPr>
              <a:t>Distant disease-free survival</a:t>
            </a:r>
            <a:endParaRPr b="0" lang="en-US" sz="2000" spc="-1" strike="noStrike">
              <a:solidFill>
                <a:srgbClr val="5e5e5e"/>
              </a:solidFill>
              <a:latin typeface="Helvetica Neue"/>
            </a:endParaRPr>
          </a:p>
        </p:txBody>
      </p:sp>
      <p:pic>
        <p:nvPicPr>
          <p:cNvPr id="593" name="Espace réservé du contenu 7" descr="Image11.jpg"/>
          <p:cNvPicPr/>
          <p:nvPr/>
        </p:nvPicPr>
        <p:blipFill>
          <a:blip r:embed="rId1"/>
          <a:stretch/>
        </p:blipFill>
        <p:spPr>
          <a:xfrm>
            <a:off x="928800" y="2146320"/>
            <a:ext cx="83977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Espace réservé du numéro de diapositive 5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BF0E-D92F-4C4F-AC5B-80CFF01D621B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14280" y="457200"/>
            <a:ext cx="7801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6600"/>
                </a:solidFill>
                <a:latin typeface="Helvetica Neue"/>
              </a:rPr>
              <a:t>Conclusion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14080" y="134136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buClr>
                <a:srgbClr val="cc66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Locoregional irradiation following mastectomy in patients with 1-3 involved axillary nodes reduces the rate of locoregional recurrences and improves long-term survival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533520" indent="-533520">
              <a:lnSpc>
                <a:spcPct val="200000"/>
              </a:lnSpc>
              <a:spcBef>
                <a:spcPts val="300"/>
              </a:spcBef>
              <a:buClr>
                <a:srgbClr val="cc66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Do all patients with 1-3 pN+ disease need locoregional irradiation?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Espace réservé du numéro de diapositive 4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23E8-B50B-4E45-80CC-C3C883277A88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1408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6600"/>
                </a:solidFill>
                <a:latin typeface="Helvetica Neue"/>
              </a:rPr>
              <a:t>Multivariate analyses of the risk of </a:t>
            </a:r>
            <a:br>
              <a:rPr sz="2800"/>
            </a:br>
            <a:r>
              <a:rPr b="1" lang="fr-FR" sz="2800" spc="-1" strike="noStrike">
                <a:solidFill>
                  <a:srgbClr val="cc6600"/>
                </a:solidFill>
                <a:latin typeface="Helvetica Neue"/>
              </a:rPr>
              <a:t>locoregional failure</a:t>
            </a:r>
            <a:endParaRPr b="0" lang="en-US" sz="2800" spc="-1" strike="noStrike">
              <a:solidFill>
                <a:srgbClr val="cc6600"/>
              </a:solidFill>
              <a:latin typeface="Helvetica Neue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514440" y="1103400"/>
          <a:ext cx="9258120" cy="5040360"/>
        </p:xfrm>
        <a:graphic>
          <a:graphicData uri="http://schemas.openxmlformats.org/drawingml/2006/table">
            <a:tbl>
              <a:tblPr/>
              <a:tblGrid>
                <a:gridCol w="2446200"/>
                <a:gridCol w="6811920"/>
              </a:tblGrid>
              <a:tr h="12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ECOG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e5e"/>
                      </a:solidFill>
                    </a:lnL>
                    <a:lnR w="5760">
                      <a:solidFill>
                        <a:srgbClr val="5e5e5e"/>
                      </a:solidFill>
                    </a:lnR>
                    <a:lnT w="5760">
                      <a:solidFill>
                        <a:srgbClr val="5e5e5e"/>
                      </a:solidFill>
                    </a:lnT>
                    <a:lnB w="5760">
                      <a:solidFill>
                        <a:srgbClr val="5e5e5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Size, no. involved nodes, no. examined nodes, ER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e5e"/>
                      </a:solidFill>
                    </a:lnL>
                    <a:lnR w="5760">
                      <a:solidFill>
                        <a:srgbClr val="5e5e5e"/>
                      </a:solidFill>
                    </a:lnR>
                    <a:lnT w="5760">
                      <a:solidFill>
                        <a:srgbClr val="5e5e5e"/>
                      </a:solidFill>
                    </a:lnT>
                    <a:lnB w="5760">
                      <a:solidFill>
                        <a:srgbClr val="5e5e5e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MDACC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e5e"/>
                      </a:solidFill>
                    </a:lnL>
                    <a:lnR w="5760">
                      <a:solidFill>
                        <a:srgbClr val="5e5e5e"/>
                      </a:solidFill>
                    </a:lnR>
                    <a:lnT w="5760">
                      <a:solidFill>
                        <a:srgbClr val="5e5e5e"/>
                      </a:solidFill>
                    </a:lnT>
                    <a:lnB w="5760">
                      <a:solidFill>
                        <a:srgbClr val="5e5e5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Size, no. involved nodes, extracapsular extension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e5e"/>
                      </a:solidFill>
                    </a:lnL>
                    <a:lnR w="5760">
                      <a:solidFill>
                        <a:srgbClr val="5e5e5e"/>
                      </a:solidFill>
                    </a:lnR>
                    <a:lnT w="5760">
                      <a:solidFill>
                        <a:srgbClr val="5e5e5e"/>
                      </a:solidFill>
                    </a:lnT>
                    <a:lnB w="5760">
                      <a:solidFill>
                        <a:srgbClr val="5e5e5e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5e5e5e"/>
                          </a:solidFill>
                          <a:latin typeface="Arial"/>
                          <a:ea typeface="Times New Roman"/>
                        </a:rPr>
                        <a:t>IBCSG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e5e"/>
                      </a:solidFill>
                    </a:lnL>
                    <a:lnR w="5760">
                      <a:solidFill>
                        <a:srgbClr val="5e5e5e"/>
                      </a:solidFill>
                    </a:lnR>
                    <a:lnT w="5760">
                      <a:solidFill>
                        <a:srgbClr val="5e5e5e"/>
                      </a:solidFill>
                    </a:lnT>
                    <a:lnB w="5760">
                      <a:solidFill>
                        <a:srgbClr val="5e5e5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5e5e5e"/>
                          </a:solidFill>
                          <a:latin typeface="Arial"/>
                          <a:ea typeface="Times New Roman"/>
                        </a:rPr>
                        <a:t>No. involved nodes, grade, vascular invasion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e5e"/>
                      </a:solidFill>
                    </a:lnL>
                    <a:lnR w="5760">
                      <a:solidFill>
                        <a:srgbClr val="5e5e5e"/>
                      </a:solidFill>
                    </a:lnR>
                    <a:lnT w="5760">
                      <a:solidFill>
                        <a:srgbClr val="5e5e5e"/>
                      </a:solidFill>
                    </a:lnT>
                    <a:lnB w="5760">
                      <a:solidFill>
                        <a:srgbClr val="5e5e5e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NSABP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e5e"/>
                      </a:solidFill>
                    </a:lnL>
                    <a:lnR w="5760">
                      <a:solidFill>
                        <a:srgbClr val="5e5e5e"/>
                      </a:solidFill>
                    </a:lnR>
                    <a:lnT w="5760">
                      <a:solidFill>
                        <a:srgbClr val="5e5e5e"/>
                      </a:solidFill>
                    </a:lnT>
                    <a:lnB w="5760">
                      <a:solidFill>
                        <a:srgbClr val="5e5e5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Age, size, premenopause, no. involved nodes, no. examined nodes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e5e"/>
                      </a:solidFill>
                    </a:lnL>
                    <a:lnR w="5760">
                      <a:solidFill>
                        <a:srgbClr val="5e5e5e"/>
                      </a:solidFill>
                    </a:lnR>
                    <a:lnT w="5760">
                      <a:solidFill>
                        <a:srgbClr val="5e5e5e"/>
                      </a:solidFill>
                    </a:lnT>
                    <a:lnB w="5760">
                      <a:solidFill>
                        <a:srgbClr val="5e5e5e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6600"/>
                </a:solidFill>
                <a:latin typeface="Helvetica Neue"/>
              </a:rPr>
              <a:t>&lt; 10 % 10-year rate of locoregional failure with or without distant metastases in patients with 1-3 pN+</a:t>
            </a:r>
            <a:endParaRPr b="0" lang="en-US" sz="28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601" name="Espace réservé du numéro de diapositive 5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4665-A499-4785-A2C7-E1CD3D6E9ADA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25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e5e5e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1000080" y="1557360"/>
          <a:ext cx="8280360" cy="4525920"/>
        </p:xfrm>
        <a:graphic>
          <a:graphicData uri="http://schemas.openxmlformats.org/drawingml/2006/table">
            <a:tbl>
              <a:tblPr/>
              <a:tblGrid>
                <a:gridCol w="2862360"/>
                <a:gridCol w="5418000"/>
              </a:tblGrid>
              <a:tr h="533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ECOG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Age &gt; 54, T1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Age &gt; 64, T1-2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MDACC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IBCSG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None 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NSABP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Age &gt; 49, T1</a:t>
                      </a:r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6600"/>
                </a:solidFill>
                <a:latin typeface="Helvetica Neue"/>
              </a:rPr>
              <a:t>DBCG 82 b&amp;c trials</a:t>
            </a:r>
            <a:br>
              <a:rPr sz="3200"/>
            </a:b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800000" y="1142640"/>
            <a:ext cx="7800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1000/3083 pts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190440" indent="-190440"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Tissue microarrays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190440" indent="-190440"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Good prognostic subgroup defined with at least 4 of 5 prognostic criteria: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1" marL="85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	</a:t>
            </a: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	</a:t>
            </a: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&lt; 4 positive nodes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1" marL="85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	</a:t>
            </a: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	</a:t>
            </a: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Size &lt; 2.1 cm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1" marL="85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	</a:t>
            </a: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	</a:t>
            </a: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Grade 1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1" marL="85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	</a:t>
            </a: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	</a:t>
            </a: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ER positive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1" marL="85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	</a:t>
            </a: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	</a:t>
            </a: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HER2 negative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190440" indent="-190440"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199 pts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190440" indent="-190440"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Median follow-up: 17 years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06" name="Espace réservé du numéro de diapositive 5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A762-4CFF-4F70-A190-89F914180DB2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07" name="ZoneTexte 4"/>
          <p:cNvSpPr/>
          <p:nvPr/>
        </p:nvSpPr>
        <p:spPr>
          <a:xfrm>
            <a:off x="1001880" y="635796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e5e5e"/>
                </a:solidFill>
                <a:latin typeface="Helvetica Neue"/>
              </a:rPr>
              <a:t>Kyndi et al. </a:t>
            </a:r>
            <a:r>
              <a:rPr b="1" i="1" lang="fr-FR" sz="1800" spc="-1" strike="noStrike">
                <a:solidFill>
                  <a:srgbClr val="5e5e5e"/>
                </a:solidFill>
                <a:latin typeface="Helvetica Neue"/>
              </a:rPr>
              <a:t>Radiother Oncol</a:t>
            </a:r>
            <a:r>
              <a:rPr b="1" lang="fr-FR" sz="1800" spc="-1" strike="noStrike">
                <a:solidFill>
                  <a:srgbClr val="5e5e5e"/>
                </a:solidFill>
                <a:latin typeface="Helvetica Neue"/>
              </a:rPr>
              <a:t>, 2008</a:t>
            </a:r>
            <a:endParaRPr b="0" lang="en-US" sz="1800" spc="-1" strike="noStrike">
              <a:solidFill>
                <a:srgbClr val="5e5e5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14280" y="357120"/>
            <a:ext cx="7801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6600"/>
                </a:solidFill>
                <a:latin typeface="Helvetica Neue"/>
              </a:rPr>
              <a:t>DBCG 82 b&amp;c trials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609" name="Espace réservé du numéro de diapositive 7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B183-79BE-494B-8FAB-EBEF3B57372A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10" name="Text Box 17"/>
          <p:cNvSpPr/>
          <p:nvPr/>
        </p:nvSpPr>
        <p:spPr>
          <a:xfrm>
            <a:off x="-95760" y="1289160"/>
            <a:ext cx="34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Helvetica Neue"/>
              </a:rPr>
              <a:t>Locoregional recurrences</a:t>
            </a:r>
            <a:endParaRPr b="0" lang="en-US" sz="20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11" name="Text Box 18"/>
          <p:cNvSpPr/>
          <p:nvPr/>
        </p:nvSpPr>
        <p:spPr>
          <a:xfrm>
            <a:off x="4031280" y="1300320"/>
            <a:ext cx="22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Helvetica Neue"/>
              </a:rPr>
              <a:t>Specific survival</a:t>
            </a:r>
            <a:endParaRPr b="0" lang="en-US" sz="20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12" name="Text Box 19"/>
          <p:cNvSpPr/>
          <p:nvPr/>
        </p:nvSpPr>
        <p:spPr>
          <a:xfrm>
            <a:off x="7583400" y="130032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Helvetica Neue"/>
              </a:rPr>
              <a:t>Overall survival</a:t>
            </a:r>
            <a:endParaRPr b="0" lang="en-US" sz="2000" spc="-1" strike="noStrike">
              <a:solidFill>
                <a:srgbClr val="5e5e5e"/>
              </a:solidFill>
              <a:latin typeface="Helvetica Neue"/>
            </a:endParaRPr>
          </a:p>
        </p:txBody>
      </p:sp>
      <p:pic>
        <p:nvPicPr>
          <p:cNvPr id="613" name="Image 10" descr="Image10.jpg"/>
          <p:cNvPicPr/>
          <p:nvPr/>
        </p:nvPicPr>
        <p:blipFill>
          <a:blip r:embed="rId1"/>
          <a:stretch/>
        </p:blipFill>
        <p:spPr>
          <a:xfrm>
            <a:off x="214200" y="2152800"/>
            <a:ext cx="99298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Espace réservé du numéro de diapositive 5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8A74-E5CD-4321-B6F9-B191613812A7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6600"/>
                </a:solidFill>
                <a:latin typeface="Helvetica Neue"/>
              </a:rPr>
              <a:t>PMRT: postmastectomy radiotherapy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200000"/>
              </a:lnSpc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Chest wall alone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190440" indent="-190440">
              <a:lnSpc>
                <a:spcPct val="200000"/>
              </a:lnSpc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CW + upper axilla and supraclavicular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190440" indent="-190440">
              <a:lnSpc>
                <a:spcPct val="200000"/>
              </a:lnSpc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CW + upper axilla and supraclavicular + IMC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190440" indent="-190440">
              <a:lnSpc>
                <a:spcPct val="200000"/>
              </a:lnSpc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C W + axilla + IMC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190440" indent="-190440">
              <a:lnSpc>
                <a:spcPct val="200000"/>
              </a:lnSpc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Regional nodes alone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19044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214280" y="357120"/>
            <a:ext cx="7801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Helvetica Neue"/>
              </a:rPr>
              <a:t>Chest wall + nodes irradiation</a:t>
            </a:r>
            <a:endParaRPr b="0" lang="en-US" sz="28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618" name="Espace réservé du numéro de diapositive 4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EFA7-9C32-4674-9768-945D12398358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pic>
        <p:nvPicPr>
          <p:cNvPr id="619" name="Picture 6" descr="VONG2"/>
          <p:cNvPicPr/>
          <p:nvPr/>
        </p:nvPicPr>
        <p:blipFill>
          <a:blip r:embed="rId1"/>
          <a:stretch/>
        </p:blipFill>
        <p:spPr>
          <a:xfrm>
            <a:off x="608040" y="1285920"/>
            <a:ext cx="3392640" cy="4525920"/>
          </a:xfrm>
          <a:prstGeom prst="rect">
            <a:avLst/>
          </a:prstGeom>
          <a:ln w="0">
            <a:noFill/>
          </a:ln>
        </p:spPr>
      </p:pic>
      <p:sp>
        <p:nvSpPr>
          <p:cNvPr id="620" name="AutoShape 4"/>
          <p:cNvSpPr/>
          <p:nvPr/>
        </p:nvSpPr>
        <p:spPr>
          <a:xfrm>
            <a:off x="4830840" y="716040"/>
            <a:ext cx="545616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pic>
        <p:nvPicPr>
          <p:cNvPr id="621" name="Image 7" descr="Image8.jpg"/>
          <p:cNvPicPr/>
          <p:nvPr/>
        </p:nvPicPr>
        <p:blipFill>
          <a:blip r:embed="rId2"/>
          <a:stretch/>
        </p:blipFill>
        <p:spPr>
          <a:xfrm>
            <a:off x="4597560" y="1332000"/>
            <a:ext cx="55465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71520" y="457200"/>
            <a:ext cx="7801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6600"/>
                </a:solidFill>
                <a:latin typeface="Helvetica Neue"/>
              </a:rPr>
              <a:t>Individualized bolus </a:t>
            </a:r>
            <a:br>
              <a:rPr sz="3200"/>
            </a:b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623" name="Espace réservé du numéro de diapositive 4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BFA9-EAC8-4B21-9700-842790A34D12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pic>
        <p:nvPicPr>
          <p:cNvPr id="624" name="Picture 2" descr="ContactSheet-0"/>
          <p:cNvPicPr/>
          <p:nvPr/>
        </p:nvPicPr>
        <p:blipFill>
          <a:blip r:embed="rId1"/>
          <a:srcRect l="0" t="0" r="0" b="45496"/>
          <a:stretch/>
        </p:blipFill>
        <p:spPr>
          <a:xfrm>
            <a:off x="262080" y="1935000"/>
            <a:ext cx="9762840" cy="3351240"/>
          </a:xfrm>
          <a:prstGeom prst="rect">
            <a:avLst/>
          </a:prstGeom>
          <a:ln w="0">
            <a:noFill/>
          </a:ln>
        </p:spPr>
      </p:pic>
      <p:sp>
        <p:nvSpPr>
          <p:cNvPr id="625" name="ZoneTexte 5"/>
          <p:cNvSpPr/>
          <p:nvPr/>
        </p:nvSpPr>
        <p:spPr>
          <a:xfrm>
            <a:off x="398160" y="6345360"/>
            <a:ext cx="519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e5e"/>
                </a:solidFill>
                <a:latin typeface="Helvetica Neue"/>
              </a:rPr>
              <a:t>Kirova et al</a:t>
            </a:r>
            <a:r>
              <a:rPr b="1" i="1" lang="en-US" sz="1800" spc="-1" strike="noStrike">
                <a:solidFill>
                  <a:srgbClr val="5e5e5e"/>
                </a:solidFill>
                <a:latin typeface="Helvetica Neue"/>
              </a:rPr>
              <a:t>, Int J Radiat Oncol Biol Phys, </a:t>
            </a:r>
            <a:r>
              <a:rPr b="1" lang="en-US" sz="1800" spc="-1" strike="noStrike">
                <a:solidFill>
                  <a:srgbClr val="5e5e5e"/>
                </a:solidFill>
                <a:latin typeface="Helvetica Neue"/>
              </a:rPr>
              <a:t>2007</a:t>
            </a:r>
            <a:endParaRPr b="0" lang="en-US" sz="1800" spc="-1" strike="noStrike">
              <a:solidFill>
                <a:srgbClr val="5e5e5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6600"/>
                </a:solidFill>
                <a:latin typeface="Helvetica Neue"/>
              </a:rPr>
              <a:t>Local failure in relation to the number of nodes involved</a:t>
            </a:r>
            <a:br>
              <a:rPr sz="2400"/>
            </a:br>
            <a:r>
              <a:rPr b="1" lang="fr-FR" sz="2400" spc="-1" strike="noStrike">
                <a:solidFill>
                  <a:srgbClr val="cc6600"/>
                </a:solidFill>
                <a:latin typeface="Helvetica Neue"/>
              </a:rPr>
              <a:t>Randomized trials of mastectomy + chemotherapy</a:t>
            </a:r>
            <a:br>
              <a:rPr sz="2400"/>
            </a:br>
            <a:r>
              <a:rPr b="1" lang="fr-FR" sz="2400" spc="-1" strike="noStrike">
                <a:solidFill>
                  <a:srgbClr val="cc6600"/>
                </a:solidFill>
                <a:latin typeface="Helvetica Neue"/>
              </a:rPr>
              <a:t>No radiotherapy</a:t>
            </a:r>
            <a:endParaRPr b="0" lang="en-US" sz="2400" spc="-1" strike="noStrike">
              <a:solidFill>
                <a:srgbClr val="cc6600"/>
              </a:solidFill>
              <a:latin typeface="Helvetica Neue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514440" y="1600200"/>
          <a:ext cx="9258120" cy="4349880"/>
        </p:xfrm>
        <a:graphic>
          <a:graphicData uri="http://schemas.openxmlformats.org/drawingml/2006/table">
            <a:tbl>
              <a:tblPr/>
              <a:tblGrid>
                <a:gridCol w="2612880"/>
                <a:gridCol w="1706760"/>
                <a:gridCol w="1645920"/>
                <a:gridCol w="1646280"/>
                <a:gridCol w="164628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Median follow-up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% 10-year LRF ± DF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5e5e5e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yrs.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1-3 pN+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e5e5e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4-9 pN+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e5e5e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10 pN+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e5e5e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ECOG (n=2,016)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Recht A et al. </a:t>
                      </a:r>
                      <a:r>
                        <a:rPr b="1" i="1" lang="fr-FR" sz="16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J Clin</a:t>
                      </a:r>
                      <a:endParaRPr b="0" lang="en-US" sz="16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Oncol</a:t>
                      </a:r>
                      <a:r>
                        <a:rPr b="1" lang="fr-FR" sz="16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, 1999</a:t>
                      </a:r>
                      <a:endParaRPr b="0" lang="en-US" sz="16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12.1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12.9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28.7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Times New Roman"/>
                        </a:rPr>
                        <a:t>MDACC (n=1,031)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5e5e5e"/>
                          </a:solidFill>
                          <a:latin typeface="Arial"/>
                          <a:ea typeface="Times New Roman"/>
                        </a:rPr>
                        <a:t>Katz A et al. </a:t>
                      </a:r>
                      <a:r>
                        <a:rPr b="1" i="1" lang="fr-FR" sz="1600" spc="-1" strike="noStrike">
                          <a:solidFill>
                            <a:srgbClr val="5e5e5e"/>
                          </a:solidFill>
                          <a:latin typeface="Arial"/>
                          <a:ea typeface="Times New Roman"/>
                        </a:rPr>
                        <a:t>J Clin Oncol</a:t>
                      </a:r>
                      <a:r>
                        <a:rPr b="1" lang="fr-FR" sz="1600" spc="-1" strike="noStrike">
                          <a:solidFill>
                            <a:srgbClr val="5e5e5e"/>
                          </a:solidFill>
                          <a:latin typeface="Arial"/>
                          <a:ea typeface="Times New Roman"/>
                        </a:rPr>
                        <a:t>, 2000</a:t>
                      </a:r>
                      <a:endParaRPr b="0" lang="en-US" sz="16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Times New Roman"/>
                        </a:rPr>
                        <a:t>9.7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NSABP (n=5,758)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Taghian A et al. </a:t>
                      </a:r>
                      <a:r>
                        <a:rPr b="1" i="1" lang="fr-FR" sz="16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J Clin</a:t>
                      </a:r>
                      <a:endParaRPr b="0" lang="en-US" sz="16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Oncol</a:t>
                      </a:r>
                      <a:r>
                        <a:rPr b="1" lang="fr-FR" sz="16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, 2004</a:t>
                      </a:r>
                      <a:endParaRPr b="0" lang="en-US" sz="16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11.1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24.4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5e5e5e"/>
                          </a:solidFill>
                          <a:latin typeface="Arial"/>
                          <a:ea typeface="Arial"/>
                        </a:rPr>
                        <a:t>31.9</a:t>
                      </a:r>
                      <a:endParaRPr b="0" lang="en-US" sz="2000" spc="-1" strike="noStrike">
                        <a:solidFill>
                          <a:srgbClr val="5e5e5e"/>
                        </a:solidFill>
                        <a:latin typeface="Helvetica Neue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0" name="Espace réservé du numéro de diapositive 5"/>
          <p:cNvSpPr/>
          <p:nvPr/>
        </p:nvSpPr>
        <p:spPr>
          <a:xfrm>
            <a:off x="7372440" y="6245280"/>
            <a:ext cx="2400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48A7-C024-445F-8C0B-F0103CD2A46B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14280" y="357120"/>
            <a:ext cx="7801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6600"/>
                </a:solidFill>
                <a:latin typeface="Helvetica Neue"/>
              </a:rPr>
              <a:t>Individualized </a:t>
            </a:r>
            <a:r>
              <a:rPr b="1" lang="en-US" sz="3200" spc="-1" strike="noStrike">
                <a:solidFill>
                  <a:srgbClr val="cc6600"/>
                </a:solidFill>
                <a:latin typeface="Helvetica Neue"/>
              </a:rPr>
              <a:t>bolus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627" name="Espace réservé du numéro de diapositive 4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89BF-540E-4D50-B3D5-5E940958FA44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0" y="6286320"/>
            <a:ext cx="428616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pic>
        <p:nvPicPr>
          <p:cNvPr id="629" name="Image 7" descr="Image6.jpg"/>
          <p:cNvPicPr/>
          <p:nvPr/>
        </p:nvPicPr>
        <p:blipFill>
          <a:blip r:embed="rId1"/>
          <a:stretch/>
        </p:blipFill>
        <p:spPr>
          <a:xfrm>
            <a:off x="1201680" y="1571760"/>
            <a:ext cx="2843280" cy="3781440"/>
          </a:xfrm>
          <a:prstGeom prst="rect">
            <a:avLst/>
          </a:prstGeom>
          <a:ln w="0">
            <a:noFill/>
          </a:ln>
        </p:spPr>
      </p:pic>
      <p:pic>
        <p:nvPicPr>
          <p:cNvPr id="630" name="Image 8" descr="Image7.jpg"/>
          <p:cNvPicPr/>
          <p:nvPr/>
        </p:nvPicPr>
        <p:blipFill>
          <a:blip r:embed="rId2"/>
          <a:stretch/>
        </p:blipFill>
        <p:spPr>
          <a:xfrm>
            <a:off x="4761000" y="1440000"/>
            <a:ext cx="488304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14280" y="428400"/>
            <a:ext cx="7801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6600"/>
                </a:solidFill>
                <a:latin typeface="Helvetica Neue"/>
              </a:rPr>
              <a:t>Irregular chest wall</a:t>
            </a:r>
            <a:br>
              <a:rPr sz="3200"/>
            </a:b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632" name="Espace réservé du numéro de diapositive 4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5219-7702-4A1F-8E82-751A50FB3094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1039680" y="333360"/>
            <a:ext cx="76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Helvetica Neue"/>
              </a:rPr>
              <a:t>I-</a:t>
            </a:r>
            <a:endParaRPr b="0" lang="en-US" sz="3600" spc="-1" strike="noStrike">
              <a:solidFill>
                <a:srgbClr val="5e5e5e"/>
              </a:solidFill>
              <a:latin typeface="Helvetica Neue"/>
            </a:endParaRPr>
          </a:p>
        </p:txBody>
      </p:sp>
      <p:pic>
        <p:nvPicPr>
          <p:cNvPr id="634" name="Image 9" descr="Image5.jpg"/>
          <p:cNvPicPr/>
          <p:nvPr/>
        </p:nvPicPr>
        <p:blipFill>
          <a:blip r:embed="rId1"/>
          <a:stretch/>
        </p:blipFill>
        <p:spPr>
          <a:xfrm>
            <a:off x="1714680" y="1143000"/>
            <a:ext cx="67719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801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6600"/>
                </a:solidFill>
                <a:latin typeface="Helvetica Neue"/>
              </a:rPr>
              <a:t>3D Bolus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636" name="Espace réservé du numéro de diapositive 4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2353-2607-4BEE-A22F-2A9D3B992937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pic>
        <p:nvPicPr>
          <p:cNvPr id="637" name="Image 5" descr="Image4.jpg"/>
          <p:cNvPicPr/>
          <p:nvPr/>
        </p:nvPicPr>
        <p:blipFill>
          <a:blip r:embed="rId1"/>
          <a:stretch/>
        </p:blipFill>
        <p:spPr>
          <a:xfrm>
            <a:off x="2023920" y="1143000"/>
            <a:ext cx="6191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801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6600"/>
                </a:solidFill>
                <a:latin typeface="Helvetica Neue"/>
              </a:rPr>
              <a:t>Chest wall irradiation with electrons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639" name="Espace réservé du numéro de diapositive 4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1519-E1C5-4B03-878C-625C7F130E36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40" name="Text Box 9"/>
          <p:cNvSpPr/>
          <p:nvPr/>
        </p:nvSpPr>
        <p:spPr>
          <a:xfrm>
            <a:off x="1382400" y="564372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6600"/>
                </a:solidFill>
                <a:latin typeface="Helvetica Neue"/>
              </a:rPr>
              <a:t>Standard bolus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41" name="Text Box 10"/>
          <p:cNvSpPr/>
          <p:nvPr/>
        </p:nvSpPr>
        <p:spPr>
          <a:xfrm>
            <a:off x="6921720" y="56437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6600"/>
                </a:solidFill>
                <a:latin typeface="Helvetica Neue"/>
              </a:rPr>
              <a:t>3D bolus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pic>
        <p:nvPicPr>
          <p:cNvPr id="642" name="Image 11" descr="Image3.jpg"/>
          <p:cNvPicPr/>
          <p:nvPr/>
        </p:nvPicPr>
        <p:blipFill>
          <a:blip r:embed="rId1"/>
          <a:stretch/>
        </p:blipFill>
        <p:spPr>
          <a:xfrm>
            <a:off x="312840" y="1335240"/>
            <a:ext cx="96613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214280" y="228600"/>
            <a:ext cx="7801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6600"/>
                </a:solidFill>
                <a:latin typeface="Helvetica Neue"/>
              </a:rPr>
              <a:t>Volume delineation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644" name="Espace réservé du numéro de diapositive 4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15BC-76CA-4B9D-8CB8-972F96F06AE2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pic>
        <p:nvPicPr>
          <p:cNvPr id="645" name="Image 5" descr="Image2.jpg"/>
          <p:cNvPicPr/>
          <p:nvPr/>
        </p:nvPicPr>
        <p:blipFill>
          <a:blip r:embed="rId1"/>
          <a:stretch/>
        </p:blipFill>
        <p:spPr>
          <a:xfrm>
            <a:off x="1857240" y="1071720"/>
            <a:ext cx="653112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6600"/>
                </a:solidFill>
                <a:latin typeface="Helvetica Neue"/>
              </a:rPr>
              <a:t>Conclusion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200000"/>
              </a:lnSpc>
              <a:spcBef>
                <a:spcPts val="349"/>
              </a:spcBef>
              <a:buClr>
                <a:srgbClr val="cc66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e5e5e"/>
                </a:solidFill>
                <a:latin typeface="Helvetica Neue"/>
              </a:rPr>
              <a:t>PMRT improves local control and survival in patients with 1-3 pN+</a:t>
            </a:r>
            <a:endParaRPr b="0" lang="en-US" sz="2800" spc="-1" strike="noStrike">
              <a:solidFill>
                <a:srgbClr val="5e5e5e"/>
              </a:solidFill>
              <a:latin typeface="Helvetica Neue"/>
            </a:endParaRPr>
          </a:p>
          <a:p>
            <a:pPr marL="511920" indent="-511920">
              <a:lnSpc>
                <a:spcPct val="200000"/>
              </a:lnSpc>
              <a:spcBef>
                <a:spcPts val="349"/>
              </a:spcBef>
              <a:buClr>
                <a:srgbClr val="cc66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e5e5e"/>
                </a:solidFill>
                <a:latin typeface="Helvetica Neue"/>
              </a:rPr>
              <a:t>Improvement in radiation techniques will contribute to limit long-term toxicity</a:t>
            </a:r>
            <a:endParaRPr b="0" lang="en-US" sz="28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648" name="Espace réservé du numéro de diapositive 5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4834-82D9-4263-ABD3-06ACD49814A3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6600"/>
                </a:solidFill>
                <a:latin typeface="Helvetica Neue"/>
              </a:rPr>
              <a:t>--/--</a:t>
            </a:r>
            <a:endParaRPr b="0" lang="en-US" sz="32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300"/>
              </a:spcBef>
              <a:buClr>
                <a:srgbClr val="cc6600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Identification of sub-groups with 1-3 nodes who might be avoided RT would use the following criteria: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1" marL="990720" indent="-533520"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Age: &gt; 65 ?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1" marL="990720" indent="-533520"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Tumour size: &lt; 2 cm?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1" marL="990720" indent="-533520"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Grade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1" marL="990720" indent="-533520"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ER, PR, HER2, and « Molecular » classification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Espace réservé du numéro de diapositive 5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CA6C-0B39-448E-B0D4-B0796C9388CD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14080" y="1773000"/>
            <a:ext cx="92581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6600"/>
                </a:solidFill>
                <a:latin typeface="Helvetica Neue"/>
              </a:rPr>
              <a:t>Impact of locoregional irradiation in patients with involved axillary nodes</a:t>
            </a:r>
            <a:endParaRPr b="0" lang="en-US" sz="28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	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69992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Helvetica Neue"/>
              </a:rPr>
              <a:t>Early Breast Cancer Trialists’ Collaborative Group Overview</a:t>
            </a:r>
            <a:endParaRPr b="0" lang="en-US" sz="28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200000"/>
              </a:lnSpc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23 500 women included in trials comparing radiotherapy vs none following surgery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190440" indent="-190440">
              <a:lnSpc>
                <a:spcPct val="200000"/>
              </a:lnSpc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Information sought for each individual patient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190440" indent="-190440">
              <a:lnSpc>
                <a:spcPct val="200000"/>
              </a:lnSpc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Regular 5-year update of outcome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26" name="Espace réservé du numéro de diapositive 5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A954-BA8E-4B8D-8226-1F0E4F365D3D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27" name="ZoneTexte 7"/>
          <p:cNvSpPr/>
          <p:nvPr/>
        </p:nvSpPr>
        <p:spPr>
          <a:xfrm>
            <a:off x="575640" y="642924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5e5e5e"/>
                </a:solidFill>
                <a:latin typeface="Helvetica Neue"/>
              </a:rPr>
              <a:t>Lancet</a:t>
            </a:r>
            <a:r>
              <a:rPr b="1" lang="en-US" sz="1800" spc="-1" strike="noStrike">
                <a:solidFill>
                  <a:srgbClr val="5e5e5e"/>
                </a:solidFill>
                <a:latin typeface="Helvetica Neue"/>
              </a:rPr>
              <a:t>, 2005, 366:2087</a:t>
            </a:r>
            <a:endParaRPr b="0" lang="en-US" sz="1800" spc="-1" strike="noStrike">
              <a:solidFill>
                <a:srgbClr val="5e5e5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Espace réservé du numéro de diapositive 5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0836-679C-4AED-A8BB-C10455EC866A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6600"/>
                </a:solidFill>
                <a:latin typeface="Helvetica Neue"/>
              </a:rPr>
              <a:t>EBCTCG. Post-mastectomy RT. Update 2006</a:t>
            </a:r>
            <a:br>
              <a:rPr sz="2800"/>
            </a:br>
            <a:endParaRPr b="0" lang="en-US" sz="28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800000" y="1676520"/>
            <a:ext cx="780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8280" indent="-188280">
              <a:lnSpc>
                <a:spcPct val="270000"/>
              </a:lnSpc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Mastectomy + Axillary clearance 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188280" indent="-188280">
              <a:lnSpc>
                <a:spcPct val="270000"/>
              </a:lnSpc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26 trials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188280" indent="-188280">
              <a:lnSpc>
                <a:spcPct val="270000"/>
              </a:lnSpc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11,000 women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188280" indent="-188280">
              <a:lnSpc>
                <a:spcPct val="270000"/>
              </a:lnSpc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Median follow-up: 9 years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7801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Helvetica Neue"/>
              </a:rPr>
              <a:t>EBCTCG. Post-mastectomy RT</a:t>
            </a:r>
            <a:endParaRPr b="0" lang="en-US" sz="28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532" name="Espace réservé du numéro de diapositive 4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CA14-0B9C-4614-BA2C-6597C23AF7FA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3412080" y="104292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solated local recurrence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pic>
        <p:nvPicPr>
          <p:cNvPr id="534" name="Image 6" descr="Image19.jpg"/>
          <p:cNvPicPr/>
          <p:nvPr/>
        </p:nvPicPr>
        <p:blipFill>
          <a:blip r:embed="rId1"/>
          <a:stretch/>
        </p:blipFill>
        <p:spPr>
          <a:xfrm>
            <a:off x="357120" y="1500120"/>
            <a:ext cx="4449960" cy="4668840"/>
          </a:xfrm>
          <a:prstGeom prst="rect">
            <a:avLst/>
          </a:prstGeom>
          <a:ln w="0">
            <a:noFill/>
          </a:ln>
        </p:spPr>
      </p:pic>
      <p:pic>
        <p:nvPicPr>
          <p:cNvPr id="535" name="Image 7" descr="Image20.jpg"/>
          <p:cNvPicPr/>
          <p:nvPr/>
        </p:nvPicPr>
        <p:blipFill>
          <a:blip r:embed="rId2"/>
          <a:stretch/>
        </p:blipFill>
        <p:spPr>
          <a:xfrm>
            <a:off x="5500800" y="1500120"/>
            <a:ext cx="445608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Espace réservé du numéro de diapositive 4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D96E-709A-4B91-B8CF-6A3065087C67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14080" y="-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Helvetica Neue"/>
              </a:rPr>
              <a:t>EBCTCG. Post-mastectomy RT</a:t>
            </a:r>
            <a:endParaRPr b="0" lang="en-US" sz="28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3510000" y="90792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reast cancer mortality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pic>
        <p:nvPicPr>
          <p:cNvPr id="539" name="Image 6" descr="Image17.jpg"/>
          <p:cNvPicPr/>
          <p:nvPr/>
        </p:nvPicPr>
        <p:blipFill>
          <a:blip r:embed="rId1"/>
          <a:stretch/>
        </p:blipFill>
        <p:spPr>
          <a:xfrm>
            <a:off x="357120" y="1397160"/>
            <a:ext cx="4449960" cy="4674960"/>
          </a:xfrm>
          <a:prstGeom prst="rect">
            <a:avLst/>
          </a:prstGeom>
          <a:ln w="0">
            <a:noFill/>
          </a:ln>
        </p:spPr>
      </p:pic>
      <p:pic>
        <p:nvPicPr>
          <p:cNvPr id="540" name="Image 7" descr="Image18.jpg"/>
          <p:cNvPicPr/>
          <p:nvPr/>
        </p:nvPicPr>
        <p:blipFill>
          <a:blip r:embed="rId2"/>
          <a:stretch/>
        </p:blipFill>
        <p:spPr>
          <a:xfrm>
            <a:off x="5572080" y="1468440"/>
            <a:ext cx="445608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800000" y="457200"/>
            <a:ext cx="7800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6600"/>
                </a:solidFill>
                <a:latin typeface="Helvetica Neue"/>
              </a:rPr>
              <a:t>Danish Trial DBCCG 82b </a:t>
            </a:r>
            <a:br>
              <a:rPr sz="2800"/>
            </a:br>
            <a:endParaRPr b="0" lang="en-US" sz="2800" spc="-1" strike="noStrike">
              <a:solidFill>
                <a:srgbClr val="cc6600"/>
              </a:solidFill>
              <a:latin typeface="Helvetica Neu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800000" y="1219320"/>
            <a:ext cx="78008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1708 premenopausal patients with high risk breast cancer: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2" marL="1276200" indent="-228600">
              <a:spcBef>
                <a:spcPts val="601"/>
              </a:spcBef>
              <a:buClr>
                <a:srgbClr val="cc660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N +ve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2" marL="1276200" indent="-228600">
              <a:spcBef>
                <a:spcPts val="601"/>
              </a:spcBef>
              <a:buClr>
                <a:srgbClr val="cc660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T &gt; 5 cm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2" marL="1276200" indent="-228600">
              <a:spcBef>
                <a:spcPts val="601"/>
              </a:spcBef>
              <a:buClr>
                <a:srgbClr val="cc660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Skin or pectoralis major involvement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1" marL="85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marL="190440" indent="-190440">
              <a:spcBef>
                <a:spcPts val="300"/>
              </a:spcBef>
              <a:buClr>
                <a:srgbClr val="cc66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  </a:t>
            </a: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Mastectomy and AND followed by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2" marL="1276200" indent="-228600">
              <a:spcBef>
                <a:spcPts val="601"/>
              </a:spcBef>
              <a:buClr>
                <a:srgbClr val="cc660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CMF x 9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  <a:p>
            <a:pPr lvl="2" marL="1276200" indent="-228600">
              <a:spcBef>
                <a:spcPts val="601"/>
              </a:spcBef>
              <a:buClr>
                <a:srgbClr val="cc6600"/>
              </a:buClr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5e5e5e"/>
                </a:solidFill>
                <a:latin typeface="Helvetica Neue"/>
              </a:rPr>
              <a:t>vs. CMF x 8  and Chest wall and regional nodes irradiation</a:t>
            </a:r>
            <a:endParaRPr b="0" lang="en-US" sz="2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43" name="Espace réservé du numéro de diapositive 5"/>
          <p:cNvSpPr/>
          <p:nvPr/>
        </p:nvSpPr>
        <p:spPr>
          <a:xfrm>
            <a:off x="737244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B9C7-A7C4-43D2-83D2-D74905ED79EA}" type="slidenum">
              <a:rPr b="0" lang="fr-FR" sz="1400" spc="-1" strike="noStrike">
                <a:solidFill>
                  <a:srgbClr val="5e5e5e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5e5e5e"/>
              </a:solidFill>
              <a:latin typeface="Helvetica Neue"/>
            </a:endParaRPr>
          </a:p>
        </p:txBody>
      </p:sp>
      <p:sp>
        <p:nvSpPr>
          <p:cNvPr id="544" name="ZoneTexte 7"/>
          <p:cNvSpPr/>
          <p:nvPr/>
        </p:nvSpPr>
        <p:spPr>
          <a:xfrm>
            <a:off x="844560" y="6429240"/>
            <a:ext cx="44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e5e5e"/>
                </a:solidFill>
                <a:latin typeface="Helvetica Neue"/>
              </a:rPr>
              <a:t>Overgaard M et al.  </a:t>
            </a:r>
            <a:r>
              <a:rPr b="1" i="1" lang="fr-FR" sz="1800" spc="-1" strike="noStrike">
                <a:solidFill>
                  <a:srgbClr val="5e5e5e"/>
                </a:solidFill>
                <a:latin typeface="Helvetica Neue"/>
              </a:rPr>
              <a:t>N Engl J Med</a:t>
            </a:r>
            <a:r>
              <a:rPr b="1" lang="fr-FR" sz="1800" spc="-1" strike="noStrike">
                <a:solidFill>
                  <a:srgbClr val="5e5e5e"/>
                </a:solidFill>
                <a:latin typeface="Helvetica Neue"/>
              </a:rPr>
              <a:t>, 1997</a:t>
            </a:r>
            <a:endParaRPr b="0" lang="en-US" sz="1800" spc="-1" strike="noStrike">
              <a:solidFill>
                <a:srgbClr val="5e5e5e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08:31:37Z</dcterms:created>
  <dc:creator>Alain Fourquet</dc:creator>
  <dc:description/>
  <cp:keywords/>
  <dc:language>en-US</dc:language>
  <cp:lastModifiedBy>Alain Fourquet</cp:lastModifiedBy>
  <dcterms:modified xsi:type="dcterms:W3CDTF">2011-06-17T06:50:00Z</dcterms:modified>
  <cp:revision>21</cp:revision>
  <dc:subject/>
  <dc:title>Should PMRT be standard for all patients with 1-3 positive nodes?</dc:title>
</cp:coreProperties>
</file>